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BAF-2E16-4687-BE30-6344C744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83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CC3-6674-400F-8AE4-487BC0B6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374-FEEE-4A7F-934F-E3F3FDCD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7FE-9E1B-4BC5-B0DF-879F7CE2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9515-269E-4281-89F1-6300BCC4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44A0-54E7-41DA-A6F4-DA49E902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749E-66EB-4A06-B326-6A4476EA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B6A9-71C8-4D7D-819F-AD5A8E1B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D852-F41E-4B2D-A68F-A5B914A7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D532-AABF-4022-8AD4-8F21372D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5E03-CA17-4FF0-92B4-531CB72E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709-AC39-4DF6-BDBD-C9F07133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4494-8923-4D9A-98B8-CA1E723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78A3-3804-4E34-8AC7-0DAA9B1C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283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6B33-130F-4481-B85C-6EDDEBBA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DD99-D9C0-480C-B528-F3B18AD8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28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2832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2606-448E-464A-8169-C2109E10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DF5-8418-47FC-BBD2-851C3A96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DA1-50B0-4889-93CA-91A6667F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18E-2346-45B0-B048-AEEFBC0F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112-F055-4329-96C0-74DAF931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64C-8C12-4F38-89BB-6B06E653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832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340-38DA-477B-8721-C2C2A00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83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715-9F9B-4E4A-8A9B-E24E6C49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1785960" y="2286000"/>
            <a:ext cx="735804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3D9A-84B1-4232-98D6-C2A675304F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12D3-02D6-4691-8398-0033D0E72D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2920" y="2643120"/>
            <a:ext cx="641484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41440" y="404640"/>
            <a:ext cx="84247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华文细黑"/>
              </a:rPr>
              <a:t>高档汽车展示报告</a:t>
            </a:r>
            <a:r>
              <a:rPr b="0" lang="en-US" sz="4000" spc="-1" strike="noStrike">
                <a:solidFill>
                  <a:srgbClr val="595959"/>
                </a:solidFill>
                <a:latin typeface="华文细黑"/>
              </a:rPr>
              <a:t>PPT</a:t>
            </a:r>
            <a:r>
              <a:rPr b="0" lang="zh-CN" sz="4000" spc="-1" strike="noStrike">
                <a:solidFill>
                  <a:srgbClr val="595959"/>
                </a:solidFill>
                <a:latin typeface="华文细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模板使用说明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内容占位符 3"/>
          <p:cNvSpPr/>
          <p:nvPr/>
        </p:nvSpPr>
        <p:spPr>
          <a:xfrm>
            <a:off x="468360" y="1125360"/>
            <a:ext cx="82296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其他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此模板为免费模板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为网络搜索，版权归原作者所有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勿用于任何形式的付费下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720" y="836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9632-3065-4C63-9CB0-6C8176D3D3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标题 3"/>
          <p:cNvSpPr/>
          <p:nvPr/>
        </p:nvSpPr>
        <p:spPr>
          <a:xfrm>
            <a:off x="714240" y="4518000"/>
            <a:ext cx="778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感谢您的关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副标题 4"/>
          <p:cNvSpPr/>
          <p:nvPr/>
        </p:nvSpPr>
        <p:spPr>
          <a:xfrm>
            <a:off x="714240" y="5000760"/>
            <a:ext cx="7786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5:08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5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