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00A-A4D0-4131-A007-DED4104C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48C-6E92-4442-ACEA-934FBB28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890-E75A-449F-A9F2-7014CE90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DA5-E4AB-451C-8AF8-F8E6BA75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BCB-749D-45BE-B0B3-B9D557BF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791-70B6-491C-8A0B-B866B8AF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413-3302-4922-852C-3B19C1C3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574-AE12-4307-B446-D5688674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3EF-A43F-4866-B28D-5FFD27C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3C6-E602-4718-946F-71E3B105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AD8-F630-41BE-ACDF-38CEC024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A4B-CDEC-4EE3-94AB-0CEE9A7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D1F3-62CD-4A55-A314-8C894EDDB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3205080" y="1628640"/>
            <a:ext cx="2382840" cy="313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1044720" y="3141720"/>
            <a:ext cx="2984400" cy="104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5869080" y="3213000"/>
            <a:ext cx="1439640" cy="89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96840" y="260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感恩教师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0" y="2565360"/>
            <a:ext cx="932508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4129200" y="29973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教师是火种，点燃了学生的心灵之火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0" y="645336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4170960" y="537372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师是石级，承受着学生一步步踏实地向上攀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080240" y="6922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教师是一支蜡烛，虽然细弱，但有一分热，发一分光，照亮了别人，耗尽了自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403280" y="2924280"/>
            <a:ext cx="66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这无私的奉献，令人永志不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D78-EDE3-492A-88F3-4E11C9D725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103640" cy="1141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2195640" y="476280"/>
            <a:ext cx="1589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lenovo</cp:lastModifiedBy>
  <dcterms:modified xsi:type="dcterms:W3CDTF">2015-08-14T12:51:54Z</dcterms:modified>
  <cp:revision>2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