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763-F100-45C1-80DA-6FB03355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7E7-ADD2-490E-8A8F-0B7F3864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E98-B9C5-4974-A459-3A871C60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F57-2BF5-410C-9097-CAC81660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EBE-FC36-45DF-9E35-18A7AD0B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1F1-63D6-4062-A6DA-32636F73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B51-9E3E-4C6A-9CC3-35E8C47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A39-80AD-466F-9692-F9F54A4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C01-8120-4B75-B7AB-C4B5B8F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D8D-1F72-42C5-B868-6E645F1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B6F-9AE3-4FAF-844B-EA53BE6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F4-3CAB-47F3-B2B0-14C0FE9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440-0851-44DC-BF89-A7081E1E49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71880" y="24289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5857920"/>
            <a:ext cx="407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143160" y="29289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90720" y="378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恭贺新春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" descr="2.png"/>
          <p:cNvPicPr/>
          <p:nvPr/>
        </p:nvPicPr>
        <p:blipFill>
          <a:blip r:embed="rId2"/>
          <a:stretch/>
        </p:blipFill>
        <p:spPr>
          <a:xfrm>
            <a:off x="1928880" y="-320760"/>
            <a:ext cx="1892160" cy="53215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1.png"/>
          <p:cNvPicPr/>
          <p:nvPr/>
        </p:nvPicPr>
        <p:blipFill>
          <a:blip r:embed="rId3"/>
          <a:stretch/>
        </p:blipFill>
        <p:spPr>
          <a:xfrm>
            <a:off x="1357200" y="714240"/>
            <a:ext cx="3060720" cy="4864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4260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2426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497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500200" y="2000160"/>
            <a:ext cx="6742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841320" y="1214280"/>
            <a:ext cx="6373800" cy="3175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211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4569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2571840" y="2441520"/>
            <a:ext cx="4483080" cy="20098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2571840" y="4060800"/>
            <a:ext cx="4483080" cy="2011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2.png"/>
          <p:cNvPicPr/>
          <p:nvPr/>
        </p:nvPicPr>
        <p:blipFill>
          <a:blip r:embed="rId4"/>
          <a:stretch/>
        </p:blipFill>
        <p:spPr>
          <a:xfrm>
            <a:off x="2589120" y="846000"/>
            <a:ext cx="4483080" cy="2011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570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712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640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1571760" y="385920"/>
            <a:ext cx="5682960" cy="5614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497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068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1727280" y="380880"/>
            <a:ext cx="5689440" cy="6096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2.png"/>
          <p:cNvPicPr/>
          <p:nvPr/>
        </p:nvPicPr>
        <p:blipFill>
          <a:blip r:embed="rId3"/>
          <a:stretch/>
        </p:blipFill>
        <p:spPr>
          <a:xfrm>
            <a:off x="1785960" y="739800"/>
            <a:ext cx="6095880" cy="5689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926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5783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661-1606-4552-BD4B-8E085A126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" descr="1.png"/>
          <p:cNvPicPr/>
          <p:nvPr/>
        </p:nvPicPr>
        <p:blipFill>
          <a:blip r:embed="rId2"/>
          <a:stretch/>
        </p:blipFill>
        <p:spPr>
          <a:xfrm>
            <a:off x="2286000" y="857160"/>
            <a:ext cx="5778360" cy="5153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640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355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997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微软用户</cp:lastModifiedBy>
  <dcterms:modified xsi:type="dcterms:W3CDTF">2015-08-14T12:51:53Z</dcterms:modified>
  <cp:revision>27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