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AB7-FC07-4048-A184-F14D8996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F31-C028-47C8-A444-FB51BC15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045-E387-4B61-8660-694E61B6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50B-E512-4166-97DE-9EE0A40F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045-EBE7-4BB4-ABE9-D808E060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29F-06B2-4A69-95BF-33DD13D6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219-734D-436B-9166-6E4CB013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B7D-F37E-41FF-B848-4E6E8B4E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6AD-D704-4F4F-BB14-11793FB0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D89-2D8E-4222-ADF0-A3815DE2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CB8-E69D-470E-BE5E-C444FC8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3AD-EE4E-4E19-A290-728127F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2F42-DA50-4CED-A5FA-8E37A83BE5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F:\work\第二\元旦2009\未标题-10副本.png"/>
          <p:cNvPicPr/>
          <p:nvPr/>
        </p:nvPicPr>
        <p:blipFill>
          <a:blip r:embed="rId1"/>
          <a:stretch/>
        </p:blipFill>
        <p:spPr>
          <a:xfrm>
            <a:off x="-144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F:\work\第二\元旦2009\未标题-1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F:\work\第二\元旦2009\未标题-5副本.png"/>
          <p:cNvPicPr/>
          <p:nvPr/>
        </p:nvPicPr>
        <p:blipFill>
          <a:blip r:embed="rId3"/>
          <a:srcRect l="36384" t="68326" r="30671" b="27199"/>
          <a:stretch/>
        </p:blipFill>
        <p:spPr>
          <a:xfrm>
            <a:off x="3321000" y="4011480"/>
            <a:ext cx="3013200" cy="25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:\work\第二\元旦2009\未标题-6副本.png"/>
          <p:cNvPicPr/>
          <p:nvPr/>
        </p:nvPicPr>
        <p:blipFill>
          <a:blip r:embed="rId4"/>
          <a:srcRect l="71892" t="0" r="0" b="54986"/>
          <a:stretch/>
        </p:blipFill>
        <p:spPr>
          <a:xfrm>
            <a:off x="6572160" y="0"/>
            <a:ext cx="257040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F:\work\第二\元旦2009\未标题-8副本.png"/>
          <p:cNvPicPr/>
          <p:nvPr/>
        </p:nvPicPr>
        <p:blipFill>
          <a:blip r:embed="rId5"/>
          <a:srcRect l="0" t="30005" r="64060" b="0"/>
          <a:stretch/>
        </p:blipFill>
        <p:spPr>
          <a:xfrm>
            <a:off x="0" y="1714680"/>
            <a:ext cx="3286080" cy="399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F:\work\第二\元旦2009\未标题-2副本.png"/>
          <p:cNvPicPr/>
          <p:nvPr/>
        </p:nvPicPr>
        <p:blipFill>
          <a:blip r:embed="rId6"/>
          <a:srcRect l="28556" t="29416" r="34277" b="8829"/>
          <a:stretch/>
        </p:blipFill>
        <p:spPr>
          <a:xfrm>
            <a:off x="3032280" y="374760"/>
            <a:ext cx="3404880" cy="353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F:\work\第二\元旦2009\未标题-5副本.png"/>
          <p:cNvPicPr/>
          <p:nvPr/>
        </p:nvPicPr>
        <p:blipFill>
          <a:blip r:embed="rId7"/>
          <a:srcRect l="36384" t="72322" r="30671" b="22515"/>
          <a:stretch/>
        </p:blipFill>
        <p:spPr>
          <a:xfrm>
            <a:off x="3321000" y="4294080"/>
            <a:ext cx="3013200" cy="297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F:\work\第二\元旦2009\未标题-4副本.png"/>
          <p:cNvPicPr/>
          <p:nvPr/>
        </p:nvPicPr>
        <p:blipFill>
          <a:blip r:embed="rId8"/>
          <a:srcRect l="26358" t="22487" r="37117" b="40844"/>
          <a:stretch/>
        </p:blipFill>
        <p:spPr>
          <a:xfrm>
            <a:off x="1143000" y="1238400"/>
            <a:ext cx="3340080" cy="2095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F:\work\第二\元旦2009\未标题-7副本.png"/>
          <p:cNvPicPr/>
          <p:nvPr/>
        </p:nvPicPr>
        <p:blipFill>
          <a:blip r:embed="rId9"/>
          <a:srcRect l="72913" t="0" r="0" b="56892"/>
          <a:stretch/>
        </p:blipFill>
        <p:spPr>
          <a:xfrm>
            <a:off x="9142560" y="0"/>
            <a:ext cx="2476440" cy="246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F:\work\第二\元旦2009\未标题-9副本.png"/>
          <p:cNvPicPr/>
          <p:nvPr/>
        </p:nvPicPr>
        <p:blipFill>
          <a:blip r:embed="rId10"/>
          <a:srcRect l="0" t="39678" r="66485" b="0"/>
          <a:stretch/>
        </p:blipFill>
        <p:spPr>
          <a:xfrm>
            <a:off x="-3065400" y="2266920"/>
            <a:ext cx="3065400" cy="344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26960" y="4809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恭贺新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7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4.41421E-006 L 0.33507 4.41421E-006 E">
                                      <p:cBhvr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225 4.13104E-006 L -0.27066 4.13104E-006 E">
                                      <p:cBhvr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9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799880">
                                      <p:cBhvr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 L 0.12917 0 E">
                                      <p:cBhvr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9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7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940-E56C-4A06-BD5E-559AADE6A8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F:\work\第二\元旦2009\未标题-1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work\第二\元旦2009\未标题-6副本.png"/>
          <p:cNvPicPr/>
          <p:nvPr/>
        </p:nvPicPr>
        <p:blipFill>
          <a:blip r:embed="rId2"/>
          <a:srcRect l="71892" t="0" r="0" b="54986"/>
          <a:stretch/>
        </p:blipFill>
        <p:spPr>
          <a:xfrm>
            <a:off x="6572160" y="0"/>
            <a:ext cx="2570400" cy="257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F:\work\第二\元旦2009\未标题-8副本.png"/>
          <p:cNvPicPr/>
          <p:nvPr/>
        </p:nvPicPr>
        <p:blipFill>
          <a:blip r:embed="rId3"/>
          <a:srcRect l="0" t="30005" r="64060" b="0"/>
          <a:stretch/>
        </p:blipFill>
        <p:spPr>
          <a:xfrm>
            <a:off x="0" y="1714680"/>
            <a:ext cx="3286080" cy="3998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work\第二\元旦2009\未标题-5副本.png"/>
          <p:cNvPicPr/>
          <p:nvPr/>
        </p:nvPicPr>
        <p:blipFill>
          <a:blip r:embed="rId4"/>
          <a:srcRect l="36384" t="68326" r="30671" b="27199"/>
          <a:stretch/>
        </p:blipFill>
        <p:spPr>
          <a:xfrm>
            <a:off x="3321000" y="4011480"/>
            <a:ext cx="3013200" cy="2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F:\work\第二\元旦2009\未标题-2副本.png"/>
          <p:cNvPicPr/>
          <p:nvPr/>
        </p:nvPicPr>
        <p:blipFill>
          <a:blip r:embed="rId5"/>
          <a:srcRect l="34277" t="8829" r="28556" b="29416"/>
          <a:stretch/>
        </p:blipFill>
        <p:spPr>
          <a:xfrm>
            <a:off x="3032280" y="374760"/>
            <a:ext cx="3404880" cy="353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work\第二\元旦2009\未标题-5副本.png"/>
          <p:cNvPicPr/>
          <p:nvPr/>
        </p:nvPicPr>
        <p:blipFill>
          <a:blip r:embed="rId6"/>
          <a:srcRect l="36384" t="72322" r="30671" b="22515"/>
          <a:stretch/>
        </p:blipFill>
        <p:spPr>
          <a:xfrm>
            <a:off x="3321000" y="4294080"/>
            <a:ext cx="3013200" cy="29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F:\work\第二\元旦2009\未标题-4副本.png"/>
          <p:cNvPicPr/>
          <p:nvPr/>
        </p:nvPicPr>
        <p:blipFill>
          <a:blip r:embed="rId7"/>
          <a:srcRect l="26358" t="22487" r="37117" b="40844"/>
          <a:stretch/>
        </p:blipFill>
        <p:spPr>
          <a:xfrm>
            <a:off x="2357280" y="1238400"/>
            <a:ext cx="3340080" cy="2095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662120" y="156996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尊敬的朋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684440" y="2160720"/>
            <a:ext cx="66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在这快乐分享的时刻</a:t>
            </a:r>
            <a:r>
              <a:rPr b="0" lang="en-US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,</a:t>
            </a: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思念好友的时刻</a:t>
            </a:r>
            <a:r>
              <a:rPr b="0" lang="en-US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,</a:t>
            </a: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美梦成真的时刻</a:t>
            </a:r>
            <a:r>
              <a:rPr b="0" lang="en-US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.</a:t>
            </a: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祝你元旦快乐</a:t>
            </a:r>
            <a:r>
              <a:rPr b="0" lang="en-US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,</a:t>
            </a: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佳节如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662120" y="3130560"/>
            <a:ext cx="246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        </a:t>
            </a:r>
            <a:r>
              <a:rPr b="0" lang="zh-CN" sz="16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此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敬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448320" y="37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你最好的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1:45:3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jccook</cp:lastModifiedBy>
  <dcterms:modified xsi:type="dcterms:W3CDTF">2015-08-14T12:51:51Z</dcterms:modified>
  <cp:revision>59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