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04E-076C-4B39-8EE8-B5F0BDAD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F8F-DFA7-424E-BD66-794E7BA2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0BD-382A-4E99-AAD0-417B9ABB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011-E1BB-442F-96F4-CDE91AFB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142-0F16-4E83-98DD-813EA268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C57-D16D-418C-A314-28E85FAD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328-B9FC-4923-BE79-3626F52F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7F8-2D09-462C-A11A-BFBB0B62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C62-6461-40C5-B56B-CEC524E2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CF8-07E2-4C5A-9EA7-369910C1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1A8-5CD2-4352-9EF5-17BFE9DE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587-91D9-42C1-8DBB-385BC921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4EC3-3889-4B7F-9D71-FFDAD594941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D8FA-D4AA-4C29-9367-D0F0FF064FB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9440" y="44280"/>
            <a:ext cx="781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恭贺新禧灯笼中国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喜庆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E72-2B74-4768-A5DB-688B2851F3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529812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108360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372672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365508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358380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36960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358380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083840" y="5000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15488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08392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6968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51260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272664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36960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22684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94076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655080" y="5286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329796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72612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86980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51216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544104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179784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515520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351216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151200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3726720" y="5214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583800" y="5214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72688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29780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115488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a</cp:lastModifiedBy>
  <dcterms:modified xsi:type="dcterms:W3CDTF">2015-08-14T12:51:54Z</dcterms:modified>
  <cp:revision>11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