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4ED4-D749-41EE-B141-CB44799B2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EAF6-9706-4E25-93FC-56ED3E29C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4CD4-2E44-4FC1-A864-CFB53124F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4305-65D7-4A40-9A2A-7A23ADC43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42920" y="33300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937A-5A90-48FB-B246-DC6634722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5322-987E-40EE-B99C-4723AAFB35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04E3-5509-4100-8D16-8D7F48BA3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66ED-ED67-46AB-9EF6-F59695C9D6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42920" y="33300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506D-6F80-45B8-9A0C-4710AAC2A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7DF0-2121-4D4B-86D5-9FBA8A88B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E3BD-5361-4FC8-B781-517564399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12BA4-7D1A-432C-A172-1C97A8631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5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28776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BB08173-D353-4EE6-8F7A-239AB566CB7D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63086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3" descr="bg1"/>
          <p:cNvPicPr/>
          <p:nvPr/>
        </p:nvPicPr>
        <p:blipFill>
          <a:blip r:embed="rId2"/>
          <a:stretch/>
        </p:blipFill>
        <p:spPr>
          <a:xfrm>
            <a:off x="0" y="-23760"/>
            <a:ext cx="918036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7164360" y="33336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2340000" y="32126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12920" y="6093000"/>
            <a:ext cx="2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2349360"/>
            <a:ext cx="481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2662200"/>
            <a:ext cx="69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个人简历幻灯片在线下载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c1c1c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468360" y="628812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326E7090-24D4-4825-B0B9-4DD61AA1040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1c1c1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A2E3-B89E-42FD-A14E-BBFCE9A2B5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1" descr="bg3"/>
          <p:cNvPicPr/>
          <p:nvPr/>
        </p:nvPicPr>
        <p:blipFill>
          <a:blip r:embed="rId1"/>
          <a:stretch/>
        </p:blipFill>
        <p:spPr>
          <a:xfrm>
            <a:off x="0" y="-23760"/>
            <a:ext cx="9180360" cy="688176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4548240" y="3919680"/>
            <a:ext cx="29034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4836960" y="2695680"/>
            <a:ext cx="2465640" cy="6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谢谢观赏</a:t>
            </a:r>
            <a:endParaRPr b="1" i="1" lang="en-US" sz="2400" spc="-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：www.eeppt.com</dc:creator>
  <dc:description>幻灯片之家：www.eeppt.com</dc:description>
  <cp:keywords>幻灯片之家：www.eeppt.com</cp:keywords>
  <dc:language>en-US</dc:language>
  <cp:lastModifiedBy>GZB</cp:lastModifiedBy>
  <dcterms:modified xsi:type="dcterms:W3CDTF">2015-08-12T14:33:48Z</dcterms:modified>
  <cp:revision>2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