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C28-BD02-4343-B0BF-531E05FB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AAE-4ADE-4FF3-A0B4-68E81BC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4F6-B747-40EE-90E8-C2F2CF23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148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6212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672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9148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96212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6E5-DD7C-4128-9886-B806C91A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58920" y="1022040"/>
            <a:ext cx="53974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47D-B493-4D20-B4BE-10907C5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148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6212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8672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69148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6212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DB5-0233-4F73-A416-660ACD10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9E8-7AA6-42CD-BA57-16ADCFF0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48B-DC7B-4147-A32E-BAB46323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58920" y="1022040"/>
            <a:ext cx="53974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E8C-A130-4DBD-B0B1-D060CA75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00F-D884-47B8-90B1-51906F8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9DD-AFA9-4464-93F4-C6CE540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00F-564B-456B-817A-0073D80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21280"/>
            <a:ext cx="3348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56000" y="5516640"/>
            <a:ext cx="863640" cy="13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04640"/>
            <a:ext cx="914400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1704-6CA0-4DA4-A1E8-44931290D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39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3168720"/>
            <a:ext cx="2835000" cy="3689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3168720"/>
            <a:ext cx="9144000" cy="765000"/>
            <a:chOff x="0" y="3168720"/>
            <a:chExt cx="9144000" cy="765000"/>
          </a:xfrm>
        </p:grpSpPr>
        <p:sp>
          <p:nvSpPr>
            <p:cNvPr id="50" name=""/>
            <p:cNvSpPr/>
            <p:nvPr/>
          </p:nvSpPr>
          <p:spPr>
            <a:xfrm>
              <a:off x="0" y="316872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29000"/>
              <a:ext cx="9144000" cy="28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573360"/>
              <a:ext cx="9144000" cy="289080"/>
            </a:xfrm>
            <a:prstGeom prst="rect">
              <a:avLst/>
            </a:prstGeom>
            <a:solidFill>
              <a:srgbClr val="ffffff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3933720"/>
            <a:ext cx="2916360" cy="292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7200" y="1127160"/>
            <a:ext cx="7320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29052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Q:954570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87280" y="1127160"/>
            <a:ext cx="7561440" cy="1150920"/>
            <a:chOff x="1187280" y="1127160"/>
            <a:chExt cx="7561440" cy="1150920"/>
          </a:xfrm>
        </p:grpSpPr>
        <p:grpSp>
          <p:nvGrpSpPr>
            <p:cNvPr id="262" name=""/>
            <p:cNvGrpSpPr/>
            <p:nvPr/>
          </p:nvGrpSpPr>
          <p:grpSpPr>
            <a:xfrm>
              <a:off x="1187280" y="1127160"/>
              <a:ext cx="1152360" cy="1150920"/>
              <a:chOff x="1187280" y="1127160"/>
              <a:chExt cx="1152360" cy="115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87280" y="112716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31640" y="1270080"/>
                <a:ext cx="863640" cy="863640"/>
              </a:xfrm>
              <a:prstGeom prst="ellipse">
                <a:avLst/>
              </a:prstGeom>
              <a:blipFill rotWithShape="0">
                <a:blip r:embed="rId1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404360" y="141444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11280" y="163044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58920" y="134316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87280" y="2422440"/>
            <a:ext cx="7561440" cy="1150920"/>
            <a:chOff x="1187280" y="2422440"/>
            <a:chExt cx="7561440" cy="1150920"/>
          </a:xfrm>
        </p:grpSpPr>
        <p:grpSp>
          <p:nvGrpSpPr>
            <p:cNvPr id="269" name=""/>
            <p:cNvGrpSpPr/>
            <p:nvPr/>
          </p:nvGrpSpPr>
          <p:grpSpPr>
            <a:xfrm>
              <a:off x="1187280" y="2422440"/>
              <a:ext cx="1152360" cy="1150920"/>
              <a:chOff x="1187280" y="2422440"/>
              <a:chExt cx="1152360" cy="1150920"/>
            </a:xfrm>
          </p:grpSpPr>
          <p:sp>
            <p:nvSpPr>
              <p:cNvPr id="270" name=""/>
              <p:cNvSpPr/>
              <p:nvPr/>
            </p:nvSpPr>
            <p:spPr>
              <a:xfrm>
                <a:off x="1187280" y="242244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31640" y="2565360"/>
                <a:ext cx="863640" cy="863640"/>
              </a:xfrm>
              <a:prstGeom prst="ellipse">
                <a:avLst/>
              </a:prstGeom>
              <a:blipFill rotWithShape="0">
                <a:blip r:embed="rId2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404360" y="270972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11280" y="292572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8920" y="263844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7280" y="3790800"/>
            <a:ext cx="7561440" cy="1150920"/>
            <a:chOff x="1187280" y="3790800"/>
            <a:chExt cx="7561440" cy="1150920"/>
          </a:xfrm>
        </p:grpSpPr>
        <p:grpSp>
          <p:nvGrpSpPr>
            <p:cNvPr id="276" name=""/>
            <p:cNvGrpSpPr/>
            <p:nvPr/>
          </p:nvGrpSpPr>
          <p:grpSpPr>
            <a:xfrm>
              <a:off x="1187280" y="3790800"/>
              <a:ext cx="1152360" cy="1150920"/>
              <a:chOff x="1187280" y="3790800"/>
              <a:chExt cx="1152360" cy="11509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87280" y="379080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31640" y="3933720"/>
                <a:ext cx="863640" cy="863640"/>
              </a:xfrm>
              <a:prstGeom prst="ellipse">
                <a:avLst/>
              </a:prstGeom>
              <a:blipFill rotWithShape="0">
                <a:blip r:embed="rId3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404360" y="407808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1280" y="429408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8920" y="400680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17800" y="2852640"/>
            <a:ext cx="1152720" cy="1017720"/>
          </a:xfrm>
          <a:prstGeom prst="pentagon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bbe0e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052240" y="3074760"/>
            <a:ext cx="412560" cy="13392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70000" y="3900600"/>
            <a:ext cx="254880" cy="35064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762000" y="3902040"/>
            <a:ext cx="254880" cy="35064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324960" y="3074760"/>
            <a:ext cx="412200" cy="13392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F9B-C40B-4B31-BA5E-2789FF116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59280" y="1125360"/>
            <a:ext cx="546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　　　谢　　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97080" y="1413000"/>
            <a:ext cx="4896000" cy="503280"/>
            <a:chOff x="2197080" y="1413000"/>
            <a:chExt cx="4896000" cy="5032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89955" t="17639" r="2528" b="63861"/>
            <a:stretch/>
          </p:blipFill>
          <p:spPr>
            <a:xfrm>
              <a:off x="2262240" y="141300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197080" y="186084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7320" y="141300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97080" y="2133720"/>
            <a:ext cx="4896000" cy="503280"/>
            <a:chOff x="2197080" y="2133720"/>
            <a:chExt cx="4896000" cy="503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89955" t="17639" r="2528" b="63861"/>
            <a:stretch/>
          </p:blipFill>
          <p:spPr>
            <a:xfrm>
              <a:off x="2262240" y="213372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197080" y="258156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57320" y="213372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97080" y="2925720"/>
            <a:ext cx="4896000" cy="503280"/>
            <a:chOff x="2197080" y="2925720"/>
            <a:chExt cx="4896000" cy="5032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rcRect l="89955" t="17639" r="2528" b="63861"/>
            <a:stretch/>
          </p:blipFill>
          <p:spPr>
            <a:xfrm>
              <a:off x="2262240" y="292572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7080" y="337356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57320" y="292572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97080" y="3860640"/>
            <a:ext cx="4896000" cy="503280"/>
            <a:chOff x="2197080" y="3860640"/>
            <a:chExt cx="4896000" cy="5032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89955" t="17639" r="2528" b="63861"/>
            <a:stretch/>
          </p:blipFill>
          <p:spPr>
            <a:xfrm>
              <a:off x="2262240" y="386064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197080" y="430848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57320" y="386064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31640" y="1114560"/>
            <a:ext cx="6769440" cy="1368360"/>
            <a:chOff x="1331640" y="1114560"/>
            <a:chExt cx="6769440" cy="1368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2374" t="0" r="0" b="0"/>
            <a:stretch/>
          </p:blipFill>
          <p:spPr>
            <a:xfrm>
              <a:off x="2343240" y="112104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H="1">
              <a:off x="1331640" y="126540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27640" y="126540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38480" y="125568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2000" y="247032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01080" y="125892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2880" y="11145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4920" y="162432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06080" y="2765520"/>
            <a:ext cx="6769440" cy="1368360"/>
            <a:chOff x="1306080" y="2765520"/>
            <a:chExt cx="6769440" cy="13683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rcRect l="2374" t="0" r="0" b="0"/>
            <a:stretch/>
          </p:blipFill>
          <p:spPr>
            <a:xfrm>
              <a:off x="2317680" y="277200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 flipH="1">
              <a:off x="1306080" y="291636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402080" y="291636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2920" y="290664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6440" y="412128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5520" y="290988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7320" y="2765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9360" y="327528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06080" y="4441680"/>
            <a:ext cx="6769440" cy="1368360"/>
            <a:chOff x="1306080" y="4441680"/>
            <a:chExt cx="6769440" cy="136836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rcRect l="2374" t="0" r="0" b="0"/>
            <a:stretch/>
          </p:blipFill>
          <p:spPr>
            <a:xfrm>
              <a:off x="2317680" y="444816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1306080" y="459252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02080" y="459252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2920" y="458280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6440" y="579744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5520" y="458604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77320" y="44416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9360" y="495144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87520" y="2997360"/>
            <a:ext cx="1104840" cy="8427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03160" y="378936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266920" y="2349360"/>
            <a:ext cx="612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3068640"/>
            <a:ext cx="612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789360"/>
            <a:ext cx="648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8200" y="4653000"/>
            <a:ext cx="648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17654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5574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32068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4005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9080" y="1197000"/>
            <a:ext cx="8424000" cy="806760"/>
            <a:chOff x="469080" y="1197000"/>
            <a:chExt cx="8424000" cy="806760"/>
          </a:xfrm>
        </p:grpSpPr>
        <p:sp>
          <p:nvSpPr>
            <p:cNvPr id="154" name=""/>
            <p:cNvSpPr/>
            <p:nvPr/>
          </p:nvSpPr>
          <p:spPr>
            <a:xfrm>
              <a:off x="2844720" y="1197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 flipH="1" rot="665400">
              <a:off x="2021040" y="1413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69080" y="14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9080" y="2205000"/>
            <a:ext cx="8424000" cy="806760"/>
            <a:chOff x="469080" y="2205000"/>
            <a:chExt cx="8424000" cy="806760"/>
          </a:xfrm>
        </p:grpSpPr>
        <p:sp>
          <p:nvSpPr>
            <p:cNvPr id="158" name=""/>
            <p:cNvSpPr/>
            <p:nvPr/>
          </p:nvSpPr>
          <p:spPr>
            <a:xfrm>
              <a:off x="2844720" y="2205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665400">
              <a:off x="2021040" y="2421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9080" y="2421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69080" y="3213000"/>
            <a:ext cx="8424000" cy="806760"/>
            <a:chOff x="469080" y="3213000"/>
            <a:chExt cx="8424000" cy="806760"/>
          </a:xfrm>
        </p:grpSpPr>
        <p:sp>
          <p:nvSpPr>
            <p:cNvPr id="162" name=""/>
            <p:cNvSpPr/>
            <p:nvPr/>
          </p:nvSpPr>
          <p:spPr>
            <a:xfrm>
              <a:off x="2844720" y="3213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 flipH="1" rot="665400">
              <a:off x="2021040" y="3429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9080" y="3429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69080" y="4206960"/>
            <a:ext cx="8424000" cy="806760"/>
            <a:chOff x="469080" y="4206960"/>
            <a:chExt cx="8424000" cy="806760"/>
          </a:xfrm>
        </p:grpSpPr>
        <p:sp>
          <p:nvSpPr>
            <p:cNvPr id="166" name=""/>
            <p:cNvSpPr/>
            <p:nvPr/>
          </p:nvSpPr>
          <p:spPr>
            <a:xfrm>
              <a:off x="2844720" y="420696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 flipH="1" rot="665400">
              <a:off x="2021040" y="442296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9080" y="44229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15880" y="847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55640" y="1052640"/>
            <a:ext cx="3384720" cy="4104720"/>
            <a:chOff x="755640" y="1052640"/>
            <a:chExt cx="3384720" cy="4104720"/>
          </a:xfrm>
        </p:grpSpPr>
        <p:grpSp>
          <p:nvGrpSpPr>
            <p:cNvPr id="172" name=""/>
            <p:cNvGrpSpPr/>
            <p:nvPr/>
          </p:nvGrpSpPr>
          <p:grpSpPr>
            <a:xfrm>
              <a:off x="755640" y="1052640"/>
              <a:ext cx="1297080" cy="1152000"/>
              <a:chOff x="755640" y="1052640"/>
              <a:chExt cx="1297080" cy="11520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1195200"/>
                <a:ext cx="1114560" cy="81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755640" y="1052640"/>
                <a:ext cx="1297080" cy="1152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258920" y="2062080"/>
              <a:ext cx="0" cy="302364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7280" y="1989000"/>
              <a:ext cx="0" cy="302364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8000" y="1628640"/>
              <a:ext cx="2159280" cy="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1557000"/>
              <a:ext cx="1943280" cy="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0" y="1699920"/>
              <a:ext cx="2808360" cy="34574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6360" y="1989000"/>
              <a:ext cx="230364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88000" y="1052640"/>
            <a:ext cx="3384000" cy="4104720"/>
            <a:chOff x="4788000" y="1052640"/>
            <a:chExt cx="3384000" cy="4104720"/>
          </a:xfrm>
        </p:grpSpPr>
        <p:grpSp>
          <p:nvGrpSpPr>
            <p:cNvPr id="182" name=""/>
            <p:cNvGrpSpPr/>
            <p:nvPr/>
          </p:nvGrpSpPr>
          <p:grpSpPr>
            <a:xfrm>
              <a:off x="4788000" y="1052640"/>
              <a:ext cx="1296720" cy="1152000"/>
              <a:chOff x="4788000" y="1052640"/>
              <a:chExt cx="1296720" cy="11520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1195200"/>
                <a:ext cx="1114200" cy="81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788000" y="1052640"/>
                <a:ext cx="1296720" cy="1152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290920" y="2062080"/>
              <a:ext cx="0" cy="302364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9280" y="1989000"/>
              <a:ext cx="0" cy="302364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0000" y="1628640"/>
              <a:ext cx="2158920" cy="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0000" y="1557000"/>
              <a:ext cx="1942920" cy="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1699920"/>
              <a:ext cx="2808000" cy="34574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08360" y="1989000"/>
              <a:ext cx="230328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9280" y="1052640"/>
            <a:ext cx="3024360" cy="3240000"/>
            <a:chOff x="179280" y="1052640"/>
            <a:chExt cx="3024360" cy="32400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79280" y="105264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322200" y="191628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6560" y="191628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40" y="184464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9280" y="13399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32000" y="1484280"/>
            <a:ext cx="3024360" cy="3240000"/>
            <a:chOff x="3132000" y="1484280"/>
            <a:chExt cx="3024360" cy="32400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132000" y="148428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200" name=""/>
            <p:cNvSpPr/>
            <p:nvPr/>
          </p:nvSpPr>
          <p:spPr>
            <a:xfrm>
              <a:off x="3274920" y="234792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280" y="234792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2360" y="227628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2000" y="17715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19640" y="2060640"/>
            <a:ext cx="3024360" cy="3240000"/>
            <a:chOff x="6119640" y="2060640"/>
            <a:chExt cx="3024360" cy="324000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119640" y="206064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>
              <a:off x="6262560" y="292428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292428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0000" y="285264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99640" y="23479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32000" y="1268280"/>
            <a:ext cx="3024360" cy="288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1486080"/>
            <a:ext cx="2592360" cy="244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1484280"/>
            <a:ext cx="2592360" cy="2448000"/>
          </a:xfrm>
          <a:prstGeom prst="ellipse">
            <a:avLst/>
          </a:prstGeom>
          <a:solidFill>
            <a:srgbClr val="ffffff">
              <a:alpha val="64000"/>
            </a:srgbClr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10520" y="2492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50920" y="2492280"/>
            <a:ext cx="1008000" cy="144360"/>
            <a:chOff x="2050920" y="2492280"/>
            <a:chExt cx="1008000" cy="144360"/>
          </a:xfrm>
        </p:grpSpPr>
        <p:sp>
          <p:nvSpPr>
            <p:cNvPr id="216" name=""/>
            <p:cNvSpPr/>
            <p:nvPr/>
          </p:nvSpPr>
          <p:spPr>
            <a:xfrm flipH="1">
              <a:off x="2050920" y="2492280"/>
              <a:ext cx="1008000" cy="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68360" y="2636640"/>
              <a:ext cx="7905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3"/>
          <a:srcRect l="2374" t="0" r="0" b="0"/>
          <a:stretch/>
        </p:blipFill>
        <p:spPr>
          <a:xfrm>
            <a:off x="108000" y="2355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764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652480" y="3598560"/>
            <a:ext cx="814680" cy="712800"/>
            <a:chOff x="2652480" y="3598560"/>
            <a:chExt cx="814680" cy="712800"/>
          </a:xfrm>
        </p:grpSpPr>
        <p:sp>
          <p:nvSpPr>
            <p:cNvPr id="221" name=""/>
            <p:cNvSpPr/>
            <p:nvPr/>
          </p:nvSpPr>
          <p:spPr>
            <a:xfrm flipH="1">
              <a:off x="2652480" y="3598560"/>
              <a:ext cx="712800" cy="7128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908440" y="3700440"/>
              <a:ext cx="558720" cy="5590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4"/>
          <a:srcRect l="2374" t="0" r="0" b="0"/>
          <a:stretch/>
        </p:blipFill>
        <p:spPr>
          <a:xfrm>
            <a:off x="685800" y="422748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45440" y="42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43280" y="4221000"/>
            <a:ext cx="144360" cy="1008000"/>
            <a:chOff x="4643280" y="4221000"/>
            <a:chExt cx="144360" cy="1008000"/>
          </a:xfrm>
        </p:grpSpPr>
        <p:sp>
          <p:nvSpPr>
            <p:cNvPr id="226" name=""/>
            <p:cNvSpPr/>
            <p:nvPr/>
          </p:nvSpPr>
          <p:spPr>
            <a:xfrm>
              <a:off x="4643280" y="4221000"/>
              <a:ext cx="0" cy="10080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7640" y="4221000"/>
              <a:ext cx="0" cy="79056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5"/>
          <a:srcRect l="2374" t="0" r="0" b="0"/>
          <a:stretch/>
        </p:blipFill>
        <p:spPr>
          <a:xfrm>
            <a:off x="3635280" y="538020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9492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964120" y="3454200"/>
            <a:ext cx="712800" cy="814680"/>
            <a:chOff x="5964120" y="3454200"/>
            <a:chExt cx="712800" cy="814680"/>
          </a:xfrm>
        </p:grpSpPr>
        <p:sp>
          <p:nvSpPr>
            <p:cNvPr id="231" name=""/>
            <p:cNvSpPr/>
            <p:nvPr/>
          </p:nvSpPr>
          <p:spPr>
            <a:xfrm>
              <a:off x="5964120" y="3556080"/>
              <a:ext cx="712800" cy="7128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66000" y="3454200"/>
              <a:ext cx="559080" cy="5590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6"/>
          <a:srcRect l="2374" t="0" r="0" b="0"/>
          <a:stretch/>
        </p:blipFill>
        <p:spPr>
          <a:xfrm>
            <a:off x="6662880" y="4371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022160" y="43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227640" y="2492640"/>
            <a:ext cx="1008000" cy="144360"/>
            <a:chOff x="6227640" y="2492640"/>
            <a:chExt cx="1008000" cy="144360"/>
          </a:xfrm>
        </p:grpSpPr>
        <p:sp>
          <p:nvSpPr>
            <p:cNvPr id="236" name=""/>
            <p:cNvSpPr/>
            <p:nvPr/>
          </p:nvSpPr>
          <p:spPr>
            <a:xfrm>
              <a:off x="6227640" y="2637000"/>
              <a:ext cx="1008000" cy="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7640" y="2492640"/>
              <a:ext cx="7905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7"/>
          <a:srcRect l="2374" t="0" r="0" b="0"/>
          <a:stretch/>
        </p:blipFill>
        <p:spPr>
          <a:xfrm>
            <a:off x="7305840" y="2355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66512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42920" y="907920"/>
            <a:ext cx="6985080" cy="1728720"/>
            <a:chOff x="1042920" y="907920"/>
            <a:chExt cx="6985080" cy="172872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332000" y="1268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042920" y="907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8360" y="1268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40000" y="155556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05080" y="1555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42920" y="2637000"/>
            <a:ext cx="6985080" cy="1728720"/>
            <a:chOff x="1042920" y="2637000"/>
            <a:chExt cx="6985080" cy="172872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1332000" y="299736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042920" y="263700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68360" y="299736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3286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080" y="32864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042920" y="4363920"/>
            <a:ext cx="6985080" cy="1728720"/>
            <a:chOff x="1042920" y="4363920"/>
            <a:chExt cx="6985080" cy="1728720"/>
          </a:xfrm>
        </p:grpSpPr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1332000" y="4724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042920" y="4363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8360" y="4724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40000" y="501156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5080" y="5011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35200" y="75420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2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1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