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880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368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392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880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368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880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368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392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880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368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5364131-EFD7-4B49-8619-4072C8269E2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2371B04-5594-4599-8D86-26DC49913CB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5200" y="647640"/>
            <a:ext cx="5523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9224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82680" algn="ctr">
              <a:spcBef>
                <a:spcPts val="601"/>
              </a:spcBef>
              <a:buClr>
                <a:srgbClr val="2a79d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563400" algn="ctr">
              <a:spcBef>
                <a:spcPts val="601"/>
              </a:spcBef>
              <a:buClr>
                <a:srgbClr val="2a79d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882720" algn="ctr">
              <a:spcBef>
                <a:spcPts val="1001"/>
              </a:spcBef>
              <a:buClr>
                <a:srgbClr val="2a79d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827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827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5200" y="647640"/>
            <a:ext cx="5523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600"/>
            </a:br>
            <a:r>
              <a:rPr b="1" sz="36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94840" y="1866960"/>
            <a:ext cx="554220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6035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text demonstrates how your own text wil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look</a:t>
            </a:r>
            <a:br>
              <a:rPr sz="2000"/>
            </a:br>
            <a:r>
              <a:rPr b="1" sz="20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you replace the placeholder with your own tex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is text can be replaced with your own tex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f you don’t want to use the style and size of the fonts as used </a:t>
            </a:r>
            <a:br>
              <a:rPr sz="2000"/>
            </a:br>
            <a:r>
              <a:rPr b="1" sz="2000" spc="-1" strike="noStrike">
                <a:solidFill>
                  <a:srgbClr val="ffffff"/>
                </a:solidFill>
                <a:latin typeface="Arial"/>
              </a:rPr>
              <a:t>in this placeholder it is possible to replace it by selecting different op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For replacing the placeholder text you need to click on the placeholder text </a:t>
            </a:r>
            <a:br>
              <a:rPr sz="1800"/>
            </a:br>
            <a:r>
              <a:rPr b="0" sz="1800" spc="-1" strike="noStrike">
                <a:solidFill>
                  <a:srgbClr val="ffffff"/>
                </a:solidFill>
                <a:latin typeface="Arial"/>
              </a:rPr>
              <a:t>and insert your own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The text that you insert will retain the same style and format as the </a:t>
            </a:r>
            <a:br>
              <a:rPr sz="1800"/>
            </a:br>
            <a:r>
              <a:rPr b="0" sz="1800" spc="-1" strike="noStrike">
                <a:solidFill>
                  <a:srgbClr val="ffffff"/>
                </a:solidFill>
                <a:latin typeface="Arial"/>
              </a:rPr>
              <a:t>placeholder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280" y="59752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aeafae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3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