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8C7-1013-45C8-A049-DDDE6EA7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6655-0307-4AB2-B088-560C44FF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8CF-8141-430B-9229-CFA8154A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3386-B986-4432-8892-1E83C9FF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BAF-5DAF-4F90-BC29-7FEDDDD7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304-D17A-4F94-B986-08381D8D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4E5-799B-467B-908B-7EC9AA91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BD4-4C27-4184-B9A9-E59EF3AC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4D5-DB2C-4098-AE97-B267AA2B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FE5-EAB9-4B28-9F9D-8FE7AE3E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07A-3E7F-4E10-B9EA-725B9DDF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AEB-2AF2-466C-935B-13D806D0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5B3E-90D8-4B85-9CBC-0811E5E088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4056120" y="1925640"/>
            <a:ext cx="42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人简历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68520" y="1274760"/>
            <a:ext cx="18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个人爱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558800" y="307008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联系方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1574640" y="2470320"/>
            <a:ext cx="18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自我评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573200" y="185436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219320" y="1438200"/>
            <a:ext cx="241200" cy="2541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216080" y="2003400"/>
            <a:ext cx="239760" cy="25416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216080" y="2587680"/>
            <a:ext cx="239760" cy="25380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216080" y="3171960"/>
            <a:ext cx="239760" cy="253800"/>
          </a:xfrm>
          <a:prstGeom prst="diamond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555920" y="3649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获奖情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565280" y="424512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个性特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210680" y="3824280"/>
            <a:ext cx="239400" cy="25560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225440" y="4394160"/>
            <a:ext cx="239760" cy="254160"/>
          </a:xfrm>
          <a:prstGeom prst="diamond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43240" y="88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过渡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7280" y="390600"/>
            <a:ext cx="91152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时尚中黑简体"/>
              </a:rPr>
              <a:t>个人爱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2127240" y="1409760"/>
            <a:ext cx="45720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355840" y="2611440"/>
            <a:ext cx="4572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019320" y="1486080"/>
            <a:ext cx="8043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4d4d4d"/>
                </a:solidFill>
                <a:latin typeface="Calibri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4d4d4d"/>
                </a:solidFill>
                <a:latin typeface="Calibri"/>
                <a:ea typeface="微软雅黑"/>
              </a:rPr>
              <a:t>我性格活泼开朗，微笑是我的招牌。我爱唱歌、弹吉他、跳舞。幼年时曾作过许多色彩斑斓的梦，当个播音员、或者当一名电视节目主持人是我最大的梦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9C1-4011-4F55-ACD5-3A08463006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3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