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E18C4-CE4C-47A5-9E28-F84E071AD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666520" y="990720"/>
            <a:ext cx="5257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66520" y="1981080"/>
            <a:ext cx="5257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66520" y="4130640"/>
            <a:ext cx="5257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ECA94-A945-4900-A788-7DACC0B04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666520" y="990720"/>
            <a:ext cx="5257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66520" y="1981080"/>
            <a:ext cx="256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60760" y="1981080"/>
            <a:ext cx="256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66520" y="4130640"/>
            <a:ext cx="256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60760" y="4130640"/>
            <a:ext cx="256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75DAB-E3F1-4A1D-921C-60C0639A2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666520" y="990720"/>
            <a:ext cx="5257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66520" y="1981080"/>
            <a:ext cx="1692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444200" y="1981080"/>
            <a:ext cx="1692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21880" y="1981080"/>
            <a:ext cx="1692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666520" y="4130640"/>
            <a:ext cx="1692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444200" y="4130640"/>
            <a:ext cx="1692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21880" y="4130640"/>
            <a:ext cx="1692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A787B-FC20-474D-884C-47EED7D7C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B47EE-374F-4E75-AAB5-DC414C7E3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666520" y="990720"/>
            <a:ext cx="5257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666520" y="1981080"/>
            <a:ext cx="5257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E90AC-94D3-4921-A078-ED8ED20CF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666520" y="990720"/>
            <a:ext cx="5257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666520" y="1981080"/>
            <a:ext cx="5257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A93E3-F831-4549-8856-22BBF4235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666520" y="990720"/>
            <a:ext cx="5257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666520" y="1981080"/>
            <a:ext cx="256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360760" y="1981080"/>
            <a:ext cx="256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12027-EBF4-4782-B7EA-5B53A2FD7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666520" y="990720"/>
            <a:ext cx="5257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1AF9C-96DD-4FA9-B883-E3BD5B85A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666520" y="990720"/>
            <a:ext cx="5257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02F40-075D-48B7-9A46-187226D6D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666520" y="990720"/>
            <a:ext cx="5257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666520" y="1981080"/>
            <a:ext cx="256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360760" y="1981080"/>
            <a:ext cx="256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666520" y="4130640"/>
            <a:ext cx="256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350FD-3BA4-4C2B-B4E8-10D215526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666520" y="990720"/>
            <a:ext cx="5257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666520" y="1981080"/>
            <a:ext cx="5257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7C521-E79E-47BE-A717-D6E951C52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666520" y="990720"/>
            <a:ext cx="5257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666520" y="1981080"/>
            <a:ext cx="256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60760" y="1981080"/>
            <a:ext cx="256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60760" y="4130640"/>
            <a:ext cx="256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79B18-2EB4-4AE2-B712-1F37AC268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666520" y="990720"/>
            <a:ext cx="5257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666520" y="1981080"/>
            <a:ext cx="256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60760" y="1981080"/>
            <a:ext cx="256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666520" y="4130640"/>
            <a:ext cx="5257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580AA-15CB-4502-9475-4F2F7E21A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666520" y="990720"/>
            <a:ext cx="5257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666520" y="1981080"/>
            <a:ext cx="5257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666520" y="4130640"/>
            <a:ext cx="5257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D47E2-FC55-41E3-AC32-9630CE4C3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666520" y="990720"/>
            <a:ext cx="5257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666520" y="1981080"/>
            <a:ext cx="256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60760" y="1981080"/>
            <a:ext cx="256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666520" y="4130640"/>
            <a:ext cx="256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360760" y="4130640"/>
            <a:ext cx="256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43DEA-6F64-40A0-82C1-F07C93760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666520" y="990720"/>
            <a:ext cx="5257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66520" y="1981080"/>
            <a:ext cx="1692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44200" y="1981080"/>
            <a:ext cx="1692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21880" y="1981080"/>
            <a:ext cx="1692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666520" y="4130640"/>
            <a:ext cx="1692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444200" y="4130640"/>
            <a:ext cx="1692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21880" y="4130640"/>
            <a:ext cx="1692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EE4D0-A31C-4188-97F4-3D86B1340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666520" y="990720"/>
            <a:ext cx="5257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66520" y="1981080"/>
            <a:ext cx="5257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9847C-25D7-49F0-949A-B8C30102B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666520" y="990720"/>
            <a:ext cx="5257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66520" y="1981080"/>
            <a:ext cx="256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60760" y="1981080"/>
            <a:ext cx="256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D1AEC-B23C-4D44-B936-05A9C61E8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666520" y="990720"/>
            <a:ext cx="5257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166CF-C7EB-464B-9C89-C56A5B512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666520" y="990720"/>
            <a:ext cx="5257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A42A1-920D-4DC8-944E-B165308B2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666520" y="990720"/>
            <a:ext cx="5257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66520" y="1981080"/>
            <a:ext cx="256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60760" y="1981080"/>
            <a:ext cx="256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66520" y="4130640"/>
            <a:ext cx="256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ECF2B-8D16-4EBE-9EE2-CF77B7E3C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666520" y="990720"/>
            <a:ext cx="5257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66520" y="1981080"/>
            <a:ext cx="256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60760" y="1981080"/>
            <a:ext cx="256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60760" y="4130640"/>
            <a:ext cx="256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D0486-C787-4D98-8295-6944B8B95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666520" y="990720"/>
            <a:ext cx="5257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66520" y="1981080"/>
            <a:ext cx="256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60760" y="1981080"/>
            <a:ext cx="256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666520" y="4130640"/>
            <a:ext cx="5257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8442D-A782-4F12-9729-53D583DF2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666520" y="990720"/>
            <a:ext cx="5257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66520" y="1981080"/>
            <a:ext cx="5257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cc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cc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07E0C-C635-4746-9969-8C971131F176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666520" y="990720"/>
            <a:ext cx="5257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666520" y="1981080"/>
            <a:ext cx="5257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cc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cc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EDFA2-DA59-47E1-9DD2-3D334C41C2A0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000" y="3070080"/>
            <a:ext cx="8064360" cy="8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00"/>
                </a:solidFill>
                <a:latin typeface="Times New Roman"/>
                <a:ea typeface="宋体"/>
              </a:rPr>
              <a:t>国外风格卡通漫画</a:t>
            </a:r>
            <a:r>
              <a:rPr b="0" lang="en-US" sz="4000" spc="-1" strike="noStrike">
                <a:solidFill>
                  <a:srgbClr val="003300"/>
                </a:solidFill>
                <a:latin typeface="Times New Roman"/>
                <a:ea typeface="宋体"/>
              </a:rPr>
              <a:t>PPT</a:t>
            </a:r>
            <a:r>
              <a:rPr b="0" lang="en-US" sz="4000" spc="-1" strike="noStrike">
                <a:solidFill>
                  <a:srgbClr val="003300"/>
                </a:solidFill>
                <a:latin typeface="Times New Roman"/>
                <a:ea typeface="宋体"/>
              </a:rPr>
              <a:t>模板下载</a:t>
            </a:r>
            <a:endParaRPr b="0" lang="en-US" sz="4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733560" y="3886200"/>
            <a:ext cx="4800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  <a:ea typeface="宋体"/>
              </a:rPr>
              <a:t>Your Subtitle Goes Here</a:t>
            </a: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08000" y="544500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666520" y="990720"/>
            <a:ext cx="5257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00"/>
                </a:solidFill>
                <a:latin typeface="Times New Roman"/>
                <a:ea typeface="宋体"/>
              </a:rPr>
              <a:t>Your Topic Goes Here</a:t>
            </a:r>
            <a:endParaRPr b="0" lang="en-US" sz="4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666520" y="1981080"/>
            <a:ext cx="5257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  <a:ea typeface="宋体"/>
              </a:rPr>
              <a:t>Your Subtopics Go Here</a:t>
            </a: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62120" y="99072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Your Topic Goes Here</a:t>
            </a:r>
            <a:endParaRPr b="0" lang="en-US" sz="4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Your Subtopics Go Here</a:t>
            </a: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320" y="2133360"/>
            <a:ext cx="716292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3300"/>
                </a:solidFill>
                <a:latin typeface="Times New Roman"/>
                <a:ea typeface="宋体"/>
              </a:rPr>
              <a:t>TRANSITIONAL PAGE</a:t>
            </a:r>
            <a:endParaRPr b="0" lang="en-US" sz="5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55640" y="98100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pt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00"/>
                </a:solidFill>
                <a:latin typeface="Times New Roman"/>
              </a:rPr>
              <a:t>使用规范说明</a:t>
            </a:r>
            <a:endParaRPr b="0" lang="en-US" sz="4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cc33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33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cc33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33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cc33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cc33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33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cc33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cc33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cc33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cc33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cc33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cc33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cc33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cc33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cc33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cc33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cc33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cc33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cc33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cc33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cc33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cc33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33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33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33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33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33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093BE-11E6-47D5-8978-26DF416740D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af_logo"/>
          <p:cNvPicPr/>
          <p:nvPr/>
        </p:nvPicPr>
        <p:blipFill>
          <a:blip r:embed="rId1"/>
          <a:stretch/>
        </p:blipFill>
        <p:spPr>
          <a:xfrm>
            <a:off x="685800" y="228600"/>
            <a:ext cx="2286000" cy="573120"/>
          </a:xfrm>
          <a:prstGeom prst="rect">
            <a:avLst/>
          </a:prstGeom>
          <a:ln w="0">
            <a:noFill/>
          </a:ln>
        </p:spPr>
      </p:pic>
      <p:sp>
        <p:nvSpPr>
          <p:cNvPr id="95" name="Line 5"/>
          <p:cNvSpPr/>
          <p:nvPr/>
        </p:nvSpPr>
        <p:spPr>
          <a:xfrm>
            <a:off x="457200" y="6477120"/>
            <a:ext cx="815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6"/>
          <p:cNvSpPr/>
          <p:nvPr/>
        </p:nvSpPr>
        <p:spPr>
          <a:xfrm>
            <a:off x="457200" y="1600200"/>
            <a:ext cx="815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7"/>
          <p:cNvSpPr/>
          <p:nvPr/>
        </p:nvSpPr>
        <p:spPr>
          <a:xfrm>
            <a:off x="4038480" y="228600"/>
            <a:ext cx="2438640" cy="122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  <a:ea typeface="宋体"/>
              </a:rPr>
              <a:t>Backdrop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- These are full sized backdrops, just scale them up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- Can be Copy-Pasted out of Templates for use anywher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9"/>
          <p:cNvSpPr/>
          <p:nvPr/>
        </p:nvSpPr>
        <p:spPr>
          <a:xfrm>
            <a:off x="457200" y="4038480"/>
            <a:ext cx="815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10" descr="kid_stuff_qx"/>
          <p:cNvPicPr/>
          <p:nvPr/>
        </p:nvPicPr>
        <p:blipFill>
          <a:blip r:embed="rId2"/>
          <a:stretch/>
        </p:blipFill>
        <p:spPr>
          <a:xfrm>
            <a:off x="457200" y="167652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1" descr="kid_stuff_trs"/>
          <p:cNvPicPr/>
          <p:nvPr/>
        </p:nvPicPr>
        <p:blipFill>
          <a:blip r:embed="rId3"/>
          <a:stretch/>
        </p:blipFill>
        <p:spPr>
          <a:xfrm>
            <a:off x="3657600" y="167652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2" descr="kid_stuff_sld"/>
          <p:cNvPicPr/>
          <p:nvPr/>
        </p:nvPicPr>
        <p:blipFill>
          <a:blip r:embed="rId4"/>
          <a:stretch/>
        </p:blipFill>
        <p:spPr>
          <a:xfrm>
            <a:off x="457200" y="411480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3" descr="kid_stuff_prt"/>
          <p:cNvPicPr/>
          <p:nvPr/>
        </p:nvPicPr>
        <p:blipFill>
          <a:blip r:embed="rId5"/>
          <a:stretch/>
        </p:blipFill>
        <p:spPr>
          <a:xfrm>
            <a:off x="3657600" y="4114800"/>
            <a:ext cx="30481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05:54:07Z</dcterms:created>
  <dc:creator>幻灯片之家：www.eeppt.com</dc:creator>
  <dc:description>幻灯片之家：www.eeppt.com</dc:description>
  <cp:keywords>幻灯片之家：www.eeppt.com</cp:keywords>
  <dc:language>en-US</dc:language>
  <cp:lastModifiedBy>微软用户</cp:lastModifiedBy>
  <dcterms:modified xsi:type="dcterms:W3CDTF">2015-08-12T14:35:00Z</dcterms:modified>
  <cp:revision>3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