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845-79EC-41E7-8EA8-D02E96DD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00680"/>
            <a:ext cx="7696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FCC-F4D2-426F-A73E-47E1ECF5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0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678-F4D9-4FB5-B37B-0E399114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952-BD1C-462E-8EDD-20888FCA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C580-BFEE-48B1-94CF-3C963B7F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CC47-042D-4560-AC13-14B369E6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912C-F57E-499D-86E5-A99AF3A8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96BD-821E-40CB-B3F5-0188869E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3035-A002-4FDF-977E-1CCAA53C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769644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E87F-E4F2-47EA-8E20-87BE9F23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12C-3195-4B23-A241-A65DD227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0AB-06BF-4E2A-821D-C732A41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0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6BD8-A9E7-487F-B2A1-911E211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000680"/>
            <a:ext cx="7696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5A95-E8D8-49AB-903A-B7B5F0B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000680"/>
            <a:ext cx="7696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221C-33E4-4E37-9F74-DC70D72B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0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0D04-03A6-4ACB-A288-A7D3F472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840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048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2275-7B61-46AC-8B49-AA413518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D69-A12B-4287-932A-BFDACB3E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C5C-B51F-4850-95E9-76D6AB51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147-C6A9-4399-B91B-515E9B70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274320"/>
            <a:ext cx="769644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C66-6370-46D0-84ED-380CC3F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A24-B3DC-4740-9250-51139F93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0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0EA-643E-4251-91DC-608FDD4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00680"/>
            <a:ext cx="769644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544-2BD6-4DE1-9B9A-D5062ADD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76964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2B5D-A849-47D9-8163-88F0305E1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76964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FB00-9C13-42FC-8794-8373D6777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a5878"/>
                </a:solidFill>
                <a:latin typeface="Times New Roman"/>
                <a:ea typeface="宋体"/>
              </a:rPr>
              <a:t>国外街道幻灯片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64008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964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878"/>
                </a:solidFill>
                <a:latin typeface="Times New Roman"/>
                <a:ea typeface="宋体"/>
              </a:rPr>
              <a:t>Transitional P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5F5A-92FC-468E-8097-E20FEB03A2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9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ravel_to_seville_prt"/>
          <p:cNvPicPr/>
          <p:nvPr/>
        </p:nvPicPr>
        <p:blipFill>
          <a:blip r:embed="rId1"/>
          <a:stretch/>
        </p:blipFill>
        <p:spPr>
          <a:xfrm>
            <a:off x="5486400" y="3943440"/>
            <a:ext cx="3276720" cy="245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c193">
                <a:alpha val="50000"/>
              </a:srgbClr>
            </a:outerShdw>
          </a:effectLst>
        </p:spPr>
      </p:pic>
      <p:pic>
        <p:nvPicPr>
          <p:cNvPr id="93" name="Picture 7" descr="travel_to_seville_qx"/>
          <p:cNvPicPr/>
          <p:nvPr/>
        </p:nvPicPr>
        <p:blipFill>
          <a:blip r:embed="rId2"/>
          <a:stretch/>
        </p:blipFill>
        <p:spPr>
          <a:xfrm>
            <a:off x="1752480" y="1066680"/>
            <a:ext cx="3276720" cy="24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c193">
                <a:alpha val="50000"/>
              </a:srgbClr>
            </a:outerShdw>
          </a:effectLst>
        </p:spPr>
      </p:pic>
      <p:pic>
        <p:nvPicPr>
          <p:cNvPr id="94" name="Picture 8" descr="travel_to_seville_sld"/>
          <p:cNvPicPr/>
          <p:nvPr/>
        </p:nvPicPr>
        <p:blipFill>
          <a:blip r:embed="rId3"/>
          <a:stretch/>
        </p:blipFill>
        <p:spPr>
          <a:xfrm>
            <a:off x="1752480" y="3943440"/>
            <a:ext cx="3276720" cy="245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c193">
                <a:alpha val="50000"/>
              </a:srgbClr>
            </a:outerShdw>
          </a:effectLst>
        </p:spPr>
      </p:pic>
      <p:pic>
        <p:nvPicPr>
          <p:cNvPr id="95" name="Picture 9" descr="travel_to_seville_trs"/>
          <p:cNvPicPr/>
          <p:nvPr/>
        </p:nvPicPr>
        <p:blipFill>
          <a:blip r:embed="rId4"/>
          <a:stretch/>
        </p:blipFill>
        <p:spPr>
          <a:xfrm>
            <a:off x="5486400" y="1066680"/>
            <a:ext cx="3276720" cy="24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c193">
                <a:alpha val="50000"/>
              </a:srgbClr>
            </a:outerShdw>
          </a:effectLst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43400" y="2438280"/>
            <a:ext cx="4572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a587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1:24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08-12T14:34:5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