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41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36800" y="517680"/>
            <a:ext cx="81072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59480" y="351540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2576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18320" y="123012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335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2576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18320" y="3515400"/>
            <a:ext cx="227808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356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480" y="1230120"/>
            <a:ext cx="345276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33560" y="3515400"/>
            <a:ext cx="7075440" cy="20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lnSpc>
                <a:spcPct val="90000"/>
              </a:lnSpc>
              <a:spcBef>
                <a:spcPts val="25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3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4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5" descr="SixDisciplines Lg Logo 1"/>
          <p:cNvPicPr/>
          <p:nvPr/>
        </p:nvPicPr>
        <p:blipFill>
          <a:blip r:embed="rId2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2"/>
          <p:cNvSpPr/>
          <p:nvPr/>
        </p:nvSpPr>
        <p:spPr>
          <a:xfrm flipH="1">
            <a:off x="5033160" y="-9360"/>
            <a:ext cx="4110120" cy="549576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7"/>
          <p:cNvGrpSpPr/>
          <p:nvPr/>
        </p:nvGrpSpPr>
        <p:grpSpPr>
          <a:xfrm>
            <a:off x="3733920" y="914400"/>
            <a:ext cx="5250960" cy="4568400"/>
            <a:chOff x="3733920" y="914400"/>
            <a:chExt cx="5250960" cy="4568400"/>
          </a:xfrm>
        </p:grpSpPr>
        <p:pic>
          <p:nvPicPr>
            <p:cNvPr id="48" name="Picture 30" descr="shadow"/>
            <p:cNvPicPr/>
            <p:nvPr/>
          </p:nvPicPr>
          <p:blipFill>
            <a:blip r:embed="rId2"/>
            <a:stretch/>
          </p:blipFill>
          <p:spPr>
            <a:xfrm>
              <a:off x="3733920" y="2316960"/>
              <a:ext cx="179028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50"/>
            <p:cNvSpPr/>
            <p:nvPr/>
          </p:nvSpPr>
          <p:spPr>
            <a:xfrm>
              <a:off x="3979080" y="2476080"/>
              <a:ext cx="129132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1" descr="HexTextV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3976200" y="2963880"/>
              <a:ext cx="13251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shadow"/>
            <p:cNvPicPr/>
            <p:nvPr/>
          </p:nvPicPr>
          <p:blipFill>
            <a:blip r:embed="rId4"/>
            <a:stretch/>
          </p:blipFill>
          <p:spPr>
            <a:xfrm>
              <a:off x="4689720" y="369288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47"/>
            <p:cNvSpPr/>
            <p:nvPr/>
          </p:nvSpPr>
          <p:spPr>
            <a:xfrm>
              <a:off x="4932000" y="3850560"/>
              <a:ext cx="129132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8" descr="HexTextIV"/>
            <p:cNvPicPr/>
            <p:nvPr/>
          </p:nvPicPr>
          <p:blipFill>
            <a:blip r:embed="rId5">
              <a:lum bright="100000"/>
            </a:blip>
            <a:stretch/>
          </p:blipFill>
          <p:spPr>
            <a:xfrm>
              <a:off x="4920840" y="4338360"/>
              <a:ext cx="132480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2" descr="shadow"/>
            <p:cNvPicPr/>
            <p:nvPr/>
          </p:nvPicPr>
          <p:blipFill>
            <a:blip r:embed="rId6"/>
            <a:stretch/>
          </p:blipFill>
          <p:spPr>
            <a:xfrm>
              <a:off x="6346080" y="369288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reeform 44"/>
            <p:cNvSpPr/>
            <p:nvPr/>
          </p:nvSpPr>
          <p:spPr>
            <a:xfrm>
              <a:off x="6588720" y="3850560"/>
              <a:ext cx="128988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45" descr="HexTextIII"/>
            <p:cNvPicPr/>
            <p:nvPr/>
          </p:nvPicPr>
          <p:blipFill>
            <a:blip r:embed="rId7">
              <a:lum bright="100000"/>
            </a:blip>
            <a:stretch/>
          </p:blipFill>
          <p:spPr>
            <a:xfrm>
              <a:off x="6578640" y="4338360"/>
              <a:ext cx="13237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shadow"/>
            <p:cNvPicPr/>
            <p:nvPr/>
          </p:nvPicPr>
          <p:blipFill>
            <a:blip r:embed="rId8"/>
            <a:stretch/>
          </p:blipFill>
          <p:spPr>
            <a:xfrm>
              <a:off x="7196040" y="231696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41"/>
            <p:cNvSpPr/>
            <p:nvPr/>
          </p:nvSpPr>
          <p:spPr>
            <a:xfrm>
              <a:off x="7440120" y="2477520"/>
              <a:ext cx="129096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42" descr="HexTextII"/>
            <p:cNvPicPr/>
            <p:nvPr/>
          </p:nvPicPr>
          <p:blipFill>
            <a:blip r:embed="rId9">
              <a:lum bright="100000"/>
            </a:blip>
            <a:stretch/>
          </p:blipFill>
          <p:spPr>
            <a:xfrm>
              <a:off x="7423200" y="2980800"/>
              <a:ext cx="132480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4" descr="shadow"/>
            <p:cNvPicPr/>
            <p:nvPr/>
          </p:nvPicPr>
          <p:blipFill>
            <a:blip r:embed="rId10"/>
            <a:stretch/>
          </p:blipFill>
          <p:spPr>
            <a:xfrm>
              <a:off x="6346080" y="91440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reeform 38"/>
            <p:cNvSpPr/>
            <p:nvPr/>
          </p:nvSpPr>
          <p:spPr>
            <a:xfrm>
              <a:off x="6588720" y="1074960"/>
              <a:ext cx="1290960" cy="147564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9" descr="HexTextI"/>
            <p:cNvPicPr/>
            <p:nvPr/>
          </p:nvPicPr>
          <p:blipFill>
            <a:blip r:embed="rId11">
              <a:lum bright="100000"/>
            </a:blip>
            <a:stretch/>
          </p:blipFill>
          <p:spPr>
            <a:xfrm>
              <a:off x="6577200" y="1324440"/>
              <a:ext cx="13251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4" descr="shadow"/>
            <p:cNvPicPr/>
            <p:nvPr/>
          </p:nvPicPr>
          <p:blipFill>
            <a:blip r:embed="rId12"/>
            <a:stretch/>
          </p:blipFill>
          <p:spPr>
            <a:xfrm>
              <a:off x="4689720" y="914400"/>
              <a:ext cx="1788840" cy="178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56"/>
            <p:cNvGrpSpPr/>
            <p:nvPr/>
          </p:nvGrpSpPr>
          <p:grpSpPr>
            <a:xfrm>
              <a:off x="4933440" y="1074960"/>
              <a:ext cx="1323360" cy="1475640"/>
              <a:chOff x="4933440" y="1074960"/>
              <a:chExt cx="1323360" cy="1475640"/>
            </a:xfrm>
          </p:grpSpPr>
          <p:sp>
            <p:nvSpPr>
              <p:cNvPr id="65" name="Freeform 53"/>
              <p:cNvSpPr/>
              <p:nvPr/>
            </p:nvSpPr>
            <p:spPr>
              <a:xfrm>
                <a:off x="4934520" y="1074960"/>
                <a:ext cx="1290960" cy="1475640"/>
              </a:xfrm>
              <a:custGeom>
                <a:avLst/>
                <a:gdLst/>
                <a:ahLst/>
                <a:rect l="l" t="t" r="r" b="b"/>
                <a:pathLst>
                  <a:path w="1344" h="1536">
                    <a:moveTo>
                      <a:pt x="0" y="384"/>
                    </a:moveTo>
                    <a:lnTo>
                      <a:pt x="672" y="0"/>
                    </a:lnTo>
                    <a:lnTo>
                      <a:pt x="1344" y="384"/>
                    </a:lnTo>
                    <a:lnTo>
                      <a:pt x="1344" y="1152"/>
                    </a:lnTo>
                    <a:lnTo>
                      <a:pt x="672" y="1536"/>
                    </a:lnTo>
                    <a:lnTo>
                      <a:pt x="0" y="1152"/>
                    </a:lnTo>
                    <a:lnTo>
                      <a:pt x="0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241f"/>
                  </a:gs>
                  <a:gs pos="50000">
                    <a:srgbClr val="a51b18"/>
                  </a:gs>
                  <a:gs pos="100000">
                    <a:srgbClr val="d9241f"/>
                  </a:gs>
                </a:gsLst>
                <a:lin ang="81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54" descr="HexTextVI"/>
              <p:cNvPicPr/>
              <p:nvPr/>
            </p:nvPicPr>
            <p:blipFill>
              <a:blip r:embed="rId13">
                <a:lum bright="100000"/>
              </a:blip>
              <a:stretch/>
            </p:blipFill>
            <p:spPr>
              <a:xfrm>
                <a:off x="4933440" y="1562400"/>
                <a:ext cx="1323360" cy="50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Picture 5" descr="SixDisciplines Lg Logo 1"/>
          <p:cNvPicPr/>
          <p:nvPr/>
        </p:nvPicPr>
        <p:blipFill>
          <a:blip r:embed="rId14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456840" y="4876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8000"/>
          </a:bodyPr>
          <a:p>
            <a:pPr marL="95760" indent="0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60" indent="-95760">
              <a:lnSpc>
                <a:spcPct val="90000"/>
              </a:lnSpc>
              <a:spcBef>
                <a:spcPts val="2475"/>
              </a:spcBef>
              <a:buClr>
                <a:srgbClr val="dc241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95760" indent="-95760">
              <a:lnSpc>
                <a:spcPct val="9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2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title"/>
          </p:nvPr>
        </p:nvSpPr>
        <p:spPr>
          <a:xfrm>
            <a:off x="1036800" y="517680"/>
            <a:ext cx="71928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 flipH="1">
            <a:off x="0" y="1066680"/>
            <a:ext cx="914400" cy="579132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7086600" y="4952880"/>
            <a:ext cx="1171440" cy="13399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54760" y="0"/>
            <a:ext cx="40892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1629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5000"/>
          </a:bodyPr>
          <a:p>
            <a:pPr marL="230760" indent="-230760">
              <a:lnSpc>
                <a:spcPct val="90000"/>
              </a:lnSpc>
              <a:spcBef>
                <a:spcPts val="3149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9440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1320" indent="-190080">
              <a:lnSpc>
                <a:spcPct val="90000"/>
              </a:lnSpc>
              <a:spcBef>
                <a:spcPts val="3149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118" name="Picture 10" descr="SixDisciplines Lg Logo 1"/>
          <p:cNvPicPr/>
          <p:nvPr/>
        </p:nvPicPr>
        <p:blipFill>
          <a:blip r:embed="rId3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1036800" y="0"/>
            <a:ext cx="403524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bdb6b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SixDisciplines Lg Logo 1"/>
          <p:cNvPicPr/>
          <p:nvPr/>
        </p:nvPicPr>
        <p:blipFill>
          <a:blip r:embed="rId2"/>
          <a:srcRect l="0" t="0" r="79671" b="0"/>
          <a:stretch/>
        </p:blipFill>
        <p:spPr>
          <a:xfrm>
            <a:off x="228600" y="264960"/>
            <a:ext cx="625320" cy="67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1036800" y="0"/>
            <a:ext cx="403524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36800" y="6699240"/>
            <a:ext cx="8107200" cy="158760"/>
          </a:xfrm>
          <a:prstGeom prst="rect">
            <a:avLst/>
          </a:prstGeom>
          <a:gradFill rotWithShape="0">
            <a:gsLst>
              <a:gs pos="0">
                <a:srgbClr val="d9241f">
                  <a:alpha val="0"/>
                </a:srgbClr>
              </a:gs>
              <a:gs pos="100000">
                <a:srgbClr val="d924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3"/>
          </p:nvPr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054760" y="0"/>
            <a:ext cx="4089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7"/>
          <p:cNvGrpSpPr/>
          <p:nvPr/>
        </p:nvGrpSpPr>
        <p:grpSpPr>
          <a:xfrm>
            <a:off x="0" y="2141640"/>
            <a:ext cx="9144000" cy="2438280"/>
            <a:chOff x="0" y="2141640"/>
            <a:chExt cx="9144000" cy="2438280"/>
          </a:xfrm>
        </p:grpSpPr>
        <p:sp>
          <p:nvSpPr>
            <p:cNvPr id="204" name="Rectangle 18"/>
            <p:cNvSpPr/>
            <p:nvPr/>
          </p:nvSpPr>
          <p:spPr>
            <a:xfrm>
              <a:off x="0" y="2141640"/>
              <a:ext cx="1609560" cy="2438280"/>
            </a:xfrm>
            <a:prstGeom prst="rect">
              <a:avLst/>
            </a:prstGeom>
            <a:gradFill rotWithShape="0">
              <a:gsLst>
                <a:gs pos="0">
                  <a:srgbClr val="d9241f"/>
                </a:gs>
                <a:gs pos="100000">
                  <a:srgbClr val="d9241f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626240" y="2141640"/>
              <a:ext cx="1517760" cy="2438280"/>
            </a:xfrm>
            <a:prstGeom prst="rect">
              <a:avLst/>
            </a:prstGeom>
            <a:gradFill rotWithShape="0">
              <a:gsLst>
                <a:gs pos="0">
                  <a:srgbClr val="d9241f">
                    <a:alpha val="20000"/>
                  </a:srgbClr>
                </a:gs>
                <a:gs pos="100000">
                  <a:srgbClr val="d924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1590840" y="2141640"/>
              <a:ext cx="6060960" cy="2438280"/>
            </a:xfrm>
            <a:prstGeom prst="rect">
              <a:avLst/>
            </a:prstGeom>
            <a:solidFill>
              <a:srgbClr val="d9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21"/>
          <p:cNvSpPr/>
          <p:nvPr/>
        </p:nvSpPr>
        <p:spPr>
          <a:xfrm>
            <a:off x="-20520" y="-9360"/>
            <a:ext cx="4356000" cy="582444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SixDisciplines Lg Logo 1"/>
          <p:cNvPicPr/>
          <p:nvPr/>
        </p:nvPicPr>
        <p:blipFill>
          <a:blip r:embed="rId3"/>
          <a:stretch/>
        </p:blipFill>
        <p:spPr>
          <a:xfrm>
            <a:off x="179280" y="587520"/>
            <a:ext cx="3321000" cy="7254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3"/>
          <p:cNvSpPr/>
          <p:nvPr/>
        </p:nvSpPr>
        <p:spPr>
          <a:xfrm>
            <a:off x="0" y="457200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800000">
            <a:off x="7009920" y="5029200"/>
            <a:ext cx="1298520" cy="1123920"/>
          </a:xfrm>
          <a:prstGeom prst="hexagon">
            <a:avLst>
              <a:gd name="adj" fmla="val 28884"/>
              <a:gd name="vf" fmla="val 115470"/>
            </a:avLst>
          </a:pr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1036440" y="1230480"/>
            <a:ext cx="7072200" cy="49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036800" y="520560"/>
            <a:ext cx="78753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033560" y="1230120"/>
            <a:ext cx="707544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43000" indent="-24300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20484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00160">
              <a:lnSpc>
                <a:spcPct val="90000"/>
              </a:lnSpc>
              <a:spcBef>
                <a:spcPts val="2588"/>
              </a:spcBef>
              <a:buClr>
                <a:srgbClr val="dc24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25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</a:rPr>
              <a:t>Click to edit the title text format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37.png"/><Relationship Id="rId8" Type="http://schemas.openxmlformats.org/officeDocument/2006/relationships/image" Target="../media/image31.png"/><Relationship Id="rId9" Type="http://schemas.openxmlformats.org/officeDocument/2006/relationships/image" Target="../media/image27.png"/><Relationship Id="rId10" Type="http://schemas.openxmlformats.org/officeDocument/2006/relationships/image" Target="../media/image29.png"/><Relationship Id="rId11" Type="http://schemas.openxmlformats.org/officeDocument/2006/relationships/image" Target="../media/image35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hyperlink" Target="http://www.weibo.com/showppt" TargetMode="External"/><Relationship Id="rId8" Type="http://schemas.openxmlformats.org/officeDocument/2006/relationships/hyperlink" Target="http://www.pptstore.net/" TargetMode="External"/><Relationship Id="rId9" Type="http://schemas.openxmlformats.org/officeDocument/2006/relationships/hyperlink" Target="http://www.51ppt.com.cn/" TargetMode="External"/><Relationship Id="rId10" Type="http://schemas.openxmlformats.org/officeDocument/2006/relationships/hyperlink" Target="http://www.pptstore.net/zhidao/" TargetMode="External"/><Relationship Id="rId11" Type="http://schemas.openxmlformats.org/officeDocument/2006/relationships/hyperlink" Target="http://www.showppt.com/" TargetMode="External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4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31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43"/>
          <p:cNvSpPr/>
          <p:nvPr/>
        </p:nvSpPr>
        <p:spPr>
          <a:xfrm>
            <a:off x="7097760" y="4930920"/>
            <a:ext cx="1171440" cy="133956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384"/>
                </a:moveTo>
                <a:lnTo>
                  <a:pt x="672" y="0"/>
                </a:lnTo>
                <a:lnTo>
                  <a:pt x="1344" y="384"/>
                </a:lnTo>
                <a:lnTo>
                  <a:pt x="1344" y="1152"/>
                </a:lnTo>
                <a:lnTo>
                  <a:pt x="672" y="1536"/>
                </a:lnTo>
                <a:lnTo>
                  <a:pt x="0" y="1152"/>
                </a:lnTo>
                <a:lnTo>
                  <a:pt x="0" y="384"/>
                </a:lnTo>
                <a:close/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Freeform 28"/>
          <p:cNvGrpSpPr/>
          <p:nvPr/>
        </p:nvGrpSpPr>
        <p:grpSpPr>
          <a:xfrm>
            <a:off x="7437600" y="633240"/>
            <a:ext cx="2352600" cy="1512720"/>
            <a:chOff x="7437600" y="633240"/>
            <a:chExt cx="2352600" cy="1512720"/>
          </a:xfrm>
        </p:grpSpPr>
        <p:pic>
          <p:nvPicPr>
            <p:cNvPr id="330" name="Freeform 28" descr=""/>
            <p:cNvPicPr/>
            <p:nvPr/>
          </p:nvPicPr>
          <p:blipFill>
            <a:blip r:embed="rId2"/>
            <a:stretch/>
          </p:blipFill>
          <p:spPr>
            <a:xfrm>
              <a:off x="743760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44552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4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d9241f"/>
              </a:gs>
              <a:gs pos="100000">
                <a:srgbClr val="d9241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-20520" y="-9360"/>
            <a:ext cx="4356000" cy="582444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5803920" y="641520"/>
            <a:ext cx="2340000" cy="1500120"/>
          </a:xfrm>
          <a:custGeom>
            <a:avLst/>
            <a:gdLst/>
            <a:ahLst/>
            <a:rect l="l" t="t" r="r" b="b"/>
            <a:pathLst>
              <a:path w="2096" h="1344">
                <a:moveTo>
                  <a:pt x="1513" y="0"/>
                </a:moveTo>
                <a:lnTo>
                  <a:pt x="2096" y="329"/>
                </a:lnTo>
                <a:lnTo>
                  <a:pt x="2096" y="1015"/>
                </a:lnTo>
                <a:lnTo>
                  <a:pt x="1513" y="1344"/>
                </a:lnTo>
                <a:lnTo>
                  <a:pt x="0" y="1341"/>
                </a:lnTo>
                <a:lnTo>
                  <a:pt x="0" y="0"/>
                </a:lnTo>
                <a:lnTo>
                  <a:pt x="1513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Freeform 30"/>
          <p:cNvGrpSpPr/>
          <p:nvPr/>
        </p:nvGrpSpPr>
        <p:grpSpPr>
          <a:xfrm>
            <a:off x="4743360" y="633240"/>
            <a:ext cx="2352600" cy="1512720"/>
            <a:chOff x="4743360" y="633240"/>
            <a:chExt cx="2352600" cy="1512720"/>
          </a:xfrm>
        </p:grpSpPr>
        <p:pic>
          <p:nvPicPr>
            <p:cNvPr id="336" name="Freeform 30" descr=""/>
            <p:cNvPicPr/>
            <p:nvPr/>
          </p:nvPicPr>
          <p:blipFill>
            <a:blip r:embed="rId4"/>
            <a:stretch/>
          </p:blipFill>
          <p:spPr>
            <a:xfrm>
              <a:off x="474336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74984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Freeform 34"/>
          <p:cNvGrpSpPr/>
          <p:nvPr/>
        </p:nvGrpSpPr>
        <p:grpSpPr>
          <a:xfrm>
            <a:off x="3060720" y="633240"/>
            <a:ext cx="2359080" cy="1512720"/>
            <a:chOff x="3060720" y="633240"/>
            <a:chExt cx="2359080" cy="1512720"/>
          </a:xfrm>
        </p:grpSpPr>
        <p:pic>
          <p:nvPicPr>
            <p:cNvPr id="339" name="Freeform 34" descr=""/>
            <p:cNvPicPr/>
            <p:nvPr/>
          </p:nvPicPr>
          <p:blipFill>
            <a:blip r:embed="rId5"/>
            <a:stretch/>
          </p:blipFill>
          <p:spPr>
            <a:xfrm>
              <a:off x="3060720" y="633240"/>
              <a:ext cx="23590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68640" y="641160"/>
              <a:ext cx="2341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Freeform 36"/>
          <p:cNvGrpSpPr/>
          <p:nvPr/>
        </p:nvGrpSpPr>
        <p:grpSpPr>
          <a:xfrm>
            <a:off x="1682640" y="633240"/>
            <a:ext cx="2352600" cy="1512720"/>
            <a:chOff x="1682640" y="633240"/>
            <a:chExt cx="2352600" cy="1512720"/>
          </a:xfrm>
        </p:grpSpPr>
        <p:pic>
          <p:nvPicPr>
            <p:cNvPr id="342" name="Freeform 36" descr=""/>
            <p:cNvPicPr/>
            <p:nvPr/>
          </p:nvPicPr>
          <p:blipFill>
            <a:blip r:embed="rId6"/>
            <a:stretch/>
          </p:blipFill>
          <p:spPr>
            <a:xfrm>
              <a:off x="168264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69056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Freeform 38"/>
          <p:cNvGrpSpPr/>
          <p:nvPr/>
        </p:nvGrpSpPr>
        <p:grpSpPr>
          <a:xfrm>
            <a:off x="-6480" y="633240"/>
            <a:ext cx="2352600" cy="1512720"/>
            <a:chOff x="-6480" y="633240"/>
            <a:chExt cx="2352600" cy="1512720"/>
          </a:xfrm>
        </p:grpSpPr>
        <p:pic>
          <p:nvPicPr>
            <p:cNvPr id="345" name="Freeform 38" descr=""/>
            <p:cNvPicPr/>
            <p:nvPr/>
          </p:nvPicPr>
          <p:blipFill>
            <a:blip r:embed="rId7"/>
            <a:stretch/>
          </p:blipFill>
          <p:spPr>
            <a:xfrm>
              <a:off x="-6480" y="633240"/>
              <a:ext cx="235260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641160"/>
              <a:ext cx="2340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4"/>
          <p:cNvGrpSpPr/>
          <p:nvPr/>
        </p:nvGrpSpPr>
        <p:grpSpPr>
          <a:xfrm>
            <a:off x="0" y="2133720"/>
            <a:ext cx="9144000" cy="2819160"/>
            <a:chOff x="0" y="2133720"/>
            <a:chExt cx="9144000" cy="2819160"/>
          </a:xfrm>
        </p:grpSpPr>
        <p:grpSp>
          <p:nvGrpSpPr>
            <p:cNvPr id="348" name="Group 16"/>
            <p:cNvGrpSpPr/>
            <p:nvPr/>
          </p:nvGrpSpPr>
          <p:grpSpPr>
            <a:xfrm>
              <a:off x="0" y="2133720"/>
              <a:ext cx="9144000" cy="2438280"/>
              <a:chOff x="0" y="2133720"/>
              <a:chExt cx="9144000" cy="2438280"/>
            </a:xfrm>
          </p:grpSpPr>
          <p:sp>
            <p:nvSpPr>
              <p:cNvPr id="349" name="Rectangle 8"/>
              <p:cNvSpPr/>
              <p:nvPr/>
            </p:nvSpPr>
            <p:spPr>
              <a:xfrm>
                <a:off x="0" y="2133720"/>
                <a:ext cx="16095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7626240" y="2133720"/>
                <a:ext cx="15177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"/>
              <p:cNvSpPr/>
              <p:nvPr/>
            </p:nvSpPr>
            <p:spPr>
              <a:xfrm>
                <a:off x="1590840" y="2133720"/>
                <a:ext cx="606096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25"/>
            <p:cNvSpPr/>
            <p:nvPr/>
          </p:nvSpPr>
          <p:spPr>
            <a:xfrm>
              <a:off x="0" y="457200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Freeform 41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2"/>
          <p:cNvSpPr/>
          <p:nvPr/>
        </p:nvSpPr>
        <p:spPr>
          <a:xfrm>
            <a:off x="8610480" y="4962600"/>
            <a:ext cx="533520" cy="129528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3" descr="SDLClogo"/>
          <p:cNvPicPr/>
          <p:nvPr/>
        </p:nvPicPr>
        <p:blipFill>
          <a:blip r:embed="rId8"/>
          <a:stretch/>
        </p:blipFill>
        <p:spPr>
          <a:xfrm>
            <a:off x="1216080" y="2557440"/>
            <a:ext cx="6708600" cy="1476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414240" y="2182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7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7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7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9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"/>
          <p:cNvGrpSpPr/>
          <p:nvPr/>
        </p:nvGrpSpPr>
        <p:grpSpPr>
          <a:xfrm>
            <a:off x="1952640" y="1371600"/>
            <a:ext cx="5237280" cy="4640400"/>
            <a:chOff x="1952640" y="1371600"/>
            <a:chExt cx="5237280" cy="4640400"/>
          </a:xfrm>
        </p:grpSpPr>
        <p:sp>
          <p:nvSpPr>
            <p:cNvPr id="645" name="Freeform 3"/>
            <p:cNvSpPr/>
            <p:nvPr/>
          </p:nvSpPr>
          <p:spPr>
            <a:xfrm>
              <a:off x="4828320" y="1371600"/>
              <a:ext cx="1420560" cy="161748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4" descr="HexTextIa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5008320" y="1748880"/>
              <a:ext cx="109368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Freeform 5"/>
            <p:cNvSpPr/>
            <p:nvPr/>
          </p:nvSpPr>
          <p:spPr>
            <a:xfrm>
              <a:off x="5755680" y="2903400"/>
              <a:ext cx="1413000" cy="16099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6" descr="HexTextII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5734800" y="3453480"/>
              <a:ext cx="145512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Freeform 7"/>
            <p:cNvSpPr/>
            <p:nvPr/>
          </p:nvSpPr>
          <p:spPr>
            <a:xfrm>
              <a:off x="4820760" y="4400640"/>
              <a:ext cx="1414440" cy="16113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8" descr="HexTextIII"/>
            <p:cNvPicPr/>
            <p:nvPr/>
          </p:nvPicPr>
          <p:blipFill>
            <a:blip r:embed="rId3">
              <a:lum bright="100000"/>
            </a:blip>
            <a:stretch/>
          </p:blipFill>
          <p:spPr>
            <a:xfrm>
              <a:off x="4807080" y="4931280"/>
              <a:ext cx="145512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Freeform 9"/>
            <p:cNvSpPr/>
            <p:nvPr/>
          </p:nvSpPr>
          <p:spPr>
            <a:xfrm>
              <a:off x="2999520" y="4400640"/>
              <a:ext cx="1422000" cy="16113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10" descr="HexTextIV"/>
            <p:cNvPicPr/>
            <p:nvPr/>
          </p:nvPicPr>
          <p:blipFill>
            <a:blip r:embed="rId4">
              <a:lum bright="100000"/>
            </a:blip>
            <a:stretch/>
          </p:blipFill>
          <p:spPr>
            <a:xfrm>
              <a:off x="2987280" y="4931280"/>
              <a:ext cx="145980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Freeform 11"/>
            <p:cNvSpPr/>
            <p:nvPr/>
          </p:nvSpPr>
          <p:spPr>
            <a:xfrm>
              <a:off x="1952640" y="2903400"/>
              <a:ext cx="1414440" cy="16099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Picture 12" descr="HexTextV"/>
            <p:cNvPicPr/>
            <p:nvPr/>
          </p:nvPicPr>
          <p:blipFill>
            <a:blip r:embed="rId5">
              <a:lum bright="100000"/>
            </a:blip>
            <a:stretch/>
          </p:blipFill>
          <p:spPr>
            <a:xfrm>
              <a:off x="1952640" y="3432600"/>
              <a:ext cx="1453680" cy="5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Freeform 13"/>
            <p:cNvSpPr/>
            <p:nvPr/>
          </p:nvSpPr>
          <p:spPr>
            <a:xfrm>
              <a:off x="3007080" y="1371600"/>
              <a:ext cx="1414440" cy="161748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d9241f"/>
                </a:gs>
                <a:gs pos="50000">
                  <a:srgbClr val="a51b18"/>
                </a:gs>
                <a:gs pos="100000">
                  <a:srgbClr val="d9241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14" descr="HexTextVI"/>
            <p:cNvPicPr/>
            <p:nvPr/>
          </p:nvPicPr>
          <p:blipFill>
            <a:blip r:embed="rId6">
              <a:lum bright="100000"/>
            </a:blip>
            <a:stretch/>
          </p:blipFill>
          <p:spPr>
            <a:xfrm>
              <a:off x="2999520" y="1908000"/>
              <a:ext cx="1455120" cy="54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Rectangle 15"/>
          <p:cNvGrpSpPr/>
          <p:nvPr/>
        </p:nvGrpSpPr>
        <p:grpSpPr>
          <a:xfrm>
            <a:off x="1641960" y="1573200"/>
            <a:ext cx="5921640" cy="4211640"/>
            <a:chOff x="1641960" y="1573200"/>
            <a:chExt cx="5921640" cy="4211640"/>
          </a:xfrm>
        </p:grpSpPr>
        <p:pic>
          <p:nvPicPr>
            <p:cNvPr id="658" name="Rectangle 15" descr=""/>
            <p:cNvPicPr/>
            <p:nvPr/>
          </p:nvPicPr>
          <p:blipFill>
            <a:blip r:embed="rId7"/>
            <a:stretch/>
          </p:blipFill>
          <p:spPr>
            <a:xfrm>
              <a:off x="1650600" y="1573200"/>
              <a:ext cx="589968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 rot="1800000">
              <a:off x="1493640" y="3141720"/>
              <a:ext cx="621792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16" descr="distributionsuite_icon"/>
          <p:cNvPicPr/>
          <p:nvPr/>
        </p:nvPicPr>
        <p:blipFill>
          <a:blip r:embed="rId8"/>
          <a:stretch/>
        </p:blipFill>
        <p:spPr>
          <a:xfrm>
            <a:off x="2006640" y="1808280"/>
            <a:ext cx="1092240" cy="13190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36800" y="517680"/>
            <a:ext cx="81072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Business System Integration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662" name="Picture 18" descr="peoplesuite_icon"/>
          <p:cNvPicPr/>
          <p:nvPr/>
        </p:nvPicPr>
        <p:blipFill>
          <a:blip r:embed="rId9"/>
          <a:stretch/>
        </p:blipFill>
        <p:spPr>
          <a:xfrm>
            <a:off x="4079880" y="3046320"/>
            <a:ext cx="1093680" cy="13208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9" descr="financialsuite_icon"/>
          <p:cNvPicPr/>
          <p:nvPr/>
        </p:nvPicPr>
        <p:blipFill>
          <a:blip r:embed="rId10"/>
          <a:stretch/>
        </p:blipFill>
        <p:spPr>
          <a:xfrm>
            <a:off x="3013200" y="2433600"/>
            <a:ext cx="1123920" cy="1320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0" descr="projectsuite_icon"/>
          <p:cNvPicPr/>
          <p:nvPr/>
        </p:nvPicPr>
        <p:blipFill>
          <a:blip r:embed="rId11"/>
          <a:stretch/>
        </p:blipFill>
        <p:spPr>
          <a:xfrm>
            <a:off x="6145200" y="4243320"/>
            <a:ext cx="1093680" cy="13194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1" descr="SMSsuite_icon"/>
          <p:cNvPicPr/>
          <p:nvPr/>
        </p:nvPicPr>
        <p:blipFill>
          <a:blip r:embed="rId12"/>
          <a:stretch/>
        </p:blipFill>
        <p:spPr>
          <a:xfrm>
            <a:off x="5103720" y="3639960"/>
            <a:ext cx="1104840" cy="132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2107E-006 L 0.11476 0.09161 E">
                                      <p:cBhvr>
                                        <p:cTn id="465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39E-006 L -0.11268 -0.08281 E">
                                      <p:cBhvr>
                                        <p:cTn id="470" dur="1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8848E-006 L 0.22482 0.1809 E">
                                      <p:cBhvr>
                                        <p:cTn id="476" dur="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3988E-006 L -0.22587 -0.1721 E">
                                      <p:cBhvr>
                                        <p:cTn id="481" dur="1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5880" y="528480"/>
            <a:ext cx="73026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Six Disciplines Technology Overview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533520" y="1752480"/>
            <a:ext cx="2361960" cy="160020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"/>
          <p:cNvSpPr/>
          <p:nvPr/>
        </p:nvSpPr>
        <p:spPr>
          <a:xfrm flipH="1">
            <a:off x="2733480" y="2057400"/>
            <a:ext cx="10760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990720" y="2743200"/>
            <a:ext cx="304560" cy="609120"/>
            <a:chOff x="990720" y="2743200"/>
            <a:chExt cx="304560" cy="609120"/>
          </a:xfrm>
        </p:grpSpPr>
        <p:sp>
          <p:nvSpPr>
            <p:cNvPr id="671" name="Oval 6"/>
            <p:cNvSpPr/>
            <p:nvPr/>
          </p:nvSpPr>
          <p:spPr>
            <a:xfrm>
              <a:off x="1020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"/>
            <p:cNvSpPr/>
            <p:nvPr/>
          </p:nvSpPr>
          <p:spPr>
            <a:xfrm>
              <a:off x="990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8"/>
          <p:cNvGrpSpPr/>
          <p:nvPr/>
        </p:nvGrpSpPr>
        <p:grpSpPr>
          <a:xfrm>
            <a:off x="1562040" y="2743200"/>
            <a:ext cx="304920" cy="609120"/>
            <a:chOff x="1562040" y="2743200"/>
            <a:chExt cx="304920" cy="609120"/>
          </a:xfrm>
        </p:grpSpPr>
        <p:sp>
          <p:nvSpPr>
            <p:cNvPr id="674" name="Oval 9"/>
            <p:cNvSpPr/>
            <p:nvPr/>
          </p:nvSpPr>
          <p:spPr>
            <a:xfrm>
              <a:off x="1592280" y="2743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"/>
            <p:cNvSpPr/>
            <p:nvPr/>
          </p:nvSpPr>
          <p:spPr>
            <a:xfrm>
              <a:off x="1562040" y="2956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1"/>
          <p:cNvGrpSpPr/>
          <p:nvPr/>
        </p:nvGrpSpPr>
        <p:grpSpPr>
          <a:xfrm>
            <a:off x="2133720" y="2743200"/>
            <a:ext cx="304560" cy="609120"/>
            <a:chOff x="2133720" y="2743200"/>
            <a:chExt cx="304560" cy="609120"/>
          </a:xfrm>
        </p:grpSpPr>
        <p:sp>
          <p:nvSpPr>
            <p:cNvPr id="677" name="Oval 12"/>
            <p:cNvSpPr/>
            <p:nvPr/>
          </p:nvSpPr>
          <p:spPr>
            <a:xfrm>
              <a:off x="2163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"/>
            <p:cNvSpPr/>
            <p:nvPr/>
          </p:nvSpPr>
          <p:spPr>
            <a:xfrm>
              <a:off x="2133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Rectangle 14"/>
          <p:cNvSpPr/>
          <p:nvPr/>
        </p:nvSpPr>
        <p:spPr>
          <a:xfrm>
            <a:off x="762120" y="2514600"/>
            <a:ext cx="1904760" cy="83808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15"/>
          <p:cNvGrpSpPr/>
          <p:nvPr/>
        </p:nvGrpSpPr>
        <p:grpSpPr>
          <a:xfrm>
            <a:off x="1139760" y="2362320"/>
            <a:ext cx="1152360" cy="304560"/>
            <a:chOff x="1139760" y="2362320"/>
            <a:chExt cx="1152360" cy="304560"/>
          </a:xfrm>
        </p:grpSpPr>
        <p:sp>
          <p:nvSpPr>
            <p:cNvPr id="681" name="Line 16"/>
            <p:cNvSpPr/>
            <p:nvPr/>
          </p:nvSpPr>
          <p:spPr>
            <a:xfrm flipV="1">
              <a:off x="113976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7"/>
            <p:cNvSpPr/>
            <p:nvPr/>
          </p:nvSpPr>
          <p:spPr>
            <a:xfrm flipV="1">
              <a:off x="172080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8"/>
            <p:cNvSpPr/>
            <p:nvPr/>
          </p:nvSpPr>
          <p:spPr>
            <a:xfrm flipV="1">
              <a:off x="229212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9"/>
          <p:cNvSpPr/>
          <p:nvPr/>
        </p:nvSpPr>
        <p:spPr>
          <a:xfrm>
            <a:off x="770040" y="1981080"/>
            <a:ext cx="19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6299280" y="1600200"/>
            <a:ext cx="241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6305400" y="1066680"/>
            <a:ext cx="2413080" cy="106704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6315120" y="106992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63705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6324480" y="205740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5"/>
          <p:cNvSpPr/>
          <p:nvPr/>
        </p:nvSpPr>
        <p:spPr>
          <a:xfrm>
            <a:off x="66326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6"/>
          <p:cNvSpPr/>
          <p:nvPr/>
        </p:nvSpPr>
        <p:spPr>
          <a:xfrm>
            <a:off x="6894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71564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74199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9"/>
          <p:cNvSpPr/>
          <p:nvPr/>
        </p:nvSpPr>
        <p:spPr>
          <a:xfrm>
            <a:off x="76820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79437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82058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8469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6172200" y="3809880"/>
            <a:ext cx="266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Leadership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6172200" y="3581280"/>
            <a:ext cx="2666880" cy="121932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6313320" y="4267080"/>
            <a:ext cx="2394000" cy="5335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6"/>
          <p:cNvSpPr/>
          <p:nvPr/>
        </p:nvSpPr>
        <p:spPr>
          <a:xfrm>
            <a:off x="719280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7"/>
          <p:cNvSpPr/>
          <p:nvPr/>
        </p:nvSpPr>
        <p:spPr>
          <a:xfrm>
            <a:off x="749772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8"/>
          <p:cNvSpPr/>
          <p:nvPr/>
        </p:nvSpPr>
        <p:spPr>
          <a:xfrm>
            <a:off x="6313320" y="360684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9"/>
          <p:cNvSpPr/>
          <p:nvPr/>
        </p:nvSpPr>
        <p:spPr>
          <a:xfrm>
            <a:off x="4572000" y="1676520"/>
            <a:ext cx="18842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40"/>
          <p:cNvSpPr/>
          <p:nvPr/>
        </p:nvSpPr>
        <p:spPr>
          <a:xfrm>
            <a:off x="5410080" y="2522520"/>
            <a:ext cx="838440" cy="1363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0" y="672"/>
                </a:lnTo>
                <a:lnTo>
                  <a:pt x="720" y="672"/>
                </a:lnTo>
              </a:path>
            </a:pathLst>
          </a:custGeom>
          <a:noFill/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3657600" y="1335240"/>
            <a:ext cx="1828800" cy="1828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2"/>
          <p:cNvSpPr/>
          <p:nvPr/>
        </p:nvSpPr>
        <p:spPr>
          <a:xfrm>
            <a:off x="3836880" y="2021040"/>
            <a:ext cx="147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41f"/>
                </a:solidFill>
                <a:latin typeface="Arial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"/>
          <p:cNvSpPr/>
          <p:nvPr/>
        </p:nvSpPr>
        <p:spPr>
          <a:xfrm>
            <a:off x="6305400" y="4809960"/>
            <a:ext cx="2424240" cy="1590840"/>
          </a:xfrm>
          <a:prstGeom prst="rect">
            <a:avLst/>
          </a:prstGeom>
          <a:gradFill rotWithShape="0">
            <a:gsLst>
              <a:gs pos="0">
                <a:srgbClr val="e0d4b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6324480" y="2057400"/>
            <a:ext cx="2403720" cy="109872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6553080" y="2614680"/>
            <a:ext cx="19875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e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280200" y="2266920"/>
            <a:ext cx="243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533520" y="3352680"/>
            <a:ext cx="2361960" cy="224172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533520" y="1752480"/>
            <a:ext cx="2361960" cy="160020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5880" y="528480"/>
            <a:ext cx="686124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Six Disciplines Technology Overview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716" name="Line 9"/>
          <p:cNvSpPr/>
          <p:nvPr/>
        </p:nvSpPr>
        <p:spPr>
          <a:xfrm flipH="1">
            <a:off x="2733480" y="2057400"/>
            <a:ext cx="10760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0"/>
          <p:cNvGrpSpPr/>
          <p:nvPr/>
        </p:nvGrpSpPr>
        <p:grpSpPr>
          <a:xfrm>
            <a:off x="990720" y="2743200"/>
            <a:ext cx="304560" cy="609120"/>
            <a:chOff x="990720" y="2743200"/>
            <a:chExt cx="304560" cy="609120"/>
          </a:xfrm>
        </p:grpSpPr>
        <p:sp>
          <p:nvSpPr>
            <p:cNvPr id="718" name="Oval 11"/>
            <p:cNvSpPr/>
            <p:nvPr/>
          </p:nvSpPr>
          <p:spPr>
            <a:xfrm>
              <a:off x="1020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"/>
            <p:cNvSpPr/>
            <p:nvPr/>
          </p:nvSpPr>
          <p:spPr>
            <a:xfrm>
              <a:off x="990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3"/>
          <p:cNvGrpSpPr/>
          <p:nvPr/>
        </p:nvGrpSpPr>
        <p:grpSpPr>
          <a:xfrm>
            <a:off x="1562040" y="2743200"/>
            <a:ext cx="304920" cy="609120"/>
            <a:chOff x="1562040" y="2743200"/>
            <a:chExt cx="304920" cy="609120"/>
          </a:xfrm>
        </p:grpSpPr>
        <p:sp>
          <p:nvSpPr>
            <p:cNvPr id="721" name="Oval 14"/>
            <p:cNvSpPr/>
            <p:nvPr/>
          </p:nvSpPr>
          <p:spPr>
            <a:xfrm>
              <a:off x="1592280" y="2743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>
              <a:off x="1562040" y="2956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6"/>
          <p:cNvGrpSpPr/>
          <p:nvPr/>
        </p:nvGrpSpPr>
        <p:grpSpPr>
          <a:xfrm>
            <a:off x="2133720" y="2743200"/>
            <a:ext cx="304560" cy="609120"/>
            <a:chOff x="2133720" y="2743200"/>
            <a:chExt cx="304560" cy="609120"/>
          </a:xfrm>
        </p:grpSpPr>
        <p:sp>
          <p:nvSpPr>
            <p:cNvPr id="724" name="Oval 17"/>
            <p:cNvSpPr/>
            <p:nvPr/>
          </p:nvSpPr>
          <p:spPr>
            <a:xfrm>
              <a:off x="2163960" y="274320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133720" y="2956320"/>
              <a:ext cx="30456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19"/>
          <p:cNvSpPr/>
          <p:nvPr/>
        </p:nvSpPr>
        <p:spPr>
          <a:xfrm>
            <a:off x="762120" y="2514600"/>
            <a:ext cx="1904760" cy="83808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20"/>
          <p:cNvGrpSpPr/>
          <p:nvPr/>
        </p:nvGrpSpPr>
        <p:grpSpPr>
          <a:xfrm>
            <a:off x="1139760" y="2362320"/>
            <a:ext cx="1152360" cy="304560"/>
            <a:chOff x="1139760" y="2362320"/>
            <a:chExt cx="1152360" cy="304560"/>
          </a:xfrm>
        </p:grpSpPr>
        <p:sp>
          <p:nvSpPr>
            <p:cNvPr id="728" name="Line 21"/>
            <p:cNvSpPr/>
            <p:nvPr/>
          </p:nvSpPr>
          <p:spPr>
            <a:xfrm flipV="1">
              <a:off x="113976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2"/>
            <p:cNvSpPr/>
            <p:nvPr/>
          </p:nvSpPr>
          <p:spPr>
            <a:xfrm flipV="1">
              <a:off x="172080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3"/>
            <p:cNvSpPr/>
            <p:nvPr/>
          </p:nvSpPr>
          <p:spPr>
            <a:xfrm flipV="1">
              <a:off x="2292120" y="2362320"/>
              <a:ext cx="0" cy="304560"/>
            </a:xfrm>
            <a:prstGeom prst="line">
              <a:avLst/>
            </a:prstGeom>
            <a:ln w="2844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24"/>
          <p:cNvSpPr/>
          <p:nvPr/>
        </p:nvSpPr>
        <p:spPr>
          <a:xfrm>
            <a:off x="770040" y="1981080"/>
            <a:ext cx="19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"/>
          <p:cNvSpPr/>
          <p:nvPr/>
        </p:nvSpPr>
        <p:spPr>
          <a:xfrm>
            <a:off x="6299280" y="1600200"/>
            <a:ext cx="241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6"/>
          <p:cNvSpPr/>
          <p:nvPr/>
        </p:nvSpPr>
        <p:spPr>
          <a:xfrm>
            <a:off x="6305400" y="1066680"/>
            <a:ext cx="2413080" cy="106704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7"/>
          <p:cNvSpPr/>
          <p:nvPr/>
        </p:nvSpPr>
        <p:spPr>
          <a:xfrm>
            <a:off x="6315120" y="106992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1760" y="3801960"/>
            <a:ext cx="2057400" cy="19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sines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9"/>
          <p:cNvSpPr/>
          <p:nvPr/>
        </p:nvSpPr>
        <p:spPr>
          <a:xfrm>
            <a:off x="485640" y="3429000"/>
            <a:ext cx="243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0"/>
          <p:cNvSpPr/>
          <p:nvPr/>
        </p:nvSpPr>
        <p:spPr>
          <a:xfrm>
            <a:off x="63705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1"/>
          <p:cNvSpPr/>
          <p:nvPr/>
        </p:nvSpPr>
        <p:spPr>
          <a:xfrm>
            <a:off x="6324480" y="205740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2"/>
          <p:cNvSpPr/>
          <p:nvPr/>
        </p:nvSpPr>
        <p:spPr>
          <a:xfrm>
            <a:off x="66326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3"/>
          <p:cNvSpPr/>
          <p:nvPr/>
        </p:nvSpPr>
        <p:spPr>
          <a:xfrm>
            <a:off x="6894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4"/>
          <p:cNvSpPr/>
          <p:nvPr/>
        </p:nvSpPr>
        <p:spPr>
          <a:xfrm>
            <a:off x="71564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5"/>
          <p:cNvSpPr/>
          <p:nvPr/>
        </p:nvSpPr>
        <p:spPr>
          <a:xfrm>
            <a:off x="74199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6"/>
          <p:cNvSpPr/>
          <p:nvPr/>
        </p:nvSpPr>
        <p:spPr>
          <a:xfrm>
            <a:off x="76820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7"/>
          <p:cNvSpPr/>
          <p:nvPr/>
        </p:nvSpPr>
        <p:spPr>
          <a:xfrm>
            <a:off x="79437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8"/>
          <p:cNvSpPr/>
          <p:nvPr/>
        </p:nvSpPr>
        <p:spPr>
          <a:xfrm>
            <a:off x="820584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9"/>
          <p:cNvSpPr/>
          <p:nvPr/>
        </p:nvSpPr>
        <p:spPr>
          <a:xfrm>
            <a:off x="8469360" y="1219320"/>
            <a:ext cx="193680" cy="22860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0"/>
          <p:cNvSpPr/>
          <p:nvPr/>
        </p:nvSpPr>
        <p:spPr>
          <a:xfrm>
            <a:off x="6172200" y="3809880"/>
            <a:ext cx="266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d4"/>
                </a:solidFill>
                <a:latin typeface="Arial Black"/>
                <a:ea typeface="宋体"/>
              </a:rPr>
              <a:t>Leadership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1"/>
          <p:cNvSpPr/>
          <p:nvPr/>
        </p:nvSpPr>
        <p:spPr>
          <a:xfrm>
            <a:off x="6172200" y="3581280"/>
            <a:ext cx="2666880" cy="1219320"/>
          </a:xfrm>
          <a:prstGeom prst="rect">
            <a:avLst/>
          </a:prstGeom>
          <a:noFill/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2"/>
          <p:cNvSpPr/>
          <p:nvPr/>
        </p:nvSpPr>
        <p:spPr>
          <a:xfrm>
            <a:off x="6313320" y="4267080"/>
            <a:ext cx="2394000" cy="5335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3"/>
          <p:cNvSpPr/>
          <p:nvPr/>
        </p:nvSpPr>
        <p:spPr>
          <a:xfrm>
            <a:off x="719280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4"/>
          <p:cNvSpPr/>
          <p:nvPr/>
        </p:nvSpPr>
        <p:spPr>
          <a:xfrm>
            <a:off x="7497720" y="4289400"/>
            <a:ext cx="304920" cy="5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5"/>
          <p:cNvSpPr/>
          <p:nvPr/>
        </p:nvSpPr>
        <p:spPr>
          <a:xfrm>
            <a:off x="6313320" y="3606840"/>
            <a:ext cx="2394000" cy="76320"/>
          </a:xfrm>
          <a:prstGeom prst="rect">
            <a:avLst/>
          </a:prstGeom>
          <a:solidFill>
            <a:srgbClr val="bdb6b0"/>
          </a:solidFill>
          <a:ln w="28440">
            <a:solidFill>
              <a:srgbClr val="bdb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46"/>
          <p:cNvGrpSpPr/>
          <p:nvPr/>
        </p:nvGrpSpPr>
        <p:grpSpPr>
          <a:xfrm>
            <a:off x="4343400" y="4343400"/>
            <a:ext cx="304920" cy="609120"/>
            <a:chOff x="4343400" y="4343400"/>
            <a:chExt cx="304920" cy="609120"/>
          </a:xfrm>
        </p:grpSpPr>
        <p:sp>
          <p:nvSpPr>
            <p:cNvPr id="754" name="Oval 47"/>
            <p:cNvSpPr/>
            <p:nvPr/>
          </p:nvSpPr>
          <p:spPr>
            <a:xfrm>
              <a:off x="4373640" y="43434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8"/>
            <p:cNvSpPr/>
            <p:nvPr/>
          </p:nvSpPr>
          <p:spPr>
            <a:xfrm>
              <a:off x="4343400" y="45565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Line 49"/>
          <p:cNvSpPr/>
          <p:nvPr/>
        </p:nvSpPr>
        <p:spPr>
          <a:xfrm>
            <a:off x="4572000" y="1676520"/>
            <a:ext cx="1884240" cy="0"/>
          </a:xfrm>
          <a:prstGeom prst="line">
            <a:avLst/>
          </a:prstGeom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0"/>
          <p:cNvSpPr/>
          <p:nvPr/>
        </p:nvSpPr>
        <p:spPr>
          <a:xfrm>
            <a:off x="4724280" y="46483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ey Advi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CPA, attorney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1"/>
          <p:cNvSpPr/>
          <p:nvPr/>
        </p:nvSpPr>
        <p:spPr>
          <a:xfrm>
            <a:off x="4419720" y="53341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52"/>
          <p:cNvGrpSpPr/>
          <p:nvPr/>
        </p:nvGrpSpPr>
        <p:grpSpPr>
          <a:xfrm>
            <a:off x="3733920" y="5638680"/>
            <a:ext cx="304560" cy="609840"/>
            <a:chOff x="3733920" y="5638680"/>
            <a:chExt cx="304560" cy="609840"/>
          </a:xfrm>
        </p:grpSpPr>
        <p:sp>
          <p:nvSpPr>
            <p:cNvPr id="760" name="Oval 53"/>
            <p:cNvSpPr/>
            <p:nvPr/>
          </p:nvSpPr>
          <p:spPr>
            <a:xfrm>
              <a:off x="3764160" y="5638680"/>
              <a:ext cx="24372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4"/>
            <p:cNvSpPr/>
            <p:nvPr/>
          </p:nvSpPr>
          <p:spPr>
            <a:xfrm>
              <a:off x="3733920" y="5852160"/>
              <a:ext cx="304560" cy="39636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55"/>
          <p:cNvGrpSpPr/>
          <p:nvPr/>
        </p:nvGrpSpPr>
        <p:grpSpPr>
          <a:xfrm>
            <a:off x="4038480" y="5029200"/>
            <a:ext cx="304920" cy="609120"/>
            <a:chOff x="4038480" y="5029200"/>
            <a:chExt cx="304920" cy="609120"/>
          </a:xfrm>
        </p:grpSpPr>
        <p:sp>
          <p:nvSpPr>
            <p:cNvPr id="763" name="Oval 56"/>
            <p:cNvSpPr/>
            <p:nvPr/>
          </p:nvSpPr>
          <p:spPr>
            <a:xfrm>
              <a:off x="4068720" y="5029200"/>
              <a:ext cx="244080" cy="243720"/>
            </a:xfrm>
            <a:prstGeom prst="ellipse">
              <a:avLst/>
            </a:pr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7"/>
            <p:cNvSpPr/>
            <p:nvPr/>
          </p:nvSpPr>
          <p:spPr>
            <a:xfrm>
              <a:off x="4038480" y="5242320"/>
              <a:ext cx="304920" cy="396000"/>
            </a:xfrm>
            <a:custGeom>
              <a:avLst/>
              <a:gdLst/>
              <a:ahLst/>
              <a:rect l="l" t="t" r="r" b="b"/>
              <a:pathLst>
                <a:path w="240" h="312">
                  <a:moveTo>
                    <a:pt x="0" y="312"/>
                  </a:moveTo>
                  <a:lnTo>
                    <a:pt x="240" y="312"/>
                  </a:lnTo>
                  <a:cubicBezTo>
                    <a:pt x="240" y="312"/>
                    <a:pt x="240" y="216"/>
                    <a:pt x="240" y="120"/>
                  </a:cubicBezTo>
                  <a:cubicBezTo>
                    <a:pt x="236" y="0"/>
                    <a:pt x="7" y="0"/>
                    <a:pt x="0" y="120"/>
                  </a:cubicBezTo>
                  <a:cubicBezTo>
                    <a:pt x="0" y="216"/>
                    <a:pt x="0" y="312"/>
                    <a:pt x="0" y="312"/>
                  </a:cubicBezTo>
                  <a:close/>
                </a:path>
              </a:pathLst>
            </a:custGeom>
            <a:solidFill>
              <a:srgbClr val="e0d4bb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58"/>
          <p:cNvSpPr/>
          <p:nvPr/>
        </p:nvSpPr>
        <p:spPr>
          <a:xfrm>
            <a:off x="4114800" y="57913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mote Te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59"/>
          <p:cNvSpPr/>
          <p:nvPr/>
        </p:nvSpPr>
        <p:spPr>
          <a:xfrm>
            <a:off x="5410080" y="2522520"/>
            <a:ext cx="838440" cy="136368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0" y="672"/>
                </a:lnTo>
                <a:lnTo>
                  <a:pt x="720" y="672"/>
                </a:lnTo>
              </a:path>
            </a:pathLst>
          </a:custGeom>
          <a:noFill/>
          <a:ln w="28440">
            <a:solidFill>
              <a:srgbClr val="dc241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0"/>
          <p:cNvSpPr/>
          <p:nvPr/>
        </p:nvSpPr>
        <p:spPr>
          <a:xfrm>
            <a:off x="3657600" y="1335240"/>
            <a:ext cx="1828800" cy="1828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1"/>
          <p:cNvSpPr/>
          <p:nvPr/>
        </p:nvSpPr>
        <p:spPr>
          <a:xfrm>
            <a:off x="3836880" y="2021040"/>
            <a:ext cx="147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41f"/>
                </a:solidFill>
                <a:latin typeface="Arial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62"/>
          <p:cNvSpPr/>
          <p:nvPr/>
        </p:nvSpPr>
        <p:spPr>
          <a:xfrm>
            <a:off x="3657600" y="2057400"/>
            <a:ext cx="784080" cy="2235240"/>
          </a:xfrm>
          <a:custGeom>
            <a:avLst/>
            <a:gdLst/>
            <a:ahLst/>
            <a:rect l="l" t="t" r="r" b="b"/>
            <a:pathLst>
              <a:path w="494" h="1456">
                <a:moveTo>
                  <a:pt x="494" y="1456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63"/>
          <p:cNvSpPr/>
          <p:nvPr/>
        </p:nvSpPr>
        <p:spPr>
          <a:xfrm>
            <a:off x="3657600" y="2057400"/>
            <a:ext cx="523800" cy="2906640"/>
          </a:xfrm>
          <a:custGeom>
            <a:avLst/>
            <a:gdLst/>
            <a:ahLst/>
            <a:rect l="l" t="t" r="r" b="b"/>
            <a:pathLst>
              <a:path w="316" h="1856">
                <a:moveTo>
                  <a:pt x="316" y="1856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4"/>
          <p:cNvSpPr/>
          <p:nvPr/>
        </p:nvSpPr>
        <p:spPr>
          <a:xfrm>
            <a:off x="6477120" y="4952880"/>
            <a:ext cx="224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157320" indent="-1573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raining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lue-ad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7320" indent="-157320">
              <a:lnSpc>
                <a:spcPct val="90000"/>
              </a:lnSpc>
              <a:spcBef>
                <a:spcPts val="700"/>
              </a:spcBef>
              <a:buClr>
                <a:srgbClr val="dc241f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65"/>
          <p:cNvSpPr/>
          <p:nvPr/>
        </p:nvSpPr>
        <p:spPr>
          <a:xfrm>
            <a:off x="3668760" y="2017800"/>
            <a:ext cx="210960" cy="3570120"/>
          </a:xfrm>
          <a:custGeom>
            <a:avLst/>
            <a:gdLst/>
            <a:ahLst/>
            <a:rect l="l" t="t" r="r" b="b"/>
            <a:pathLst>
              <a:path w="133" h="2249">
                <a:moveTo>
                  <a:pt x="133" y="2249"/>
                </a:move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dc241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页脚占位符 2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505320" y="2286000"/>
            <a:ext cx="563868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0" y="23623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1828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5"/>
          <p:cNvSpPr/>
          <p:nvPr/>
        </p:nvSpPr>
        <p:spPr>
          <a:xfrm>
            <a:off x="3505320" y="2286000"/>
            <a:ext cx="5638680" cy="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6"/>
          <p:cNvGrpSpPr/>
          <p:nvPr/>
        </p:nvGrpSpPr>
        <p:grpSpPr>
          <a:xfrm>
            <a:off x="914400" y="1600200"/>
            <a:ext cx="2558880" cy="2927520"/>
            <a:chOff x="914400" y="1600200"/>
            <a:chExt cx="2558880" cy="2927520"/>
          </a:xfrm>
        </p:grpSpPr>
        <p:sp>
          <p:nvSpPr>
            <p:cNvPr id="778" name="Freeform 7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"/>
            <p:cNvSpPr/>
            <p:nvPr/>
          </p:nvSpPr>
          <p:spPr>
            <a:xfrm rot="21186000">
              <a:off x="1719000" y="2446200"/>
              <a:ext cx="1322280" cy="1505160"/>
            </a:xfrm>
            <a:custGeom>
              <a:avLst/>
              <a:gdLst/>
              <a:ahLst/>
              <a:rect l="l" t="t" r="r" b="b"/>
              <a:pathLst>
                <a:path w="861" h="981">
                  <a:moveTo>
                    <a:pt x="861" y="222"/>
                  </a:moveTo>
                  <a:lnTo>
                    <a:pt x="789" y="185"/>
                  </a:lnTo>
                  <a:lnTo>
                    <a:pt x="578" y="598"/>
                  </a:lnTo>
                  <a:lnTo>
                    <a:pt x="128" y="883"/>
                  </a:lnTo>
                  <a:lnTo>
                    <a:pt x="125" y="881"/>
                  </a:lnTo>
                  <a:lnTo>
                    <a:pt x="359" y="589"/>
                  </a:lnTo>
                  <a:lnTo>
                    <a:pt x="368" y="590"/>
                  </a:lnTo>
                  <a:lnTo>
                    <a:pt x="376" y="592"/>
                  </a:lnTo>
                  <a:lnTo>
                    <a:pt x="386" y="592"/>
                  </a:lnTo>
                  <a:lnTo>
                    <a:pt x="395" y="590"/>
                  </a:lnTo>
                  <a:lnTo>
                    <a:pt x="403" y="587"/>
                  </a:lnTo>
                  <a:lnTo>
                    <a:pt x="411" y="582"/>
                  </a:lnTo>
                  <a:lnTo>
                    <a:pt x="419" y="576"/>
                  </a:lnTo>
                  <a:lnTo>
                    <a:pt x="426" y="569"/>
                  </a:lnTo>
                  <a:lnTo>
                    <a:pt x="437" y="547"/>
                  </a:lnTo>
                  <a:lnTo>
                    <a:pt x="440" y="523"/>
                  </a:lnTo>
                  <a:lnTo>
                    <a:pt x="432" y="501"/>
                  </a:lnTo>
                  <a:lnTo>
                    <a:pt x="416" y="481"/>
                  </a:lnTo>
                  <a:lnTo>
                    <a:pt x="405" y="475"/>
                  </a:lnTo>
                  <a:lnTo>
                    <a:pt x="394" y="470"/>
                  </a:lnTo>
                  <a:lnTo>
                    <a:pt x="383" y="469"/>
                  </a:lnTo>
                  <a:lnTo>
                    <a:pt x="370" y="469"/>
                  </a:lnTo>
                  <a:lnTo>
                    <a:pt x="359" y="470"/>
                  </a:lnTo>
                  <a:lnTo>
                    <a:pt x="347" y="475"/>
                  </a:lnTo>
                  <a:lnTo>
                    <a:pt x="338" y="481"/>
                  </a:lnTo>
                  <a:lnTo>
                    <a:pt x="328" y="491"/>
                  </a:lnTo>
                  <a:lnTo>
                    <a:pt x="319" y="509"/>
                  </a:lnTo>
                  <a:lnTo>
                    <a:pt x="315" y="528"/>
                  </a:lnTo>
                  <a:lnTo>
                    <a:pt x="319" y="547"/>
                  </a:lnTo>
                  <a:lnTo>
                    <a:pt x="327" y="565"/>
                  </a:lnTo>
                  <a:lnTo>
                    <a:pt x="95" y="856"/>
                  </a:lnTo>
                  <a:lnTo>
                    <a:pt x="279" y="344"/>
                  </a:lnTo>
                  <a:lnTo>
                    <a:pt x="613" y="61"/>
                  </a:lnTo>
                  <a:lnTo>
                    <a:pt x="562" y="0"/>
                  </a:lnTo>
                  <a:lnTo>
                    <a:pt x="211" y="297"/>
                  </a:lnTo>
                  <a:lnTo>
                    <a:pt x="0" y="883"/>
                  </a:lnTo>
                  <a:lnTo>
                    <a:pt x="123" y="981"/>
                  </a:lnTo>
                  <a:lnTo>
                    <a:pt x="639" y="654"/>
                  </a:lnTo>
                  <a:lnTo>
                    <a:pt x="86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"/>
            <p:cNvSpPr/>
            <p:nvPr/>
          </p:nvSpPr>
          <p:spPr>
            <a:xfrm rot="21186000">
              <a:off x="2324160" y="1858680"/>
              <a:ext cx="1042920" cy="1023840"/>
            </a:xfrm>
            <a:custGeom>
              <a:avLst/>
              <a:gdLst/>
              <a:ahLst/>
              <a:rect l="l" t="t" r="r" b="b"/>
              <a:pathLst>
                <a:path w="679" h="667">
                  <a:moveTo>
                    <a:pt x="616" y="315"/>
                  </a:moveTo>
                  <a:lnTo>
                    <a:pt x="424" y="555"/>
                  </a:lnTo>
                  <a:lnTo>
                    <a:pt x="114" y="306"/>
                  </a:lnTo>
                  <a:lnTo>
                    <a:pt x="315" y="51"/>
                  </a:lnTo>
                  <a:lnTo>
                    <a:pt x="253" y="0"/>
                  </a:lnTo>
                  <a:lnTo>
                    <a:pt x="0" y="318"/>
                  </a:lnTo>
                  <a:lnTo>
                    <a:pt x="437" y="667"/>
                  </a:lnTo>
                  <a:lnTo>
                    <a:pt x="679" y="365"/>
                  </a:lnTo>
                  <a:lnTo>
                    <a:pt x="616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"/>
            <p:cNvSpPr/>
            <p:nvPr/>
          </p:nvSpPr>
          <p:spPr>
            <a:xfrm rot="21186000">
              <a:off x="2436840" y="1933560"/>
              <a:ext cx="942840" cy="836640"/>
            </a:xfrm>
            <a:custGeom>
              <a:avLst/>
              <a:gdLst/>
              <a:ahLst/>
              <a:rect l="l" t="t" r="r" b="b"/>
              <a:pathLst>
                <a:path w="780" h="692">
                  <a:moveTo>
                    <a:pt x="267" y="0"/>
                  </a:moveTo>
                  <a:lnTo>
                    <a:pt x="0" y="325"/>
                  </a:lnTo>
                  <a:lnTo>
                    <a:pt x="464" y="692"/>
                  </a:lnTo>
                  <a:lnTo>
                    <a:pt x="780" y="303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"/>
            <p:cNvSpPr/>
            <p:nvPr/>
          </p:nvSpPr>
          <p:spPr>
            <a:xfrm rot="21186000">
              <a:off x="1325160" y="2060640"/>
              <a:ext cx="409680" cy="1552680"/>
            </a:xfrm>
            <a:custGeom>
              <a:avLst/>
              <a:gdLst/>
              <a:ahLst/>
              <a:rect l="l" t="t" r="r" b="b"/>
              <a:pathLst>
                <a:path w="266" h="1011">
                  <a:moveTo>
                    <a:pt x="251" y="934"/>
                  </a:moveTo>
                  <a:lnTo>
                    <a:pt x="210" y="894"/>
                  </a:lnTo>
                  <a:lnTo>
                    <a:pt x="175" y="854"/>
                  </a:lnTo>
                  <a:lnTo>
                    <a:pt x="144" y="814"/>
                  </a:lnTo>
                  <a:lnTo>
                    <a:pt x="120" y="774"/>
                  </a:lnTo>
                  <a:lnTo>
                    <a:pt x="106" y="731"/>
                  </a:lnTo>
                  <a:lnTo>
                    <a:pt x="101" y="686"/>
                  </a:lnTo>
                  <a:lnTo>
                    <a:pt x="106" y="638"/>
                  </a:lnTo>
                  <a:lnTo>
                    <a:pt x="123" y="584"/>
                  </a:lnTo>
                  <a:lnTo>
                    <a:pt x="131" y="564"/>
                  </a:lnTo>
                  <a:lnTo>
                    <a:pt x="141" y="545"/>
                  </a:lnTo>
                  <a:lnTo>
                    <a:pt x="151" y="526"/>
                  </a:lnTo>
                  <a:lnTo>
                    <a:pt x="162" y="507"/>
                  </a:lnTo>
                  <a:lnTo>
                    <a:pt x="171" y="488"/>
                  </a:lnTo>
                  <a:lnTo>
                    <a:pt x="183" y="467"/>
                  </a:lnTo>
                  <a:lnTo>
                    <a:pt x="194" y="446"/>
                  </a:lnTo>
                  <a:lnTo>
                    <a:pt x="205" y="425"/>
                  </a:lnTo>
                  <a:lnTo>
                    <a:pt x="235" y="345"/>
                  </a:lnTo>
                  <a:lnTo>
                    <a:pt x="243" y="275"/>
                  </a:lnTo>
                  <a:lnTo>
                    <a:pt x="234" y="211"/>
                  </a:lnTo>
                  <a:lnTo>
                    <a:pt x="211" y="156"/>
                  </a:lnTo>
                  <a:lnTo>
                    <a:pt x="181" y="110"/>
                  </a:lnTo>
                  <a:lnTo>
                    <a:pt x="146" y="72"/>
                  </a:lnTo>
                  <a:lnTo>
                    <a:pt x="112" y="41"/>
                  </a:lnTo>
                  <a:lnTo>
                    <a:pt x="83" y="19"/>
                  </a:lnTo>
                  <a:lnTo>
                    <a:pt x="80" y="16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1" y="9"/>
                  </a:lnTo>
                  <a:lnTo>
                    <a:pt x="64" y="4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3" y="4"/>
                  </a:lnTo>
                  <a:lnTo>
                    <a:pt x="15" y="9"/>
                  </a:lnTo>
                  <a:lnTo>
                    <a:pt x="8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5" y="65"/>
                  </a:lnTo>
                  <a:lnTo>
                    <a:pt x="16" y="78"/>
                  </a:lnTo>
                  <a:lnTo>
                    <a:pt x="19" y="81"/>
                  </a:lnTo>
                  <a:lnTo>
                    <a:pt x="23" y="84"/>
                  </a:lnTo>
                  <a:lnTo>
                    <a:pt x="26" y="86"/>
                  </a:lnTo>
                  <a:lnTo>
                    <a:pt x="29" y="89"/>
                  </a:lnTo>
                  <a:lnTo>
                    <a:pt x="61" y="115"/>
                  </a:lnTo>
                  <a:lnTo>
                    <a:pt x="91" y="144"/>
                  </a:lnTo>
                  <a:lnTo>
                    <a:pt x="117" y="174"/>
                  </a:lnTo>
                  <a:lnTo>
                    <a:pt x="138" y="208"/>
                  </a:lnTo>
                  <a:lnTo>
                    <a:pt x="152" y="244"/>
                  </a:lnTo>
                  <a:lnTo>
                    <a:pt x="155" y="286"/>
                  </a:lnTo>
                  <a:lnTo>
                    <a:pt x="147" y="332"/>
                  </a:lnTo>
                  <a:lnTo>
                    <a:pt x="127" y="385"/>
                  </a:lnTo>
                  <a:lnTo>
                    <a:pt x="119" y="400"/>
                  </a:lnTo>
                  <a:lnTo>
                    <a:pt x="112" y="414"/>
                  </a:lnTo>
                  <a:lnTo>
                    <a:pt x="104" y="428"/>
                  </a:lnTo>
                  <a:lnTo>
                    <a:pt x="96" y="441"/>
                  </a:lnTo>
                  <a:lnTo>
                    <a:pt x="88" y="456"/>
                  </a:lnTo>
                  <a:lnTo>
                    <a:pt x="82" y="468"/>
                  </a:lnTo>
                  <a:lnTo>
                    <a:pt x="74" y="481"/>
                  </a:lnTo>
                  <a:lnTo>
                    <a:pt x="67" y="494"/>
                  </a:lnTo>
                  <a:lnTo>
                    <a:pt x="61" y="508"/>
                  </a:lnTo>
                  <a:lnTo>
                    <a:pt x="55" y="521"/>
                  </a:lnTo>
                  <a:lnTo>
                    <a:pt x="48" y="534"/>
                  </a:lnTo>
                  <a:lnTo>
                    <a:pt x="42" y="548"/>
                  </a:lnTo>
                  <a:lnTo>
                    <a:pt x="18" y="627"/>
                  </a:lnTo>
                  <a:lnTo>
                    <a:pt x="11" y="697"/>
                  </a:lnTo>
                  <a:lnTo>
                    <a:pt x="21" y="761"/>
                  </a:lnTo>
                  <a:lnTo>
                    <a:pt x="43" y="819"/>
                  </a:lnTo>
                  <a:lnTo>
                    <a:pt x="74" y="872"/>
                  </a:lnTo>
                  <a:lnTo>
                    <a:pt x="111" y="918"/>
                  </a:lnTo>
                  <a:lnTo>
                    <a:pt x="151" y="960"/>
                  </a:lnTo>
                  <a:lnTo>
                    <a:pt x="191" y="998"/>
                  </a:lnTo>
                  <a:lnTo>
                    <a:pt x="197" y="1004"/>
                  </a:lnTo>
                  <a:lnTo>
                    <a:pt x="205" y="1008"/>
                  </a:lnTo>
                  <a:lnTo>
                    <a:pt x="215" y="1009"/>
                  </a:lnTo>
                  <a:lnTo>
                    <a:pt x="223" y="1011"/>
                  </a:lnTo>
                  <a:lnTo>
                    <a:pt x="231" y="1009"/>
                  </a:lnTo>
                  <a:lnTo>
                    <a:pt x="239" y="1006"/>
                  </a:lnTo>
                  <a:lnTo>
                    <a:pt x="247" y="1003"/>
                  </a:lnTo>
                  <a:lnTo>
                    <a:pt x="253" y="996"/>
                  </a:lnTo>
                  <a:lnTo>
                    <a:pt x="263" y="982"/>
                  </a:lnTo>
                  <a:lnTo>
                    <a:pt x="266" y="964"/>
                  </a:lnTo>
                  <a:lnTo>
                    <a:pt x="263" y="948"/>
                  </a:lnTo>
                  <a:lnTo>
                    <a:pt x="251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2"/>
            <p:cNvSpPr/>
            <p:nvPr/>
          </p:nvSpPr>
          <p:spPr>
            <a:xfrm rot="19775400">
              <a:off x="1931760" y="3652920"/>
              <a:ext cx="1510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c241f"/>
                  </a:solidFill>
                  <a:latin typeface="Arial"/>
                  <a:ea typeface="宋体"/>
                </a:rPr>
                <a:t>exerc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3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71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Text Box 14"/>
          <p:cNvSpPr/>
          <p:nvPr/>
        </p:nvSpPr>
        <p:spPr>
          <a:xfrm>
            <a:off x="3809880" y="2514600"/>
            <a:ext cx="480060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want your business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 in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0" y="2286000"/>
            <a:ext cx="525780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1981080" y="2514600"/>
            <a:ext cx="3124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1840" indent="-231840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t’s take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o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0" y="2286000"/>
            <a:ext cx="5257800" cy="144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5"/>
          <p:cNvGrpSpPr/>
          <p:nvPr/>
        </p:nvGrpSpPr>
        <p:grpSpPr>
          <a:xfrm>
            <a:off x="5283360" y="1550880"/>
            <a:ext cx="2565360" cy="2987640"/>
            <a:chOff x="5283360" y="1550880"/>
            <a:chExt cx="2565360" cy="2987640"/>
          </a:xfrm>
        </p:grpSpPr>
        <p:sp>
          <p:nvSpPr>
            <p:cNvPr id="791" name="Freeform 6"/>
            <p:cNvSpPr/>
            <p:nvPr/>
          </p:nvSpPr>
          <p:spPr>
            <a:xfrm>
              <a:off x="5283360" y="1611360"/>
              <a:ext cx="2558880" cy="292716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171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"/>
            <p:cNvSpPr/>
            <p:nvPr/>
          </p:nvSpPr>
          <p:spPr>
            <a:xfrm rot="19735200">
              <a:off x="6030720" y="2259000"/>
              <a:ext cx="1344600" cy="1342800"/>
            </a:xfrm>
            <a:custGeom>
              <a:avLst/>
              <a:gdLst/>
              <a:ahLst/>
              <a:rect l="l" t="t" r="r" b="b"/>
              <a:pathLst>
                <a:path w="1694" h="1692">
                  <a:moveTo>
                    <a:pt x="1694" y="846"/>
                  </a:moveTo>
                  <a:lnTo>
                    <a:pt x="1692" y="762"/>
                  </a:lnTo>
                  <a:lnTo>
                    <a:pt x="1678" y="677"/>
                  </a:lnTo>
                  <a:lnTo>
                    <a:pt x="1658" y="595"/>
                  </a:lnTo>
                  <a:lnTo>
                    <a:pt x="1628" y="515"/>
                  </a:lnTo>
                  <a:lnTo>
                    <a:pt x="1590" y="442"/>
                  </a:lnTo>
                  <a:lnTo>
                    <a:pt x="1546" y="368"/>
                  </a:lnTo>
                  <a:lnTo>
                    <a:pt x="1495" y="302"/>
                  </a:lnTo>
                  <a:lnTo>
                    <a:pt x="1437" y="239"/>
                  </a:lnTo>
                  <a:lnTo>
                    <a:pt x="1373" y="183"/>
                  </a:lnTo>
                  <a:lnTo>
                    <a:pt x="1306" y="135"/>
                  </a:lnTo>
                  <a:lnTo>
                    <a:pt x="1230" y="91"/>
                  </a:lnTo>
                  <a:lnTo>
                    <a:pt x="1154" y="58"/>
                  </a:lnTo>
                  <a:lnTo>
                    <a:pt x="1075" y="32"/>
                  </a:lnTo>
                  <a:lnTo>
                    <a:pt x="991" y="14"/>
                  </a:lnTo>
                  <a:lnTo>
                    <a:pt x="908" y="2"/>
                  </a:lnTo>
                  <a:lnTo>
                    <a:pt x="822" y="0"/>
                  </a:lnTo>
                  <a:lnTo>
                    <a:pt x="738" y="8"/>
                  </a:lnTo>
                  <a:lnTo>
                    <a:pt x="655" y="24"/>
                  </a:lnTo>
                  <a:lnTo>
                    <a:pt x="573" y="44"/>
                  </a:lnTo>
                  <a:lnTo>
                    <a:pt x="494" y="77"/>
                  </a:lnTo>
                  <a:lnTo>
                    <a:pt x="420" y="115"/>
                  </a:lnTo>
                  <a:lnTo>
                    <a:pt x="348" y="163"/>
                  </a:lnTo>
                  <a:lnTo>
                    <a:pt x="283" y="217"/>
                  </a:lnTo>
                  <a:lnTo>
                    <a:pt x="221" y="275"/>
                  </a:lnTo>
                  <a:lnTo>
                    <a:pt x="167" y="340"/>
                  </a:lnTo>
                  <a:lnTo>
                    <a:pt x="119" y="410"/>
                  </a:lnTo>
                  <a:lnTo>
                    <a:pt x="80" y="486"/>
                  </a:lnTo>
                  <a:lnTo>
                    <a:pt x="48" y="563"/>
                  </a:lnTo>
                  <a:lnTo>
                    <a:pt x="24" y="645"/>
                  </a:lnTo>
                  <a:lnTo>
                    <a:pt x="8" y="727"/>
                  </a:lnTo>
                  <a:lnTo>
                    <a:pt x="0" y="812"/>
                  </a:lnTo>
                  <a:lnTo>
                    <a:pt x="0" y="896"/>
                  </a:lnTo>
                  <a:lnTo>
                    <a:pt x="12" y="981"/>
                  </a:lnTo>
                  <a:lnTo>
                    <a:pt x="28" y="1063"/>
                  </a:lnTo>
                  <a:lnTo>
                    <a:pt x="54" y="1145"/>
                  </a:lnTo>
                  <a:lnTo>
                    <a:pt x="88" y="1222"/>
                  </a:lnTo>
                  <a:lnTo>
                    <a:pt x="131" y="1296"/>
                  </a:lnTo>
                  <a:lnTo>
                    <a:pt x="179" y="1364"/>
                  </a:lnTo>
                  <a:lnTo>
                    <a:pt x="233" y="1428"/>
                  </a:lnTo>
                  <a:lnTo>
                    <a:pt x="295" y="1485"/>
                  </a:lnTo>
                  <a:lnTo>
                    <a:pt x="360" y="1539"/>
                  </a:lnTo>
                  <a:lnTo>
                    <a:pt x="432" y="1585"/>
                  </a:lnTo>
                  <a:lnTo>
                    <a:pt x="509" y="1621"/>
                  </a:lnTo>
                  <a:lnTo>
                    <a:pt x="589" y="1651"/>
                  </a:lnTo>
                  <a:lnTo>
                    <a:pt x="671" y="1674"/>
                  </a:lnTo>
                  <a:lnTo>
                    <a:pt x="752" y="1686"/>
                  </a:lnTo>
                  <a:lnTo>
                    <a:pt x="838" y="1692"/>
                  </a:lnTo>
                  <a:lnTo>
                    <a:pt x="923" y="1686"/>
                  </a:lnTo>
                  <a:lnTo>
                    <a:pt x="1007" y="1676"/>
                  </a:lnTo>
                  <a:lnTo>
                    <a:pt x="1091" y="1657"/>
                  </a:lnTo>
                  <a:lnTo>
                    <a:pt x="1168" y="1629"/>
                  </a:lnTo>
                  <a:lnTo>
                    <a:pt x="1246" y="1593"/>
                  </a:lnTo>
                  <a:lnTo>
                    <a:pt x="1318" y="1549"/>
                  </a:lnTo>
                  <a:lnTo>
                    <a:pt x="1387" y="1499"/>
                  </a:lnTo>
                  <a:lnTo>
                    <a:pt x="1451" y="1441"/>
                  </a:lnTo>
                  <a:lnTo>
                    <a:pt x="1507" y="1378"/>
                  </a:lnTo>
                  <a:lnTo>
                    <a:pt x="1556" y="1308"/>
                  </a:lnTo>
                  <a:lnTo>
                    <a:pt x="1598" y="1238"/>
                  </a:lnTo>
                  <a:lnTo>
                    <a:pt x="1634" y="1161"/>
                  </a:lnTo>
                  <a:lnTo>
                    <a:pt x="1662" y="1079"/>
                  </a:lnTo>
                  <a:lnTo>
                    <a:pt x="1682" y="997"/>
                  </a:lnTo>
                  <a:lnTo>
                    <a:pt x="1692" y="916"/>
                  </a:lnTo>
                  <a:lnTo>
                    <a:pt x="1694" y="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 rot="19735200">
              <a:off x="6351840" y="2545920"/>
              <a:ext cx="869760" cy="831960"/>
            </a:xfrm>
            <a:custGeom>
              <a:avLst/>
              <a:gdLst/>
              <a:ahLst/>
              <a:rect l="l" t="t" r="r" b="b"/>
              <a:pathLst>
                <a:path w="1097" h="1047">
                  <a:moveTo>
                    <a:pt x="0" y="814"/>
                  </a:moveTo>
                  <a:lnTo>
                    <a:pt x="62" y="854"/>
                  </a:lnTo>
                  <a:lnTo>
                    <a:pt x="126" y="888"/>
                  </a:lnTo>
                  <a:lnTo>
                    <a:pt x="191" y="916"/>
                  </a:lnTo>
                  <a:lnTo>
                    <a:pt x="259" y="936"/>
                  </a:lnTo>
                  <a:lnTo>
                    <a:pt x="333" y="944"/>
                  </a:lnTo>
                  <a:lnTo>
                    <a:pt x="402" y="946"/>
                  </a:lnTo>
                  <a:lnTo>
                    <a:pt x="474" y="942"/>
                  </a:lnTo>
                  <a:lnTo>
                    <a:pt x="546" y="926"/>
                  </a:lnTo>
                  <a:lnTo>
                    <a:pt x="615" y="902"/>
                  </a:lnTo>
                  <a:lnTo>
                    <a:pt x="679" y="872"/>
                  </a:lnTo>
                  <a:lnTo>
                    <a:pt x="739" y="832"/>
                  </a:lnTo>
                  <a:lnTo>
                    <a:pt x="798" y="789"/>
                  </a:lnTo>
                  <a:lnTo>
                    <a:pt x="848" y="739"/>
                  </a:lnTo>
                  <a:lnTo>
                    <a:pt x="890" y="679"/>
                  </a:lnTo>
                  <a:lnTo>
                    <a:pt x="928" y="619"/>
                  </a:lnTo>
                  <a:lnTo>
                    <a:pt x="958" y="554"/>
                  </a:lnTo>
                  <a:lnTo>
                    <a:pt x="981" y="484"/>
                  </a:lnTo>
                  <a:lnTo>
                    <a:pt x="993" y="412"/>
                  </a:lnTo>
                  <a:lnTo>
                    <a:pt x="999" y="340"/>
                  </a:lnTo>
                  <a:lnTo>
                    <a:pt x="993" y="269"/>
                  </a:lnTo>
                  <a:lnTo>
                    <a:pt x="983" y="199"/>
                  </a:lnTo>
                  <a:lnTo>
                    <a:pt x="962" y="129"/>
                  </a:lnTo>
                  <a:lnTo>
                    <a:pt x="936" y="64"/>
                  </a:lnTo>
                  <a:lnTo>
                    <a:pt x="900" y="0"/>
                  </a:lnTo>
                  <a:lnTo>
                    <a:pt x="952" y="42"/>
                  </a:lnTo>
                  <a:lnTo>
                    <a:pt x="993" y="100"/>
                  </a:lnTo>
                  <a:lnTo>
                    <a:pt x="1031" y="163"/>
                  </a:lnTo>
                  <a:lnTo>
                    <a:pt x="1057" y="231"/>
                  </a:lnTo>
                  <a:lnTo>
                    <a:pt x="1079" y="299"/>
                  </a:lnTo>
                  <a:lnTo>
                    <a:pt x="1089" y="370"/>
                  </a:lnTo>
                  <a:lnTo>
                    <a:pt x="1097" y="442"/>
                  </a:lnTo>
                  <a:lnTo>
                    <a:pt x="1093" y="514"/>
                  </a:lnTo>
                  <a:lnTo>
                    <a:pt x="1079" y="583"/>
                  </a:lnTo>
                  <a:lnTo>
                    <a:pt x="1055" y="653"/>
                  </a:lnTo>
                  <a:lnTo>
                    <a:pt x="1027" y="719"/>
                  </a:lnTo>
                  <a:lnTo>
                    <a:pt x="989" y="781"/>
                  </a:lnTo>
                  <a:lnTo>
                    <a:pt x="946" y="838"/>
                  </a:lnTo>
                  <a:lnTo>
                    <a:pt x="896" y="888"/>
                  </a:lnTo>
                  <a:lnTo>
                    <a:pt x="838" y="934"/>
                  </a:lnTo>
                  <a:lnTo>
                    <a:pt x="776" y="974"/>
                  </a:lnTo>
                  <a:lnTo>
                    <a:pt x="713" y="1002"/>
                  </a:lnTo>
                  <a:lnTo>
                    <a:pt x="645" y="1025"/>
                  </a:lnTo>
                  <a:lnTo>
                    <a:pt x="573" y="1041"/>
                  </a:lnTo>
                  <a:lnTo>
                    <a:pt x="502" y="1047"/>
                  </a:lnTo>
                  <a:lnTo>
                    <a:pt x="430" y="1047"/>
                  </a:lnTo>
                  <a:lnTo>
                    <a:pt x="358" y="1039"/>
                  </a:lnTo>
                  <a:lnTo>
                    <a:pt x="289" y="1018"/>
                  </a:lnTo>
                  <a:lnTo>
                    <a:pt x="223" y="992"/>
                  </a:lnTo>
                  <a:lnTo>
                    <a:pt x="159" y="958"/>
                  </a:lnTo>
                  <a:lnTo>
                    <a:pt x="98" y="918"/>
                  </a:lnTo>
                  <a:lnTo>
                    <a:pt x="44" y="870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bdb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9"/>
            <p:cNvSpPr/>
            <p:nvPr/>
          </p:nvSpPr>
          <p:spPr>
            <a:xfrm>
              <a:off x="5567400" y="1550880"/>
              <a:ext cx="1343160" cy="1246320"/>
            </a:xfrm>
            <a:custGeom>
              <a:avLst/>
              <a:gdLst/>
              <a:ahLst/>
              <a:rect l="l" t="t" r="r" b="b"/>
              <a:pathLst>
                <a:path w="846" h="785">
                  <a:moveTo>
                    <a:pt x="133" y="364"/>
                  </a:moveTo>
                  <a:lnTo>
                    <a:pt x="326" y="673"/>
                  </a:lnTo>
                  <a:lnTo>
                    <a:pt x="270" y="785"/>
                  </a:lnTo>
                  <a:lnTo>
                    <a:pt x="0" y="339"/>
                  </a:lnTo>
                  <a:lnTo>
                    <a:pt x="582" y="0"/>
                  </a:lnTo>
                  <a:lnTo>
                    <a:pt x="846" y="438"/>
                  </a:lnTo>
                  <a:lnTo>
                    <a:pt x="723" y="434"/>
                  </a:lnTo>
                  <a:lnTo>
                    <a:pt x="533" y="115"/>
                  </a:lnTo>
                  <a:lnTo>
                    <a:pt x="133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"/>
            <p:cNvSpPr/>
            <p:nvPr/>
          </p:nvSpPr>
          <p:spPr>
            <a:xfrm rot="19860000">
              <a:off x="5784840" y="2058480"/>
              <a:ext cx="870120" cy="174600"/>
            </a:xfrm>
            <a:custGeom>
              <a:avLst/>
              <a:gdLst/>
              <a:ahLst/>
              <a:rect l="l" t="t" r="r" b="b"/>
              <a:pathLst>
                <a:path w="1096" h="219">
                  <a:moveTo>
                    <a:pt x="0" y="219"/>
                  </a:moveTo>
                  <a:lnTo>
                    <a:pt x="0" y="0"/>
                  </a:lnTo>
                  <a:lnTo>
                    <a:pt x="1096" y="0"/>
                  </a:lnTo>
                  <a:lnTo>
                    <a:pt x="1096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1"/>
            <p:cNvSpPr/>
            <p:nvPr/>
          </p:nvSpPr>
          <p:spPr>
            <a:xfrm rot="19735200">
              <a:off x="5994360" y="2355840"/>
              <a:ext cx="799920" cy="1520640"/>
            </a:xfrm>
            <a:custGeom>
              <a:avLst/>
              <a:gdLst/>
              <a:ahLst/>
              <a:rect l="l" t="t" r="r" b="b"/>
              <a:pathLst>
                <a:path w="1010" h="1916">
                  <a:moveTo>
                    <a:pt x="1010" y="223"/>
                  </a:moveTo>
                  <a:lnTo>
                    <a:pt x="930" y="219"/>
                  </a:lnTo>
                  <a:lnTo>
                    <a:pt x="852" y="227"/>
                  </a:lnTo>
                  <a:lnTo>
                    <a:pt x="775" y="243"/>
                  </a:lnTo>
                  <a:lnTo>
                    <a:pt x="701" y="267"/>
                  </a:lnTo>
                  <a:lnTo>
                    <a:pt x="625" y="299"/>
                  </a:lnTo>
                  <a:lnTo>
                    <a:pt x="560" y="339"/>
                  </a:lnTo>
                  <a:lnTo>
                    <a:pt x="494" y="387"/>
                  </a:lnTo>
                  <a:lnTo>
                    <a:pt x="434" y="440"/>
                  </a:lnTo>
                  <a:lnTo>
                    <a:pt x="383" y="498"/>
                  </a:lnTo>
                  <a:lnTo>
                    <a:pt x="337" y="562"/>
                  </a:lnTo>
                  <a:lnTo>
                    <a:pt x="297" y="629"/>
                  </a:lnTo>
                  <a:lnTo>
                    <a:pt x="269" y="703"/>
                  </a:lnTo>
                  <a:lnTo>
                    <a:pt x="245" y="779"/>
                  </a:lnTo>
                  <a:lnTo>
                    <a:pt x="229" y="855"/>
                  </a:lnTo>
                  <a:lnTo>
                    <a:pt x="219" y="934"/>
                  </a:lnTo>
                  <a:lnTo>
                    <a:pt x="223" y="1014"/>
                  </a:lnTo>
                  <a:lnTo>
                    <a:pt x="233" y="1093"/>
                  </a:lnTo>
                  <a:lnTo>
                    <a:pt x="253" y="1169"/>
                  </a:lnTo>
                  <a:lnTo>
                    <a:pt x="279" y="1243"/>
                  </a:lnTo>
                  <a:lnTo>
                    <a:pt x="313" y="1314"/>
                  </a:lnTo>
                  <a:lnTo>
                    <a:pt x="357" y="1382"/>
                  </a:lnTo>
                  <a:lnTo>
                    <a:pt x="403" y="1442"/>
                  </a:lnTo>
                  <a:lnTo>
                    <a:pt x="460" y="1500"/>
                  </a:lnTo>
                  <a:lnTo>
                    <a:pt x="520" y="1551"/>
                  </a:lnTo>
                  <a:lnTo>
                    <a:pt x="586" y="1593"/>
                  </a:lnTo>
                  <a:lnTo>
                    <a:pt x="657" y="1629"/>
                  </a:lnTo>
                  <a:lnTo>
                    <a:pt x="729" y="1659"/>
                  </a:lnTo>
                  <a:lnTo>
                    <a:pt x="807" y="1681"/>
                  </a:lnTo>
                  <a:lnTo>
                    <a:pt x="886" y="1691"/>
                  </a:lnTo>
                  <a:lnTo>
                    <a:pt x="966" y="1697"/>
                  </a:lnTo>
                  <a:lnTo>
                    <a:pt x="1010" y="1693"/>
                  </a:lnTo>
                  <a:lnTo>
                    <a:pt x="1010" y="1914"/>
                  </a:lnTo>
                  <a:lnTo>
                    <a:pt x="960" y="1916"/>
                  </a:lnTo>
                  <a:lnTo>
                    <a:pt x="870" y="1910"/>
                  </a:lnTo>
                  <a:lnTo>
                    <a:pt x="783" y="1900"/>
                  </a:lnTo>
                  <a:lnTo>
                    <a:pt x="695" y="1878"/>
                  </a:lnTo>
                  <a:lnTo>
                    <a:pt x="608" y="1850"/>
                  </a:lnTo>
                  <a:lnTo>
                    <a:pt x="524" y="1812"/>
                  </a:lnTo>
                  <a:lnTo>
                    <a:pt x="448" y="1769"/>
                  </a:lnTo>
                  <a:lnTo>
                    <a:pt x="375" y="1717"/>
                  </a:lnTo>
                  <a:lnTo>
                    <a:pt x="305" y="1659"/>
                  </a:lnTo>
                  <a:lnTo>
                    <a:pt x="241" y="1593"/>
                  </a:lnTo>
                  <a:lnTo>
                    <a:pt x="186" y="1524"/>
                  </a:lnTo>
                  <a:lnTo>
                    <a:pt x="136" y="1448"/>
                  </a:lnTo>
                  <a:lnTo>
                    <a:pt x="94" y="1368"/>
                  </a:lnTo>
                  <a:lnTo>
                    <a:pt x="58" y="1287"/>
                  </a:lnTo>
                  <a:lnTo>
                    <a:pt x="30" y="1201"/>
                  </a:lnTo>
                  <a:lnTo>
                    <a:pt x="10" y="1111"/>
                  </a:lnTo>
                  <a:lnTo>
                    <a:pt x="0" y="1024"/>
                  </a:lnTo>
                  <a:lnTo>
                    <a:pt x="0" y="934"/>
                  </a:lnTo>
                  <a:lnTo>
                    <a:pt x="4" y="845"/>
                  </a:lnTo>
                  <a:lnTo>
                    <a:pt x="22" y="755"/>
                  </a:lnTo>
                  <a:lnTo>
                    <a:pt x="44" y="667"/>
                  </a:lnTo>
                  <a:lnTo>
                    <a:pt x="74" y="582"/>
                  </a:lnTo>
                  <a:lnTo>
                    <a:pt x="114" y="504"/>
                  </a:lnTo>
                  <a:lnTo>
                    <a:pt x="162" y="424"/>
                  </a:lnTo>
                  <a:lnTo>
                    <a:pt x="215" y="353"/>
                  </a:lnTo>
                  <a:lnTo>
                    <a:pt x="275" y="287"/>
                  </a:lnTo>
                  <a:lnTo>
                    <a:pt x="343" y="225"/>
                  </a:lnTo>
                  <a:lnTo>
                    <a:pt x="414" y="170"/>
                  </a:lnTo>
                  <a:lnTo>
                    <a:pt x="490" y="122"/>
                  </a:lnTo>
                  <a:lnTo>
                    <a:pt x="570" y="84"/>
                  </a:lnTo>
                  <a:lnTo>
                    <a:pt x="655" y="50"/>
                  </a:lnTo>
                  <a:lnTo>
                    <a:pt x="743" y="24"/>
                  </a:lnTo>
                  <a:lnTo>
                    <a:pt x="830" y="8"/>
                  </a:lnTo>
                  <a:lnTo>
                    <a:pt x="920" y="0"/>
                  </a:lnTo>
                  <a:lnTo>
                    <a:pt x="1010" y="0"/>
                  </a:lnTo>
                  <a:lnTo>
                    <a:pt x="101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 rot="19735200">
              <a:off x="6613200" y="1980720"/>
              <a:ext cx="801720" cy="1521000"/>
            </a:xfrm>
            <a:custGeom>
              <a:avLst/>
              <a:gdLst/>
              <a:ahLst/>
              <a:rect l="l" t="t" r="r" b="b"/>
              <a:pathLst>
                <a:path w="1011" h="1916">
                  <a:moveTo>
                    <a:pt x="0" y="221"/>
                  </a:moveTo>
                  <a:lnTo>
                    <a:pt x="80" y="219"/>
                  </a:lnTo>
                  <a:lnTo>
                    <a:pt x="159" y="227"/>
                  </a:lnTo>
                  <a:lnTo>
                    <a:pt x="237" y="243"/>
                  </a:lnTo>
                  <a:lnTo>
                    <a:pt x="311" y="267"/>
                  </a:lnTo>
                  <a:lnTo>
                    <a:pt x="384" y="299"/>
                  </a:lnTo>
                  <a:lnTo>
                    <a:pt x="450" y="339"/>
                  </a:lnTo>
                  <a:lnTo>
                    <a:pt x="518" y="387"/>
                  </a:lnTo>
                  <a:lnTo>
                    <a:pt x="575" y="438"/>
                  </a:lnTo>
                  <a:lnTo>
                    <a:pt x="629" y="498"/>
                  </a:lnTo>
                  <a:lnTo>
                    <a:pt x="673" y="560"/>
                  </a:lnTo>
                  <a:lnTo>
                    <a:pt x="713" y="629"/>
                  </a:lnTo>
                  <a:lnTo>
                    <a:pt x="742" y="703"/>
                  </a:lnTo>
                  <a:lnTo>
                    <a:pt x="766" y="777"/>
                  </a:lnTo>
                  <a:lnTo>
                    <a:pt x="782" y="855"/>
                  </a:lnTo>
                  <a:lnTo>
                    <a:pt x="790" y="934"/>
                  </a:lnTo>
                  <a:lnTo>
                    <a:pt x="788" y="1014"/>
                  </a:lnTo>
                  <a:lnTo>
                    <a:pt x="776" y="1091"/>
                  </a:lnTo>
                  <a:lnTo>
                    <a:pt x="758" y="1169"/>
                  </a:lnTo>
                  <a:lnTo>
                    <a:pt x="733" y="1243"/>
                  </a:lnTo>
                  <a:lnTo>
                    <a:pt x="697" y="1315"/>
                  </a:lnTo>
                  <a:lnTo>
                    <a:pt x="655" y="1380"/>
                  </a:lnTo>
                  <a:lnTo>
                    <a:pt x="607" y="1442"/>
                  </a:lnTo>
                  <a:lnTo>
                    <a:pt x="551" y="1500"/>
                  </a:lnTo>
                  <a:lnTo>
                    <a:pt x="490" y="1549"/>
                  </a:lnTo>
                  <a:lnTo>
                    <a:pt x="424" y="1593"/>
                  </a:lnTo>
                  <a:lnTo>
                    <a:pt x="352" y="1629"/>
                  </a:lnTo>
                  <a:lnTo>
                    <a:pt x="281" y="1659"/>
                  </a:lnTo>
                  <a:lnTo>
                    <a:pt x="205" y="1679"/>
                  </a:lnTo>
                  <a:lnTo>
                    <a:pt x="125" y="1691"/>
                  </a:lnTo>
                  <a:lnTo>
                    <a:pt x="46" y="1695"/>
                  </a:lnTo>
                  <a:lnTo>
                    <a:pt x="0" y="1693"/>
                  </a:lnTo>
                  <a:lnTo>
                    <a:pt x="0" y="1912"/>
                  </a:lnTo>
                  <a:lnTo>
                    <a:pt x="50" y="1916"/>
                  </a:lnTo>
                  <a:lnTo>
                    <a:pt x="141" y="1910"/>
                  </a:lnTo>
                  <a:lnTo>
                    <a:pt x="229" y="1900"/>
                  </a:lnTo>
                  <a:lnTo>
                    <a:pt x="317" y="1878"/>
                  </a:lnTo>
                  <a:lnTo>
                    <a:pt x="404" y="1848"/>
                  </a:lnTo>
                  <a:lnTo>
                    <a:pt x="486" y="1812"/>
                  </a:lnTo>
                  <a:lnTo>
                    <a:pt x="561" y="1767"/>
                  </a:lnTo>
                  <a:lnTo>
                    <a:pt x="637" y="1717"/>
                  </a:lnTo>
                  <a:lnTo>
                    <a:pt x="705" y="1659"/>
                  </a:lnTo>
                  <a:lnTo>
                    <a:pt x="768" y="1593"/>
                  </a:lnTo>
                  <a:lnTo>
                    <a:pt x="824" y="1524"/>
                  </a:lnTo>
                  <a:lnTo>
                    <a:pt x="874" y="1446"/>
                  </a:lnTo>
                  <a:lnTo>
                    <a:pt x="918" y="1368"/>
                  </a:lnTo>
                  <a:lnTo>
                    <a:pt x="951" y="1285"/>
                  </a:lnTo>
                  <a:lnTo>
                    <a:pt x="981" y="1201"/>
                  </a:lnTo>
                  <a:lnTo>
                    <a:pt x="999" y="1111"/>
                  </a:lnTo>
                  <a:lnTo>
                    <a:pt x="1011" y="1024"/>
                  </a:lnTo>
                  <a:lnTo>
                    <a:pt x="1011" y="934"/>
                  </a:lnTo>
                  <a:lnTo>
                    <a:pt x="1005" y="843"/>
                  </a:lnTo>
                  <a:lnTo>
                    <a:pt x="989" y="755"/>
                  </a:lnTo>
                  <a:lnTo>
                    <a:pt x="965" y="665"/>
                  </a:lnTo>
                  <a:lnTo>
                    <a:pt x="936" y="582"/>
                  </a:lnTo>
                  <a:lnTo>
                    <a:pt x="896" y="502"/>
                  </a:lnTo>
                  <a:lnTo>
                    <a:pt x="848" y="422"/>
                  </a:lnTo>
                  <a:lnTo>
                    <a:pt x="796" y="353"/>
                  </a:lnTo>
                  <a:lnTo>
                    <a:pt x="735" y="285"/>
                  </a:lnTo>
                  <a:lnTo>
                    <a:pt x="669" y="225"/>
                  </a:lnTo>
                  <a:lnTo>
                    <a:pt x="597" y="170"/>
                  </a:lnTo>
                  <a:lnTo>
                    <a:pt x="520" y="122"/>
                  </a:lnTo>
                  <a:lnTo>
                    <a:pt x="440" y="82"/>
                  </a:lnTo>
                  <a:lnTo>
                    <a:pt x="356" y="50"/>
                  </a:lnTo>
                  <a:lnTo>
                    <a:pt x="269" y="24"/>
                  </a:lnTo>
                  <a:lnTo>
                    <a:pt x="179" y="8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"/>
            <p:cNvSpPr/>
            <p:nvPr/>
          </p:nvSpPr>
          <p:spPr>
            <a:xfrm>
              <a:off x="6497640" y="3081240"/>
              <a:ext cx="1351080" cy="1309680"/>
            </a:xfrm>
            <a:custGeom>
              <a:avLst/>
              <a:gdLst/>
              <a:ahLst/>
              <a:rect l="l" t="t" r="r" b="b"/>
              <a:pathLst>
                <a:path w="851" h="825">
                  <a:moveTo>
                    <a:pt x="335" y="697"/>
                  </a:moveTo>
                  <a:lnTo>
                    <a:pt x="126" y="350"/>
                  </a:lnTo>
                  <a:lnTo>
                    <a:pt x="0" y="347"/>
                  </a:lnTo>
                  <a:lnTo>
                    <a:pt x="287" y="825"/>
                  </a:lnTo>
                  <a:lnTo>
                    <a:pt x="851" y="461"/>
                  </a:lnTo>
                  <a:lnTo>
                    <a:pt x="577" y="0"/>
                  </a:lnTo>
                  <a:lnTo>
                    <a:pt x="522" y="111"/>
                  </a:lnTo>
                  <a:lnTo>
                    <a:pt x="736" y="467"/>
                  </a:lnTo>
                  <a:lnTo>
                    <a:pt x="335" y="6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4"/>
            <p:cNvSpPr/>
            <p:nvPr/>
          </p:nvSpPr>
          <p:spPr>
            <a:xfrm rot="19796400">
              <a:off x="6783120" y="3703320"/>
              <a:ext cx="870120" cy="176040"/>
            </a:xfrm>
            <a:custGeom>
              <a:avLst/>
              <a:gdLst/>
              <a:ahLst/>
              <a:rect l="l" t="t" r="r" b="b"/>
              <a:pathLst>
                <a:path w="1096" h="221">
                  <a:moveTo>
                    <a:pt x="0" y="0"/>
                  </a:moveTo>
                  <a:lnTo>
                    <a:pt x="0" y="221"/>
                  </a:lnTo>
                  <a:lnTo>
                    <a:pt x="1096" y="221"/>
                  </a:lnTo>
                  <a:lnTo>
                    <a:pt x="10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"/>
            <p:cNvSpPr/>
            <p:nvPr/>
          </p:nvSpPr>
          <p:spPr>
            <a:xfrm rot="19735200">
              <a:off x="5964120" y="3185640"/>
              <a:ext cx="174600" cy="272880"/>
            </a:xfrm>
            <a:custGeom>
              <a:avLst/>
              <a:gdLst/>
              <a:ahLst/>
              <a:rect l="l" t="t" r="r" b="b"/>
              <a:pathLst>
                <a:path w="221" h="342">
                  <a:moveTo>
                    <a:pt x="0" y="342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6"/>
            <p:cNvSpPr/>
            <p:nvPr/>
          </p:nvSpPr>
          <p:spPr>
            <a:xfrm rot="19735200">
              <a:off x="6265800" y="2607840"/>
              <a:ext cx="657000" cy="409680"/>
            </a:xfrm>
            <a:custGeom>
              <a:avLst/>
              <a:gdLst/>
              <a:ahLst/>
              <a:rect l="l" t="t" r="r" b="b"/>
              <a:pathLst>
                <a:path w="828" h="516">
                  <a:moveTo>
                    <a:pt x="828" y="88"/>
                  </a:moveTo>
                  <a:lnTo>
                    <a:pt x="482" y="366"/>
                  </a:lnTo>
                  <a:lnTo>
                    <a:pt x="0" y="0"/>
                  </a:lnTo>
                  <a:lnTo>
                    <a:pt x="432" y="516"/>
                  </a:lnTo>
                  <a:lnTo>
                    <a:pt x="482" y="516"/>
                  </a:lnTo>
                  <a:lnTo>
                    <a:pt x="529" y="454"/>
                  </a:lnTo>
                  <a:lnTo>
                    <a:pt x="82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7"/>
            <p:cNvSpPr/>
            <p:nvPr/>
          </p:nvSpPr>
          <p:spPr>
            <a:xfrm rot="1743000">
              <a:off x="5428440" y="3584520"/>
              <a:ext cx="11545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c241f"/>
                  </a:solidFill>
                  <a:latin typeface="Arial"/>
                  <a:ea typeface="宋体"/>
                </a:rPr>
                <a:t>pau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页脚占位符 2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3505320" y="2286000"/>
            <a:ext cx="5638680" cy="220968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4572000" y="2362320"/>
            <a:ext cx="380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1828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"/>
          <p:cNvSpPr/>
          <p:nvPr/>
        </p:nvSpPr>
        <p:spPr>
          <a:xfrm>
            <a:off x="3505320" y="2286000"/>
            <a:ext cx="5638680" cy="0"/>
          </a:xfrm>
          <a:prstGeom prst="line">
            <a:avLst/>
          </a:prstGeom>
          <a:ln w="3816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3"/>
          <p:cNvSpPr/>
          <p:nvPr/>
        </p:nvSpPr>
        <p:spPr>
          <a:xfrm>
            <a:off x="3809880" y="2514600"/>
            <a:ext cx="439596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at do you look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a restaur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19"/>
          <p:cNvGrpSpPr/>
          <p:nvPr/>
        </p:nvGrpSpPr>
        <p:grpSpPr>
          <a:xfrm>
            <a:off x="914400" y="1600200"/>
            <a:ext cx="2558880" cy="2931480"/>
            <a:chOff x="914400" y="1600200"/>
            <a:chExt cx="2558880" cy="2931480"/>
          </a:xfrm>
        </p:grpSpPr>
        <p:sp>
          <p:nvSpPr>
            <p:cNvPr id="809" name="Freeform 6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1"/>
            <p:cNvSpPr/>
            <p:nvPr/>
          </p:nvSpPr>
          <p:spPr>
            <a:xfrm rot="19775400">
              <a:off x="1927080" y="3732120"/>
              <a:ext cx="153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dc241f"/>
                  </a:solidFill>
                  <a:latin typeface="Arial"/>
                  <a:ea typeface="宋体"/>
                </a:rPr>
                <a:t>interactio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2"/>
            <p:cNvSpPr/>
            <p:nvPr/>
          </p:nvSpPr>
          <p:spPr>
            <a:xfrm>
              <a:off x="914400" y="1600200"/>
              <a:ext cx="2558880" cy="2927520"/>
            </a:xfrm>
            <a:custGeom>
              <a:avLst/>
              <a:gdLst/>
              <a:ahLst/>
              <a:rect l="l" t="t" r="r" b="b"/>
              <a:pathLst>
                <a:path w="1344" h="1536">
                  <a:moveTo>
                    <a:pt x="0" y="384"/>
                  </a:moveTo>
                  <a:lnTo>
                    <a:pt x="672" y="0"/>
                  </a:lnTo>
                  <a:lnTo>
                    <a:pt x="1344" y="384"/>
                  </a:lnTo>
                  <a:lnTo>
                    <a:pt x="1344" y="1152"/>
                  </a:lnTo>
                  <a:lnTo>
                    <a:pt x="672" y="1536"/>
                  </a:lnTo>
                  <a:lnTo>
                    <a:pt x="0" y="11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71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" name="Picture 17" descr="lightbulb"/>
            <p:cNvPicPr/>
            <p:nvPr/>
          </p:nvPicPr>
          <p:blipFill>
            <a:blip r:embed="rId1"/>
            <a:stretch/>
          </p:blipFill>
          <p:spPr>
            <a:xfrm>
              <a:off x="1170000" y="1962000"/>
              <a:ext cx="190512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18" descr="question"/>
            <p:cNvPicPr/>
            <p:nvPr/>
          </p:nvPicPr>
          <p:blipFill>
            <a:blip r:embed="rId2">
              <a:lum bright="54000"/>
            </a:blip>
            <a:stretch/>
          </p:blipFill>
          <p:spPr>
            <a:xfrm>
              <a:off x="1862280" y="2201760"/>
              <a:ext cx="804600" cy="1311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dc241f"/>
                </a:solidFill>
                <a:latin typeface="Arial Black"/>
              </a:rPr>
              <a:t>使用规范说明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7d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819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3">
            <a:hlinkClick r:id="rId7"/>
          </p:cNvPr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28">
            <a:hlinkClick r:id="rId8"/>
          </p:cNvPr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29">
            <a:hlinkClick r:id="rId9"/>
          </p:cNvPr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0">
            <a:hlinkClick r:id="rId10"/>
          </p:cNvPr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1">
            <a:hlinkClick r:id="rId11"/>
          </p:cNvPr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4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4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0"/>
            <a:ext cx="3632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1"/>
          <p:cNvSpPr/>
          <p:nvPr/>
        </p:nvSpPr>
        <p:spPr>
          <a:xfrm>
            <a:off x="-20520" y="-9360"/>
            <a:ext cx="4356000" cy="5824440"/>
          </a:xfrm>
          <a:custGeom>
            <a:avLst/>
            <a:gdLst/>
            <a:ahLst/>
            <a:rect l="l" t="t" r="r" b="b"/>
            <a:pathLst>
              <a:path w="2744" h="3669">
                <a:moveTo>
                  <a:pt x="7" y="453"/>
                </a:moveTo>
                <a:lnTo>
                  <a:pt x="828" y="0"/>
                </a:lnTo>
                <a:lnTo>
                  <a:pt x="2298" y="847"/>
                </a:lnTo>
                <a:lnTo>
                  <a:pt x="2311" y="2316"/>
                </a:lnTo>
                <a:lnTo>
                  <a:pt x="835" y="3216"/>
                </a:lnTo>
                <a:lnTo>
                  <a:pt x="7" y="2750"/>
                </a:lnTo>
                <a:lnTo>
                  <a:pt x="7" y="3197"/>
                </a:lnTo>
                <a:lnTo>
                  <a:pt x="828" y="3669"/>
                </a:lnTo>
                <a:lnTo>
                  <a:pt x="2744" y="2537"/>
                </a:lnTo>
                <a:lnTo>
                  <a:pt x="2738" y="634"/>
                </a:lnTo>
                <a:lnTo>
                  <a:pt x="1625" y="0"/>
                </a:lnTo>
                <a:lnTo>
                  <a:pt x="0" y="0"/>
                </a:lnTo>
                <a:lnTo>
                  <a:pt x="7" y="453"/>
                </a:lnTo>
                <a:close/>
              </a:path>
            </a:pathLst>
          </a:cu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8"/>
          <p:cNvGrpSpPr/>
          <p:nvPr/>
        </p:nvGrpSpPr>
        <p:grpSpPr>
          <a:xfrm>
            <a:off x="0" y="2133720"/>
            <a:ext cx="9144000" cy="2819160"/>
            <a:chOff x="0" y="2133720"/>
            <a:chExt cx="9144000" cy="2819160"/>
          </a:xfrm>
        </p:grpSpPr>
        <p:grpSp>
          <p:nvGrpSpPr>
            <p:cNvPr id="362" name="Group 7"/>
            <p:cNvGrpSpPr/>
            <p:nvPr/>
          </p:nvGrpSpPr>
          <p:grpSpPr>
            <a:xfrm>
              <a:off x="0" y="2142360"/>
              <a:ext cx="9144000" cy="2438280"/>
              <a:chOff x="0" y="2142360"/>
              <a:chExt cx="9144000" cy="2438280"/>
            </a:xfrm>
          </p:grpSpPr>
          <p:sp>
            <p:nvSpPr>
              <p:cNvPr id="363" name="Rectangle 8"/>
              <p:cNvSpPr/>
              <p:nvPr/>
            </p:nvSpPr>
            <p:spPr>
              <a:xfrm>
                <a:off x="0" y="2142360"/>
                <a:ext cx="1609560" cy="2438280"/>
              </a:xfrm>
              <a:prstGeom prst="rect">
                <a:avLst/>
              </a:prstGeom>
              <a:gradFill rotWithShape="0">
                <a:gsLst>
                  <a:gs pos="0">
                    <a:srgbClr val="d9241f"/>
                  </a:gs>
                  <a:gs pos="100000">
                    <a:srgbClr val="d9241f">
                      <a:alpha val="2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9"/>
              <p:cNvSpPr/>
              <p:nvPr/>
            </p:nvSpPr>
            <p:spPr>
              <a:xfrm>
                <a:off x="7626240" y="2142360"/>
                <a:ext cx="1517760" cy="2438280"/>
              </a:xfrm>
              <a:prstGeom prst="rect">
                <a:avLst/>
              </a:prstGeom>
              <a:gradFill rotWithShape="0">
                <a:gsLst>
                  <a:gs pos="0">
                    <a:srgbClr val="d9241f">
                      <a:alpha val="20000"/>
                    </a:srgbClr>
                  </a:gs>
                  <a:gs pos="100000">
                    <a:srgbClr val="d924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0"/>
              <p:cNvSpPr/>
              <p:nvPr/>
            </p:nvSpPr>
            <p:spPr>
              <a:xfrm>
                <a:off x="1590840" y="2142360"/>
                <a:ext cx="6060960" cy="2438280"/>
              </a:xfrm>
              <a:prstGeom prst="rect">
                <a:avLst/>
              </a:prstGeom>
              <a:solidFill>
                <a:srgbClr val="d924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3"/>
            <p:cNvSpPr/>
            <p:nvPr/>
          </p:nvSpPr>
          <p:spPr>
            <a:xfrm>
              <a:off x="0" y="457200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5"/>
          <p:cNvSpPr/>
          <p:nvPr/>
        </p:nvSpPr>
        <p:spPr>
          <a:xfrm rot="1800000">
            <a:off x="7009920" y="5029200"/>
            <a:ext cx="1298520" cy="1123920"/>
          </a:xfrm>
          <a:prstGeom prst="hexagon">
            <a:avLst>
              <a:gd name="adj" fmla="val 28884"/>
              <a:gd name="vf" fmla="val 115470"/>
            </a:avLst>
          </a:pr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6"/>
          <p:cNvSpPr/>
          <p:nvPr/>
        </p:nvSpPr>
        <p:spPr>
          <a:xfrm>
            <a:off x="6248520" y="6199200"/>
            <a:ext cx="1143000" cy="658800"/>
          </a:xfrm>
          <a:custGeom>
            <a:avLst/>
            <a:gdLst/>
            <a:ahLst/>
            <a:rect l="l" t="t" r="r" b="b"/>
            <a:pathLst>
              <a:path w="720" h="415">
                <a:moveTo>
                  <a:pt x="0" y="415"/>
                </a:moveTo>
                <a:lnTo>
                  <a:pt x="0" y="223"/>
                </a:lnTo>
                <a:lnTo>
                  <a:pt x="357" y="0"/>
                </a:lnTo>
                <a:lnTo>
                  <a:pt x="720" y="223"/>
                </a:lnTo>
                <a:lnTo>
                  <a:pt x="720" y="415"/>
                </a:lnTo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8610480" y="4952880"/>
            <a:ext cx="533520" cy="1295640"/>
          </a:xfrm>
          <a:custGeom>
            <a:avLst/>
            <a:gdLst/>
            <a:ahLst/>
            <a:rect l="l" t="t" r="r" b="b"/>
            <a:pathLst>
              <a:path w="336" h="816">
                <a:moveTo>
                  <a:pt x="336" y="0"/>
                </a:moveTo>
                <a:lnTo>
                  <a:pt x="0" y="192"/>
                </a:lnTo>
                <a:lnTo>
                  <a:pt x="0" y="624"/>
                </a:lnTo>
                <a:lnTo>
                  <a:pt x="336" y="816"/>
                </a:lnTo>
              </a:path>
            </a:pathLst>
          </a:custGeom>
          <a:noFill/>
          <a:ln w="1522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1960" y="2517840"/>
            <a:ext cx="7294680" cy="103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a50021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Six Disciplines for Excellen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verview </a:t>
            </a:r>
            <a:endParaRPr b="0" lang="en-US" sz="3200" spc="-1" strike="noStrike">
              <a:solidFill>
                <a:srgbClr val="dc241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28440" y="3816000"/>
            <a:ext cx="728028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ry Harp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9" descr="SDLClogo"/>
          <p:cNvPicPr/>
          <p:nvPr/>
        </p:nvPicPr>
        <p:blipFill>
          <a:blip r:embed="rId2"/>
          <a:stretch/>
        </p:blipFill>
        <p:spPr>
          <a:xfrm>
            <a:off x="184320" y="573120"/>
            <a:ext cx="3314520" cy="7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3"/>
          <p:cNvSpPr/>
          <p:nvPr/>
        </p:nvSpPr>
        <p:spPr>
          <a:xfrm>
            <a:off x="1036800" y="6485040"/>
            <a:ext cx="2893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宋体"/>
              </a:rPr>
              <a:t>© 2004 Six Disciplines Leadership Center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36440" y="517680"/>
            <a:ext cx="79549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c241f"/>
                </a:solidFill>
                <a:latin typeface="Arial Black"/>
                <a:ea typeface="宋体"/>
              </a:rPr>
              <a:t>Mainstream Business Processes Built In</a:t>
            </a:r>
            <a:endParaRPr b="0" lang="en-US" sz="23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228600" y="1654200"/>
            <a:ext cx="1676520" cy="2133720"/>
            <a:chOff x="228600" y="1654200"/>
            <a:chExt cx="1676520" cy="2133720"/>
          </a:xfrm>
        </p:grpSpPr>
        <p:pic>
          <p:nvPicPr>
            <p:cNvPr id="377" name="Picture 4" descr="j0341783"/>
            <p:cNvPicPr/>
            <p:nvPr/>
          </p:nvPicPr>
          <p:blipFill>
            <a:blip r:embed="rId1"/>
            <a:srcRect l="0" t="6457" r="12005" b="47874"/>
            <a:stretch/>
          </p:blipFill>
          <p:spPr>
            <a:xfrm>
              <a:off x="22860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5"/>
            <p:cNvSpPr/>
            <p:nvPr/>
          </p:nvSpPr>
          <p:spPr>
            <a:xfrm>
              <a:off x="228600" y="16542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228600" y="1654200"/>
              <a:ext cx="16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ial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AP, AR, Cash, Billing, etc.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7"/>
          <p:cNvGrpSpPr/>
          <p:nvPr/>
        </p:nvGrpSpPr>
        <p:grpSpPr>
          <a:xfrm>
            <a:off x="1981080" y="2568600"/>
            <a:ext cx="1676520" cy="2133720"/>
            <a:chOff x="1981080" y="2568600"/>
            <a:chExt cx="1676520" cy="2133720"/>
          </a:xfrm>
        </p:grpSpPr>
        <p:pic>
          <p:nvPicPr>
            <p:cNvPr id="381" name="Picture 8" descr="j0285124"/>
            <p:cNvPicPr/>
            <p:nvPr/>
          </p:nvPicPr>
          <p:blipFill>
            <a:blip r:embed="rId2"/>
            <a:stretch/>
          </p:blipFill>
          <p:spPr>
            <a:xfrm>
              <a:off x="198108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9"/>
            <p:cNvSpPr/>
            <p:nvPr/>
          </p:nvSpPr>
          <p:spPr>
            <a:xfrm>
              <a:off x="1981080" y="3863880"/>
              <a:ext cx="16765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ople, Relationship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1981080" y="25686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3733920" y="1600200"/>
            <a:ext cx="1676160" cy="2187720"/>
            <a:chOff x="3733920" y="1600200"/>
            <a:chExt cx="1676160" cy="2187720"/>
          </a:xfrm>
        </p:grpSpPr>
        <p:pic>
          <p:nvPicPr>
            <p:cNvPr id="385" name="Picture 12" descr="PH01630J"/>
            <p:cNvPicPr/>
            <p:nvPr/>
          </p:nvPicPr>
          <p:blipFill>
            <a:blip r:embed="rId3"/>
            <a:stretch/>
          </p:blipFill>
          <p:spPr>
            <a:xfrm>
              <a:off x="3733920" y="2568600"/>
              <a:ext cx="16761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13"/>
            <p:cNvSpPr/>
            <p:nvPr/>
          </p:nvSpPr>
          <p:spPr>
            <a:xfrm>
              <a:off x="3885840" y="1600200"/>
              <a:ext cx="13712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ales, Marketing, Servi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3733920" y="1654200"/>
              <a:ext cx="167616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5"/>
          <p:cNvGrpSpPr/>
          <p:nvPr/>
        </p:nvGrpSpPr>
        <p:grpSpPr>
          <a:xfrm>
            <a:off x="5486400" y="2568600"/>
            <a:ext cx="1676520" cy="2133720"/>
            <a:chOff x="5486400" y="2568600"/>
            <a:chExt cx="1676520" cy="2133720"/>
          </a:xfrm>
        </p:grpSpPr>
        <p:pic>
          <p:nvPicPr>
            <p:cNvPr id="389" name="Picture 16" descr="j0386360"/>
            <p:cNvPicPr/>
            <p:nvPr/>
          </p:nvPicPr>
          <p:blipFill>
            <a:blip r:embed="rId4"/>
            <a:stretch/>
          </p:blipFill>
          <p:spPr>
            <a:xfrm>
              <a:off x="548640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17"/>
            <p:cNvSpPr/>
            <p:nvPr/>
          </p:nvSpPr>
          <p:spPr>
            <a:xfrm>
              <a:off x="5486400" y="3787920"/>
              <a:ext cx="1676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jec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"/>
            <p:cNvSpPr/>
            <p:nvPr/>
          </p:nvSpPr>
          <p:spPr>
            <a:xfrm>
              <a:off x="5486400" y="25686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9"/>
          <p:cNvGrpSpPr/>
          <p:nvPr/>
        </p:nvGrpSpPr>
        <p:grpSpPr>
          <a:xfrm>
            <a:off x="7238880" y="1654200"/>
            <a:ext cx="1676520" cy="2133720"/>
            <a:chOff x="7238880" y="1654200"/>
            <a:chExt cx="1676520" cy="2133720"/>
          </a:xfrm>
        </p:grpSpPr>
        <p:pic>
          <p:nvPicPr>
            <p:cNvPr id="393" name="Picture 20" descr="j0385583"/>
            <p:cNvPicPr/>
            <p:nvPr/>
          </p:nvPicPr>
          <p:blipFill>
            <a:blip r:embed="rId5">
              <a:lum bright="-6000"/>
            </a:blip>
            <a:stretch/>
          </p:blipFill>
          <p:spPr>
            <a:xfrm>
              <a:off x="7238880" y="2568600"/>
              <a:ext cx="167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21"/>
            <p:cNvSpPr/>
            <p:nvPr/>
          </p:nvSpPr>
          <p:spPr>
            <a:xfrm>
              <a:off x="7391160" y="2035080"/>
              <a:ext cx="14479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8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tribu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2"/>
            <p:cNvSpPr/>
            <p:nvPr/>
          </p:nvSpPr>
          <p:spPr>
            <a:xfrm>
              <a:off x="7238880" y="1654200"/>
              <a:ext cx="1676520" cy="2133720"/>
            </a:xfrm>
            <a:prstGeom prst="rect">
              <a:avLst/>
            </a:prstGeom>
            <a:noFill/>
            <a:ln w="28440">
              <a:solidFill>
                <a:srgbClr val="bdb6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398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399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6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428" name="Group 34"/>
          <p:cNvGrpSpPr/>
          <p:nvPr/>
        </p:nvGrpSpPr>
        <p:grpSpPr>
          <a:xfrm>
            <a:off x="3668760" y="2630520"/>
            <a:ext cx="3200400" cy="838080"/>
            <a:chOff x="3668760" y="2630520"/>
            <a:chExt cx="3200400" cy="838080"/>
          </a:xfrm>
        </p:grpSpPr>
        <p:sp>
          <p:nvSpPr>
            <p:cNvPr id="429" name="Rectangle 35"/>
            <p:cNvSpPr/>
            <p:nvPr/>
          </p:nvSpPr>
          <p:spPr>
            <a:xfrm>
              <a:off x="3668760" y="2630520"/>
              <a:ext cx="320040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6"/>
            <p:cNvSpPr/>
            <p:nvPr/>
          </p:nvSpPr>
          <p:spPr>
            <a:xfrm>
              <a:off x="3897360" y="2718000"/>
              <a:ext cx="247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ople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sp>
        <p:nvSpPr>
          <p:cNvPr id="432" name="Line 38"/>
          <p:cNvSpPr/>
          <p:nvPr/>
        </p:nvSpPr>
        <p:spPr>
          <a:xfrm>
            <a:off x="3668760" y="2633760"/>
            <a:ext cx="32004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9" descr="peoplesuite_icon"/>
          <p:cNvPicPr/>
          <p:nvPr/>
        </p:nvPicPr>
        <p:blipFill>
          <a:blip r:embed="rId4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144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15434 -0.2001 E">
                                      <p:cBhvr>
                                        <p:cTn id="160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1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436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437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466" name="Group 34"/>
          <p:cNvGrpSpPr/>
          <p:nvPr/>
        </p:nvGrpSpPr>
        <p:grpSpPr>
          <a:xfrm>
            <a:off x="3668760" y="2630520"/>
            <a:ext cx="3189240" cy="838080"/>
            <a:chOff x="3668760" y="2630520"/>
            <a:chExt cx="3189240" cy="838080"/>
          </a:xfrm>
        </p:grpSpPr>
        <p:sp>
          <p:nvSpPr>
            <p:cNvPr id="467" name="Rectangle 35"/>
            <p:cNvSpPr/>
            <p:nvPr/>
          </p:nvSpPr>
          <p:spPr>
            <a:xfrm>
              <a:off x="3668760" y="2630520"/>
              <a:ext cx="318924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3906720" y="2718000"/>
              <a:ext cx="2951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nancial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sp>
        <p:nvSpPr>
          <p:cNvPr id="471" name="Line 39"/>
          <p:cNvSpPr/>
          <p:nvPr/>
        </p:nvSpPr>
        <p:spPr>
          <a:xfrm>
            <a:off x="3668760" y="2633760"/>
            <a:ext cx="32004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0" descr="financialsuite_icon"/>
          <p:cNvPicPr/>
          <p:nvPr/>
        </p:nvPicPr>
        <p:blipFill>
          <a:blip r:embed="rId5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187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26702 -0.2001 E">
                                      <p:cBhvr>
                                        <p:cTn id="203" dur="1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1000" fill="hold"/>
                                        <p:tgtEl>
                                          <p:spTgt spid="47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3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475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476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05" name="Group 34"/>
          <p:cNvGrpSpPr/>
          <p:nvPr/>
        </p:nvGrpSpPr>
        <p:grpSpPr>
          <a:xfrm>
            <a:off x="3668760" y="2630520"/>
            <a:ext cx="3355560" cy="838080"/>
            <a:chOff x="3668760" y="2630520"/>
            <a:chExt cx="3355560" cy="838080"/>
          </a:xfrm>
        </p:grpSpPr>
        <p:sp>
          <p:nvSpPr>
            <p:cNvPr id="506" name="Rectangle 35"/>
            <p:cNvSpPr/>
            <p:nvPr/>
          </p:nvSpPr>
          <p:spPr>
            <a:xfrm>
              <a:off x="3668760" y="2630520"/>
              <a:ext cx="335556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6"/>
            <p:cNvSpPr/>
            <p:nvPr/>
          </p:nvSpPr>
          <p:spPr>
            <a:xfrm>
              <a:off x="3918960" y="2718000"/>
              <a:ext cx="3105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tribution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sp>
        <p:nvSpPr>
          <p:cNvPr id="511" name="Line 40"/>
          <p:cNvSpPr/>
          <p:nvPr/>
        </p:nvSpPr>
        <p:spPr>
          <a:xfrm>
            <a:off x="3678120" y="2633760"/>
            <a:ext cx="334188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1" descr="distributionsuite_icon"/>
          <p:cNvPicPr/>
          <p:nvPr/>
        </p:nvPicPr>
        <p:blipFill>
          <a:blip r:embed="rId6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23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37257 -0.2031 E">
                                      <p:cBhvr>
                                        <p:cTn id="246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15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16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3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45" name="Group 34"/>
          <p:cNvGrpSpPr/>
          <p:nvPr/>
        </p:nvGrpSpPr>
        <p:grpSpPr>
          <a:xfrm>
            <a:off x="3668760" y="2630520"/>
            <a:ext cx="2181240" cy="838080"/>
            <a:chOff x="3668760" y="2630520"/>
            <a:chExt cx="2181240" cy="838080"/>
          </a:xfrm>
        </p:grpSpPr>
        <p:sp>
          <p:nvSpPr>
            <p:cNvPr id="546" name="Rectangle 35"/>
            <p:cNvSpPr/>
            <p:nvPr/>
          </p:nvSpPr>
          <p:spPr>
            <a:xfrm>
              <a:off x="3668760" y="2630520"/>
              <a:ext cx="218124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6"/>
            <p:cNvSpPr/>
            <p:nvPr/>
          </p:nvSpPr>
          <p:spPr>
            <a:xfrm>
              <a:off x="3831480" y="2718000"/>
              <a:ext cx="20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MS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0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sp>
        <p:nvSpPr>
          <p:cNvPr id="552" name="Line 41"/>
          <p:cNvSpPr/>
          <p:nvPr/>
        </p:nvSpPr>
        <p:spPr>
          <a:xfrm>
            <a:off x="3678120" y="2633760"/>
            <a:ext cx="216720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2" descr="SMSsuite_icon"/>
          <p:cNvPicPr/>
          <p:nvPr/>
        </p:nvPicPr>
        <p:blipFill>
          <a:blip r:embed="rId7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273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48351 -0.20171 E">
                                      <p:cBhvr>
                                        <p:cTn id="289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1000" fill="hold"/>
                                        <p:tgtEl>
                                          <p:spTgt spid="55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56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57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4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grpSp>
        <p:nvGrpSpPr>
          <p:cNvPr id="586" name="Group 34"/>
          <p:cNvGrpSpPr/>
          <p:nvPr/>
        </p:nvGrpSpPr>
        <p:grpSpPr>
          <a:xfrm>
            <a:off x="3668760" y="2630520"/>
            <a:ext cx="2684520" cy="838080"/>
            <a:chOff x="3668760" y="2630520"/>
            <a:chExt cx="2684520" cy="838080"/>
          </a:xfrm>
        </p:grpSpPr>
        <p:sp>
          <p:nvSpPr>
            <p:cNvPr id="587" name="Rectangle 35"/>
            <p:cNvSpPr/>
            <p:nvPr/>
          </p:nvSpPr>
          <p:spPr>
            <a:xfrm>
              <a:off x="3668760" y="2630520"/>
              <a:ext cx="2684520" cy="838080"/>
            </a:xfrm>
            <a:prstGeom prst="rect">
              <a:avLst/>
            </a:prstGeom>
            <a:gradFill rotWithShape="0">
              <a:gsLst>
                <a:gs pos="0">
                  <a:srgbClr val="e0d4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6"/>
            <p:cNvSpPr/>
            <p:nvPr/>
          </p:nvSpPr>
          <p:spPr>
            <a:xfrm>
              <a:off x="3870360" y="2718000"/>
              <a:ext cx="2482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ject Sui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Picture 37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8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9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0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1" descr="projectsuite_icon"/>
          <p:cNvPicPr/>
          <p:nvPr/>
        </p:nvPicPr>
        <p:blipFill>
          <a:blip r:embed="rId7"/>
          <a:stretch/>
        </p:blipFill>
        <p:spPr>
          <a:xfrm>
            <a:off x="7888320" y="1136520"/>
            <a:ext cx="950760" cy="1144800"/>
          </a:xfrm>
          <a:prstGeom prst="rect">
            <a:avLst/>
          </a:prstGeom>
          <a:ln w="0">
            <a:noFill/>
          </a:ln>
        </p:spPr>
      </p:pic>
      <p:sp>
        <p:nvSpPr>
          <p:cNvPr id="594" name="Line 42"/>
          <p:cNvSpPr/>
          <p:nvPr/>
        </p:nvSpPr>
        <p:spPr>
          <a:xfrm>
            <a:off x="3678120" y="2633760"/>
            <a:ext cx="2659320" cy="1440"/>
          </a:xfrm>
          <a:prstGeom prst="line">
            <a:avLst/>
          </a:prstGeom>
          <a:ln w="2844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3" descr="projectsuite_icon"/>
          <p:cNvPicPr/>
          <p:nvPr/>
        </p:nvPicPr>
        <p:blipFill>
          <a:blip r:embed="rId8"/>
          <a:stretch/>
        </p:blipFill>
        <p:spPr>
          <a:xfrm>
            <a:off x="2209680" y="2133720"/>
            <a:ext cx="1517760" cy="183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C -2.77778E-006 0.00023 0.06459 -0.10895 0.22049 -0.0768 C 0.37639 -0.04465 0.44236 0.19546 0.45886 0.29054 E">
                                      <p:cBhvr>
                                        <p:cTn id="316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625E-006 L 0.59115 -0.19871 E">
                                      <p:cBhvr>
                                        <p:cTn id="332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1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915840" y="4857840"/>
            <a:ext cx="8228160" cy="1423800"/>
          </a:xfrm>
          <a:prstGeom prst="rect">
            <a:avLst/>
          </a:prstGeom>
          <a:gradFill rotWithShape="0">
            <a:gsLst>
              <a:gs pos="0">
                <a:srgbClr val="e0d4b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3"/>
          <p:cNvGrpSpPr/>
          <p:nvPr/>
        </p:nvGrpSpPr>
        <p:grpSpPr>
          <a:xfrm>
            <a:off x="6029280" y="3678120"/>
            <a:ext cx="2508120" cy="3048120"/>
            <a:chOff x="6029280" y="3678120"/>
            <a:chExt cx="2508120" cy="3048120"/>
          </a:xfrm>
        </p:grpSpPr>
        <p:grpSp>
          <p:nvGrpSpPr>
            <p:cNvPr id="598" name="Group 4"/>
            <p:cNvGrpSpPr/>
            <p:nvPr/>
          </p:nvGrpSpPr>
          <p:grpSpPr>
            <a:xfrm>
              <a:off x="6029280" y="3678120"/>
              <a:ext cx="2508120" cy="3048120"/>
              <a:chOff x="6029280" y="3678120"/>
              <a:chExt cx="2508120" cy="3048120"/>
            </a:xfrm>
          </p:grpSpPr>
          <p:sp>
            <p:nvSpPr>
              <p:cNvPr id="599" name="Freeform 5"/>
              <p:cNvSpPr/>
              <p:nvPr/>
            </p:nvSpPr>
            <p:spPr>
              <a:xfrm>
                <a:off x="6029280" y="3678120"/>
                <a:ext cx="2508120" cy="3048120"/>
              </a:xfrm>
              <a:custGeom>
                <a:avLst/>
                <a:gdLst/>
                <a:ahLst/>
                <a:rect l="l" t="t" r="r" b="b"/>
                <a:pathLst>
                  <a:path w="14217" h="17280">
                    <a:moveTo>
                      <a:pt x="11695" y="13147"/>
                    </a:moveTo>
                    <a:lnTo>
                      <a:pt x="9820" y="13881"/>
                    </a:lnTo>
                    <a:lnTo>
                      <a:pt x="9190" y="13639"/>
                    </a:lnTo>
                    <a:lnTo>
                      <a:pt x="9185" y="13645"/>
                    </a:lnTo>
                    <a:lnTo>
                      <a:pt x="9181" y="13657"/>
                    </a:lnTo>
                    <a:lnTo>
                      <a:pt x="9176" y="13675"/>
                    </a:lnTo>
                    <a:lnTo>
                      <a:pt x="9170" y="13698"/>
                    </a:lnTo>
                    <a:lnTo>
                      <a:pt x="9165" y="13724"/>
                    </a:lnTo>
                    <a:lnTo>
                      <a:pt x="9160" y="13753"/>
                    </a:lnTo>
                    <a:lnTo>
                      <a:pt x="9155" y="13784"/>
                    </a:lnTo>
                    <a:lnTo>
                      <a:pt x="9150" y="13816"/>
                    </a:lnTo>
                    <a:lnTo>
                      <a:pt x="9147" y="13849"/>
                    </a:lnTo>
                    <a:lnTo>
                      <a:pt x="9144" y="13880"/>
                    </a:lnTo>
                    <a:lnTo>
                      <a:pt x="9143" y="13909"/>
                    </a:lnTo>
                    <a:lnTo>
                      <a:pt x="9143" y="13936"/>
                    </a:lnTo>
                    <a:lnTo>
                      <a:pt x="9143" y="13948"/>
                    </a:lnTo>
                    <a:lnTo>
                      <a:pt x="9144" y="13959"/>
                    </a:lnTo>
                    <a:lnTo>
                      <a:pt x="9147" y="13968"/>
                    </a:lnTo>
                    <a:lnTo>
                      <a:pt x="9149" y="13976"/>
                    </a:lnTo>
                    <a:lnTo>
                      <a:pt x="9152" y="13983"/>
                    </a:lnTo>
                    <a:lnTo>
                      <a:pt x="9155" y="13988"/>
                    </a:lnTo>
                    <a:lnTo>
                      <a:pt x="9158" y="13991"/>
                    </a:lnTo>
                    <a:lnTo>
                      <a:pt x="9164" y="13994"/>
                    </a:lnTo>
                    <a:lnTo>
                      <a:pt x="9342" y="14025"/>
                    </a:lnTo>
                    <a:lnTo>
                      <a:pt x="9517" y="14055"/>
                    </a:lnTo>
                    <a:lnTo>
                      <a:pt x="9689" y="14088"/>
                    </a:lnTo>
                    <a:lnTo>
                      <a:pt x="9857" y="14121"/>
                    </a:lnTo>
                    <a:lnTo>
                      <a:pt x="9941" y="14138"/>
                    </a:lnTo>
                    <a:lnTo>
                      <a:pt x="10023" y="14156"/>
                    </a:lnTo>
                    <a:lnTo>
                      <a:pt x="10105" y="14174"/>
                    </a:lnTo>
                    <a:lnTo>
                      <a:pt x="10187" y="14193"/>
                    </a:lnTo>
                    <a:lnTo>
                      <a:pt x="10268" y="14213"/>
                    </a:lnTo>
                    <a:lnTo>
                      <a:pt x="10349" y="14233"/>
                    </a:lnTo>
                    <a:lnTo>
                      <a:pt x="10430" y="14255"/>
                    </a:lnTo>
                    <a:lnTo>
                      <a:pt x="10510" y="14278"/>
                    </a:lnTo>
                    <a:lnTo>
                      <a:pt x="10591" y="14301"/>
                    </a:lnTo>
                    <a:lnTo>
                      <a:pt x="10671" y="14325"/>
                    </a:lnTo>
                    <a:lnTo>
                      <a:pt x="10751" y="14351"/>
                    </a:lnTo>
                    <a:lnTo>
                      <a:pt x="10832" y="14378"/>
                    </a:lnTo>
                    <a:lnTo>
                      <a:pt x="10912" y="14406"/>
                    </a:lnTo>
                    <a:lnTo>
                      <a:pt x="10993" y="14435"/>
                    </a:lnTo>
                    <a:lnTo>
                      <a:pt x="11074" y="14466"/>
                    </a:lnTo>
                    <a:lnTo>
                      <a:pt x="11155" y="14498"/>
                    </a:lnTo>
                    <a:lnTo>
                      <a:pt x="11236" y="14531"/>
                    </a:lnTo>
                    <a:lnTo>
                      <a:pt x="11318" y="14567"/>
                    </a:lnTo>
                    <a:lnTo>
                      <a:pt x="11401" y="14604"/>
                    </a:lnTo>
                    <a:lnTo>
                      <a:pt x="11484" y="14642"/>
                    </a:lnTo>
                    <a:lnTo>
                      <a:pt x="11569" y="14683"/>
                    </a:lnTo>
                    <a:lnTo>
                      <a:pt x="11653" y="14725"/>
                    </a:lnTo>
                    <a:lnTo>
                      <a:pt x="11738" y="14768"/>
                    </a:lnTo>
                    <a:lnTo>
                      <a:pt x="11825" y="14814"/>
                    </a:lnTo>
                    <a:lnTo>
                      <a:pt x="11826" y="14836"/>
                    </a:lnTo>
                    <a:lnTo>
                      <a:pt x="11827" y="14861"/>
                    </a:lnTo>
                    <a:lnTo>
                      <a:pt x="11827" y="14886"/>
                    </a:lnTo>
                    <a:lnTo>
                      <a:pt x="11826" y="14914"/>
                    </a:lnTo>
                    <a:lnTo>
                      <a:pt x="11823" y="14972"/>
                    </a:lnTo>
                    <a:lnTo>
                      <a:pt x="11819" y="15036"/>
                    </a:lnTo>
                    <a:lnTo>
                      <a:pt x="11814" y="15104"/>
                    </a:lnTo>
                    <a:lnTo>
                      <a:pt x="11807" y="15173"/>
                    </a:lnTo>
                    <a:lnTo>
                      <a:pt x="11801" y="15244"/>
                    </a:lnTo>
                    <a:lnTo>
                      <a:pt x="11794" y="15314"/>
                    </a:lnTo>
                    <a:lnTo>
                      <a:pt x="11788" y="15384"/>
                    </a:lnTo>
                    <a:lnTo>
                      <a:pt x="11782" y="15450"/>
                    </a:lnTo>
                    <a:lnTo>
                      <a:pt x="11778" y="15513"/>
                    </a:lnTo>
                    <a:lnTo>
                      <a:pt x="11776" y="15571"/>
                    </a:lnTo>
                    <a:lnTo>
                      <a:pt x="11775" y="15597"/>
                    </a:lnTo>
                    <a:lnTo>
                      <a:pt x="11775" y="15623"/>
                    </a:lnTo>
                    <a:lnTo>
                      <a:pt x="11776" y="15646"/>
                    </a:lnTo>
                    <a:lnTo>
                      <a:pt x="11777" y="15668"/>
                    </a:lnTo>
                    <a:lnTo>
                      <a:pt x="11779" y="15687"/>
                    </a:lnTo>
                    <a:lnTo>
                      <a:pt x="11781" y="15703"/>
                    </a:lnTo>
                    <a:lnTo>
                      <a:pt x="11786" y="15718"/>
                    </a:lnTo>
                    <a:lnTo>
                      <a:pt x="11790" y="15730"/>
                    </a:lnTo>
                    <a:lnTo>
                      <a:pt x="11767" y="15758"/>
                    </a:lnTo>
                    <a:lnTo>
                      <a:pt x="11725" y="15793"/>
                    </a:lnTo>
                    <a:lnTo>
                      <a:pt x="11665" y="15832"/>
                    </a:lnTo>
                    <a:lnTo>
                      <a:pt x="11587" y="15877"/>
                    </a:lnTo>
                    <a:lnTo>
                      <a:pt x="11494" y="15926"/>
                    </a:lnTo>
                    <a:lnTo>
                      <a:pt x="11386" y="15980"/>
                    </a:lnTo>
                    <a:lnTo>
                      <a:pt x="11265" y="16037"/>
                    </a:lnTo>
                    <a:lnTo>
                      <a:pt x="11131" y="16096"/>
                    </a:lnTo>
                    <a:lnTo>
                      <a:pt x="10987" y="16160"/>
                    </a:lnTo>
                    <a:lnTo>
                      <a:pt x="10834" y="16225"/>
                    </a:lnTo>
                    <a:lnTo>
                      <a:pt x="10673" y="16292"/>
                    </a:lnTo>
                    <a:lnTo>
                      <a:pt x="10504" y="16360"/>
                    </a:lnTo>
                    <a:lnTo>
                      <a:pt x="10331" y="16429"/>
                    </a:lnTo>
                    <a:lnTo>
                      <a:pt x="10152" y="16498"/>
                    </a:lnTo>
                    <a:lnTo>
                      <a:pt x="9972" y="16567"/>
                    </a:lnTo>
                    <a:lnTo>
                      <a:pt x="9788" y="16636"/>
                    </a:lnTo>
                    <a:lnTo>
                      <a:pt x="9606" y="16703"/>
                    </a:lnTo>
                    <a:lnTo>
                      <a:pt x="9423" y="16769"/>
                    </a:lnTo>
                    <a:lnTo>
                      <a:pt x="9243" y="16834"/>
                    </a:lnTo>
                    <a:lnTo>
                      <a:pt x="9066" y="16896"/>
                    </a:lnTo>
                    <a:lnTo>
                      <a:pt x="8894" y="16954"/>
                    </a:lnTo>
                    <a:lnTo>
                      <a:pt x="8727" y="17010"/>
                    </a:lnTo>
                    <a:lnTo>
                      <a:pt x="8569" y="17062"/>
                    </a:lnTo>
                    <a:lnTo>
                      <a:pt x="8418" y="17108"/>
                    </a:lnTo>
                    <a:lnTo>
                      <a:pt x="8278" y="17151"/>
                    </a:lnTo>
                    <a:lnTo>
                      <a:pt x="8148" y="17188"/>
                    </a:lnTo>
                    <a:lnTo>
                      <a:pt x="8032" y="17220"/>
                    </a:lnTo>
                    <a:lnTo>
                      <a:pt x="7928" y="17245"/>
                    </a:lnTo>
                    <a:lnTo>
                      <a:pt x="7839" y="17264"/>
                    </a:lnTo>
                    <a:lnTo>
                      <a:pt x="7767" y="17276"/>
                    </a:lnTo>
                    <a:lnTo>
                      <a:pt x="7713" y="17280"/>
                    </a:lnTo>
                    <a:lnTo>
                      <a:pt x="7677" y="17276"/>
                    </a:lnTo>
                    <a:lnTo>
                      <a:pt x="7463" y="17241"/>
                    </a:lnTo>
                    <a:lnTo>
                      <a:pt x="7246" y="17198"/>
                    </a:lnTo>
                    <a:lnTo>
                      <a:pt x="7027" y="17148"/>
                    </a:lnTo>
                    <a:lnTo>
                      <a:pt x="6806" y="17091"/>
                    </a:lnTo>
                    <a:lnTo>
                      <a:pt x="6583" y="17028"/>
                    </a:lnTo>
                    <a:lnTo>
                      <a:pt x="6361" y="16960"/>
                    </a:lnTo>
                    <a:lnTo>
                      <a:pt x="6136" y="16886"/>
                    </a:lnTo>
                    <a:lnTo>
                      <a:pt x="5912" y="16808"/>
                    </a:lnTo>
                    <a:lnTo>
                      <a:pt x="5689" y="16725"/>
                    </a:lnTo>
                    <a:lnTo>
                      <a:pt x="5467" y="16637"/>
                    </a:lnTo>
                    <a:lnTo>
                      <a:pt x="5246" y="16547"/>
                    </a:lnTo>
                    <a:lnTo>
                      <a:pt x="5027" y="16453"/>
                    </a:lnTo>
                    <a:lnTo>
                      <a:pt x="4811" y="16357"/>
                    </a:lnTo>
                    <a:lnTo>
                      <a:pt x="4599" y="16257"/>
                    </a:lnTo>
                    <a:lnTo>
                      <a:pt x="4390" y="16157"/>
                    </a:lnTo>
                    <a:lnTo>
                      <a:pt x="4185" y="16055"/>
                    </a:lnTo>
                    <a:lnTo>
                      <a:pt x="3984" y="15952"/>
                    </a:lnTo>
                    <a:lnTo>
                      <a:pt x="3788" y="15848"/>
                    </a:lnTo>
                    <a:lnTo>
                      <a:pt x="3598" y="15744"/>
                    </a:lnTo>
                    <a:lnTo>
                      <a:pt x="3415" y="15641"/>
                    </a:lnTo>
                    <a:lnTo>
                      <a:pt x="3237" y="15538"/>
                    </a:lnTo>
                    <a:lnTo>
                      <a:pt x="3068" y="15436"/>
                    </a:lnTo>
                    <a:lnTo>
                      <a:pt x="2906" y="15337"/>
                    </a:lnTo>
                    <a:lnTo>
                      <a:pt x="2751" y="15239"/>
                    </a:lnTo>
                    <a:lnTo>
                      <a:pt x="2606" y="15144"/>
                    </a:lnTo>
                    <a:lnTo>
                      <a:pt x="2469" y="15051"/>
                    </a:lnTo>
                    <a:lnTo>
                      <a:pt x="2343" y="14962"/>
                    </a:lnTo>
                    <a:lnTo>
                      <a:pt x="2226" y="14877"/>
                    </a:lnTo>
                    <a:lnTo>
                      <a:pt x="2120" y="14795"/>
                    </a:lnTo>
                    <a:lnTo>
                      <a:pt x="2025" y="14718"/>
                    </a:lnTo>
                    <a:lnTo>
                      <a:pt x="1942" y="14647"/>
                    </a:lnTo>
                    <a:lnTo>
                      <a:pt x="1871" y="14581"/>
                    </a:lnTo>
                    <a:lnTo>
                      <a:pt x="1867" y="14512"/>
                    </a:lnTo>
                    <a:lnTo>
                      <a:pt x="1861" y="14427"/>
                    </a:lnTo>
                    <a:lnTo>
                      <a:pt x="1855" y="14328"/>
                    </a:lnTo>
                    <a:lnTo>
                      <a:pt x="1849" y="14224"/>
                    </a:lnTo>
                    <a:lnTo>
                      <a:pt x="1847" y="14171"/>
                    </a:lnTo>
                    <a:lnTo>
                      <a:pt x="1846" y="14118"/>
                    </a:lnTo>
                    <a:lnTo>
                      <a:pt x="1845" y="14066"/>
                    </a:lnTo>
                    <a:lnTo>
                      <a:pt x="1844" y="14016"/>
                    </a:lnTo>
                    <a:lnTo>
                      <a:pt x="1845" y="13969"/>
                    </a:lnTo>
                    <a:lnTo>
                      <a:pt x="1847" y="13924"/>
                    </a:lnTo>
                    <a:lnTo>
                      <a:pt x="1849" y="13883"/>
                    </a:lnTo>
                    <a:lnTo>
                      <a:pt x="1854" y="13847"/>
                    </a:lnTo>
                    <a:lnTo>
                      <a:pt x="1929" y="13821"/>
                    </a:lnTo>
                    <a:lnTo>
                      <a:pt x="2037" y="13784"/>
                    </a:lnTo>
                    <a:lnTo>
                      <a:pt x="2172" y="13739"/>
                    </a:lnTo>
                    <a:lnTo>
                      <a:pt x="2331" y="13688"/>
                    </a:lnTo>
                    <a:lnTo>
                      <a:pt x="2509" y="13632"/>
                    </a:lnTo>
                    <a:lnTo>
                      <a:pt x="2702" y="13571"/>
                    </a:lnTo>
                    <a:lnTo>
                      <a:pt x="2904" y="13510"/>
                    </a:lnTo>
                    <a:lnTo>
                      <a:pt x="3113" y="13448"/>
                    </a:lnTo>
                    <a:lnTo>
                      <a:pt x="3218" y="13418"/>
                    </a:lnTo>
                    <a:lnTo>
                      <a:pt x="3324" y="13389"/>
                    </a:lnTo>
                    <a:lnTo>
                      <a:pt x="3429" y="13360"/>
                    </a:lnTo>
                    <a:lnTo>
                      <a:pt x="3532" y="13332"/>
                    </a:lnTo>
                    <a:lnTo>
                      <a:pt x="3634" y="13305"/>
                    </a:lnTo>
                    <a:lnTo>
                      <a:pt x="3733" y="13280"/>
                    </a:lnTo>
                    <a:lnTo>
                      <a:pt x="3831" y="13256"/>
                    </a:lnTo>
                    <a:lnTo>
                      <a:pt x="3925" y="13233"/>
                    </a:lnTo>
                    <a:lnTo>
                      <a:pt x="4014" y="13214"/>
                    </a:lnTo>
                    <a:lnTo>
                      <a:pt x="4100" y="13195"/>
                    </a:lnTo>
                    <a:lnTo>
                      <a:pt x="4179" y="13180"/>
                    </a:lnTo>
                    <a:lnTo>
                      <a:pt x="4255" y="13167"/>
                    </a:lnTo>
                    <a:lnTo>
                      <a:pt x="4323" y="13158"/>
                    </a:lnTo>
                    <a:lnTo>
                      <a:pt x="4386" y="13151"/>
                    </a:lnTo>
                    <a:lnTo>
                      <a:pt x="4441" y="13147"/>
                    </a:lnTo>
                    <a:lnTo>
                      <a:pt x="4490" y="13147"/>
                    </a:lnTo>
                    <a:lnTo>
                      <a:pt x="4498" y="13144"/>
                    </a:lnTo>
                    <a:lnTo>
                      <a:pt x="4505" y="13139"/>
                    </a:lnTo>
                    <a:lnTo>
                      <a:pt x="4510" y="13134"/>
                    </a:lnTo>
                    <a:lnTo>
                      <a:pt x="4514" y="13127"/>
                    </a:lnTo>
                    <a:lnTo>
                      <a:pt x="4517" y="13121"/>
                    </a:lnTo>
                    <a:lnTo>
                      <a:pt x="4519" y="13113"/>
                    </a:lnTo>
                    <a:lnTo>
                      <a:pt x="4519" y="13106"/>
                    </a:lnTo>
                    <a:lnTo>
                      <a:pt x="4520" y="13097"/>
                    </a:lnTo>
                    <a:lnTo>
                      <a:pt x="4519" y="13081"/>
                    </a:lnTo>
                    <a:lnTo>
                      <a:pt x="4519" y="13065"/>
                    </a:lnTo>
                    <a:lnTo>
                      <a:pt x="4519" y="13056"/>
                    </a:lnTo>
                    <a:lnTo>
                      <a:pt x="4520" y="13049"/>
                    </a:lnTo>
                    <a:lnTo>
                      <a:pt x="4521" y="13042"/>
                    </a:lnTo>
                    <a:lnTo>
                      <a:pt x="4524" y="13035"/>
                    </a:lnTo>
                    <a:lnTo>
                      <a:pt x="4477" y="13024"/>
                    </a:lnTo>
                    <a:lnTo>
                      <a:pt x="4424" y="13010"/>
                    </a:lnTo>
                    <a:lnTo>
                      <a:pt x="4366" y="12992"/>
                    </a:lnTo>
                    <a:lnTo>
                      <a:pt x="4304" y="12972"/>
                    </a:lnTo>
                    <a:lnTo>
                      <a:pt x="4238" y="12948"/>
                    </a:lnTo>
                    <a:lnTo>
                      <a:pt x="4168" y="12922"/>
                    </a:lnTo>
                    <a:lnTo>
                      <a:pt x="4093" y="12894"/>
                    </a:lnTo>
                    <a:lnTo>
                      <a:pt x="4016" y="12864"/>
                    </a:lnTo>
                    <a:lnTo>
                      <a:pt x="3853" y="12799"/>
                    </a:lnTo>
                    <a:lnTo>
                      <a:pt x="3681" y="12728"/>
                    </a:lnTo>
                    <a:lnTo>
                      <a:pt x="3502" y="12653"/>
                    </a:lnTo>
                    <a:lnTo>
                      <a:pt x="3321" y="12577"/>
                    </a:lnTo>
                    <a:lnTo>
                      <a:pt x="3137" y="12501"/>
                    </a:lnTo>
                    <a:lnTo>
                      <a:pt x="2956" y="12429"/>
                    </a:lnTo>
                    <a:lnTo>
                      <a:pt x="2867" y="12393"/>
                    </a:lnTo>
                    <a:lnTo>
                      <a:pt x="2778" y="12360"/>
                    </a:lnTo>
                    <a:lnTo>
                      <a:pt x="2693" y="12327"/>
                    </a:lnTo>
                    <a:lnTo>
                      <a:pt x="2609" y="12296"/>
                    </a:lnTo>
                    <a:lnTo>
                      <a:pt x="2527" y="12268"/>
                    </a:lnTo>
                    <a:lnTo>
                      <a:pt x="2449" y="12242"/>
                    </a:lnTo>
                    <a:lnTo>
                      <a:pt x="2372" y="12218"/>
                    </a:lnTo>
                    <a:lnTo>
                      <a:pt x="2301" y="12196"/>
                    </a:lnTo>
                    <a:lnTo>
                      <a:pt x="2232" y="12179"/>
                    </a:lnTo>
                    <a:lnTo>
                      <a:pt x="2168" y="12164"/>
                    </a:lnTo>
                    <a:lnTo>
                      <a:pt x="2108" y="12153"/>
                    </a:lnTo>
                    <a:lnTo>
                      <a:pt x="2052" y="12145"/>
                    </a:lnTo>
                    <a:lnTo>
                      <a:pt x="2050" y="12145"/>
                    </a:lnTo>
                    <a:lnTo>
                      <a:pt x="2045" y="12139"/>
                    </a:lnTo>
                    <a:lnTo>
                      <a:pt x="2035" y="12129"/>
                    </a:lnTo>
                    <a:lnTo>
                      <a:pt x="2024" y="12115"/>
                    </a:lnTo>
                    <a:lnTo>
                      <a:pt x="1993" y="12074"/>
                    </a:lnTo>
                    <a:lnTo>
                      <a:pt x="1953" y="12019"/>
                    </a:lnTo>
                    <a:lnTo>
                      <a:pt x="1905" y="11952"/>
                    </a:lnTo>
                    <a:lnTo>
                      <a:pt x="1851" y="11876"/>
                    </a:lnTo>
                    <a:lnTo>
                      <a:pt x="1792" y="11793"/>
                    </a:lnTo>
                    <a:lnTo>
                      <a:pt x="1729" y="11705"/>
                    </a:lnTo>
                    <a:lnTo>
                      <a:pt x="1666" y="11615"/>
                    </a:lnTo>
                    <a:lnTo>
                      <a:pt x="1601" y="11526"/>
                    </a:lnTo>
                    <a:lnTo>
                      <a:pt x="1537" y="11439"/>
                    </a:lnTo>
                    <a:lnTo>
                      <a:pt x="1476" y="11358"/>
                    </a:lnTo>
                    <a:lnTo>
                      <a:pt x="1418" y="11285"/>
                    </a:lnTo>
                    <a:lnTo>
                      <a:pt x="1366" y="11221"/>
                    </a:lnTo>
                    <a:lnTo>
                      <a:pt x="1343" y="11194"/>
                    </a:lnTo>
                    <a:lnTo>
                      <a:pt x="1321" y="11170"/>
                    </a:lnTo>
                    <a:lnTo>
                      <a:pt x="1301" y="11150"/>
                    </a:lnTo>
                    <a:lnTo>
                      <a:pt x="1283" y="11135"/>
                    </a:lnTo>
                    <a:lnTo>
                      <a:pt x="1268" y="11124"/>
                    </a:lnTo>
                    <a:lnTo>
                      <a:pt x="1245" y="11112"/>
                    </a:lnTo>
                    <a:lnTo>
                      <a:pt x="1215" y="11100"/>
                    </a:lnTo>
                    <a:lnTo>
                      <a:pt x="1180" y="11086"/>
                    </a:lnTo>
                    <a:lnTo>
                      <a:pt x="1137" y="11071"/>
                    </a:lnTo>
                    <a:lnTo>
                      <a:pt x="1091" y="11055"/>
                    </a:lnTo>
                    <a:lnTo>
                      <a:pt x="1039" y="11039"/>
                    </a:lnTo>
                    <a:lnTo>
                      <a:pt x="984" y="11021"/>
                    </a:lnTo>
                    <a:lnTo>
                      <a:pt x="864" y="10985"/>
                    </a:lnTo>
                    <a:lnTo>
                      <a:pt x="736" y="10947"/>
                    </a:lnTo>
                    <a:lnTo>
                      <a:pt x="605" y="10907"/>
                    </a:lnTo>
                    <a:lnTo>
                      <a:pt x="475" y="10866"/>
                    </a:lnTo>
                    <a:lnTo>
                      <a:pt x="411" y="10845"/>
                    </a:lnTo>
                    <a:lnTo>
                      <a:pt x="351" y="10825"/>
                    </a:lnTo>
                    <a:lnTo>
                      <a:pt x="293" y="10804"/>
                    </a:lnTo>
                    <a:lnTo>
                      <a:pt x="239" y="10785"/>
                    </a:lnTo>
                    <a:lnTo>
                      <a:pt x="188" y="10764"/>
                    </a:lnTo>
                    <a:lnTo>
                      <a:pt x="142" y="10745"/>
                    </a:lnTo>
                    <a:lnTo>
                      <a:pt x="103" y="10727"/>
                    </a:lnTo>
                    <a:lnTo>
                      <a:pt x="67" y="10708"/>
                    </a:lnTo>
                    <a:lnTo>
                      <a:pt x="39" y="10691"/>
                    </a:lnTo>
                    <a:lnTo>
                      <a:pt x="18" y="10674"/>
                    </a:lnTo>
                    <a:lnTo>
                      <a:pt x="4" y="10657"/>
                    </a:lnTo>
                    <a:lnTo>
                      <a:pt x="0" y="10641"/>
                    </a:lnTo>
                    <a:lnTo>
                      <a:pt x="3" y="10627"/>
                    </a:lnTo>
                    <a:lnTo>
                      <a:pt x="16" y="10614"/>
                    </a:lnTo>
                    <a:lnTo>
                      <a:pt x="40" y="10601"/>
                    </a:lnTo>
                    <a:lnTo>
                      <a:pt x="74" y="10590"/>
                    </a:lnTo>
                    <a:lnTo>
                      <a:pt x="3530" y="0"/>
                    </a:lnTo>
                    <a:lnTo>
                      <a:pt x="13707" y="35"/>
                    </a:lnTo>
                    <a:lnTo>
                      <a:pt x="14217" y="458"/>
                    </a:lnTo>
                    <a:lnTo>
                      <a:pt x="11695" y="13147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"/>
              <p:cNvSpPr/>
              <p:nvPr/>
            </p:nvSpPr>
            <p:spPr>
              <a:xfrm>
                <a:off x="7780320" y="3703680"/>
                <a:ext cx="733320" cy="2393640"/>
              </a:xfrm>
              <a:custGeom>
                <a:avLst/>
                <a:gdLst/>
                <a:ahLst/>
                <a:rect l="l" t="t" r="r" b="b"/>
                <a:pathLst>
                  <a:path w="4156" h="13570">
                    <a:moveTo>
                      <a:pt x="1711" y="12922"/>
                    </a:moveTo>
                    <a:lnTo>
                      <a:pt x="0" y="13570"/>
                    </a:lnTo>
                    <a:lnTo>
                      <a:pt x="3724" y="0"/>
                    </a:lnTo>
                    <a:lnTo>
                      <a:pt x="4156" y="337"/>
                    </a:lnTo>
                    <a:lnTo>
                      <a:pt x="1711" y="12922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8088120" y="4479840"/>
                <a:ext cx="285840" cy="1386000"/>
              </a:xfrm>
              <a:custGeom>
                <a:avLst/>
                <a:gdLst/>
                <a:ahLst/>
                <a:rect l="l" t="t" r="r" b="b"/>
                <a:pathLst>
                  <a:path w="1623" h="7860">
                    <a:moveTo>
                      <a:pt x="1623" y="0"/>
                    </a:moveTo>
                    <a:lnTo>
                      <a:pt x="93" y="7860"/>
                    </a:lnTo>
                    <a:lnTo>
                      <a:pt x="81" y="7747"/>
                    </a:lnTo>
                    <a:lnTo>
                      <a:pt x="69" y="7631"/>
                    </a:lnTo>
                    <a:lnTo>
                      <a:pt x="58" y="7511"/>
                    </a:lnTo>
                    <a:lnTo>
                      <a:pt x="49" y="7389"/>
                    </a:lnTo>
                    <a:lnTo>
                      <a:pt x="39" y="7265"/>
                    </a:lnTo>
                    <a:lnTo>
                      <a:pt x="30" y="7136"/>
                    </a:lnTo>
                    <a:lnTo>
                      <a:pt x="23" y="7007"/>
                    </a:lnTo>
                    <a:lnTo>
                      <a:pt x="16" y="6874"/>
                    </a:lnTo>
                    <a:lnTo>
                      <a:pt x="11" y="6739"/>
                    </a:lnTo>
                    <a:lnTo>
                      <a:pt x="7" y="6602"/>
                    </a:lnTo>
                    <a:lnTo>
                      <a:pt x="3" y="6462"/>
                    </a:lnTo>
                    <a:lnTo>
                      <a:pt x="1" y="6321"/>
                    </a:lnTo>
                    <a:lnTo>
                      <a:pt x="0" y="6177"/>
                    </a:lnTo>
                    <a:lnTo>
                      <a:pt x="1" y="6031"/>
                    </a:lnTo>
                    <a:lnTo>
                      <a:pt x="3" y="5884"/>
                    </a:lnTo>
                    <a:lnTo>
                      <a:pt x="8" y="5735"/>
                    </a:lnTo>
                    <a:lnTo>
                      <a:pt x="13" y="5584"/>
                    </a:lnTo>
                    <a:lnTo>
                      <a:pt x="21" y="5433"/>
                    </a:lnTo>
                    <a:lnTo>
                      <a:pt x="29" y="5279"/>
                    </a:lnTo>
                    <a:lnTo>
                      <a:pt x="40" y="5124"/>
                    </a:lnTo>
                    <a:lnTo>
                      <a:pt x="53" y="4968"/>
                    </a:lnTo>
                    <a:lnTo>
                      <a:pt x="68" y="4811"/>
                    </a:lnTo>
                    <a:lnTo>
                      <a:pt x="84" y="4652"/>
                    </a:lnTo>
                    <a:lnTo>
                      <a:pt x="104" y="4493"/>
                    </a:lnTo>
                    <a:lnTo>
                      <a:pt x="125" y="4333"/>
                    </a:lnTo>
                    <a:lnTo>
                      <a:pt x="149" y="4172"/>
                    </a:lnTo>
                    <a:lnTo>
                      <a:pt x="175" y="4011"/>
                    </a:lnTo>
                    <a:lnTo>
                      <a:pt x="203" y="3849"/>
                    </a:lnTo>
                    <a:lnTo>
                      <a:pt x="235" y="3686"/>
                    </a:lnTo>
                    <a:lnTo>
                      <a:pt x="268" y="3523"/>
                    </a:lnTo>
                    <a:lnTo>
                      <a:pt x="305" y="3359"/>
                    </a:lnTo>
                    <a:lnTo>
                      <a:pt x="344" y="3195"/>
                    </a:lnTo>
                    <a:lnTo>
                      <a:pt x="375" y="3072"/>
                    </a:lnTo>
                    <a:lnTo>
                      <a:pt x="408" y="2951"/>
                    </a:lnTo>
                    <a:lnTo>
                      <a:pt x="442" y="2831"/>
                    </a:lnTo>
                    <a:lnTo>
                      <a:pt x="477" y="2713"/>
                    </a:lnTo>
                    <a:lnTo>
                      <a:pt x="511" y="2596"/>
                    </a:lnTo>
                    <a:lnTo>
                      <a:pt x="547" y="2480"/>
                    </a:lnTo>
                    <a:lnTo>
                      <a:pt x="582" y="2367"/>
                    </a:lnTo>
                    <a:lnTo>
                      <a:pt x="620" y="2255"/>
                    </a:lnTo>
                    <a:lnTo>
                      <a:pt x="657" y="2143"/>
                    </a:lnTo>
                    <a:lnTo>
                      <a:pt x="696" y="2034"/>
                    </a:lnTo>
                    <a:lnTo>
                      <a:pt x="734" y="1926"/>
                    </a:lnTo>
                    <a:lnTo>
                      <a:pt x="774" y="1820"/>
                    </a:lnTo>
                    <a:lnTo>
                      <a:pt x="813" y="1716"/>
                    </a:lnTo>
                    <a:lnTo>
                      <a:pt x="852" y="1612"/>
                    </a:lnTo>
                    <a:lnTo>
                      <a:pt x="894" y="1510"/>
                    </a:lnTo>
                    <a:lnTo>
                      <a:pt x="935" y="1410"/>
                    </a:lnTo>
                    <a:lnTo>
                      <a:pt x="976" y="1311"/>
                    </a:lnTo>
                    <a:lnTo>
                      <a:pt x="1017" y="1213"/>
                    </a:lnTo>
                    <a:lnTo>
                      <a:pt x="1059" y="1117"/>
                    </a:lnTo>
                    <a:lnTo>
                      <a:pt x="1101" y="1023"/>
                    </a:lnTo>
                    <a:lnTo>
                      <a:pt x="1144" y="931"/>
                    </a:lnTo>
                    <a:lnTo>
                      <a:pt x="1186" y="839"/>
                    </a:lnTo>
                    <a:lnTo>
                      <a:pt x="1229" y="748"/>
                    </a:lnTo>
                    <a:lnTo>
                      <a:pt x="1273" y="659"/>
                    </a:lnTo>
                    <a:lnTo>
                      <a:pt x="1316" y="572"/>
                    </a:lnTo>
                    <a:lnTo>
                      <a:pt x="1360" y="486"/>
                    </a:lnTo>
                    <a:lnTo>
                      <a:pt x="1403" y="401"/>
                    </a:lnTo>
                    <a:lnTo>
                      <a:pt x="1447" y="318"/>
                    </a:lnTo>
                    <a:lnTo>
                      <a:pt x="1491" y="237"/>
                    </a:lnTo>
                    <a:lnTo>
                      <a:pt x="1534" y="156"/>
                    </a:lnTo>
                    <a:lnTo>
                      <a:pt x="1578" y="77"/>
                    </a:lnTo>
                    <a:lnTo>
                      <a:pt x="1623" y="0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6060960" y="3697200"/>
                <a:ext cx="2355840" cy="2406600"/>
              </a:xfrm>
              <a:custGeom>
                <a:avLst/>
                <a:gdLst/>
                <a:ahLst/>
                <a:rect l="l" t="t" r="r" b="b"/>
                <a:pathLst>
                  <a:path w="13358" h="13640">
                    <a:moveTo>
                      <a:pt x="9590" y="13640"/>
                    </a:moveTo>
                    <a:lnTo>
                      <a:pt x="9467" y="13595"/>
                    </a:lnTo>
                    <a:lnTo>
                      <a:pt x="9343" y="13551"/>
                    </a:lnTo>
                    <a:lnTo>
                      <a:pt x="9219" y="13507"/>
                    </a:lnTo>
                    <a:lnTo>
                      <a:pt x="9095" y="13465"/>
                    </a:lnTo>
                    <a:lnTo>
                      <a:pt x="8971" y="13423"/>
                    </a:lnTo>
                    <a:lnTo>
                      <a:pt x="8845" y="13380"/>
                    </a:lnTo>
                    <a:lnTo>
                      <a:pt x="8720" y="13339"/>
                    </a:lnTo>
                    <a:lnTo>
                      <a:pt x="8596" y="13298"/>
                    </a:lnTo>
                    <a:lnTo>
                      <a:pt x="8471" y="13258"/>
                    </a:lnTo>
                    <a:lnTo>
                      <a:pt x="8345" y="13218"/>
                    </a:lnTo>
                    <a:lnTo>
                      <a:pt x="8220" y="13178"/>
                    </a:lnTo>
                    <a:lnTo>
                      <a:pt x="8095" y="13140"/>
                    </a:lnTo>
                    <a:lnTo>
                      <a:pt x="7969" y="13100"/>
                    </a:lnTo>
                    <a:lnTo>
                      <a:pt x="7844" y="13061"/>
                    </a:lnTo>
                    <a:lnTo>
                      <a:pt x="7719" y="13022"/>
                    </a:lnTo>
                    <a:lnTo>
                      <a:pt x="7594" y="12983"/>
                    </a:lnTo>
                    <a:lnTo>
                      <a:pt x="7520" y="13050"/>
                    </a:lnTo>
                    <a:lnTo>
                      <a:pt x="7438" y="13122"/>
                    </a:lnTo>
                    <a:lnTo>
                      <a:pt x="7396" y="13161"/>
                    </a:lnTo>
                    <a:lnTo>
                      <a:pt x="7351" y="13199"/>
                    </a:lnTo>
                    <a:lnTo>
                      <a:pt x="7307" y="13238"/>
                    </a:lnTo>
                    <a:lnTo>
                      <a:pt x="7261" y="13276"/>
                    </a:lnTo>
                    <a:lnTo>
                      <a:pt x="7213" y="13313"/>
                    </a:lnTo>
                    <a:lnTo>
                      <a:pt x="7166" y="13349"/>
                    </a:lnTo>
                    <a:lnTo>
                      <a:pt x="7142" y="13366"/>
                    </a:lnTo>
                    <a:lnTo>
                      <a:pt x="7117" y="13383"/>
                    </a:lnTo>
                    <a:lnTo>
                      <a:pt x="7093" y="13399"/>
                    </a:lnTo>
                    <a:lnTo>
                      <a:pt x="7068" y="13415"/>
                    </a:lnTo>
                    <a:lnTo>
                      <a:pt x="7044" y="13429"/>
                    </a:lnTo>
                    <a:lnTo>
                      <a:pt x="7019" y="13443"/>
                    </a:lnTo>
                    <a:lnTo>
                      <a:pt x="6994" y="13457"/>
                    </a:lnTo>
                    <a:lnTo>
                      <a:pt x="6969" y="13469"/>
                    </a:lnTo>
                    <a:lnTo>
                      <a:pt x="6944" y="13481"/>
                    </a:lnTo>
                    <a:lnTo>
                      <a:pt x="6918" y="13492"/>
                    </a:lnTo>
                    <a:lnTo>
                      <a:pt x="6893" y="13501"/>
                    </a:lnTo>
                    <a:lnTo>
                      <a:pt x="6869" y="13510"/>
                    </a:lnTo>
                    <a:lnTo>
                      <a:pt x="6787" y="13506"/>
                    </a:lnTo>
                    <a:lnTo>
                      <a:pt x="6706" y="13498"/>
                    </a:lnTo>
                    <a:lnTo>
                      <a:pt x="6624" y="13490"/>
                    </a:lnTo>
                    <a:lnTo>
                      <a:pt x="6542" y="13479"/>
                    </a:lnTo>
                    <a:lnTo>
                      <a:pt x="6459" y="13467"/>
                    </a:lnTo>
                    <a:lnTo>
                      <a:pt x="6376" y="13453"/>
                    </a:lnTo>
                    <a:lnTo>
                      <a:pt x="6293" y="13438"/>
                    </a:lnTo>
                    <a:lnTo>
                      <a:pt x="6211" y="13421"/>
                    </a:lnTo>
                    <a:lnTo>
                      <a:pt x="6127" y="13404"/>
                    </a:lnTo>
                    <a:lnTo>
                      <a:pt x="6045" y="13385"/>
                    </a:lnTo>
                    <a:lnTo>
                      <a:pt x="5964" y="13365"/>
                    </a:lnTo>
                    <a:lnTo>
                      <a:pt x="5884" y="13344"/>
                    </a:lnTo>
                    <a:lnTo>
                      <a:pt x="5804" y="13322"/>
                    </a:lnTo>
                    <a:lnTo>
                      <a:pt x="5726" y="13301"/>
                    </a:lnTo>
                    <a:lnTo>
                      <a:pt x="5649" y="13277"/>
                    </a:lnTo>
                    <a:lnTo>
                      <a:pt x="5573" y="13253"/>
                    </a:lnTo>
                    <a:lnTo>
                      <a:pt x="5500" y="13229"/>
                    </a:lnTo>
                    <a:lnTo>
                      <a:pt x="5427" y="13204"/>
                    </a:lnTo>
                    <a:lnTo>
                      <a:pt x="5357" y="13180"/>
                    </a:lnTo>
                    <a:lnTo>
                      <a:pt x="5289" y="13155"/>
                    </a:lnTo>
                    <a:lnTo>
                      <a:pt x="5224" y="13130"/>
                    </a:lnTo>
                    <a:lnTo>
                      <a:pt x="5161" y="13105"/>
                    </a:lnTo>
                    <a:lnTo>
                      <a:pt x="5100" y="13080"/>
                    </a:lnTo>
                    <a:lnTo>
                      <a:pt x="5043" y="13056"/>
                    </a:lnTo>
                    <a:lnTo>
                      <a:pt x="4988" y="13032"/>
                    </a:lnTo>
                    <a:lnTo>
                      <a:pt x="4936" y="13008"/>
                    </a:lnTo>
                    <a:lnTo>
                      <a:pt x="4887" y="12985"/>
                    </a:lnTo>
                    <a:lnTo>
                      <a:pt x="4842" y="12962"/>
                    </a:lnTo>
                    <a:lnTo>
                      <a:pt x="4801" y="12940"/>
                    </a:lnTo>
                    <a:lnTo>
                      <a:pt x="4763" y="12919"/>
                    </a:lnTo>
                    <a:lnTo>
                      <a:pt x="4730" y="12899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13358" y="26"/>
                    </a:lnTo>
                    <a:lnTo>
                      <a:pt x="9590" y="13640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  <a:moveTo>
                      <a:pt x="9038" y="12862"/>
                    </a:moveTo>
                    <a:lnTo>
                      <a:pt x="8398" y="12663"/>
                    </a:lnTo>
                    <a:lnTo>
                      <a:pt x="8588" y="12015"/>
                    </a:lnTo>
                    <a:lnTo>
                      <a:pt x="9253" y="12197"/>
                    </a:lnTo>
                    <a:lnTo>
                      <a:pt x="9038" y="12862"/>
                    </a:lnTo>
                    <a:close/>
                    <a:moveTo>
                      <a:pt x="8692" y="10599"/>
                    </a:moveTo>
                    <a:lnTo>
                      <a:pt x="1399" y="8690"/>
                    </a:lnTo>
                    <a:lnTo>
                      <a:pt x="3897" y="795"/>
                    </a:lnTo>
                    <a:lnTo>
                      <a:pt x="11396" y="1089"/>
                    </a:lnTo>
                    <a:lnTo>
                      <a:pt x="8692" y="10599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6060960" y="3697200"/>
                <a:ext cx="1400400" cy="2382840"/>
              </a:xfrm>
              <a:custGeom>
                <a:avLst/>
                <a:gdLst/>
                <a:ahLst/>
                <a:rect l="l" t="t" r="r" b="b"/>
                <a:pathLst>
                  <a:path w="7940" h="13501">
                    <a:moveTo>
                      <a:pt x="6722" y="13501"/>
                    </a:moveTo>
                    <a:lnTo>
                      <a:pt x="6645" y="13494"/>
                    </a:lnTo>
                    <a:lnTo>
                      <a:pt x="6567" y="13484"/>
                    </a:lnTo>
                    <a:lnTo>
                      <a:pt x="6489" y="13472"/>
                    </a:lnTo>
                    <a:lnTo>
                      <a:pt x="6410" y="13460"/>
                    </a:lnTo>
                    <a:lnTo>
                      <a:pt x="6333" y="13446"/>
                    </a:lnTo>
                    <a:lnTo>
                      <a:pt x="6255" y="13431"/>
                    </a:lnTo>
                    <a:lnTo>
                      <a:pt x="6177" y="13415"/>
                    </a:lnTo>
                    <a:lnTo>
                      <a:pt x="6099" y="13397"/>
                    </a:lnTo>
                    <a:lnTo>
                      <a:pt x="6023" y="13378"/>
                    </a:lnTo>
                    <a:lnTo>
                      <a:pt x="5946" y="13360"/>
                    </a:lnTo>
                    <a:lnTo>
                      <a:pt x="5871" y="13339"/>
                    </a:lnTo>
                    <a:lnTo>
                      <a:pt x="5797" y="13319"/>
                    </a:lnTo>
                    <a:lnTo>
                      <a:pt x="5722" y="13297"/>
                    </a:lnTo>
                    <a:lnTo>
                      <a:pt x="5650" y="13275"/>
                    </a:lnTo>
                    <a:lnTo>
                      <a:pt x="5580" y="13252"/>
                    </a:lnTo>
                    <a:lnTo>
                      <a:pt x="5510" y="13229"/>
                    </a:lnTo>
                    <a:lnTo>
                      <a:pt x="5441" y="13207"/>
                    </a:lnTo>
                    <a:lnTo>
                      <a:pt x="5376" y="13183"/>
                    </a:lnTo>
                    <a:lnTo>
                      <a:pt x="5311" y="13159"/>
                    </a:lnTo>
                    <a:lnTo>
                      <a:pt x="5248" y="13135"/>
                    </a:lnTo>
                    <a:lnTo>
                      <a:pt x="5188" y="13113"/>
                    </a:lnTo>
                    <a:lnTo>
                      <a:pt x="5129" y="13089"/>
                    </a:lnTo>
                    <a:lnTo>
                      <a:pt x="5074" y="13065"/>
                    </a:lnTo>
                    <a:lnTo>
                      <a:pt x="5020" y="13042"/>
                    </a:lnTo>
                    <a:lnTo>
                      <a:pt x="4969" y="13020"/>
                    </a:lnTo>
                    <a:lnTo>
                      <a:pt x="4922" y="12998"/>
                    </a:lnTo>
                    <a:lnTo>
                      <a:pt x="4876" y="12977"/>
                    </a:lnTo>
                    <a:lnTo>
                      <a:pt x="4834" y="12955"/>
                    </a:lnTo>
                    <a:lnTo>
                      <a:pt x="4797" y="12935"/>
                    </a:lnTo>
                    <a:lnTo>
                      <a:pt x="4761" y="12916"/>
                    </a:lnTo>
                    <a:lnTo>
                      <a:pt x="4728" y="12898"/>
                    </a:lnTo>
                    <a:lnTo>
                      <a:pt x="4700" y="12879"/>
                    </a:lnTo>
                    <a:lnTo>
                      <a:pt x="4687" y="12819"/>
                    </a:lnTo>
                    <a:lnTo>
                      <a:pt x="4674" y="12758"/>
                    </a:lnTo>
                    <a:lnTo>
                      <a:pt x="4660" y="12699"/>
                    </a:lnTo>
                    <a:lnTo>
                      <a:pt x="4644" y="12641"/>
                    </a:lnTo>
                    <a:lnTo>
                      <a:pt x="4626" y="12583"/>
                    </a:lnTo>
                    <a:lnTo>
                      <a:pt x="4606" y="12527"/>
                    </a:lnTo>
                    <a:lnTo>
                      <a:pt x="4586" y="12471"/>
                    </a:lnTo>
                    <a:lnTo>
                      <a:pt x="4563" y="12417"/>
                    </a:lnTo>
                    <a:lnTo>
                      <a:pt x="4550" y="12391"/>
                    </a:lnTo>
                    <a:lnTo>
                      <a:pt x="4537" y="12365"/>
                    </a:lnTo>
                    <a:lnTo>
                      <a:pt x="4524" y="12338"/>
                    </a:lnTo>
                    <a:lnTo>
                      <a:pt x="4511" y="12313"/>
                    </a:lnTo>
                    <a:lnTo>
                      <a:pt x="4496" y="12287"/>
                    </a:lnTo>
                    <a:lnTo>
                      <a:pt x="4482" y="12263"/>
                    </a:lnTo>
                    <a:lnTo>
                      <a:pt x="4467" y="12238"/>
                    </a:lnTo>
                    <a:lnTo>
                      <a:pt x="4451" y="12214"/>
                    </a:lnTo>
                    <a:lnTo>
                      <a:pt x="4435" y="12190"/>
                    </a:lnTo>
                    <a:lnTo>
                      <a:pt x="4417" y="12167"/>
                    </a:lnTo>
                    <a:lnTo>
                      <a:pt x="4400" y="12144"/>
                    </a:lnTo>
                    <a:lnTo>
                      <a:pt x="4382" y="12120"/>
                    </a:lnTo>
                    <a:lnTo>
                      <a:pt x="4362" y="12098"/>
                    </a:lnTo>
                    <a:lnTo>
                      <a:pt x="4343" y="12076"/>
                    </a:lnTo>
                    <a:lnTo>
                      <a:pt x="4323" y="12054"/>
                    </a:lnTo>
                    <a:lnTo>
                      <a:pt x="4303" y="12033"/>
                    </a:lnTo>
                    <a:lnTo>
                      <a:pt x="4282" y="12016"/>
                    </a:lnTo>
                    <a:lnTo>
                      <a:pt x="4263" y="12001"/>
                    </a:lnTo>
                    <a:lnTo>
                      <a:pt x="4242" y="11988"/>
                    </a:lnTo>
                    <a:lnTo>
                      <a:pt x="4221" y="11975"/>
                    </a:lnTo>
                    <a:lnTo>
                      <a:pt x="4198" y="11965"/>
                    </a:lnTo>
                    <a:lnTo>
                      <a:pt x="4175" y="11955"/>
                    </a:lnTo>
                    <a:lnTo>
                      <a:pt x="4152" y="11946"/>
                    </a:lnTo>
                    <a:lnTo>
                      <a:pt x="4128" y="11936"/>
                    </a:lnTo>
                    <a:lnTo>
                      <a:pt x="4075" y="11920"/>
                    </a:lnTo>
                    <a:lnTo>
                      <a:pt x="4018" y="11903"/>
                    </a:lnTo>
                    <a:lnTo>
                      <a:pt x="3956" y="11884"/>
                    </a:lnTo>
                    <a:lnTo>
                      <a:pt x="3888" y="11860"/>
                    </a:lnTo>
                    <a:lnTo>
                      <a:pt x="3691" y="11790"/>
                    </a:lnTo>
                    <a:lnTo>
                      <a:pt x="3475" y="11713"/>
                    </a:lnTo>
                    <a:lnTo>
                      <a:pt x="3244" y="11632"/>
                    </a:lnTo>
                    <a:lnTo>
                      <a:pt x="3000" y="11547"/>
                    </a:lnTo>
                    <a:lnTo>
                      <a:pt x="2744" y="11458"/>
                    </a:lnTo>
                    <a:lnTo>
                      <a:pt x="2480" y="11367"/>
                    </a:lnTo>
                    <a:lnTo>
                      <a:pt x="2211" y="11274"/>
                    </a:lnTo>
                    <a:lnTo>
                      <a:pt x="1940" y="11182"/>
                    </a:lnTo>
                    <a:lnTo>
                      <a:pt x="1669" y="11088"/>
                    </a:lnTo>
                    <a:lnTo>
                      <a:pt x="1401" y="10995"/>
                    </a:lnTo>
                    <a:lnTo>
                      <a:pt x="1138" y="10904"/>
                    </a:lnTo>
                    <a:lnTo>
                      <a:pt x="883" y="10814"/>
                    </a:lnTo>
                    <a:lnTo>
                      <a:pt x="639" y="10728"/>
                    </a:lnTo>
                    <a:lnTo>
                      <a:pt x="408" y="10646"/>
                    </a:lnTo>
                    <a:lnTo>
                      <a:pt x="195" y="10568"/>
                    </a:lnTo>
                    <a:lnTo>
                      <a:pt x="0" y="10496"/>
                    </a:lnTo>
                    <a:lnTo>
                      <a:pt x="3413" y="0"/>
                    </a:lnTo>
                    <a:lnTo>
                      <a:pt x="4726" y="0"/>
                    </a:lnTo>
                    <a:lnTo>
                      <a:pt x="4760" y="51"/>
                    </a:lnTo>
                    <a:lnTo>
                      <a:pt x="4794" y="102"/>
                    </a:lnTo>
                    <a:lnTo>
                      <a:pt x="4829" y="153"/>
                    </a:lnTo>
                    <a:lnTo>
                      <a:pt x="4865" y="204"/>
                    </a:lnTo>
                    <a:lnTo>
                      <a:pt x="4900" y="256"/>
                    </a:lnTo>
                    <a:lnTo>
                      <a:pt x="4936" y="309"/>
                    </a:lnTo>
                    <a:lnTo>
                      <a:pt x="4972" y="362"/>
                    </a:lnTo>
                    <a:lnTo>
                      <a:pt x="5007" y="415"/>
                    </a:lnTo>
                    <a:lnTo>
                      <a:pt x="5044" y="469"/>
                    </a:lnTo>
                    <a:lnTo>
                      <a:pt x="5080" y="523"/>
                    </a:lnTo>
                    <a:lnTo>
                      <a:pt x="5116" y="577"/>
                    </a:lnTo>
                    <a:lnTo>
                      <a:pt x="5152" y="632"/>
                    </a:lnTo>
                    <a:lnTo>
                      <a:pt x="5189" y="687"/>
                    </a:lnTo>
                    <a:lnTo>
                      <a:pt x="5224" y="743"/>
                    </a:lnTo>
                    <a:lnTo>
                      <a:pt x="5260" y="800"/>
                    </a:lnTo>
                    <a:lnTo>
                      <a:pt x="5296" y="856"/>
                    </a:lnTo>
                    <a:lnTo>
                      <a:pt x="3897" y="795"/>
                    </a:lnTo>
                    <a:lnTo>
                      <a:pt x="1399" y="8690"/>
                    </a:lnTo>
                    <a:lnTo>
                      <a:pt x="7940" y="10401"/>
                    </a:lnTo>
                    <a:lnTo>
                      <a:pt x="7925" y="10512"/>
                    </a:lnTo>
                    <a:lnTo>
                      <a:pt x="7909" y="10623"/>
                    </a:lnTo>
                    <a:lnTo>
                      <a:pt x="7892" y="10732"/>
                    </a:lnTo>
                    <a:lnTo>
                      <a:pt x="7873" y="10840"/>
                    </a:lnTo>
                    <a:lnTo>
                      <a:pt x="7855" y="10947"/>
                    </a:lnTo>
                    <a:lnTo>
                      <a:pt x="7834" y="11052"/>
                    </a:lnTo>
                    <a:lnTo>
                      <a:pt x="7814" y="11156"/>
                    </a:lnTo>
                    <a:lnTo>
                      <a:pt x="7792" y="11257"/>
                    </a:lnTo>
                    <a:lnTo>
                      <a:pt x="7769" y="11358"/>
                    </a:lnTo>
                    <a:lnTo>
                      <a:pt x="7747" y="11457"/>
                    </a:lnTo>
                    <a:lnTo>
                      <a:pt x="7722" y="11554"/>
                    </a:lnTo>
                    <a:lnTo>
                      <a:pt x="7697" y="11649"/>
                    </a:lnTo>
                    <a:lnTo>
                      <a:pt x="7671" y="11743"/>
                    </a:lnTo>
                    <a:lnTo>
                      <a:pt x="7644" y="11835"/>
                    </a:lnTo>
                    <a:lnTo>
                      <a:pt x="7617" y="11926"/>
                    </a:lnTo>
                    <a:lnTo>
                      <a:pt x="7589" y="12013"/>
                    </a:lnTo>
                    <a:lnTo>
                      <a:pt x="7560" y="12101"/>
                    </a:lnTo>
                    <a:lnTo>
                      <a:pt x="7531" y="12185"/>
                    </a:lnTo>
                    <a:lnTo>
                      <a:pt x="7499" y="12268"/>
                    </a:lnTo>
                    <a:lnTo>
                      <a:pt x="7469" y="12348"/>
                    </a:lnTo>
                    <a:lnTo>
                      <a:pt x="7437" y="12427"/>
                    </a:lnTo>
                    <a:lnTo>
                      <a:pt x="7405" y="12503"/>
                    </a:lnTo>
                    <a:lnTo>
                      <a:pt x="7372" y="12578"/>
                    </a:lnTo>
                    <a:lnTo>
                      <a:pt x="7338" y="12650"/>
                    </a:lnTo>
                    <a:lnTo>
                      <a:pt x="7304" y="12721"/>
                    </a:lnTo>
                    <a:lnTo>
                      <a:pt x="7269" y="12789"/>
                    </a:lnTo>
                    <a:lnTo>
                      <a:pt x="7234" y="12854"/>
                    </a:lnTo>
                    <a:lnTo>
                      <a:pt x="7198" y="12917"/>
                    </a:lnTo>
                    <a:lnTo>
                      <a:pt x="7162" y="12979"/>
                    </a:lnTo>
                    <a:lnTo>
                      <a:pt x="7126" y="13037"/>
                    </a:lnTo>
                    <a:lnTo>
                      <a:pt x="7088" y="13093"/>
                    </a:lnTo>
                    <a:lnTo>
                      <a:pt x="7050" y="13147"/>
                    </a:lnTo>
                    <a:lnTo>
                      <a:pt x="7014" y="13196"/>
                    </a:lnTo>
                    <a:lnTo>
                      <a:pt x="6977" y="13241"/>
                    </a:lnTo>
                    <a:lnTo>
                      <a:pt x="6939" y="13286"/>
                    </a:lnTo>
                    <a:lnTo>
                      <a:pt x="6899" y="13331"/>
                    </a:lnTo>
                    <a:lnTo>
                      <a:pt x="6858" y="13374"/>
                    </a:lnTo>
                    <a:lnTo>
                      <a:pt x="6814" y="13417"/>
                    </a:lnTo>
                    <a:lnTo>
                      <a:pt x="6769" y="13459"/>
                    </a:lnTo>
                    <a:lnTo>
                      <a:pt x="6722" y="13501"/>
                    </a:lnTo>
                    <a:close/>
                    <a:moveTo>
                      <a:pt x="6687" y="13251"/>
                    </a:moveTo>
                    <a:lnTo>
                      <a:pt x="6661" y="13255"/>
                    </a:lnTo>
                    <a:lnTo>
                      <a:pt x="6636" y="13256"/>
                    </a:lnTo>
                    <a:lnTo>
                      <a:pt x="6612" y="13256"/>
                    </a:lnTo>
                    <a:lnTo>
                      <a:pt x="6590" y="13254"/>
                    </a:lnTo>
                    <a:lnTo>
                      <a:pt x="6567" y="13251"/>
                    </a:lnTo>
                    <a:lnTo>
                      <a:pt x="6544" y="13245"/>
                    </a:lnTo>
                    <a:lnTo>
                      <a:pt x="6523" y="13239"/>
                    </a:lnTo>
                    <a:lnTo>
                      <a:pt x="6502" y="13230"/>
                    </a:lnTo>
                    <a:lnTo>
                      <a:pt x="6482" y="13222"/>
                    </a:lnTo>
                    <a:lnTo>
                      <a:pt x="6462" y="13212"/>
                    </a:lnTo>
                    <a:lnTo>
                      <a:pt x="6443" y="13201"/>
                    </a:lnTo>
                    <a:lnTo>
                      <a:pt x="6423" y="13189"/>
                    </a:lnTo>
                    <a:lnTo>
                      <a:pt x="6387" y="13164"/>
                    </a:lnTo>
                    <a:lnTo>
                      <a:pt x="6350" y="13139"/>
                    </a:lnTo>
                    <a:lnTo>
                      <a:pt x="6345" y="13115"/>
                    </a:lnTo>
                    <a:lnTo>
                      <a:pt x="6337" y="13090"/>
                    </a:lnTo>
                    <a:lnTo>
                      <a:pt x="6333" y="13076"/>
                    </a:lnTo>
                    <a:lnTo>
                      <a:pt x="6329" y="13063"/>
                    </a:lnTo>
                    <a:lnTo>
                      <a:pt x="6325" y="13050"/>
                    </a:lnTo>
                    <a:lnTo>
                      <a:pt x="6323" y="13036"/>
                    </a:lnTo>
                    <a:lnTo>
                      <a:pt x="6322" y="13023"/>
                    </a:lnTo>
                    <a:lnTo>
                      <a:pt x="6322" y="13010"/>
                    </a:lnTo>
                    <a:lnTo>
                      <a:pt x="6323" y="12997"/>
                    </a:lnTo>
                    <a:lnTo>
                      <a:pt x="6327" y="12984"/>
                    </a:lnTo>
                    <a:lnTo>
                      <a:pt x="6329" y="12979"/>
                    </a:lnTo>
                    <a:lnTo>
                      <a:pt x="6333" y="12972"/>
                    </a:lnTo>
                    <a:lnTo>
                      <a:pt x="6337" y="12967"/>
                    </a:lnTo>
                    <a:lnTo>
                      <a:pt x="6341" y="12961"/>
                    </a:lnTo>
                    <a:lnTo>
                      <a:pt x="6347" y="12956"/>
                    </a:lnTo>
                    <a:lnTo>
                      <a:pt x="6353" y="12951"/>
                    </a:lnTo>
                    <a:lnTo>
                      <a:pt x="6360" y="12945"/>
                    </a:lnTo>
                    <a:lnTo>
                      <a:pt x="6367" y="12940"/>
                    </a:lnTo>
                    <a:lnTo>
                      <a:pt x="6380" y="12926"/>
                    </a:lnTo>
                    <a:lnTo>
                      <a:pt x="6393" y="12914"/>
                    </a:lnTo>
                    <a:lnTo>
                      <a:pt x="6406" y="12904"/>
                    </a:lnTo>
                    <a:lnTo>
                      <a:pt x="6420" y="12897"/>
                    </a:lnTo>
                    <a:lnTo>
                      <a:pt x="6434" y="12891"/>
                    </a:lnTo>
                    <a:lnTo>
                      <a:pt x="6449" y="12887"/>
                    </a:lnTo>
                    <a:lnTo>
                      <a:pt x="6464" y="12885"/>
                    </a:lnTo>
                    <a:lnTo>
                      <a:pt x="6480" y="12885"/>
                    </a:lnTo>
                    <a:lnTo>
                      <a:pt x="6496" y="12886"/>
                    </a:lnTo>
                    <a:lnTo>
                      <a:pt x="6512" y="12888"/>
                    </a:lnTo>
                    <a:lnTo>
                      <a:pt x="6527" y="12891"/>
                    </a:lnTo>
                    <a:lnTo>
                      <a:pt x="6543" y="12897"/>
                    </a:lnTo>
                    <a:lnTo>
                      <a:pt x="6560" y="12903"/>
                    </a:lnTo>
                    <a:lnTo>
                      <a:pt x="6576" y="12911"/>
                    </a:lnTo>
                    <a:lnTo>
                      <a:pt x="6592" y="12918"/>
                    </a:lnTo>
                    <a:lnTo>
                      <a:pt x="6608" y="12927"/>
                    </a:lnTo>
                    <a:lnTo>
                      <a:pt x="6639" y="12947"/>
                    </a:lnTo>
                    <a:lnTo>
                      <a:pt x="6671" y="12969"/>
                    </a:lnTo>
                    <a:lnTo>
                      <a:pt x="6700" y="12992"/>
                    </a:lnTo>
                    <a:lnTo>
                      <a:pt x="6728" y="13015"/>
                    </a:lnTo>
                    <a:lnTo>
                      <a:pt x="6778" y="13060"/>
                    </a:lnTo>
                    <a:lnTo>
                      <a:pt x="6817" y="13095"/>
                    </a:lnTo>
                    <a:lnTo>
                      <a:pt x="6818" y="13110"/>
                    </a:lnTo>
                    <a:lnTo>
                      <a:pt x="6816" y="13123"/>
                    </a:lnTo>
                    <a:lnTo>
                      <a:pt x="6813" y="13137"/>
                    </a:lnTo>
                    <a:lnTo>
                      <a:pt x="6809" y="13150"/>
                    </a:lnTo>
                    <a:lnTo>
                      <a:pt x="6803" y="13162"/>
                    </a:lnTo>
                    <a:lnTo>
                      <a:pt x="6795" y="13174"/>
                    </a:lnTo>
                    <a:lnTo>
                      <a:pt x="6787" y="13186"/>
                    </a:lnTo>
                    <a:lnTo>
                      <a:pt x="6778" y="13196"/>
                    </a:lnTo>
                    <a:lnTo>
                      <a:pt x="6768" y="13205"/>
                    </a:lnTo>
                    <a:lnTo>
                      <a:pt x="6757" y="13215"/>
                    </a:lnTo>
                    <a:lnTo>
                      <a:pt x="6745" y="13223"/>
                    </a:lnTo>
                    <a:lnTo>
                      <a:pt x="6735" y="13230"/>
                    </a:lnTo>
                    <a:lnTo>
                      <a:pt x="6723" y="13237"/>
                    </a:lnTo>
                    <a:lnTo>
                      <a:pt x="6711" y="13242"/>
                    </a:lnTo>
                    <a:lnTo>
                      <a:pt x="6699" y="13248"/>
                    </a:lnTo>
                    <a:lnTo>
                      <a:pt x="6687" y="13251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6060960" y="3932280"/>
                <a:ext cx="1158840" cy="2054160"/>
              </a:xfrm>
              <a:custGeom>
                <a:avLst/>
                <a:gdLst/>
                <a:ahLst/>
                <a:rect l="l" t="t" r="r" b="b"/>
                <a:pathLst>
                  <a:path w="6566" h="11643">
                    <a:moveTo>
                      <a:pt x="4872" y="11643"/>
                    </a:moveTo>
                    <a:lnTo>
                      <a:pt x="4847" y="11630"/>
                    </a:lnTo>
                    <a:lnTo>
                      <a:pt x="4822" y="11617"/>
                    </a:lnTo>
                    <a:lnTo>
                      <a:pt x="4799" y="11606"/>
                    </a:lnTo>
                    <a:lnTo>
                      <a:pt x="4776" y="11593"/>
                    </a:lnTo>
                    <a:lnTo>
                      <a:pt x="4755" y="11581"/>
                    </a:lnTo>
                    <a:lnTo>
                      <a:pt x="4735" y="11570"/>
                    </a:lnTo>
                    <a:lnTo>
                      <a:pt x="4717" y="11559"/>
                    </a:lnTo>
                    <a:lnTo>
                      <a:pt x="4700" y="11548"/>
                    </a:lnTo>
                    <a:lnTo>
                      <a:pt x="4687" y="11488"/>
                    </a:lnTo>
                    <a:lnTo>
                      <a:pt x="4674" y="11427"/>
                    </a:lnTo>
                    <a:lnTo>
                      <a:pt x="4660" y="11368"/>
                    </a:lnTo>
                    <a:lnTo>
                      <a:pt x="4644" y="11310"/>
                    </a:lnTo>
                    <a:lnTo>
                      <a:pt x="4626" y="11252"/>
                    </a:lnTo>
                    <a:lnTo>
                      <a:pt x="4606" y="11196"/>
                    </a:lnTo>
                    <a:lnTo>
                      <a:pt x="4586" y="11140"/>
                    </a:lnTo>
                    <a:lnTo>
                      <a:pt x="4563" y="11086"/>
                    </a:lnTo>
                    <a:lnTo>
                      <a:pt x="4550" y="11060"/>
                    </a:lnTo>
                    <a:lnTo>
                      <a:pt x="4537" y="11034"/>
                    </a:lnTo>
                    <a:lnTo>
                      <a:pt x="4524" y="11007"/>
                    </a:lnTo>
                    <a:lnTo>
                      <a:pt x="4511" y="10982"/>
                    </a:lnTo>
                    <a:lnTo>
                      <a:pt x="4496" y="10956"/>
                    </a:lnTo>
                    <a:lnTo>
                      <a:pt x="4482" y="10932"/>
                    </a:lnTo>
                    <a:lnTo>
                      <a:pt x="4467" y="10907"/>
                    </a:lnTo>
                    <a:lnTo>
                      <a:pt x="4451" y="10883"/>
                    </a:lnTo>
                    <a:lnTo>
                      <a:pt x="4435" y="10859"/>
                    </a:lnTo>
                    <a:lnTo>
                      <a:pt x="4417" y="10836"/>
                    </a:lnTo>
                    <a:lnTo>
                      <a:pt x="4400" y="10813"/>
                    </a:lnTo>
                    <a:lnTo>
                      <a:pt x="4382" y="10789"/>
                    </a:lnTo>
                    <a:lnTo>
                      <a:pt x="4362" y="10767"/>
                    </a:lnTo>
                    <a:lnTo>
                      <a:pt x="4343" y="10745"/>
                    </a:lnTo>
                    <a:lnTo>
                      <a:pt x="4323" y="10723"/>
                    </a:lnTo>
                    <a:lnTo>
                      <a:pt x="4303" y="10702"/>
                    </a:lnTo>
                    <a:lnTo>
                      <a:pt x="4282" y="10685"/>
                    </a:lnTo>
                    <a:lnTo>
                      <a:pt x="4263" y="10670"/>
                    </a:lnTo>
                    <a:lnTo>
                      <a:pt x="4242" y="10657"/>
                    </a:lnTo>
                    <a:lnTo>
                      <a:pt x="4221" y="10644"/>
                    </a:lnTo>
                    <a:lnTo>
                      <a:pt x="4198" y="10634"/>
                    </a:lnTo>
                    <a:lnTo>
                      <a:pt x="4175" y="10624"/>
                    </a:lnTo>
                    <a:lnTo>
                      <a:pt x="4152" y="10615"/>
                    </a:lnTo>
                    <a:lnTo>
                      <a:pt x="4128" y="10605"/>
                    </a:lnTo>
                    <a:lnTo>
                      <a:pt x="4075" y="10589"/>
                    </a:lnTo>
                    <a:lnTo>
                      <a:pt x="4018" y="10572"/>
                    </a:lnTo>
                    <a:lnTo>
                      <a:pt x="3956" y="10553"/>
                    </a:lnTo>
                    <a:lnTo>
                      <a:pt x="3888" y="10529"/>
                    </a:lnTo>
                    <a:lnTo>
                      <a:pt x="3691" y="10459"/>
                    </a:lnTo>
                    <a:lnTo>
                      <a:pt x="3475" y="10382"/>
                    </a:lnTo>
                    <a:lnTo>
                      <a:pt x="3244" y="10301"/>
                    </a:lnTo>
                    <a:lnTo>
                      <a:pt x="3000" y="10216"/>
                    </a:lnTo>
                    <a:lnTo>
                      <a:pt x="2744" y="10127"/>
                    </a:lnTo>
                    <a:lnTo>
                      <a:pt x="2480" y="10036"/>
                    </a:lnTo>
                    <a:lnTo>
                      <a:pt x="2211" y="9943"/>
                    </a:lnTo>
                    <a:lnTo>
                      <a:pt x="1940" y="9851"/>
                    </a:lnTo>
                    <a:lnTo>
                      <a:pt x="1669" y="9757"/>
                    </a:lnTo>
                    <a:lnTo>
                      <a:pt x="1401" y="9664"/>
                    </a:lnTo>
                    <a:lnTo>
                      <a:pt x="1138" y="9573"/>
                    </a:lnTo>
                    <a:lnTo>
                      <a:pt x="883" y="9483"/>
                    </a:lnTo>
                    <a:lnTo>
                      <a:pt x="639" y="9397"/>
                    </a:lnTo>
                    <a:lnTo>
                      <a:pt x="408" y="9315"/>
                    </a:lnTo>
                    <a:lnTo>
                      <a:pt x="195" y="9237"/>
                    </a:lnTo>
                    <a:lnTo>
                      <a:pt x="0" y="9165"/>
                    </a:lnTo>
                    <a:lnTo>
                      <a:pt x="2981" y="0"/>
                    </a:lnTo>
                    <a:lnTo>
                      <a:pt x="3040" y="87"/>
                    </a:lnTo>
                    <a:lnTo>
                      <a:pt x="3101" y="178"/>
                    </a:lnTo>
                    <a:lnTo>
                      <a:pt x="3162" y="269"/>
                    </a:lnTo>
                    <a:lnTo>
                      <a:pt x="3226" y="363"/>
                    </a:lnTo>
                    <a:lnTo>
                      <a:pt x="3291" y="457"/>
                    </a:lnTo>
                    <a:lnTo>
                      <a:pt x="3355" y="554"/>
                    </a:lnTo>
                    <a:lnTo>
                      <a:pt x="3422" y="651"/>
                    </a:lnTo>
                    <a:lnTo>
                      <a:pt x="3491" y="752"/>
                    </a:lnTo>
                    <a:lnTo>
                      <a:pt x="1399" y="7359"/>
                    </a:lnTo>
                    <a:lnTo>
                      <a:pt x="6566" y="8715"/>
                    </a:lnTo>
                    <a:lnTo>
                      <a:pt x="6549" y="8799"/>
                    </a:lnTo>
                    <a:lnTo>
                      <a:pt x="6530" y="8883"/>
                    </a:lnTo>
                    <a:lnTo>
                      <a:pt x="6509" y="8968"/>
                    </a:lnTo>
                    <a:lnTo>
                      <a:pt x="6486" y="9054"/>
                    </a:lnTo>
                    <a:lnTo>
                      <a:pt x="6462" y="9139"/>
                    </a:lnTo>
                    <a:lnTo>
                      <a:pt x="6435" y="9225"/>
                    </a:lnTo>
                    <a:lnTo>
                      <a:pt x="6406" y="9313"/>
                    </a:lnTo>
                    <a:lnTo>
                      <a:pt x="6376" y="9400"/>
                    </a:lnTo>
                    <a:lnTo>
                      <a:pt x="6342" y="9488"/>
                    </a:lnTo>
                    <a:lnTo>
                      <a:pt x="6307" y="9576"/>
                    </a:lnTo>
                    <a:lnTo>
                      <a:pt x="6270" y="9666"/>
                    </a:lnTo>
                    <a:lnTo>
                      <a:pt x="6230" y="9756"/>
                    </a:lnTo>
                    <a:lnTo>
                      <a:pt x="6188" y="9845"/>
                    </a:lnTo>
                    <a:lnTo>
                      <a:pt x="6144" y="9936"/>
                    </a:lnTo>
                    <a:lnTo>
                      <a:pt x="6096" y="10027"/>
                    </a:lnTo>
                    <a:lnTo>
                      <a:pt x="6046" y="10118"/>
                    </a:lnTo>
                    <a:lnTo>
                      <a:pt x="5995" y="10210"/>
                    </a:lnTo>
                    <a:lnTo>
                      <a:pt x="5939" y="10302"/>
                    </a:lnTo>
                    <a:lnTo>
                      <a:pt x="5882" y="10395"/>
                    </a:lnTo>
                    <a:lnTo>
                      <a:pt x="5823" y="10489"/>
                    </a:lnTo>
                    <a:lnTo>
                      <a:pt x="5759" y="10583"/>
                    </a:lnTo>
                    <a:lnTo>
                      <a:pt x="5694" y="10677"/>
                    </a:lnTo>
                    <a:lnTo>
                      <a:pt x="5625" y="10772"/>
                    </a:lnTo>
                    <a:lnTo>
                      <a:pt x="5554" y="10867"/>
                    </a:lnTo>
                    <a:lnTo>
                      <a:pt x="5479" y="10962"/>
                    </a:lnTo>
                    <a:lnTo>
                      <a:pt x="5403" y="11058"/>
                    </a:lnTo>
                    <a:lnTo>
                      <a:pt x="5322" y="11155"/>
                    </a:lnTo>
                    <a:lnTo>
                      <a:pt x="5238" y="11251"/>
                    </a:lnTo>
                    <a:lnTo>
                      <a:pt x="5152" y="11350"/>
                    </a:lnTo>
                    <a:lnTo>
                      <a:pt x="5062" y="11447"/>
                    </a:lnTo>
                    <a:lnTo>
                      <a:pt x="4969" y="11545"/>
                    </a:lnTo>
                    <a:lnTo>
                      <a:pt x="4872" y="11643"/>
                    </a:lnTo>
                    <a:close/>
                  </a:path>
                </a:pathLst>
              </a:custGeom>
              <a:solidFill>
                <a:srgbClr val="808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6384960" y="6010200"/>
                <a:ext cx="1698480" cy="552240"/>
              </a:xfrm>
              <a:custGeom>
                <a:avLst/>
                <a:gdLst/>
                <a:ahLst/>
                <a:rect l="l" t="t" r="r" b="b"/>
                <a:pathLst>
                  <a:path w="9634" h="3127">
                    <a:moveTo>
                      <a:pt x="5763" y="3127"/>
                    </a:moveTo>
                    <a:lnTo>
                      <a:pt x="5571" y="3088"/>
                    </a:lnTo>
                    <a:lnTo>
                      <a:pt x="5379" y="3046"/>
                    </a:lnTo>
                    <a:lnTo>
                      <a:pt x="5189" y="3002"/>
                    </a:lnTo>
                    <a:lnTo>
                      <a:pt x="4999" y="2953"/>
                    </a:lnTo>
                    <a:lnTo>
                      <a:pt x="4810" y="2904"/>
                    </a:lnTo>
                    <a:lnTo>
                      <a:pt x="4622" y="2851"/>
                    </a:lnTo>
                    <a:lnTo>
                      <a:pt x="4434" y="2795"/>
                    </a:lnTo>
                    <a:lnTo>
                      <a:pt x="4247" y="2736"/>
                    </a:lnTo>
                    <a:lnTo>
                      <a:pt x="4061" y="2675"/>
                    </a:lnTo>
                    <a:lnTo>
                      <a:pt x="3876" y="2612"/>
                    </a:lnTo>
                    <a:lnTo>
                      <a:pt x="3691" y="2546"/>
                    </a:lnTo>
                    <a:lnTo>
                      <a:pt x="3508" y="2477"/>
                    </a:lnTo>
                    <a:lnTo>
                      <a:pt x="3325" y="2407"/>
                    </a:lnTo>
                    <a:lnTo>
                      <a:pt x="3143" y="2335"/>
                    </a:lnTo>
                    <a:lnTo>
                      <a:pt x="2961" y="2260"/>
                    </a:lnTo>
                    <a:lnTo>
                      <a:pt x="2782" y="2183"/>
                    </a:lnTo>
                    <a:lnTo>
                      <a:pt x="2601" y="2105"/>
                    </a:lnTo>
                    <a:lnTo>
                      <a:pt x="2423" y="2024"/>
                    </a:lnTo>
                    <a:lnTo>
                      <a:pt x="2245" y="1941"/>
                    </a:lnTo>
                    <a:lnTo>
                      <a:pt x="2068" y="1857"/>
                    </a:lnTo>
                    <a:lnTo>
                      <a:pt x="1891" y="1771"/>
                    </a:lnTo>
                    <a:lnTo>
                      <a:pt x="1716" y="1683"/>
                    </a:lnTo>
                    <a:lnTo>
                      <a:pt x="1541" y="1595"/>
                    </a:lnTo>
                    <a:lnTo>
                      <a:pt x="1366" y="1504"/>
                    </a:lnTo>
                    <a:lnTo>
                      <a:pt x="1193" y="1412"/>
                    </a:lnTo>
                    <a:lnTo>
                      <a:pt x="1020" y="1318"/>
                    </a:lnTo>
                    <a:lnTo>
                      <a:pt x="848" y="1224"/>
                    </a:lnTo>
                    <a:lnTo>
                      <a:pt x="678" y="1128"/>
                    </a:lnTo>
                    <a:lnTo>
                      <a:pt x="507" y="1031"/>
                    </a:lnTo>
                    <a:lnTo>
                      <a:pt x="337" y="933"/>
                    </a:lnTo>
                    <a:lnTo>
                      <a:pt x="169" y="834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1" y="539"/>
                    </a:lnTo>
                    <a:lnTo>
                      <a:pt x="2604" y="578"/>
                    </a:lnTo>
                    <a:lnTo>
                      <a:pt x="2636" y="618"/>
                    </a:lnTo>
                    <a:lnTo>
                      <a:pt x="2676" y="659"/>
                    </a:lnTo>
                    <a:lnTo>
                      <a:pt x="2725" y="702"/>
                    </a:lnTo>
                    <a:lnTo>
                      <a:pt x="2780" y="745"/>
                    </a:lnTo>
                    <a:lnTo>
                      <a:pt x="2842" y="787"/>
                    </a:lnTo>
                    <a:lnTo>
                      <a:pt x="2913" y="830"/>
                    </a:lnTo>
                    <a:lnTo>
                      <a:pt x="2988" y="874"/>
                    </a:lnTo>
                    <a:lnTo>
                      <a:pt x="3070" y="917"/>
                    </a:lnTo>
                    <a:lnTo>
                      <a:pt x="3158" y="960"/>
                    </a:lnTo>
                    <a:lnTo>
                      <a:pt x="3251" y="1002"/>
                    </a:lnTo>
                    <a:lnTo>
                      <a:pt x="3349" y="1044"/>
                    </a:lnTo>
                    <a:lnTo>
                      <a:pt x="3452" y="1085"/>
                    </a:lnTo>
                    <a:lnTo>
                      <a:pt x="3559" y="1124"/>
                    </a:lnTo>
                    <a:lnTo>
                      <a:pt x="3669" y="1163"/>
                    </a:lnTo>
                    <a:lnTo>
                      <a:pt x="3783" y="1199"/>
                    </a:lnTo>
                    <a:lnTo>
                      <a:pt x="3900" y="1235"/>
                    </a:lnTo>
                    <a:lnTo>
                      <a:pt x="4020" y="1270"/>
                    </a:lnTo>
                    <a:lnTo>
                      <a:pt x="4142" y="1301"/>
                    </a:lnTo>
                    <a:lnTo>
                      <a:pt x="4266" y="1331"/>
                    </a:lnTo>
                    <a:lnTo>
                      <a:pt x="4393" y="1358"/>
                    </a:lnTo>
                    <a:lnTo>
                      <a:pt x="4520" y="1383"/>
                    </a:lnTo>
                    <a:lnTo>
                      <a:pt x="4648" y="1406"/>
                    </a:lnTo>
                    <a:lnTo>
                      <a:pt x="4776" y="1425"/>
                    </a:lnTo>
                    <a:lnTo>
                      <a:pt x="4905" y="1442"/>
                    </a:lnTo>
                    <a:lnTo>
                      <a:pt x="5033" y="1455"/>
                    </a:lnTo>
                    <a:lnTo>
                      <a:pt x="5162" y="1465"/>
                    </a:lnTo>
                    <a:lnTo>
                      <a:pt x="5288" y="1472"/>
                    </a:lnTo>
                    <a:lnTo>
                      <a:pt x="5413" y="1475"/>
                    </a:lnTo>
                    <a:lnTo>
                      <a:pt x="5538" y="1474"/>
                    </a:lnTo>
                    <a:lnTo>
                      <a:pt x="5660" y="1468"/>
                    </a:lnTo>
                    <a:lnTo>
                      <a:pt x="5705" y="1467"/>
                    </a:lnTo>
                    <a:lnTo>
                      <a:pt x="5750" y="1466"/>
                    </a:lnTo>
                    <a:lnTo>
                      <a:pt x="5797" y="1463"/>
                    </a:lnTo>
                    <a:lnTo>
                      <a:pt x="5842" y="1460"/>
                    </a:lnTo>
                    <a:lnTo>
                      <a:pt x="5889" y="1455"/>
                    </a:lnTo>
                    <a:lnTo>
                      <a:pt x="5934" y="1450"/>
                    </a:lnTo>
                    <a:lnTo>
                      <a:pt x="5981" y="1444"/>
                    </a:lnTo>
                    <a:lnTo>
                      <a:pt x="6027" y="1436"/>
                    </a:lnTo>
                    <a:lnTo>
                      <a:pt x="6073" y="1427"/>
                    </a:lnTo>
                    <a:lnTo>
                      <a:pt x="6120" y="1419"/>
                    </a:lnTo>
                    <a:lnTo>
                      <a:pt x="6165" y="1409"/>
                    </a:lnTo>
                    <a:lnTo>
                      <a:pt x="6212" y="1398"/>
                    </a:lnTo>
                    <a:lnTo>
                      <a:pt x="6258" y="1387"/>
                    </a:lnTo>
                    <a:lnTo>
                      <a:pt x="6305" y="1376"/>
                    </a:lnTo>
                    <a:lnTo>
                      <a:pt x="6350" y="1364"/>
                    </a:lnTo>
                    <a:lnTo>
                      <a:pt x="6396" y="1351"/>
                    </a:lnTo>
                    <a:lnTo>
                      <a:pt x="6487" y="1324"/>
                    </a:lnTo>
                    <a:lnTo>
                      <a:pt x="6578" y="1295"/>
                    </a:lnTo>
                    <a:lnTo>
                      <a:pt x="6668" y="1263"/>
                    </a:lnTo>
                    <a:lnTo>
                      <a:pt x="6755" y="1232"/>
                    </a:lnTo>
                    <a:lnTo>
                      <a:pt x="6843" y="1198"/>
                    </a:lnTo>
                    <a:lnTo>
                      <a:pt x="6928" y="1165"/>
                    </a:lnTo>
                    <a:lnTo>
                      <a:pt x="7012" y="1131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52" y="890"/>
                    </a:lnTo>
                    <a:lnTo>
                      <a:pt x="7398" y="915"/>
                    </a:lnTo>
                    <a:lnTo>
                      <a:pt x="7547" y="942"/>
                    </a:lnTo>
                    <a:lnTo>
                      <a:pt x="7699" y="972"/>
                    </a:lnTo>
                    <a:lnTo>
                      <a:pt x="7777" y="987"/>
                    </a:lnTo>
                    <a:lnTo>
                      <a:pt x="7855" y="1002"/>
                    </a:lnTo>
                    <a:lnTo>
                      <a:pt x="7934" y="1018"/>
                    </a:lnTo>
                    <a:lnTo>
                      <a:pt x="8013" y="1035"/>
                    </a:lnTo>
                    <a:lnTo>
                      <a:pt x="8093" y="1054"/>
                    </a:lnTo>
                    <a:lnTo>
                      <a:pt x="8172" y="1073"/>
                    </a:lnTo>
                    <a:lnTo>
                      <a:pt x="8252" y="1093"/>
                    </a:lnTo>
                    <a:lnTo>
                      <a:pt x="8333" y="1114"/>
                    </a:lnTo>
                    <a:lnTo>
                      <a:pt x="8414" y="1137"/>
                    </a:lnTo>
                    <a:lnTo>
                      <a:pt x="8497" y="1161"/>
                    </a:lnTo>
                    <a:lnTo>
                      <a:pt x="8578" y="1185"/>
                    </a:lnTo>
                    <a:lnTo>
                      <a:pt x="8660" y="1212"/>
                    </a:lnTo>
                    <a:lnTo>
                      <a:pt x="8742" y="1241"/>
                    </a:lnTo>
                    <a:lnTo>
                      <a:pt x="8823" y="1271"/>
                    </a:lnTo>
                    <a:lnTo>
                      <a:pt x="8905" y="1302"/>
                    </a:lnTo>
                    <a:lnTo>
                      <a:pt x="8987" y="1334"/>
                    </a:lnTo>
                    <a:lnTo>
                      <a:pt x="9069" y="1370"/>
                    </a:lnTo>
                    <a:lnTo>
                      <a:pt x="9150" y="1407"/>
                    </a:lnTo>
                    <a:lnTo>
                      <a:pt x="9232" y="1447"/>
                    </a:lnTo>
                    <a:lnTo>
                      <a:pt x="9313" y="1488"/>
                    </a:lnTo>
                    <a:lnTo>
                      <a:pt x="9394" y="1531"/>
                    </a:lnTo>
                    <a:lnTo>
                      <a:pt x="9474" y="1577"/>
                    </a:lnTo>
                    <a:lnTo>
                      <a:pt x="9554" y="1625"/>
                    </a:lnTo>
                    <a:lnTo>
                      <a:pt x="9634" y="1676"/>
                    </a:lnTo>
                    <a:lnTo>
                      <a:pt x="9543" y="1722"/>
                    </a:lnTo>
                    <a:lnTo>
                      <a:pt x="9449" y="1770"/>
                    </a:lnTo>
                    <a:lnTo>
                      <a:pt x="9352" y="1817"/>
                    </a:lnTo>
                    <a:lnTo>
                      <a:pt x="9252" y="1865"/>
                    </a:lnTo>
                    <a:lnTo>
                      <a:pt x="9149" y="1913"/>
                    </a:lnTo>
                    <a:lnTo>
                      <a:pt x="9044" y="1963"/>
                    </a:lnTo>
                    <a:lnTo>
                      <a:pt x="8935" y="2012"/>
                    </a:lnTo>
                    <a:lnTo>
                      <a:pt x="8825" y="2061"/>
                    </a:lnTo>
                    <a:lnTo>
                      <a:pt x="8713" y="2111"/>
                    </a:lnTo>
                    <a:lnTo>
                      <a:pt x="8597" y="2161"/>
                    </a:lnTo>
                    <a:lnTo>
                      <a:pt x="8479" y="2210"/>
                    </a:lnTo>
                    <a:lnTo>
                      <a:pt x="8360" y="2260"/>
                    </a:lnTo>
                    <a:lnTo>
                      <a:pt x="8239" y="2310"/>
                    </a:lnTo>
                    <a:lnTo>
                      <a:pt x="8117" y="2358"/>
                    </a:lnTo>
                    <a:lnTo>
                      <a:pt x="7993" y="2408"/>
                    </a:lnTo>
                    <a:lnTo>
                      <a:pt x="7867" y="2457"/>
                    </a:lnTo>
                    <a:lnTo>
                      <a:pt x="7740" y="2504"/>
                    </a:lnTo>
                    <a:lnTo>
                      <a:pt x="7612" y="2552"/>
                    </a:lnTo>
                    <a:lnTo>
                      <a:pt x="7482" y="2599"/>
                    </a:lnTo>
                    <a:lnTo>
                      <a:pt x="7353" y="2646"/>
                    </a:lnTo>
                    <a:lnTo>
                      <a:pt x="7222" y="2691"/>
                    </a:lnTo>
                    <a:lnTo>
                      <a:pt x="7090" y="2736"/>
                    </a:lnTo>
                    <a:lnTo>
                      <a:pt x="6957" y="2781"/>
                    </a:lnTo>
                    <a:lnTo>
                      <a:pt x="6825" y="2824"/>
                    </a:lnTo>
                    <a:lnTo>
                      <a:pt x="6691" y="2866"/>
                    </a:lnTo>
                    <a:lnTo>
                      <a:pt x="6559" y="2907"/>
                    </a:lnTo>
                    <a:lnTo>
                      <a:pt x="6426" y="2947"/>
                    </a:lnTo>
                    <a:lnTo>
                      <a:pt x="6293" y="2986"/>
                    </a:lnTo>
                    <a:lnTo>
                      <a:pt x="6160" y="3023"/>
                    </a:lnTo>
                    <a:lnTo>
                      <a:pt x="6027" y="3059"/>
                    </a:lnTo>
                    <a:lnTo>
                      <a:pt x="5895" y="3094"/>
                    </a:lnTo>
                    <a:lnTo>
                      <a:pt x="5763" y="3127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6384960" y="6010200"/>
                <a:ext cx="1558800" cy="309600"/>
              </a:xfrm>
              <a:custGeom>
                <a:avLst/>
                <a:gdLst/>
                <a:ahLst/>
                <a:rect l="l" t="t" r="r" b="b"/>
                <a:pathLst>
                  <a:path w="8839" h="1754">
                    <a:moveTo>
                      <a:pt x="1806" y="1736"/>
                    </a:moveTo>
                    <a:lnTo>
                      <a:pt x="1691" y="1678"/>
                    </a:lnTo>
                    <a:lnTo>
                      <a:pt x="1576" y="1619"/>
                    </a:lnTo>
                    <a:lnTo>
                      <a:pt x="1462" y="1558"/>
                    </a:lnTo>
                    <a:lnTo>
                      <a:pt x="1347" y="1499"/>
                    </a:lnTo>
                    <a:lnTo>
                      <a:pt x="1234" y="1437"/>
                    </a:lnTo>
                    <a:lnTo>
                      <a:pt x="1120" y="1376"/>
                    </a:lnTo>
                    <a:lnTo>
                      <a:pt x="1007" y="1314"/>
                    </a:lnTo>
                    <a:lnTo>
                      <a:pt x="894" y="1251"/>
                    </a:lnTo>
                    <a:lnTo>
                      <a:pt x="780" y="1189"/>
                    </a:lnTo>
                    <a:lnTo>
                      <a:pt x="668" y="1125"/>
                    </a:lnTo>
                    <a:lnTo>
                      <a:pt x="555" y="1061"/>
                    </a:lnTo>
                    <a:lnTo>
                      <a:pt x="444" y="996"/>
                    </a:lnTo>
                    <a:lnTo>
                      <a:pt x="333" y="932"/>
                    </a:lnTo>
                    <a:lnTo>
                      <a:pt x="222" y="866"/>
                    </a:lnTo>
                    <a:lnTo>
                      <a:pt x="110" y="800"/>
                    </a:lnTo>
                    <a:lnTo>
                      <a:pt x="0" y="734"/>
                    </a:lnTo>
                    <a:lnTo>
                      <a:pt x="68" y="702"/>
                    </a:lnTo>
                    <a:lnTo>
                      <a:pt x="137" y="670"/>
                    </a:lnTo>
                    <a:lnTo>
                      <a:pt x="207" y="640"/>
                    </a:lnTo>
                    <a:lnTo>
                      <a:pt x="276" y="610"/>
                    </a:lnTo>
                    <a:lnTo>
                      <a:pt x="346" y="581"/>
                    </a:lnTo>
                    <a:lnTo>
                      <a:pt x="416" y="553"/>
                    </a:lnTo>
                    <a:lnTo>
                      <a:pt x="486" y="524"/>
                    </a:lnTo>
                    <a:lnTo>
                      <a:pt x="558" y="497"/>
                    </a:lnTo>
                    <a:lnTo>
                      <a:pt x="628" y="470"/>
                    </a:lnTo>
                    <a:lnTo>
                      <a:pt x="700" y="446"/>
                    </a:lnTo>
                    <a:lnTo>
                      <a:pt x="772" y="420"/>
                    </a:lnTo>
                    <a:lnTo>
                      <a:pt x="844" y="396"/>
                    </a:lnTo>
                    <a:lnTo>
                      <a:pt x="916" y="372"/>
                    </a:lnTo>
                    <a:lnTo>
                      <a:pt x="990" y="348"/>
                    </a:lnTo>
                    <a:lnTo>
                      <a:pt x="1063" y="326"/>
                    </a:lnTo>
                    <a:lnTo>
                      <a:pt x="1137" y="304"/>
                    </a:lnTo>
                    <a:lnTo>
                      <a:pt x="1210" y="284"/>
                    </a:lnTo>
                    <a:lnTo>
                      <a:pt x="1285" y="263"/>
                    </a:lnTo>
                    <a:lnTo>
                      <a:pt x="1359" y="243"/>
                    </a:lnTo>
                    <a:lnTo>
                      <a:pt x="1434" y="224"/>
                    </a:lnTo>
                    <a:lnTo>
                      <a:pt x="1508" y="205"/>
                    </a:lnTo>
                    <a:lnTo>
                      <a:pt x="1584" y="188"/>
                    </a:lnTo>
                    <a:lnTo>
                      <a:pt x="1660" y="170"/>
                    </a:lnTo>
                    <a:lnTo>
                      <a:pt x="1735" y="153"/>
                    </a:lnTo>
                    <a:lnTo>
                      <a:pt x="1812" y="138"/>
                    </a:lnTo>
                    <a:lnTo>
                      <a:pt x="1887" y="122"/>
                    </a:lnTo>
                    <a:lnTo>
                      <a:pt x="1964" y="108"/>
                    </a:lnTo>
                    <a:lnTo>
                      <a:pt x="2041" y="94"/>
                    </a:lnTo>
                    <a:lnTo>
                      <a:pt x="2119" y="80"/>
                    </a:lnTo>
                    <a:lnTo>
                      <a:pt x="2195" y="67"/>
                    </a:lnTo>
                    <a:lnTo>
                      <a:pt x="2273" y="55"/>
                    </a:lnTo>
                    <a:lnTo>
                      <a:pt x="2351" y="43"/>
                    </a:lnTo>
                    <a:lnTo>
                      <a:pt x="2524" y="0"/>
                    </a:lnTo>
                    <a:lnTo>
                      <a:pt x="2526" y="28"/>
                    </a:lnTo>
                    <a:lnTo>
                      <a:pt x="2527" y="55"/>
                    </a:lnTo>
                    <a:lnTo>
                      <a:pt x="2527" y="82"/>
                    </a:lnTo>
                    <a:lnTo>
                      <a:pt x="2526" y="109"/>
                    </a:lnTo>
                    <a:lnTo>
                      <a:pt x="2524" y="164"/>
                    </a:lnTo>
                    <a:lnTo>
                      <a:pt x="2523" y="221"/>
                    </a:lnTo>
                    <a:lnTo>
                      <a:pt x="2523" y="251"/>
                    </a:lnTo>
                    <a:lnTo>
                      <a:pt x="2523" y="283"/>
                    </a:lnTo>
                    <a:lnTo>
                      <a:pt x="2526" y="315"/>
                    </a:lnTo>
                    <a:lnTo>
                      <a:pt x="2529" y="348"/>
                    </a:lnTo>
                    <a:lnTo>
                      <a:pt x="2535" y="384"/>
                    </a:lnTo>
                    <a:lnTo>
                      <a:pt x="2543" y="421"/>
                    </a:lnTo>
                    <a:lnTo>
                      <a:pt x="2553" y="460"/>
                    </a:lnTo>
                    <a:lnTo>
                      <a:pt x="2567" y="501"/>
                    </a:lnTo>
                    <a:lnTo>
                      <a:pt x="2580" y="536"/>
                    </a:lnTo>
                    <a:lnTo>
                      <a:pt x="2600" y="573"/>
                    </a:lnTo>
                    <a:lnTo>
                      <a:pt x="2630" y="611"/>
                    </a:lnTo>
                    <a:lnTo>
                      <a:pt x="2666" y="650"/>
                    </a:lnTo>
                    <a:lnTo>
                      <a:pt x="2710" y="689"/>
                    </a:lnTo>
                    <a:lnTo>
                      <a:pt x="2760" y="729"/>
                    </a:lnTo>
                    <a:lnTo>
                      <a:pt x="2816" y="770"/>
                    </a:lnTo>
                    <a:lnTo>
                      <a:pt x="2880" y="810"/>
                    </a:lnTo>
                    <a:lnTo>
                      <a:pt x="2949" y="851"/>
                    </a:lnTo>
                    <a:lnTo>
                      <a:pt x="3024" y="892"/>
                    </a:lnTo>
                    <a:lnTo>
                      <a:pt x="3104" y="933"/>
                    </a:lnTo>
                    <a:lnTo>
                      <a:pt x="3188" y="973"/>
                    </a:lnTo>
                    <a:lnTo>
                      <a:pt x="3278" y="1013"/>
                    </a:lnTo>
                    <a:lnTo>
                      <a:pt x="3372" y="1053"/>
                    </a:lnTo>
                    <a:lnTo>
                      <a:pt x="3469" y="1090"/>
                    </a:lnTo>
                    <a:lnTo>
                      <a:pt x="3570" y="1128"/>
                    </a:lnTo>
                    <a:lnTo>
                      <a:pt x="3675" y="1165"/>
                    </a:lnTo>
                    <a:lnTo>
                      <a:pt x="3783" y="1199"/>
                    </a:lnTo>
                    <a:lnTo>
                      <a:pt x="3895" y="1234"/>
                    </a:lnTo>
                    <a:lnTo>
                      <a:pt x="4008" y="1266"/>
                    </a:lnTo>
                    <a:lnTo>
                      <a:pt x="4123" y="1297"/>
                    </a:lnTo>
                    <a:lnTo>
                      <a:pt x="4240" y="1326"/>
                    </a:lnTo>
                    <a:lnTo>
                      <a:pt x="4359" y="1352"/>
                    </a:lnTo>
                    <a:lnTo>
                      <a:pt x="4479" y="1377"/>
                    </a:lnTo>
                    <a:lnTo>
                      <a:pt x="4600" y="1399"/>
                    </a:lnTo>
                    <a:lnTo>
                      <a:pt x="4721" y="1419"/>
                    </a:lnTo>
                    <a:lnTo>
                      <a:pt x="4843" y="1436"/>
                    </a:lnTo>
                    <a:lnTo>
                      <a:pt x="4964" y="1450"/>
                    </a:lnTo>
                    <a:lnTo>
                      <a:pt x="5085" y="1462"/>
                    </a:lnTo>
                    <a:lnTo>
                      <a:pt x="5206" y="1471"/>
                    </a:lnTo>
                    <a:lnTo>
                      <a:pt x="5325" y="1475"/>
                    </a:lnTo>
                    <a:lnTo>
                      <a:pt x="5444" y="1477"/>
                    </a:lnTo>
                    <a:lnTo>
                      <a:pt x="5400" y="1491"/>
                    </a:lnTo>
                    <a:lnTo>
                      <a:pt x="5356" y="1506"/>
                    </a:lnTo>
                    <a:lnTo>
                      <a:pt x="5310" y="1520"/>
                    </a:lnTo>
                    <a:lnTo>
                      <a:pt x="5262" y="1534"/>
                    </a:lnTo>
                    <a:lnTo>
                      <a:pt x="5211" y="1548"/>
                    </a:lnTo>
                    <a:lnTo>
                      <a:pt x="5161" y="1562"/>
                    </a:lnTo>
                    <a:lnTo>
                      <a:pt x="5107" y="1576"/>
                    </a:lnTo>
                    <a:lnTo>
                      <a:pt x="5052" y="1589"/>
                    </a:lnTo>
                    <a:lnTo>
                      <a:pt x="4994" y="1602"/>
                    </a:lnTo>
                    <a:lnTo>
                      <a:pt x="4935" y="1614"/>
                    </a:lnTo>
                    <a:lnTo>
                      <a:pt x="4873" y="1626"/>
                    </a:lnTo>
                    <a:lnTo>
                      <a:pt x="4811" y="1637"/>
                    </a:lnTo>
                    <a:lnTo>
                      <a:pt x="4745" y="1648"/>
                    </a:lnTo>
                    <a:lnTo>
                      <a:pt x="4678" y="1658"/>
                    </a:lnTo>
                    <a:lnTo>
                      <a:pt x="4609" y="1667"/>
                    </a:lnTo>
                    <a:lnTo>
                      <a:pt x="4536" y="1676"/>
                    </a:lnTo>
                    <a:lnTo>
                      <a:pt x="4447" y="1684"/>
                    </a:lnTo>
                    <a:lnTo>
                      <a:pt x="4355" y="1692"/>
                    </a:lnTo>
                    <a:lnTo>
                      <a:pt x="4262" y="1700"/>
                    </a:lnTo>
                    <a:lnTo>
                      <a:pt x="4168" y="1707"/>
                    </a:lnTo>
                    <a:lnTo>
                      <a:pt x="4072" y="1712"/>
                    </a:lnTo>
                    <a:lnTo>
                      <a:pt x="3976" y="1719"/>
                    </a:lnTo>
                    <a:lnTo>
                      <a:pt x="3879" y="1724"/>
                    </a:lnTo>
                    <a:lnTo>
                      <a:pt x="3782" y="1729"/>
                    </a:lnTo>
                    <a:lnTo>
                      <a:pt x="3587" y="1737"/>
                    </a:lnTo>
                    <a:lnTo>
                      <a:pt x="3391" y="1744"/>
                    </a:lnTo>
                    <a:lnTo>
                      <a:pt x="3199" y="1748"/>
                    </a:lnTo>
                    <a:lnTo>
                      <a:pt x="3009" y="1751"/>
                    </a:lnTo>
                    <a:lnTo>
                      <a:pt x="2825" y="1754"/>
                    </a:lnTo>
                    <a:lnTo>
                      <a:pt x="2647" y="1754"/>
                    </a:lnTo>
                    <a:lnTo>
                      <a:pt x="2477" y="1752"/>
                    </a:lnTo>
                    <a:lnTo>
                      <a:pt x="2317" y="1751"/>
                    </a:lnTo>
                    <a:lnTo>
                      <a:pt x="2169" y="1748"/>
                    </a:lnTo>
                    <a:lnTo>
                      <a:pt x="2033" y="1745"/>
                    </a:lnTo>
                    <a:lnTo>
                      <a:pt x="1912" y="1741"/>
                    </a:lnTo>
                    <a:lnTo>
                      <a:pt x="1806" y="1736"/>
                    </a:lnTo>
                    <a:close/>
                    <a:moveTo>
                      <a:pt x="6982" y="1149"/>
                    </a:moveTo>
                    <a:lnTo>
                      <a:pt x="7009" y="1136"/>
                    </a:lnTo>
                    <a:lnTo>
                      <a:pt x="7038" y="1123"/>
                    </a:lnTo>
                    <a:lnTo>
                      <a:pt x="7066" y="1110"/>
                    </a:lnTo>
                    <a:lnTo>
                      <a:pt x="7094" y="1097"/>
                    </a:lnTo>
                    <a:lnTo>
                      <a:pt x="7106" y="1080"/>
                    </a:lnTo>
                    <a:lnTo>
                      <a:pt x="7116" y="1064"/>
                    </a:lnTo>
                    <a:lnTo>
                      <a:pt x="7122" y="1050"/>
                    </a:lnTo>
                    <a:lnTo>
                      <a:pt x="7126" y="1037"/>
                    </a:lnTo>
                    <a:lnTo>
                      <a:pt x="7127" y="1026"/>
                    </a:lnTo>
                    <a:lnTo>
                      <a:pt x="7127" y="1014"/>
                    </a:lnTo>
                    <a:lnTo>
                      <a:pt x="7125" y="1002"/>
                    </a:lnTo>
                    <a:lnTo>
                      <a:pt x="7122" y="990"/>
                    </a:lnTo>
                    <a:lnTo>
                      <a:pt x="7115" y="965"/>
                    </a:lnTo>
                    <a:lnTo>
                      <a:pt x="7108" y="938"/>
                    </a:lnTo>
                    <a:lnTo>
                      <a:pt x="7106" y="922"/>
                    </a:lnTo>
                    <a:lnTo>
                      <a:pt x="7106" y="905"/>
                    </a:lnTo>
                    <a:lnTo>
                      <a:pt x="7107" y="885"/>
                    </a:lnTo>
                    <a:lnTo>
                      <a:pt x="7112" y="864"/>
                    </a:lnTo>
                    <a:lnTo>
                      <a:pt x="7209" y="882"/>
                    </a:lnTo>
                    <a:lnTo>
                      <a:pt x="7309" y="899"/>
                    </a:lnTo>
                    <a:lnTo>
                      <a:pt x="7411" y="918"/>
                    </a:lnTo>
                    <a:lnTo>
                      <a:pt x="7515" y="936"/>
                    </a:lnTo>
                    <a:lnTo>
                      <a:pt x="7619" y="955"/>
                    </a:lnTo>
                    <a:lnTo>
                      <a:pt x="7726" y="975"/>
                    </a:lnTo>
                    <a:lnTo>
                      <a:pt x="7834" y="996"/>
                    </a:lnTo>
                    <a:lnTo>
                      <a:pt x="7942" y="1019"/>
                    </a:lnTo>
                    <a:lnTo>
                      <a:pt x="8053" y="1044"/>
                    </a:lnTo>
                    <a:lnTo>
                      <a:pt x="8163" y="1070"/>
                    </a:lnTo>
                    <a:lnTo>
                      <a:pt x="8275" y="1098"/>
                    </a:lnTo>
                    <a:lnTo>
                      <a:pt x="8386" y="1128"/>
                    </a:lnTo>
                    <a:lnTo>
                      <a:pt x="8444" y="1144"/>
                    </a:lnTo>
                    <a:lnTo>
                      <a:pt x="8500" y="1162"/>
                    </a:lnTo>
                    <a:lnTo>
                      <a:pt x="8556" y="1179"/>
                    </a:lnTo>
                    <a:lnTo>
                      <a:pt x="8612" y="1197"/>
                    </a:lnTo>
                    <a:lnTo>
                      <a:pt x="8669" y="1217"/>
                    </a:lnTo>
                    <a:lnTo>
                      <a:pt x="8726" y="1236"/>
                    </a:lnTo>
                    <a:lnTo>
                      <a:pt x="8783" y="1257"/>
                    </a:lnTo>
                    <a:lnTo>
                      <a:pt x="8839" y="1278"/>
                    </a:lnTo>
                    <a:lnTo>
                      <a:pt x="8788" y="1268"/>
                    </a:lnTo>
                    <a:lnTo>
                      <a:pt x="8737" y="1256"/>
                    </a:lnTo>
                    <a:lnTo>
                      <a:pt x="8684" y="1245"/>
                    </a:lnTo>
                    <a:lnTo>
                      <a:pt x="8632" y="1234"/>
                    </a:lnTo>
                    <a:lnTo>
                      <a:pt x="8578" y="1223"/>
                    </a:lnTo>
                    <a:lnTo>
                      <a:pt x="8524" y="1212"/>
                    </a:lnTo>
                    <a:lnTo>
                      <a:pt x="8467" y="1203"/>
                    </a:lnTo>
                    <a:lnTo>
                      <a:pt x="8411" y="1193"/>
                    </a:lnTo>
                    <a:lnTo>
                      <a:pt x="8354" y="1184"/>
                    </a:lnTo>
                    <a:lnTo>
                      <a:pt x="8297" y="1176"/>
                    </a:lnTo>
                    <a:lnTo>
                      <a:pt x="8237" y="1168"/>
                    </a:lnTo>
                    <a:lnTo>
                      <a:pt x="8178" y="1161"/>
                    </a:lnTo>
                    <a:lnTo>
                      <a:pt x="8117" y="1154"/>
                    </a:lnTo>
                    <a:lnTo>
                      <a:pt x="8057" y="1149"/>
                    </a:lnTo>
                    <a:lnTo>
                      <a:pt x="7994" y="1143"/>
                    </a:lnTo>
                    <a:lnTo>
                      <a:pt x="7932" y="1140"/>
                    </a:lnTo>
                    <a:lnTo>
                      <a:pt x="7876" y="1137"/>
                    </a:lnTo>
                    <a:lnTo>
                      <a:pt x="7819" y="1135"/>
                    </a:lnTo>
                    <a:lnTo>
                      <a:pt x="7762" y="1133"/>
                    </a:lnTo>
                    <a:lnTo>
                      <a:pt x="7704" y="1131"/>
                    </a:lnTo>
                    <a:lnTo>
                      <a:pt x="7644" y="1131"/>
                    </a:lnTo>
                    <a:lnTo>
                      <a:pt x="7584" y="1130"/>
                    </a:lnTo>
                    <a:lnTo>
                      <a:pt x="7524" y="1130"/>
                    </a:lnTo>
                    <a:lnTo>
                      <a:pt x="7463" y="1131"/>
                    </a:lnTo>
                    <a:lnTo>
                      <a:pt x="7402" y="1133"/>
                    </a:lnTo>
                    <a:lnTo>
                      <a:pt x="7342" y="1134"/>
                    </a:lnTo>
                    <a:lnTo>
                      <a:pt x="7280" y="1136"/>
                    </a:lnTo>
                    <a:lnTo>
                      <a:pt x="7220" y="1138"/>
                    </a:lnTo>
                    <a:lnTo>
                      <a:pt x="7159" y="1140"/>
                    </a:lnTo>
                    <a:lnTo>
                      <a:pt x="7100" y="1142"/>
                    </a:lnTo>
                    <a:lnTo>
                      <a:pt x="7040" y="1145"/>
                    </a:lnTo>
                    <a:lnTo>
                      <a:pt x="6982" y="1149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46" y="1410"/>
                    </a:lnTo>
                    <a:lnTo>
                      <a:pt x="274" y="1376"/>
                    </a:lnTo>
                    <a:lnTo>
                      <a:pt x="402" y="1341"/>
                    </a:lnTo>
                    <a:lnTo>
                      <a:pt x="529" y="1304"/>
                    </a:lnTo>
                    <a:lnTo>
                      <a:pt x="656" y="1268"/>
                    </a:lnTo>
                    <a:lnTo>
                      <a:pt x="782" y="1229"/>
                    </a:lnTo>
                    <a:lnTo>
                      <a:pt x="908" y="1189"/>
                    </a:lnTo>
                    <a:lnTo>
                      <a:pt x="1035" y="1148"/>
                    </a:lnTo>
                    <a:lnTo>
                      <a:pt x="1160" y="1106"/>
                    </a:lnTo>
                    <a:lnTo>
                      <a:pt x="1284" y="1062"/>
                    </a:lnTo>
                    <a:lnTo>
                      <a:pt x="1408" y="1019"/>
                    </a:lnTo>
                    <a:lnTo>
                      <a:pt x="1533" y="974"/>
                    </a:lnTo>
                    <a:lnTo>
                      <a:pt x="1657" y="929"/>
                    </a:lnTo>
                    <a:lnTo>
                      <a:pt x="1780" y="883"/>
                    </a:lnTo>
                    <a:lnTo>
                      <a:pt x="1903" y="837"/>
                    </a:lnTo>
                    <a:lnTo>
                      <a:pt x="2025" y="789"/>
                    </a:lnTo>
                    <a:lnTo>
                      <a:pt x="2147" y="741"/>
                    </a:lnTo>
                    <a:lnTo>
                      <a:pt x="2269" y="693"/>
                    </a:lnTo>
                    <a:lnTo>
                      <a:pt x="2390" y="644"/>
                    </a:lnTo>
                    <a:lnTo>
                      <a:pt x="2511" y="595"/>
                    </a:lnTo>
                    <a:lnTo>
                      <a:pt x="2752" y="497"/>
                    </a:lnTo>
                    <a:lnTo>
                      <a:pt x="2991" y="396"/>
                    </a:lnTo>
                    <a:lnTo>
                      <a:pt x="3229" y="297"/>
                    </a:lnTo>
                    <a:lnTo>
                      <a:pt x="3464" y="196"/>
                    </a:lnTo>
                    <a:lnTo>
                      <a:pt x="3699" y="98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79" y="642"/>
                    </a:lnTo>
                    <a:lnTo>
                      <a:pt x="3835" y="692"/>
                    </a:lnTo>
                    <a:lnTo>
                      <a:pt x="3773" y="744"/>
                    </a:lnTo>
                    <a:lnTo>
                      <a:pt x="3695" y="798"/>
                    </a:lnTo>
                    <a:lnTo>
                      <a:pt x="3603" y="854"/>
                    </a:lnTo>
                    <a:lnTo>
                      <a:pt x="3497" y="912"/>
                    </a:lnTo>
                    <a:lnTo>
                      <a:pt x="3379" y="971"/>
                    </a:lnTo>
                    <a:lnTo>
                      <a:pt x="3249" y="1031"/>
                    </a:lnTo>
                    <a:lnTo>
                      <a:pt x="3110" y="1093"/>
                    </a:lnTo>
                    <a:lnTo>
                      <a:pt x="2962" y="1154"/>
                    </a:lnTo>
                    <a:lnTo>
                      <a:pt x="2806" y="1216"/>
                    </a:lnTo>
                    <a:lnTo>
                      <a:pt x="2645" y="1278"/>
                    </a:lnTo>
                    <a:lnTo>
                      <a:pt x="2479" y="1340"/>
                    </a:lnTo>
                    <a:lnTo>
                      <a:pt x="2309" y="1402"/>
                    </a:lnTo>
                    <a:lnTo>
                      <a:pt x="2137" y="1462"/>
                    </a:lnTo>
                    <a:lnTo>
                      <a:pt x="1963" y="1523"/>
                    </a:lnTo>
                    <a:lnTo>
                      <a:pt x="1790" y="1581"/>
                    </a:lnTo>
                    <a:lnTo>
                      <a:pt x="1617" y="1637"/>
                    </a:lnTo>
                    <a:lnTo>
                      <a:pt x="1447" y="1692"/>
                    </a:lnTo>
                    <a:lnTo>
                      <a:pt x="1282" y="1746"/>
                    </a:lnTo>
                    <a:lnTo>
                      <a:pt x="966" y="1844"/>
                    </a:lnTo>
                    <a:lnTo>
                      <a:pt x="680" y="1932"/>
                    </a:lnTo>
                    <a:lnTo>
                      <a:pt x="434" y="2005"/>
                    </a:lnTo>
                    <a:lnTo>
                      <a:pt x="239" y="2064"/>
                    </a:lnTo>
                    <a:lnTo>
                      <a:pt x="101" y="2105"/>
                    </a:lnTo>
                    <a:lnTo>
                      <a:pt x="34" y="2124"/>
                    </a:lnTo>
                    <a:close/>
                  </a:path>
                </a:pathLst>
              </a:custGeom>
              <a:solidFill>
                <a:srgbClr val="e6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7399440" y="6327720"/>
                <a:ext cx="693720" cy="374760"/>
              </a:xfrm>
              <a:custGeom>
                <a:avLst/>
                <a:gdLst/>
                <a:ahLst/>
                <a:rect l="l" t="t" r="r" b="b"/>
                <a:pathLst>
                  <a:path w="3931" h="2124">
                    <a:moveTo>
                      <a:pt x="34" y="2124"/>
                    </a:moveTo>
                    <a:lnTo>
                      <a:pt x="26" y="2090"/>
                    </a:lnTo>
                    <a:lnTo>
                      <a:pt x="18" y="2052"/>
                    </a:lnTo>
                    <a:lnTo>
                      <a:pt x="12" y="2013"/>
                    </a:lnTo>
                    <a:lnTo>
                      <a:pt x="7" y="1972"/>
                    </a:lnTo>
                    <a:lnTo>
                      <a:pt x="4" y="1930"/>
                    </a:lnTo>
                    <a:lnTo>
                      <a:pt x="1" y="1885"/>
                    </a:lnTo>
                    <a:lnTo>
                      <a:pt x="0" y="1841"/>
                    </a:lnTo>
                    <a:lnTo>
                      <a:pt x="0" y="1796"/>
                    </a:lnTo>
                    <a:lnTo>
                      <a:pt x="0" y="1750"/>
                    </a:lnTo>
                    <a:lnTo>
                      <a:pt x="1" y="1705"/>
                    </a:lnTo>
                    <a:lnTo>
                      <a:pt x="3" y="1660"/>
                    </a:lnTo>
                    <a:lnTo>
                      <a:pt x="5" y="1614"/>
                    </a:lnTo>
                    <a:lnTo>
                      <a:pt x="11" y="1526"/>
                    </a:lnTo>
                    <a:lnTo>
                      <a:pt x="17" y="1443"/>
                    </a:lnTo>
                    <a:lnTo>
                      <a:pt x="105" y="1421"/>
                    </a:lnTo>
                    <a:lnTo>
                      <a:pt x="191" y="1398"/>
                    </a:lnTo>
                    <a:lnTo>
                      <a:pt x="279" y="1376"/>
                    </a:lnTo>
                    <a:lnTo>
                      <a:pt x="365" y="1352"/>
                    </a:lnTo>
                    <a:lnTo>
                      <a:pt x="451" y="1327"/>
                    </a:lnTo>
                    <a:lnTo>
                      <a:pt x="538" y="1302"/>
                    </a:lnTo>
                    <a:lnTo>
                      <a:pt x="624" y="1277"/>
                    </a:lnTo>
                    <a:lnTo>
                      <a:pt x="711" y="1251"/>
                    </a:lnTo>
                    <a:lnTo>
                      <a:pt x="796" y="1224"/>
                    </a:lnTo>
                    <a:lnTo>
                      <a:pt x="881" y="1197"/>
                    </a:lnTo>
                    <a:lnTo>
                      <a:pt x="967" y="1170"/>
                    </a:lnTo>
                    <a:lnTo>
                      <a:pt x="1052" y="1142"/>
                    </a:lnTo>
                    <a:lnTo>
                      <a:pt x="1137" y="1114"/>
                    </a:lnTo>
                    <a:lnTo>
                      <a:pt x="1222" y="1085"/>
                    </a:lnTo>
                    <a:lnTo>
                      <a:pt x="1306" y="1057"/>
                    </a:lnTo>
                    <a:lnTo>
                      <a:pt x="1391" y="1028"/>
                    </a:lnTo>
                    <a:lnTo>
                      <a:pt x="1346" y="1082"/>
                    </a:lnTo>
                    <a:lnTo>
                      <a:pt x="1303" y="1136"/>
                    </a:lnTo>
                    <a:lnTo>
                      <a:pt x="1260" y="1192"/>
                    </a:lnTo>
                    <a:lnTo>
                      <a:pt x="1219" y="1247"/>
                    </a:lnTo>
                    <a:lnTo>
                      <a:pt x="1179" y="1303"/>
                    </a:lnTo>
                    <a:lnTo>
                      <a:pt x="1142" y="1359"/>
                    </a:lnTo>
                    <a:lnTo>
                      <a:pt x="1104" y="1416"/>
                    </a:lnTo>
                    <a:lnTo>
                      <a:pt x="1069" y="1472"/>
                    </a:lnTo>
                    <a:lnTo>
                      <a:pt x="1035" y="1527"/>
                    </a:lnTo>
                    <a:lnTo>
                      <a:pt x="1002" y="1581"/>
                    </a:lnTo>
                    <a:lnTo>
                      <a:pt x="971" y="1635"/>
                    </a:lnTo>
                    <a:lnTo>
                      <a:pt x="941" y="1687"/>
                    </a:lnTo>
                    <a:lnTo>
                      <a:pt x="913" y="1739"/>
                    </a:lnTo>
                    <a:lnTo>
                      <a:pt x="887" y="1788"/>
                    </a:lnTo>
                    <a:lnTo>
                      <a:pt x="861" y="1837"/>
                    </a:lnTo>
                    <a:lnTo>
                      <a:pt x="838" y="1882"/>
                    </a:lnTo>
                    <a:lnTo>
                      <a:pt x="756" y="1908"/>
                    </a:lnTo>
                    <a:lnTo>
                      <a:pt x="678" y="1932"/>
                    </a:lnTo>
                    <a:lnTo>
                      <a:pt x="604" y="1955"/>
                    </a:lnTo>
                    <a:lnTo>
                      <a:pt x="532" y="1976"/>
                    </a:lnTo>
                    <a:lnTo>
                      <a:pt x="464" y="1997"/>
                    </a:lnTo>
                    <a:lnTo>
                      <a:pt x="402" y="2015"/>
                    </a:lnTo>
                    <a:lnTo>
                      <a:pt x="342" y="2033"/>
                    </a:lnTo>
                    <a:lnTo>
                      <a:pt x="287" y="2048"/>
                    </a:lnTo>
                    <a:lnTo>
                      <a:pt x="236" y="2064"/>
                    </a:lnTo>
                    <a:lnTo>
                      <a:pt x="191" y="2077"/>
                    </a:lnTo>
                    <a:lnTo>
                      <a:pt x="151" y="2088"/>
                    </a:lnTo>
                    <a:lnTo>
                      <a:pt x="116" y="2099"/>
                    </a:lnTo>
                    <a:lnTo>
                      <a:pt x="86" y="2108"/>
                    </a:lnTo>
                    <a:lnTo>
                      <a:pt x="64" y="2114"/>
                    </a:lnTo>
                    <a:lnTo>
                      <a:pt x="45" y="2121"/>
                    </a:lnTo>
                    <a:lnTo>
                      <a:pt x="34" y="2124"/>
                    </a:lnTo>
                    <a:close/>
                    <a:moveTo>
                      <a:pt x="2730" y="509"/>
                    </a:moveTo>
                    <a:lnTo>
                      <a:pt x="2806" y="477"/>
                    </a:lnTo>
                    <a:lnTo>
                      <a:pt x="2882" y="445"/>
                    </a:lnTo>
                    <a:lnTo>
                      <a:pt x="2958" y="412"/>
                    </a:lnTo>
                    <a:lnTo>
                      <a:pt x="3033" y="380"/>
                    </a:lnTo>
                    <a:lnTo>
                      <a:pt x="3108" y="347"/>
                    </a:lnTo>
                    <a:lnTo>
                      <a:pt x="3183" y="315"/>
                    </a:lnTo>
                    <a:lnTo>
                      <a:pt x="3259" y="284"/>
                    </a:lnTo>
                    <a:lnTo>
                      <a:pt x="3334" y="251"/>
                    </a:lnTo>
                    <a:lnTo>
                      <a:pt x="3408" y="219"/>
                    </a:lnTo>
                    <a:lnTo>
                      <a:pt x="3484" y="188"/>
                    </a:lnTo>
                    <a:lnTo>
                      <a:pt x="3558" y="155"/>
                    </a:lnTo>
                    <a:lnTo>
                      <a:pt x="3633" y="124"/>
                    </a:lnTo>
                    <a:lnTo>
                      <a:pt x="3707" y="93"/>
                    </a:lnTo>
                    <a:lnTo>
                      <a:pt x="3782" y="61"/>
                    </a:lnTo>
                    <a:lnTo>
                      <a:pt x="3856" y="30"/>
                    </a:lnTo>
                    <a:lnTo>
                      <a:pt x="3931" y="0"/>
                    </a:lnTo>
                    <a:lnTo>
                      <a:pt x="3929" y="9"/>
                    </a:lnTo>
                    <a:lnTo>
                      <a:pt x="3927" y="20"/>
                    </a:lnTo>
                    <a:lnTo>
                      <a:pt x="3926" y="33"/>
                    </a:lnTo>
                    <a:lnTo>
                      <a:pt x="3924" y="47"/>
                    </a:lnTo>
                    <a:lnTo>
                      <a:pt x="3922" y="80"/>
                    </a:lnTo>
                    <a:lnTo>
                      <a:pt x="3922" y="115"/>
                    </a:lnTo>
                    <a:lnTo>
                      <a:pt x="3922" y="198"/>
                    </a:lnTo>
                    <a:lnTo>
                      <a:pt x="3924" y="288"/>
                    </a:lnTo>
                    <a:lnTo>
                      <a:pt x="3926" y="333"/>
                    </a:lnTo>
                    <a:lnTo>
                      <a:pt x="3926" y="379"/>
                    </a:lnTo>
                    <a:lnTo>
                      <a:pt x="3924" y="423"/>
                    </a:lnTo>
                    <a:lnTo>
                      <a:pt x="3923" y="465"/>
                    </a:lnTo>
                    <a:lnTo>
                      <a:pt x="3921" y="504"/>
                    </a:lnTo>
                    <a:lnTo>
                      <a:pt x="3917" y="540"/>
                    </a:lnTo>
                    <a:lnTo>
                      <a:pt x="3915" y="555"/>
                    </a:lnTo>
                    <a:lnTo>
                      <a:pt x="3911" y="570"/>
                    </a:lnTo>
                    <a:lnTo>
                      <a:pt x="3908" y="584"/>
                    </a:lnTo>
                    <a:lnTo>
                      <a:pt x="3905" y="596"/>
                    </a:lnTo>
                    <a:lnTo>
                      <a:pt x="3897" y="610"/>
                    </a:lnTo>
                    <a:lnTo>
                      <a:pt x="3888" y="625"/>
                    </a:lnTo>
                    <a:lnTo>
                      <a:pt x="3877" y="641"/>
                    </a:lnTo>
                    <a:lnTo>
                      <a:pt x="3863" y="657"/>
                    </a:lnTo>
                    <a:lnTo>
                      <a:pt x="3848" y="674"/>
                    </a:lnTo>
                    <a:lnTo>
                      <a:pt x="3830" y="690"/>
                    </a:lnTo>
                    <a:lnTo>
                      <a:pt x="3812" y="707"/>
                    </a:lnTo>
                    <a:lnTo>
                      <a:pt x="3792" y="724"/>
                    </a:lnTo>
                    <a:lnTo>
                      <a:pt x="3769" y="742"/>
                    </a:lnTo>
                    <a:lnTo>
                      <a:pt x="3745" y="760"/>
                    </a:lnTo>
                    <a:lnTo>
                      <a:pt x="3719" y="777"/>
                    </a:lnTo>
                    <a:lnTo>
                      <a:pt x="3692" y="796"/>
                    </a:lnTo>
                    <a:lnTo>
                      <a:pt x="3663" y="815"/>
                    </a:lnTo>
                    <a:lnTo>
                      <a:pt x="3633" y="833"/>
                    </a:lnTo>
                    <a:lnTo>
                      <a:pt x="3601" y="853"/>
                    </a:lnTo>
                    <a:lnTo>
                      <a:pt x="3568" y="872"/>
                    </a:lnTo>
                    <a:lnTo>
                      <a:pt x="3524" y="844"/>
                    </a:lnTo>
                    <a:lnTo>
                      <a:pt x="3477" y="817"/>
                    </a:lnTo>
                    <a:lnTo>
                      <a:pt x="3431" y="790"/>
                    </a:lnTo>
                    <a:lnTo>
                      <a:pt x="3382" y="763"/>
                    </a:lnTo>
                    <a:lnTo>
                      <a:pt x="3332" y="736"/>
                    </a:lnTo>
                    <a:lnTo>
                      <a:pt x="3283" y="711"/>
                    </a:lnTo>
                    <a:lnTo>
                      <a:pt x="3231" y="686"/>
                    </a:lnTo>
                    <a:lnTo>
                      <a:pt x="3178" y="662"/>
                    </a:lnTo>
                    <a:lnTo>
                      <a:pt x="3125" y="638"/>
                    </a:lnTo>
                    <a:lnTo>
                      <a:pt x="3070" y="615"/>
                    </a:lnTo>
                    <a:lnTo>
                      <a:pt x="3015" y="595"/>
                    </a:lnTo>
                    <a:lnTo>
                      <a:pt x="2960" y="574"/>
                    </a:lnTo>
                    <a:lnTo>
                      <a:pt x="2902" y="556"/>
                    </a:lnTo>
                    <a:lnTo>
                      <a:pt x="2845" y="539"/>
                    </a:lnTo>
                    <a:lnTo>
                      <a:pt x="2788" y="524"/>
                    </a:lnTo>
                    <a:lnTo>
                      <a:pt x="2730" y="509"/>
                    </a:lnTo>
                    <a:close/>
                  </a:path>
                </a:pathLst>
              </a:custGeom>
              <a:solidFill>
                <a:srgbClr val="cfd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7574040" y="3932280"/>
                <a:ext cx="466560" cy="1614240"/>
              </a:xfrm>
              <a:custGeom>
                <a:avLst/>
                <a:gdLst/>
                <a:ahLst/>
                <a:rect l="l" t="t" r="r" b="b"/>
                <a:pathLst>
                  <a:path w="2643" h="9147">
                    <a:moveTo>
                      <a:pt x="69" y="9113"/>
                    </a:moveTo>
                    <a:lnTo>
                      <a:pt x="69" y="9147"/>
                    </a:lnTo>
                    <a:lnTo>
                      <a:pt x="0" y="8793"/>
                    </a:lnTo>
                    <a:lnTo>
                      <a:pt x="2436" y="207"/>
                    </a:lnTo>
                    <a:lnTo>
                      <a:pt x="2643" y="0"/>
                    </a:lnTo>
                    <a:lnTo>
                      <a:pt x="69" y="911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6773760" y="3855960"/>
                <a:ext cx="1270080" cy="81000"/>
              </a:xfrm>
              <a:custGeom>
                <a:avLst/>
                <a:gdLst/>
                <a:ahLst/>
                <a:rect l="l" t="t" r="r" b="b"/>
                <a:pathLst>
                  <a:path w="7196" h="458">
                    <a:moveTo>
                      <a:pt x="155" y="173"/>
                    </a:moveTo>
                    <a:lnTo>
                      <a:pt x="0" y="0"/>
                    </a:lnTo>
                    <a:lnTo>
                      <a:pt x="7196" y="294"/>
                    </a:lnTo>
                    <a:lnTo>
                      <a:pt x="6937" y="458"/>
                    </a:lnTo>
                    <a:lnTo>
                      <a:pt x="155" y="173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6383160" y="3903480"/>
                <a:ext cx="1608120" cy="1573200"/>
              </a:xfrm>
              <a:custGeom>
                <a:avLst/>
                <a:gdLst/>
                <a:ahLst/>
                <a:rect l="l" t="t" r="r" b="b"/>
                <a:pathLst>
                  <a:path w="9124" h="8914">
                    <a:moveTo>
                      <a:pt x="6696" y="8914"/>
                    </a:moveTo>
                    <a:lnTo>
                      <a:pt x="0" y="7324"/>
                    </a:lnTo>
                    <a:lnTo>
                      <a:pt x="2350" y="0"/>
                    </a:lnTo>
                    <a:lnTo>
                      <a:pt x="9124" y="311"/>
                    </a:lnTo>
                    <a:lnTo>
                      <a:pt x="6696" y="8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7561080" y="583560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656" h="613">
                    <a:moveTo>
                      <a:pt x="0" y="458"/>
                    </a:moveTo>
                    <a:lnTo>
                      <a:pt x="147" y="0"/>
                    </a:lnTo>
                    <a:lnTo>
                      <a:pt x="630" y="147"/>
                    </a:lnTo>
                    <a:lnTo>
                      <a:pt x="656" y="164"/>
                    </a:lnTo>
                    <a:lnTo>
                      <a:pt x="501" y="613"/>
                    </a:lnTo>
                    <a:lnTo>
                      <a:pt x="0" y="458"/>
                    </a:lnTo>
                    <a:close/>
                    <a:moveTo>
                      <a:pt x="250" y="406"/>
                    </a:moveTo>
                    <a:lnTo>
                      <a:pt x="242" y="405"/>
                    </a:lnTo>
                    <a:lnTo>
                      <a:pt x="233" y="403"/>
                    </a:lnTo>
                    <a:lnTo>
                      <a:pt x="227" y="400"/>
                    </a:lnTo>
                    <a:lnTo>
                      <a:pt x="220" y="396"/>
                    </a:lnTo>
                    <a:lnTo>
                      <a:pt x="214" y="393"/>
                    </a:lnTo>
                    <a:lnTo>
                      <a:pt x="208" y="389"/>
                    </a:lnTo>
                    <a:lnTo>
                      <a:pt x="204" y="384"/>
                    </a:lnTo>
                    <a:lnTo>
                      <a:pt x="200" y="379"/>
                    </a:lnTo>
                    <a:lnTo>
                      <a:pt x="196" y="375"/>
                    </a:lnTo>
                    <a:lnTo>
                      <a:pt x="193" y="369"/>
                    </a:lnTo>
                    <a:lnTo>
                      <a:pt x="190" y="363"/>
                    </a:lnTo>
                    <a:lnTo>
                      <a:pt x="188" y="357"/>
                    </a:lnTo>
                    <a:lnTo>
                      <a:pt x="186" y="346"/>
                    </a:lnTo>
                    <a:lnTo>
                      <a:pt x="185" y="332"/>
                    </a:lnTo>
                    <a:lnTo>
                      <a:pt x="185" y="319"/>
                    </a:lnTo>
                    <a:lnTo>
                      <a:pt x="186" y="305"/>
                    </a:lnTo>
                    <a:lnTo>
                      <a:pt x="189" y="291"/>
                    </a:lnTo>
                    <a:lnTo>
                      <a:pt x="193" y="276"/>
                    </a:lnTo>
                    <a:lnTo>
                      <a:pt x="198" y="262"/>
                    </a:lnTo>
                    <a:lnTo>
                      <a:pt x="203" y="249"/>
                    </a:lnTo>
                    <a:lnTo>
                      <a:pt x="209" y="237"/>
                    </a:lnTo>
                    <a:lnTo>
                      <a:pt x="216" y="225"/>
                    </a:lnTo>
                    <a:lnTo>
                      <a:pt x="222" y="221"/>
                    </a:lnTo>
                    <a:lnTo>
                      <a:pt x="231" y="219"/>
                    </a:lnTo>
                    <a:lnTo>
                      <a:pt x="241" y="218"/>
                    </a:lnTo>
                    <a:lnTo>
                      <a:pt x="252" y="218"/>
                    </a:lnTo>
                    <a:lnTo>
                      <a:pt x="263" y="218"/>
                    </a:lnTo>
                    <a:lnTo>
                      <a:pt x="275" y="220"/>
                    </a:lnTo>
                    <a:lnTo>
                      <a:pt x="288" y="222"/>
                    </a:lnTo>
                    <a:lnTo>
                      <a:pt x="301" y="226"/>
                    </a:lnTo>
                    <a:lnTo>
                      <a:pt x="314" y="230"/>
                    </a:lnTo>
                    <a:lnTo>
                      <a:pt x="327" y="234"/>
                    </a:lnTo>
                    <a:lnTo>
                      <a:pt x="340" y="240"/>
                    </a:lnTo>
                    <a:lnTo>
                      <a:pt x="352" y="245"/>
                    </a:lnTo>
                    <a:lnTo>
                      <a:pt x="364" y="252"/>
                    </a:lnTo>
                    <a:lnTo>
                      <a:pt x="376" y="258"/>
                    </a:lnTo>
                    <a:lnTo>
                      <a:pt x="386" y="266"/>
                    </a:lnTo>
                    <a:lnTo>
                      <a:pt x="395" y="273"/>
                    </a:lnTo>
                    <a:lnTo>
                      <a:pt x="403" y="282"/>
                    </a:lnTo>
                    <a:lnTo>
                      <a:pt x="409" y="291"/>
                    </a:lnTo>
                    <a:lnTo>
                      <a:pt x="414" y="299"/>
                    </a:lnTo>
                    <a:lnTo>
                      <a:pt x="417" y="308"/>
                    </a:lnTo>
                    <a:lnTo>
                      <a:pt x="418" y="316"/>
                    </a:lnTo>
                    <a:lnTo>
                      <a:pt x="417" y="325"/>
                    </a:lnTo>
                    <a:lnTo>
                      <a:pt x="414" y="334"/>
                    </a:lnTo>
                    <a:lnTo>
                      <a:pt x="407" y="343"/>
                    </a:lnTo>
                    <a:lnTo>
                      <a:pt x="398" y="352"/>
                    </a:lnTo>
                    <a:lnTo>
                      <a:pt x="388" y="361"/>
                    </a:lnTo>
                    <a:lnTo>
                      <a:pt x="373" y="369"/>
                    </a:lnTo>
                    <a:lnTo>
                      <a:pt x="355" y="377"/>
                    </a:lnTo>
                    <a:lnTo>
                      <a:pt x="335" y="386"/>
                    </a:lnTo>
                    <a:lnTo>
                      <a:pt x="310" y="393"/>
                    </a:lnTo>
                    <a:lnTo>
                      <a:pt x="282" y="400"/>
                    </a:lnTo>
                    <a:lnTo>
                      <a:pt x="250" y="406"/>
                    </a:lnTo>
                    <a:close/>
                  </a:path>
                </a:pathLst>
              </a:custGeom>
              <a:solidFill>
                <a:srgbClr val="4f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6843600" y="5984640"/>
                <a:ext cx="782640" cy="268560"/>
              </a:xfrm>
              <a:custGeom>
                <a:avLst/>
                <a:gdLst/>
                <a:ahLst/>
                <a:rect l="l" t="t" r="r" b="b"/>
                <a:pathLst>
                  <a:path w="4435" h="1519">
                    <a:moveTo>
                      <a:pt x="4194" y="1235"/>
                    </a:moveTo>
                    <a:lnTo>
                      <a:pt x="4143" y="1258"/>
                    </a:lnTo>
                    <a:lnTo>
                      <a:pt x="4091" y="1281"/>
                    </a:lnTo>
                    <a:lnTo>
                      <a:pt x="4036" y="1301"/>
                    </a:lnTo>
                    <a:lnTo>
                      <a:pt x="3979" y="1321"/>
                    </a:lnTo>
                    <a:lnTo>
                      <a:pt x="3918" y="1340"/>
                    </a:lnTo>
                    <a:lnTo>
                      <a:pt x="3858" y="1357"/>
                    </a:lnTo>
                    <a:lnTo>
                      <a:pt x="3795" y="1375"/>
                    </a:lnTo>
                    <a:lnTo>
                      <a:pt x="3730" y="1390"/>
                    </a:lnTo>
                    <a:lnTo>
                      <a:pt x="3664" y="1405"/>
                    </a:lnTo>
                    <a:lnTo>
                      <a:pt x="3597" y="1419"/>
                    </a:lnTo>
                    <a:lnTo>
                      <a:pt x="3530" y="1432"/>
                    </a:lnTo>
                    <a:lnTo>
                      <a:pt x="3461" y="1444"/>
                    </a:lnTo>
                    <a:lnTo>
                      <a:pt x="3392" y="1454"/>
                    </a:lnTo>
                    <a:lnTo>
                      <a:pt x="3323" y="1465"/>
                    </a:lnTo>
                    <a:lnTo>
                      <a:pt x="3254" y="1474"/>
                    </a:lnTo>
                    <a:lnTo>
                      <a:pt x="3185" y="1483"/>
                    </a:lnTo>
                    <a:lnTo>
                      <a:pt x="3115" y="1490"/>
                    </a:lnTo>
                    <a:lnTo>
                      <a:pt x="3046" y="1497"/>
                    </a:lnTo>
                    <a:lnTo>
                      <a:pt x="2978" y="1502"/>
                    </a:lnTo>
                    <a:lnTo>
                      <a:pt x="2911" y="1507"/>
                    </a:lnTo>
                    <a:lnTo>
                      <a:pt x="2845" y="1512"/>
                    </a:lnTo>
                    <a:lnTo>
                      <a:pt x="2781" y="1514"/>
                    </a:lnTo>
                    <a:lnTo>
                      <a:pt x="2717" y="1517"/>
                    </a:lnTo>
                    <a:lnTo>
                      <a:pt x="2655" y="1518"/>
                    </a:lnTo>
                    <a:lnTo>
                      <a:pt x="2595" y="1519"/>
                    </a:lnTo>
                    <a:lnTo>
                      <a:pt x="2536" y="1519"/>
                    </a:lnTo>
                    <a:lnTo>
                      <a:pt x="2480" y="1518"/>
                    </a:lnTo>
                    <a:lnTo>
                      <a:pt x="2427" y="1517"/>
                    </a:lnTo>
                    <a:lnTo>
                      <a:pt x="2376" y="1514"/>
                    </a:lnTo>
                    <a:lnTo>
                      <a:pt x="2328" y="1512"/>
                    </a:lnTo>
                    <a:lnTo>
                      <a:pt x="2283" y="1507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44" y="548"/>
                    </a:lnTo>
                    <a:lnTo>
                      <a:pt x="3011" y="536"/>
                    </a:lnTo>
                    <a:lnTo>
                      <a:pt x="3079" y="526"/>
                    </a:lnTo>
                    <a:lnTo>
                      <a:pt x="3149" y="516"/>
                    </a:lnTo>
                    <a:lnTo>
                      <a:pt x="3220" y="508"/>
                    </a:lnTo>
                    <a:lnTo>
                      <a:pt x="3291" y="500"/>
                    </a:lnTo>
                    <a:lnTo>
                      <a:pt x="3364" y="492"/>
                    </a:lnTo>
                    <a:lnTo>
                      <a:pt x="3437" y="485"/>
                    </a:lnTo>
                    <a:lnTo>
                      <a:pt x="3510" y="477"/>
                    </a:lnTo>
                    <a:lnTo>
                      <a:pt x="3582" y="468"/>
                    </a:lnTo>
                    <a:lnTo>
                      <a:pt x="3654" y="459"/>
                    </a:lnTo>
                    <a:lnTo>
                      <a:pt x="3726" y="449"/>
                    </a:lnTo>
                    <a:lnTo>
                      <a:pt x="3795" y="436"/>
                    </a:lnTo>
                    <a:lnTo>
                      <a:pt x="3864" y="423"/>
                    </a:lnTo>
                    <a:lnTo>
                      <a:pt x="3898" y="416"/>
                    </a:lnTo>
                    <a:lnTo>
                      <a:pt x="3930" y="407"/>
                    </a:lnTo>
                    <a:lnTo>
                      <a:pt x="3962" y="398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30" y="667"/>
                    </a:lnTo>
                    <a:lnTo>
                      <a:pt x="4427" y="715"/>
                    </a:lnTo>
                    <a:lnTo>
                      <a:pt x="4425" y="758"/>
                    </a:lnTo>
                    <a:lnTo>
                      <a:pt x="4425" y="797"/>
                    </a:lnTo>
                    <a:lnTo>
                      <a:pt x="4426" y="863"/>
                    </a:lnTo>
                    <a:lnTo>
                      <a:pt x="4429" y="919"/>
                    </a:lnTo>
                    <a:lnTo>
                      <a:pt x="4429" y="945"/>
                    </a:lnTo>
                    <a:lnTo>
                      <a:pt x="4428" y="970"/>
                    </a:lnTo>
                    <a:lnTo>
                      <a:pt x="4427" y="994"/>
                    </a:lnTo>
                    <a:lnTo>
                      <a:pt x="4423" y="1020"/>
                    </a:lnTo>
                    <a:lnTo>
                      <a:pt x="4417" y="1047"/>
                    </a:lnTo>
                    <a:lnTo>
                      <a:pt x="4408" y="1075"/>
                    </a:lnTo>
                    <a:lnTo>
                      <a:pt x="4398" y="1107"/>
                    </a:lnTo>
                    <a:lnTo>
                      <a:pt x="4384" y="1140"/>
                    </a:lnTo>
                    <a:lnTo>
                      <a:pt x="4375" y="1154"/>
                    </a:lnTo>
                    <a:lnTo>
                      <a:pt x="4365" y="1166"/>
                    </a:lnTo>
                    <a:lnTo>
                      <a:pt x="4356" y="1176"/>
                    </a:lnTo>
                    <a:lnTo>
                      <a:pt x="4345" y="1184"/>
                    </a:lnTo>
                    <a:lnTo>
                      <a:pt x="4334" y="1192"/>
                    </a:lnTo>
                    <a:lnTo>
                      <a:pt x="4322" y="1197"/>
                    </a:lnTo>
                    <a:lnTo>
                      <a:pt x="4310" y="1203"/>
                    </a:lnTo>
                    <a:lnTo>
                      <a:pt x="4298" y="1207"/>
                    </a:lnTo>
                    <a:lnTo>
                      <a:pt x="4272" y="1215"/>
                    </a:lnTo>
                    <a:lnTo>
                      <a:pt x="4245" y="1220"/>
                    </a:lnTo>
                    <a:lnTo>
                      <a:pt x="4219" y="1227"/>
                    </a:lnTo>
                    <a:lnTo>
                      <a:pt x="4194" y="1235"/>
                    </a:lnTo>
                    <a:close/>
                  </a:path>
                </a:pathLst>
              </a:custGeom>
              <a:solidFill>
                <a:srgbClr val="b6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6843600" y="5984640"/>
                <a:ext cx="782640" cy="265320"/>
              </a:xfrm>
              <a:custGeom>
                <a:avLst/>
                <a:gdLst/>
                <a:ahLst/>
                <a:rect l="l" t="t" r="r" b="b"/>
                <a:pathLst>
                  <a:path w="4435" h="1503">
                    <a:moveTo>
                      <a:pt x="2249" y="1503"/>
                    </a:moveTo>
                    <a:lnTo>
                      <a:pt x="2245" y="1503"/>
                    </a:lnTo>
                    <a:lnTo>
                      <a:pt x="2240" y="1503"/>
                    </a:lnTo>
                    <a:lnTo>
                      <a:pt x="2191" y="1496"/>
                    </a:lnTo>
                    <a:lnTo>
                      <a:pt x="2136" y="1487"/>
                    </a:lnTo>
                    <a:lnTo>
                      <a:pt x="2076" y="1476"/>
                    </a:lnTo>
                    <a:lnTo>
                      <a:pt x="2014" y="1463"/>
                    </a:lnTo>
                    <a:lnTo>
                      <a:pt x="1948" y="1449"/>
                    </a:lnTo>
                    <a:lnTo>
                      <a:pt x="1878" y="1433"/>
                    </a:lnTo>
                    <a:lnTo>
                      <a:pt x="1806" y="1416"/>
                    </a:lnTo>
                    <a:lnTo>
                      <a:pt x="1732" y="1397"/>
                    </a:lnTo>
                    <a:lnTo>
                      <a:pt x="1655" y="1377"/>
                    </a:lnTo>
                    <a:lnTo>
                      <a:pt x="1576" y="1355"/>
                    </a:lnTo>
                    <a:lnTo>
                      <a:pt x="1496" y="1332"/>
                    </a:lnTo>
                    <a:lnTo>
                      <a:pt x="1414" y="1308"/>
                    </a:lnTo>
                    <a:lnTo>
                      <a:pt x="1332" y="1283"/>
                    </a:lnTo>
                    <a:lnTo>
                      <a:pt x="1250" y="1256"/>
                    </a:lnTo>
                    <a:lnTo>
                      <a:pt x="1168" y="1228"/>
                    </a:lnTo>
                    <a:lnTo>
                      <a:pt x="1084" y="1199"/>
                    </a:lnTo>
                    <a:lnTo>
                      <a:pt x="1002" y="1168"/>
                    </a:lnTo>
                    <a:lnTo>
                      <a:pt x="922" y="1137"/>
                    </a:lnTo>
                    <a:lnTo>
                      <a:pt x="843" y="1106"/>
                    </a:lnTo>
                    <a:lnTo>
                      <a:pt x="764" y="1072"/>
                    </a:lnTo>
                    <a:lnTo>
                      <a:pt x="688" y="1039"/>
                    </a:lnTo>
                    <a:lnTo>
                      <a:pt x="613" y="1004"/>
                    </a:lnTo>
                    <a:lnTo>
                      <a:pt x="542" y="968"/>
                    </a:lnTo>
                    <a:lnTo>
                      <a:pt x="474" y="932"/>
                    </a:lnTo>
                    <a:lnTo>
                      <a:pt x="408" y="895"/>
                    </a:lnTo>
                    <a:lnTo>
                      <a:pt x="347" y="857"/>
                    </a:lnTo>
                    <a:lnTo>
                      <a:pt x="289" y="819"/>
                    </a:lnTo>
                    <a:lnTo>
                      <a:pt x="235" y="781"/>
                    </a:lnTo>
                    <a:lnTo>
                      <a:pt x="187" y="742"/>
                    </a:lnTo>
                    <a:lnTo>
                      <a:pt x="144" y="703"/>
                    </a:lnTo>
                    <a:lnTo>
                      <a:pt x="105" y="663"/>
                    </a:lnTo>
                    <a:lnTo>
                      <a:pt x="72" y="622"/>
                    </a:lnTo>
                    <a:lnTo>
                      <a:pt x="64" y="610"/>
                    </a:lnTo>
                    <a:lnTo>
                      <a:pt x="55" y="596"/>
                    </a:lnTo>
                    <a:lnTo>
                      <a:pt x="47" y="582"/>
                    </a:lnTo>
                    <a:lnTo>
                      <a:pt x="41" y="568"/>
                    </a:lnTo>
                    <a:lnTo>
                      <a:pt x="34" y="552"/>
                    </a:lnTo>
                    <a:lnTo>
                      <a:pt x="28" y="535"/>
                    </a:lnTo>
                    <a:lnTo>
                      <a:pt x="23" y="519"/>
                    </a:lnTo>
                    <a:lnTo>
                      <a:pt x="18" y="502"/>
                    </a:lnTo>
                    <a:lnTo>
                      <a:pt x="14" y="484"/>
                    </a:lnTo>
                    <a:lnTo>
                      <a:pt x="11" y="465"/>
                    </a:lnTo>
                    <a:lnTo>
                      <a:pt x="7" y="447"/>
                    </a:lnTo>
                    <a:lnTo>
                      <a:pt x="4" y="427"/>
                    </a:lnTo>
                    <a:lnTo>
                      <a:pt x="2" y="408"/>
                    </a:lnTo>
                    <a:lnTo>
                      <a:pt x="1" y="387"/>
                    </a:lnTo>
                    <a:lnTo>
                      <a:pt x="0" y="367"/>
                    </a:lnTo>
                    <a:lnTo>
                      <a:pt x="0" y="346"/>
                    </a:lnTo>
                    <a:lnTo>
                      <a:pt x="0" y="304"/>
                    </a:lnTo>
                    <a:lnTo>
                      <a:pt x="3" y="261"/>
                    </a:lnTo>
                    <a:lnTo>
                      <a:pt x="7" y="218"/>
                    </a:lnTo>
                    <a:lnTo>
                      <a:pt x="15" y="174"/>
                    </a:lnTo>
                    <a:lnTo>
                      <a:pt x="24" y="129"/>
                    </a:lnTo>
                    <a:lnTo>
                      <a:pt x="34" y="86"/>
                    </a:lnTo>
                    <a:lnTo>
                      <a:pt x="47" y="43"/>
                    </a:lnTo>
                    <a:lnTo>
                      <a:pt x="64" y="0"/>
                    </a:lnTo>
                    <a:lnTo>
                      <a:pt x="104" y="19"/>
                    </a:lnTo>
                    <a:lnTo>
                      <a:pt x="150" y="40"/>
                    </a:lnTo>
                    <a:lnTo>
                      <a:pt x="202" y="62"/>
                    </a:lnTo>
                    <a:lnTo>
                      <a:pt x="259" y="85"/>
                    </a:lnTo>
                    <a:lnTo>
                      <a:pt x="322" y="109"/>
                    </a:lnTo>
                    <a:lnTo>
                      <a:pt x="389" y="134"/>
                    </a:lnTo>
                    <a:lnTo>
                      <a:pt x="460" y="160"/>
                    </a:lnTo>
                    <a:lnTo>
                      <a:pt x="535" y="185"/>
                    </a:lnTo>
                    <a:lnTo>
                      <a:pt x="612" y="212"/>
                    </a:lnTo>
                    <a:lnTo>
                      <a:pt x="693" y="238"/>
                    </a:lnTo>
                    <a:lnTo>
                      <a:pt x="778" y="266"/>
                    </a:lnTo>
                    <a:lnTo>
                      <a:pt x="863" y="293"/>
                    </a:lnTo>
                    <a:lnTo>
                      <a:pt x="952" y="320"/>
                    </a:lnTo>
                    <a:lnTo>
                      <a:pt x="1040" y="347"/>
                    </a:lnTo>
                    <a:lnTo>
                      <a:pt x="1131" y="374"/>
                    </a:lnTo>
                    <a:lnTo>
                      <a:pt x="1222" y="400"/>
                    </a:lnTo>
                    <a:lnTo>
                      <a:pt x="1314" y="426"/>
                    </a:lnTo>
                    <a:lnTo>
                      <a:pt x="1404" y="451"/>
                    </a:lnTo>
                    <a:lnTo>
                      <a:pt x="1496" y="476"/>
                    </a:lnTo>
                    <a:lnTo>
                      <a:pt x="1586" y="500"/>
                    </a:lnTo>
                    <a:lnTo>
                      <a:pt x="1674" y="522"/>
                    </a:lnTo>
                    <a:lnTo>
                      <a:pt x="1762" y="543"/>
                    </a:lnTo>
                    <a:lnTo>
                      <a:pt x="1847" y="563"/>
                    </a:lnTo>
                    <a:lnTo>
                      <a:pt x="1930" y="582"/>
                    </a:lnTo>
                    <a:lnTo>
                      <a:pt x="2011" y="599"/>
                    </a:lnTo>
                    <a:lnTo>
                      <a:pt x="2088" y="614"/>
                    </a:lnTo>
                    <a:lnTo>
                      <a:pt x="2162" y="628"/>
                    </a:lnTo>
                    <a:lnTo>
                      <a:pt x="2232" y="640"/>
                    </a:lnTo>
                    <a:lnTo>
                      <a:pt x="2298" y="650"/>
                    </a:lnTo>
                    <a:lnTo>
                      <a:pt x="2358" y="657"/>
                    </a:lnTo>
                    <a:lnTo>
                      <a:pt x="2414" y="663"/>
                    </a:lnTo>
                    <a:lnTo>
                      <a:pt x="2465" y="665"/>
                    </a:lnTo>
                    <a:lnTo>
                      <a:pt x="2491" y="664"/>
                    </a:lnTo>
                    <a:lnTo>
                      <a:pt x="2517" y="662"/>
                    </a:lnTo>
                    <a:lnTo>
                      <a:pt x="2543" y="657"/>
                    </a:lnTo>
                    <a:lnTo>
                      <a:pt x="2569" y="651"/>
                    </a:lnTo>
                    <a:lnTo>
                      <a:pt x="2595" y="644"/>
                    </a:lnTo>
                    <a:lnTo>
                      <a:pt x="2621" y="637"/>
                    </a:lnTo>
                    <a:lnTo>
                      <a:pt x="2647" y="628"/>
                    </a:lnTo>
                    <a:lnTo>
                      <a:pt x="2672" y="620"/>
                    </a:lnTo>
                    <a:lnTo>
                      <a:pt x="2724" y="602"/>
                    </a:lnTo>
                    <a:lnTo>
                      <a:pt x="2776" y="585"/>
                    </a:lnTo>
                    <a:lnTo>
                      <a:pt x="2802" y="578"/>
                    </a:lnTo>
                    <a:lnTo>
                      <a:pt x="2828" y="571"/>
                    </a:lnTo>
                    <a:lnTo>
                      <a:pt x="2854" y="566"/>
                    </a:lnTo>
                    <a:lnTo>
                      <a:pt x="2880" y="561"/>
                    </a:lnTo>
                    <a:lnTo>
                      <a:pt x="2917" y="553"/>
                    </a:lnTo>
                    <a:lnTo>
                      <a:pt x="2954" y="545"/>
                    </a:lnTo>
                    <a:lnTo>
                      <a:pt x="2993" y="539"/>
                    </a:lnTo>
                    <a:lnTo>
                      <a:pt x="3033" y="532"/>
                    </a:lnTo>
                    <a:lnTo>
                      <a:pt x="3074" y="527"/>
                    </a:lnTo>
                    <a:lnTo>
                      <a:pt x="3115" y="521"/>
                    </a:lnTo>
                    <a:lnTo>
                      <a:pt x="3158" y="516"/>
                    </a:lnTo>
                    <a:lnTo>
                      <a:pt x="3200" y="509"/>
                    </a:lnTo>
                    <a:lnTo>
                      <a:pt x="3170" y="528"/>
                    </a:lnTo>
                    <a:lnTo>
                      <a:pt x="3142" y="546"/>
                    </a:lnTo>
                    <a:lnTo>
                      <a:pt x="3113" y="567"/>
                    </a:lnTo>
                    <a:lnTo>
                      <a:pt x="3083" y="588"/>
                    </a:lnTo>
                    <a:lnTo>
                      <a:pt x="3054" y="611"/>
                    </a:lnTo>
                    <a:lnTo>
                      <a:pt x="3024" y="636"/>
                    </a:lnTo>
                    <a:lnTo>
                      <a:pt x="2993" y="661"/>
                    </a:lnTo>
                    <a:lnTo>
                      <a:pt x="2963" y="687"/>
                    </a:lnTo>
                    <a:lnTo>
                      <a:pt x="2933" y="714"/>
                    </a:lnTo>
                    <a:lnTo>
                      <a:pt x="2903" y="742"/>
                    </a:lnTo>
                    <a:lnTo>
                      <a:pt x="2871" y="771"/>
                    </a:lnTo>
                    <a:lnTo>
                      <a:pt x="2841" y="801"/>
                    </a:lnTo>
                    <a:lnTo>
                      <a:pt x="2779" y="864"/>
                    </a:lnTo>
                    <a:lnTo>
                      <a:pt x="2718" y="929"/>
                    </a:lnTo>
                    <a:lnTo>
                      <a:pt x="2656" y="997"/>
                    </a:lnTo>
                    <a:lnTo>
                      <a:pt x="2596" y="1066"/>
                    </a:lnTo>
                    <a:lnTo>
                      <a:pt x="2535" y="1137"/>
                    </a:lnTo>
                    <a:lnTo>
                      <a:pt x="2475" y="1209"/>
                    </a:lnTo>
                    <a:lnTo>
                      <a:pt x="2416" y="1283"/>
                    </a:lnTo>
                    <a:lnTo>
                      <a:pt x="2359" y="1356"/>
                    </a:lnTo>
                    <a:lnTo>
                      <a:pt x="2303" y="1430"/>
                    </a:lnTo>
                    <a:lnTo>
                      <a:pt x="2249" y="1503"/>
                    </a:lnTo>
                    <a:close/>
                    <a:moveTo>
                      <a:pt x="3761" y="440"/>
                    </a:moveTo>
                    <a:lnTo>
                      <a:pt x="3791" y="434"/>
                    </a:lnTo>
                    <a:lnTo>
                      <a:pt x="3820" y="427"/>
                    </a:lnTo>
                    <a:lnTo>
                      <a:pt x="3849" y="421"/>
                    </a:lnTo>
                    <a:lnTo>
                      <a:pt x="3878" y="414"/>
                    </a:lnTo>
                    <a:lnTo>
                      <a:pt x="3907" y="408"/>
                    </a:lnTo>
                    <a:lnTo>
                      <a:pt x="3936" y="401"/>
                    </a:lnTo>
                    <a:lnTo>
                      <a:pt x="3966" y="395"/>
                    </a:lnTo>
                    <a:lnTo>
                      <a:pt x="3995" y="389"/>
                    </a:lnTo>
                    <a:lnTo>
                      <a:pt x="4004" y="396"/>
                    </a:lnTo>
                    <a:lnTo>
                      <a:pt x="4016" y="403"/>
                    </a:lnTo>
                    <a:lnTo>
                      <a:pt x="4029" y="409"/>
                    </a:lnTo>
                    <a:lnTo>
                      <a:pt x="4043" y="416"/>
                    </a:lnTo>
                    <a:lnTo>
                      <a:pt x="4075" y="428"/>
                    </a:lnTo>
                    <a:lnTo>
                      <a:pt x="4109" y="439"/>
                    </a:lnTo>
                    <a:lnTo>
                      <a:pt x="4184" y="462"/>
                    </a:lnTo>
                    <a:lnTo>
                      <a:pt x="4260" y="485"/>
                    </a:lnTo>
                    <a:lnTo>
                      <a:pt x="4296" y="497"/>
                    </a:lnTo>
                    <a:lnTo>
                      <a:pt x="4331" y="509"/>
                    </a:lnTo>
                    <a:lnTo>
                      <a:pt x="4346" y="516"/>
                    </a:lnTo>
                    <a:lnTo>
                      <a:pt x="4361" y="524"/>
                    </a:lnTo>
                    <a:lnTo>
                      <a:pt x="4375" y="531"/>
                    </a:lnTo>
                    <a:lnTo>
                      <a:pt x="4388" y="539"/>
                    </a:lnTo>
                    <a:lnTo>
                      <a:pt x="4400" y="546"/>
                    </a:lnTo>
                    <a:lnTo>
                      <a:pt x="4410" y="555"/>
                    </a:lnTo>
                    <a:lnTo>
                      <a:pt x="4418" y="563"/>
                    </a:lnTo>
                    <a:lnTo>
                      <a:pt x="4426" y="572"/>
                    </a:lnTo>
                    <a:lnTo>
                      <a:pt x="4430" y="582"/>
                    </a:lnTo>
                    <a:lnTo>
                      <a:pt x="4434" y="592"/>
                    </a:lnTo>
                    <a:lnTo>
                      <a:pt x="4435" y="602"/>
                    </a:lnTo>
                    <a:lnTo>
                      <a:pt x="4435" y="613"/>
                    </a:lnTo>
                    <a:lnTo>
                      <a:pt x="4429" y="656"/>
                    </a:lnTo>
                    <a:lnTo>
                      <a:pt x="4425" y="696"/>
                    </a:lnTo>
                    <a:lnTo>
                      <a:pt x="4423" y="733"/>
                    </a:lnTo>
                    <a:lnTo>
                      <a:pt x="4421" y="765"/>
                    </a:lnTo>
                    <a:lnTo>
                      <a:pt x="4420" y="796"/>
                    </a:lnTo>
                    <a:lnTo>
                      <a:pt x="4421" y="824"/>
                    </a:lnTo>
                    <a:lnTo>
                      <a:pt x="4424" y="849"/>
                    </a:lnTo>
                    <a:lnTo>
                      <a:pt x="4427" y="872"/>
                    </a:lnTo>
                    <a:lnTo>
                      <a:pt x="4393" y="841"/>
                    </a:lnTo>
                    <a:lnTo>
                      <a:pt x="4359" y="810"/>
                    </a:lnTo>
                    <a:lnTo>
                      <a:pt x="4322" y="778"/>
                    </a:lnTo>
                    <a:lnTo>
                      <a:pt x="4284" y="747"/>
                    </a:lnTo>
                    <a:lnTo>
                      <a:pt x="4246" y="716"/>
                    </a:lnTo>
                    <a:lnTo>
                      <a:pt x="4206" y="684"/>
                    </a:lnTo>
                    <a:lnTo>
                      <a:pt x="4165" y="654"/>
                    </a:lnTo>
                    <a:lnTo>
                      <a:pt x="4123" y="624"/>
                    </a:lnTo>
                    <a:lnTo>
                      <a:pt x="4080" y="596"/>
                    </a:lnTo>
                    <a:lnTo>
                      <a:pt x="4036" y="568"/>
                    </a:lnTo>
                    <a:lnTo>
                      <a:pt x="3991" y="542"/>
                    </a:lnTo>
                    <a:lnTo>
                      <a:pt x="3946" y="518"/>
                    </a:lnTo>
                    <a:lnTo>
                      <a:pt x="3901" y="495"/>
                    </a:lnTo>
                    <a:lnTo>
                      <a:pt x="3854" y="475"/>
                    </a:lnTo>
                    <a:lnTo>
                      <a:pt x="3832" y="465"/>
                    </a:lnTo>
                    <a:lnTo>
                      <a:pt x="3808" y="457"/>
                    </a:lnTo>
                    <a:lnTo>
                      <a:pt x="3784" y="448"/>
                    </a:lnTo>
                    <a:lnTo>
                      <a:pt x="3761" y="44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6332400" y="5205240"/>
                <a:ext cx="1239840" cy="333360"/>
              </a:xfrm>
              <a:custGeom>
                <a:avLst/>
                <a:gdLst/>
                <a:ahLst/>
                <a:rect l="l" t="t" r="r" b="b"/>
                <a:pathLst>
                  <a:path w="7034" h="1892">
                    <a:moveTo>
                      <a:pt x="7034" y="1892"/>
                    </a:moveTo>
                    <a:lnTo>
                      <a:pt x="0" y="121"/>
                    </a:lnTo>
                    <a:lnTo>
                      <a:pt x="251" y="0"/>
                    </a:lnTo>
                    <a:lnTo>
                      <a:pt x="6956" y="1659"/>
                    </a:lnTo>
                    <a:lnTo>
                      <a:pt x="7034" y="1892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7323120" y="6011640"/>
                <a:ext cx="187200" cy="57240"/>
              </a:xfrm>
              <a:custGeom>
                <a:avLst/>
                <a:gdLst/>
                <a:ahLst/>
                <a:rect l="l" t="t" r="r" b="b"/>
                <a:pathLst>
                  <a:path w="1063" h="320">
                    <a:moveTo>
                      <a:pt x="0" y="320"/>
                    </a:moveTo>
                    <a:lnTo>
                      <a:pt x="492" y="0"/>
                    </a:lnTo>
                    <a:lnTo>
                      <a:pt x="529" y="8"/>
                    </a:lnTo>
                    <a:lnTo>
                      <a:pt x="566" y="15"/>
                    </a:lnTo>
                    <a:lnTo>
                      <a:pt x="601" y="24"/>
                    </a:lnTo>
                    <a:lnTo>
                      <a:pt x="637" y="34"/>
                    </a:lnTo>
                    <a:lnTo>
                      <a:pt x="707" y="53"/>
                    </a:lnTo>
                    <a:lnTo>
                      <a:pt x="777" y="75"/>
                    </a:lnTo>
                    <a:lnTo>
                      <a:pt x="847" y="97"/>
                    </a:lnTo>
                    <a:lnTo>
                      <a:pt x="917" y="118"/>
                    </a:lnTo>
                    <a:lnTo>
                      <a:pt x="952" y="129"/>
                    </a:lnTo>
                    <a:lnTo>
                      <a:pt x="989" y="138"/>
                    </a:lnTo>
                    <a:lnTo>
                      <a:pt x="1025" y="147"/>
                    </a:lnTo>
                    <a:lnTo>
                      <a:pt x="1063" y="156"/>
                    </a:lnTo>
                    <a:lnTo>
                      <a:pt x="998" y="171"/>
                    </a:lnTo>
                    <a:lnTo>
                      <a:pt x="933" y="185"/>
                    </a:lnTo>
                    <a:lnTo>
                      <a:pt x="868" y="199"/>
                    </a:lnTo>
                    <a:lnTo>
                      <a:pt x="802" y="213"/>
                    </a:lnTo>
                    <a:lnTo>
                      <a:pt x="738" y="227"/>
                    </a:lnTo>
                    <a:lnTo>
                      <a:pt x="673" y="240"/>
                    </a:lnTo>
                    <a:lnTo>
                      <a:pt x="607" y="252"/>
                    </a:lnTo>
                    <a:lnTo>
                      <a:pt x="541" y="264"/>
                    </a:lnTo>
                    <a:lnTo>
                      <a:pt x="475" y="275"/>
                    </a:lnTo>
                    <a:lnTo>
                      <a:pt x="408" y="285"/>
                    </a:lnTo>
                    <a:lnTo>
                      <a:pt x="341" y="294"/>
                    </a:lnTo>
                    <a:lnTo>
                      <a:pt x="274" y="302"/>
                    </a:lnTo>
                    <a:lnTo>
                      <a:pt x="206" y="308"/>
                    </a:lnTo>
                    <a:lnTo>
                      <a:pt x="138" y="313"/>
                    </a:lnTo>
                    <a:lnTo>
                      <a:pt x="69" y="318"/>
                    </a:lnTo>
                    <a:lnTo>
                      <a:pt x="0" y="320"/>
                    </a:lnTo>
                    <a:close/>
                  </a:path>
                </a:pathLst>
              </a:custGeom>
              <a:solidFill>
                <a:srgbClr val="8a8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6369120" y="6154560"/>
                <a:ext cx="1014120" cy="549360"/>
              </a:xfrm>
              <a:custGeom>
                <a:avLst/>
                <a:gdLst/>
                <a:ahLst/>
                <a:rect l="l" t="t" r="r" b="b"/>
                <a:pathLst>
                  <a:path w="5754" h="3121">
                    <a:moveTo>
                      <a:pt x="5746" y="3118"/>
                    </a:moveTo>
                    <a:lnTo>
                      <a:pt x="5714" y="3121"/>
                    </a:lnTo>
                    <a:lnTo>
                      <a:pt x="5679" y="3121"/>
                    </a:lnTo>
                    <a:lnTo>
                      <a:pt x="5639" y="3119"/>
                    </a:lnTo>
                    <a:lnTo>
                      <a:pt x="5595" y="3116"/>
                    </a:lnTo>
                    <a:lnTo>
                      <a:pt x="5547" y="3110"/>
                    </a:lnTo>
                    <a:lnTo>
                      <a:pt x="5495" y="3103"/>
                    </a:lnTo>
                    <a:lnTo>
                      <a:pt x="5440" y="3093"/>
                    </a:lnTo>
                    <a:lnTo>
                      <a:pt x="5381" y="3082"/>
                    </a:lnTo>
                    <a:lnTo>
                      <a:pt x="5319" y="3069"/>
                    </a:lnTo>
                    <a:lnTo>
                      <a:pt x="5253" y="3055"/>
                    </a:lnTo>
                    <a:lnTo>
                      <a:pt x="5184" y="3039"/>
                    </a:lnTo>
                    <a:lnTo>
                      <a:pt x="5113" y="3021"/>
                    </a:lnTo>
                    <a:lnTo>
                      <a:pt x="5038" y="3001"/>
                    </a:lnTo>
                    <a:lnTo>
                      <a:pt x="4960" y="2981"/>
                    </a:lnTo>
                    <a:lnTo>
                      <a:pt x="4880" y="2958"/>
                    </a:lnTo>
                    <a:lnTo>
                      <a:pt x="4798" y="2933"/>
                    </a:lnTo>
                    <a:lnTo>
                      <a:pt x="4714" y="2908"/>
                    </a:lnTo>
                    <a:lnTo>
                      <a:pt x="4627" y="2881"/>
                    </a:lnTo>
                    <a:lnTo>
                      <a:pt x="4537" y="2852"/>
                    </a:lnTo>
                    <a:lnTo>
                      <a:pt x="4446" y="2823"/>
                    </a:lnTo>
                    <a:lnTo>
                      <a:pt x="4353" y="2792"/>
                    </a:lnTo>
                    <a:lnTo>
                      <a:pt x="4259" y="2758"/>
                    </a:lnTo>
                    <a:lnTo>
                      <a:pt x="4163" y="2725"/>
                    </a:lnTo>
                    <a:lnTo>
                      <a:pt x="4065" y="2689"/>
                    </a:lnTo>
                    <a:lnTo>
                      <a:pt x="3967" y="2653"/>
                    </a:lnTo>
                    <a:lnTo>
                      <a:pt x="3866" y="2616"/>
                    </a:lnTo>
                    <a:lnTo>
                      <a:pt x="3766" y="2577"/>
                    </a:lnTo>
                    <a:lnTo>
                      <a:pt x="3663" y="2537"/>
                    </a:lnTo>
                    <a:lnTo>
                      <a:pt x="3560" y="2496"/>
                    </a:lnTo>
                    <a:lnTo>
                      <a:pt x="3457" y="2454"/>
                    </a:lnTo>
                    <a:lnTo>
                      <a:pt x="3353" y="2410"/>
                    </a:lnTo>
                    <a:lnTo>
                      <a:pt x="3248" y="2367"/>
                    </a:lnTo>
                    <a:lnTo>
                      <a:pt x="3114" y="2309"/>
                    </a:lnTo>
                    <a:lnTo>
                      <a:pt x="2980" y="2249"/>
                    </a:lnTo>
                    <a:lnTo>
                      <a:pt x="2846" y="2188"/>
                    </a:lnTo>
                    <a:lnTo>
                      <a:pt x="2712" y="2126"/>
                    </a:lnTo>
                    <a:lnTo>
                      <a:pt x="2579" y="2064"/>
                    </a:lnTo>
                    <a:lnTo>
                      <a:pt x="2447" y="2000"/>
                    </a:lnTo>
                    <a:lnTo>
                      <a:pt x="2314" y="1936"/>
                    </a:lnTo>
                    <a:lnTo>
                      <a:pt x="2183" y="1871"/>
                    </a:lnTo>
                    <a:lnTo>
                      <a:pt x="2053" y="1806"/>
                    </a:lnTo>
                    <a:lnTo>
                      <a:pt x="1926" y="1740"/>
                    </a:lnTo>
                    <a:lnTo>
                      <a:pt x="1801" y="1674"/>
                    </a:lnTo>
                    <a:lnTo>
                      <a:pt x="1676" y="1608"/>
                    </a:lnTo>
                    <a:lnTo>
                      <a:pt x="1554" y="1542"/>
                    </a:lnTo>
                    <a:lnTo>
                      <a:pt x="1435" y="1476"/>
                    </a:lnTo>
                    <a:lnTo>
                      <a:pt x="1320" y="1410"/>
                    </a:lnTo>
                    <a:lnTo>
                      <a:pt x="1206" y="1344"/>
                    </a:lnTo>
                    <a:lnTo>
                      <a:pt x="1096" y="1280"/>
                    </a:lnTo>
                    <a:lnTo>
                      <a:pt x="990" y="1215"/>
                    </a:lnTo>
                    <a:lnTo>
                      <a:pt x="888" y="1150"/>
                    </a:lnTo>
                    <a:lnTo>
                      <a:pt x="788" y="1087"/>
                    </a:lnTo>
                    <a:lnTo>
                      <a:pt x="694" y="1025"/>
                    </a:lnTo>
                    <a:lnTo>
                      <a:pt x="604" y="964"/>
                    </a:lnTo>
                    <a:lnTo>
                      <a:pt x="518" y="904"/>
                    </a:lnTo>
                    <a:lnTo>
                      <a:pt x="438" y="844"/>
                    </a:lnTo>
                    <a:lnTo>
                      <a:pt x="363" y="787"/>
                    </a:lnTo>
                    <a:lnTo>
                      <a:pt x="294" y="731"/>
                    </a:lnTo>
                    <a:lnTo>
                      <a:pt x="229" y="677"/>
                    </a:lnTo>
                    <a:lnTo>
                      <a:pt x="170" y="624"/>
                    </a:lnTo>
                    <a:lnTo>
                      <a:pt x="118" y="572"/>
                    </a:lnTo>
                    <a:lnTo>
                      <a:pt x="72" y="524"/>
                    </a:lnTo>
                    <a:lnTo>
                      <a:pt x="32" y="477"/>
                    </a:lnTo>
                    <a:lnTo>
                      <a:pt x="0" y="432"/>
                    </a:lnTo>
                    <a:lnTo>
                      <a:pt x="17" y="0"/>
                    </a:lnTo>
                    <a:lnTo>
                      <a:pt x="173" y="97"/>
                    </a:lnTo>
                    <a:lnTo>
                      <a:pt x="330" y="193"/>
                    </a:lnTo>
                    <a:lnTo>
                      <a:pt x="491" y="289"/>
                    </a:lnTo>
                    <a:lnTo>
                      <a:pt x="653" y="383"/>
                    </a:lnTo>
                    <a:lnTo>
                      <a:pt x="819" y="478"/>
                    </a:lnTo>
                    <a:lnTo>
                      <a:pt x="986" y="571"/>
                    </a:lnTo>
                    <a:lnTo>
                      <a:pt x="1156" y="663"/>
                    </a:lnTo>
                    <a:lnTo>
                      <a:pt x="1326" y="754"/>
                    </a:lnTo>
                    <a:lnTo>
                      <a:pt x="1499" y="844"/>
                    </a:lnTo>
                    <a:lnTo>
                      <a:pt x="1674" y="933"/>
                    </a:lnTo>
                    <a:lnTo>
                      <a:pt x="1850" y="1020"/>
                    </a:lnTo>
                    <a:lnTo>
                      <a:pt x="2027" y="1106"/>
                    </a:lnTo>
                    <a:lnTo>
                      <a:pt x="2206" y="1190"/>
                    </a:lnTo>
                    <a:lnTo>
                      <a:pt x="2386" y="1273"/>
                    </a:lnTo>
                    <a:lnTo>
                      <a:pt x="2567" y="1354"/>
                    </a:lnTo>
                    <a:lnTo>
                      <a:pt x="2749" y="1434"/>
                    </a:lnTo>
                    <a:lnTo>
                      <a:pt x="2931" y="1512"/>
                    </a:lnTo>
                    <a:lnTo>
                      <a:pt x="3114" y="1587"/>
                    </a:lnTo>
                    <a:lnTo>
                      <a:pt x="3298" y="1661"/>
                    </a:lnTo>
                    <a:lnTo>
                      <a:pt x="3481" y="1732"/>
                    </a:lnTo>
                    <a:lnTo>
                      <a:pt x="3665" y="1802"/>
                    </a:lnTo>
                    <a:lnTo>
                      <a:pt x="3850" y="1869"/>
                    </a:lnTo>
                    <a:lnTo>
                      <a:pt x="4034" y="1934"/>
                    </a:lnTo>
                    <a:lnTo>
                      <a:pt x="4217" y="1997"/>
                    </a:lnTo>
                    <a:lnTo>
                      <a:pt x="4401" y="2057"/>
                    </a:lnTo>
                    <a:lnTo>
                      <a:pt x="4584" y="2114"/>
                    </a:lnTo>
                    <a:lnTo>
                      <a:pt x="4767" y="2169"/>
                    </a:lnTo>
                    <a:lnTo>
                      <a:pt x="4950" y="2221"/>
                    </a:lnTo>
                    <a:lnTo>
                      <a:pt x="5130" y="2271"/>
                    </a:lnTo>
                    <a:lnTo>
                      <a:pt x="5310" y="2317"/>
                    </a:lnTo>
                    <a:lnTo>
                      <a:pt x="5490" y="2361"/>
                    </a:lnTo>
                    <a:lnTo>
                      <a:pt x="5668" y="2402"/>
                    </a:lnTo>
                    <a:lnTo>
                      <a:pt x="5754" y="2471"/>
                    </a:lnTo>
                    <a:lnTo>
                      <a:pt x="5746" y="3092"/>
                    </a:lnTo>
                    <a:lnTo>
                      <a:pt x="5746" y="3118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6464160" y="6251400"/>
                <a:ext cx="693720" cy="401760"/>
              </a:xfrm>
              <a:custGeom>
                <a:avLst/>
                <a:gdLst/>
                <a:ahLst/>
                <a:rect l="l" t="t" r="r" b="b"/>
                <a:pathLst>
                  <a:path w="3931" h="2280">
                    <a:moveTo>
                      <a:pt x="3931" y="2280"/>
                    </a:moveTo>
                    <a:lnTo>
                      <a:pt x="3860" y="2257"/>
                    </a:lnTo>
                    <a:lnTo>
                      <a:pt x="3788" y="2233"/>
                    </a:lnTo>
                    <a:lnTo>
                      <a:pt x="3714" y="2207"/>
                    </a:lnTo>
                    <a:lnTo>
                      <a:pt x="3640" y="2181"/>
                    </a:lnTo>
                    <a:lnTo>
                      <a:pt x="3565" y="2155"/>
                    </a:lnTo>
                    <a:lnTo>
                      <a:pt x="3491" y="2127"/>
                    </a:lnTo>
                    <a:lnTo>
                      <a:pt x="3414" y="2099"/>
                    </a:lnTo>
                    <a:lnTo>
                      <a:pt x="3337" y="2070"/>
                    </a:lnTo>
                    <a:lnTo>
                      <a:pt x="3260" y="2040"/>
                    </a:lnTo>
                    <a:lnTo>
                      <a:pt x="3183" y="2010"/>
                    </a:lnTo>
                    <a:lnTo>
                      <a:pt x="3104" y="1978"/>
                    </a:lnTo>
                    <a:lnTo>
                      <a:pt x="3025" y="1946"/>
                    </a:lnTo>
                    <a:lnTo>
                      <a:pt x="2946" y="1913"/>
                    </a:lnTo>
                    <a:lnTo>
                      <a:pt x="2866" y="1881"/>
                    </a:lnTo>
                    <a:lnTo>
                      <a:pt x="2785" y="1848"/>
                    </a:lnTo>
                    <a:lnTo>
                      <a:pt x="2704" y="1814"/>
                    </a:lnTo>
                    <a:lnTo>
                      <a:pt x="2610" y="1773"/>
                    </a:lnTo>
                    <a:lnTo>
                      <a:pt x="2514" y="1731"/>
                    </a:lnTo>
                    <a:lnTo>
                      <a:pt x="2419" y="1689"/>
                    </a:lnTo>
                    <a:lnTo>
                      <a:pt x="2324" y="1646"/>
                    </a:lnTo>
                    <a:lnTo>
                      <a:pt x="2229" y="1602"/>
                    </a:lnTo>
                    <a:lnTo>
                      <a:pt x="2134" y="1558"/>
                    </a:lnTo>
                    <a:lnTo>
                      <a:pt x="2039" y="1514"/>
                    </a:lnTo>
                    <a:lnTo>
                      <a:pt x="1945" y="1470"/>
                    </a:lnTo>
                    <a:lnTo>
                      <a:pt x="1850" y="1424"/>
                    </a:lnTo>
                    <a:lnTo>
                      <a:pt x="1757" y="1378"/>
                    </a:lnTo>
                    <a:lnTo>
                      <a:pt x="1664" y="1331"/>
                    </a:lnTo>
                    <a:lnTo>
                      <a:pt x="1571" y="1285"/>
                    </a:lnTo>
                    <a:lnTo>
                      <a:pt x="1479" y="1238"/>
                    </a:lnTo>
                    <a:lnTo>
                      <a:pt x="1388" y="1192"/>
                    </a:lnTo>
                    <a:lnTo>
                      <a:pt x="1299" y="1145"/>
                    </a:lnTo>
                    <a:lnTo>
                      <a:pt x="1210" y="1098"/>
                    </a:lnTo>
                    <a:lnTo>
                      <a:pt x="1123" y="1051"/>
                    </a:lnTo>
                    <a:lnTo>
                      <a:pt x="1035" y="1003"/>
                    </a:lnTo>
                    <a:lnTo>
                      <a:pt x="951" y="957"/>
                    </a:lnTo>
                    <a:lnTo>
                      <a:pt x="867" y="909"/>
                    </a:lnTo>
                    <a:lnTo>
                      <a:pt x="785" y="862"/>
                    </a:lnTo>
                    <a:lnTo>
                      <a:pt x="703" y="815"/>
                    </a:lnTo>
                    <a:lnTo>
                      <a:pt x="625" y="769"/>
                    </a:lnTo>
                    <a:lnTo>
                      <a:pt x="547" y="721"/>
                    </a:lnTo>
                    <a:lnTo>
                      <a:pt x="471" y="676"/>
                    </a:lnTo>
                    <a:lnTo>
                      <a:pt x="398" y="629"/>
                    </a:lnTo>
                    <a:lnTo>
                      <a:pt x="325" y="584"/>
                    </a:lnTo>
                    <a:lnTo>
                      <a:pt x="256" y="539"/>
                    </a:lnTo>
                    <a:lnTo>
                      <a:pt x="188" y="494"/>
                    </a:lnTo>
                    <a:lnTo>
                      <a:pt x="123" y="449"/>
                    </a:lnTo>
                    <a:lnTo>
                      <a:pt x="61" y="406"/>
                    </a:lnTo>
                    <a:lnTo>
                      <a:pt x="0" y="363"/>
                    </a:lnTo>
                    <a:lnTo>
                      <a:pt x="22" y="337"/>
                    </a:lnTo>
                    <a:lnTo>
                      <a:pt x="43" y="311"/>
                    </a:lnTo>
                    <a:lnTo>
                      <a:pt x="66" y="285"/>
                    </a:lnTo>
                    <a:lnTo>
                      <a:pt x="90" y="260"/>
                    </a:lnTo>
                    <a:lnTo>
                      <a:pt x="114" y="234"/>
                    </a:lnTo>
                    <a:lnTo>
                      <a:pt x="137" y="209"/>
                    </a:lnTo>
                    <a:lnTo>
                      <a:pt x="162" y="185"/>
                    </a:lnTo>
                    <a:lnTo>
                      <a:pt x="188" y="162"/>
                    </a:lnTo>
                    <a:lnTo>
                      <a:pt x="214" y="139"/>
                    </a:lnTo>
                    <a:lnTo>
                      <a:pt x="241" y="116"/>
                    </a:lnTo>
                    <a:lnTo>
                      <a:pt x="268" y="95"/>
                    </a:lnTo>
                    <a:lnTo>
                      <a:pt x="296" y="73"/>
                    </a:lnTo>
                    <a:lnTo>
                      <a:pt x="325" y="54"/>
                    </a:lnTo>
                    <a:lnTo>
                      <a:pt x="355" y="34"/>
                    </a:lnTo>
                    <a:lnTo>
                      <a:pt x="385" y="17"/>
                    </a:lnTo>
                    <a:lnTo>
                      <a:pt x="415" y="0"/>
                    </a:lnTo>
                    <a:lnTo>
                      <a:pt x="510" y="53"/>
                    </a:lnTo>
                    <a:lnTo>
                      <a:pt x="606" y="104"/>
                    </a:lnTo>
                    <a:lnTo>
                      <a:pt x="702" y="156"/>
                    </a:lnTo>
                    <a:lnTo>
                      <a:pt x="799" y="207"/>
                    </a:lnTo>
                    <a:lnTo>
                      <a:pt x="897" y="259"/>
                    </a:lnTo>
                    <a:lnTo>
                      <a:pt x="994" y="310"/>
                    </a:lnTo>
                    <a:lnTo>
                      <a:pt x="1093" y="359"/>
                    </a:lnTo>
                    <a:lnTo>
                      <a:pt x="1192" y="410"/>
                    </a:lnTo>
                    <a:lnTo>
                      <a:pt x="1291" y="459"/>
                    </a:lnTo>
                    <a:lnTo>
                      <a:pt x="1392" y="508"/>
                    </a:lnTo>
                    <a:lnTo>
                      <a:pt x="1492" y="557"/>
                    </a:lnTo>
                    <a:lnTo>
                      <a:pt x="1593" y="605"/>
                    </a:lnTo>
                    <a:lnTo>
                      <a:pt x="1694" y="652"/>
                    </a:lnTo>
                    <a:lnTo>
                      <a:pt x="1796" y="698"/>
                    </a:lnTo>
                    <a:lnTo>
                      <a:pt x="1897" y="745"/>
                    </a:lnTo>
                    <a:lnTo>
                      <a:pt x="2000" y="791"/>
                    </a:lnTo>
                    <a:lnTo>
                      <a:pt x="2101" y="837"/>
                    </a:lnTo>
                    <a:lnTo>
                      <a:pt x="2204" y="881"/>
                    </a:lnTo>
                    <a:lnTo>
                      <a:pt x="2308" y="925"/>
                    </a:lnTo>
                    <a:lnTo>
                      <a:pt x="2410" y="968"/>
                    </a:lnTo>
                    <a:lnTo>
                      <a:pt x="2514" y="1012"/>
                    </a:lnTo>
                    <a:lnTo>
                      <a:pt x="2617" y="1054"/>
                    </a:lnTo>
                    <a:lnTo>
                      <a:pt x="2720" y="1095"/>
                    </a:lnTo>
                    <a:lnTo>
                      <a:pt x="2824" y="1136"/>
                    </a:lnTo>
                    <a:lnTo>
                      <a:pt x="2928" y="1176"/>
                    </a:lnTo>
                    <a:lnTo>
                      <a:pt x="3031" y="1215"/>
                    </a:lnTo>
                    <a:lnTo>
                      <a:pt x="3136" y="1254"/>
                    </a:lnTo>
                    <a:lnTo>
                      <a:pt x="3240" y="1291"/>
                    </a:lnTo>
                    <a:lnTo>
                      <a:pt x="3344" y="1328"/>
                    </a:lnTo>
                    <a:lnTo>
                      <a:pt x="3447" y="1364"/>
                    </a:lnTo>
                    <a:lnTo>
                      <a:pt x="3551" y="1399"/>
                    </a:lnTo>
                    <a:lnTo>
                      <a:pt x="3655" y="1434"/>
                    </a:lnTo>
                    <a:lnTo>
                      <a:pt x="3683" y="1501"/>
                    </a:lnTo>
                    <a:lnTo>
                      <a:pt x="3710" y="1566"/>
                    </a:lnTo>
                    <a:lnTo>
                      <a:pt x="3735" y="1628"/>
                    </a:lnTo>
                    <a:lnTo>
                      <a:pt x="3757" y="1690"/>
                    </a:lnTo>
                    <a:lnTo>
                      <a:pt x="3779" y="1749"/>
                    </a:lnTo>
                    <a:lnTo>
                      <a:pt x="3800" y="1807"/>
                    </a:lnTo>
                    <a:lnTo>
                      <a:pt x="3818" y="1862"/>
                    </a:lnTo>
                    <a:lnTo>
                      <a:pt x="3835" y="1916"/>
                    </a:lnTo>
                    <a:lnTo>
                      <a:pt x="3851" y="1967"/>
                    </a:lnTo>
                    <a:lnTo>
                      <a:pt x="3867" y="2017"/>
                    </a:lnTo>
                    <a:lnTo>
                      <a:pt x="3879" y="2065"/>
                    </a:lnTo>
                    <a:lnTo>
                      <a:pt x="3892" y="2111"/>
                    </a:lnTo>
                    <a:lnTo>
                      <a:pt x="3903" y="2156"/>
                    </a:lnTo>
                    <a:lnTo>
                      <a:pt x="3914" y="2199"/>
                    </a:lnTo>
                    <a:lnTo>
                      <a:pt x="3923" y="2241"/>
                    </a:lnTo>
                    <a:lnTo>
                      <a:pt x="3931" y="22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7197840" y="598968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13" h="170">
                    <a:moveTo>
                      <a:pt x="164" y="165"/>
                    </a:moveTo>
                    <a:lnTo>
                      <a:pt x="150" y="169"/>
                    </a:lnTo>
                    <a:lnTo>
                      <a:pt x="136" y="170"/>
                    </a:lnTo>
                    <a:lnTo>
                      <a:pt x="123" y="169"/>
                    </a:lnTo>
                    <a:lnTo>
                      <a:pt x="110" y="167"/>
                    </a:lnTo>
                    <a:lnTo>
                      <a:pt x="98" y="163"/>
                    </a:lnTo>
                    <a:lnTo>
                      <a:pt x="88" y="157"/>
                    </a:lnTo>
                    <a:lnTo>
                      <a:pt x="77" y="151"/>
                    </a:lnTo>
                    <a:lnTo>
                      <a:pt x="66" y="142"/>
                    </a:lnTo>
                    <a:lnTo>
                      <a:pt x="56" y="133"/>
                    </a:lnTo>
                    <a:lnTo>
                      <a:pt x="46" y="124"/>
                    </a:lnTo>
                    <a:lnTo>
                      <a:pt x="38" y="114"/>
                    </a:lnTo>
                    <a:lnTo>
                      <a:pt x="29" y="103"/>
                    </a:lnTo>
                    <a:lnTo>
                      <a:pt x="14" y="82"/>
                    </a:lnTo>
                    <a:lnTo>
                      <a:pt x="0" y="61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3" y="29"/>
                    </a:lnTo>
                    <a:lnTo>
                      <a:pt x="22" y="18"/>
                    </a:lnTo>
                    <a:lnTo>
                      <a:pt x="27" y="14"/>
                    </a:lnTo>
                    <a:lnTo>
                      <a:pt x="32" y="9"/>
                    </a:lnTo>
                    <a:lnTo>
                      <a:pt x="38" y="6"/>
                    </a:lnTo>
                    <a:lnTo>
                      <a:pt x="44" y="3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8" y="6"/>
                    </a:lnTo>
                    <a:lnTo>
                      <a:pt x="89" y="11"/>
                    </a:lnTo>
                    <a:lnTo>
                      <a:pt x="103" y="18"/>
                    </a:lnTo>
                    <a:lnTo>
                      <a:pt x="118" y="24"/>
                    </a:lnTo>
                    <a:lnTo>
                      <a:pt x="134" y="31"/>
                    </a:lnTo>
                    <a:lnTo>
                      <a:pt x="151" y="40"/>
                    </a:lnTo>
                    <a:lnTo>
                      <a:pt x="166" y="48"/>
                    </a:lnTo>
                    <a:lnTo>
                      <a:pt x="182" y="57"/>
                    </a:lnTo>
                    <a:lnTo>
                      <a:pt x="188" y="62"/>
                    </a:lnTo>
                    <a:lnTo>
                      <a:pt x="194" y="68"/>
                    </a:lnTo>
                    <a:lnTo>
                      <a:pt x="200" y="73"/>
                    </a:lnTo>
                    <a:lnTo>
                      <a:pt x="204" y="78"/>
                    </a:lnTo>
                    <a:lnTo>
                      <a:pt x="207" y="84"/>
                    </a:lnTo>
                    <a:lnTo>
                      <a:pt x="211" y="90"/>
                    </a:lnTo>
                    <a:lnTo>
                      <a:pt x="212" y="97"/>
                    </a:lnTo>
                    <a:lnTo>
                      <a:pt x="213" y="103"/>
                    </a:lnTo>
                    <a:lnTo>
                      <a:pt x="212" y="110"/>
                    </a:lnTo>
                    <a:lnTo>
                      <a:pt x="210" y="117"/>
                    </a:lnTo>
                    <a:lnTo>
                      <a:pt x="206" y="124"/>
                    </a:lnTo>
                    <a:lnTo>
                      <a:pt x="201" y="131"/>
                    </a:lnTo>
                    <a:lnTo>
                      <a:pt x="194" y="140"/>
                    </a:lnTo>
                    <a:lnTo>
                      <a:pt x="187" y="148"/>
                    </a:lnTo>
                    <a:lnTo>
                      <a:pt x="176" y="156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6286320" y="5649840"/>
                <a:ext cx="576360" cy="317520"/>
              </a:xfrm>
              <a:custGeom>
                <a:avLst/>
                <a:gdLst/>
                <a:ahLst/>
                <a:rect l="l" t="t" r="r" b="b"/>
                <a:pathLst>
                  <a:path w="3266" h="1796">
                    <a:moveTo>
                      <a:pt x="3189" y="1796"/>
                    </a:moveTo>
                    <a:lnTo>
                      <a:pt x="3038" y="1742"/>
                    </a:lnTo>
                    <a:lnTo>
                      <a:pt x="2886" y="1687"/>
                    </a:lnTo>
                    <a:lnTo>
                      <a:pt x="2732" y="1630"/>
                    </a:lnTo>
                    <a:lnTo>
                      <a:pt x="2579" y="1571"/>
                    </a:lnTo>
                    <a:lnTo>
                      <a:pt x="2425" y="1513"/>
                    </a:lnTo>
                    <a:lnTo>
                      <a:pt x="2271" y="1454"/>
                    </a:lnTo>
                    <a:lnTo>
                      <a:pt x="2116" y="1394"/>
                    </a:lnTo>
                    <a:lnTo>
                      <a:pt x="1962" y="1334"/>
                    </a:lnTo>
                    <a:lnTo>
                      <a:pt x="1807" y="1274"/>
                    </a:lnTo>
                    <a:lnTo>
                      <a:pt x="1653" y="1215"/>
                    </a:lnTo>
                    <a:lnTo>
                      <a:pt x="1498" y="1156"/>
                    </a:lnTo>
                    <a:lnTo>
                      <a:pt x="1344" y="1096"/>
                    </a:lnTo>
                    <a:lnTo>
                      <a:pt x="1191" y="1039"/>
                    </a:lnTo>
                    <a:lnTo>
                      <a:pt x="1038" y="982"/>
                    </a:lnTo>
                    <a:lnTo>
                      <a:pt x="886" y="927"/>
                    </a:lnTo>
                    <a:lnTo>
                      <a:pt x="735" y="872"/>
                    </a:lnTo>
                    <a:lnTo>
                      <a:pt x="716" y="869"/>
                    </a:lnTo>
                    <a:lnTo>
                      <a:pt x="697" y="864"/>
                    </a:lnTo>
                    <a:lnTo>
                      <a:pt x="676" y="855"/>
                    </a:lnTo>
                    <a:lnTo>
                      <a:pt x="657" y="843"/>
                    </a:lnTo>
                    <a:lnTo>
                      <a:pt x="635" y="828"/>
                    </a:lnTo>
                    <a:lnTo>
                      <a:pt x="615" y="811"/>
                    </a:lnTo>
                    <a:lnTo>
                      <a:pt x="593" y="792"/>
                    </a:lnTo>
                    <a:lnTo>
                      <a:pt x="572" y="770"/>
                    </a:lnTo>
                    <a:lnTo>
                      <a:pt x="549" y="746"/>
                    </a:lnTo>
                    <a:lnTo>
                      <a:pt x="527" y="720"/>
                    </a:lnTo>
                    <a:lnTo>
                      <a:pt x="505" y="692"/>
                    </a:lnTo>
                    <a:lnTo>
                      <a:pt x="481" y="663"/>
                    </a:lnTo>
                    <a:lnTo>
                      <a:pt x="434" y="600"/>
                    </a:lnTo>
                    <a:lnTo>
                      <a:pt x="387" y="534"/>
                    </a:lnTo>
                    <a:lnTo>
                      <a:pt x="339" y="463"/>
                    </a:lnTo>
                    <a:lnTo>
                      <a:pt x="291" y="391"/>
                    </a:lnTo>
                    <a:lnTo>
                      <a:pt x="242" y="319"/>
                    </a:lnTo>
                    <a:lnTo>
                      <a:pt x="192" y="247"/>
                    </a:lnTo>
                    <a:lnTo>
                      <a:pt x="144" y="179"/>
                    </a:lnTo>
                    <a:lnTo>
                      <a:pt x="96" y="113"/>
                    </a:lnTo>
                    <a:lnTo>
                      <a:pt x="71" y="83"/>
                    </a:lnTo>
                    <a:lnTo>
                      <a:pt x="48" y="54"/>
                    </a:lnTo>
                    <a:lnTo>
                      <a:pt x="24" y="26"/>
                    </a:lnTo>
                    <a:lnTo>
                      <a:pt x="0" y="0"/>
                    </a:lnTo>
                    <a:lnTo>
                      <a:pt x="67" y="27"/>
                    </a:lnTo>
                    <a:lnTo>
                      <a:pt x="138" y="55"/>
                    </a:lnTo>
                    <a:lnTo>
                      <a:pt x="216" y="84"/>
                    </a:lnTo>
                    <a:lnTo>
                      <a:pt x="299" y="114"/>
                    </a:lnTo>
                    <a:lnTo>
                      <a:pt x="386" y="146"/>
                    </a:lnTo>
                    <a:lnTo>
                      <a:pt x="478" y="178"/>
                    </a:lnTo>
                    <a:lnTo>
                      <a:pt x="573" y="211"/>
                    </a:lnTo>
                    <a:lnTo>
                      <a:pt x="671" y="244"/>
                    </a:lnTo>
                    <a:lnTo>
                      <a:pt x="877" y="312"/>
                    </a:lnTo>
                    <a:lnTo>
                      <a:pt x="1091" y="383"/>
                    </a:lnTo>
                    <a:lnTo>
                      <a:pt x="1310" y="456"/>
                    </a:lnTo>
                    <a:lnTo>
                      <a:pt x="1532" y="529"/>
                    </a:lnTo>
                    <a:lnTo>
                      <a:pt x="1751" y="603"/>
                    </a:lnTo>
                    <a:lnTo>
                      <a:pt x="1967" y="677"/>
                    </a:lnTo>
                    <a:lnTo>
                      <a:pt x="2072" y="714"/>
                    </a:lnTo>
                    <a:lnTo>
                      <a:pt x="2174" y="751"/>
                    </a:lnTo>
                    <a:lnTo>
                      <a:pt x="2273" y="787"/>
                    </a:lnTo>
                    <a:lnTo>
                      <a:pt x="2369" y="823"/>
                    </a:lnTo>
                    <a:lnTo>
                      <a:pt x="2462" y="860"/>
                    </a:lnTo>
                    <a:lnTo>
                      <a:pt x="2551" y="895"/>
                    </a:lnTo>
                    <a:lnTo>
                      <a:pt x="2635" y="930"/>
                    </a:lnTo>
                    <a:lnTo>
                      <a:pt x="2714" y="964"/>
                    </a:lnTo>
                    <a:lnTo>
                      <a:pt x="2787" y="999"/>
                    </a:lnTo>
                    <a:lnTo>
                      <a:pt x="2855" y="1032"/>
                    </a:lnTo>
                    <a:lnTo>
                      <a:pt x="2917" y="1065"/>
                    </a:lnTo>
                    <a:lnTo>
                      <a:pt x="2973" y="1096"/>
                    </a:lnTo>
                    <a:lnTo>
                      <a:pt x="3024" y="1166"/>
                    </a:lnTo>
                    <a:lnTo>
                      <a:pt x="3085" y="1256"/>
                    </a:lnTo>
                    <a:lnTo>
                      <a:pt x="3118" y="1306"/>
                    </a:lnTo>
                    <a:lnTo>
                      <a:pt x="3149" y="1356"/>
                    </a:lnTo>
                    <a:lnTo>
                      <a:pt x="3165" y="1383"/>
                    </a:lnTo>
                    <a:lnTo>
                      <a:pt x="3179" y="1409"/>
                    </a:lnTo>
                    <a:lnTo>
                      <a:pt x="3193" y="1436"/>
                    </a:lnTo>
                    <a:lnTo>
                      <a:pt x="3207" y="1462"/>
                    </a:lnTo>
                    <a:lnTo>
                      <a:pt x="3219" y="1489"/>
                    </a:lnTo>
                    <a:lnTo>
                      <a:pt x="3230" y="1515"/>
                    </a:lnTo>
                    <a:lnTo>
                      <a:pt x="3240" y="1541"/>
                    </a:lnTo>
                    <a:lnTo>
                      <a:pt x="3248" y="1567"/>
                    </a:lnTo>
                    <a:lnTo>
                      <a:pt x="3255" y="1592"/>
                    </a:lnTo>
                    <a:lnTo>
                      <a:pt x="3260" y="1616"/>
                    </a:lnTo>
                    <a:lnTo>
                      <a:pt x="3264" y="1639"/>
                    </a:lnTo>
                    <a:lnTo>
                      <a:pt x="3266" y="1661"/>
                    </a:lnTo>
                    <a:lnTo>
                      <a:pt x="3265" y="1683"/>
                    </a:lnTo>
                    <a:lnTo>
                      <a:pt x="3261" y="1703"/>
                    </a:lnTo>
                    <a:lnTo>
                      <a:pt x="3256" y="1723"/>
                    </a:lnTo>
                    <a:lnTo>
                      <a:pt x="3248" y="1741"/>
                    </a:lnTo>
                    <a:lnTo>
                      <a:pt x="3238" y="1757"/>
                    </a:lnTo>
                    <a:lnTo>
                      <a:pt x="3225" y="1772"/>
                    </a:lnTo>
                    <a:lnTo>
                      <a:pt x="3209" y="1785"/>
                    </a:lnTo>
                    <a:lnTo>
                      <a:pt x="3189" y="1796"/>
                    </a:lnTo>
                    <a:close/>
                    <a:moveTo>
                      <a:pt x="2480" y="1312"/>
                    </a:moveTo>
                    <a:lnTo>
                      <a:pt x="2470" y="1313"/>
                    </a:lnTo>
                    <a:lnTo>
                      <a:pt x="2459" y="1314"/>
                    </a:lnTo>
                    <a:lnTo>
                      <a:pt x="2448" y="1313"/>
                    </a:lnTo>
                    <a:lnTo>
                      <a:pt x="2437" y="1312"/>
                    </a:lnTo>
                    <a:lnTo>
                      <a:pt x="2426" y="1310"/>
                    </a:lnTo>
                    <a:lnTo>
                      <a:pt x="2416" y="1307"/>
                    </a:lnTo>
                    <a:lnTo>
                      <a:pt x="2405" y="1304"/>
                    </a:lnTo>
                    <a:lnTo>
                      <a:pt x="2394" y="1299"/>
                    </a:lnTo>
                    <a:lnTo>
                      <a:pt x="2372" y="1290"/>
                    </a:lnTo>
                    <a:lnTo>
                      <a:pt x="2351" y="1279"/>
                    </a:lnTo>
                    <a:lnTo>
                      <a:pt x="2329" y="1267"/>
                    </a:lnTo>
                    <a:lnTo>
                      <a:pt x="2308" y="1253"/>
                    </a:lnTo>
                    <a:lnTo>
                      <a:pt x="2263" y="1227"/>
                    </a:lnTo>
                    <a:lnTo>
                      <a:pt x="2220" y="1202"/>
                    </a:lnTo>
                    <a:lnTo>
                      <a:pt x="2198" y="1192"/>
                    </a:lnTo>
                    <a:lnTo>
                      <a:pt x="2177" y="1184"/>
                    </a:lnTo>
                    <a:lnTo>
                      <a:pt x="2166" y="1180"/>
                    </a:lnTo>
                    <a:lnTo>
                      <a:pt x="2155" y="1177"/>
                    </a:lnTo>
                    <a:lnTo>
                      <a:pt x="2146" y="1176"/>
                    </a:lnTo>
                    <a:lnTo>
                      <a:pt x="2135" y="1174"/>
                    </a:lnTo>
                    <a:lnTo>
                      <a:pt x="2134" y="1170"/>
                    </a:lnTo>
                    <a:lnTo>
                      <a:pt x="2131" y="1165"/>
                    </a:lnTo>
                    <a:lnTo>
                      <a:pt x="2129" y="1161"/>
                    </a:lnTo>
                    <a:lnTo>
                      <a:pt x="2126" y="1158"/>
                    </a:lnTo>
                    <a:lnTo>
                      <a:pt x="2120" y="1150"/>
                    </a:lnTo>
                    <a:lnTo>
                      <a:pt x="2111" y="1145"/>
                    </a:lnTo>
                    <a:lnTo>
                      <a:pt x="2092" y="1133"/>
                    </a:lnTo>
                    <a:lnTo>
                      <a:pt x="2072" y="1122"/>
                    </a:lnTo>
                    <a:lnTo>
                      <a:pt x="2062" y="1117"/>
                    </a:lnTo>
                    <a:lnTo>
                      <a:pt x="2054" y="1110"/>
                    </a:lnTo>
                    <a:lnTo>
                      <a:pt x="2050" y="1107"/>
                    </a:lnTo>
                    <a:lnTo>
                      <a:pt x="2047" y="1103"/>
                    </a:lnTo>
                    <a:lnTo>
                      <a:pt x="2044" y="1098"/>
                    </a:lnTo>
                    <a:lnTo>
                      <a:pt x="2042" y="1094"/>
                    </a:lnTo>
                    <a:lnTo>
                      <a:pt x="2041" y="1090"/>
                    </a:lnTo>
                    <a:lnTo>
                      <a:pt x="2040" y="1084"/>
                    </a:lnTo>
                    <a:lnTo>
                      <a:pt x="2039" y="1079"/>
                    </a:lnTo>
                    <a:lnTo>
                      <a:pt x="2039" y="1074"/>
                    </a:lnTo>
                    <a:lnTo>
                      <a:pt x="2040" y="1067"/>
                    </a:lnTo>
                    <a:lnTo>
                      <a:pt x="2042" y="1059"/>
                    </a:lnTo>
                    <a:lnTo>
                      <a:pt x="2044" y="1053"/>
                    </a:lnTo>
                    <a:lnTo>
                      <a:pt x="2048" y="1044"/>
                    </a:lnTo>
                    <a:lnTo>
                      <a:pt x="2065" y="1037"/>
                    </a:lnTo>
                    <a:lnTo>
                      <a:pt x="2081" y="1029"/>
                    </a:lnTo>
                    <a:lnTo>
                      <a:pt x="2097" y="1022"/>
                    </a:lnTo>
                    <a:lnTo>
                      <a:pt x="2112" y="1016"/>
                    </a:lnTo>
                    <a:lnTo>
                      <a:pt x="2128" y="1011"/>
                    </a:lnTo>
                    <a:lnTo>
                      <a:pt x="2144" y="1007"/>
                    </a:lnTo>
                    <a:lnTo>
                      <a:pt x="2161" y="1003"/>
                    </a:lnTo>
                    <a:lnTo>
                      <a:pt x="2176" y="1001"/>
                    </a:lnTo>
                    <a:lnTo>
                      <a:pt x="2192" y="999"/>
                    </a:lnTo>
                    <a:lnTo>
                      <a:pt x="2207" y="998"/>
                    </a:lnTo>
                    <a:lnTo>
                      <a:pt x="2223" y="998"/>
                    </a:lnTo>
                    <a:lnTo>
                      <a:pt x="2238" y="998"/>
                    </a:lnTo>
                    <a:lnTo>
                      <a:pt x="2255" y="999"/>
                    </a:lnTo>
                    <a:lnTo>
                      <a:pt x="2270" y="1000"/>
                    </a:lnTo>
                    <a:lnTo>
                      <a:pt x="2285" y="1002"/>
                    </a:lnTo>
                    <a:lnTo>
                      <a:pt x="2301" y="1004"/>
                    </a:lnTo>
                    <a:lnTo>
                      <a:pt x="2331" y="1012"/>
                    </a:lnTo>
                    <a:lnTo>
                      <a:pt x="2362" y="1022"/>
                    </a:lnTo>
                    <a:lnTo>
                      <a:pt x="2392" y="1032"/>
                    </a:lnTo>
                    <a:lnTo>
                      <a:pt x="2422" y="1047"/>
                    </a:lnTo>
                    <a:lnTo>
                      <a:pt x="2452" y="1061"/>
                    </a:lnTo>
                    <a:lnTo>
                      <a:pt x="2481" y="1078"/>
                    </a:lnTo>
                    <a:lnTo>
                      <a:pt x="2512" y="1095"/>
                    </a:lnTo>
                    <a:lnTo>
                      <a:pt x="2541" y="1113"/>
                    </a:lnTo>
                    <a:lnTo>
                      <a:pt x="2548" y="1120"/>
                    </a:lnTo>
                    <a:lnTo>
                      <a:pt x="2555" y="1126"/>
                    </a:lnTo>
                    <a:lnTo>
                      <a:pt x="2561" y="1134"/>
                    </a:lnTo>
                    <a:lnTo>
                      <a:pt x="2568" y="1140"/>
                    </a:lnTo>
                    <a:lnTo>
                      <a:pt x="2573" y="1149"/>
                    </a:lnTo>
                    <a:lnTo>
                      <a:pt x="2578" y="1157"/>
                    </a:lnTo>
                    <a:lnTo>
                      <a:pt x="2581" y="1165"/>
                    </a:lnTo>
                    <a:lnTo>
                      <a:pt x="2584" y="1174"/>
                    </a:lnTo>
                    <a:lnTo>
                      <a:pt x="2587" y="1183"/>
                    </a:lnTo>
                    <a:lnTo>
                      <a:pt x="2590" y="1192"/>
                    </a:lnTo>
                    <a:lnTo>
                      <a:pt x="2591" y="1201"/>
                    </a:lnTo>
                    <a:lnTo>
                      <a:pt x="2592" y="1211"/>
                    </a:lnTo>
                    <a:lnTo>
                      <a:pt x="2592" y="1219"/>
                    </a:lnTo>
                    <a:lnTo>
                      <a:pt x="2591" y="1228"/>
                    </a:lnTo>
                    <a:lnTo>
                      <a:pt x="2590" y="1237"/>
                    </a:lnTo>
                    <a:lnTo>
                      <a:pt x="2588" y="1245"/>
                    </a:lnTo>
                    <a:lnTo>
                      <a:pt x="2586" y="1254"/>
                    </a:lnTo>
                    <a:lnTo>
                      <a:pt x="2583" y="1263"/>
                    </a:lnTo>
                    <a:lnTo>
                      <a:pt x="2579" y="1270"/>
                    </a:lnTo>
                    <a:lnTo>
                      <a:pt x="2575" y="1278"/>
                    </a:lnTo>
                    <a:lnTo>
                      <a:pt x="2570" y="1284"/>
                    </a:lnTo>
                    <a:lnTo>
                      <a:pt x="2565" y="1291"/>
                    </a:lnTo>
                    <a:lnTo>
                      <a:pt x="2559" y="1296"/>
                    </a:lnTo>
                    <a:lnTo>
                      <a:pt x="2553" y="1301"/>
                    </a:lnTo>
                    <a:lnTo>
                      <a:pt x="2545" y="1306"/>
                    </a:lnTo>
                    <a:lnTo>
                      <a:pt x="2538" y="1309"/>
                    </a:lnTo>
                    <a:lnTo>
                      <a:pt x="2530" y="1312"/>
                    </a:lnTo>
                    <a:lnTo>
                      <a:pt x="2521" y="1314"/>
                    </a:lnTo>
                    <a:lnTo>
                      <a:pt x="2512" y="1315"/>
                    </a:lnTo>
                    <a:lnTo>
                      <a:pt x="2502" y="1315"/>
                    </a:lnTo>
                    <a:lnTo>
                      <a:pt x="2491" y="1314"/>
                    </a:lnTo>
                    <a:lnTo>
                      <a:pt x="2480" y="1312"/>
                    </a:lnTo>
                    <a:close/>
                    <a:moveTo>
                      <a:pt x="1443" y="854"/>
                    </a:moveTo>
                    <a:lnTo>
                      <a:pt x="1495" y="768"/>
                    </a:lnTo>
                    <a:lnTo>
                      <a:pt x="1901" y="897"/>
                    </a:lnTo>
                    <a:lnTo>
                      <a:pt x="1923" y="922"/>
                    </a:lnTo>
                    <a:lnTo>
                      <a:pt x="1940" y="945"/>
                    </a:lnTo>
                    <a:lnTo>
                      <a:pt x="1951" y="966"/>
                    </a:lnTo>
                    <a:lnTo>
                      <a:pt x="1958" y="984"/>
                    </a:lnTo>
                    <a:lnTo>
                      <a:pt x="1959" y="1001"/>
                    </a:lnTo>
                    <a:lnTo>
                      <a:pt x="1956" y="1016"/>
                    </a:lnTo>
                    <a:lnTo>
                      <a:pt x="1949" y="1030"/>
                    </a:lnTo>
                    <a:lnTo>
                      <a:pt x="1939" y="1042"/>
                    </a:lnTo>
                    <a:lnTo>
                      <a:pt x="1925" y="1052"/>
                    </a:lnTo>
                    <a:lnTo>
                      <a:pt x="1909" y="1061"/>
                    </a:lnTo>
                    <a:lnTo>
                      <a:pt x="1889" y="1067"/>
                    </a:lnTo>
                    <a:lnTo>
                      <a:pt x="1867" y="1072"/>
                    </a:lnTo>
                    <a:lnTo>
                      <a:pt x="1843" y="1077"/>
                    </a:lnTo>
                    <a:lnTo>
                      <a:pt x="1818" y="1078"/>
                    </a:lnTo>
                    <a:lnTo>
                      <a:pt x="1791" y="1079"/>
                    </a:lnTo>
                    <a:lnTo>
                      <a:pt x="1763" y="1077"/>
                    </a:lnTo>
                    <a:lnTo>
                      <a:pt x="1734" y="1075"/>
                    </a:lnTo>
                    <a:lnTo>
                      <a:pt x="1705" y="1070"/>
                    </a:lnTo>
                    <a:lnTo>
                      <a:pt x="1677" y="1064"/>
                    </a:lnTo>
                    <a:lnTo>
                      <a:pt x="1648" y="1057"/>
                    </a:lnTo>
                    <a:lnTo>
                      <a:pt x="1619" y="1048"/>
                    </a:lnTo>
                    <a:lnTo>
                      <a:pt x="1592" y="1038"/>
                    </a:lnTo>
                    <a:lnTo>
                      <a:pt x="1565" y="1026"/>
                    </a:lnTo>
                    <a:lnTo>
                      <a:pt x="1542" y="1012"/>
                    </a:lnTo>
                    <a:lnTo>
                      <a:pt x="1519" y="998"/>
                    </a:lnTo>
                    <a:lnTo>
                      <a:pt x="1498" y="982"/>
                    </a:lnTo>
                    <a:lnTo>
                      <a:pt x="1481" y="963"/>
                    </a:lnTo>
                    <a:lnTo>
                      <a:pt x="1466" y="945"/>
                    </a:lnTo>
                    <a:lnTo>
                      <a:pt x="1455" y="924"/>
                    </a:lnTo>
                    <a:lnTo>
                      <a:pt x="1447" y="903"/>
                    </a:lnTo>
                    <a:lnTo>
                      <a:pt x="1443" y="879"/>
                    </a:lnTo>
                    <a:lnTo>
                      <a:pt x="1443" y="854"/>
                    </a:lnTo>
                    <a:close/>
                    <a:moveTo>
                      <a:pt x="1184" y="880"/>
                    </a:moveTo>
                    <a:lnTo>
                      <a:pt x="1167" y="879"/>
                    </a:lnTo>
                    <a:lnTo>
                      <a:pt x="1151" y="878"/>
                    </a:lnTo>
                    <a:lnTo>
                      <a:pt x="1134" y="876"/>
                    </a:lnTo>
                    <a:lnTo>
                      <a:pt x="1118" y="873"/>
                    </a:lnTo>
                    <a:lnTo>
                      <a:pt x="1103" y="869"/>
                    </a:lnTo>
                    <a:lnTo>
                      <a:pt x="1087" y="865"/>
                    </a:lnTo>
                    <a:lnTo>
                      <a:pt x="1072" y="861"/>
                    </a:lnTo>
                    <a:lnTo>
                      <a:pt x="1057" y="855"/>
                    </a:lnTo>
                    <a:lnTo>
                      <a:pt x="1027" y="845"/>
                    </a:lnTo>
                    <a:lnTo>
                      <a:pt x="999" y="832"/>
                    </a:lnTo>
                    <a:lnTo>
                      <a:pt x="971" y="818"/>
                    </a:lnTo>
                    <a:lnTo>
                      <a:pt x="944" y="802"/>
                    </a:lnTo>
                    <a:lnTo>
                      <a:pt x="918" y="786"/>
                    </a:lnTo>
                    <a:lnTo>
                      <a:pt x="892" y="769"/>
                    </a:lnTo>
                    <a:lnTo>
                      <a:pt x="866" y="752"/>
                    </a:lnTo>
                    <a:lnTo>
                      <a:pt x="842" y="733"/>
                    </a:lnTo>
                    <a:lnTo>
                      <a:pt x="792" y="699"/>
                    </a:lnTo>
                    <a:lnTo>
                      <a:pt x="743" y="665"/>
                    </a:lnTo>
                    <a:lnTo>
                      <a:pt x="761" y="553"/>
                    </a:lnTo>
                    <a:lnTo>
                      <a:pt x="798" y="550"/>
                    </a:lnTo>
                    <a:lnTo>
                      <a:pt x="836" y="548"/>
                    </a:lnTo>
                    <a:lnTo>
                      <a:pt x="875" y="548"/>
                    </a:lnTo>
                    <a:lnTo>
                      <a:pt x="914" y="549"/>
                    </a:lnTo>
                    <a:lnTo>
                      <a:pt x="953" y="551"/>
                    </a:lnTo>
                    <a:lnTo>
                      <a:pt x="991" y="555"/>
                    </a:lnTo>
                    <a:lnTo>
                      <a:pt x="1009" y="558"/>
                    </a:lnTo>
                    <a:lnTo>
                      <a:pt x="1029" y="562"/>
                    </a:lnTo>
                    <a:lnTo>
                      <a:pt x="1047" y="566"/>
                    </a:lnTo>
                    <a:lnTo>
                      <a:pt x="1065" y="571"/>
                    </a:lnTo>
                    <a:lnTo>
                      <a:pt x="1084" y="577"/>
                    </a:lnTo>
                    <a:lnTo>
                      <a:pt x="1101" y="582"/>
                    </a:lnTo>
                    <a:lnTo>
                      <a:pt x="1118" y="589"/>
                    </a:lnTo>
                    <a:lnTo>
                      <a:pt x="1135" y="596"/>
                    </a:lnTo>
                    <a:lnTo>
                      <a:pt x="1153" y="605"/>
                    </a:lnTo>
                    <a:lnTo>
                      <a:pt x="1169" y="613"/>
                    </a:lnTo>
                    <a:lnTo>
                      <a:pt x="1185" y="623"/>
                    </a:lnTo>
                    <a:lnTo>
                      <a:pt x="1200" y="634"/>
                    </a:lnTo>
                    <a:lnTo>
                      <a:pt x="1215" y="646"/>
                    </a:lnTo>
                    <a:lnTo>
                      <a:pt x="1231" y="658"/>
                    </a:lnTo>
                    <a:lnTo>
                      <a:pt x="1245" y="671"/>
                    </a:lnTo>
                    <a:lnTo>
                      <a:pt x="1258" y="685"/>
                    </a:lnTo>
                    <a:lnTo>
                      <a:pt x="1271" y="700"/>
                    </a:lnTo>
                    <a:lnTo>
                      <a:pt x="1282" y="716"/>
                    </a:lnTo>
                    <a:lnTo>
                      <a:pt x="1294" y="733"/>
                    </a:lnTo>
                    <a:lnTo>
                      <a:pt x="1305" y="751"/>
                    </a:lnTo>
                    <a:lnTo>
                      <a:pt x="1310" y="770"/>
                    </a:lnTo>
                    <a:lnTo>
                      <a:pt x="1313" y="786"/>
                    </a:lnTo>
                    <a:lnTo>
                      <a:pt x="1313" y="794"/>
                    </a:lnTo>
                    <a:lnTo>
                      <a:pt x="1313" y="801"/>
                    </a:lnTo>
                    <a:lnTo>
                      <a:pt x="1312" y="808"/>
                    </a:lnTo>
                    <a:lnTo>
                      <a:pt x="1310" y="814"/>
                    </a:lnTo>
                    <a:lnTo>
                      <a:pt x="1308" y="820"/>
                    </a:lnTo>
                    <a:lnTo>
                      <a:pt x="1306" y="825"/>
                    </a:lnTo>
                    <a:lnTo>
                      <a:pt x="1303" y="831"/>
                    </a:lnTo>
                    <a:lnTo>
                      <a:pt x="1300" y="836"/>
                    </a:lnTo>
                    <a:lnTo>
                      <a:pt x="1292" y="845"/>
                    </a:lnTo>
                    <a:lnTo>
                      <a:pt x="1283" y="851"/>
                    </a:lnTo>
                    <a:lnTo>
                      <a:pt x="1273" y="858"/>
                    </a:lnTo>
                    <a:lnTo>
                      <a:pt x="1262" y="863"/>
                    </a:lnTo>
                    <a:lnTo>
                      <a:pt x="1250" y="868"/>
                    </a:lnTo>
                    <a:lnTo>
                      <a:pt x="1237" y="872"/>
                    </a:lnTo>
                    <a:lnTo>
                      <a:pt x="1211" y="877"/>
                    </a:lnTo>
                    <a:lnTo>
                      <a:pt x="1184" y="880"/>
                    </a:lnTo>
                    <a:close/>
                  </a:path>
                </a:pathLst>
              </a:custGeom>
              <a:solidFill>
                <a:srgbClr val="969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7"/>
              <p:cNvSpPr/>
              <p:nvPr/>
            </p:nvSpPr>
            <p:spPr>
              <a:xfrm>
                <a:off x="6532560" y="5735520"/>
                <a:ext cx="330120" cy="231840"/>
              </a:xfrm>
              <a:custGeom>
                <a:avLst/>
                <a:gdLst/>
                <a:ahLst/>
                <a:rect l="l" t="t" r="r" b="b"/>
                <a:pathLst>
                  <a:path w="1875" h="1312">
                    <a:moveTo>
                      <a:pt x="1798" y="1312"/>
                    </a:moveTo>
                    <a:lnTo>
                      <a:pt x="1744" y="1293"/>
                    </a:lnTo>
                    <a:lnTo>
                      <a:pt x="1690" y="1273"/>
                    </a:lnTo>
                    <a:lnTo>
                      <a:pt x="1636" y="1254"/>
                    </a:lnTo>
                    <a:lnTo>
                      <a:pt x="1582" y="1233"/>
                    </a:lnTo>
                    <a:lnTo>
                      <a:pt x="1528" y="1213"/>
                    </a:lnTo>
                    <a:lnTo>
                      <a:pt x="1474" y="1192"/>
                    </a:lnTo>
                    <a:lnTo>
                      <a:pt x="1419" y="1172"/>
                    </a:lnTo>
                    <a:lnTo>
                      <a:pt x="1365" y="1151"/>
                    </a:lnTo>
                    <a:lnTo>
                      <a:pt x="1310" y="1131"/>
                    </a:lnTo>
                    <a:lnTo>
                      <a:pt x="1255" y="1110"/>
                    </a:lnTo>
                    <a:lnTo>
                      <a:pt x="1200" y="1090"/>
                    </a:lnTo>
                    <a:lnTo>
                      <a:pt x="1146" y="1068"/>
                    </a:lnTo>
                    <a:lnTo>
                      <a:pt x="1090" y="1047"/>
                    </a:lnTo>
                    <a:lnTo>
                      <a:pt x="1035" y="1026"/>
                    </a:lnTo>
                    <a:lnTo>
                      <a:pt x="980" y="1005"/>
                    </a:lnTo>
                    <a:lnTo>
                      <a:pt x="925" y="984"/>
                    </a:lnTo>
                    <a:lnTo>
                      <a:pt x="925" y="976"/>
                    </a:lnTo>
                    <a:lnTo>
                      <a:pt x="925" y="965"/>
                    </a:lnTo>
                    <a:lnTo>
                      <a:pt x="925" y="953"/>
                    </a:lnTo>
                    <a:lnTo>
                      <a:pt x="925" y="941"/>
                    </a:lnTo>
                    <a:lnTo>
                      <a:pt x="924" y="930"/>
                    </a:lnTo>
                    <a:lnTo>
                      <a:pt x="923" y="918"/>
                    </a:lnTo>
                    <a:lnTo>
                      <a:pt x="921" y="905"/>
                    </a:lnTo>
                    <a:lnTo>
                      <a:pt x="918" y="892"/>
                    </a:lnTo>
                    <a:lnTo>
                      <a:pt x="913" y="879"/>
                    </a:lnTo>
                    <a:lnTo>
                      <a:pt x="908" y="866"/>
                    </a:lnTo>
                    <a:lnTo>
                      <a:pt x="903" y="852"/>
                    </a:lnTo>
                    <a:lnTo>
                      <a:pt x="896" y="837"/>
                    </a:lnTo>
                    <a:lnTo>
                      <a:pt x="881" y="808"/>
                    </a:lnTo>
                    <a:lnTo>
                      <a:pt x="863" y="775"/>
                    </a:lnTo>
                    <a:lnTo>
                      <a:pt x="843" y="743"/>
                    </a:lnTo>
                    <a:lnTo>
                      <a:pt x="822" y="707"/>
                    </a:lnTo>
                    <a:lnTo>
                      <a:pt x="854" y="726"/>
                    </a:lnTo>
                    <a:lnTo>
                      <a:pt x="887" y="746"/>
                    </a:lnTo>
                    <a:lnTo>
                      <a:pt x="921" y="768"/>
                    </a:lnTo>
                    <a:lnTo>
                      <a:pt x="955" y="787"/>
                    </a:lnTo>
                    <a:lnTo>
                      <a:pt x="972" y="797"/>
                    </a:lnTo>
                    <a:lnTo>
                      <a:pt x="989" y="806"/>
                    </a:lnTo>
                    <a:lnTo>
                      <a:pt x="1006" y="813"/>
                    </a:lnTo>
                    <a:lnTo>
                      <a:pt x="1022" y="820"/>
                    </a:lnTo>
                    <a:lnTo>
                      <a:pt x="1040" y="825"/>
                    </a:lnTo>
                    <a:lnTo>
                      <a:pt x="1056" y="828"/>
                    </a:lnTo>
                    <a:lnTo>
                      <a:pt x="1073" y="829"/>
                    </a:lnTo>
                    <a:lnTo>
                      <a:pt x="1089" y="828"/>
                    </a:lnTo>
                    <a:lnTo>
                      <a:pt x="1100" y="830"/>
                    </a:lnTo>
                    <a:lnTo>
                      <a:pt x="1111" y="831"/>
                    </a:lnTo>
                    <a:lnTo>
                      <a:pt x="1121" y="831"/>
                    </a:lnTo>
                    <a:lnTo>
                      <a:pt x="1130" y="830"/>
                    </a:lnTo>
                    <a:lnTo>
                      <a:pt x="1139" y="828"/>
                    </a:lnTo>
                    <a:lnTo>
                      <a:pt x="1147" y="825"/>
                    </a:lnTo>
                    <a:lnTo>
                      <a:pt x="1154" y="822"/>
                    </a:lnTo>
                    <a:lnTo>
                      <a:pt x="1162" y="817"/>
                    </a:lnTo>
                    <a:lnTo>
                      <a:pt x="1168" y="812"/>
                    </a:lnTo>
                    <a:lnTo>
                      <a:pt x="1174" y="807"/>
                    </a:lnTo>
                    <a:lnTo>
                      <a:pt x="1179" y="800"/>
                    </a:lnTo>
                    <a:lnTo>
                      <a:pt x="1184" y="794"/>
                    </a:lnTo>
                    <a:lnTo>
                      <a:pt x="1188" y="786"/>
                    </a:lnTo>
                    <a:lnTo>
                      <a:pt x="1192" y="779"/>
                    </a:lnTo>
                    <a:lnTo>
                      <a:pt x="1195" y="770"/>
                    </a:lnTo>
                    <a:lnTo>
                      <a:pt x="1197" y="761"/>
                    </a:lnTo>
                    <a:lnTo>
                      <a:pt x="1199" y="753"/>
                    </a:lnTo>
                    <a:lnTo>
                      <a:pt x="1200" y="744"/>
                    </a:lnTo>
                    <a:lnTo>
                      <a:pt x="1201" y="735"/>
                    </a:lnTo>
                    <a:lnTo>
                      <a:pt x="1201" y="727"/>
                    </a:lnTo>
                    <a:lnTo>
                      <a:pt x="1200" y="717"/>
                    </a:lnTo>
                    <a:lnTo>
                      <a:pt x="1199" y="708"/>
                    </a:lnTo>
                    <a:lnTo>
                      <a:pt x="1196" y="699"/>
                    </a:lnTo>
                    <a:lnTo>
                      <a:pt x="1193" y="690"/>
                    </a:lnTo>
                    <a:lnTo>
                      <a:pt x="1190" y="681"/>
                    </a:lnTo>
                    <a:lnTo>
                      <a:pt x="1187" y="673"/>
                    </a:lnTo>
                    <a:lnTo>
                      <a:pt x="1182" y="665"/>
                    </a:lnTo>
                    <a:lnTo>
                      <a:pt x="1177" y="656"/>
                    </a:lnTo>
                    <a:lnTo>
                      <a:pt x="1170" y="650"/>
                    </a:lnTo>
                    <a:lnTo>
                      <a:pt x="1164" y="642"/>
                    </a:lnTo>
                    <a:lnTo>
                      <a:pt x="1157" y="636"/>
                    </a:lnTo>
                    <a:lnTo>
                      <a:pt x="1150" y="629"/>
                    </a:lnTo>
                    <a:lnTo>
                      <a:pt x="1122" y="612"/>
                    </a:lnTo>
                    <a:lnTo>
                      <a:pt x="1094" y="596"/>
                    </a:lnTo>
                    <a:lnTo>
                      <a:pt x="1066" y="581"/>
                    </a:lnTo>
                    <a:lnTo>
                      <a:pt x="1038" y="567"/>
                    </a:lnTo>
                    <a:lnTo>
                      <a:pt x="1009" y="554"/>
                    </a:lnTo>
                    <a:lnTo>
                      <a:pt x="980" y="543"/>
                    </a:lnTo>
                    <a:lnTo>
                      <a:pt x="951" y="533"/>
                    </a:lnTo>
                    <a:lnTo>
                      <a:pt x="922" y="526"/>
                    </a:lnTo>
                    <a:lnTo>
                      <a:pt x="892" y="520"/>
                    </a:lnTo>
                    <a:lnTo>
                      <a:pt x="861" y="517"/>
                    </a:lnTo>
                    <a:lnTo>
                      <a:pt x="846" y="517"/>
                    </a:lnTo>
                    <a:lnTo>
                      <a:pt x="831" y="517"/>
                    </a:lnTo>
                    <a:lnTo>
                      <a:pt x="816" y="517"/>
                    </a:lnTo>
                    <a:lnTo>
                      <a:pt x="801" y="518"/>
                    </a:lnTo>
                    <a:lnTo>
                      <a:pt x="786" y="520"/>
                    </a:lnTo>
                    <a:lnTo>
                      <a:pt x="770" y="523"/>
                    </a:lnTo>
                    <a:lnTo>
                      <a:pt x="755" y="526"/>
                    </a:lnTo>
                    <a:lnTo>
                      <a:pt x="738" y="529"/>
                    </a:lnTo>
                    <a:lnTo>
                      <a:pt x="722" y="534"/>
                    </a:lnTo>
                    <a:lnTo>
                      <a:pt x="707" y="539"/>
                    </a:lnTo>
                    <a:lnTo>
                      <a:pt x="691" y="545"/>
                    </a:lnTo>
                    <a:lnTo>
                      <a:pt x="675" y="552"/>
                    </a:lnTo>
                    <a:lnTo>
                      <a:pt x="642" y="519"/>
                    </a:lnTo>
                    <a:lnTo>
                      <a:pt x="610" y="487"/>
                    </a:lnTo>
                    <a:lnTo>
                      <a:pt x="574" y="453"/>
                    </a:lnTo>
                    <a:lnTo>
                      <a:pt x="537" y="420"/>
                    </a:lnTo>
                    <a:lnTo>
                      <a:pt x="500" y="385"/>
                    </a:lnTo>
                    <a:lnTo>
                      <a:pt x="460" y="352"/>
                    </a:lnTo>
                    <a:lnTo>
                      <a:pt x="419" y="317"/>
                    </a:lnTo>
                    <a:lnTo>
                      <a:pt x="376" y="283"/>
                    </a:lnTo>
                    <a:lnTo>
                      <a:pt x="288" y="213"/>
                    </a:lnTo>
                    <a:lnTo>
                      <a:pt x="196" y="141"/>
                    </a:lnTo>
                    <a:lnTo>
                      <a:pt x="100" y="71"/>
                    </a:lnTo>
                    <a:lnTo>
                      <a:pt x="0" y="0"/>
                    </a:lnTo>
                    <a:lnTo>
                      <a:pt x="120" y="39"/>
                    </a:lnTo>
                    <a:lnTo>
                      <a:pt x="240" y="78"/>
                    </a:lnTo>
                    <a:lnTo>
                      <a:pt x="358" y="118"/>
                    </a:lnTo>
                    <a:lnTo>
                      <a:pt x="476" y="158"/>
                    </a:lnTo>
                    <a:lnTo>
                      <a:pt x="591" y="197"/>
                    </a:lnTo>
                    <a:lnTo>
                      <a:pt x="704" y="236"/>
                    </a:lnTo>
                    <a:lnTo>
                      <a:pt x="814" y="276"/>
                    </a:lnTo>
                    <a:lnTo>
                      <a:pt x="921" y="315"/>
                    </a:lnTo>
                    <a:lnTo>
                      <a:pt x="1022" y="355"/>
                    </a:lnTo>
                    <a:lnTo>
                      <a:pt x="1121" y="394"/>
                    </a:lnTo>
                    <a:lnTo>
                      <a:pt x="1214" y="432"/>
                    </a:lnTo>
                    <a:lnTo>
                      <a:pt x="1300" y="470"/>
                    </a:lnTo>
                    <a:lnTo>
                      <a:pt x="1381" y="506"/>
                    </a:lnTo>
                    <a:lnTo>
                      <a:pt x="1456" y="543"/>
                    </a:lnTo>
                    <a:lnTo>
                      <a:pt x="1490" y="560"/>
                    </a:lnTo>
                    <a:lnTo>
                      <a:pt x="1523" y="579"/>
                    </a:lnTo>
                    <a:lnTo>
                      <a:pt x="1553" y="596"/>
                    </a:lnTo>
                    <a:lnTo>
                      <a:pt x="1582" y="612"/>
                    </a:lnTo>
                    <a:lnTo>
                      <a:pt x="1633" y="682"/>
                    </a:lnTo>
                    <a:lnTo>
                      <a:pt x="1694" y="772"/>
                    </a:lnTo>
                    <a:lnTo>
                      <a:pt x="1727" y="822"/>
                    </a:lnTo>
                    <a:lnTo>
                      <a:pt x="1758" y="872"/>
                    </a:lnTo>
                    <a:lnTo>
                      <a:pt x="1774" y="899"/>
                    </a:lnTo>
                    <a:lnTo>
                      <a:pt x="1788" y="925"/>
                    </a:lnTo>
                    <a:lnTo>
                      <a:pt x="1802" y="952"/>
                    </a:lnTo>
                    <a:lnTo>
                      <a:pt x="1816" y="978"/>
                    </a:lnTo>
                    <a:lnTo>
                      <a:pt x="1828" y="1005"/>
                    </a:lnTo>
                    <a:lnTo>
                      <a:pt x="1839" y="1031"/>
                    </a:lnTo>
                    <a:lnTo>
                      <a:pt x="1849" y="1057"/>
                    </a:lnTo>
                    <a:lnTo>
                      <a:pt x="1857" y="1083"/>
                    </a:lnTo>
                    <a:lnTo>
                      <a:pt x="1864" y="1108"/>
                    </a:lnTo>
                    <a:lnTo>
                      <a:pt x="1869" y="1132"/>
                    </a:lnTo>
                    <a:lnTo>
                      <a:pt x="1873" y="1155"/>
                    </a:lnTo>
                    <a:lnTo>
                      <a:pt x="1875" y="1177"/>
                    </a:lnTo>
                    <a:lnTo>
                      <a:pt x="1874" y="1199"/>
                    </a:lnTo>
                    <a:lnTo>
                      <a:pt x="1870" y="1219"/>
                    </a:lnTo>
                    <a:lnTo>
                      <a:pt x="1865" y="1239"/>
                    </a:lnTo>
                    <a:lnTo>
                      <a:pt x="1857" y="1257"/>
                    </a:lnTo>
                    <a:lnTo>
                      <a:pt x="1847" y="1273"/>
                    </a:lnTo>
                    <a:lnTo>
                      <a:pt x="1834" y="1288"/>
                    </a:lnTo>
                    <a:lnTo>
                      <a:pt x="1818" y="1301"/>
                    </a:lnTo>
                    <a:lnTo>
                      <a:pt x="1798" y="1312"/>
                    </a:lnTo>
                    <a:close/>
                  </a:path>
                </a:pathLst>
              </a:custGeom>
              <a:solidFill>
                <a:srgbClr val="7f8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"/>
              <p:cNvSpPr/>
              <p:nvPr/>
            </p:nvSpPr>
            <p:spPr>
              <a:xfrm>
                <a:off x="6324480" y="3860640"/>
                <a:ext cx="459000" cy="1355760"/>
              </a:xfrm>
              <a:custGeom>
                <a:avLst/>
                <a:gdLst/>
                <a:ahLst/>
                <a:rect l="l" t="t" r="r" b="b"/>
                <a:pathLst>
                  <a:path w="2601" h="7687">
                    <a:moveTo>
                      <a:pt x="242" y="7575"/>
                    </a:moveTo>
                    <a:lnTo>
                      <a:pt x="0" y="7687"/>
                    </a:lnTo>
                    <a:lnTo>
                      <a:pt x="2463" y="0"/>
                    </a:lnTo>
                    <a:lnTo>
                      <a:pt x="2601" y="233"/>
                    </a:lnTo>
                    <a:lnTo>
                      <a:pt x="242" y="7575"/>
                    </a:lnTo>
                    <a:close/>
                  </a:path>
                </a:pathLst>
              </a:custGeom>
              <a:solidFill>
                <a:srgbClr val="bc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9"/>
              <p:cNvSpPr/>
              <p:nvPr/>
            </p:nvSpPr>
            <p:spPr>
              <a:xfrm>
                <a:off x="6683400" y="5843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190" h="95">
                    <a:moveTo>
                      <a:pt x="0" y="0"/>
                    </a:moveTo>
                    <a:lnTo>
                      <a:pt x="29" y="7"/>
                    </a:lnTo>
                    <a:lnTo>
                      <a:pt x="57" y="13"/>
                    </a:lnTo>
                    <a:lnTo>
                      <a:pt x="85" y="20"/>
                    </a:lnTo>
                    <a:lnTo>
                      <a:pt x="111" y="28"/>
                    </a:lnTo>
                    <a:lnTo>
                      <a:pt x="123" y="34"/>
                    </a:lnTo>
                    <a:lnTo>
                      <a:pt x="135" y="40"/>
                    </a:lnTo>
                    <a:lnTo>
                      <a:pt x="146" y="47"/>
                    </a:lnTo>
                    <a:lnTo>
                      <a:pt x="157" y="54"/>
                    </a:lnTo>
                    <a:lnTo>
                      <a:pt x="166" y="63"/>
                    </a:lnTo>
                    <a:lnTo>
                      <a:pt x="175" y="73"/>
                    </a:lnTo>
                    <a:lnTo>
                      <a:pt x="183" y="83"/>
                    </a:lnTo>
                    <a:lnTo>
                      <a:pt x="19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0"/>
              <p:cNvSpPr/>
              <p:nvPr/>
            </p:nvSpPr>
            <p:spPr>
              <a:xfrm>
                <a:off x="6565680" y="5810040"/>
                <a:ext cx="35280" cy="11160"/>
              </a:xfrm>
              <a:custGeom>
                <a:avLst/>
                <a:gdLst/>
                <a:ahLst/>
                <a:rect l="l" t="t" r="r" b="b"/>
                <a:pathLst>
                  <a:path w="198" h="68">
                    <a:moveTo>
                      <a:pt x="0" y="8"/>
                    </a:moveTo>
                    <a:lnTo>
                      <a:pt x="13" y="5"/>
                    </a:lnTo>
                    <a:lnTo>
                      <a:pt x="26" y="1"/>
                    </a:lnTo>
                    <a:lnTo>
                      <a:pt x="39" y="0"/>
                    </a:lnTo>
                    <a:lnTo>
                      <a:pt x="51" y="1"/>
                    </a:lnTo>
                    <a:lnTo>
                      <a:pt x="64" y="2"/>
                    </a:lnTo>
                    <a:lnTo>
                      <a:pt x="76" y="5"/>
                    </a:lnTo>
                    <a:lnTo>
                      <a:pt x="89" y="8"/>
                    </a:lnTo>
                    <a:lnTo>
                      <a:pt x="102" y="12"/>
                    </a:lnTo>
                    <a:lnTo>
                      <a:pt x="114" y="17"/>
                    </a:lnTo>
                    <a:lnTo>
                      <a:pt x="127" y="24"/>
                    </a:lnTo>
                    <a:lnTo>
                      <a:pt x="139" y="30"/>
                    </a:lnTo>
                    <a:lnTo>
                      <a:pt x="152" y="37"/>
                    </a:lnTo>
                    <a:lnTo>
                      <a:pt x="175" y="53"/>
                    </a:lnTo>
                    <a:lnTo>
                      <a:pt x="198" y="68"/>
                    </a:lnTo>
                    <a:lnTo>
                      <a:pt x="175" y="61"/>
                    </a:lnTo>
                    <a:lnTo>
                      <a:pt x="150" y="53"/>
                    </a:lnTo>
                    <a:lnTo>
                      <a:pt x="125" y="48"/>
                    </a:lnTo>
                    <a:lnTo>
                      <a:pt x="99" y="41"/>
                    </a:lnTo>
                    <a:lnTo>
                      <a:pt x="73" y="36"/>
                    </a:lnTo>
                    <a:lnTo>
                      <a:pt x="47" y="28"/>
                    </a:lnTo>
                    <a:lnTo>
                      <a:pt x="35" y="25"/>
                    </a:lnTo>
                    <a:lnTo>
                      <a:pt x="23" y="20"/>
                    </a:lnTo>
                    <a:lnTo>
                      <a:pt x="12" y="1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"/>
              <p:cNvSpPr/>
              <p:nvPr/>
            </p:nvSpPr>
            <p:spPr>
              <a:xfrm>
                <a:off x="6445080" y="576576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294" h="102">
                    <a:moveTo>
                      <a:pt x="0" y="8"/>
                    </a:moveTo>
                    <a:lnTo>
                      <a:pt x="9" y="5"/>
                    </a:lnTo>
                    <a:lnTo>
                      <a:pt x="18" y="3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76" y="2"/>
                    </a:lnTo>
                    <a:lnTo>
                      <a:pt x="95" y="6"/>
                    </a:lnTo>
                    <a:lnTo>
                      <a:pt x="114" y="10"/>
                    </a:lnTo>
                    <a:lnTo>
                      <a:pt x="134" y="17"/>
                    </a:lnTo>
                    <a:lnTo>
                      <a:pt x="153" y="26"/>
                    </a:lnTo>
                    <a:lnTo>
                      <a:pt x="192" y="43"/>
                    </a:lnTo>
                    <a:lnTo>
                      <a:pt x="229" y="61"/>
                    </a:lnTo>
                    <a:lnTo>
                      <a:pt x="262" y="80"/>
                    </a:lnTo>
                    <a:lnTo>
                      <a:pt x="294" y="94"/>
                    </a:lnTo>
                    <a:lnTo>
                      <a:pt x="274" y="98"/>
                    </a:lnTo>
                    <a:lnTo>
                      <a:pt x="256" y="101"/>
                    </a:lnTo>
                    <a:lnTo>
                      <a:pt x="236" y="102"/>
                    </a:lnTo>
                    <a:lnTo>
                      <a:pt x="219" y="101"/>
                    </a:lnTo>
                    <a:lnTo>
                      <a:pt x="201" y="100"/>
                    </a:lnTo>
                    <a:lnTo>
                      <a:pt x="182" y="97"/>
                    </a:lnTo>
                    <a:lnTo>
                      <a:pt x="165" y="93"/>
                    </a:lnTo>
                    <a:lnTo>
                      <a:pt x="147" y="87"/>
                    </a:lnTo>
                    <a:lnTo>
                      <a:pt x="130" y="80"/>
                    </a:lnTo>
                    <a:lnTo>
                      <a:pt x="111" y="72"/>
                    </a:lnTo>
                    <a:lnTo>
                      <a:pt x="93" y="63"/>
                    </a:lnTo>
                    <a:lnTo>
                      <a:pt x="76" y="54"/>
                    </a:lnTo>
                    <a:lnTo>
                      <a:pt x="38" y="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c5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6" name="Picture 32" descr="monitortext"/>
            <p:cNvPicPr/>
            <p:nvPr/>
          </p:nvPicPr>
          <p:blipFill>
            <a:blip r:embed="rId2"/>
            <a:stretch/>
          </p:blipFill>
          <p:spPr>
            <a:xfrm>
              <a:off x="6549840" y="4192560"/>
              <a:ext cx="132408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241f"/>
                </a:solidFill>
                <a:latin typeface="Arial Black"/>
              </a:rPr>
              <a:t>Six Disciplines Business System</a:t>
            </a:r>
            <a:endParaRPr b="0" lang="en-US" sz="2800" spc="-1" strike="noStrike">
              <a:solidFill>
                <a:srgbClr val="dc241f"/>
              </a:solidFill>
              <a:latin typeface="Arial Black"/>
            </a:endParaRPr>
          </a:p>
        </p:txBody>
      </p:sp>
      <p:pic>
        <p:nvPicPr>
          <p:cNvPr id="628" name="Picture 34" descr="peoplesuite_icon"/>
          <p:cNvPicPr/>
          <p:nvPr/>
        </p:nvPicPr>
        <p:blipFill>
          <a:blip r:embed="rId3"/>
          <a:stretch/>
        </p:blipFill>
        <p:spPr>
          <a:xfrm>
            <a:off x="3886200" y="1136520"/>
            <a:ext cx="950760" cy="1149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5" descr="financialsuite_icon"/>
          <p:cNvPicPr/>
          <p:nvPr/>
        </p:nvPicPr>
        <p:blipFill>
          <a:blip r:embed="rId4"/>
          <a:stretch/>
        </p:blipFill>
        <p:spPr>
          <a:xfrm>
            <a:off x="4879800" y="11365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6" descr="distributionsuite_icon"/>
          <p:cNvPicPr/>
          <p:nvPr/>
        </p:nvPicPr>
        <p:blipFill>
          <a:blip r:embed="rId5"/>
          <a:stretch/>
        </p:blipFill>
        <p:spPr>
          <a:xfrm>
            <a:off x="5891040" y="1135080"/>
            <a:ext cx="951120" cy="11444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7" descr="SMSsuite_icon"/>
          <p:cNvPicPr/>
          <p:nvPr/>
        </p:nvPicPr>
        <p:blipFill>
          <a:blip r:embed="rId6"/>
          <a:stretch/>
        </p:blipFill>
        <p:spPr>
          <a:xfrm>
            <a:off x="6885000" y="1136520"/>
            <a:ext cx="960480" cy="1149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8" descr="projectsuite_icon"/>
          <p:cNvPicPr/>
          <p:nvPr/>
        </p:nvPicPr>
        <p:blipFill>
          <a:blip r:embed="rId7"/>
          <a:stretch/>
        </p:blipFill>
        <p:spPr>
          <a:xfrm>
            <a:off x="7888320" y="1136520"/>
            <a:ext cx="950760" cy="1144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9" descr="peoplesuite_icon"/>
          <p:cNvPicPr/>
          <p:nvPr/>
        </p:nvPicPr>
        <p:blipFill>
          <a:blip r:embed="rId8"/>
          <a:stretch/>
        </p:blipFill>
        <p:spPr>
          <a:xfrm>
            <a:off x="1866960" y="1219320"/>
            <a:ext cx="1138320" cy="1371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0" descr="financialsuite_icon"/>
          <p:cNvPicPr/>
          <p:nvPr/>
        </p:nvPicPr>
        <p:blipFill>
          <a:blip r:embed="rId9"/>
          <a:stretch/>
        </p:blipFill>
        <p:spPr>
          <a:xfrm>
            <a:off x="2390760" y="213372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1" descr="distributionsuite_icon"/>
          <p:cNvPicPr/>
          <p:nvPr/>
        </p:nvPicPr>
        <p:blipFill>
          <a:blip r:embed="rId10"/>
          <a:stretch/>
        </p:blipFill>
        <p:spPr>
          <a:xfrm>
            <a:off x="2960640" y="3048120"/>
            <a:ext cx="1141560" cy="1371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2" descr="SMSsuite_icon"/>
          <p:cNvPicPr/>
          <p:nvPr/>
        </p:nvPicPr>
        <p:blipFill>
          <a:blip r:embed="rId11"/>
          <a:stretch/>
        </p:blipFill>
        <p:spPr>
          <a:xfrm>
            <a:off x="3506760" y="3943440"/>
            <a:ext cx="1147680" cy="13716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3" descr="projectsuite_icon"/>
          <p:cNvPicPr/>
          <p:nvPr/>
        </p:nvPicPr>
        <p:blipFill>
          <a:blip r:embed="rId12"/>
          <a:stretch/>
        </p:blipFill>
        <p:spPr>
          <a:xfrm>
            <a:off x="4086360" y="4848120"/>
            <a:ext cx="1141200" cy="13716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44"/>
          <p:cNvSpPr/>
          <p:nvPr/>
        </p:nvSpPr>
        <p:spPr>
          <a:xfrm>
            <a:off x="3200400" y="16765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People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3733920" y="2590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Financial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4267080" y="34290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Distribution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4800600" y="43434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SMS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5410080" y="525780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241f"/>
                </a:solidFill>
                <a:latin typeface="Arial"/>
                <a:ea typeface="宋体"/>
              </a:rPr>
              <a:t>Projec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4.98959E-006 L 0.21406 -0.03332 E">
                                      <p:cBhvr>
                                        <p:cTn id="373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18459E-006 L 0.26546 -0.1647 E">
                                      <p:cBhvr>
                                        <p:cTn id="389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796E-006 L 0.31042 -0.29956 E">
                                      <p:cBhvr>
                                        <p:cTn id="405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57529E-006 L 0.36198 -0.42979 E">
                                      <p:cBhvr>
                                        <p:cTn id="421" dur="1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5524E-006 L 0.40729 -0.56141 E">
                                      <p:cBhvr>
                                        <p:cTn id="437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8:15:02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4:34Z</dcterms:modified>
  <cp:revision>1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