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skeleton.wav" ContentType="audio/x-wav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wesomebackground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940360" y="656892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© 2004 By Def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Picture 3" descr="Solar-Wind-800x6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>
            <a:hlinkClick r:id="rId3"/>
          </p:cNvPr>
          <p:cNvSpPr/>
          <p:nvPr/>
        </p:nvSpPr>
        <p:spPr>
          <a:xfrm>
            <a:off x="0" y="656892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4"/>
                </a:solidFill>
                <a:latin typeface="Arial"/>
                <a:ea typeface="宋体"/>
              </a:rPr>
              <a:t>http://www.awesomebackgrounds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keleton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image" Target="../media/image6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7.png"/><Relationship Id="rId48" Type="http://schemas.openxmlformats.org/officeDocument/2006/relationships/image" Target="../media/image8.png"/><Relationship Id="rId49" Type="http://schemas.openxmlformats.org/officeDocument/2006/relationships/image" Target="../media/image9.png"/><Relationship Id="rId50" Type="http://schemas.openxmlformats.org/officeDocument/2006/relationships/image" Target="../media/image3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6.png"/><Relationship Id="rId54" Type="http://schemas.openxmlformats.org/officeDocument/2006/relationships/image" Target="../media/image7.png"/><Relationship Id="rId55" Type="http://schemas.openxmlformats.org/officeDocument/2006/relationships/image" Target="../media/image8.png"/><Relationship Id="rId56" Type="http://schemas.openxmlformats.org/officeDocument/2006/relationships/image" Target="../media/image9.png"/><Relationship Id="rId57" Type="http://schemas.openxmlformats.org/officeDocument/2006/relationships/image" Target="../media/image3.png"/><Relationship Id="rId58" Type="http://schemas.openxmlformats.org/officeDocument/2006/relationships/image" Target="../media/image4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3.png"/><Relationship Id="rId65" Type="http://schemas.openxmlformats.org/officeDocument/2006/relationships/image" Target="../media/image4.png"/><Relationship Id="rId66" Type="http://schemas.openxmlformats.org/officeDocument/2006/relationships/image" Target="../media/image5.png"/><Relationship Id="rId67" Type="http://schemas.openxmlformats.org/officeDocument/2006/relationships/image" Target="../media/image6.png"/><Relationship Id="rId68" Type="http://schemas.openxmlformats.org/officeDocument/2006/relationships/image" Target="../media/image7.png"/><Relationship Id="rId69" Type="http://schemas.openxmlformats.org/officeDocument/2006/relationships/image" Target="../media/image8.png"/><Relationship Id="rId70" Type="http://schemas.openxmlformats.org/officeDocument/2006/relationships/image" Target="../media/image9.png"/><Relationship Id="rId71" Type="http://schemas.openxmlformats.org/officeDocument/2006/relationships/image" Target="../media/image3.png"/><Relationship Id="rId72" Type="http://schemas.openxmlformats.org/officeDocument/2006/relationships/image" Target="../media/image4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9.png"/><Relationship Id="rId78" Type="http://schemas.openxmlformats.org/officeDocument/2006/relationships/image" Target="../media/image3.png"/><Relationship Id="rId79" Type="http://schemas.openxmlformats.org/officeDocument/2006/relationships/image" Target="../media/image4.png"/><Relationship Id="rId80" Type="http://schemas.openxmlformats.org/officeDocument/2006/relationships/image" Target="../media/image5.png"/><Relationship Id="rId81" Type="http://schemas.openxmlformats.org/officeDocument/2006/relationships/image" Target="../media/image10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3.png"/><Relationship Id="rId86" Type="http://schemas.openxmlformats.org/officeDocument/2006/relationships/image" Target="../media/image4.png"/><Relationship Id="rId87" Type="http://schemas.openxmlformats.org/officeDocument/2006/relationships/image" Target="../media/image5.png"/><Relationship Id="rId88" Type="http://schemas.openxmlformats.org/officeDocument/2006/relationships/image" Target="../media/image6.png"/><Relationship Id="rId89" Type="http://schemas.openxmlformats.org/officeDocument/2006/relationships/image" Target="../media/image7.png"/><Relationship Id="rId90" Type="http://schemas.openxmlformats.org/officeDocument/2006/relationships/image" Target="../media/image8.png"/><Relationship Id="rId91" Type="http://schemas.openxmlformats.org/officeDocument/2006/relationships/image" Target="../media/image9.png"/><Relationship Id="rId92" Type="http://schemas.openxmlformats.org/officeDocument/2006/relationships/image" Target="../media/image3.png"/><Relationship Id="rId93" Type="http://schemas.openxmlformats.org/officeDocument/2006/relationships/image" Target="../media/image4.png"/><Relationship Id="rId94" Type="http://schemas.openxmlformats.org/officeDocument/2006/relationships/image" Target="../media/image5.png"/><Relationship Id="rId95" Type="http://schemas.openxmlformats.org/officeDocument/2006/relationships/image" Target="../media/image6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9.png"/><Relationship Id="rId99" Type="http://schemas.openxmlformats.org/officeDocument/2006/relationships/image" Target="../media/image3.png"/><Relationship Id="rId100" Type="http://schemas.openxmlformats.org/officeDocument/2006/relationships/image" Target="../media/image4.png"/><Relationship Id="rId101" Type="http://schemas.openxmlformats.org/officeDocument/2006/relationships/image" Target="../media/image5.png"/><Relationship Id="rId102" Type="http://schemas.openxmlformats.org/officeDocument/2006/relationships/image" Target="../media/image6.png"/><Relationship Id="rId103" Type="http://schemas.openxmlformats.org/officeDocument/2006/relationships/image" Target="../media/image7.png"/><Relationship Id="rId104" Type="http://schemas.openxmlformats.org/officeDocument/2006/relationships/image" Target="../media/image8.png"/><Relationship Id="rId105" Type="http://schemas.openxmlformats.org/officeDocument/2006/relationships/image" Target="../media/image9.png"/><Relationship Id="rId106" Type="http://schemas.openxmlformats.org/officeDocument/2006/relationships/image" Target="../media/image3.png"/><Relationship Id="rId107" Type="http://schemas.openxmlformats.org/officeDocument/2006/relationships/image" Target="../media/image4.png"/><Relationship Id="rId108" Type="http://schemas.openxmlformats.org/officeDocument/2006/relationships/image" Target="../media/image5.png"/><Relationship Id="rId109" Type="http://schemas.openxmlformats.org/officeDocument/2006/relationships/image" Target="../media/image6.png"/><Relationship Id="rId110" Type="http://schemas.openxmlformats.org/officeDocument/2006/relationships/image" Target="../media/image7.png"/><Relationship Id="rId111" Type="http://schemas.openxmlformats.org/officeDocument/2006/relationships/image" Target="../media/image8.png"/><Relationship Id="rId112" Type="http://schemas.openxmlformats.org/officeDocument/2006/relationships/image" Target="../media/image9.png"/><Relationship Id="rId113" Type="http://schemas.openxmlformats.org/officeDocument/2006/relationships/image" Target="../media/image10.png"/><Relationship Id="rId114" Type="http://schemas.openxmlformats.org/officeDocument/2006/relationships/image" Target="../media/image4.png"/><Relationship Id="rId115" Type="http://schemas.openxmlformats.org/officeDocument/2006/relationships/image" Target="../media/image4.png"/><Relationship Id="rId116" Type="http://schemas.openxmlformats.org/officeDocument/2006/relationships/image" Target="../media/image10.png"/><Relationship Id="rId117" Type="http://schemas.openxmlformats.org/officeDocument/2006/relationships/image" Target="../media/image10.png"/><Relationship Id="rId1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990720" y="1905120"/>
            <a:ext cx="723888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21560" y="2235600"/>
            <a:ext cx="6577200" cy="862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81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e A to Z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owerPoint ‘ing’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awe-logo24b"/>
          <p:cNvPicPr/>
          <p:nvPr/>
        </p:nvPicPr>
        <p:blipFill>
          <a:blip r:embed="rId1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6480" y="119700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国外精美文字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598760" y="276372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38640" y="2763720"/>
            <a:ext cx="107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036160" y="2763720"/>
            <a:ext cx="7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757240" y="2763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264120" y="2763720"/>
            <a:ext cx="6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r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838680" y="276372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225680" y="276372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030640" y="276372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u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5868720" y="2763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6405840" y="276372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788160" y="276372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7610400" y="276372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99ccff"/>
                </a:solidFill>
                <a:latin typeface="Arial Black"/>
                <a:ea typeface="宋体"/>
              </a:rPr>
              <a:t>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598760" y="275580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638640" y="2755800"/>
            <a:ext cx="107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036160" y="2755800"/>
            <a:ext cx="7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2757240" y="275580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264120" y="2755800"/>
            <a:ext cx="6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r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838680" y="275580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4225680" y="275580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5035320" y="275580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u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5868720" y="275580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6410520" y="275580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6800760" y="275580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7615080" y="275580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cc0000"/>
                </a:solidFill>
                <a:latin typeface="Arial Black"/>
                <a:ea typeface="宋体"/>
              </a:rPr>
              <a:t>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1132200" y="2789280"/>
            <a:ext cx="69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Distribut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-0.83993 -0.62431 E">
                                      <p:cBhvr>
                                        <p:cTn id="1063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67934 -0.62431 E">
                                      <p:cBhvr>
                                        <p:cTn id="1065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-0.55052 -0.62431 E">
                                      <p:cBhvr>
                                        <p:cTn id="1067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-0.40399 -0.61366 E">
                                      <p:cBhvr>
                                        <p:cTn id="1069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22726 -0.62431 E">
                                      <p:cBhvr>
                                        <p:cTn id="107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07604 -0.62431 E">
                                      <p:cBhvr>
                                        <p:cTn id="107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10035 -0.62431 E">
                                      <p:cBhvr>
                                        <p:cTn id="107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0.19236 -0.62431 E">
                                      <p:cBhvr>
                                        <p:cTn id="1077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33003 -0.61366 E">
                                      <p:cBhvr>
                                        <p:cTn id="1079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46389 -0.61366 E">
                                      <p:cBhvr>
                                        <p:cTn id="108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63663 -0.62431 E">
                                      <p:cBhvr>
                                        <p:cTn id="1083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0.79687 -0.61366 E">
                                      <p:cBhvr>
                                        <p:cTn id="108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0.06024 0.3405 E">
                                      <p:cBhvr>
                                        <p:cTn id="108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0.05509 L 0.05122 -0.40487 E">
                                      <p:cBhvr>
                                        <p:cTn id="10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1481E-006 L -0.58993 -0.41551 E">
                                      <p:cBhvr>
                                        <p:cTn id="109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48281 0.33009 E">
                                      <p:cBhvr>
                                        <p:cTn id="109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21371 0.3405 E">
                                      <p:cBhvr>
                                        <p:cTn id="109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0.31771 -0.39445 E">
                                      <p:cBhvr>
                                        <p:cTn id="109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-0.30921 -0.40487 E">
                                      <p:cBhvr>
                                        <p:cTn id="11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20139 0.3405 E">
                                      <p:cBhvr>
                                        <p:cTn id="110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4717 0.3405 E">
                                      <p:cBhvr>
                                        <p:cTn id="110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56632 -0.40487 E">
                                      <p:cBhvr>
                                        <p:cTn id="110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0.07205 -0.41551 E">
                                      <p:cBhvr>
                                        <p:cTn id="110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5677 0.33009 E">
                                      <p:cBhvr>
                                        <p:cTn id="1110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250920" y="2924280"/>
            <a:ext cx="718920" cy="863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46">
                <a:moveTo>
                  <a:pt x="3600" y="0"/>
                </a:moveTo>
                <a:arcTo wR="3600" hR="3600" stAng="16200000" swAng="-5400000"/>
                <a:lnTo>
                  <a:pt x="0" y="22346"/>
                </a:lnTo>
                <a:arcTo wR="3600" hR="3600" stAng="10800000" swAng="-5400000"/>
                <a:lnTo>
                  <a:pt x="18000" y="2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041480" y="2924280"/>
            <a:ext cx="718920" cy="863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46">
                <a:moveTo>
                  <a:pt x="3600" y="0"/>
                </a:moveTo>
                <a:arcTo wR="3600" hR="3600" stAng="16200000" swAng="-5400000"/>
                <a:lnTo>
                  <a:pt x="0" y="22346"/>
                </a:lnTo>
                <a:arcTo wR="3600" hR="3600" stAng="10800000" swAng="-5400000"/>
                <a:lnTo>
                  <a:pt x="18000" y="2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183348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625840" y="2924280"/>
            <a:ext cx="718920" cy="863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46">
                <a:moveTo>
                  <a:pt x="3600" y="0"/>
                </a:moveTo>
                <a:arcTo wR="3600" hR="3600" stAng="16200000" swAng="-5400000"/>
                <a:lnTo>
                  <a:pt x="0" y="22346"/>
                </a:lnTo>
                <a:arcTo wR="3600" hR="3600" stAng="10800000" swAng="-5400000"/>
                <a:lnTo>
                  <a:pt x="18000" y="2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341784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4210200" y="2924280"/>
            <a:ext cx="718920" cy="863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46">
                <a:moveTo>
                  <a:pt x="3600" y="0"/>
                </a:moveTo>
                <a:arcTo wR="3600" hR="3600" stAng="16200000" swAng="-5400000"/>
                <a:lnTo>
                  <a:pt x="0" y="22346"/>
                </a:lnTo>
                <a:arcTo wR="3600" hR="3600" stAng="10800000" swAng="-5400000"/>
                <a:lnTo>
                  <a:pt x="18000" y="2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500220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9420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658656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7378560" y="2924280"/>
            <a:ext cx="719280" cy="86364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33">
                <a:moveTo>
                  <a:pt x="3600" y="0"/>
                </a:moveTo>
                <a:arcTo wR="3600" hR="3600" stAng="16200000" swAng="-5400000"/>
                <a:lnTo>
                  <a:pt x="0" y="22333"/>
                </a:lnTo>
                <a:arcTo wR="3600" hR="3600" stAng="10800000" swAng="-5400000"/>
                <a:lnTo>
                  <a:pt x="18000" y="259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8170920" y="2924280"/>
            <a:ext cx="718920" cy="86364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863640"/>
              <a:gd name="textAreaBottom" fmla="*/ 828720 h 863640"/>
            </a:gdLst>
            <a:ahLst/>
            <a:rect l="textAreaLeft" t="textAreaTop" r="textAreaRight" b="textAreaBottom"/>
            <a:pathLst>
              <a:path w="21600" h="25946">
                <a:moveTo>
                  <a:pt x="3600" y="0"/>
                </a:moveTo>
                <a:arcTo wR="3600" hR="3600" stAng="16200000" swAng="-5400000"/>
                <a:lnTo>
                  <a:pt x="0" y="22346"/>
                </a:lnTo>
                <a:arcTo wR="3600" hR="3600" stAng="10800000" swAng="-5400000"/>
                <a:lnTo>
                  <a:pt x="18000" y="2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aa82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WordArt 13"/>
          <p:cNvSpPr txBox="1"/>
          <p:nvPr/>
        </p:nvSpPr>
        <p:spPr>
          <a:xfrm>
            <a:off x="32220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D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111276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O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0" name="WordArt 15"/>
          <p:cNvSpPr txBox="1"/>
          <p:nvPr/>
        </p:nvSpPr>
        <p:spPr>
          <a:xfrm>
            <a:off x="1905120" y="3068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W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1" name="WordArt 16"/>
          <p:cNvSpPr txBox="1"/>
          <p:nvPr/>
        </p:nvSpPr>
        <p:spPr>
          <a:xfrm>
            <a:off x="269712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N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2" name="WordArt 17"/>
          <p:cNvSpPr txBox="1"/>
          <p:nvPr/>
        </p:nvSpPr>
        <p:spPr>
          <a:xfrm>
            <a:off x="3489480" y="3068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L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428148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O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4" name="WordArt 19"/>
          <p:cNvSpPr txBox="1"/>
          <p:nvPr/>
        </p:nvSpPr>
        <p:spPr>
          <a:xfrm>
            <a:off x="507348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A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5" name="WordArt 20"/>
          <p:cNvSpPr txBox="1"/>
          <p:nvPr/>
        </p:nvSpPr>
        <p:spPr>
          <a:xfrm>
            <a:off x="586584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D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6" name="WordArt 21"/>
          <p:cNvSpPr txBox="1"/>
          <p:nvPr/>
        </p:nvSpPr>
        <p:spPr>
          <a:xfrm>
            <a:off x="6835680" y="3068640"/>
            <a:ext cx="219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I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7" name="WordArt 22"/>
          <p:cNvSpPr txBox="1"/>
          <p:nvPr/>
        </p:nvSpPr>
        <p:spPr>
          <a:xfrm>
            <a:off x="745020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N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8242200" y="306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G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254600" y="2038320"/>
            <a:ext cx="6680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600" spc="-1" strike="noStrike">
                <a:solidFill>
                  <a:srgbClr val="ffffff"/>
                </a:solidFill>
                <a:latin typeface="Arial Black"/>
                <a:ea typeface="宋体"/>
              </a:rPr>
              <a:t>Editing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97120" y="2038320"/>
            <a:ext cx="7395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600" spc="-1" strike="noStrike">
                <a:solidFill>
                  <a:srgbClr val="ffffff"/>
                </a:solidFill>
                <a:latin typeface="Arial Black"/>
                <a:ea typeface="宋体"/>
              </a:rPr>
              <a:t>Editting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543640" y="1773360"/>
            <a:ext cx="0" cy="2808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5111640" y="1773360"/>
            <a:ext cx="0" cy="2808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9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8" dur="7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611280" y="2563920"/>
            <a:ext cx="79614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00ffcc"/>
                </a:solidFill>
                <a:latin typeface="Comic Sans MS"/>
              </a:rPr>
              <a:t>educating</a:t>
            </a:r>
            <a:endParaRPr b="0" lang="en-US" sz="2400" spc="-1" strike="noStrike">
              <a:ln w="0">
                <a:noFill/>
              </a:ln>
              <a:solidFill>
                <a:srgbClr val="00ffcc"/>
              </a:solidFill>
              <a:latin typeface="Comic Sans MS"/>
              <a:ea typeface="Comic Sans MS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516720" y="1125360"/>
            <a:ext cx="1198440" cy="1639800"/>
            <a:chOff x="6516720" y="1125360"/>
            <a:chExt cx="1198440" cy="1639800"/>
          </a:xfrm>
        </p:grpSpPr>
        <p:sp>
          <p:nvSpPr>
            <p:cNvPr id="305" name="未知"/>
            <p:cNvSpPr/>
            <p:nvPr/>
          </p:nvSpPr>
          <p:spPr>
            <a:xfrm flipV="1">
              <a:off x="6550200" y="2445480"/>
              <a:ext cx="266400" cy="23652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flipV="1">
              <a:off x="6566040" y="1345320"/>
              <a:ext cx="931680" cy="1212840"/>
            </a:xfrm>
            <a:prstGeom prst="pie">
              <a:avLst/>
            </a:prstGeom>
            <a:solidFill>
              <a:srgbClr val="f7d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 flipV="1">
              <a:off x="7275600" y="1153080"/>
              <a:ext cx="411120" cy="398520"/>
            </a:xfrm>
            <a:prstGeom prst="pie">
              <a:avLst/>
            </a:pr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 flipV="1">
              <a:off x="6516720" y="1125360"/>
              <a:ext cx="1198440" cy="163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516720" y="2387520"/>
              <a:ext cx="325440" cy="37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 flipV="1">
              <a:off x="7124760" y="1509480"/>
              <a:ext cx="25380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 flipV="1">
              <a:off x="7186680" y="1417320"/>
              <a:ext cx="255600" cy="23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 flipV="1">
              <a:off x="7257960" y="1337400"/>
              <a:ext cx="257400" cy="2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546960" y="2593800"/>
              <a:ext cx="96840" cy="12384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6572160" y="2593800"/>
              <a:ext cx="85680" cy="76320"/>
            </a:xfrm>
            <a:prstGeom prst="pie">
              <a:avLst/>
            </a:prstGeom>
            <a:noFill/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5000">
    <p:strips dir="rd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17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15" dur="17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6" dur="17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91 0.12286 C -0.62483 0.12171 -0.61875 0.12078 -0.60938 0.11523 C -0.6 0.10968 -0.58125 0.09672 -0.57414 0.08978 C -0.56702 0.08284 -0.56598 0.07937 -0.56615 0.07381 C -0.56632 0.06826 -0.56928 0.06086 -0.575 0.05669 C -0.58073 0.05253 -0.59289 0.04836 -0.60053 0.04929 C -0.60816 0.05021 -0.61528 0.05438 -0.62136 0.06201 C -0.62744 0.06965 -0.63525 0.08098 -0.63733 0.0951 C -0.63941 0.10921 -0.63976 0.13489 -0.63421 0.14739 C -0.62865 0.15988 -0.61355 0.16706 -0.60365 0.1696 C -0.59375 0.17215 -0.58195 0.16729 -0.57414 0.16335 C -0.56632 0.15942 -0.56146 0.15271 -0.5566 0.14623 E">
                                      <p:cBhvr>
                                        <p:cTn id="1218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5417 0.07913 C -0.45521 0.07404 -0.45625 0.06895 -0.4606 0.06409 C -0.46494 0.05924 -0.4724 0.0516 -0.48056 0.05021 C -0.48872 0.04882 -0.50174 0.04744 -0.50938 0.05553 C -0.51702 0.06363 -0.52414 0.08399 -0.52605 0.09926 C -0.52796 0.11453 -0.52605 0.13628 -0.52136 0.14739 C -0.51667 0.1585 -0.50591 0.16405 -0.4974 0.16659 C -0.48889 0.16914 -0.47744 0.16682 -0.47014 0.1622 C -0.46285 0.15757 -0.45625 0.14947 -0.4533 0.13883 C -0.45035 0.12818 -0.45278 0.11615 -0.45261 0.09834 C -0.45244 0.08052 -0.45244 0.0516 -0.45174 0.03216 C -0.45105 0.01273 -0.44827 -0.03123 -0.44862 -0.01804 C -0.44896 -0.00486 -0.45382 0.08006 -0.45417 0.11106 C -0.45452 0.14207 -0.45244 0.15479 -0.45018 0.16752 E">
                                      <p:cBhvr>
                                        <p:cTn id="122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4066 0.05021 C -0.40764 0.0634 -0.40851 0.07682 -0.40816 0.09394 C -0.40782 0.11106 -0.40782 0.14022 -0.40417 0.15364 C -0.40053 0.16706 -0.39323 0.17145 -0.38664 0.174 C -0.38004 0.17654 -0.37084 0.17099 -0.36424 0.16844 C -0.35764 0.1659 -0.34966 0.16636 -0.34653 0.15896 C -0.34341 0.15155 -0.3448 0.13744 -0.34497 0.12379 C -0.34514 0.11014 -0.34757 0.08931 -0.3474 0.07682 C -0.34723 0.06433 -0.34497 0.04905 -0.34428 0.04813 C -0.34358 0.0472 -0.34289 0.0553 -0.34341 0.0715 C -0.34393 0.08769 -0.34757 0.12703 -0.3474 0.14508 C -0.34723 0.16312 -0.34497 0.17122 -0.34254 0.17932 E">
                                      <p:cBhvr>
                                        <p:cTn id="122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24375 0.06086 C -0.24514 0.05762 -0.24636 0.05461 -0.25087 0.05253 C -0.25539 0.05044 -0.26511 0.04744 -0.27101 0.04813 C -0.27691 0.04882 -0.28108 0.04952 -0.28612 0.05669 C -0.29115 0.06386 -0.29792 0.07798 -0.30139 0.0907 C -0.30487 0.10343 -0.30834 0.12124 -0.30695 0.13351 C -0.30556 0.14577 -0.30035 0.1578 -0.29341 0.16428 C -0.28646 0.17076 -0.27362 0.17284 -0.26528 0.17191 C -0.25695 0.17099 -0.25 0.16451 -0.24289 0.15803 E">
                                      <p:cBhvr>
                                        <p:cTn id="122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14219 0.06525 C -0.14566 0.05947 -0.14914 0.05368 -0.15487 0.05137 C -0.1606 0.04905 -0.16945 0.04813 -0.17657 0.05137 C -0.18369 0.05461 -0.19202 0.05993 -0.1974 0.07057 C -0.20278 0.08122 -0.20886 0.10042 -0.20938 0.11523 C -0.2099 0.13004 -0.20539 0.14993 -0.20053 0.15896 C -0.19566 0.16798 -0.18785 0.16983 -0.17969 0.1696 C -0.17153 0.16937 -0.15747 0.16312 -0.15174 0.15803 C -0.14601 0.15294 -0.14671 0.14878 -0.14532 0.13883 C -0.14393 0.12888 -0.14341 0.11014 -0.14375 0.09834 C -0.1441 0.08654 -0.14636 0.06965 -0.14688 0.06849 C -0.1474 0.06733 -0.14688 0.08098 -0.14688 0.0907 C -0.14688 0.10042 -0.14844 0.11453 -0.14688 0.12703 C -0.14532 0.13952 -0.13994 0.15757 -0.13733 0.16544 C -0.13473 0.1733 -0.13334 0.174 -0.13178 0.17492 E">
                                      <p:cBhvr>
                                        <p:cTn id="122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8055 0.00648 C -0.07934 0.03402 -0.07796 0.06155 -0.07726 0.08862 C -0.07657 0.11569 -0.07657 0.14207 -0.07657 0.16868 E">
                                      <p:cBhvr>
                                        <p:cTn id="1228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-0.1066 0.04952 C -0.09774 0.05044 -0.08872 0.05137 -0.0809 0.05183 C -0.0731 0.05229 -0.06528 0.05206 -0.06007 0.05183 C -0.05487 0.0516 -0.05174 0.05091 -0.04983 0.05067 E">
                                      <p:cBhvr>
                                        <p:cTn id="1230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-0.0007 0.059 C -0.00138 0.07196 -0.00209 0.08492 -0.00226 0.10273 C -0.00243 0.12055 -0.00243 0.14346 -0.00226 0.16659 E">
                                      <p:cBhvr>
                                        <p:cTn id="1232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11900"/>
                                  </p:stCondLst>
                                  <p:childTnLst>
                                    <p:animMotion origin="layout" path="M 0.0481 0.05438 C 0.04843 0.0678 0.04896 0.08145 0.04896 0.09695 C 0.04896 0.11245 0.0481 0.13513 0.0481 0.14716 C 0.0481 0.15919 0.0493 0.17145 0.04896 0.1696 C 0.04862 0.16775 0.0448 0.14855 0.04566 0.13536 C 0.04653 0.12217 0.05018 0.1032 0.05452 0.0907 C 0.05886 0.07821 0.06563 0.0678 0.07205 0.06086 C 0.07848 0.05391 0.08751 0.04929 0.09289 0.04905 C 0.09827 0.04882 0.10174 0.04836 0.10417 0.05877 C 0.1066 0.06918 0.1066 0.09602 0.1073 0.11083 C 0.10799 0.12564 0.10695 0.13698 0.10816 0.14716 C 0.10938 0.15734 0.11198 0.16451 0.11459 0.17168 E">
                                      <p:cBhvr>
                                        <p:cTn id="1234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.21546 0.06409 C 0.21146 0.05854 0.20747 0.05299 0.20035 0.05137 C 0.19323 0.04975 0.18143 0.04998 0.1731 0.05461 C 0.16476 0.05924 0.15591 0.06826 0.1507 0.07913 C 0.14549 0.09001 0.1415 0.10597 0.14185 0.11962 C 0.14219 0.13328 0.14671 0.15317 0.15313 0.16127 C 0.15955 0.16937 0.17257 0.17145 0.18021 0.16868 C 0.18785 0.1659 0.19323 0.15456 0.19862 0.14508 C 0.204 0.13559 0.2099 0.12448 0.21303 0.11222 C 0.21615 0.09996 0.21754 0.07682 0.21789 0.0715 C 0.21823 0.06618 0.21667 0.06641 0.21546 0.08006 C 0.21424 0.09371 0.21164 0.1342 0.2106 0.15364 C 0.20955 0.17307 0.2106 0.18626 0.20903 0.19737 C 0.20747 0.20847 0.20487 0.2131 0.20105 0.21981 C 0.19723 0.22652 0.19219 0.23415 0.18664 0.23693 C 0.18108 0.23971 0.17466 0.23809 0.16754 0.23693 C 0.16042 0.23577 0.15226 0.233 0.14428 0.23045 E">
                                      <p:cBhvr>
                                        <p:cTn id="1236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7" nodeType="withEffect" fill="hold" presetClass="path" presetID="0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.11459 0.17176 C 0.1066 0.14028 0.09879 0.1088 0.08768 0.0713 C 0.07657 0.0338 0.06145 -0.03842 0.04757 -0.0537 C 0.03369 -0.06898 0.01198 -0.02685 0.00382 -0.02106 C -0.00435 -0.01527 -0.00105 -0.02199 -0.00157 -0.01967 C -0.00209 -0.01736 0.00017 -0.00787 0.00052 -0.00694 C 0.00087 -0.00601 0.00052 -0.01273 0.00052 -0.01412 E">
                                      <p:cBhvr>
                                        <p:cTn id="1238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2"/>
          <p:cNvSpPr txBox="1"/>
          <p:nvPr/>
        </p:nvSpPr>
        <p:spPr>
          <a:xfrm>
            <a:off x="755640" y="2637000"/>
            <a:ext cx="784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ploring</a:t>
            </a:r>
            <a:endParaRPr b="0" lang="en-US" sz="2400" spc="-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0" y="982800"/>
            <a:ext cx="4714920" cy="4714560"/>
          </a:xfrm>
          <a:prstGeom prst="pie">
            <a:avLst/>
          </a:prstGeom>
          <a:solidFill>
            <a:srgbClr val="0033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4429080" y="982800"/>
            <a:ext cx="4714920" cy="4714560"/>
          </a:xfrm>
          <a:prstGeom prst="pie">
            <a:avLst/>
          </a:prstGeom>
          <a:solidFill>
            <a:srgbClr val="0033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未知"/>
          <p:cNvSpPr/>
          <p:nvPr/>
        </p:nvSpPr>
        <p:spPr>
          <a:xfrm>
            <a:off x="-179280" y="-34920"/>
            <a:ext cx="9504360" cy="346392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未知"/>
          <p:cNvSpPr/>
          <p:nvPr/>
        </p:nvSpPr>
        <p:spPr>
          <a:xfrm>
            <a:off x="-179280" y="2487600"/>
            <a:ext cx="9504360" cy="4470480"/>
          </a:xfrm>
          <a:prstGeom prst="pi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02 -0.1062 L -0.05834 -0.05032 C -0.04428 -0.03826 0.02829 0.01414 0.05017 0.01414 C 0.07812 0.02179 0.08767 -0.00093 0.1092 -0.00464 C 0.13072 -0.00835 0.24531 -0.03664 0.24392 -0.02852 C 0.24253 -0.02041 0.13385 0.03941 0.10052 0.04405 C 0.06718 0.04869 0.0125 0.02851 -0.02049 0.01924 C -0.05348 0.00997 -0.0724 -0.00302 -0.09723 -0.01183 C -0.11945 -0.02087 -0.14393 -0.03826 -0.15365 -0.03478 C -0.16337 -0.03131 -0.16007 -0.00232 -0.15608 0.00881 C -0.14948 0.0197 -0.14497 0.02318 -0.12987 0.03153 C -0.11476 0.03987 -0.025 0.04892 -0.00955 0.05216 E">
                                      <p:cBhvr>
                                        <p:cTn id="1248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826920" y="476280"/>
            <a:ext cx="756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99ccff"/>
                    </a:gs>
                  </a:gsLst>
                  <a:lin ang="5400000"/>
                </a:gradFill>
                <a:latin typeface="Arial Black"/>
              </a:rPr>
              <a:t>FL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99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-6734520" y="47556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ccff"/>
                    </a:gs>
                  </a:gsLst>
                  <a:lin ang="5400000"/>
                </a:gradFill>
                <a:latin typeface="Arial Black"/>
              </a:rPr>
              <a:t>FL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826920" y="277956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FLIPPIN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3" name="WordArt 5"/>
          <p:cNvSpPr txBox="1"/>
          <p:nvPr/>
        </p:nvSpPr>
        <p:spPr>
          <a:xfrm>
            <a:off x="-6734520" y="2778840"/>
            <a:ext cx="756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FL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826920" y="508464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Arial Black"/>
              </a:rPr>
              <a:t>FL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468360" y="44280"/>
            <a:ext cx="8136000" cy="669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a0000"/>
                    </a:gs>
                    <a:gs pos="50000">
                      <a:srgbClr val="ff0000"/>
                    </a:gs>
                    <a:gs pos="100000">
                      <a:srgbClr val="ba0000"/>
                    </a:gs>
                  </a:gsLst>
                  <a:lin ang="10800000"/>
                </a:gradFill>
                <a:latin typeface="Arial Black"/>
              </a:rPr>
              <a:t>GR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ba0000"/>
                  </a:gs>
                  <a:gs pos="50000">
                    <a:srgbClr val="ff0000"/>
                  </a:gs>
                  <a:gs pos="100000">
                    <a:srgbClr val="ba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539640" y="44280"/>
            <a:ext cx="8136000" cy="669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a7000"/>
                    </a:gs>
                    <a:gs pos="50000">
                      <a:srgbClr val="ff9900"/>
                    </a:gs>
                    <a:gs pos="100000">
                      <a:srgbClr val="ba7000"/>
                    </a:gs>
                  </a:gsLst>
                  <a:lin ang="10800000"/>
                </a:gradFill>
                <a:latin typeface="Arial Black"/>
              </a:rPr>
              <a:t>GRIPP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ba7000"/>
                  </a:gs>
                  <a:gs pos="50000">
                    <a:srgbClr val="ff9900"/>
                  </a:gs>
                  <a:gs pos="100000">
                    <a:srgbClr val="ba7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611280" y="44280"/>
            <a:ext cx="8136000" cy="669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baba00"/>
                    </a:gs>
                    <a:gs pos="50000">
                      <a:srgbClr val="ffff00"/>
                    </a:gs>
                    <a:gs pos="100000">
                      <a:srgbClr val="baba00"/>
                    </a:gs>
                  </a:gsLst>
                  <a:lin ang="10800000"/>
                </a:gradFill>
                <a:latin typeface="Arial Black"/>
              </a:rPr>
              <a:t>        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baba00"/>
                  </a:gs>
                  <a:gs pos="50000">
                    <a:srgbClr val="ffff00"/>
                  </a:gs>
                  <a:gs pos="100000">
                    <a:srgbClr val="baba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684360" y="44280"/>
            <a:ext cx="8135640" cy="669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d3d3d3"/>
                    </a:gs>
                    <a:gs pos="50000">
                      <a:srgbClr val="ffffff"/>
                    </a:gs>
                    <a:gs pos="100000">
                      <a:srgbClr val="d3d3d3"/>
                    </a:gs>
                  </a:gsLst>
                  <a:lin ang="10800000"/>
                </a:gradFill>
                <a:latin typeface="Arial Black"/>
              </a:rPr>
              <a:t>        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3d3d3"/>
                  </a:gs>
                  <a:gs pos="50000">
                    <a:srgbClr val="ffffff"/>
                  </a:gs>
                  <a:gs pos="100000">
                    <a:srgbClr val="d3d3d3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3" dur="20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0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75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0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77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0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78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279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0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未知"/>
          <p:cNvSpPr/>
          <p:nvPr/>
        </p:nvSpPr>
        <p:spPr>
          <a:xfrm>
            <a:off x="971640" y="-25560"/>
            <a:ext cx="7416720" cy="6767640"/>
          </a:xfrm>
          <a:prstGeom prst="pie">
            <a:avLst/>
          </a:prstGeom>
          <a:noFill/>
          <a:ln cap="rnd" w="5724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50640" y="580536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68360" y="2492280"/>
            <a:ext cx="8207280" cy="73080"/>
          </a:xfrm>
          <a:prstGeom prst="rect">
            <a:avLst/>
          </a:prstGeom>
          <a:gradFill rotWithShape="0">
            <a:gsLst>
              <a:gs pos="0">
                <a:srgbClr val="b9b9ff"/>
              </a:gs>
              <a:gs pos="50000">
                <a:srgbClr val="0000ff"/>
              </a:gs>
              <a:gs pos="100000">
                <a:srgbClr val="b9b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845280" y="1125360"/>
            <a:ext cx="749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Hyperlink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29560" y="3213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393200" y="4292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85200" y="5516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690280" y="6524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722280" y="3284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698440" y="41688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435000" y="5157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6995520" y="64008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6290640" y="404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1826640" y="4046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3482280" y="-22716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ff"/>
                </a:solidFill>
                <a:latin typeface="Arial Black"/>
                <a:ea typeface="宋体"/>
              </a:rPr>
              <a:t>Hyper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" name="Group 17"/>
          <p:cNvGrpSpPr/>
          <p:nvPr/>
        </p:nvGrpSpPr>
        <p:grpSpPr>
          <a:xfrm>
            <a:off x="3348000" y="1989000"/>
            <a:ext cx="2560320" cy="4178160"/>
            <a:chOff x="3348000" y="1989000"/>
            <a:chExt cx="2560320" cy="4178160"/>
          </a:xfrm>
        </p:grpSpPr>
        <p:grpSp>
          <p:nvGrpSpPr>
            <p:cNvPr id="345" name="Group 18"/>
            <p:cNvGrpSpPr/>
            <p:nvPr/>
          </p:nvGrpSpPr>
          <p:grpSpPr>
            <a:xfrm>
              <a:off x="3458520" y="2045520"/>
              <a:ext cx="2449800" cy="4121640"/>
              <a:chOff x="3458520" y="2045520"/>
              <a:chExt cx="2449800" cy="4121640"/>
            </a:xfrm>
          </p:grpSpPr>
          <p:sp>
            <p:nvSpPr>
              <p:cNvPr id="346" name="Rectangle 19"/>
              <p:cNvSpPr/>
              <p:nvPr/>
            </p:nvSpPr>
            <p:spPr>
              <a:xfrm>
                <a:off x="4126680" y="444096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20"/>
              <p:cNvSpPr/>
              <p:nvPr/>
            </p:nvSpPr>
            <p:spPr>
              <a:xfrm>
                <a:off x="3959280" y="460800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21"/>
              <p:cNvSpPr/>
              <p:nvPr/>
            </p:nvSpPr>
            <p:spPr>
              <a:xfrm>
                <a:off x="3792240" y="477504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22"/>
              <p:cNvSpPr/>
              <p:nvPr/>
            </p:nvSpPr>
            <p:spPr>
              <a:xfrm>
                <a:off x="3625560" y="4942080"/>
                <a:ext cx="166680" cy="16668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23"/>
              <p:cNvSpPr/>
              <p:nvPr/>
            </p:nvSpPr>
            <p:spPr>
              <a:xfrm>
                <a:off x="3458520" y="2045520"/>
                <a:ext cx="167040" cy="32306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24"/>
              <p:cNvSpPr/>
              <p:nvPr/>
            </p:nvSpPr>
            <p:spPr>
              <a:xfrm>
                <a:off x="4293720" y="4608000"/>
                <a:ext cx="166680" cy="27756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25"/>
              <p:cNvSpPr/>
              <p:nvPr/>
            </p:nvSpPr>
            <p:spPr>
              <a:xfrm>
                <a:off x="4460400" y="488556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26"/>
              <p:cNvSpPr/>
              <p:nvPr/>
            </p:nvSpPr>
            <p:spPr>
              <a:xfrm>
                <a:off x="4627440" y="516456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27"/>
              <p:cNvSpPr/>
              <p:nvPr/>
            </p:nvSpPr>
            <p:spPr>
              <a:xfrm>
                <a:off x="4794840" y="544320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28"/>
              <p:cNvSpPr/>
              <p:nvPr/>
            </p:nvSpPr>
            <p:spPr>
              <a:xfrm>
                <a:off x="4961880" y="5721840"/>
                <a:ext cx="16668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29"/>
              <p:cNvSpPr/>
              <p:nvPr/>
            </p:nvSpPr>
            <p:spPr>
              <a:xfrm>
                <a:off x="5407560" y="572184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30"/>
              <p:cNvSpPr/>
              <p:nvPr/>
            </p:nvSpPr>
            <p:spPr>
              <a:xfrm>
                <a:off x="5128560" y="6000480"/>
                <a:ext cx="278640" cy="16668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31"/>
              <p:cNvSpPr/>
              <p:nvPr/>
            </p:nvSpPr>
            <p:spPr>
              <a:xfrm>
                <a:off x="4739400" y="4608000"/>
                <a:ext cx="167040" cy="27756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32"/>
              <p:cNvSpPr/>
              <p:nvPr/>
            </p:nvSpPr>
            <p:spPr>
              <a:xfrm>
                <a:off x="4906440" y="488556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33"/>
              <p:cNvSpPr/>
              <p:nvPr/>
            </p:nvSpPr>
            <p:spPr>
              <a:xfrm>
                <a:off x="5073480" y="5164560"/>
                <a:ext cx="16704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34"/>
              <p:cNvSpPr/>
              <p:nvPr/>
            </p:nvSpPr>
            <p:spPr>
              <a:xfrm>
                <a:off x="5240520" y="5443200"/>
                <a:ext cx="166680" cy="27720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35"/>
              <p:cNvSpPr/>
              <p:nvPr/>
            </p:nvSpPr>
            <p:spPr>
              <a:xfrm>
                <a:off x="4572360" y="4329360"/>
                <a:ext cx="166680" cy="27756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36"/>
              <p:cNvSpPr/>
              <p:nvPr/>
            </p:nvSpPr>
            <p:spPr>
              <a:xfrm>
                <a:off x="4739400" y="4329360"/>
                <a:ext cx="116892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37"/>
              <p:cNvSpPr/>
              <p:nvPr/>
            </p:nvSpPr>
            <p:spPr>
              <a:xfrm>
                <a:off x="5631120" y="416232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38"/>
              <p:cNvSpPr/>
              <p:nvPr/>
            </p:nvSpPr>
            <p:spPr>
              <a:xfrm>
                <a:off x="5464080" y="3995280"/>
                <a:ext cx="167040" cy="16668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39"/>
              <p:cNvSpPr/>
              <p:nvPr/>
            </p:nvSpPr>
            <p:spPr>
              <a:xfrm>
                <a:off x="5297040" y="382824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40"/>
              <p:cNvSpPr/>
              <p:nvPr/>
            </p:nvSpPr>
            <p:spPr>
              <a:xfrm>
                <a:off x="5130000" y="3661200"/>
                <a:ext cx="16668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41"/>
              <p:cNvSpPr/>
              <p:nvPr/>
            </p:nvSpPr>
            <p:spPr>
              <a:xfrm>
                <a:off x="4962960" y="349308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42"/>
              <p:cNvSpPr/>
              <p:nvPr/>
            </p:nvSpPr>
            <p:spPr>
              <a:xfrm>
                <a:off x="4794840" y="332604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43"/>
              <p:cNvSpPr/>
              <p:nvPr/>
            </p:nvSpPr>
            <p:spPr>
              <a:xfrm>
                <a:off x="4627440" y="3159360"/>
                <a:ext cx="167040" cy="16668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44"/>
              <p:cNvSpPr/>
              <p:nvPr/>
            </p:nvSpPr>
            <p:spPr>
              <a:xfrm>
                <a:off x="4460400" y="299196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45"/>
              <p:cNvSpPr/>
              <p:nvPr/>
            </p:nvSpPr>
            <p:spPr>
              <a:xfrm>
                <a:off x="4293720" y="2824920"/>
                <a:ext cx="16668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46"/>
              <p:cNvSpPr/>
              <p:nvPr/>
            </p:nvSpPr>
            <p:spPr>
              <a:xfrm>
                <a:off x="4126680" y="265788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47"/>
              <p:cNvSpPr/>
              <p:nvPr/>
            </p:nvSpPr>
            <p:spPr>
              <a:xfrm>
                <a:off x="3959280" y="2491200"/>
                <a:ext cx="167040" cy="16668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Rectangle 48"/>
              <p:cNvSpPr/>
              <p:nvPr/>
            </p:nvSpPr>
            <p:spPr>
              <a:xfrm>
                <a:off x="3792240" y="2324160"/>
                <a:ext cx="16704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Rectangle 49"/>
              <p:cNvSpPr/>
              <p:nvPr/>
            </p:nvSpPr>
            <p:spPr>
              <a:xfrm>
                <a:off x="3625560" y="2157120"/>
                <a:ext cx="166680" cy="167040"/>
              </a:xfrm>
              <a:prstGeom prst="rect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>
                <a:off x="3625560" y="2324160"/>
                <a:ext cx="2005560" cy="3676320"/>
              </a:xfrm>
              <a:prstGeom prst="pie">
                <a:avLst/>
              </a:prstGeom>
              <a:solidFill>
                <a:srgbClr val="80808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51"/>
            <p:cNvGrpSpPr/>
            <p:nvPr/>
          </p:nvGrpSpPr>
          <p:grpSpPr>
            <a:xfrm>
              <a:off x="3348000" y="1989000"/>
              <a:ext cx="2449800" cy="4121640"/>
              <a:chOff x="3348000" y="1989000"/>
              <a:chExt cx="2449800" cy="4121640"/>
            </a:xfrm>
          </p:grpSpPr>
          <p:sp>
            <p:nvSpPr>
              <p:cNvPr id="379" name="Rectangle 52"/>
              <p:cNvSpPr/>
              <p:nvPr/>
            </p:nvSpPr>
            <p:spPr>
              <a:xfrm>
                <a:off x="4016160" y="438444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Rectangle 53"/>
              <p:cNvSpPr/>
              <p:nvPr/>
            </p:nvSpPr>
            <p:spPr>
              <a:xfrm>
                <a:off x="3848760" y="455148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Rectangle 54"/>
              <p:cNvSpPr/>
              <p:nvPr/>
            </p:nvSpPr>
            <p:spPr>
              <a:xfrm>
                <a:off x="3681720" y="471852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Rectangle 55"/>
              <p:cNvSpPr/>
              <p:nvPr/>
            </p:nvSpPr>
            <p:spPr>
              <a:xfrm>
                <a:off x="3515040" y="4885560"/>
                <a:ext cx="166680" cy="16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Rectangle 56"/>
              <p:cNvSpPr/>
              <p:nvPr/>
            </p:nvSpPr>
            <p:spPr>
              <a:xfrm>
                <a:off x="3348000" y="1989000"/>
                <a:ext cx="167040" cy="3230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57"/>
              <p:cNvSpPr/>
              <p:nvPr/>
            </p:nvSpPr>
            <p:spPr>
              <a:xfrm>
                <a:off x="4183200" y="4551480"/>
                <a:ext cx="166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Rectangle 58"/>
              <p:cNvSpPr/>
              <p:nvPr/>
            </p:nvSpPr>
            <p:spPr>
              <a:xfrm>
                <a:off x="4349880" y="482904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Rectangle 59"/>
              <p:cNvSpPr/>
              <p:nvPr/>
            </p:nvSpPr>
            <p:spPr>
              <a:xfrm>
                <a:off x="4516920" y="510804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60"/>
              <p:cNvSpPr/>
              <p:nvPr/>
            </p:nvSpPr>
            <p:spPr>
              <a:xfrm>
                <a:off x="4684320" y="538668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Rectangle 61"/>
              <p:cNvSpPr/>
              <p:nvPr/>
            </p:nvSpPr>
            <p:spPr>
              <a:xfrm>
                <a:off x="4851360" y="5665320"/>
                <a:ext cx="16668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Rectangle 62"/>
              <p:cNvSpPr/>
              <p:nvPr/>
            </p:nvSpPr>
            <p:spPr>
              <a:xfrm>
                <a:off x="5297040" y="566532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Rectangle 63"/>
              <p:cNvSpPr/>
              <p:nvPr/>
            </p:nvSpPr>
            <p:spPr>
              <a:xfrm>
                <a:off x="5018040" y="5943960"/>
                <a:ext cx="278640" cy="16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Rectangle 64"/>
              <p:cNvSpPr/>
              <p:nvPr/>
            </p:nvSpPr>
            <p:spPr>
              <a:xfrm>
                <a:off x="4628880" y="4551480"/>
                <a:ext cx="16704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Rectangle 65"/>
              <p:cNvSpPr/>
              <p:nvPr/>
            </p:nvSpPr>
            <p:spPr>
              <a:xfrm>
                <a:off x="4795920" y="482904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Rectangle 66"/>
              <p:cNvSpPr/>
              <p:nvPr/>
            </p:nvSpPr>
            <p:spPr>
              <a:xfrm>
                <a:off x="4962960" y="5108040"/>
                <a:ext cx="16704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67"/>
              <p:cNvSpPr/>
              <p:nvPr/>
            </p:nvSpPr>
            <p:spPr>
              <a:xfrm>
                <a:off x="5130000" y="5386680"/>
                <a:ext cx="166680" cy="27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68"/>
              <p:cNvSpPr/>
              <p:nvPr/>
            </p:nvSpPr>
            <p:spPr>
              <a:xfrm>
                <a:off x="4461840" y="4272840"/>
                <a:ext cx="166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69"/>
              <p:cNvSpPr/>
              <p:nvPr/>
            </p:nvSpPr>
            <p:spPr>
              <a:xfrm>
                <a:off x="4628880" y="4272840"/>
                <a:ext cx="116892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Rectangle 70"/>
              <p:cNvSpPr/>
              <p:nvPr/>
            </p:nvSpPr>
            <p:spPr>
              <a:xfrm>
                <a:off x="5520600" y="410580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Rectangle 71"/>
              <p:cNvSpPr/>
              <p:nvPr/>
            </p:nvSpPr>
            <p:spPr>
              <a:xfrm>
                <a:off x="5353560" y="3938760"/>
                <a:ext cx="167040" cy="16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Rectangle 72"/>
              <p:cNvSpPr/>
              <p:nvPr/>
            </p:nvSpPr>
            <p:spPr>
              <a:xfrm>
                <a:off x="5186520" y="377172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73"/>
              <p:cNvSpPr/>
              <p:nvPr/>
            </p:nvSpPr>
            <p:spPr>
              <a:xfrm>
                <a:off x="5019480" y="3604680"/>
                <a:ext cx="16668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74"/>
              <p:cNvSpPr/>
              <p:nvPr/>
            </p:nvSpPr>
            <p:spPr>
              <a:xfrm>
                <a:off x="4852440" y="343656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Rectangle 75"/>
              <p:cNvSpPr/>
              <p:nvPr/>
            </p:nvSpPr>
            <p:spPr>
              <a:xfrm>
                <a:off x="4684320" y="326952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76"/>
              <p:cNvSpPr/>
              <p:nvPr/>
            </p:nvSpPr>
            <p:spPr>
              <a:xfrm>
                <a:off x="4516920" y="3102840"/>
                <a:ext cx="167040" cy="16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Rectangle 77"/>
              <p:cNvSpPr/>
              <p:nvPr/>
            </p:nvSpPr>
            <p:spPr>
              <a:xfrm>
                <a:off x="4349880" y="293544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Rectangle 78"/>
              <p:cNvSpPr/>
              <p:nvPr/>
            </p:nvSpPr>
            <p:spPr>
              <a:xfrm>
                <a:off x="4183200" y="2768400"/>
                <a:ext cx="16668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79"/>
              <p:cNvSpPr/>
              <p:nvPr/>
            </p:nvSpPr>
            <p:spPr>
              <a:xfrm>
                <a:off x="4016160" y="260136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Rectangle 80"/>
              <p:cNvSpPr/>
              <p:nvPr/>
            </p:nvSpPr>
            <p:spPr>
              <a:xfrm>
                <a:off x="3848760" y="2434680"/>
                <a:ext cx="167040" cy="16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81"/>
              <p:cNvSpPr/>
              <p:nvPr/>
            </p:nvSpPr>
            <p:spPr>
              <a:xfrm>
                <a:off x="3681720" y="2267640"/>
                <a:ext cx="16704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Rectangle 82"/>
              <p:cNvSpPr/>
              <p:nvPr/>
            </p:nvSpPr>
            <p:spPr>
              <a:xfrm>
                <a:off x="3515040" y="2100600"/>
                <a:ext cx="166680" cy="16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>
                <a:off x="3515040" y="2267640"/>
                <a:ext cx="2005560" cy="367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advTm="5000">
    <p:strips dir="rd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34136 C 0.23281 0.34159 0.19826 0.26697 0.18194 0.21668 C 0.16562 0.16639 0.15086 0.15758 0.12951 0.12699 C 0.11076 0.1015 0.09913 0.06906 0.0776 0.04797 C 0.05885 0.02966 0.03038 0.00208 0.01857 -0.00024 C 0.0092 -0.00418 0.0243 0.01668 0.02187 0.02387 E">
                                      <p:cBhvr>
                                        <p:cTn id="1285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035720" y="2152800"/>
            <a:ext cx="34815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ffffff"/>
                </a:solidFill>
                <a:latin typeface="Arial Black"/>
                <a:ea typeface="宋体"/>
              </a:rPr>
              <a:t>Inse</a:t>
            </a:r>
            <a:endParaRPr b="0" lang="en-US" sz="1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4863600" y="2152800"/>
            <a:ext cx="3236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0" spc="-1" strike="noStrike">
                <a:solidFill>
                  <a:srgbClr val="ffffff"/>
                </a:solidFill>
                <a:latin typeface="Arial Black"/>
                <a:ea typeface="宋体"/>
              </a:rPr>
              <a:t>ting</a:t>
            </a:r>
            <a:endParaRPr b="0" lang="en-US" sz="1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WordArt 4"/>
          <p:cNvSpPr txBox="1"/>
          <p:nvPr/>
        </p:nvSpPr>
        <p:spPr>
          <a:xfrm rot="20263200">
            <a:off x="4322520" y="1990800"/>
            <a:ext cx="6778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r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819">
                                      <p:cBhvr>
                                        <p:cTn id="132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-2.22222E-006 -0.44282 E">
                                      <p:cBhvr>
                                        <p:cTn id="1324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920000">
                                      <p:cBhvr>
                                        <p:cTn id="132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7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3.7037E-006 L -0.03577 3.7037E-006 E">
                                      <p:cBhvr>
                                        <p:cTn id="1328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3.7037E-006 L 0.04809 3.7037E-006 E">
                                      <p:cBhvr>
                                        <p:cTn id="133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22222E-006 -1.11111E-006 L 0.01181 0.12107 E">
                                      <p:cBhvr>
                                        <p:cTn id="133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33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50920" y="1987560"/>
            <a:ext cx="287280" cy="4826160"/>
          </a:xfrm>
          <a:prstGeom prst="can">
            <a:avLst>
              <a:gd name="adj" fmla="val 5824"/>
            </a:avLst>
          </a:prstGeom>
          <a:gradFill rotWithShape="0">
            <a:gsLst>
              <a:gs pos="0">
                <a:srgbClr val="c0c0c0"/>
              </a:gs>
              <a:gs pos="50000">
                <a:srgbClr val="74747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3"/>
          <p:cNvSpPr/>
          <p:nvPr/>
        </p:nvSpPr>
        <p:spPr>
          <a:xfrm rot="5400000">
            <a:off x="4535640" y="-64080"/>
            <a:ext cx="216000" cy="8351640"/>
          </a:xfrm>
          <a:prstGeom prst="can">
            <a:avLst>
              <a:gd name="adj" fmla="val 2430"/>
            </a:avLst>
          </a:prstGeom>
          <a:gradFill rotWithShape="0">
            <a:gsLst>
              <a:gs pos="0">
                <a:srgbClr val="c0c0c0"/>
              </a:gs>
              <a:gs pos="50000">
                <a:srgbClr val="747474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8604360" y="1987560"/>
            <a:ext cx="287280" cy="4826160"/>
          </a:xfrm>
          <a:prstGeom prst="can">
            <a:avLst>
              <a:gd name="adj" fmla="val 5824"/>
            </a:avLst>
          </a:prstGeom>
          <a:gradFill rotWithShape="0">
            <a:gsLst>
              <a:gs pos="0">
                <a:srgbClr val="c0c0c0"/>
              </a:gs>
              <a:gs pos="50000">
                <a:srgbClr val="74747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816120" y="2419200"/>
            <a:ext cx="59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J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609920" y="2419200"/>
            <a:ext cx="129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U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829960" y="2419200"/>
            <a:ext cx="15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M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329360" y="2419200"/>
            <a:ext cx="110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P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5379120" y="2419200"/>
            <a:ext cx="69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6002640" y="2419200"/>
            <a:ext cx="13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7296840" y="2419200"/>
            <a:ext cx="129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ffff"/>
                </a:solidFill>
                <a:latin typeface="Arial Black"/>
                <a:ea typeface="宋体"/>
              </a:rPr>
              <a:t>G</a:t>
            </a:r>
            <a:endParaRPr b="0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093 C 0.00243 -0.01319 0.01111 -0.02708 0.01406 -0.02708 C 0.03316 -0.02708 0.05277 0.19445 0.05277 0.41667 C 0.05277 0.30463 0.06267 0.19445 0.07205 0.19445 C 0.08177 0.19445 0.09114 0.30625 0.09114 0.41667 C 0.09114 0.36135 0.096 0.30463 0.10104 0.30463 C 0.1059 0.30463 0.11076 0.35973 0.11076 0.41667 C 0.11076 0.38797 0.11319 0.36135 0.1158 0.36135 C 0.11823 0.36135 0.12066 0.38936 0.12066 0.41667 C 0.12066 0.40209 0.12187 0.38797 0.12309 0.38797 C 0.12378 0.38797 0.12552 0.40209 0.12552 0.41667 C 0.12552 0.40903 0.12621 0.40209 0.12691 0.40209 C 0.12691 0.40417 0.12812 0.40903 0.12812 0.41667 C 0.12812 0.41274 0.12812 0.40903 0.12882 0.40903 C 0.12882 0.41112 0.12934 0.41297 0.12934 0.41667 C 0.12934 0.41436 0.12934 0.41274 0.12934 0.41112 C 0.13003 0.41112 0.13003 0.41297 0.13003 0.41482 C 0.13073 0.41482 0.13073 0.41297 0.13073 0.41112 C 0.13142 0.41112 0.13142 0.41297 0.13142 0.41482 E">
                                      <p:cBhvr>
                                        <p:cTn id="1340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093 C 0.0026 -0.01319 0.0118 -0.02708 0.01493 -0.02708 C 0.03541 -0.02708 0.05642 0.19445 0.05642 0.41667 C 0.05642 0.30463 0.06701 0.19445 0.07691 0.19445 C 0.0875 0.19445 0.09739 0.30625 0.09739 0.41667 C 0.09739 0.36135 0.1026 0.30463 0.10798 0.30463 C 0.11319 0.30463 0.1184 0.35973 0.1184 0.41667 C 0.1184 0.38797 0.121 0.36135 0.12361 0.36135 C 0.12639 0.36135 0.12899 0.38936 0.12899 0.41667 C 0.12899 0.40209 0.13038 0.38797 0.13159 0.38797 C 0.13229 0.38797 0.1342 0.40209 0.1342 0.41667 C 0.1342 0.40903 0.13489 0.40209 0.13559 0.40209 C 0.13559 0.40417 0.13698 0.40903 0.13698 0.41667 C 0.13698 0.41274 0.13698 0.40903 0.13767 0.40903 C 0.13767 0.41112 0.13837 0.41297 0.13837 0.41667 C 0.13837 0.41436 0.13837 0.41274 0.13837 0.41112 C 0.13906 0.41112 0.13906 0.41297 0.13906 0.41482 C 0.13975 0.41482 0.13975 0.41297 0.13975 0.41112 C 0.14045 0.41112 0.14045 0.41297 0.14045 0.41482 E">
                                      <p:cBhvr>
                                        <p:cTn id="1342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3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093 C 0.00139 -0.01319 0.0066 -0.02708 0.00833 -0.02708 C 0.01979 -0.02708 0.03142 0.19445 0.03142 0.41667 C 0.03142 0.30463 0.03733 0.19445 0.04288 0.19445 C 0.04878 0.19445 0.05434 0.30625 0.05434 0.41667 C 0.05434 0.36135 0.05712 0.30463 0.06007 0.30463 C 0.06302 0.30463 0.06597 0.35973 0.06597 0.41667 C 0.06597 0.38797 0.06736 0.36135 0.06892 0.36135 C 0.07031 0.36135 0.07187 0.38936 0.07187 0.41667 C 0.07187 0.40209 0.07257 0.38797 0.07326 0.38797 C 0.07361 0.38797 0.07483 0.40209 0.07483 0.41667 C 0.07483 0.40903 0.07517 0.40209 0.07552 0.40209 C 0.07552 0.40417 0.07621 0.40903 0.07621 0.41667 C 0.07621 0.41274 0.07621 0.40903 0.07674 0.40903 C 0.07674 0.41112 0.07708 0.41297 0.07708 0.41667 C 0.07708 0.41436 0.07708 0.41274 0.07708 0.41112 C 0.07743 0.41112 0.07743 0.41297 0.07743 0.41482 C 0.07778 0.41482 0.07778 0.41297 0.07778 0.41112 C 0.0783 0.41112 0.0783 0.41297 0.0783 0.41482 E">
                                      <p:cBhvr>
                                        <p:cTn id="134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5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93 C 0.0007 -0.01319 0.00313 -0.02708 0.00382 -0.02708 C 0.00938 -0.02708 0.01493 0.19445 0.01493 0.41667 C 0.01493 0.30463 0.01771 0.19445 0.02031 0.19445 C 0.02309 0.19445 0.0257 0.30625 0.0257 0.41667 C 0.0257 0.36135 0.02708 0.30463 0.02847 0.30463 C 0.02986 0.30463 0.03125 0.35973 0.03125 0.41667 C 0.03125 0.38797 0.03195 0.36135 0.03264 0.36135 C 0.03333 0.36135 0.03403 0.38936 0.03403 0.41667 C 0.03403 0.40209 0.03438 0.38797 0.03472 0.38797 C 0.0349 0.38797 0.03542 0.40209 0.03542 0.41667 C 0.03542 0.40903 0.03559 0.40209 0.03576 0.40209 C 0.03576 0.40417 0.03611 0.40903 0.03611 0.41667 C 0.03611 0.41274 0.03611 0.40903 0.03629 0.40903 C 0.03629 0.41112 0.03646 0.41297 0.03646 0.41667 C 0.03646 0.41436 0.03646 0.41274 0.03646 0.41112 C 0.03663 0.41112 0.03663 0.41297 0.03663 0.41482 C 0.03681 0.41482 0.03681 0.41297 0.03681 0.41112 C 0.03715 0.41112 0.03715 0.41297 0.03715 0.41482 E">
                                      <p:cBhvr>
                                        <p:cTn id="1346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7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093 C -0.0007 -0.01319 -0.00313 -0.02708 -0.004 -0.02708 C -0.00938 -0.02708 -0.01476 0.19445 -0.01476 0.41667 C -0.01476 0.30463 -0.01754 0.19445 -0.02014 0.19445 C -0.02292 0.19445 -0.02553 0.30625 -0.02553 0.41667 C -0.02553 0.36135 -0.02691 0.30463 -0.0283 0.30463 C -0.02969 0.30463 -0.03108 0.35973 -0.03108 0.41667 C -0.03108 0.38797 -0.0316 0.36135 -0.0323 0.36135 C -0.03299 0.36135 -0.03369 0.38936 -0.03369 0.41667 C -0.03369 0.40209 -0.03403 0.38797 -0.03438 0.38797 C -0.03455 0.38797 -0.03507 0.40209 -0.03507 0.41667 C -0.03507 0.40903 -0.03525 0.40209 -0.03542 0.40209 C -0.03542 0.40417 -0.03577 0.40903 -0.03577 0.41667 C -0.03577 0.41274 -0.03577 0.40903 -0.03594 0.40903 C -0.03594 0.41112 -0.03612 0.41297 -0.03612 0.41667 C -0.03612 0.41436 -0.03612 0.41274 -0.03612 0.41112 C -0.03629 0.41112 -0.03629 0.41297 -0.03629 0.41482 C -0.03646 0.41482 -0.03646 0.41297 -0.03646 0.41112 C -0.03664 0.41112 -0.03664 0.41297 -0.03664 0.41482 E">
                                      <p:cBhvr>
                                        <p:cTn id="1348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9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93 C -0.00104 -0.01319 -0.00468 -0.02708 -0.0059 -0.02708 C -0.01372 -0.02708 -0.02188 0.19445 -0.02188 0.41667 C -0.02188 0.30463 -0.02587 0.19445 -0.02969 0.19445 C -0.03386 0.19445 -0.03768 0.30625 -0.03768 0.41667 C -0.03768 0.36135 -0.03959 0.30463 -0.04167 0.30463 C -0.04375 0.30463 -0.04566 0.35973 -0.04566 0.41667 C -0.04566 0.38797 -0.04671 0.36135 -0.04775 0.36135 C -0.04879 0.36135 -0.04966 0.38936 -0.04966 0.41667 C -0.04966 0.40209 -0.05035 0.38797 -0.0507 0.38797 C -0.05105 0.38797 -0.05174 0.40209 -0.05174 0.41667 C -0.05174 0.40903 -0.05209 0.40209 -0.05226 0.40209 C -0.05226 0.40417 -0.05278 0.40903 -0.05278 0.41667 C -0.05278 0.41274 -0.05278 0.40903 -0.05313 0.40903 C -0.05313 0.41112 -0.0533 0.41297 -0.0533 0.41667 C -0.0533 0.41436 -0.0533 0.41274 -0.0533 0.41112 C -0.05365 0.41112 -0.05365 0.41297 -0.05365 0.41482 C -0.05382 0.41482 -0.05382 0.41297 -0.05382 0.41112 C -0.054 0.41112 -0.054 0.41297 -0.054 0.41482 E">
                                      <p:cBhvr>
                                        <p:cTn id="1350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1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093 C 5E-006 -0.01319 -0.00677 -0.02708 -0.00903 -0.02708 C -0.02448 -0.02708 -0.04011 0.19445 -0.04011 0.41667 C -0.04011 0.30463 -0.04671 0.19445 -0.05573 0.19445 C -0.06233 0.19445 -0.06893 0.30625 -0.06893 0.41667 C -0.06893 0.36135 -0.07344 0.30463 -0.07796 0.30463 C -0.0823 0.30463 -0.08455 0.35973 -0.08455 0.41667 C -0.08455 0.38797 -0.08681 0.36135 -0.08907 0.36135 C -0.09115 0.36135 -0.09341 0.38936 -0.09341 0.41667 C -0.09341 0.40209 -0.09341 0.38797 -0.09566 0.38797 C -0.09566 0.3882 -0.09566 0.40209 -0.09566 0.41667 C -0.09566 0.40903 -0.09792 0.40209 -0.09792 0.40232 C -0.09792 0.40417 -0.09792 0.40903 -0.09792 0.41667 C -0.09792 0.41274 -0.09792 0.40903 -0.10018 0.40903 C -0.10018 0.41112 -0.10018 0.41297 -0.10018 0.41667 C -0.10018 0.41436 -0.10018 0.41274 -0.10018 0.41112 C -0.10018 0.41158 -0.10018 0.41297 -0.10018 0.41482 C -0.10018 0.41505 -0.10018 0.41297 -0.10018 0.41112 C -0.10226 0.41112 -0.10226 0.41297 -0.10226 0.41482 E">
                                      <p:cBhvr>
                                        <p:cTn id="1352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042920" y="404640"/>
            <a:ext cx="70120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4b"/>
                  </a:outerShdw>
                </a:effectLst>
                <a:latin typeface="Arial Black"/>
              </a:rPr>
              <a:t>About This Presentation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4b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267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is presentation travels from A to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long the way it visits words related to using powerpoint and prese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ith the exception of the ‘awesome’ logo, only powerpoint was used to create this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 animated gifs, video or flash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31760" y="6078600"/>
            <a:ext cx="88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urn your speakers on and press the enter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5" descr="awe-logo24b"/>
          <p:cNvPicPr/>
          <p:nvPr/>
        </p:nvPicPr>
        <p:blipFill>
          <a:blip r:embed="rId1"/>
          <a:stretch/>
        </p:blipFill>
        <p:spPr>
          <a:xfrm>
            <a:off x="-6588000" y="5778360"/>
            <a:ext cx="644364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we-logo24b"/>
          <p:cNvPicPr/>
          <p:nvPr/>
        </p:nvPicPr>
        <p:blipFill>
          <a:blip r:embed="rId2"/>
          <a:stretch/>
        </p:blipFill>
        <p:spPr>
          <a:xfrm>
            <a:off x="-6732720" y="5921280"/>
            <a:ext cx="6443640" cy="74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7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8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2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8769240" y="2692440"/>
            <a:ext cx="1137960" cy="1137960"/>
            <a:chOff x="8769240" y="2692440"/>
            <a:chExt cx="1137960" cy="1137960"/>
          </a:xfrm>
        </p:grpSpPr>
        <p:sp>
          <p:nvSpPr>
            <p:cNvPr id="425" name="AutoShape 3"/>
            <p:cNvSpPr/>
            <p:nvPr/>
          </p:nvSpPr>
          <p:spPr>
            <a:xfrm>
              <a:off x="8769240" y="269244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WordArt 4"/>
            <p:cNvSpPr txBox="1"/>
            <p:nvPr/>
          </p:nvSpPr>
          <p:spPr>
            <a:xfrm>
              <a:off x="8923320" y="284832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H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27" name="Group 5"/>
          <p:cNvGrpSpPr/>
          <p:nvPr/>
        </p:nvGrpSpPr>
        <p:grpSpPr>
          <a:xfrm>
            <a:off x="7588080" y="2565360"/>
            <a:ext cx="1137960" cy="1137960"/>
            <a:chOff x="7588080" y="2565360"/>
            <a:chExt cx="1137960" cy="1137960"/>
          </a:xfrm>
        </p:grpSpPr>
        <p:sp>
          <p:nvSpPr>
            <p:cNvPr id="428" name="AutoShape 6"/>
            <p:cNvSpPr/>
            <p:nvPr/>
          </p:nvSpPr>
          <p:spPr>
            <a:xfrm>
              <a:off x="758808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WordArt 7"/>
            <p:cNvSpPr txBox="1"/>
            <p:nvPr/>
          </p:nvSpPr>
          <p:spPr>
            <a:xfrm>
              <a:off x="7742160" y="272124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G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0" name="Group 8"/>
          <p:cNvGrpSpPr/>
          <p:nvPr/>
        </p:nvGrpSpPr>
        <p:grpSpPr>
          <a:xfrm>
            <a:off x="6291360" y="2565360"/>
            <a:ext cx="1137960" cy="1137960"/>
            <a:chOff x="6291360" y="2565360"/>
            <a:chExt cx="1137960" cy="1137960"/>
          </a:xfrm>
        </p:grpSpPr>
        <p:sp>
          <p:nvSpPr>
            <p:cNvPr id="431" name="AutoShape 9"/>
            <p:cNvSpPr/>
            <p:nvPr/>
          </p:nvSpPr>
          <p:spPr>
            <a:xfrm>
              <a:off x="629136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WordArt 10"/>
            <p:cNvSpPr txBox="1"/>
            <p:nvPr/>
          </p:nvSpPr>
          <p:spPr>
            <a:xfrm>
              <a:off x="6445440" y="272124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N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4927680" y="2565360"/>
            <a:ext cx="1137960" cy="1137960"/>
            <a:chOff x="4927680" y="2565360"/>
            <a:chExt cx="1137960" cy="1137960"/>
          </a:xfrm>
        </p:grpSpPr>
        <p:sp>
          <p:nvSpPr>
            <p:cNvPr id="434" name="AutoShape 12"/>
            <p:cNvSpPr/>
            <p:nvPr/>
          </p:nvSpPr>
          <p:spPr>
            <a:xfrm>
              <a:off x="492768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WordArt 13"/>
            <p:cNvSpPr txBox="1"/>
            <p:nvPr/>
          </p:nvSpPr>
          <p:spPr>
            <a:xfrm>
              <a:off x="5149440" y="2721240"/>
              <a:ext cx="20052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I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6" name="Group 14"/>
          <p:cNvGrpSpPr/>
          <p:nvPr/>
        </p:nvGrpSpPr>
        <p:grpSpPr>
          <a:xfrm>
            <a:off x="3554280" y="2565360"/>
            <a:ext cx="1137960" cy="1137960"/>
            <a:chOff x="3554280" y="2565360"/>
            <a:chExt cx="1137960" cy="1137960"/>
          </a:xfrm>
        </p:grpSpPr>
        <p:sp>
          <p:nvSpPr>
            <p:cNvPr id="437" name="AutoShape 15"/>
            <p:cNvSpPr/>
            <p:nvPr/>
          </p:nvSpPr>
          <p:spPr>
            <a:xfrm>
              <a:off x="355428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WordArt 16"/>
            <p:cNvSpPr txBox="1"/>
            <p:nvPr/>
          </p:nvSpPr>
          <p:spPr>
            <a:xfrm>
              <a:off x="3708360" y="272124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39" name="Group 17"/>
          <p:cNvGrpSpPr/>
          <p:nvPr/>
        </p:nvGrpSpPr>
        <p:grpSpPr>
          <a:xfrm>
            <a:off x="2193840" y="2565360"/>
            <a:ext cx="1137960" cy="1137960"/>
            <a:chOff x="2193840" y="2565360"/>
            <a:chExt cx="1137960" cy="1137960"/>
          </a:xfrm>
        </p:grpSpPr>
        <p:sp>
          <p:nvSpPr>
            <p:cNvPr id="440" name="AutoShape 18"/>
            <p:cNvSpPr/>
            <p:nvPr/>
          </p:nvSpPr>
          <p:spPr>
            <a:xfrm>
              <a:off x="219384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WordArt 19"/>
            <p:cNvSpPr txBox="1"/>
            <p:nvPr/>
          </p:nvSpPr>
          <p:spPr>
            <a:xfrm>
              <a:off x="2347920" y="272124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E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42" name="Group 20"/>
          <p:cNvGrpSpPr/>
          <p:nvPr/>
        </p:nvGrpSpPr>
        <p:grpSpPr>
          <a:xfrm>
            <a:off x="880920" y="2565360"/>
            <a:ext cx="1137960" cy="1137960"/>
            <a:chOff x="880920" y="2565360"/>
            <a:chExt cx="1137960" cy="1137960"/>
          </a:xfrm>
        </p:grpSpPr>
        <p:sp>
          <p:nvSpPr>
            <p:cNvPr id="443" name="AutoShape 21"/>
            <p:cNvSpPr/>
            <p:nvPr/>
          </p:nvSpPr>
          <p:spPr>
            <a:xfrm>
              <a:off x="880920" y="2565360"/>
              <a:ext cx="1137960" cy="1137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WordArt 22"/>
            <p:cNvSpPr txBox="1"/>
            <p:nvPr/>
          </p:nvSpPr>
          <p:spPr>
            <a:xfrm>
              <a:off x="1035000" y="2721240"/>
              <a:ext cx="5457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K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45" name="Group 23"/>
          <p:cNvGrpSpPr/>
          <p:nvPr/>
        </p:nvGrpSpPr>
        <p:grpSpPr>
          <a:xfrm>
            <a:off x="-585720" y="2692440"/>
            <a:ext cx="1136160" cy="1137960"/>
            <a:chOff x="-585720" y="2692440"/>
            <a:chExt cx="1136160" cy="1137960"/>
          </a:xfrm>
        </p:grpSpPr>
        <p:sp>
          <p:nvSpPr>
            <p:cNvPr id="446" name="AutoShape 24"/>
            <p:cNvSpPr/>
            <p:nvPr/>
          </p:nvSpPr>
          <p:spPr>
            <a:xfrm>
              <a:off x="-585720" y="2692440"/>
              <a:ext cx="1136160" cy="1137960"/>
            </a:xfrm>
            <a:custGeom>
              <a:avLst/>
              <a:gdLst>
                <a:gd name="textAreaLeft" fmla="*/ 55440 w 1136160"/>
                <a:gd name="textAreaRight" fmla="*/ 1080720 w 1136160"/>
                <a:gd name="textAreaTop" fmla="*/ 55440 h 1137960"/>
                <a:gd name="textAreaBottom" fmla="*/ 1082520 h 113796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06000" tIns="0" bIns="154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WordArt 25"/>
            <p:cNvSpPr txBox="1"/>
            <p:nvPr/>
          </p:nvSpPr>
          <p:spPr>
            <a:xfrm>
              <a:off x="-431280" y="2848320"/>
              <a:ext cx="54504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J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advTm="5000">
    <p:strips dir="rd"/>
  </p:transition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0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0.02014 L -0.03837 0.05162 E">
                                      <p:cBhvr>
                                        <p:cTn id="1358" dur="3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059 0.02014 L -0.03421 0.05162 E">
                                      <p:cBhvr>
                                        <p:cTn id="1360" dur="3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1389 0.02014 L -0.0375 0.05162 E">
                                      <p:cBhvr>
                                        <p:cTn id="1362" dur="3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autoRev="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719 0.02014 L -0.0408 0.05162 E">
                                      <p:cBhvr>
                                        <p:cTn id="1364" dur="3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autoRev="1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2084 0.02014 L -0.04445 0.05162 E">
                                      <p:cBhvr>
                                        <p:cTn id="1366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autoRev="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632 0.022 L -0.04774 0.05348 E">
                                      <p:cBhvr>
                                        <p:cTn id="1368" dur="3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1709640" y="804960"/>
            <a:ext cx="10096560" cy="777600"/>
            <a:chOff x="1709640" y="804960"/>
            <a:chExt cx="10096560" cy="777600"/>
          </a:xfrm>
        </p:grpSpPr>
        <p:sp>
          <p:nvSpPr>
            <p:cNvPr id="449" name="WordArt 3"/>
            <p:cNvSpPr txBox="1"/>
            <p:nvPr/>
          </p:nvSpPr>
          <p:spPr>
            <a:xfrm>
              <a:off x="6700680" y="804960"/>
              <a:ext cx="5105520" cy="77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noFill/>
                  <a:latin typeface="Arial"/>
                </a:rPr>
                <a:t>LINKING</a:t>
              </a:r>
              <a:endParaRPr b="0" lang="en-US" sz="2400" spc="-1" strike="noStrike">
                <a:ln w="0">
                  <a:noFill/>
                </a:ln>
                <a:noFill/>
                <a:latin typeface="Arial"/>
                <a:ea typeface="Arial"/>
              </a:endParaRPr>
            </a:p>
          </p:txBody>
        </p:sp>
        <p:sp>
          <p:nvSpPr>
            <p:cNvPr id="450" name="WordArt 4"/>
            <p:cNvSpPr txBox="1"/>
            <p:nvPr/>
          </p:nvSpPr>
          <p:spPr>
            <a:xfrm>
              <a:off x="1709640" y="804960"/>
              <a:ext cx="5105520" cy="77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solidFill>
                    <a:srgbClr val="00cc99"/>
                  </a:solidFill>
                  <a:latin typeface="Arial"/>
                </a:rPr>
                <a:t>LINKING</a:t>
              </a:r>
              <a:endParaRPr b="0" lang="en-US" sz="2400" spc="-1" strike="noStrike">
                <a:ln w="0">
                  <a:noFill/>
                </a:ln>
                <a:solidFill>
                  <a:srgbClr val="00cc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51" name="WordArt 5"/>
          <p:cNvSpPr txBox="1"/>
          <p:nvPr/>
        </p:nvSpPr>
        <p:spPr>
          <a:xfrm>
            <a:off x="395280" y="836640"/>
            <a:ext cx="71280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LINKING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452" name="Group 6"/>
          <p:cNvGrpSpPr/>
          <p:nvPr/>
        </p:nvGrpSpPr>
        <p:grpSpPr>
          <a:xfrm>
            <a:off x="1709640" y="804960"/>
            <a:ext cx="10096560" cy="777240"/>
            <a:chOff x="1709640" y="804960"/>
            <a:chExt cx="10096560" cy="777240"/>
          </a:xfrm>
        </p:grpSpPr>
        <p:sp>
          <p:nvSpPr>
            <p:cNvPr id="453" name="未知"/>
            <p:cNvSpPr/>
            <p:nvPr/>
          </p:nvSpPr>
          <p:spPr>
            <a:xfrm>
              <a:off x="6414840" y="1185480"/>
              <a:ext cx="401760" cy="14112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11374200" y="804960"/>
              <a:ext cx="4320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Rectangle 9"/>
            <p:cNvSpPr/>
            <p:nvPr/>
          </p:nvSpPr>
          <p:spPr>
            <a:xfrm>
              <a:off x="1709640" y="1222200"/>
              <a:ext cx="4316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5000">
    <p:strips dir="rd"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820">
                                      <p:cBhvr>
                                        <p:cTn id="137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820">
                                      <p:cBhvr>
                                        <p:cTn id="1376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8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819">
                                      <p:cBhvr>
                                        <p:cTn id="138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819">
                                      <p:cBhvr>
                                        <p:cTn id="138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910960" y="488880"/>
            <a:ext cx="4809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List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57360" y="825480"/>
            <a:ext cx="1296720" cy="1174680"/>
          </a:xfrm>
          <a:prstGeom prst="rect">
            <a:avLst/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未知"/>
          <p:cNvSpPr/>
          <p:nvPr/>
        </p:nvSpPr>
        <p:spPr>
          <a:xfrm>
            <a:off x="785880" y="476280"/>
            <a:ext cx="1601640" cy="1339920"/>
          </a:xfrm>
          <a:prstGeom prst="pie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2910960" y="2455920"/>
            <a:ext cx="4809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List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657360" y="2792520"/>
            <a:ext cx="1296720" cy="1174680"/>
          </a:xfrm>
          <a:prstGeom prst="rect">
            <a:avLst/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785880" y="2443320"/>
            <a:ext cx="1601640" cy="1339560"/>
          </a:xfrm>
          <a:prstGeom prst="pie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2910960" y="4400640"/>
            <a:ext cx="4809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List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57360" y="4737240"/>
            <a:ext cx="1296720" cy="1174680"/>
          </a:xfrm>
          <a:prstGeom prst="rect">
            <a:avLst/>
          </a:prstGeom>
          <a:solidFill>
            <a:srgbClr val="cc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785880" y="4387680"/>
            <a:ext cx="1601640" cy="1339920"/>
          </a:xfrm>
          <a:prstGeom prst="pie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strips dir="rd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395720" y="2295360"/>
            <a:ext cx="6511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0000"/>
                </a:solidFill>
                <a:latin typeface="Arial Black"/>
                <a:ea typeface="宋体"/>
              </a:rPr>
              <a:t>Moving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1395720" y="2295360"/>
            <a:ext cx="6511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0000"/>
                </a:solidFill>
                <a:latin typeface="Arial Black"/>
                <a:ea typeface="宋体"/>
              </a:rPr>
              <a:t>Moving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338480" y="2208240"/>
            <a:ext cx="6511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ffffff"/>
                </a:solidFill>
                <a:latin typeface="Arial Black"/>
                <a:ea typeface="宋体"/>
              </a:rPr>
              <a:t>Moving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0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25"/>
                                  </p:iterate>
                                  <p:childTnLst>
                                    <p:animScale>
                                      <p:cBhvr>
                                        <p:cTn id="1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25"/>
                                  </p:iterate>
                                  <p:childTnLst>
                                    <p:animScale>
                                      <p:cBhvr>
                                        <p:cTn id="1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25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251"/>
                            </p:stCondLst>
                            <p:childTnLst>
                              <p:par>
                                <p:cTn id="14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25"/>
                                  </p:iterate>
                                  <p:childTnLst>
                                    <p:animScale>
                                      <p:cBhvr>
                                        <p:cTn id="1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4859280" y="7893000"/>
            <a:ext cx="32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http://www.powerpointbackgrounds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1476360" y="731880"/>
            <a:ext cx="10169640" cy="10169640"/>
            <a:chOff x="1476360" y="731880"/>
            <a:chExt cx="10169640" cy="10169640"/>
          </a:xfrm>
        </p:grpSpPr>
        <p:sp>
          <p:nvSpPr>
            <p:cNvPr id="470" name="Oval 4"/>
            <p:cNvSpPr/>
            <p:nvPr/>
          </p:nvSpPr>
          <p:spPr>
            <a:xfrm>
              <a:off x="1476360" y="731880"/>
              <a:ext cx="10169640" cy="10169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Group 5"/>
            <p:cNvGrpSpPr/>
            <p:nvPr/>
          </p:nvGrpSpPr>
          <p:grpSpPr>
            <a:xfrm>
              <a:off x="2036880" y="1303560"/>
              <a:ext cx="8177040" cy="8208360"/>
              <a:chOff x="2036880" y="1303560"/>
              <a:chExt cx="8177040" cy="8208360"/>
            </a:xfrm>
          </p:grpSpPr>
          <p:sp>
            <p:nvSpPr>
              <p:cNvPr id="472" name="Oval 6"/>
              <p:cNvSpPr/>
              <p:nvPr/>
            </p:nvSpPr>
            <p:spPr>
              <a:xfrm>
                <a:off x="2900520" y="2199960"/>
                <a:ext cx="7313400" cy="731196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50000">
                    <a:srgbClr val="000000"/>
                  </a:gs>
                  <a:gs pos="100000">
                    <a:srgbClr val="6600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Oval 7"/>
              <p:cNvSpPr/>
              <p:nvPr/>
            </p:nvSpPr>
            <p:spPr>
              <a:xfrm>
                <a:off x="3697560" y="3000240"/>
                <a:ext cx="5716440" cy="571464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4237200" y="3000240"/>
                <a:ext cx="4576680" cy="5714640"/>
              </a:xfrm>
              <a:prstGeom prst="ellipse">
                <a:avLst/>
              </a:pr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4811760" y="3000240"/>
                <a:ext cx="3427560" cy="5714640"/>
              </a:xfrm>
              <a:prstGeom prst="ellipse">
                <a:avLst/>
              </a:pr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Oval 10"/>
              <p:cNvSpPr/>
              <p:nvPr/>
            </p:nvSpPr>
            <p:spPr>
              <a:xfrm>
                <a:off x="5383440" y="3000240"/>
                <a:ext cx="2284200" cy="5714640"/>
              </a:xfrm>
              <a:prstGeom prst="ellipse">
                <a:avLst/>
              </a:pr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Oval 11"/>
              <p:cNvSpPr/>
              <p:nvPr/>
            </p:nvSpPr>
            <p:spPr>
              <a:xfrm>
                <a:off x="5954760" y="3000240"/>
                <a:ext cx="1141560" cy="5714640"/>
              </a:xfrm>
              <a:prstGeom prst="ellipse">
                <a:avLst/>
              </a:pr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Oval 12"/>
              <p:cNvSpPr/>
              <p:nvPr/>
            </p:nvSpPr>
            <p:spPr>
              <a:xfrm flipH="1">
                <a:off x="6489720" y="3000240"/>
                <a:ext cx="28800" cy="5714640"/>
              </a:xfrm>
              <a:prstGeom prst="ellipse">
                <a:avLst/>
              </a:pr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Line 13"/>
              <p:cNvSpPr/>
              <p:nvPr/>
            </p:nvSpPr>
            <p:spPr>
              <a:xfrm>
                <a:off x="3700440" y="5856120"/>
                <a:ext cx="5716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4427640" y="3929040"/>
                <a:ext cx="4258800" cy="3853440"/>
                <a:chOff x="4427640" y="3929040"/>
                <a:chExt cx="4258800" cy="3853440"/>
              </a:xfrm>
            </p:grpSpPr>
            <p:sp>
              <p:nvSpPr>
                <p:cNvPr id="481" name="Line 15"/>
                <p:cNvSpPr/>
                <p:nvPr/>
              </p:nvSpPr>
              <p:spPr>
                <a:xfrm>
                  <a:off x="4427640" y="3929040"/>
                  <a:ext cx="4258800" cy="0"/>
                </a:xfrm>
                <a:prstGeom prst="line">
                  <a:avLst/>
                </a:prstGeom>
                <a:ln w="381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16"/>
                <p:cNvSpPr/>
                <p:nvPr/>
              </p:nvSpPr>
              <p:spPr>
                <a:xfrm>
                  <a:off x="4427640" y="7782480"/>
                  <a:ext cx="4258800" cy="0"/>
                </a:xfrm>
                <a:prstGeom prst="line">
                  <a:avLst/>
                </a:prstGeom>
                <a:ln w="381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Line 17"/>
              <p:cNvSpPr/>
              <p:nvPr/>
            </p:nvSpPr>
            <p:spPr>
              <a:xfrm>
                <a:off x="3883320" y="4892400"/>
                <a:ext cx="53496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Line 18"/>
              <p:cNvSpPr/>
              <p:nvPr/>
            </p:nvSpPr>
            <p:spPr>
              <a:xfrm>
                <a:off x="3883320" y="6819840"/>
                <a:ext cx="53496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AutoShape 19"/>
              <p:cNvSpPr/>
              <p:nvPr/>
            </p:nvSpPr>
            <p:spPr>
              <a:xfrm>
                <a:off x="6159600" y="1303560"/>
                <a:ext cx="797040" cy="1461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  <a:effectLst>
                <a:outerShdw dist="107932" dir="81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AutoShape 20"/>
              <p:cNvSpPr/>
              <p:nvPr/>
            </p:nvSpPr>
            <p:spPr>
              <a:xfrm rot="16200000">
                <a:off x="2369520" y="5119920"/>
                <a:ext cx="796680" cy="146196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10800000"/>
              </a:gradFill>
              <a:ln w="0">
                <a:noFill/>
              </a:ln>
              <a:effectLst>
                <a:outerShdw dist="107932" dir="81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AutoShape 21"/>
              <p:cNvSpPr/>
              <p:nvPr/>
            </p:nvSpPr>
            <p:spPr>
              <a:xfrm flipV="1" rot="8100000">
                <a:off x="3779280" y="3075840"/>
                <a:ext cx="799200" cy="4363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13500000"/>
              </a:gradFill>
              <a:ln w="0">
                <a:noFill/>
              </a:ln>
              <a:effectLst>
                <a:outerShdw dist="107932" dir="81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AutoShape 22"/>
              <p:cNvSpPr/>
              <p:nvPr/>
            </p:nvSpPr>
            <p:spPr>
              <a:xfrm rot="2700000">
                <a:off x="8712000" y="2894400"/>
                <a:ext cx="435960" cy="799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ccff"/>
                  </a:gs>
                </a:gsLst>
                <a:lin ang="2700000"/>
              </a:gradFill>
              <a:ln w="0">
                <a:noFill/>
              </a:ln>
              <a:effectLst>
                <a:outerShdw dist="107932" dir="81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WordArt 23"/>
          <p:cNvSpPr txBox="1"/>
          <p:nvPr/>
        </p:nvSpPr>
        <p:spPr>
          <a:xfrm>
            <a:off x="6156360" y="333360"/>
            <a:ext cx="79200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WordArt 24"/>
          <p:cNvSpPr txBox="1"/>
          <p:nvPr/>
        </p:nvSpPr>
        <p:spPr>
          <a:xfrm>
            <a:off x="9383760" y="333360"/>
            <a:ext cx="90972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WordArt 25"/>
          <p:cNvSpPr txBox="1"/>
          <p:nvPr/>
        </p:nvSpPr>
        <p:spPr>
          <a:xfrm>
            <a:off x="10220400" y="333360"/>
            <a:ext cx="91908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V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2" name="WordArt 26"/>
          <p:cNvSpPr txBox="1"/>
          <p:nvPr/>
        </p:nvSpPr>
        <p:spPr>
          <a:xfrm>
            <a:off x="11215800" y="333360"/>
            <a:ext cx="27612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3" name="WordArt 27"/>
          <p:cNvSpPr txBox="1"/>
          <p:nvPr/>
        </p:nvSpPr>
        <p:spPr>
          <a:xfrm>
            <a:off x="12515760" y="333360"/>
            <a:ext cx="89712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4" name="WordArt 28"/>
          <p:cNvSpPr txBox="1"/>
          <p:nvPr/>
        </p:nvSpPr>
        <p:spPr>
          <a:xfrm>
            <a:off x="13358880" y="333360"/>
            <a:ext cx="77616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5" name="WordArt 29"/>
          <p:cNvSpPr txBox="1"/>
          <p:nvPr/>
        </p:nvSpPr>
        <p:spPr>
          <a:xfrm>
            <a:off x="11619000" y="333360"/>
            <a:ext cx="84132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6" name="WordArt 30"/>
          <p:cNvSpPr txBox="1"/>
          <p:nvPr/>
        </p:nvSpPr>
        <p:spPr>
          <a:xfrm>
            <a:off x="14255640" y="333360"/>
            <a:ext cx="27648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7" name="WordArt 31"/>
          <p:cNvSpPr txBox="1"/>
          <p:nvPr/>
        </p:nvSpPr>
        <p:spPr>
          <a:xfrm>
            <a:off x="14697000" y="333360"/>
            <a:ext cx="79236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8" name="WordArt 32"/>
          <p:cNvSpPr txBox="1"/>
          <p:nvPr/>
        </p:nvSpPr>
        <p:spPr>
          <a:xfrm>
            <a:off x="15611400" y="333360"/>
            <a:ext cx="84132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9" name="AutoShape 33"/>
          <p:cNvSpPr/>
          <p:nvPr/>
        </p:nvSpPr>
        <p:spPr>
          <a:xfrm rot="16200000">
            <a:off x="3809160" y="5187240"/>
            <a:ext cx="5400720" cy="1309680"/>
          </a:xfrm>
          <a:custGeom>
            <a:avLst/>
            <a:gdLst>
              <a:gd name="textAreaLeft" fmla="*/ 424800 w 5400720"/>
              <a:gd name="textAreaRight" fmla="*/ 4975920 w 5400720"/>
              <a:gd name="textAreaTop" fmla="*/ 388800 h 1309680"/>
              <a:gd name="textAreaBottom" fmla="*/ 920880 h 1309680"/>
            </a:gdLst>
            <a:ahLst/>
            <a:rect l="textAreaLeft" t="textAreaTop" r="textAreaRight" b="textAreaBottom"/>
            <a:pathLst>
              <a:path w="21600" h="21600">
                <a:moveTo>
                  <a:pt x="0" y="6414"/>
                </a:moveTo>
                <a:lnTo>
                  <a:pt x="17415" y="6414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5186"/>
                </a:lnTo>
                <a:lnTo>
                  <a:pt x="0" y="15186"/>
                </a:lnTo>
                <a:lnTo>
                  <a:pt x="1700" y="10800"/>
                </a:lnTo>
                <a:lnTo>
                  <a:pt x="0" y="64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828282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Oval 34"/>
          <p:cNvSpPr/>
          <p:nvPr/>
        </p:nvSpPr>
        <p:spPr>
          <a:xfrm>
            <a:off x="6329520" y="5661000"/>
            <a:ext cx="365040" cy="36504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40186" dir="97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3.7037E-006 C -0.38021 0.00555 -0.54913 0.425 -0.55434 0.69514 E">
                                      <p:cBhvr>
                                        <p:cTn id="1454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5399820">
                                      <p:cBhvr>
                                        <p:cTn id="145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36285 -0.00139 C -0.71215 0.01597 -0.85018 0.33773 -0.89705 0.54166 E">
                                      <p:cBhvr>
                                        <p:cTn id="1458" dur="18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4679820">
                                      <p:cBhvr>
                                        <p:cTn id="1460" dur="1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45625 -0.00139 C -0.78993 0.01761 -0.90035 0.30537 -0.95625 0.42655 E">
                                      <p:cBhvr>
                                        <p:cTn id="1462" dur="16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3899820">
                                      <p:cBhvr>
                                        <p:cTn id="1464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5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53004 -0.00325 C -0.74809 0.01413 -0.88056 0.12859 -0.99236 0.33804 E">
                                      <p:cBhvr>
                                        <p:cTn id="1466" dur="14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7" nodeType="withEffect" fill="hold" presetClass="emph" presetID="8">
                                  <p:stCondLst>
                                    <p:cond delay="1600"/>
                                  </p:stCondLst>
                                  <p:childTnLst>
                                    <p:animRot by="-3359820">
                                      <p:cBhvr>
                                        <p:cTn id="1468" dur="14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9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0.60365 -0.00139 C -0.76476 0.00023 -0.91025 0.08688 -1.01789 0.24814 E">
                                      <p:cBhvr>
                                        <p:cTn id="1470" dur="12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2759820">
                                      <p:cBhvr>
                                        <p:cTn id="1472" dur="12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70608 -0.00139 C -0.88524 0.01251 -0.94636 0.06626 -1.03976 0.14944 E">
                                      <p:cBhvr>
                                        <p:cTn id="1474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2219820">
                                      <p:cBhvr>
                                        <p:cTn id="14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7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79549 -0.00325 C -0.89809 -0.00139 -0.9566 0.03151 -1.0474 0.08341 E">
                                      <p:cBhvr>
                                        <p:cTn id="1478" dur="8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nodeType="withEffect" fill="hold" presetClass="emph" presetID="8">
                                  <p:stCondLst>
                                    <p:cond delay="2200"/>
                                  </p:stCondLst>
                                  <p:childTnLst>
                                    <p:animRot by="-1679819">
                                      <p:cBhvr>
                                        <p:cTn id="1480" dur="8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86632 -0.00487 C -0.94288 0.0037 -0.97795 0.01413 -1.04809 0.04008 E">
                                      <p:cBhvr>
                                        <p:cTn id="1482" dur="6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-1139819">
                                      <p:cBhvr>
                                        <p:cTn id="1484" dur="6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94271 -0.00487 C -0.96996 -0.00672 -1.00382 0.000229999999999999 -1.04531 0.01251 E">
                                      <p:cBhvr>
                                        <p:cTn id="1486" dur="4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599819">
                                      <p:cBhvr>
                                        <p:cTn id="1488" dur="4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1.01181 0.00023 C -1.0257 -0.00255 -1.0283 -0.00116 -1.04167 -0.00139 E">
                                      <p:cBhvr>
                                        <p:cTn id="1490" dur="2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5399820">
                                      <p:cBhvr>
                                        <p:cTn id="149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70480" y="2665440"/>
            <a:ext cx="7444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66ff66"/>
                </a:solidFill>
                <a:latin typeface="Arial Black"/>
                <a:ea typeface="宋体"/>
              </a:rPr>
              <a:t>Numbering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WordArt 3"/>
          <p:cNvSpPr txBox="1"/>
          <p:nvPr/>
        </p:nvSpPr>
        <p:spPr>
          <a:xfrm rot="5400000">
            <a:off x="2899800" y="3020760"/>
            <a:ext cx="7509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ahoma"/>
              </a:rPr>
              <a:t>3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503" name="WordArt 4"/>
          <p:cNvSpPr txBox="1"/>
          <p:nvPr/>
        </p:nvSpPr>
        <p:spPr>
          <a:xfrm rot="12112200">
            <a:off x="5597640" y="3995640"/>
            <a:ext cx="768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5"/>
          <p:cNvSpPr txBox="1"/>
          <p:nvPr/>
        </p:nvSpPr>
        <p:spPr>
          <a:xfrm rot="10800000">
            <a:off x="6372360" y="3966120"/>
            <a:ext cx="72072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"/>
          <p:cNvSpPr txBox="1"/>
          <p:nvPr/>
        </p:nvSpPr>
        <p:spPr>
          <a:xfrm>
            <a:off x="6362640" y="3205080"/>
            <a:ext cx="4017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7"/>
          <p:cNvSpPr txBox="1"/>
          <p:nvPr/>
        </p:nvSpPr>
        <p:spPr>
          <a:xfrm>
            <a:off x="7740720" y="3265560"/>
            <a:ext cx="8301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8"/>
          <p:cNvSpPr txBox="1"/>
          <p:nvPr/>
        </p:nvSpPr>
        <p:spPr>
          <a:xfrm rot="16200000">
            <a:off x="6848280" y="3257280"/>
            <a:ext cx="7812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8" name="WordArt 9"/>
          <p:cNvSpPr txBox="1"/>
          <p:nvPr/>
        </p:nvSpPr>
        <p:spPr>
          <a:xfrm rot="5400000">
            <a:off x="1788120" y="3231360"/>
            <a:ext cx="72540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9" name="WordArt 10"/>
          <p:cNvSpPr txBox="1"/>
          <p:nvPr/>
        </p:nvSpPr>
        <p:spPr>
          <a:xfrm rot="16200000">
            <a:off x="627840" y="2980440"/>
            <a:ext cx="1047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0" name="WordArt 11"/>
          <p:cNvSpPr txBox="1"/>
          <p:nvPr/>
        </p:nvSpPr>
        <p:spPr>
          <a:xfrm rot="16200000">
            <a:off x="6918840" y="-456480"/>
            <a:ext cx="2048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0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1" name="未知"/>
          <p:cNvSpPr/>
          <p:nvPr/>
        </p:nvSpPr>
        <p:spPr>
          <a:xfrm>
            <a:off x="3979800" y="2943360"/>
            <a:ext cx="808200" cy="1030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0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98" dur="17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1.94444E-006 -0.62222 E">
                                      <p:cBhvr>
                                        <p:cTn id="150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8.67052E-007 L -3.05556E-006 -0.84416 E">
                                      <p:cBhvr>
                                        <p:cTn id="150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78035E-007 L 2.77778E-007 -0.77942 E">
                                      <p:cBhvr>
                                        <p:cTn id="1505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5087E-006 L 4.72222E-006 -0.71469 E">
                                      <p:cBhvr>
                                        <p:cTn id="150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81503E-006 L -2.77778E-007 -0.71745 E">
                                      <p:cBhvr>
                                        <p:cTn id="1509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79769E-006 L 4.72222E-006 -0.67746 E">
                                      <p:cBhvr>
                                        <p:cTn id="1511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1965E-006 L 1.66667E-006 -0.65295 E">
                                      <p:cBhvr>
                                        <p:cTn id="151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3.33333E-006 -0.64652 E">
                                      <p:cBhvr>
                                        <p:cTn id="1515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-2.77778E-007 -0.6706 E">
                                      <p:cBhvr>
                                        <p:cTn id="1517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8" nodeType="withEffect" fill="hold" presetClass="path" presetID="64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4739 0.48833 L -0.04739 -0.18219 E">
                                      <p:cBhvr>
                                        <p:cTn id="1519" dur="3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1521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957240" y="256716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O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984680" y="2567160"/>
            <a:ext cx="6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r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2528640" y="256716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3375720" y="2567160"/>
            <a:ext cx="8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4152960" y="256716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969080" y="256716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384880" y="2567160"/>
            <a:ext cx="7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z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059880" y="2567160"/>
            <a:ext cx="4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6453000" y="256716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7269120" y="256716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451800" y="144360"/>
            <a:ext cx="212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ra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3019320" y="144360"/>
            <a:ext cx="199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gi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5426280" y="144360"/>
            <a:ext cx="124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in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7053120" y="144360"/>
            <a:ext cx="170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Oz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7 -1.48148E-006 C -0.00365 -0.03518 0.01354 -0.17754 -0.02101 -0.21088 C -0.05556 -0.24421 -0.18021 -0.17685 -0.20746 -0.2 C -0.23472 -0.22315 -0.18871 -0.31829 -0.18403 -0.3493 E">
                                      <p:cBhvr>
                                        <p:cTn id="1529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1.48148E-006 C 0.00018 -0.02454 0.01789 -0.11458 0.00139 -0.14745 C -0.0151 -0.18032 -0.0783 -0.15069 -0.09861 -0.19722 C -0.11892 -0.24375 -0.09548 -0.38588 -0.12031 -0.42616 C -0.14514 -0.46643 -0.22309 -0.45393 -0.24739 -0.43935 C -0.2717 -0.42477 -0.27048 -0.38657 -0.26666 -0.33842 E">
                                      <p:cBhvr>
                                        <p:cTn id="1533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5E-006 -2.59259E-006 C 0.0033 -0.06713 0.00677 -0.13426 0.00121 -0.16759 C -0.00434 -0.20092 0.02899 -0.19976 -0.03333 -0.2 C -0.09566 -0.20023 -0.28681 -0.17407 -0.37309 -0.16921 C -0.45938 -0.16435 -0.52674 -0.1618 -0.55139 -0.17083 C -0.57604 -0.17986 -0.52674 -0.19305 -0.52066 -0.22384 C -0.51458 -0.25463 -0.51511 -0.30509 -0.51545 -0.35555 E">
                                      <p:cBhvr>
                                        <p:cTn id="15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C -0.00087 -0.0243 -0.01215 -0.11042 -0.00555 -0.14583 C 0.00104 -0.18125 0.03108 -0.17847 0.03924 -0.2125 C 0.0474 -0.24653 0.04236 -0.32083 0.04306 -0.3493 E">
                                      <p:cBhvr>
                                        <p:cTn id="1542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C 0.00555 -0.0662 0.01111 -0.13241 -0.00261 -0.16065 C -0.01632 -0.18889 -0.05608 -0.16782 -0.08212 -0.16921 C -0.10816 -0.1706 -0.1507 -0.16273 -0.15903 -0.16921 C -0.16736 -0.17569 -0.13664 -0.17662 -0.13212 -0.20856 C -0.12761 -0.24051 -0.13195 -0.32963 -0.13195 -0.36134 E">
                                      <p:cBhvr>
                                        <p:cTn id="1552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C 0.00486 -0.06481 0.00972 -0.12963 0.00521 -0.16065 C 0.00069 -0.19166 0.03073 -0.18935 -0.02691 -0.18634 C -0.08455 -0.18333 -0.28437 -0.14838 -0.34097 -0.1419 C -0.39757 -0.13541 -0.36632 -0.11227 -0.36667 -0.14699 C -0.36701 -0.18171 -0.35538 -0.2662 -0.34358 -0.35046 E">
                                      <p:cBhvr>
                                        <p:cTn id="1556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C -0.00156 -0.02106 -0.00313 -0.04213 1.66667E-006 -0.06667 C 0.00312 -0.0912 1.66667000000079E-006 -0.13449 0.0191 -0.14699 C 0.03819 -0.15949 0.08576 -0.14467 0.11406 -0.1419 C 0.14236 -0.13912 0.17274 -0.12824 0.18837 -0.12986 C 0.20399 -0.13148 0.20764 -0.13634 0.20764 -0.15208 C 0.20764 -0.16782 0.1934 -0.18889 0.18837 -0.22384 C 0.18333 -0.25879 0.17934 -0.33264 0.17691 -0.36134 E">
                                      <p:cBhvr>
                                        <p:cTn id="1561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1.48148E-006 C -0.00139 -0.05949 -0.00261 -0.11805 0.01024 -0.14583 C 0.02309 -0.17338 0.06736 -0.14421 0.07691 -0.16597 C 0.08646 -0.18773 0.07048 -0.23588 0.06788 -0.27523 C 0.06527 -0.31458 0.07361 -0.37592 0.06146 -0.40231 C 0.0493 -0.4287 0.01562 -0.43148 -0.00521 -0.4331 C -0.02604 -0.43472 -0.05261 -0.42685 -0.06407 -0.4125 C -0.07552 -0.39815 -0.07223 -0.36088 -0.07431 -0.34722 E">
                                      <p:cBhvr>
                                        <p:cTn id="1571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71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C 0.00659 -0.02639 -0.02292 -0.12454 0.03975 -0.15787 C 0.10243 -0.1912 0.27899 -0.19259 0.37569 -0.2 C 0.47239 -0.20741 0.57291 -0.17639 0.62048 -0.20231 C 0.66805 -0.22824 0.65295 -0.32407 0.66146 -0.35602 E">
                                      <p:cBhvr>
                                        <p:cTn id="1576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C -0.00138 -0.03379 -0.0026 -0.06713 8.33333E-007 -0.09398 C 0.00261 -0.12106 -0.00711 -0.15162 0.01528 -0.1625 C 0.03768 -0.17338 0.10226 -0.16527 0.13455 -0.15902 C 0.16684 -0.15277 0.18195 -0.125 0.20903 -0.12476 C 0.23612 -0.12453 0.27761 -0.14583 0.2974 -0.1574 C 0.31719 -0.16898 0.32848 -0.18217 0.32813 -0.1949 C 0.32778 -0.20764 0.30122 -0.20671 0.2948 -0.23426 C 0.28837 -0.2618 0.28907 -0.31134 0.28976 -0.36064 E">
                                      <p:cBhvr>
                                        <p:cTn id="1580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9100"/>
                            </p:stCondLst>
                            <p:childTnLst>
                              <p:par>
                                <p:cTn id="158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615600" y="385920"/>
            <a:ext cx="2532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500" spc="-1" strike="noStrike">
                <a:solidFill>
                  <a:srgbClr val="ffffff"/>
                </a:solidFill>
                <a:latin typeface="Arial Black"/>
                <a:ea typeface="宋体"/>
              </a:rPr>
              <a:t>Pack</a:t>
            </a:r>
            <a:endParaRPr b="0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755520" y="385920"/>
            <a:ext cx="122616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500" spc="-1" strike="noStrike">
                <a:solidFill>
                  <a:srgbClr val="ffffff"/>
                </a:solidFill>
                <a:latin typeface="Arial Black"/>
                <a:ea typeface="宋体"/>
              </a:rPr>
              <a:t>‘</a:t>
            </a:r>
            <a:r>
              <a:rPr b="0" lang="en-GB" sz="8500" spc="-1" strike="noStrike">
                <a:solidFill>
                  <a:srgbClr val="ffffff"/>
                </a:solidFill>
                <a:latin typeface="Arial Black"/>
                <a:ea typeface="宋体"/>
              </a:rPr>
              <a:t>n’</a:t>
            </a:r>
            <a:endParaRPr b="0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481000" y="385920"/>
            <a:ext cx="3227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500" spc="-1" strike="noStrike">
                <a:solidFill>
                  <a:srgbClr val="ffffff"/>
                </a:solidFill>
                <a:latin typeface="Arial Black"/>
                <a:ea typeface="宋体"/>
              </a:rPr>
              <a:t>Going</a:t>
            </a:r>
            <a:endParaRPr b="0" lang="en-US" sz="8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Group 5"/>
          <p:cNvGrpSpPr/>
          <p:nvPr/>
        </p:nvGrpSpPr>
        <p:grpSpPr>
          <a:xfrm>
            <a:off x="2987640" y="3738600"/>
            <a:ext cx="3097080" cy="2822400"/>
            <a:chOff x="2987640" y="3738600"/>
            <a:chExt cx="3097080" cy="2822400"/>
          </a:xfrm>
        </p:grpSpPr>
        <p:sp>
          <p:nvSpPr>
            <p:cNvPr id="530" name="未知"/>
            <p:cNvSpPr/>
            <p:nvPr/>
          </p:nvSpPr>
          <p:spPr>
            <a:xfrm>
              <a:off x="3070080" y="4275000"/>
              <a:ext cx="932040" cy="2230560"/>
            </a:xfrm>
            <a:prstGeom prst="pie">
              <a:avLst/>
            </a:prstGeom>
            <a:solidFill>
              <a:srgbClr val="6b6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3190680" y="3762360"/>
              <a:ext cx="2684520" cy="731880"/>
            </a:xfrm>
            <a:prstGeom prst="pie">
              <a:avLst/>
            </a:pr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4249800" y="3889440"/>
              <a:ext cx="452520" cy="120600"/>
            </a:xfrm>
            <a:prstGeom prst="pie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4782960" y="3746520"/>
              <a:ext cx="300240" cy="93600"/>
            </a:xfrm>
            <a:prstGeom prst="pie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3110040" y="4014720"/>
              <a:ext cx="977760" cy="300240"/>
            </a:xfrm>
            <a:prstGeom prst="pie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997000" y="4275000"/>
              <a:ext cx="203400" cy="1995840"/>
            </a:xfrm>
            <a:prstGeom prst="pie">
              <a:avLst/>
            </a:prstGeom>
            <a:solidFill>
              <a:srgbClr val="aa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3976560" y="3902040"/>
              <a:ext cx="2098800" cy="2652840"/>
            </a:xfrm>
            <a:prstGeom prst="pie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3863880" y="4494240"/>
              <a:ext cx="195480" cy="2023920"/>
            </a:xfrm>
            <a:prstGeom prst="pie">
              <a:avLst/>
            </a:prstGeom>
            <a:solidFill>
              <a:srgbClr val="aa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4051440" y="4057560"/>
              <a:ext cx="1944360" cy="2398680"/>
            </a:xfrm>
            <a:prstGeom prst="pie">
              <a:avLst/>
            </a:pr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4017960" y="3756240"/>
              <a:ext cx="915840" cy="382320"/>
            </a:xfrm>
            <a:prstGeom prst="pie">
              <a:avLst/>
            </a:pr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5227560" y="3817800"/>
              <a:ext cx="133560" cy="763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5014800" y="3863880"/>
              <a:ext cx="398520" cy="19080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4803840" y="3854520"/>
              <a:ext cx="164880" cy="1731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4151160" y="4081680"/>
              <a:ext cx="144720" cy="13968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3852720" y="4202280"/>
              <a:ext cx="443160" cy="20772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3691080" y="4276800"/>
              <a:ext cx="145800" cy="8568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2987640" y="4510080"/>
              <a:ext cx="187200" cy="177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3855960" y="4753080"/>
              <a:ext cx="185760" cy="177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3620880" y="4697280"/>
              <a:ext cx="284400" cy="179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3085920" y="4533840"/>
              <a:ext cx="187560" cy="177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3970440" y="4784760"/>
              <a:ext cx="185760" cy="177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3240000" y="6310440"/>
              <a:ext cx="46188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3970440" y="4525920"/>
              <a:ext cx="968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4057560" y="3925800"/>
              <a:ext cx="1928880" cy="60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5986440" y="5523120"/>
              <a:ext cx="9828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4149720" y="5791320"/>
              <a:ext cx="1830240" cy="76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3855960" y="4500720"/>
              <a:ext cx="96840" cy="26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3946320" y="3902040"/>
              <a:ext cx="1928880" cy="60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3620880" y="4454640"/>
              <a:ext cx="9684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3727440" y="3853080"/>
              <a:ext cx="1911240" cy="59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3085920" y="4314960"/>
              <a:ext cx="9864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3190680" y="4048200"/>
              <a:ext cx="89856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2987640" y="4291200"/>
              <a:ext cx="9828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3093840" y="4019760"/>
              <a:ext cx="946440" cy="26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4892760" y="3762360"/>
              <a:ext cx="187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4795920" y="3738600"/>
              <a:ext cx="2221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4995720" y="3738600"/>
              <a:ext cx="984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068880" y="4006800"/>
              <a:ext cx="15840" cy="151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5970600" y="3925800"/>
              <a:ext cx="1047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4051440" y="4880160"/>
              <a:ext cx="168120" cy="159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4051440" y="4597560"/>
              <a:ext cx="8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4135320" y="4057560"/>
              <a:ext cx="1779840" cy="54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5915160" y="5496120"/>
              <a:ext cx="87120" cy="23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4211640" y="5759640"/>
              <a:ext cx="1649520" cy="69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5987880" y="4129200"/>
              <a:ext cx="14400" cy="136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5900760" y="4057560"/>
              <a:ext cx="950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4768920" y="3890880"/>
              <a:ext cx="7452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4897440" y="3854520"/>
              <a:ext cx="712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094280" y="4079880"/>
              <a:ext cx="7452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4222800" y="4043520"/>
              <a:ext cx="730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4344840" y="3878280"/>
              <a:ext cx="46044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4284720" y="3749760"/>
              <a:ext cx="5508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4016520" y="3836880"/>
              <a:ext cx="16344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184640" y="3854520"/>
              <a:ext cx="19692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240080" y="3933720"/>
              <a:ext cx="1112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4860720" y="3841920"/>
              <a:ext cx="828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4781520" y="3873600"/>
              <a:ext cx="824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4209840" y="4037040"/>
              <a:ext cx="8280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132080" y="4068720"/>
              <a:ext cx="810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059360" y="3794040"/>
              <a:ext cx="22536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957480" y="4371840"/>
              <a:ext cx="23508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4192560" y="4287960"/>
              <a:ext cx="11592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3854520" y="4197240"/>
              <a:ext cx="2952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3855960" y="4241880"/>
              <a:ext cx="20808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3851280" y="4256280"/>
              <a:ext cx="203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5113440" y="4021200"/>
              <a:ext cx="20952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322960" y="3943440"/>
              <a:ext cx="1029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019480" y="3862440"/>
              <a:ext cx="26532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5021280" y="3903840"/>
              <a:ext cx="18576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5016600" y="3916440"/>
              <a:ext cx="1825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5226120" y="3861000"/>
              <a:ext cx="13644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5226120" y="3834000"/>
              <a:ext cx="13644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5229360" y="3816360"/>
              <a:ext cx="1155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3687840" y="4324320"/>
              <a:ext cx="150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3687840" y="4292640"/>
              <a:ext cx="150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3693960" y="4275000"/>
              <a:ext cx="12708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4249800" y="3892680"/>
              <a:ext cx="45252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Line 83"/>
          <p:cNvSpPr/>
          <p:nvPr/>
        </p:nvSpPr>
        <p:spPr>
          <a:xfrm flipH="1">
            <a:off x="1763280" y="4365720"/>
            <a:ext cx="1079640" cy="35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4"/>
          <p:cNvSpPr/>
          <p:nvPr/>
        </p:nvSpPr>
        <p:spPr>
          <a:xfrm flipH="1">
            <a:off x="1153800" y="4797360"/>
            <a:ext cx="393480" cy="127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85"/>
          <p:cNvSpPr/>
          <p:nvPr/>
        </p:nvSpPr>
        <p:spPr>
          <a:xfrm flipH="1">
            <a:off x="2615760" y="4614840"/>
            <a:ext cx="1252440" cy="477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86"/>
          <p:cNvSpPr/>
          <p:nvPr/>
        </p:nvSpPr>
        <p:spPr>
          <a:xfrm flipH="1">
            <a:off x="1996920" y="5176800"/>
            <a:ext cx="465120" cy="155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87"/>
          <p:cNvSpPr/>
          <p:nvPr/>
        </p:nvSpPr>
        <p:spPr>
          <a:xfrm flipH="1">
            <a:off x="2546280" y="6246720"/>
            <a:ext cx="324000" cy="139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strips dir="rd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0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9" dur="2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604 0.0146 0.05208 0.02943 0.08628 0.05677 C 0.12048 0.08411 0.17812 0.12581 0.20538 0.16474 C 0.23264 0.20366 0.23628 0.21594 0.2493 0.29078 C 0.26232 0.36562 0.27291 0.49004 0.2835 0.61446 E">
                                      <p:cBhvr>
                                        <p:cTn id="1601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605" dur="2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00138 0.0241 0.00295 0.04819 -0.00139 0.0804 C -0.00573 0.11261 -0.02778 0.15964 -0.02605 0.1937 C -0.02431 0.22776 0.00277 0.22011 0.00954 0.28499 C 0.01631 0.34986 0.01562 0.46641 0.0151 0.58318 E">
                                      <p:cBhvr>
                                        <p:cTn id="1607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611" dur="2000" fill="hold"/>
                                        <p:tgtEl>
                                          <p:spTgt spid="5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1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3.29008E-006 C -0.01233 0.02711 -0.03143 0.11469 -0.07448 0.16242 C -0.11754 0.21015 -0.22413 0.21618 -0.25799 0.28661 C -0.29184 0.35705 -0.27396 0.52294 -0.27813 0.58504 E">
                                      <p:cBhvr>
                                        <p:cTn id="1613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677 0.02037 L 0.76892 -0.36713 E">
                                      <p:cBhvr>
                                        <p:cTn id="1617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1199819">
                                      <p:cBhvr>
                                        <p:cTn id="16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2"/>
          <p:cNvSpPr txBox="1"/>
          <p:nvPr/>
        </p:nvSpPr>
        <p:spPr>
          <a:xfrm>
            <a:off x="250920" y="836640"/>
            <a:ext cx="86421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>
                        <a:alpha val="0"/>
                      </a:srgbClr>
                    </a:gs>
                  </a:gsLst>
                  <a:lin ang="5400000"/>
                </a:gradFill>
                <a:latin typeface="Arial Black"/>
              </a:rPr>
              <a:t>PROJECT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13" name="WordArt 3"/>
          <p:cNvSpPr txBox="1"/>
          <p:nvPr/>
        </p:nvSpPr>
        <p:spPr>
          <a:xfrm>
            <a:off x="804960" y="2182680"/>
            <a:ext cx="75121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3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000000">
                        <a:alpha val="0"/>
                      </a:srgbClr>
                    </a:gs>
                  </a:gsLst>
                  <a:lin ang="5400000"/>
                </a:gradFill>
                <a:latin typeface="Arial Black"/>
              </a:rPr>
              <a:t>PROJECTING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395440" y="6421320"/>
            <a:ext cx="4321440" cy="865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8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4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030400" y="765000"/>
            <a:ext cx="4923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003399"/>
                </a:solidFill>
                <a:latin typeface="Arial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902160" y="2378160"/>
            <a:ext cx="721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3399"/>
                </a:solidFill>
                <a:latin typeface="Arial Black"/>
                <a:ea typeface="宋体"/>
              </a:rPr>
              <a:t>Question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WordArt 4"/>
          <p:cNvSpPr txBox="1"/>
          <p:nvPr/>
        </p:nvSpPr>
        <p:spPr>
          <a:xfrm>
            <a:off x="158580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9" name="WordArt 5"/>
          <p:cNvSpPr txBox="1"/>
          <p:nvPr/>
        </p:nvSpPr>
        <p:spPr>
          <a:xfrm>
            <a:off x="241128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0" name="WordArt 6"/>
          <p:cNvSpPr txBox="1"/>
          <p:nvPr/>
        </p:nvSpPr>
        <p:spPr>
          <a:xfrm>
            <a:off x="3924360" y="2682720"/>
            <a:ext cx="5032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4514760" y="2682720"/>
            <a:ext cx="27324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2" name="WordArt 8"/>
          <p:cNvSpPr txBox="1"/>
          <p:nvPr/>
        </p:nvSpPr>
        <p:spPr>
          <a:xfrm>
            <a:off x="4897440" y="2925720"/>
            <a:ext cx="69516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3" name="WordArt 9"/>
          <p:cNvSpPr txBox="1"/>
          <p:nvPr/>
        </p:nvSpPr>
        <p:spPr>
          <a:xfrm>
            <a:off x="5724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4" name="WordArt 10"/>
          <p:cNvSpPr txBox="1"/>
          <p:nvPr/>
        </p:nvSpPr>
        <p:spPr>
          <a:xfrm>
            <a:off x="6535800" y="2682720"/>
            <a:ext cx="27288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WordArt 11"/>
          <p:cNvSpPr txBox="1"/>
          <p:nvPr/>
        </p:nvSpPr>
        <p:spPr>
          <a:xfrm>
            <a:off x="694836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6" name="WordArt 12"/>
          <p:cNvSpPr txBox="1"/>
          <p:nvPr/>
        </p:nvSpPr>
        <p:spPr>
          <a:xfrm>
            <a:off x="7736040" y="2925720"/>
            <a:ext cx="69516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7" name="WordArt 13"/>
          <p:cNvSpPr txBox="1"/>
          <p:nvPr/>
        </p:nvSpPr>
        <p:spPr>
          <a:xfrm>
            <a:off x="3174840" y="2925720"/>
            <a:ext cx="6955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8" name="WordArt 14"/>
          <p:cNvSpPr txBox="1"/>
          <p:nvPr/>
        </p:nvSpPr>
        <p:spPr>
          <a:xfrm>
            <a:off x="601560" y="2664000"/>
            <a:ext cx="82548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64968E-006 C 0.00417 0.05978 0.00868 0.11515 0.05503 0.14898 C 0.10139 0.18281 0.23125 0.19138 0.2776 0.2025 E">
                                      <p:cBhvr>
                                        <p:cTn id="1668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7 C -0.0132 -0.02523 -0.02466 -0.0537 -0.0283 -0.08449 C -0.03195 -0.11528 -0.02309 -0.16366 -0.02171 -0.18449 E">
                                      <p:cBhvr>
                                        <p:cTn id="1672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4282E-006 C 0.00278 0.03684 0.00712 0.06951 0.0184 0.09129 C 0.02968 0.11307 0.05781 0.1228 0.06805 0.13091 E">
                                      <p:cBhvr>
                                        <p:cTn id="1676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1343 C 0.02066 -0.06065 0.02188 -0.1 0.04792 -0.11343 C 0.07396 -0.12686 0.14948 -0.09838 0.17622 -0.09445 E">
                                      <p:cBhvr>
                                        <p:cTn id="1680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C -0.00781 -0.0662 -0.01302 -0.13287 -0.03837 -0.18426 C -0.06371 -0.23565 -0.1283 -0.2831 -0.15191 -0.30903 E">
                                      <p:cBhvr>
                                        <p:cTn id="1684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11111E-006 C -0.03906 -0.07732 -0.07794 -0.1544 -0.08992 -0.2044 C -0.1019 -0.2544 -0.0868 -0.27732 -0.07169 -0.3 E">
                                      <p:cBhvr>
                                        <p:cTn id="1688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4282E-006 C -0.02292 -0.06349 -0.0441 -0.12767 -0.05677 -0.16914 C -0.06945 -0.21061 -0.07222 -0.23263 -0.07622 -0.24931 E">
                                      <p:cBhvr>
                                        <p:cTn id="169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4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-0.03941 -0.16042 -0.07709 -0.3206 -0.125 -0.37546 C -0.17292 -0.43032 -0.25382 -0.33866 -0.28785 -0.32894 E">
                                      <p:cBhvr>
                                        <p:cTn id="1696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8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7646E-006 C 0.00225 -0.09361 0.00243 -0.18351 -0.025 -0.21803 C -0.05243 -0.25255 -0.13577 -0.20969 -0.16493 -0.2076 E">
                                      <p:cBhvr>
                                        <p:cTn id="1700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2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C 0.01598 -0.05185 0.03229 -0.1037 0.02483 -0.14884 C 0.01736 -0.19398 -0.01406 -0.23264 -0.04531 -0.27107 E">
                                      <p:cBhvr>
                                        <p:cTn id="1704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024 C -0.00816 0.06783 -0.01528 0.13542 0.02413 0.20255 C 0.06354 0.26968 0.17639 0.37037 0.23576 0.40255 C 0.29514 0.43473 0.33784 0.41528 0.38073 0.39584 E">
                                      <p:cBhvr>
                                        <p:cTn id="170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647640" y="390672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7520">
                  <a:solidFill>
                    <a:srgbClr val="000f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317520">
                <a:solidFill>
                  <a:srgbClr val="000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647640" y="366876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4160">
                  <a:solidFill>
                    <a:srgbClr val="0037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254160">
                <a:solidFill>
                  <a:srgbClr val="0037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647640" y="343044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2120">
                  <a:solidFill>
                    <a:srgbClr val="004b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222120">
                <a:solidFill>
                  <a:srgbClr val="004b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47640" y="319104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440">
                  <a:solidFill>
                    <a:srgbClr val="0064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190440">
                <a:solidFill>
                  <a:srgbClr val="0064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47640" y="295272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7080">
                  <a:solidFill>
                    <a:srgbClr val="0096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127080">
                <a:solidFill>
                  <a:srgbClr val="0096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647640" y="2712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00c8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88920">
                <a:solidFill>
                  <a:srgbClr val="00c8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647640" y="247500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00ff0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63360">
                <a:solidFill>
                  <a:srgbClr val="00ff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647640" y="223524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80ff80"/>
                  </a:solidFill>
                  <a:miter/>
                </a:ln>
                <a:noFill/>
                <a:latin typeface="Arial Black"/>
              </a:rPr>
              <a:t>Advancing</a:t>
            </a:r>
            <a:endParaRPr b="0" lang="en-US" sz="2400" spc="1" strike="noStrike">
              <a:ln w="38160">
                <a:solidFill>
                  <a:srgbClr val="80ff8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647640" y="207792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dvancin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  <p:sndAc>
      <p:stSnd>
        <p:snd r:embed="rId1" name="skeleton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3538440"/>
            <a:ext cx="9144000" cy="16192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3"/>
          <p:cNvSpPr/>
          <p:nvPr/>
        </p:nvSpPr>
        <p:spPr>
          <a:xfrm>
            <a:off x="-9252000" y="4292640"/>
            <a:ext cx="18396000" cy="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-9180360" y="476280"/>
            <a:ext cx="18324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Runn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3178080" y="2565360"/>
            <a:ext cx="1682640" cy="2089080"/>
            <a:chOff x="3178080" y="2565360"/>
            <a:chExt cx="1682640" cy="2089080"/>
          </a:xfrm>
        </p:grpSpPr>
        <p:sp>
          <p:nvSpPr>
            <p:cNvPr id="633" name="未知"/>
            <p:cNvSpPr/>
            <p:nvPr/>
          </p:nvSpPr>
          <p:spPr>
            <a:xfrm>
              <a:off x="4201920" y="2565360"/>
              <a:ext cx="511200" cy="4935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3779640" y="3159000"/>
              <a:ext cx="552600" cy="9669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3646440" y="3046320"/>
              <a:ext cx="523800" cy="611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4157640" y="3243240"/>
              <a:ext cx="703080" cy="476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3954240" y="3933720"/>
              <a:ext cx="696960" cy="7207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3178080" y="3800520"/>
              <a:ext cx="884160" cy="6858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Group 12"/>
          <p:cNvGrpSpPr/>
          <p:nvPr/>
        </p:nvGrpSpPr>
        <p:grpSpPr>
          <a:xfrm>
            <a:off x="3180600" y="2565360"/>
            <a:ext cx="1745640" cy="2215080"/>
            <a:chOff x="3180600" y="2565360"/>
            <a:chExt cx="1745640" cy="2215080"/>
          </a:xfrm>
        </p:grpSpPr>
        <p:sp>
          <p:nvSpPr>
            <p:cNvPr id="640" name="未知"/>
            <p:cNvSpPr/>
            <p:nvPr/>
          </p:nvSpPr>
          <p:spPr>
            <a:xfrm>
              <a:off x="4316400" y="2565360"/>
              <a:ext cx="511200" cy="4935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3894120" y="3159000"/>
              <a:ext cx="552600" cy="9669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 rot="2233800">
              <a:off x="3724200" y="3070080"/>
              <a:ext cx="524160" cy="611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 rot="1395600">
              <a:off x="4157280" y="3357360"/>
              <a:ext cx="703440" cy="476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 rot="1800000">
              <a:off x="3917520" y="3933360"/>
              <a:ext cx="696960" cy="7207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 rot="19800000">
              <a:off x="3292560" y="3800520"/>
              <a:ext cx="884160" cy="6858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Group 19"/>
          <p:cNvGrpSpPr/>
          <p:nvPr/>
        </p:nvGrpSpPr>
        <p:grpSpPr>
          <a:xfrm>
            <a:off x="3393360" y="2565360"/>
            <a:ext cx="1467720" cy="2209320"/>
            <a:chOff x="3393360" y="2565360"/>
            <a:chExt cx="1467720" cy="2209320"/>
          </a:xfrm>
        </p:grpSpPr>
        <p:sp>
          <p:nvSpPr>
            <p:cNvPr id="647" name="未知"/>
            <p:cNvSpPr/>
            <p:nvPr/>
          </p:nvSpPr>
          <p:spPr>
            <a:xfrm>
              <a:off x="4349880" y="2565360"/>
              <a:ext cx="511200" cy="4946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3927600" y="3160080"/>
              <a:ext cx="552240" cy="9691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 rot="18571800">
              <a:off x="3917880" y="3094920"/>
              <a:ext cx="524880" cy="611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 rot="3447600">
              <a:off x="4049280" y="3325320"/>
              <a:ext cx="704880" cy="476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 rot="3600000">
              <a:off x="3789360" y="3931560"/>
              <a:ext cx="698400" cy="7207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 rot="18000000">
              <a:off x="3468600" y="3867840"/>
              <a:ext cx="885960" cy="68580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Group 26"/>
          <p:cNvGrpSpPr/>
          <p:nvPr/>
        </p:nvGrpSpPr>
        <p:grpSpPr>
          <a:xfrm>
            <a:off x="3567240" y="2565360"/>
            <a:ext cx="1293480" cy="2160000"/>
            <a:chOff x="3567240" y="2565360"/>
            <a:chExt cx="1293480" cy="2160000"/>
          </a:xfrm>
        </p:grpSpPr>
        <p:sp>
          <p:nvSpPr>
            <p:cNvPr id="654" name="未知"/>
            <p:cNvSpPr/>
            <p:nvPr/>
          </p:nvSpPr>
          <p:spPr>
            <a:xfrm>
              <a:off x="4351680" y="2565360"/>
              <a:ext cx="509040" cy="4946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3930840" y="3160080"/>
              <a:ext cx="550440" cy="9691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 rot="18228600">
              <a:off x="3969000" y="3169080"/>
              <a:ext cx="525240" cy="6087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 rot="5872200">
              <a:off x="3883680" y="3326040"/>
              <a:ext cx="704880" cy="4744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 rot="5400000">
              <a:off x="3576960" y="3933360"/>
              <a:ext cx="698400" cy="7178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 rot="16200000">
              <a:off x="3713760" y="3940560"/>
              <a:ext cx="885960" cy="6832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0" name="Group 33"/>
          <p:cNvGrpSpPr/>
          <p:nvPr/>
        </p:nvGrpSpPr>
        <p:grpSpPr>
          <a:xfrm>
            <a:off x="3077280" y="2565360"/>
            <a:ext cx="1852920" cy="2126520"/>
            <a:chOff x="3077280" y="2565360"/>
            <a:chExt cx="1852920" cy="2126520"/>
          </a:xfrm>
        </p:grpSpPr>
        <p:sp>
          <p:nvSpPr>
            <p:cNvPr id="661" name="未知"/>
            <p:cNvSpPr/>
            <p:nvPr/>
          </p:nvSpPr>
          <p:spPr>
            <a:xfrm>
              <a:off x="4204080" y="2565360"/>
              <a:ext cx="509760" cy="4946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3782880" y="3160440"/>
              <a:ext cx="550440" cy="96912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 rot="15165600">
              <a:off x="4107960" y="3168360"/>
              <a:ext cx="525240" cy="60948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 rot="8273400">
              <a:off x="3513240" y="3171600"/>
              <a:ext cx="701280" cy="4773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 rot="7200000">
              <a:off x="3213720" y="3850560"/>
              <a:ext cx="698040" cy="71856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 rot="11638800">
              <a:off x="3978360" y="3791520"/>
              <a:ext cx="881640" cy="6872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8000">
    <p:strips dir="rd"/>
  </p:transition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0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7" dur="250" autoRev="1" fill="hold"/>
                                        <p:tgtEl>
                                          <p:spTgt spid="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8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0" dur="25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3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6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9" dur="250" autoRev="1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0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77778E-006 4.07407E-006 L 1.0059 4.07407E-006 E">
                                      <p:cBhvr>
                                        <p:cTn id="1731" dur="5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2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04931 1.48148E-006 L 0.5 1.48148E-006 E">
                                      <p:cBhvr>
                                        <p:cTn id="1733" dur="5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2"/>
          <p:cNvSpPr/>
          <p:nvPr/>
        </p:nvSpPr>
        <p:spPr>
          <a:xfrm>
            <a:off x="1332000" y="190440"/>
            <a:ext cx="6408720" cy="6408720"/>
          </a:xfrm>
          <a:prstGeom prst="ellipse">
            <a:avLst/>
          </a:prstGeom>
          <a:solidFill>
            <a:srgbClr val="ffff00"/>
          </a:solidFill>
          <a:ln w="889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3203640" y="1916280"/>
            <a:ext cx="503280" cy="934920"/>
          </a:xfrm>
          <a:custGeom>
            <a:avLst/>
            <a:gdLst>
              <a:gd name="textAreaLeft" fmla="*/ 73440 w 503280"/>
              <a:gd name="textAreaRight" fmla="*/ 429840 w 503280"/>
              <a:gd name="textAreaTop" fmla="*/ 73440 h 934920"/>
              <a:gd name="textAreaBottom" fmla="*/ 861480 h 934920"/>
            </a:gdLst>
            <a:ahLst/>
            <a:rect l="textAreaLeft" t="textAreaTop" r="textAreaRight" b="textAreaBottom"/>
            <a:pathLst>
              <a:path w="21600" h="40112">
                <a:moveTo>
                  <a:pt x="10800" y="0"/>
                </a:moveTo>
                <a:arcTo wR="10800" hR="10800" stAng="16200000" swAng="-5400000"/>
                <a:lnTo>
                  <a:pt x="0" y="29312"/>
                </a:lnTo>
                <a:arcTo wR="10800" hR="10800" stAng="10800000" swAng="-5400000"/>
                <a:lnTo>
                  <a:pt x="10800" y="401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5364000" y="1916280"/>
            <a:ext cx="503280" cy="934920"/>
          </a:xfrm>
          <a:custGeom>
            <a:avLst/>
            <a:gdLst>
              <a:gd name="textAreaLeft" fmla="*/ 73440 w 503280"/>
              <a:gd name="textAreaRight" fmla="*/ 429840 w 503280"/>
              <a:gd name="textAreaTop" fmla="*/ 73440 h 934920"/>
              <a:gd name="textAreaBottom" fmla="*/ 861480 h 934920"/>
            </a:gdLst>
            <a:ahLst/>
            <a:rect l="textAreaLeft" t="textAreaTop" r="textAreaRight" b="textAreaBottom"/>
            <a:pathLst>
              <a:path w="21600" h="40112">
                <a:moveTo>
                  <a:pt x="10800" y="0"/>
                </a:moveTo>
                <a:arcTo wR="10800" hR="10800" stAng="16200000" swAng="-5400000"/>
                <a:lnTo>
                  <a:pt x="0" y="29312"/>
                </a:lnTo>
                <a:arcTo wR="10800" hR="10800" stAng="10800000" swAng="-5400000"/>
                <a:lnTo>
                  <a:pt x="10800" y="401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AutoShape 5"/>
          <p:cNvSpPr/>
          <p:nvPr/>
        </p:nvSpPr>
        <p:spPr>
          <a:xfrm flipV="1" rot="5400000">
            <a:off x="3410640" y="2141280"/>
            <a:ext cx="2249640" cy="482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WordArt 6"/>
          <p:cNvSpPr txBox="1"/>
          <p:nvPr/>
        </p:nvSpPr>
        <p:spPr>
          <a:xfrm>
            <a:off x="2484360" y="2997360"/>
            <a:ext cx="410544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1151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MILIN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0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39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WordArt 2"/>
          <p:cNvSpPr txBox="1"/>
          <p:nvPr/>
        </p:nvSpPr>
        <p:spPr>
          <a:xfrm>
            <a:off x="703440" y="2708280"/>
            <a:ext cx="77468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Sparkling</a:t>
            </a:r>
            <a:endParaRPr b="0" lang="en-US" sz="2400" spc="-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3" name="AutoShape 3"/>
          <p:cNvSpPr/>
          <p:nvPr/>
        </p:nvSpPr>
        <p:spPr>
          <a:xfrm rot="18900000">
            <a:off x="609480" y="2420640"/>
            <a:ext cx="628920" cy="685800"/>
          </a:xfrm>
          <a:custGeom>
            <a:avLst/>
            <a:gdLst>
              <a:gd name="textAreaLeft" fmla="*/ 259200 w 628920"/>
              <a:gd name="textAreaRight" fmla="*/ 369720 w 62892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608040" y="2419200"/>
            <a:ext cx="631800" cy="689040"/>
          </a:xfrm>
          <a:custGeom>
            <a:avLst/>
            <a:gdLst>
              <a:gd name="textAreaLeft" fmla="*/ 260280 w 631800"/>
              <a:gd name="textAreaRight" fmla="*/ 371520 w 631800"/>
              <a:gd name="textAreaTop" fmla="*/ 284040 h 689040"/>
              <a:gd name="textAreaBottom" fmla="*/ 405000 h 68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520560" y="2325600"/>
            <a:ext cx="806760" cy="876240"/>
            <a:chOff x="520560" y="2325600"/>
            <a:chExt cx="806760" cy="876240"/>
          </a:xfrm>
        </p:grpSpPr>
        <p:sp>
          <p:nvSpPr>
            <p:cNvPr id="676" name="AutoShape 6"/>
            <p:cNvSpPr/>
            <p:nvPr/>
          </p:nvSpPr>
          <p:spPr>
            <a:xfrm rot="18900000">
              <a:off x="561960" y="2563920"/>
              <a:ext cx="731160" cy="398520"/>
            </a:xfrm>
            <a:custGeom>
              <a:avLst/>
              <a:gdLst>
                <a:gd name="textAreaLeft" fmla="*/ 301320 w 731160"/>
                <a:gd name="textAreaRight" fmla="*/ 429840 w 731160"/>
                <a:gd name="textAreaTop" fmla="*/ 164160 h 398520"/>
                <a:gd name="textAreaBottom" fmla="*/ 23436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AutoShape 7"/>
            <p:cNvSpPr/>
            <p:nvPr/>
          </p:nvSpPr>
          <p:spPr>
            <a:xfrm>
              <a:off x="520560" y="2325600"/>
              <a:ext cx="806760" cy="876240"/>
            </a:xfrm>
            <a:custGeom>
              <a:avLst/>
              <a:gdLst>
                <a:gd name="textAreaLeft" fmla="*/ 332280 w 806760"/>
                <a:gd name="textAreaRight" fmla="*/ 474480 w 806760"/>
                <a:gd name="textAreaTop" fmla="*/ 361080 h 876240"/>
                <a:gd name="textAreaBottom" fmla="*/ 515160 h 87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8" name="Group 8"/>
          <p:cNvGrpSpPr/>
          <p:nvPr/>
        </p:nvGrpSpPr>
        <p:grpSpPr>
          <a:xfrm>
            <a:off x="390960" y="2216160"/>
            <a:ext cx="1073520" cy="1095480"/>
            <a:chOff x="390960" y="2216160"/>
            <a:chExt cx="1073520" cy="1095480"/>
          </a:xfrm>
        </p:grpSpPr>
        <p:sp>
          <p:nvSpPr>
            <p:cNvPr id="679" name="AutoShape 9"/>
            <p:cNvSpPr/>
            <p:nvPr/>
          </p:nvSpPr>
          <p:spPr>
            <a:xfrm flipV="1" rot="2700000">
              <a:off x="436680" y="2495160"/>
              <a:ext cx="981720" cy="536400"/>
            </a:xfrm>
            <a:custGeom>
              <a:avLst/>
              <a:gdLst>
                <a:gd name="textAreaLeft" fmla="*/ 450360 w 981720"/>
                <a:gd name="textAreaRight" fmla="*/ 531360 w 981720"/>
                <a:gd name="textAreaTop" fmla="*/ 246240 h 536400"/>
                <a:gd name="textAreaBottom" fmla="*/ 290160 h 5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2" y="9912"/>
                  </a:lnTo>
                  <a:lnTo>
                    <a:pt x="10800" y="0"/>
                  </a:lnTo>
                  <a:lnTo>
                    <a:pt x="11688" y="9912"/>
                  </a:lnTo>
                  <a:lnTo>
                    <a:pt x="21600" y="10800"/>
                  </a:lnTo>
                  <a:lnTo>
                    <a:pt x="11688" y="11688"/>
                  </a:lnTo>
                  <a:lnTo>
                    <a:pt x="10800" y="21600"/>
                  </a:lnTo>
                  <a:lnTo>
                    <a:pt x="9912" y="1168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AutoShape 10"/>
            <p:cNvSpPr/>
            <p:nvPr/>
          </p:nvSpPr>
          <p:spPr>
            <a:xfrm>
              <a:off x="420840" y="2216160"/>
              <a:ext cx="1006200" cy="1095480"/>
            </a:xfrm>
            <a:custGeom>
              <a:avLst/>
              <a:gdLst>
                <a:gd name="textAreaLeft" fmla="*/ 441000 w 1006200"/>
                <a:gd name="textAreaRight" fmla="*/ 565200 w 1006200"/>
                <a:gd name="textAreaTop" fmla="*/ 479880 h 1095480"/>
                <a:gd name="textAreaBottom" fmla="*/ 615600 h 10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464" y="9464"/>
                  </a:lnTo>
                  <a:lnTo>
                    <a:pt x="10800" y="0"/>
                  </a:lnTo>
                  <a:lnTo>
                    <a:pt x="12136" y="9464"/>
                  </a:lnTo>
                  <a:lnTo>
                    <a:pt x="21600" y="10800"/>
                  </a:lnTo>
                  <a:lnTo>
                    <a:pt x="12136" y="12136"/>
                  </a:lnTo>
                  <a:lnTo>
                    <a:pt x="10800" y="21600"/>
                  </a:lnTo>
                  <a:lnTo>
                    <a:pt x="9464" y="1213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1" name="Group 11"/>
          <p:cNvGrpSpPr/>
          <p:nvPr/>
        </p:nvGrpSpPr>
        <p:grpSpPr>
          <a:xfrm>
            <a:off x="487440" y="2361960"/>
            <a:ext cx="873000" cy="803160"/>
            <a:chOff x="487440" y="2361960"/>
            <a:chExt cx="873000" cy="803160"/>
          </a:xfrm>
        </p:grpSpPr>
        <p:sp>
          <p:nvSpPr>
            <p:cNvPr id="682" name="AutoShape 12"/>
            <p:cNvSpPr/>
            <p:nvPr/>
          </p:nvSpPr>
          <p:spPr>
            <a:xfrm flipV="1" rot="8100000">
              <a:off x="612000" y="2590560"/>
              <a:ext cx="630720" cy="344160"/>
            </a:xfrm>
            <a:custGeom>
              <a:avLst/>
              <a:gdLst>
                <a:gd name="textAreaLeft" fmla="*/ 259920 w 630720"/>
                <a:gd name="textAreaRight" fmla="*/ 370800 w 630720"/>
                <a:gd name="textAreaTop" fmla="*/ 141840 h 344160"/>
                <a:gd name="textAreaBottom" fmla="*/ 202320 h 3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AutoShape 13"/>
            <p:cNvSpPr/>
            <p:nvPr/>
          </p:nvSpPr>
          <p:spPr>
            <a:xfrm rot="16200000">
              <a:off x="522360" y="2327040"/>
              <a:ext cx="803160" cy="873000"/>
            </a:xfrm>
            <a:custGeom>
              <a:avLst/>
              <a:gdLst>
                <a:gd name="textAreaLeft" fmla="*/ 330840 w 803160"/>
                <a:gd name="textAreaRight" fmla="*/ 472320 w 803160"/>
                <a:gd name="textAreaTop" fmla="*/ 359640 h 873000"/>
                <a:gd name="textAreaBottom" fmla="*/ 513360 h 87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AutoShape 14"/>
          <p:cNvSpPr/>
          <p:nvPr/>
        </p:nvSpPr>
        <p:spPr>
          <a:xfrm>
            <a:off x="608040" y="2419200"/>
            <a:ext cx="631800" cy="689040"/>
          </a:xfrm>
          <a:custGeom>
            <a:avLst/>
            <a:gdLst>
              <a:gd name="textAreaLeft" fmla="*/ 281520 w 631800"/>
              <a:gd name="textAreaRight" fmla="*/ 350280 w 631800"/>
              <a:gd name="textAreaTop" fmla="*/ 307080 h 689040"/>
              <a:gd name="textAreaBottom" fmla="*/ 381960 h 689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30" y="9630"/>
                </a:lnTo>
                <a:lnTo>
                  <a:pt x="10800" y="0"/>
                </a:lnTo>
                <a:lnTo>
                  <a:pt x="11970" y="9630"/>
                </a:lnTo>
                <a:lnTo>
                  <a:pt x="21600" y="10800"/>
                </a:lnTo>
                <a:lnTo>
                  <a:pt x="11970" y="11970"/>
                </a:lnTo>
                <a:lnTo>
                  <a:pt x="10800" y="21600"/>
                </a:lnTo>
                <a:lnTo>
                  <a:pt x="9630" y="1197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15"/>
          <p:cNvSpPr/>
          <p:nvPr/>
        </p:nvSpPr>
        <p:spPr>
          <a:xfrm rot="18900000">
            <a:off x="611280" y="2420640"/>
            <a:ext cx="628560" cy="685800"/>
          </a:xfrm>
          <a:custGeom>
            <a:avLst/>
            <a:gdLst>
              <a:gd name="textAreaLeft" fmla="*/ 277200 w 628560"/>
              <a:gd name="textAreaRight" fmla="*/ 351360 w 628560"/>
              <a:gd name="textAreaTop" fmla="*/ 302760 h 685800"/>
              <a:gd name="textAreaBottom" fmla="*/ 3830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32" y="9532"/>
                </a:lnTo>
                <a:lnTo>
                  <a:pt x="10800" y="0"/>
                </a:lnTo>
                <a:lnTo>
                  <a:pt x="12068" y="9532"/>
                </a:lnTo>
                <a:lnTo>
                  <a:pt x="21600" y="10800"/>
                </a:lnTo>
                <a:lnTo>
                  <a:pt x="12068" y="12068"/>
                </a:lnTo>
                <a:lnTo>
                  <a:pt x="10800" y="21600"/>
                </a:lnTo>
                <a:lnTo>
                  <a:pt x="9532" y="1206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16"/>
          <p:cNvSpPr/>
          <p:nvPr/>
        </p:nvSpPr>
        <p:spPr>
          <a:xfrm rot="18900000">
            <a:off x="4295520" y="2361960"/>
            <a:ext cx="571320" cy="622080"/>
          </a:xfrm>
          <a:custGeom>
            <a:avLst/>
            <a:gdLst>
              <a:gd name="textAreaLeft" fmla="*/ 235440 w 571320"/>
              <a:gd name="textAreaRight" fmla="*/ 335880 w 571320"/>
              <a:gd name="textAreaTop" fmla="*/ 256320 h 622080"/>
              <a:gd name="textAreaBottom" fmla="*/ 365760 h 622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17"/>
          <p:cNvSpPr/>
          <p:nvPr/>
        </p:nvSpPr>
        <p:spPr>
          <a:xfrm>
            <a:off x="4086360" y="2133720"/>
            <a:ext cx="990360" cy="1081080"/>
          </a:xfrm>
          <a:custGeom>
            <a:avLst/>
            <a:gdLst>
              <a:gd name="textAreaLeft" fmla="*/ 407880 w 990360"/>
              <a:gd name="textAreaRight" fmla="*/ 582480 w 990360"/>
              <a:gd name="textAreaTop" fmla="*/ 445320 h 1081080"/>
              <a:gd name="textAreaBottom" fmla="*/ 6357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Group 18"/>
          <p:cNvGrpSpPr/>
          <p:nvPr/>
        </p:nvGrpSpPr>
        <p:grpSpPr>
          <a:xfrm>
            <a:off x="3952800" y="1989000"/>
            <a:ext cx="1258200" cy="1368360"/>
            <a:chOff x="3952800" y="1989000"/>
            <a:chExt cx="1258200" cy="1368360"/>
          </a:xfrm>
        </p:grpSpPr>
        <p:sp>
          <p:nvSpPr>
            <p:cNvPr id="689" name="AutoShape 19"/>
            <p:cNvSpPr/>
            <p:nvPr/>
          </p:nvSpPr>
          <p:spPr>
            <a:xfrm rot="18900000">
              <a:off x="4017960" y="2361600"/>
              <a:ext cx="1139760" cy="622440"/>
            </a:xfrm>
            <a:custGeom>
              <a:avLst/>
              <a:gdLst>
                <a:gd name="textAreaLeft" fmla="*/ 469440 w 1139760"/>
                <a:gd name="textAreaRight" fmla="*/ 670320 w 1139760"/>
                <a:gd name="textAreaTop" fmla="*/ 256320 h 622440"/>
                <a:gd name="textAreaBottom" fmla="*/ 3661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AutoShape 20"/>
            <p:cNvSpPr/>
            <p:nvPr/>
          </p:nvSpPr>
          <p:spPr>
            <a:xfrm>
              <a:off x="3952800" y="1989000"/>
              <a:ext cx="1257480" cy="1368360"/>
            </a:xfrm>
            <a:custGeom>
              <a:avLst/>
              <a:gdLst>
                <a:gd name="textAreaLeft" fmla="*/ 518040 w 1257480"/>
                <a:gd name="textAreaRight" fmla="*/ 739440 w 1257480"/>
                <a:gd name="textAreaTop" fmla="*/ 563760 h 1368360"/>
                <a:gd name="textAreaBottom" fmla="*/ 80460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" name="Group 21"/>
          <p:cNvGrpSpPr/>
          <p:nvPr/>
        </p:nvGrpSpPr>
        <p:grpSpPr>
          <a:xfrm>
            <a:off x="3749040" y="1817640"/>
            <a:ext cx="1676520" cy="1711440"/>
            <a:chOff x="3749040" y="1817640"/>
            <a:chExt cx="1676520" cy="1711440"/>
          </a:xfrm>
        </p:grpSpPr>
        <p:sp>
          <p:nvSpPr>
            <p:cNvPr id="692" name="AutoShape 22"/>
            <p:cNvSpPr/>
            <p:nvPr/>
          </p:nvSpPr>
          <p:spPr>
            <a:xfrm flipV="1" rot="2700000">
              <a:off x="3820680" y="2253240"/>
              <a:ext cx="1532880" cy="838080"/>
            </a:xfrm>
            <a:custGeom>
              <a:avLst/>
              <a:gdLst>
                <a:gd name="textAreaLeft" fmla="*/ 703440 w 1532880"/>
                <a:gd name="textAreaRight" fmla="*/ 829440 w 1532880"/>
                <a:gd name="textAreaTop" fmla="*/ 384480 h 838080"/>
                <a:gd name="textAreaBottom" fmla="*/ 45360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2" y="9912"/>
                  </a:lnTo>
                  <a:lnTo>
                    <a:pt x="10800" y="0"/>
                  </a:lnTo>
                  <a:lnTo>
                    <a:pt x="11688" y="9912"/>
                  </a:lnTo>
                  <a:lnTo>
                    <a:pt x="21600" y="10800"/>
                  </a:lnTo>
                  <a:lnTo>
                    <a:pt x="11688" y="11688"/>
                  </a:lnTo>
                  <a:lnTo>
                    <a:pt x="10800" y="21600"/>
                  </a:lnTo>
                  <a:lnTo>
                    <a:pt x="9912" y="1168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AutoShape 23"/>
            <p:cNvSpPr/>
            <p:nvPr/>
          </p:nvSpPr>
          <p:spPr>
            <a:xfrm>
              <a:off x="3795840" y="1817640"/>
              <a:ext cx="1571400" cy="1711440"/>
            </a:xfrm>
            <a:custGeom>
              <a:avLst/>
              <a:gdLst>
                <a:gd name="textAreaLeft" fmla="*/ 688680 w 1571400"/>
                <a:gd name="textAreaRight" fmla="*/ 882720 w 1571400"/>
                <a:gd name="textAreaTop" fmla="*/ 749880 h 1711440"/>
                <a:gd name="textAreaBottom" fmla="*/ 96156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464" y="9464"/>
                  </a:lnTo>
                  <a:lnTo>
                    <a:pt x="10800" y="0"/>
                  </a:lnTo>
                  <a:lnTo>
                    <a:pt x="12136" y="9464"/>
                  </a:lnTo>
                  <a:lnTo>
                    <a:pt x="21600" y="10800"/>
                  </a:lnTo>
                  <a:lnTo>
                    <a:pt x="12136" y="12136"/>
                  </a:lnTo>
                  <a:lnTo>
                    <a:pt x="10800" y="21600"/>
                  </a:lnTo>
                  <a:lnTo>
                    <a:pt x="9464" y="1213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4" name="Group 24"/>
          <p:cNvGrpSpPr/>
          <p:nvPr/>
        </p:nvGrpSpPr>
        <p:grpSpPr>
          <a:xfrm>
            <a:off x="3897360" y="2044800"/>
            <a:ext cx="1368360" cy="1257120"/>
            <a:chOff x="3897360" y="2044800"/>
            <a:chExt cx="1368360" cy="1257120"/>
          </a:xfrm>
        </p:grpSpPr>
        <p:sp>
          <p:nvSpPr>
            <p:cNvPr id="695" name="AutoShape 25"/>
            <p:cNvSpPr/>
            <p:nvPr/>
          </p:nvSpPr>
          <p:spPr>
            <a:xfrm flipV="1" rot="8100000">
              <a:off x="4094280" y="2402280"/>
              <a:ext cx="987120" cy="539640"/>
            </a:xfrm>
            <a:custGeom>
              <a:avLst/>
              <a:gdLst>
                <a:gd name="textAreaLeft" fmla="*/ 406800 w 987120"/>
                <a:gd name="textAreaRight" fmla="*/ 580320 w 987120"/>
                <a:gd name="textAreaTop" fmla="*/ 222480 h 539640"/>
                <a:gd name="textAreaBottom" fmla="*/ 31716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AutoShape 26"/>
            <p:cNvSpPr/>
            <p:nvPr/>
          </p:nvSpPr>
          <p:spPr>
            <a:xfrm rot="16200000">
              <a:off x="3952800" y="1989000"/>
              <a:ext cx="1257120" cy="1368360"/>
            </a:xfrm>
            <a:custGeom>
              <a:avLst/>
              <a:gdLst>
                <a:gd name="textAreaLeft" fmla="*/ 518040 w 1257120"/>
                <a:gd name="textAreaRight" fmla="*/ 739080 w 1257120"/>
                <a:gd name="textAreaTop" fmla="*/ 563760 h 1368360"/>
                <a:gd name="textAreaBottom" fmla="*/ 80460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7" name="AutoShape 27"/>
          <p:cNvSpPr/>
          <p:nvPr/>
        </p:nvSpPr>
        <p:spPr>
          <a:xfrm>
            <a:off x="4086360" y="2133720"/>
            <a:ext cx="990360" cy="1081080"/>
          </a:xfrm>
          <a:custGeom>
            <a:avLst/>
            <a:gdLst>
              <a:gd name="textAreaLeft" fmla="*/ 441360 w 990360"/>
              <a:gd name="textAreaRight" fmla="*/ 549000 w 990360"/>
              <a:gd name="textAreaTop" fmla="*/ 482040 h 1081080"/>
              <a:gd name="textAreaBottom" fmla="*/ 599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30" y="9630"/>
                </a:lnTo>
                <a:lnTo>
                  <a:pt x="10800" y="0"/>
                </a:lnTo>
                <a:lnTo>
                  <a:pt x="11970" y="9630"/>
                </a:lnTo>
                <a:lnTo>
                  <a:pt x="21600" y="10800"/>
                </a:lnTo>
                <a:lnTo>
                  <a:pt x="11970" y="11970"/>
                </a:lnTo>
                <a:lnTo>
                  <a:pt x="10800" y="21600"/>
                </a:lnTo>
                <a:lnTo>
                  <a:pt x="9630" y="1197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AutoShape 28"/>
          <p:cNvSpPr/>
          <p:nvPr/>
        </p:nvSpPr>
        <p:spPr>
          <a:xfrm rot="18900000">
            <a:off x="4297320" y="2362320"/>
            <a:ext cx="571680" cy="622080"/>
          </a:xfrm>
          <a:custGeom>
            <a:avLst/>
            <a:gdLst>
              <a:gd name="textAreaLeft" fmla="*/ 252360 w 571680"/>
              <a:gd name="textAreaRight" fmla="*/ 319320 w 571680"/>
              <a:gd name="textAreaTop" fmla="*/ 274320 h 622080"/>
              <a:gd name="textAreaBottom" fmla="*/ 347760 h 622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32" y="9532"/>
                </a:lnTo>
                <a:lnTo>
                  <a:pt x="10800" y="0"/>
                </a:lnTo>
                <a:lnTo>
                  <a:pt x="12068" y="9532"/>
                </a:lnTo>
                <a:lnTo>
                  <a:pt x="21600" y="10800"/>
                </a:lnTo>
                <a:lnTo>
                  <a:pt x="12068" y="12068"/>
                </a:lnTo>
                <a:lnTo>
                  <a:pt x="10800" y="21600"/>
                </a:lnTo>
                <a:lnTo>
                  <a:pt x="9532" y="1206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AutoShape 29"/>
          <p:cNvSpPr/>
          <p:nvPr/>
        </p:nvSpPr>
        <p:spPr>
          <a:xfrm rot="18900000">
            <a:off x="8205840" y="2741400"/>
            <a:ext cx="488880" cy="533160"/>
          </a:xfrm>
          <a:custGeom>
            <a:avLst/>
            <a:gdLst>
              <a:gd name="textAreaLeft" fmla="*/ 201240 w 488880"/>
              <a:gd name="textAreaRight" fmla="*/ 287640 w 488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AutoShape 30"/>
          <p:cNvSpPr/>
          <p:nvPr/>
        </p:nvSpPr>
        <p:spPr>
          <a:xfrm>
            <a:off x="8205840" y="2741760"/>
            <a:ext cx="488880" cy="533160"/>
          </a:xfrm>
          <a:custGeom>
            <a:avLst/>
            <a:gdLst>
              <a:gd name="textAreaLeft" fmla="*/ 201240 w 488880"/>
              <a:gd name="textAreaRight" fmla="*/ 287640 w 488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1" name="Group 31"/>
          <p:cNvGrpSpPr/>
          <p:nvPr/>
        </p:nvGrpSpPr>
        <p:grpSpPr>
          <a:xfrm>
            <a:off x="8142120" y="2673360"/>
            <a:ext cx="615960" cy="669960"/>
            <a:chOff x="8142120" y="2673360"/>
            <a:chExt cx="615960" cy="669960"/>
          </a:xfrm>
        </p:grpSpPr>
        <p:sp>
          <p:nvSpPr>
            <p:cNvPr id="702" name="AutoShape 32"/>
            <p:cNvSpPr/>
            <p:nvPr/>
          </p:nvSpPr>
          <p:spPr>
            <a:xfrm rot="18900000">
              <a:off x="8173440" y="2855520"/>
              <a:ext cx="558360" cy="304560"/>
            </a:xfrm>
            <a:custGeom>
              <a:avLst/>
              <a:gdLst>
                <a:gd name="textAreaLeft" fmla="*/ 230040 w 558360"/>
                <a:gd name="textAreaRight" fmla="*/ 328320 w 558360"/>
                <a:gd name="textAreaTop" fmla="*/ 125280 h 304560"/>
                <a:gd name="textAreaBottom" fmla="*/ 179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AutoShape 33"/>
            <p:cNvSpPr/>
            <p:nvPr/>
          </p:nvSpPr>
          <p:spPr>
            <a:xfrm>
              <a:off x="8142120" y="2673360"/>
              <a:ext cx="615960" cy="669960"/>
            </a:xfrm>
            <a:custGeom>
              <a:avLst/>
              <a:gdLst>
                <a:gd name="textAreaLeft" fmla="*/ 253800 w 615960"/>
                <a:gd name="textAreaRight" fmla="*/ 362160 w 615960"/>
                <a:gd name="textAreaTop" fmla="*/ 276120 h 669960"/>
                <a:gd name="textAreaBottom" fmla="*/ 393840 h 66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Group 34"/>
          <p:cNvGrpSpPr/>
          <p:nvPr/>
        </p:nvGrpSpPr>
        <p:grpSpPr>
          <a:xfrm>
            <a:off x="8041320" y="2587680"/>
            <a:ext cx="823320" cy="841320"/>
            <a:chOff x="8041320" y="2587680"/>
            <a:chExt cx="823320" cy="841320"/>
          </a:xfrm>
        </p:grpSpPr>
        <p:sp>
          <p:nvSpPr>
            <p:cNvPr id="705" name="AutoShape 35"/>
            <p:cNvSpPr/>
            <p:nvPr/>
          </p:nvSpPr>
          <p:spPr>
            <a:xfrm flipV="1" rot="2700000">
              <a:off x="8076240" y="2801520"/>
              <a:ext cx="753120" cy="411480"/>
            </a:xfrm>
            <a:custGeom>
              <a:avLst/>
              <a:gdLst>
                <a:gd name="textAreaLeft" fmla="*/ 345600 w 753120"/>
                <a:gd name="textAreaRight" fmla="*/ 407520 w 753120"/>
                <a:gd name="textAreaTop" fmla="*/ 188640 h 411480"/>
                <a:gd name="textAreaBottom" fmla="*/ 222840 h 4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2" y="9912"/>
                  </a:lnTo>
                  <a:lnTo>
                    <a:pt x="10800" y="0"/>
                  </a:lnTo>
                  <a:lnTo>
                    <a:pt x="11688" y="9912"/>
                  </a:lnTo>
                  <a:lnTo>
                    <a:pt x="21600" y="10800"/>
                  </a:lnTo>
                  <a:lnTo>
                    <a:pt x="11688" y="11688"/>
                  </a:lnTo>
                  <a:lnTo>
                    <a:pt x="10800" y="21600"/>
                  </a:lnTo>
                  <a:lnTo>
                    <a:pt x="9912" y="1168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AutoShape 36"/>
            <p:cNvSpPr/>
            <p:nvPr/>
          </p:nvSpPr>
          <p:spPr>
            <a:xfrm>
              <a:off x="8064360" y="2587680"/>
              <a:ext cx="771840" cy="841320"/>
            </a:xfrm>
            <a:custGeom>
              <a:avLst/>
              <a:gdLst>
                <a:gd name="textAreaLeft" fmla="*/ 338040 w 771840"/>
                <a:gd name="textAreaRight" fmla="*/ 433800 w 771840"/>
                <a:gd name="textAreaTop" fmla="*/ 368640 h 841320"/>
                <a:gd name="textAreaBottom" fmla="*/ 47268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464" y="9464"/>
                  </a:lnTo>
                  <a:lnTo>
                    <a:pt x="10800" y="0"/>
                  </a:lnTo>
                  <a:lnTo>
                    <a:pt x="12136" y="9464"/>
                  </a:lnTo>
                  <a:lnTo>
                    <a:pt x="21600" y="10800"/>
                  </a:lnTo>
                  <a:lnTo>
                    <a:pt x="12136" y="12136"/>
                  </a:lnTo>
                  <a:lnTo>
                    <a:pt x="10800" y="21600"/>
                  </a:lnTo>
                  <a:lnTo>
                    <a:pt x="9464" y="1213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Group 37"/>
          <p:cNvGrpSpPr/>
          <p:nvPr/>
        </p:nvGrpSpPr>
        <p:grpSpPr>
          <a:xfrm>
            <a:off x="8115480" y="2700000"/>
            <a:ext cx="669600" cy="615960"/>
            <a:chOff x="8115480" y="2700000"/>
            <a:chExt cx="669600" cy="615960"/>
          </a:xfrm>
        </p:grpSpPr>
        <p:sp>
          <p:nvSpPr>
            <p:cNvPr id="708" name="AutoShape 38"/>
            <p:cNvSpPr/>
            <p:nvPr/>
          </p:nvSpPr>
          <p:spPr>
            <a:xfrm flipV="1" rot="8100000">
              <a:off x="8210880" y="2875320"/>
              <a:ext cx="483840" cy="263880"/>
            </a:xfrm>
            <a:custGeom>
              <a:avLst/>
              <a:gdLst>
                <a:gd name="textAreaLeft" fmla="*/ 199440 w 483840"/>
                <a:gd name="textAreaRight" fmla="*/ 284400 w 483840"/>
                <a:gd name="textAreaTop" fmla="*/ 108720 h 263880"/>
                <a:gd name="textAreaBottom" fmla="*/ 155160 h 26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39"/>
            <p:cNvSpPr/>
            <p:nvPr/>
          </p:nvSpPr>
          <p:spPr>
            <a:xfrm rot="16200000">
              <a:off x="8142120" y="2673000"/>
              <a:ext cx="615960" cy="669600"/>
            </a:xfrm>
            <a:custGeom>
              <a:avLst/>
              <a:gdLst>
                <a:gd name="textAreaLeft" fmla="*/ 253800 w 615960"/>
                <a:gd name="textAreaRight" fmla="*/ 362160 w 615960"/>
                <a:gd name="textAreaTop" fmla="*/ 275760 h 669600"/>
                <a:gd name="textAreaBottom" fmla="*/ 393840 h 66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AutoShape 40"/>
          <p:cNvSpPr/>
          <p:nvPr/>
        </p:nvSpPr>
        <p:spPr>
          <a:xfrm>
            <a:off x="8205840" y="2741760"/>
            <a:ext cx="488880" cy="533160"/>
          </a:xfrm>
          <a:custGeom>
            <a:avLst/>
            <a:gdLst>
              <a:gd name="textAreaLeft" fmla="*/ 217800 w 488880"/>
              <a:gd name="textAreaRight" fmla="*/ 271080 w 488880"/>
              <a:gd name="textAreaTop" fmla="*/ 237600 h 533160"/>
              <a:gd name="textAreaBottom" fmla="*/ 295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630" y="9630"/>
                </a:lnTo>
                <a:lnTo>
                  <a:pt x="10800" y="0"/>
                </a:lnTo>
                <a:lnTo>
                  <a:pt x="11970" y="9630"/>
                </a:lnTo>
                <a:lnTo>
                  <a:pt x="21600" y="10800"/>
                </a:lnTo>
                <a:lnTo>
                  <a:pt x="11970" y="11970"/>
                </a:lnTo>
                <a:lnTo>
                  <a:pt x="10800" y="21600"/>
                </a:lnTo>
                <a:lnTo>
                  <a:pt x="9630" y="1197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AutoShape 41"/>
          <p:cNvSpPr/>
          <p:nvPr/>
        </p:nvSpPr>
        <p:spPr>
          <a:xfrm rot="18900000">
            <a:off x="8207280" y="2741400"/>
            <a:ext cx="488880" cy="533160"/>
          </a:xfrm>
          <a:custGeom>
            <a:avLst/>
            <a:gdLst>
              <a:gd name="textAreaLeft" fmla="*/ 215640 w 488880"/>
              <a:gd name="textAreaRight" fmla="*/ 273240 w 488880"/>
              <a:gd name="textAreaTop" fmla="*/ 235080 h 533160"/>
              <a:gd name="textAreaBottom" fmla="*/ 2980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32" y="9532"/>
                </a:lnTo>
                <a:lnTo>
                  <a:pt x="10800" y="0"/>
                </a:lnTo>
                <a:lnTo>
                  <a:pt x="12068" y="9532"/>
                </a:lnTo>
                <a:lnTo>
                  <a:pt x="21600" y="10800"/>
                </a:lnTo>
                <a:lnTo>
                  <a:pt x="12068" y="12068"/>
                </a:lnTo>
                <a:lnTo>
                  <a:pt x="10800" y="21600"/>
                </a:lnTo>
                <a:lnTo>
                  <a:pt x="9532" y="12068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0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3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3" dur="3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3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3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3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3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3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3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3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3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6" dur="3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3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2" dur="3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8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4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0" dur="3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6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3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9" dur="3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3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5" dur="3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3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1" dur="3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3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7" dur="3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3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3" dur="3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3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9" dur="3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3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5" dur="3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AutoShape 2"/>
          <p:cNvSpPr/>
          <p:nvPr/>
        </p:nvSpPr>
        <p:spPr>
          <a:xfrm>
            <a:off x="417600" y="765000"/>
            <a:ext cx="4441680" cy="2951280"/>
          </a:xfrm>
          <a:prstGeom prst="wedgeRoundRectCallout">
            <a:avLst>
              <a:gd name="adj1" fmla="val 28986"/>
              <a:gd name="adj2" fmla="val 83513"/>
              <a:gd name="adj3" fmla="val 16667"/>
            </a:avLst>
          </a:prstGeom>
          <a:solidFill>
            <a:srgbClr val="ffffff"/>
          </a:solidFill>
          <a:ln w="889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AutoShape 3"/>
          <p:cNvSpPr/>
          <p:nvPr/>
        </p:nvSpPr>
        <p:spPr>
          <a:xfrm>
            <a:off x="5219640" y="836640"/>
            <a:ext cx="3600360" cy="2952720"/>
          </a:xfrm>
          <a:prstGeom prst="wedgeRectCallout">
            <a:avLst>
              <a:gd name="adj1" fmla="val -42944"/>
              <a:gd name="adj2" fmla="val 79462"/>
            </a:avLst>
          </a:prstGeom>
          <a:solidFill>
            <a:srgbClr val="ffffff"/>
          </a:solidFill>
          <a:ln w="889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665280" y="1197000"/>
            <a:ext cx="1183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3300"/>
                </a:solidFill>
                <a:latin typeface="Arial Black"/>
                <a:ea typeface="宋体"/>
              </a:rPr>
              <a:t>T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5669280" y="-2401920"/>
            <a:ext cx="2869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3300"/>
                </a:solidFill>
                <a:latin typeface="Arial Black"/>
                <a:ea typeface="宋体"/>
              </a:rPr>
              <a:t>ing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1977120" y="-2185920"/>
            <a:ext cx="262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3300"/>
                </a:solidFill>
                <a:latin typeface="Arial Black"/>
                <a:ea typeface="宋体"/>
              </a:rPr>
              <a:t>alk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未知"/>
          <p:cNvSpPr/>
          <p:nvPr/>
        </p:nvSpPr>
        <p:spPr>
          <a:xfrm>
            <a:off x="5013360" y="4821120"/>
            <a:ext cx="1574640" cy="2208240"/>
          </a:xfrm>
          <a:prstGeom prst="pie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未知"/>
          <p:cNvSpPr/>
          <p:nvPr/>
        </p:nvSpPr>
        <p:spPr>
          <a:xfrm>
            <a:off x="2635200" y="4762440"/>
            <a:ext cx="1558800" cy="2230560"/>
          </a:xfrm>
          <a:prstGeom prst="pie">
            <a:avLst/>
          </a:prstGeom>
          <a:solidFill>
            <a:srgbClr val="cc9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0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12 0.55445 C 0.34826 0.53499 0.36458 0.51576 0.36979 0.47892 C 0.375 0.44208 0.42552 0.41381 0.36389 0.33388 C 0.30226 0.25394 0.15122 0.12651 0.00017 -0.00069 E">
                                      <p:cBhvr>
                                        <p:cTn id="1882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3" nodeType="withEffect" fill="hold" presetClass="path" presetID="0">
                                  <p:stCondLst>
                                    <p:cond delay="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.10764 1.05259 C 0.12969 1.03522 0.15173 1.01784 0.15972 0.97521 C 0.16771 0.93258 0.17378 0.85843 0.15538 0.79726 C 0.13698 0.7361 0.07847 0.65778 0.04965 0.60774 C 0.02083 0.55769 -0.0059 0.51575 -0.01702 0.49745 E">
                                      <p:cBhvr>
                                        <p:cTn id="1884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3300"/>
                            </p:stCondLst>
                            <p:childTnLst>
                              <p:par>
                                <p:cTn id="1886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24358 1.07831 C -0.26615 1.06117 -0.28854 1.04425 -0.29149 0.99699 C -0.29444 0.94972 -0.30833 0.8721 -0.26094 0.79402 C -0.21354 0.71594 -0.11059 0.62233 -0.00747 0.52896 E">
                                      <p:cBhvr>
                                        <p:cTn id="1887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 rot="20156400">
            <a:off x="1042920" y="891360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cc99"/>
                </a:solidFill>
                <a:latin typeface="Arial Black"/>
                <a:ea typeface="宋体"/>
              </a:rPr>
              <a:t>UPLOAD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3"/>
          <p:cNvSpPr/>
          <p:nvPr/>
        </p:nvSpPr>
        <p:spPr>
          <a:xfrm rot="20156400">
            <a:off x="984240" y="889740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99ff"/>
                </a:solidFill>
                <a:latin typeface="Arial Black"/>
                <a:ea typeface="宋体"/>
              </a:rPr>
              <a:t>UPLOAD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 rot="20156400">
            <a:off x="946080" y="888948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  <a:ea typeface="宋体"/>
              </a:rPr>
              <a:t>UPLOAD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1.94444E-006 -0.91205 L 0.07101 -0.72276 E">
                                      <p:cBhvr>
                                        <p:cTn id="1893" dur="20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89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.00746 -0.89829 L 0.07847 -0.70899 E">
                                      <p:cBhvr>
                                        <p:cTn id="1896" dur="1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400"/>
                            </p:stCondLst>
                            <p:childTnLst>
                              <p:par>
                                <p:cTn id="1898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1267 -0.88507 L 0.08368 -0.69578 E">
                                      <p:cBhvr>
                                        <p:cTn id="1899" dur="5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1116000" y="25920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WordArt 3"/>
          <p:cNvSpPr txBox="1"/>
          <p:nvPr/>
        </p:nvSpPr>
        <p:spPr>
          <a:xfrm>
            <a:off x="646200" y="2781360"/>
            <a:ext cx="78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Arial Black"/>
              </a:rPr>
              <a:t>VOTING</a:t>
            </a:r>
            <a:endParaRPr b="0" lang="en-US" sz="2400" spc="1" strike="noStrike">
              <a:ln w="381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348000" y="90684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724360" y="4032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7596360" y="1006920"/>
            <a:ext cx="122364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6877080" y="-108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2266920" y="-108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4356000" y="33228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79280" y="835560"/>
            <a:ext cx="1224000" cy="1877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Wingdings"/>
                <a:ea typeface="Wingdings"/>
              </a:rPr>
              <a:t>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fill="hold">
                      <p:stCondLst>
                        <p:cond delay="0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2"/>
          <p:cNvSpPr/>
          <p:nvPr/>
        </p:nvSpPr>
        <p:spPr>
          <a:xfrm>
            <a:off x="1531800" y="388800"/>
            <a:ext cx="6080400" cy="60804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2102040" y="2841480"/>
            <a:ext cx="503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 Black"/>
                <a:ea typeface="宋体"/>
              </a:rPr>
              <a:t>WARNING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mph" presetID="26" repeatCount="3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4" dur="250" autoRev="1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WordArt 2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7520">
                  <a:solidFill>
                    <a:srgbClr val="0f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317520">
                <a:solidFill>
                  <a:srgbClr val="0f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4" name="WordArt 3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4160">
                  <a:solidFill>
                    <a:srgbClr val="19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254160">
                <a:solidFill>
                  <a:srgbClr val="19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5" name="WordArt 4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2120">
                  <a:solidFill>
                    <a:srgbClr val="32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222120">
                <a:solidFill>
                  <a:srgbClr val="32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6" name="WordArt 5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440">
                  <a:solidFill>
                    <a:srgbClr val="64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190440">
                <a:solidFill>
                  <a:srgbClr val="64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7" name="WordArt 6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7080">
                  <a:solidFill>
                    <a:srgbClr val="96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127080">
                <a:solidFill>
                  <a:srgbClr val="96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8" name="WordArt 7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88920">
                  <a:solidFill>
                    <a:srgbClr val="c8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88920">
                <a:solidFill>
                  <a:srgbClr val="c8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39" name="WordArt 8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3360">
                  <a:solidFill>
                    <a:srgbClr val="ff000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63360">
                <a:solidFill>
                  <a:srgbClr val="ff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40" name="WordArt 9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8080"/>
                  </a:solidFill>
                  <a:miter/>
                </a:ln>
                <a:noFill/>
                <a:latin typeface="Arial Black"/>
              </a:rPr>
              <a:t>X-Rating</a:t>
            </a:r>
            <a:endParaRPr b="0" lang="en-US" sz="2400" spc="1" strike="noStrike">
              <a:ln w="38160">
                <a:solidFill>
                  <a:srgbClr val="ff808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741" name="WordArt 10"/>
          <p:cNvSpPr txBox="1"/>
          <p:nvPr/>
        </p:nvSpPr>
        <p:spPr>
          <a:xfrm>
            <a:off x="647640" y="2577960"/>
            <a:ext cx="770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X-Rating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5000">
    <p:strips dir="rd"/>
  </p:transition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0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10" repeatCount="3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0" repeatCount="3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0" repeatCount="3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0" repeatCount="3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0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0" repeatCount="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 repeatCount="3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path" presetID="64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3.05556E-006 -3.7037E-007 L 3.05556E-006 -0.56875 E">
                                      <p:cBhvr>
                                        <p:cTn id="198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1243080" y="7389720"/>
            <a:ext cx="6767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 Black"/>
                <a:ea typeface="宋体"/>
              </a:rPr>
              <a:t>Yawning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未知"/>
          <p:cNvSpPr/>
          <p:nvPr/>
        </p:nvSpPr>
        <p:spPr>
          <a:xfrm>
            <a:off x="6721560" y="4524480"/>
            <a:ext cx="1955880" cy="192384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4" name="Group 4"/>
          <p:cNvGrpSpPr/>
          <p:nvPr/>
        </p:nvGrpSpPr>
        <p:grpSpPr>
          <a:xfrm>
            <a:off x="6611760" y="3284640"/>
            <a:ext cx="3898440" cy="4060080"/>
            <a:chOff x="6611760" y="3284640"/>
            <a:chExt cx="3898440" cy="4060080"/>
          </a:xfrm>
        </p:grpSpPr>
        <p:sp>
          <p:nvSpPr>
            <p:cNvPr id="745" name="未知"/>
            <p:cNvSpPr/>
            <p:nvPr/>
          </p:nvSpPr>
          <p:spPr>
            <a:xfrm>
              <a:off x="6611760" y="3284640"/>
              <a:ext cx="2315880" cy="197640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 rot="10800000">
              <a:off x="8194320" y="5368320"/>
              <a:ext cx="2315880" cy="197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5000">
    <p:strips dir="rd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1993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599819">
                                      <p:cBhvr>
                                        <p:cTn id="1995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4115 -0.47014 C 0.20348 -0.475 0.06302 -0.4338 0.01493 -0.49977 C -0.03316 -0.56574 -0.03455 -0.79005 -0.04757 -0.86644 E">
                                      <p:cBhvr>
                                        <p:cTn id="1997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709920" y="1944720"/>
            <a:ext cx="7768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ffffff"/>
                </a:solidFill>
                <a:latin typeface="Arial Black"/>
                <a:ea typeface="宋体"/>
              </a:rPr>
              <a:t>Zooming</a:t>
            </a:r>
            <a:endParaRPr b="0" lang="en-US" sz="1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7" dur="500" fill="hold"/>
                                        <p:tgtEl>
                                          <p:spTgt spid="74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009" dur="5000" fill="hold"/>
                                        <p:tgtEl>
                                          <p:spTgt spid="74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79520" y="2506680"/>
            <a:ext cx="1130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3399"/>
                </a:solidFill>
                <a:latin typeface="Arial Black"/>
                <a:ea typeface="宋体"/>
              </a:rPr>
              <a:t>A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567800" y="250668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0000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79760" y="2506680"/>
            <a:ext cx="564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9900"/>
                </a:solidFill>
                <a:latin typeface="Arial Black"/>
                <a:ea typeface="宋体"/>
              </a:rPr>
              <a:t>i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67560" y="2506680"/>
            <a:ext cx="1570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cc00"/>
                </a:solidFill>
                <a:latin typeface="Arial Black"/>
                <a:ea typeface="宋体"/>
              </a:rPr>
              <a:t>m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85320" y="2506680"/>
            <a:ext cx="1014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00"/>
                </a:solidFill>
                <a:latin typeface="Arial Black"/>
                <a:ea typeface="宋体"/>
              </a:rPr>
              <a:t>a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557320" y="2506680"/>
            <a:ext cx="71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66ff66"/>
                </a:solidFill>
                <a:latin typeface="Arial Black"/>
                <a:ea typeface="宋体"/>
              </a:rPr>
              <a:t>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8920" y="2506680"/>
            <a:ext cx="564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ffcc"/>
                </a:solidFill>
                <a:latin typeface="Arial Black"/>
                <a:ea typeface="宋体"/>
              </a:rPr>
              <a:t>i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682680" y="250668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ccff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677000" y="2506680"/>
            <a:ext cx="1095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7aff"/>
                </a:solidFill>
                <a:latin typeface="Arial Black"/>
                <a:ea typeface="宋体"/>
              </a:rPr>
              <a:t>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88120" y="2506680"/>
            <a:ext cx="741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Animat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4">
                                  <p:stCondLst>
                                    <p:cond delay="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0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4">
                                  <p:stCondLst>
                                    <p:cond delay="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1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4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4">
                                  <p:stCondLst>
                                    <p:cond delay="4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4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3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3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4">
                                  <p:stCondLst>
                                    <p:cond delay="7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4">
                                  <p:stCondLst>
                                    <p:cond delay="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AutoShape 2"/>
          <p:cNvSpPr/>
          <p:nvPr/>
        </p:nvSpPr>
        <p:spPr>
          <a:xfrm>
            <a:off x="542880" y="1905120"/>
            <a:ext cx="8134560" cy="1523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65440" y="2239200"/>
            <a:ext cx="7488360" cy="861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81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3" name="Picture 5" descr="awe-logo24b"/>
          <p:cNvPicPr/>
          <p:nvPr/>
        </p:nvPicPr>
        <p:blipFill>
          <a:blip r:embed="rId1"/>
          <a:stretch/>
        </p:blipFill>
        <p:spPr>
          <a:xfrm>
            <a:off x="179280" y="0"/>
            <a:ext cx="8963280" cy="103968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7"/>
          <p:cNvSpPr/>
          <p:nvPr/>
        </p:nvSpPr>
        <p:spPr>
          <a:xfrm>
            <a:off x="2343240" y="2124000"/>
            <a:ext cx="4532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9256680" y="2124000"/>
            <a:ext cx="2155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‘</a:t>
            </a:r>
            <a:r>
              <a:rPr b="1" lang="en-GB" sz="8000" spc="-1" strike="noStrike">
                <a:solidFill>
                  <a:srgbClr val="ffffff"/>
                </a:solidFill>
                <a:latin typeface="Arial"/>
                <a:ea typeface="宋体"/>
              </a:rPr>
              <a:t>ing’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0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500"/>
                            </p:stCondLst>
                            <p:childTnLst>
                              <p:par>
                                <p:cTn id="20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05556E-006 4.38483E-006 L -0.12205 4.38483E-006 E">
                                      <p:cBhvr>
                                        <p:cTn id="2030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-1.3531E-006 L -0.37813 -1.3531E-006 E">
                                      <p:cBhvr>
                                        <p:cTn id="2032" dur="5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73120" y="2421000"/>
            <a:ext cx="1130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A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693080" y="2421000"/>
            <a:ext cx="71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351880" y="2421000"/>
            <a:ext cx="71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32280" y="2421000"/>
            <a:ext cx="1018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e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988800" y="242100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971960" y="2421000"/>
            <a:ext cx="1095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d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988240" y="2421000"/>
            <a:ext cx="564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i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463800" y="242100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451640" y="2421000"/>
            <a:ext cx="1095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99ff"/>
                </a:solidFill>
                <a:latin typeface="Arial Black"/>
                <a:ea typeface="宋体"/>
              </a:rPr>
              <a:t>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026000" y="2498760"/>
            <a:ext cx="7092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Attendin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5896E-006 L 0.21909 0.80439 E">
                                      <p:cBhvr>
                                        <p:cTn id="1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65896E-006 L 0.0698 0.75745 E">
                                      <p:cBhvr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65896E-006 L -4.16667E-006 0.70289 E">
                                      <p:cBhvr>
                                        <p:cTn id="16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65896E-006 L -0.05399 0.72832 E">
                                      <p:cBhvr>
                                        <p:cTn id="17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5896E-006 L -0.16354 0.63329 E">
                                      <p:cBhvr>
                                        <p:cTn id="17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65896E-006 L -0.22431 -0.64601 E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5896E-006 L -0.08889 -0.64994 E">
                                      <p:cBhvr>
                                        <p:cTn id="18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5896E-006 L 0.08715 -0.64578 E">
                                      <p:cBhvr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65896E-006 L 0.18733 -0.65827 E">
                                      <p:cBhvr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 flipV="1" rot="10800000">
            <a:off x="2039400" y="2835360"/>
            <a:ext cx="721080" cy="720720"/>
          </a:xfrm>
          <a:prstGeom prst="upArrow">
            <a:avLst>
              <a:gd name="adj1" fmla="val 29519"/>
              <a:gd name="adj2" fmla="val 26431"/>
            </a:avLst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801880" y="2835360"/>
            <a:ext cx="762120" cy="738000"/>
          </a:xfrm>
          <a:prstGeom prst="pi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8028000" y="2835360"/>
            <a:ext cx="720720" cy="71892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 flipV="1" rot="5400000">
            <a:off x="3636000" y="2833200"/>
            <a:ext cx="718920" cy="720720"/>
          </a:xfrm>
          <a:custGeom>
            <a:avLst/>
            <a:gdLst>
              <a:gd name="textAreaLeft" fmla="*/ 0 w 718920"/>
              <a:gd name="textAreaRight" fmla="*/ 719280 w 718920"/>
              <a:gd name="textAreaTop" fmla="*/ 297360 h 720720"/>
              <a:gd name="textAreaBottom" fmla="*/ 423360 h 720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4427640" y="2835360"/>
            <a:ext cx="360360" cy="718920"/>
          </a:xfrm>
          <a:prstGeom prst="rightArrowCallout">
            <a:avLst>
              <a:gd name="adj1" fmla="val 67393"/>
              <a:gd name="adj2" fmla="val 33693"/>
              <a:gd name="adj3" fmla="val 36565"/>
              <a:gd name="adj4" fmla="val 63435"/>
            </a:avLst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7"/>
          <p:cNvSpPr/>
          <p:nvPr/>
        </p:nvSpPr>
        <p:spPr>
          <a:xfrm rot="10800000">
            <a:off x="4787640" y="2835000"/>
            <a:ext cx="360360" cy="718920"/>
          </a:xfrm>
          <a:prstGeom prst="rightArrowCallout">
            <a:avLst>
              <a:gd name="adj1" fmla="val 67393"/>
              <a:gd name="adj2" fmla="val 33693"/>
              <a:gd name="adj3" fmla="val 36565"/>
              <a:gd name="adj4" fmla="val 63435"/>
            </a:avLst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 rot="10800000">
            <a:off x="395280" y="2835360"/>
            <a:ext cx="792000" cy="720720"/>
          </a:xfrm>
          <a:prstGeom prst="pi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711360" y="3051000"/>
            <a:ext cx="160200" cy="2318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0"/>
          <p:cNvSpPr/>
          <p:nvPr/>
        </p:nvSpPr>
        <p:spPr>
          <a:xfrm rot="10800000">
            <a:off x="5200200" y="2835360"/>
            <a:ext cx="792360" cy="720720"/>
          </a:xfrm>
          <a:prstGeom prst="pi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5516640" y="3051000"/>
            <a:ext cx="160200" cy="2318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12"/>
          <p:cNvSpPr/>
          <p:nvPr/>
        </p:nvSpPr>
        <p:spPr>
          <a:xfrm flipV="1">
            <a:off x="1257480" y="2148840"/>
            <a:ext cx="695160" cy="1406520"/>
          </a:xfrm>
          <a:prstGeom prst="pie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6281640" y="2835360"/>
            <a:ext cx="412920" cy="45540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058080" y="2835360"/>
            <a:ext cx="22356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6804000" y="2835360"/>
            <a:ext cx="2239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7164360" y="2835360"/>
            <a:ext cx="2239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7667640" y="2835360"/>
            <a:ext cx="2239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7162920" y="2835360"/>
            <a:ext cx="650880" cy="676080"/>
          </a:xfrm>
          <a:prstGeom prst="lightningBol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327000" y="-187308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939560" y="-1873080"/>
            <a:ext cx="893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c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849040" y="-187308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u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74360" y="-1873080"/>
            <a:ext cx="1146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B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838840" y="-1873080"/>
            <a:ext cx="564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882440" y="-1873080"/>
            <a:ext cx="1080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o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55240" y="-1873080"/>
            <a:ext cx="1099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324560" y="-2185920"/>
            <a:ext cx="1095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 Black"/>
                <a:ea typeface="宋体"/>
              </a:rPr>
              <a:t>g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911760"/>
            <a:ext cx="914400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6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54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6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5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5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6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5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5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5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7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5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764 -0.12512 C -0.00712 -0.02456 -0.0066 0.57206 -0.00573 0.63485 C -0.00573 0.45992 -0.00521 0.39666 -0.00452 0.39666 C -0.00365 0.39666 -0.00313 0.46316 -0.00313 0.63485 C -0.00313 0.54889 -0.00278 0.46942 -0.00226 0.46942 C -0.00174 0.46942 -0.00174 0.54657 -0.00174 0.63485 C -0.00174 0.59059 -0.00157 0.53869 -0.00139 0.53869 C -0.00122 0.53869 -0.00105 0.59291 -0.00105 0.63485 C -0.00105 0.6126 -0.00087 0.56557 -0.00087 0.5658 C -0.0007 0.5658 -0.0007 0.6126 -0.0007 0.63485 C -0.0007 0.62373 -0.0007 0.59986 -0.0007 0.59847 C -0.00052 0.59731 -0.00052 0.62373 -0.00052 0.63485 C -0.00052 0.63716 -0.00052 0.61284 -0.00052 0.6126 C -0.00035 0.61237 -0.00035 0.63276 -0.00035 0.63415 C -0.00035 0.63044 -0.00035 0.6228 -0.00035 0.62303 C -0.00035 0.62326 0.00017 0.62952 0.00017 0.63276 E">
                                      <p:cBhvr>
                                        <p:cTn id="27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5400000">
                                      <p:cBhvr>
                                        <p:cTn id="279" dur="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017 0.63195 L 0.01719 0.66343 E">
                                      <p:cBhvr>
                                        <p:cTn id="281" dur="4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39528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9900"/>
                </a:solidFill>
                <a:latin typeface="Arial Black"/>
                <a:ea typeface="宋体"/>
              </a:rPr>
              <a:t>B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41444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Arial Black"/>
                <a:ea typeface="宋体"/>
              </a:rPr>
              <a:t>U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43360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99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45132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cc33"/>
                </a:solidFill>
                <a:latin typeface="Arial Black"/>
                <a:ea typeface="宋体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447048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9900"/>
                </a:solidFill>
                <a:latin typeface="Arial Black"/>
                <a:ea typeface="宋体"/>
              </a:rPr>
              <a:t>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487840" y="402444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ff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507000" y="402444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00cc"/>
                </a:solidFill>
                <a:latin typeface="Arial Black"/>
                <a:ea typeface="宋体"/>
              </a:rPr>
              <a:t>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524720" y="402444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0000"/>
                </a:solidFill>
                <a:latin typeface="Arial Black"/>
                <a:ea typeface="宋体"/>
              </a:rPr>
              <a:t>G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39528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9900"/>
                </a:solidFill>
                <a:latin typeface="Arial Black"/>
                <a:ea typeface="宋体"/>
              </a:rPr>
              <a:t>B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41444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00"/>
                </a:solidFill>
                <a:latin typeface="Arial Black"/>
                <a:ea typeface="宋体"/>
              </a:rPr>
              <a:t>U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243360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99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345132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33cc33"/>
                </a:solidFill>
                <a:latin typeface="Arial Black"/>
                <a:ea typeface="宋体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447048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9900"/>
                </a:solidFill>
                <a:latin typeface="Arial Black"/>
                <a:ea typeface="宋体"/>
              </a:rPr>
              <a:t>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5487840" y="292572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ff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6507000" y="292572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00cc"/>
                </a:solidFill>
                <a:latin typeface="Arial Black"/>
                <a:ea typeface="宋体"/>
              </a:rPr>
              <a:t>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7524720" y="292572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cc0000"/>
                </a:solidFill>
                <a:latin typeface="Arial Black"/>
                <a:ea typeface="宋体"/>
              </a:rPr>
              <a:t>G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39528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B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141444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U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243360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345132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L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47048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5487840" y="181620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I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6507000" y="1816200"/>
            <a:ext cx="989280" cy="98892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7524720" y="1816200"/>
            <a:ext cx="988920" cy="988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 Black"/>
                <a:ea typeface="宋体"/>
              </a:rPr>
              <a:t>G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"/>
                            </p:stCondLst>
                            <p:childTnLst>
                              <p:par>
                                <p:cTn id="3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0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1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89080" y="2449440"/>
            <a:ext cx="8642160" cy="194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212760" y="2382840"/>
            <a:ext cx="8642160" cy="194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50920" y="2421000"/>
            <a:ext cx="864216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d-bot"/>
          <p:cNvPicPr/>
          <p:nvPr/>
        </p:nvPicPr>
        <p:blipFill>
          <a:blip r:embed="rId1"/>
          <a:stretch/>
        </p:blipFill>
        <p:spPr>
          <a:xfrm>
            <a:off x="104760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d-l-bot"/>
          <p:cNvPicPr/>
          <p:nvPr/>
        </p:nvPicPr>
        <p:blipFill>
          <a:blip r:embed="rId2"/>
          <a:stretch/>
        </p:blipFill>
        <p:spPr>
          <a:xfrm>
            <a:off x="100008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d-l-top"/>
          <p:cNvPicPr/>
          <p:nvPr/>
        </p:nvPicPr>
        <p:blipFill>
          <a:blip r:embed="rId3"/>
          <a:stretch/>
        </p:blipFill>
        <p:spPr>
          <a:xfrm>
            <a:off x="11113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-mid"/>
          <p:cNvPicPr/>
          <p:nvPr/>
        </p:nvPicPr>
        <p:blipFill>
          <a:blip r:embed="rId4"/>
          <a:stretch/>
        </p:blipFill>
        <p:spPr>
          <a:xfrm>
            <a:off x="118116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d-r-bot"/>
          <p:cNvPicPr/>
          <p:nvPr/>
        </p:nvPicPr>
        <p:blipFill>
          <a:blip r:embed="rId5"/>
          <a:stretch/>
        </p:blipFill>
        <p:spPr>
          <a:xfrm>
            <a:off x="15764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d-r-top"/>
          <p:cNvPicPr/>
          <p:nvPr/>
        </p:nvPicPr>
        <p:blipFill>
          <a:blip r:embed="rId6"/>
          <a:stretch/>
        </p:blipFill>
        <p:spPr>
          <a:xfrm>
            <a:off x="167940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-top"/>
          <p:cNvPicPr/>
          <p:nvPr/>
        </p:nvPicPr>
        <p:blipFill>
          <a:blip r:embed="rId7"/>
          <a:stretch/>
        </p:blipFill>
        <p:spPr>
          <a:xfrm>
            <a:off x="12366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d-bot"/>
          <p:cNvPicPr/>
          <p:nvPr/>
        </p:nvPicPr>
        <p:blipFill>
          <a:blip r:embed="rId8"/>
          <a:stretch/>
        </p:blipFill>
        <p:spPr>
          <a:xfrm>
            <a:off x="191124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d-l-bot"/>
          <p:cNvPicPr/>
          <p:nvPr/>
        </p:nvPicPr>
        <p:blipFill>
          <a:blip r:embed="rId9"/>
          <a:stretch/>
        </p:blipFill>
        <p:spPr>
          <a:xfrm>
            <a:off x="186372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d-l-top"/>
          <p:cNvPicPr/>
          <p:nvPr/>
        </p:nvPicPr>
        <p:blipFill>
          <a:blip r:embed="rId10"/>
          <a:stretch/>
        </p:blipFill>
        <p:spPr>
          <a:xfrm>
            <a:off x="197496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d-mid"/>
          <p:cNvPicPr/>
          <p:nvPr/>
        </p:nvPicPr>
        <p:blipFill>
          <a:blip r:embed="rId11"/>
          <a:stretch/>
        </p:blipFill>
        <p:spPr>
          <a:xfrm>
            <a:off x="204480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d-r-bot"/>
          <p:cNvPicPr/>
          <p:nvPr/>
        </p:nvPicPr>
        <p:blipFill>
          <a:blip r:embed="rId12"/>
          <a:stretch/>
        </p:blipFill>
        <p:spPr>
          <a:xfrm>
            <a:off x="244008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d-r-top"/>
          <p:cNvPicPr/>
          <p:nvPr/>
        </p:nvPicPr>
        <p:blipFill>
          <a:blip r:embed="rId13"/>
          <a:stretch/>
        </p:blipFill>
        <p:spPr>
          <a:xfrm>
            <a:off x="254304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d-top"/>
          <p:cNvPicPr/>
          <p:nvPr/>
        </p:nvPicPr>
        <p:blipFill>
          <a:blip r:embed="rId14"/>
          <a:stretch/>
        </p:blipFill>
        <p:spPr>
          <a:xfrm>
            <a:off x="210024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d-bot"/>
          <p:cNvPicPr/>
          <p:nvPr/>
        </p:nvPicPr>
        <p:blipFill>
          <a:blip r:embed="rId15"/>
          <a:stretch/>
        </p:blipFill>
        <p:spPr>
          <a:xfrm>
            <a:off x="27766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d-l-bot"/>
          <p:cNvPicPr/>
          <p:nvPr/>
        </p:nvPicPr>
        <p:blipFill>
          <a:blip r:embed="rId16"/>
          <a:stretch/>
        </p:blipFill>
        <p:spPr>
          <a:xfrm>
            <a:off x="272880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d-l-top"/>
          <p:cNvPicPr/>
          <p:nvPr/>
        </p:nvPicPr>
        <p:blipFill>
          <a:blip r:embed="rId17"/>
          <a:stretch/>
        </p:blipFill>
        <p:spPr>
          <a:xfrm>
            <a:off x="284004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d-mid"/>
          <p:cNvPicPr/>
          <p:nvPr/>
        </p:nvPicPr>
        <p:blipFill>
          <a:blip r:embed="rId18"/>
          <a:stretch/>
        </p:blipFill>
        <p:spPr>
          <a:xfrm>
            <a:off x="290988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d-r-bot"/>
          <p:cNvPicPr/>
          <p:nvPr/>
        </p:nvPicPr>
        <p:blipFill>
          <a:blip r:embed="rId19"/>
          <a:stretch/>
        </p:blipFill>
        <p:spPr>
          <a:xfrm>
            <a:off x="330516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d-r-top"/>
          <p:cNvPicPr/>
          <p:nvPr/>
        </p:nvPicPr>
        <p:blipFill>
          <a:blip r:embed="rId20"/>
          <a:stretch/>
        </p:blipFill>
        <p:spPr>
          <a:xfrm>
            <a:off x="34084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d-top"/>
          <p:cNvPicPr/>
          <p:nvPr/>
        </p:nvPicPr>
        <p:blipFill>
          <a:blip r:embed="rId21"/>
          <a:stretch/>
        </p:blipFill>
        <p:spPr>
          <a:xfrm>
            <a:off x="296532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d-bot"/>
          <p:cNvPicPr/>
          <p:nvPr/>
        </p:nvPicPr>
        <p:blipFill>
          <a:blip r:embed="rId22"/>
          <a:stretch/>
        </p:blipFill>
        <p:spPr>
          <a:xfrm>
            <a:off x="3639960" y="3863880"/>
            <a:ext cx="632160" cy="141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d-l-bot"/>
          <p:cNvPicPr/>
          <p:nvPr/>
        </p:nvPicPr>
        <p:blipFill>
          <a:blip r:embed="rId23"/>
          <a:stretch/>
        </p:blipFill>
        <p:spPr>
          <a:xfrm>
            <a:off x="359244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d-l-top"/>
          <p:cNvPicPr/>
          <p:nvPr/>
        </p:nvPicPr>
        <p:blipFill>
          <a:blip r:embed="rId24"/>
          <a:stretch/>
        </p:blipFill>
        <p:spPr>
          <a:xfrm>
            <a:off x="370368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d-mid"/>
          <p:cNvPicPr/>
          <p:nvPr/>
        </p:nvPicPr>
        <p:blipFill>
          <a:blip r:embed="rId25"/>
          <a:stretch/>
        </p:blipFill>
        <p:spPr>
          <a:xfrm>
            <a:off x="377352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d-r-bot"/>
          <p:cNvPicPr/>
          <p:nvPr/>
        </p:nvPicPr>
        <p:blipFill>
          <a:blip r:embed="rId26"/>
          <a:stretch/>
        </p:blipFill>
        <p:spPr>
          <a:xfrm>
            <a:off x="416880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d-r-top"/>
          <p:cNvPicPr/>
          <p:nvPr/>
        </p:nvPicPr>
        <p:blipFill>
          <a:blip r:embed="rId27"/>
          <a:stretch/>
        </p:blipFill>
        <p:spPr>
          <a:xfrm>
            <a:off x="427212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d-top"/>
          <p:cNvPicPr/>
          <p:nvPr/>
        </p:nvPicPr>
        <p:blipFill>
          <a:blip r:embed="rId28"/>
          <a:stretch/>
        </p:blipFill>
        <p:spPr>
          <a:xfrm>
            <a:off x="382896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d-bot"/>
          <p:cNvPicPr/>
          <p:nvPr/>
        </p:nvPicPr>
        <p:blipFill>
          <a:blip r:embed="rId29"/>
          <a:stretch/>
        </p:blipFill>
        <p:spPr>
          <a:xfrm>
            <a:off x="450360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d-l-bot"/>
          <p:cNvPicPr/>
          <p:nvPr/>
        </p:nvPicPr>
        <p:blipFill>
          <a:blip r:embed="rId30"/>
          <a:stretch/>
        </p:blipFill>
        <p:spPr>
          <a:xfrm>
            <a:off x="445608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d-l-top"/>
          <p:cNvPicPr/>
          <p:nvPr/>
        </p:nvPicPr>
        <p:blipFill>
          <a:blip r:embed="rId31"/>
          <a:stretch/>
        </p:blipFill>
        <p:spPr>
          <a:xfrm>
            <a:off x="45673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6" descr="d-mid"/>
          <p:cNvPicPr/>
          <p:nvPr/>
        </p:nvPicPr>
        <p:blipFill>
          <a:blip r:embed="rId32"/>
          <a:stretch/>
        </p:blipFill>
        <p:spPr>
          <a:xfrm>
            <a:off x="463716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d-r-bot"/>
          <p:cNvPicPr/>
          <p:nvPr/>
        </p:nvPicPr>
        <p:blipFill>
          <a:blip r:embed="rId33"/>
          <a:stretch/>
        </p:blipFill>
        <p:spPr>
          <a:xfrm>
            <a:off x="50324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d-r-top"/>
          <p:cNvPicPr/>
          <p:nvPr/>
        </p:nvPicPr>
        <p:blipFill>
          <a:blip r:embed="rId34"/>
          <a:stretch/>
        </p:blipFill>
        <p:spPr>
          <a:xfrm>
            <a:off x="513540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d-top"/>
          <p:cNvPicPr/>
          <p:nvPr/>
        </p:nvPicPr>
        <p:blipFill>
          <a:blip r:embed="rId35"/>
          <a:stretch/>
        </p:blipFill>
        <p:spPr>
          <a:xfrm>
            <a:off x="46926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d-bot"/>
          <p:cNvPicPr/>
          <p:nvPr/>
        </p:nvPicPr>
        <p:blipFill>
          <a:blip r:embed="rId36"/>
          <a:stretch/>
        </p:blipFill>
        <p:spPr>
          <a:xfrm>
            <a:off x="54118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" descr="d-l-bot"/>
          <p:cNvPicPr/>
          <p:nvPr/>
        </p:nvPicPr>
        <p:blipFill>
          <a:blip r:embed="rId37"/>
          <a:stretch/>
        </p:blipFill>
        <p:spPr>
          <a:xfrm>
            <a:off x="536400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d-l-top"/>
          <p:cNvPicPr/>
          <p:nvPr/>
        </p:nvPicPr>
        <p:blipFill>
          <a:blip r:embed="rId38"/>
          <a:stretch/>
        </p:blipFill>
        <p:spPr>
          <a:xfrm>
            <a:off x="547524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d-mid"/>
          <p:cNvPicPr/>
          <p:nvPr/>
        </p:nvPicPr>
        <p:blipFill>
          <a:blip r:embed="rId39"/>
          <a:stretch/>
        </p:blipFill>
        <p:spPr>
          <a:xfrm>
            <a:off x="554508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d-r-bot"/>
          <p:cNvPicPr/>
          <p:nvPr/>
        </p:nvPicPr>
        <p:blipFill>
          <a:blip r:embed="rId40"/>
          <a:stretch/>
        </p:blipFill>
        <p:spPr>
          <a:xfrm>
            <a:off x="594036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d-r-top"/>
          <p:cNvPicPr/>
          <p:nvPr/>
        </p:nvPicPr>
        <p:blipFill>
          <a:blip r:embed="rId41"/>
          <a:stretch/>
        </p:blipFill>
        <p:spPr>
          <a:xfrm>
            <a:off x="60436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6" descr="d-top"/>
          <p:cNvPicPr/>
          <p:nvPr/>
        </p:nvPicPr>
        <p:blipFill>
          <a:blip r:embed="rId42"/>
          <a:stretch/>
        </p:blipFill>
        <p:spPr>
          <a:xfrm>
            <a:off x="560088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d-bot"/>
          <p:cNvPicPr/>
          <p:nvPr/>
        </p:nvPicPr>
        <p:blipFill>
          <a:blip r:embed="rId43"/>
          <a:stretch/>
        </p:blipFill>
        <p:spPr>
          <a:xfrm>
            <a:off x="631836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8" descr="d-l-bot"/>
          <p:cNvPicPr/>
          <p:nvPr/>
        </p:nvPicPr>
        <p:blipFill>
          <a:blip r:embed="rId44"/>
          <a:stretch/>
        </p:blipFill>
        <p:spPr>
          <a:xfrm>
            <a:off x="627048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9" descr="d-l-top"/>
          <p:cNvPicPr/>
          <p:nvPr/>
        </p:nvPicPr>
        <p:blipFill>
          <a:blip r:embed="rId45"/>
          <a:stretch/>
        </p:blipFill>
        <p:spPr>
          <a:xfrm>
            <a:off x="63817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0" descr="d-mid"/>
          <p:cNvPicPr/>
          <p:nvPr/>
        </p:nvPicPr>
        <p:blipFill>
          <a:blip r:embed="rId46"/>
          <a:stretch/>
        </p:blipFill>
        <p:spPr>
          <a:xfrm>
            <a:off x="645156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1" descr="d-r-bot"/>
          <p:cNvPicPr/>
          <p:nvPr/>
        </p:nvPicPr>
        <p:blipFill>
          <a:blip r:embed="rId47"/>
          <a:stretch/>
        </p:blipFill>
        <p:spPr>
          <a:xfrm>
            <a:off x="68468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2" descr="d-r-top"/>
          <p:cNvPicPr/>
          <p:nvPr/>
        </p:nvPicPr>
        <p:blipFill>
          <a:blip r:embed="rId48"/>
          <a:stretch/>
        </p:blipFill>
        <p:spPr>
          <a:xfrm>
            <a:off x="695016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3" descr="d-top"/>
          <p:cNvPicPr/>
          <p:nvPr/>
        </p:nvPicPr>
        <p:blipFill>
          <a:blip r:embed="rId49"/>
          <a:stretch/>
        </p:blipFill>
        <p:spPr>
          <a:xfrm>
            <a:off x="65070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4" descr="d-bot"/>
          <p:cNvPicPr/>
          <p:nvPr/>
        </p:nvPicPr>
        <p:blipFill>
          <a:blip r:embed="rId50"/>
          <a:stretch/>
        </p:blipFill>
        <p:spPr>
          <a:xfrm>
            <a:off x="72118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5" descr="d-l-bot"/>
          <p:cNvPicPr/>
          <p:nvPr/>
        </p:nvPicPr>
        <p:blipFill>
          <a:blip r:embed="rId51"/>
          <a:stretch/>
        </p:blipFill>
        <p:spPr>
          <a:xfrm>
            <a:off x="716436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6" descr="d-l-top"/>
          <p:cNvPicPr/>
          <p:nvPr/>
        </p:nvPicPr>
        <p:blipFill>
          <a:blip r:embed="rId52"/>
          <a:stretch/>
        </p:blipFill>
        <p:spPr>
          <a:xfrm>
            <a:off x="727560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7" descr="d-mid"/>
          <p:cNvPicPr/>
          <p:nvPr/>
        </p:nvPicPr>
        <p:blipFill>
          <a:blip r:embed="rId53"/>
          <a:stretch/>
        </p:blipFill>
        <p:spPr>
          <a:xfrm>
            <a:off x="734544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8" descr="d-r-bot"/>
          <p:cNvPicPr/>
          <p:nvPr/>
        </p:nvPicPr>
        <p:blipFill>
          <a:blip r:embed="rId54"/>
          <a:stretch/>
        </p:blipFill>
        <p:spPr>
          <a:xfrm>
            <a:off x="774072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9" descr="d-r-top"/>
          <p:cNvPicPr/>
          <p:nvPr/>
        </p:nvPicPr>
        <p:blipFill>
          <a:blip r:embed="rId55"/>
          <a:stretch/>
        </p:blipFill>
        <p:spPr>
          <a:xfrm>
            <a:off x="78436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0" descr="d-top"/>
          <p:cNvPicPr/>
          <p:nvPr/>
        </p:nvPicPr>
        <p:blipFill>
          <a:blip r:embed="rId56"/>
          <a:stretch/>
        </p:blipFill>
        <p:spPr>
          <a:xfrm>
            <a:off x="740088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1" descr="d-bot"/>
          <p:cNvPicPr/>
          <p:nvPr/>
        </p:nvPicPr>
        <p:blipFill>
          <a:blip r:embed="rId57"/>
          <a:stretch/>
        </p:blipFill>
        <p:spPr>
          <a:xfrm>
            <a:off x="104760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2" descr="d-l-bot"/>
          <p:cNvPicPr/>
          <p:nvPr/>
        </p:nvPicPr>
        <p:blipFill>
          <a:blip r:embed="rId58"/>
          <a:stretch/>
        </p:blipFill>
        <p:spPr>
          <a:xfrm>
            <a:off x="100008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3" descr="d-l-top"/>
          <p:cNvPicPr/>
          <p:nvPr/>
        </p:nvPicPr>
        <p:blipFill>
          <a:blip r:embed="rId59"/>
          <a:stretch/>
        </p:blipFill>
        <p:spPr>
          <a:xfrm>
            <a:off x="11113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4" descr="d-mid"/>
          <p:cNvPicPr/>
          <p:nvPr/>
        </p:nvPicPr>
        <p:blipFill>
          <a:blip r:embed="rId60"/>
          <a:stretch/>
        </p:blipFill>
        <p:spPr>
          <a:xfrm>
            <a:off x="118116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5" descr="d-r-bot"/>
          <p:cNvPicPr/>
          <p:nvPr/>
        </p:nvPicPr>
        <p:blipFill>
          <a:blip r:embed="rId61"/>
          <a:stretch/>
        </p:blipFill>
        <p:spPr>
          <a:xfrm>
            <a:off x="15764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6" descr="d-r-top"/>
          <p:cNvPicPr/>
          <p:nvPr/>
        </p:nvPicPr>
        <p:blipFill>
          <a:blip r:embed="rId62"/>
          <a:stretch/>
        </p:blipFill>
        <p:spPr>
          <a:xfrm>
            <a:off x="167940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7" descr="d-top"/>
          <p:cNvPicPr/>
          <p:nvPr/>
        </p:nvPicPr>
        <p:blipFill>
          <a:blip r:embed="rId63"/>
          <a:stretch/>
        </p:blipFill>
        <p:spPr>
          <a:xfrm>
            <a:off x="12366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8" descr="d-bot"/>
          <p:cNvPicPr/>
          <p:nvPr/>
        </p:nvPicPr>
        <p:blipFill>
          <a:blip r:embed="rId64"/>
          <a:stretch/>
        </p:blipFill>
        <p:spPr>
          <a:xfrm>
            <a:off x="191124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9" descr="d-l-bot"/>
          <p:cNvPicPr/>
          <p:nvPr/>
        </p:nvPicPr>
        <p:blipFill>
          <a:blip r:embed="rId65"/>
          <a:stretch/>
        </p:blipFill>
        <p:spPr>
          <a:xfrm>
            <a:off x="186372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0" descr="d-l-top"/>
          <p:cNvPicPr/>
          <p:nvPr/>
        </p:nvPicPr>
        <p:blipFill>
          <a:blip r:embed="rId66"/>
          <a:stretch/>
        </p:blipFill>
        <p:spPr>
          <a:xfrm>
            <a:off x="197496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1" descr="d-mid"/>
          <p:cNvPicPr/>
          <p:nvPr/>
        </p:nvPicPr>
        <p:blipFill>
          <a:blip r:embed="rId67"/>
          <a:stretch/>
        </p:blipFill>
        <p:spPr>
          <a:xfrm>
            <a:off x="204480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2" descr="d-r-bot"/>
          <p:cNvPicPr/>
          <p:nvPr/>
        </p:nvPicPr>
        <p:blipFill>
          <a:blip r:embed="rId68"/>
          <a:stretch/>
        </p:blipFill>
        <p:spPr>
          <a:xfrm>
            <a:off x="244008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3" descr="d-r-top"/>
          <p:cNvPicPr/>
          <p:nvPr/>
        </p:nvPicPr>
        <p:blipFill>
          <a:blip r:embed="rId69"/>
          <a:stretch/>
        </p:blipFill>
        <p:spPr>
          <a:xfrm>
            <a:off x="254304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4" descr="d-top"/>
          <p:cNvPicPr/>
          <p:nvPr/>
        </p:nvPicPr>
        <p:blipFill>
          <a:blip r:embed="rId70"/>
          <a:stretch/>
        </p:blipFill>
        <p:spPr>
          <a:xfrm>
            <a:off x="210024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5" descr="d-bot"/>
          <p:cNvPicPr/>
          <p:nvPr/>
        </p:nvPicPr>
        <p:blipFill>
          <a:blip r:embed="rId71"/>
          <a:stretch/>
        </p:blipFill>
        <p:spPr>
          <a:xfrm>
            <a:off x="27766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6" descr="d-l-bot"/>
          <p:cNvPicPr/>
          <p:nvPr/>
        </p:nvPicPr>
        <p:blipFill>
          <a:blip r:embed="rId72"/>
          <a:stretch/>
        </p:blipFill>
        <p:spPr>
          <a:xfrm>
            <a:off x="272880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7" descr="d-l-top"/>
          <p:cNvPicPr/>
          <p:nvPr/>
        </p:nvPicPr>
        <p:blipFill>
          <a:blip r:embed="rId73"/>
          <a:stretch/>
        </p:blipFill>
        <p:spPr>
          <a:xfrm>
            <a:off x="284004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8" descr="d-mid"/>
          <p:cNvPicPr/>
          <p:nvPr/>
        </p:nvPicPr>
        <p:blipFill>
          <a:blip r:embed="rId74"/>
          <a:stretch/>
        </p:blipFill>
        <p:spPr>
          <a:xfrm>
            <a:off x="290988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9" descr="d-r-bot"/>
          <p:cNvPicPr/>
          <p:nvPr/>
        </p:nvPicPr>
        <p:blipFill>
          <a:blip r:embed="rId75"/>
          <a:stretch/>
        </p:blipFill>
        <p:spPr>
          <a:xfrm>
            <a:off x="330516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0" descr="d-r-top"/>
          <p:cNvPicPr/>
          <p:nvPr/>
        </p:nvPicPr>
        <p:blipFill>
          <a:blip r:embed="rId76"/>
          <a:stretch/>
        </p:blipFill>
        <p:spPr>
          <a:xfrm>
            <a:off x="34084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1" descr="d-top"/>
          <p:cNvPicPr/>
          <p:nvPr/>
        </p:nvPicPr>
        <p:blipFill>
          <a:blip r:embed="rId77"/>
          <a:stretch/>
        </p:blipFill>
        <p:spPr>
          <a:xfrm>
            <a:off x="296532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2" descr="d-bot"/>
          <p:cNvPicPr/>
          <p:nvPr/>
        </p:nvPicPr>
        <p:blipFill>
          <a:blip r:embed="rId78"/>
          <a:stretch/>
        </p:blipFill>
        <p:spPr>
          <a:xfrm>
            <a:off x="3639960" y="3863880"/>
            <a:ext cx="632160" cy="14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3" descr="d-l-bot"/>
          <p:cNvPicPr/>
          <p:nvPr/>
        </p:nvPicPr>
        <p:blipFill>
          <a:blip r:embed="rId79"/>
          <a:stretch/>
        </p:blipFill>
        <p:spPr>
          <a:xfrm>
            <a:off x="359244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4" descr="d-l-top"/>
          <p:cNvPicPr/>
          <p:nvPr/>
        </p:nvPicPr>
        <p:blipFill>
          <a:blip r:embed="rId80"/>
          <a:stretch/>
        </p:blipFill>
        <p:spPr>
          <a:xfrm>
            <a:off x="370368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5" descr="d-mid"/>
          <p:cNvPicPr/>
          <p:nvPr/>
        </p:nvPicPr>
        <p:blipFill>
          <a:blip r:embed="rId81"/>
          <a:stretch/>
        </p:blipFill>
        <p:spPr>
          <a:xfrm rot="20967600">
            <a:off x="3933720" y="2836800"/>
            <a:ext cx="133560" cy="552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6" descr="d-r-bot"/>
          <p:cNvPicPr/>
          <p:nvPr/>
        </p:nvPicPr>
        <p:blipFill>
          <a:blip r:embed="rId82"/>
          <a:stretch/>
        </p:blipFill>
        <p:spPr>
          <a:xfrm>
            <a:off x="416880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7" descr="d-r-top"/>
          <p:cNvPicPr/>
          <p:nvPr/>
        </p:nvPicPr>
        <p:blipFill>
          <a:blip r:embed="rId83"/>
          <a:stretch/>
        </p:blipFill>
        <p:spPr>
          <a:xfrm>
            <a:off x="427212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8" descr="d-top"/>
          <p:cNvPicPr/>
          <p:nvPr/>
        </p:nvPicPr>
        <p:blipFill>
          <a:blip r:embed="rId84"/>
          <a:stretch/>
        </p:blipFill>
        <p:spPr>
          <a:xfrm>
            <a:off x="382896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9" descr="d-bot"/>
          <p:cNvPicPr/>
          <p:nvPr/>
        </p:nvPicPr>
        <p:blipFill>
          <a:blip r:embed="rId85"/>
          <a:stretch/>
        </p:blipFill>
        <p:spPr>
          <a:xfrm>
            <a:off x="450360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0" descr="d-l-bot"/>
          <p:cNvPicPr/>
          <p:nvPr/>
        </p:nvPicPr>
        <p:blipFill>
          <a:blip r:embed="rId86"/>
          <a:stretch/>
        </p:blipFill>
        <p:spPr>
          <a:xfrm>
            <a:off x="445608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1" descr="d-l-top"/>
          <p:cNvPicPr/>
          <p:nvPr/>
        </p:nvPicPr>
        <p:blipFill>
          <a:blip r:embed="rId87"/>
          <a:stretch/>
        </p:blipFill>
        <p:spPr>
          <a:xfrm>
            <a:off x="45673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2" descr="d-mid"/>
          <p:cNvPicPr/>
          <p:nvPr/>
        </p:nvPicPr>
        <p:blipFill>
          <a:blip r:embed="rId88"/>
          <a:stretch/>
        </p:blipFill>
        <p:spPr>
          <a:xfrm>
            <a:off x="4637160" y="3303720"/>
            <a:ext cx="552240" cy="13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3" descr="d-r-bot"/>
          <p:cNvPicPr/>
          <p:nvPr/>
        </p:nvPicPr>
        <p:blipFill>
          <a:blip r:embed="rId89"/>
          <a:stretch/>
        </p:blipFill>
        <p:spPr>
          <a:xfrm>
            <a:off x="50324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4" descr="d-r-top"/>
          <p:cNvPicPr/>
          <p:nvPr/>
        </p:nvPicPr>
        <p:blipFill>
          <a:blip r:embed="rId90"/>
          <a:stretch/>
        </p:blipFill>
        <p:spPr>
          <a:xfrm>
            <a:off x="513540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5" descr="d-top"/>
          <p:cNvPicPr/>
          <p:nvPr/>
        </p:nvPicPr>
        <p:blipFill>
          <a:blip r:embed="rId91"/>
          <a:stretch/>
        </p:blipFill>
        <p:spPr>
          <a:xfrm>
            <a:off x="46926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6" descr="d-bot"/>
          <p:cNvPicPr/>
          <p:nvPr/>
        </p:nvPicPr>
        <p:blipFill>
          <a:blip r:embed="rId92"/>
          <a:stretch/>
        </p:blipFill>
        <p:spPr>
          <a:xfrm>
            <a:off x="54118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7" descr="d-l-bot"/>
          <p:cNvPicPr/>
          <p:nvPr/>
        </p:nvPicPr>
        <p:blipFill>
          <a:blip r:embed="rId93"/>
          <a:stretch/>
        </p:blipFill>
        <p:spPr>
          <a:xfrm>
            <a:off x="536400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8" descr="d-l-top"/>
          <p:cNvPicPr/>
          <p:nvPr/>
        </p:nvPicPr>
        <p:blipFill>
          <a:blip r:embed="rId94"/>
          <a:stretch/>
        </p:blipFill>
        <p:spPr>
          <a:xfrm>
            <a:off x="547524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9" descr="d-mid"/>
          <p:cNvPicPr/>
          <p:nvPr/>
        </p:nvPicPr>
        <p:blipFill>
          <a:blip r:embed="rId95"/>
          <a:stretch/>
        </p:blipFill>
        <p:spPr>
          <a:xfrm>
            <a:off x="554508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0" descr="d-r-bot"/>
          <p:cNvPicPr/>
          <p:nvPr/>
        </p:nvPicPr>
        <p:blipFill>
          <a:blip r:embed="rId96"/>
          <a:stretch/>
        </p:blipFill>
        <p:spPr>
          <a:xfrm>
            <a:off x="594036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1" descr="d-r-top"/>
          <p:cNvPicPr/>
          <p:nvPr/>
        </p:nvPicPr>
        <p:blipFill>
          <a:blip r:embed="rId97"/>
          <a:stretch/>
        </p:blipFill>
        <p:spPr>
          <a:xfrm>
            <a:off x="60436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2" descr="d-top"/>
          <p:cNvPicPr/>
          <p:nvPr/>
        </p:nvPicPr>
        <p:blipFill>
          <a:blip r:embed="rId98"/>
          <a:stretch/>
        </p:blipFill>
        <p:spPr>
          <a:xfrm>
            <a:off x="560088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3" descr="d-bot"/>
          <p:cNvPicPr/>
          <p:nvPr/>
        </p:nvPicPr>
        <p:blipFill>
          <a:blip r:embed="rId99"/>
          <a:stretch/>
        </p:blipFill>
        <p:spPr>
          <a:xfrm>
            <a:off x="631836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4" descr="d-l-bot"/>
          <p:cNvPicPr/>
          <p:nvPr/>
        </p:nvPicPr>
        <p:blipFill>
          <a:blip r:embed="rId100"/>
          <a:stretch/>
        </p:blipFill>
        <p:spPr>
          <a:xfrm>
            <a:off x="6270480" y="3357720"/>
            <a:ext cx="260640" cy="59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5" descr="d-l-top"/>
          <p:cNvPicPr/>
          <p:nvPr/>
        </p:nvPicPr>
        <p:blipFill>
          <a:blip r:embed="rId101"/>
          <a:stretch/>
        </p:blipFill>
        <p:spPr>
          <a:xfrm>
            <a:off x="638172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6" descr="d-mid"/>
          <p:cNvPicPr/>
          <p:nvPr/>
        </p:nvPicPr>
        <p:blipFill>
          <a:blip r:embed="rId102"/>
          <a:stretch/>
        </p:blipFill>
        <p:spPr>
          <a:xfrm>
            <a:off x="6451560" y="3303720"/>
            <a:ext cx="552600" cy="13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7" descr="d-r-bot"/>
          <p:cNvPicPr/>
          <p:nvPr/>
        </p:nvPicPr>
        <p:blipFill>
          <a:blip r:embed="rId103"/>
          <a:stretch/>
        </p:blipFill>
        <p:spPr>
          <a:xfrm>
            <a:off x="684684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8" descr="d-r-top"/>
          <p:cNvPicPr/>
          <p:nvPr/>
        </p:nvPicPr>
        <p:blipFill>
          <a:blip r:embed="rId104"/>
          <a:stretch/>
        </p:blipFill>
        <p:spPr>
          <a:xfrm>
            <a:off x="695016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9" descr="d-top"/>
          <p:cNvPicPr/>
          <p:nvPr/>
        </p:nvPicPr>
        <p:blipFill>
          <a:blip r:embed="rId105"/>
          <a:stretch/>
        </p:blipFill>
        <p:spPr>
          <a:xfrm>
            <a:off x="650700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0" descr="d-bot"/>
          <p:cNvPicPr/>
          <p:nvPr/>
        </p:nvPicPr>
        <p:blipFill>
          <a:blip r:embed="rId106"/>
          <a:stretch/>
        </p:blipFill>
        <p:spPr>
          <a:xfrm>
            <a:off x="7211880" y="3863880"/>
            <a:ext cx="631800" cy="141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1" descr="d-l-bot"/>
          <p:cNvPicPr/>
          <p:nvPr/>
        </p:nvPicPr>
        <p:blipFill>
          <a:blip r:embed="rId107"/>
          <a:stretch/>
        </p:blipFill>
        <p:spPr>
          <a:xfrm>
            <a:off x="7164360" y="335772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2" descr="d-l-top"/>
          <p:cNvPicPr/>
          <p:nvPr/>
        </p:nvPicPr>
        <p:blipFill>
          <a:blip r:embed="rId108"/>
          <a:stretch/>
        </p:blipFill>
        <p:spPr>
          <a:xfrm>
            <a:off x="7275600" y="2782800"/>
            <a:ext cx="236520" cy="568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3" descr="d-mid"/>
          <p:cNvPicPr/>
          <p:nvPr/>
        </p:nvPicPr>
        <p:blipFill>
          <a:blip r:embed="rId109"/>
          <a:stretch/>
        </p:blipFill>
        <p:spPr>
          <a:xfrm>
            <a:off x="7524720" y="3303720"/>
            <a:ext cx="372960" cy="13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4" descr="d-r-bot"/>
          <p:cNvPicPr/>
          <p:nvPr/>
        </p:nvPicPr>
        <p:blipFill>
          <a:blip r:embed="rId110"/>
          <a:stretch/>
        </p:blipFill>
        <p:spPr>
          <a:xfrm>
            <a:off x="7740720" y="335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5" descr="d-r-top"/>
          <p:cNvPicPr/>
          <p:nvPr/>
        </p:nvPicPr>
        <p:blipFill>
          <a:blip r:embed="rId111"/>
          <a:stretch/>
        </p:blipFill>
        <p:spPr>
          <a:xfrm>
            <a:off x="7843680" y="2773440"/>
            <a:ext cx="228600" cy="593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6" descr="d-top"/>
          <p:cNvPicPr/>
          <p:nvPr/>
        </p:nvPicPr>
        <p:blipFill>
          <a:blip r:embed="rId112"/>
          <a:stretch/>
        </p:blipFill>
        <p:spPr>
          <a:xfrm>
            <a:off x="7400880" y="2719440"/>
            <a:ext cx="623880" cy="150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7" descr="d-mid"/>
          <p:cNvPicPr/>
          <p:nvPr/>
        </p:nvPicPr>
        <p:blipFill>
          <a:blip r:embed="rId113"/>
          <a:stretch/>
        </p:blipFill>
        <p:spPr>
          <a:xfrm rot="20967600">
            <a:off x="4040280" y="3360600"/>
            <a:ext cx="133200" cy="552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8" descr="d-l-bot"/>
          <p:cNvPicPr/>
          <p:nvPr/>
        </p:nvPicPr>
        <p:blipFill>
          <a:blip r:embed="rId114"/>
          <a:stretch/>
        </p:blipFill>
        <p:spPr>
          <a:xfrm>
            <a:off x="4830840" y="2822400"/>
            <a:ext cx="260280" cy="59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9" descr="d-l-bot"/>
          <p:cNvPicPr/>
          <p:nvPr/>
        </p:nvPicPr>
        <p:blipFill>
          <a:blip r:embed="rId115"/>
          <a:stretch/>
        </p:blipFill>
        <p:spPr>
          <a:xfrm>
            <a:off x="4711680" y="3394080"/>
            <a:ext cx="260280" cy="59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0" descr="d-mid"/>
          <p:cNvPicPr/>
          <p:nvPr/>
        </p:nvPicPr>
        <p:blipFill>
          <a:blip r:embed="rId116"/>
          <a:stretch/>
        </p:blipFill>
        <p:spPr>
          <a:xfrm rot="20967600">
            <a:off x="6611760" y="2836800"/>
            <a:ext cx="133560" cy="552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1" descr="d-mid"/>
          <p:cNvPicPr/>
          <p:nvPr/>
        </p:nvPicPr>
        <p:blipFill>
          <a:blip r:embed="rId117"/>
          <a:stretch/>
        </p:blipFill>
        <p:spPr>
          <a:xfrm rot="20967600">
            <a:off x="6718320" y="3360600"/>
            <a:ext cx="133200" cy="552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2"/>
          <p:cNvSpPr/>
          <p:nvPr/>
        </p:nvSpPr>
        <p:spPr>
          <a:xfrm>
            <a:off x="5219640" y="-457200"/>
            <a:ext cx="2808360" cy="2160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© by default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1"/>
                            </p:stCondLst>
                            <p:childTnLst>
                              <p:par>
                                <p:cTn id="43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2" dur="2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4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6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8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0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4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2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70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72" dur="2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74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76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78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80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2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6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8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0" dur="2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2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6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8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0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6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0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12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4" dur="2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6" dur="2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8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0" dur="2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2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8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0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2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2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6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8" dur="2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0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2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4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6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48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0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2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4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6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8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60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62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64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2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6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8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0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2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4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88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0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2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4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6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8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0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2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04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06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4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8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0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2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26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28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0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2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4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8" dur="2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0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2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44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46" dur="2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48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4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6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8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4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76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78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82" dur="2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84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86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88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2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2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0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02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4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6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8" dur="2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0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2" dur="2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2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6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18" dur="2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0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22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24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26" dur="2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28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30" dur="2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32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4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6" dur="2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8" dur="2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0" dur="2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2" dur="2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4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6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8" dur="2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50" dur="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2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56" dur="2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58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60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2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4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9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66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68" dur="2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70" dur="2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72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9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74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1"/>
                            </p:stCondLst>
                            <p:childTnLst>
                              <p:par>
                                <p:cTn id="7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502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503"/>
                            </p:stCondLst>
                            <p:childTnLst>
                              <p:par>
                                <p:cTn id="10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39Z</dcterms:modified>
  <cp:revision>1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