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4.wmf"/><Relationship Id="rId6" Type="http://schemas.openxmlformats.org/officeDocument/2006/relationships/image" Target="../media/image6.png"/><Relationship Id="rId7" Type="http://schemas.openxmlformats.org/officeDocument/2006/relationships/image" Target="../media/image4.wmf"/><Relationship Id="rId8" Type="http://schemas.openxmlformats.org/officeDocument/2006/relationships/image" Target="../media/image7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33400" y="4572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精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之炫动网络科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2693880" y="284940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9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5429160" y="284940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9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5"/>
          <p:cNvSpPr/>
          <p:nvPr/>
        </p:nvSpPr>
        <p:spPr>
          <a:xfrm>
            <a:off x="600552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b9d81"/>
              </a:gs>
              <a:gs pos="50000">
                <a:srgbClr val="ffffff"/>
              </a:gs>
              <a:gs pos="100000">
                <a:srgbClr val="3b9d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6"/>
          <p:cNvSpPr/>
          <p:nvPr/>
        </p:nvSpPr>
        <p:spPr>
          <a:xfrm>
            <a:off x="600552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b9d81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61466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9d81"/>
              </a:gs>
              <a:gs pos="50000">
                <a:srgbClr val="205546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178680" y="2209680"/>
            <a:ext cx="1877760" cy="1878120"/>
          </a:xfrm>
          <a:prstGeom prst="ellipse">
            <a:avLst/>
          </a:prstGeom>
          <a:gradFill rotWithShape="0">
            <a:gsLst>
              <a:gs pos="0">
                <a:srgbClr val="3b9d81">
                  <a:alpha val="0"/>
                </a:srgbClr>
              </a:gs>
              <a:gs pos="100000">
                <a:srgbClr val="2564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24852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533520" y="205092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80c040"/>
              </a:gs>
              <a:gs pos="50000">
                <a:srgbClr val="ffffff"/>
              </a:gs>
              <a:gs pos="100000">
                <a:srgbClr val="80c04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533520" y="205092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0c04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7464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0c040"/>
              </a:gs>
              <a:gs pos="50000">
                <a:srgbClr val="456823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676440" y="219564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80c040">
                  <a:alpha val="0"/>
                </a:srgbClr>
              </a:gs>
              <a:gs pos="100000">
                <a:srgbClr val="517a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768240" y="228600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15"/>
          <p:cNvGrpSpPr/>
          <p:nvPr/>
        </p:nvGrpSpPr>
        <p:grpSpPr>
          <a:xfrm>
            <a:off x="795240" y="2311560"/>
            <a:ext cx="1636920" cy="1636560"/>
            <a:chOff x="795240" y="2311560"/>
            <a:chExt cx="1636920" cy="1636560"/>
          </a:xfrm>
        </p:grpSpPr>
        <p:sp>
          <p:nvSpPr>
            <p:cNvPr id="274" name="Oval 16"/>
            <p:cNvSpPr/>
            <p:nvPr/>
          </p:nvSpPr>
          <p:spPr>
            <a:xfrm>
              <a:off x="795240" y="231156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7"/>
            <p:cNvSpPr/>
            <p:nvPr/>
          </p:nvSpPr>
          <p:spPr>
            <a:xfrm>
              <a:off x="81612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8"/>
            <p:cNvSpPr/>
            <p:nvPr/>
          </p:nvSpPr>
          <p:spPr>
            <a:xfrm>
              <a:off x="833040" y="233640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9"/>
            <p:cNvSpPr/>
            <p:nvPr/>
          </p:nvSpPr>
          <p:spPr>
            <a:xfrm>
              <a:off x="921960" y="237816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Oval 20"/>
          <p:cNvSpPr/>
          <p:nvPr/>
        </p:nvSpPr>
        <p:spPr>
          <a:xfrm>
            <a:off x="32702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09ee2"/>
              </a:gs>
              <a:gs pos="50000">
                <a:srgbClr val="ffffff"/>
              </a:gs>
              <a:gs pos="100000">
                <a:srgbClr val="709ee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Oval 21"/>
          <p:cNvSpPr/>
          <p:nvPr/>
        </p:nvSpPr>
        <p:spPr>
          <a:xfrm>
            <a:off x="32702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44969"/>
              </a:gs>
              <a:gs pos="100000">
                <a:srgbClr val="709ee2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22"/>
          <p:cNvSpPr/>
          <p:nvPr/>
        </p:nvSpPr>
        <p:spPr>
          <a:xfrm>
            <a:off x="341136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09ee2"/>
              </a:gs>
              <a:gs pos="50000">
                <a:srgbClr val="3d567a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23"/>
          <p:cNvSpPr/>
          <p:nvPr/>
        </p:nvSpPr>
        <p:spPr>
          <a:xfrm>
            <a:off x="341316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09ee2">
                  <a:alpha val="0"/>
                </a:srgbClr>
              </a:gs>
              <a:gs pos="100000">
                <a:srgbClr val="47649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50532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25"/>
          <p:cNvGrpSpPr/>
          <p:nvPr/>
        </p:nvGrpSpPr>
        <p:grpSpPr>
          <a:xfrm>
            <a:off x="3532320" y="2311560"/>
            <a:ext cx="1636560" cy="1636560"/>
            <a:chOff x="3532320" y="2311560"/>
            <a:chExt cx="1636560" cy="1636560"/>
          </a:xfrm>
        </p:grpSpPr>
        <p:sp>
          <p:nvSpPr>
            <p:cNvPr id="284" name="Oval 26"/>
            <p:cNvSpPr/>
            <p:nvPr/>
          </p:nvSpPr>
          <p:spPr>
            <a:xfrm>
              <a:off x="35323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7"/>
            <p:cNvSpPr/>
            <p:nvPr/>
          </p:nvSpPr>
          <p:spPr>
            <a:xfrm>
              <a:off x="3553200" y="23205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8"/>
            <p:cNvSpPr/>
            <p:nvPr/>
          </p:nvSpPr>
          <p:spPr>
            <a:xfrm>
              <a:off x="35701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9"/>
            <p:cNvSpPr/>
            <p:nvPr/>
          </p:nvSpPr>
          <p:spPr>
            <a:xfrm>
              <a:off x="36590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30"/>
          <p:cNvGrpSpPr/>
          <p:nvPr/>
        </p:nvGrpSpPr>
        <p:grpSpPr>
          <a:xfrm>
            <a:off x="6278400" y="2311560"/>
            <a:ext cx="1636920" cy="1636560"/>
            <a:chOff x="6278400" y="2311560"/>
            <a:chExt cx="1636920" cy="1636560"/>
          </a:xfrm>
        </p:grpSpPr>
        <p:sp>
          <p:nvSpPr>
            <p:cNvPr id="289" name="Oval 31"/>
            <p:cNvSpPr/>
            <p:nvPr/>
          </p:nvSpPr>
          <p:spPr>
            <a:xfrm>
              <a:off x="6278400" y="231156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629928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6316200" y="233640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6405120" y="237816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AutoShape 35"/>
          <p:cNvSpPr/>
          <p:nvPr/>
        </p:nvSpPr>
        <p:spPr>
          <a:xfrm>
            <a:off x="58248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331632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06888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8"/>
          <p:cNvSpPr/>
          <p:nvPr/>
        </p:nvSpPr>
        <p:spPr>
          <a:xfrm>
            <a:off x="122976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397296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71616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152388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b9d8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1371600" y="1752480"/>
            <a:ext cx="5943600" cy="4038840"/>
          </a:xfrm>
          <a:prstGeom prst="pie">
            <a:avLst/>
          </a:prstGeom>
          <a:gradFill rotWithShape="0">
            <a:gsLst>
              <a:gs pos="0">
                <a:srgbClr val="9874f2"/>
              </a:gs>
              <a:gs pos="100000">
                <a:srgbClr val="3b9d8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01992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34"/>
          <p:cNvSpPr/>
          <p:nvPr/>
        </p:nvSpPr>
        <p:spPr>
          <a:xfrm rot="20876400">
            <a:off x="3290760" y="4807080"/>
            <a:ext cx="143856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35"/>
          <p:cNvSpPr/>
          <p:nvPr/>
        </p:nvSpPr>
        <p:spPr>
          <a:xfrm>
            <a:off x="3222720" y="358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36"/>
          <p:cNvSpPr/>
          <p:nvPr/>
        </p:nvSpPr>
        <p:spPr>
          <a:xfrm>
            <a:off x="3243240" y="35971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37"/>
          <p:cNvSpPr/>
          <p:nvPr/>
        </p:nvSpPr>
        <p:spPr>
          <a:xfrm>
            <a:off x="3260880" y="3613320"/>
            <a:ext cx="158400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38"/>
          <p:cNvSpPr/>
          <p:nvPr/>
        </p:nvSpPr>
        <p:spPr>
          <a:xfrm>
            <a:off x="3352680" y="36576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3640320" y="4214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40"/>
          <p:cNvSpPr/>
          <p:nvPr/>
        </p:nvSpPr>
        <p:spPr>
          <a:xfrm rot="20826600">
            <a:off x="1461960" y="41968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41"/>
          <p:cNvGrpSpPr/>
          <p:nvPr/>
        </p:nvGrpSpPr>
        <p:grpSpPr>
          <a:xfrm>
            <a:off x="1386000" y="3206880"/>
            <a:ext cx="1371240" cy="1441080"/>
            <a:chOff x="1386000" y="3206880"/>
            <a:chExt cx="1371240" cy="1441080"/>
          </a:xfrm>
        </p:grpSpPr>
        <p:sp>
          <p:nvSpPr>
            <p:cNvPr id="311" name="Oval 42"/>
            <p:cNvSpPr/>
            <p:nvPr/>
          </p:nvSpPr>
          <p:spPr>
            <a:xfrm>
              <a:off x="1386000" y="32068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43"/>
            <p:cNvSpPr/>
            <p:nvPr/>
          </p:nvSpPr>
          <p:spPr>
            <a:xfrm>
              <a:off x="1404000" y="32151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4"/>
            <p:cNvSpPr/>
            <p:nvPr/>
          </p:nvSpPr>
          <p:spPr>
            <a:xfrm>
              <a:off x="1416960" y="32284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5"/>
            <p:cNvSpPr/>
            <p:nvPr/>
          </p:nvSpPr>
          <p:spPr>
            <a:xfrm>
              <a:off x="1488600" y="32652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46"/>
            <p:cNvSpPr/>
            <p:nvPr/>
          </p:nvSpPr>
          <p:spPr>
            <a:xfrm>
              <a:off x="166644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Oval 47"/>
          <p:cNvSpPr/>
          <p:nvPr/>
        </p:nvSpPr>
        <p:spPr>
          <a:xfrm>
            <a:off x="1338120" y="24415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48"/>
          <p:cNvSpPr/>
          <p:nvPr/>
        </p:nvSpPr>
        <p:spPr>
          <a:xfrm>
            <a:off x="1414440" y="18352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49"/>
          <p:cNvSpPr/>
          <p:nvPr/>
        </p:nvSpPr>
        <p:spPr>
          <a:xfrm>
            <a:off x="1427040" y="183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50"/>
          <p:cNvSpPr/>
          <p:nvPr/>
        </p:nvSpPr>
        <p:spPr>
          <a:xfrm>
            <a:off x="1438200" y="18511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51"/>
          <p:cNvSpPr/>
          <p:nvPr/>
        </p:nvSpPr>
        <p:spPr>
          <a:xfrm>
            <a:off x="1492200" y="18763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2"/>
          <p:cNvSpPr/>
          <p:nvPr/>
        </p:nvSpPr>
        <p:spPr>
          <a:xfrm>
            <a:off x="1611360" y="218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53"/>
          <p:cNvSpPr/>
          <p:nvPr/>
        </p:nvSpPr>
        <p:spPr>
          <a:xfrm>
            <a:off x="2604960" y="191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54"/>
          <p:cNvSpPr/>
          <p:nvPr/>
        </p:nvSpPr>
        <p:spPr>
          <a:xfrm>
            <a:off x="2727360" y="13780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2736720" y="138096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56"/>
          <p:cNvSpPr/>
          <p:nvPr/>
        </p:nvSpPr>
        <p:spPr>
          <a:xfrm>
            <a:off x="2743200" y="13874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57"/>
          <p:cNvSpPr/>
          <p:nvPr/>
        </p:nvSpPr>
        <p:spPr>
          <a:xfrm>
            <a:off x="2779560" y="14065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2797560" y="160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 rot="17973000">
            <a:off x="466632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b9d81"/>
              </a:gs>
              <a:gs pos="100000">
                <a:srgbClr val="c4e1d9"/>
              </a:gs>
            </a:gsLst>
            <a:lin ang="9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 rot="3465600">
            <a:off x="466596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b9d81"/>
              </a:gs>
              <a:gs pos="100000">
                <a:srgbClr val="c4e1d9"/>
              </a:gs>
            </a:gsLst>
            <a:lin ang="19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 rot="14368800">
            <a:off x="3447000" y="25340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b9d81"/>
              </a:gs>
              <a:gs pos="100000">
                <a:srgbClr val="c4e1d9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 rot="7534800">
            <a:off x="340884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b9d81"/>
              </a:gs>
              <a:gs pos="100000">
                <a:srgbClr val="c4e1d9"/>
              </a:gs>
            </a:gsLst>
            <a:lin ang="194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5245200" y="358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4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 rot="10800000">
            <a:off x="283500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3b9d81"/>
              </a:gs>
              <a:gs pos="100000">
                <a:srgbClr val="c4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0"/>
          <p:cNvGrpSpPr/>
          <p:nvPr/>
        </p:nvGrpSpPr>
        <p:grpSpPr>
          <a:xfrm>
            <a:off x="3317760" y="1876320"/>
            <a:ext cx="360360" cy="360360"/>
            <a:chOff x="3317760" y="1876320"/>
            <a:chExt cx="360360" cy="360360"/>
          </a:xfrm>
        </p:grpSpPr>
        <p:sp>
          <p:nvSpPr>
            <p:cNvPr id="337" name="Oval 11"/>
            <p:cNvSpPr/>
            <p:nvPr/>
          </p:nvSpPr>
          <p:spPr>
            <a:xfrm>
              <a:off x="331776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2"/>
            <p:cNvSpPr/>
            <p:nvPr/>
          </p:nvSpPr>
          <p:spPr>
            <a:xfrm>
              <a:off x="333360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2373480" y="3532320"/>
            <a:ext cx="360360" cy="360360"/>
            <a:chOff x="2373480" y="3532320"/>
            <a:chExt cx="360360" cy="360360"/>
          </a:xfrm>
        </p:grpSpPr>
        <p:sp>
          <p:nvSpPr>
            <p:cNvPr id="340" name="Oval 14"/>
            <p:cNvSpPr/>
            <p:nvPr/>
          </p:nvSpPr>
          <p:spPr>
            <a:xfrm>
              <a:off x="237348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238932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16"/>
          <p:cNvGrpSpPr/>
          <p:nvPr/>
        </p:nvGrpSpPr>
        <p:grpSpPr>
          <a:xfrm>
            <a:off x="3236760" y="5075280"/>
            <a:ext cx="360360" cy="360360"/>
            <a:chOff x="3236760" y="5075280"/>
            <a:chExt cx="360360" cy="360360"/>
          </a:xfrm>
        </p:grpSpPr>
        <p:sp>
          <p:nvSpPr>
            <p:cNvPr id="343" name="Oval 17"/>
            <p:cNvSpPr/>
            <p:nvPr/>
          </p:nvSpPr>
          <p:spPr>
            <a:xfrm>
              <a:off x="323676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325260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19"/>
          <p:cNvGrpSpPr/>
          <p:nvPr/>
        </p:nvGrpSpPr>
        <p:grpSpPr>
          <a:xfrm>
            <a:off x="5167440" y="1855800"/>
            <a:ext cx="360360" cy="360360"/>
            <a:chOff x="5167440" y="1855800"/>
            <a:chExt cx="360360" cy="360360"/>
          </a:xfrm>
        </p:grpSpPr>
        <p:sp>
          <p:nvSpPr>
            <p:cNvPr id="346" name="Oval 20"/>
            <p:cNvSpPr/>
            <p:nvPr/>
          </p:nvSpPr>
          <p:spPr>
            <a:xfrm>
              <a:off x="516744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518328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Group 22"/>
          <p:cNvGrpSpPr/>
          <p:nvPr/>
        </p:nvGrpSpPr>
        <p:grpSpPr>
          <a:xfrm>
            <a:off x="6116760" y="3532320"/>
            <a:ext cx="360360" cy="360360"/>
            <a:chOff x="6116760" y="3532320"/>
            <a:chExt cx="360360" cy="360360"/>
          </a:xfrm>
        </p:grpSpPr>
        <p:sp>
          <p:nvSpPr>
            <p:cNvPr id="349" name="Oval 23"/>
            <p:cNvSpPr/>
            <p:nvPr/>
          </p:nvSpPr>
          <p:spPr>
            <a:xfrm>
              <a:off x="61167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61326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25"/>
          <p:cNvGrpSpPr/>
          <p:nvPr/>
        </p:nvGrpSpPr>
        <p:grpSpPr>
          <a:xfrm>
            <a:off x="5222880" y="5132520"/>
            <a:ext cx="360360" cy="360360"/>
            <a:chOff x="5222880" y="5132520"/>
            <a:chExt cx="360360" cy="360360"/>
          </a:xfrm>
        </p:grpSpPr>
        <p:sp>
          <p:nvSpPr>
            <p:cNvPr id="352" name="Oval 26"/>
            <p:cNvSpPr/>
            <p:nvPr/>
          </p:nvSpPr>
          <p:spPr>
            <a:xfrm>
              <a:off x="522288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27"/>
            <p:cNvSpPr/>
            <p:nvPr/>
          </p:nvSpPr>
          <p:spPr>
            <a:xfrm>
              <a:off x="523872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fdef5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b9d81"/>
              </a:gs>
              <a:gs pos="50000">
                <a:srgbClr val="ffffff"/>
              </a:gs>
              <a:gs pos="100000">
                <a:srgbClr val="3b9d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34"/>
          <p:cNvSpPr/>
          <p:nvPr/>
        </p:nvSpPr>
        <p:spPr>
          <a:xfrm>
            <a:off x="405360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237e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5"/>
          <p:cNvSpPr/>
          <p:nvPr/>
        </p:nvSpPr>
        <p:spPr>
          <a:xfrm>
            <a:off x="560628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6"/>
          <p:cNvSpPr/>
          <p:nvPr/>
        </p:nvSpPr>
        <p:spPr>
          <a:xfrm>
            <a:off x="180576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7"/>
          <p:cNvSpPr/>
          <p:nvPr/>
        </p:nvSpPr>
        <p:spPr>
          <a:xfrm>
            <a:off x="652068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560628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9"/>
          <p:cNvSpPr/>
          <p:nvPr/>
        </p:nvSpPr>
        <p:spPr>
          <a:xfrm>
            <a:off x="89136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40"/>
          <p:cNvSpPr/>
          <p:nvPr/>
        </p:nvSpPr>
        <p:spPr>
          <a:xfrm>
            <a:off x="172944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373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54"/>
            <p:cNvSpPr/>
            <p:nvPr/>
          </p:nvSpPr>
          <p:spPr>
            <a:xfrm>
              <a:off x="185112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385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66"/>
            <p:cNvSpPr/>
            <p:nvPr/>
          </p:nvSpPr>
          <p:spPr>
            <a:xfrm>
              <a:off x="657540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782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93040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080" y="3202920"/>
            <a:ext cx="1703880" cy="2679120"/>
            <a:chOff x="4906080" y="3202920"/>
            <a:chExt cx="170388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080" y="3381480"/>
              <a:ext cx="1577160" cy="2500560"/>
              <a:chOff x="4906080" y="338148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2760" y="435276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32116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202920"/>
              <a:ext cx="1209960" cy="1918800"/>
              <a:chOff x="5400000" y="320292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94848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9944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81320"/>
            <a:ext cx="1439640" cy="1439640"/>
            <a:chOff x="4427640" y="228132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81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81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3745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7780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43828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1880" y="2455560"/>
              <a:ext cx="1090440" cy="1091880"/>
              <a:chOff x="4601880" y="2455560"/>
              <a:chExt cx="1090440" cy="109188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1880" y="245556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560" y="246168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080" y="247212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120" y="249984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080" y="3276000"/>
            <a:ext cx="1703880" cy="2679120"/>
            <a:chOff x="7138080" y="3276000"/>
            <a:chExt cx="170388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080" y="3454560"/>
              <a:ext cx="1577160" cy="2500560"/>
              <a:chOff x="7138080" y="345456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4760" y="4425840"/>
                <a:ext cx="2503440" cy="5576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9424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76000"/>
              <a:ext cx="1209960" cy="1918800"/>
              <a:chOff x="7632000" y="327600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4021560"/>
                <a:ext cx="1920960" cy="427680"/>
              </a:xfrm>
              <a:prstGeom prst="pi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77252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1225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1225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23524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23848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31156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332080"/>
            <a:ext cx="1311480" cy="1309680"/>
            <a:chOff x="6653160" y="233208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33208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33928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35188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8536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202560"/>
            <a:ext cx="1703880" cy="2679480"/>
            <a:chOff x="2858760" y="3202560"/>
            <a:chExt cx="170388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81480"/>
              <a:ext cx="1577160" cy="2500560"/>
              <a:chOff x="2858760" y="338148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35276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900240" y="532116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202560"/>
              <a:ext cx="1209960" cy="1918800"/>
              <a:chOff x="3352680" y="3202560"/>
              <a:chExt cx="120996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000" y="394812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240" y="469908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81320"/>
            <a:ext cx="1440000" cy="1439640"/>
            <a:chOff x="2379600" y="2281320"/>
            <a:chExt cx="144000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813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813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5000" y="23745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5000" y="237780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920" y="243828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455560"/>
              <a:ext cx="1090800" cy="1091880"/>
              <a:chOff x="2554200" y="2455560"/>
              <a:chExt cx="1090800" cy="109188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45556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46168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47212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9984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202560"/>
            <a:ext cx="1703880" cy="2679480"/>
            <a:chOff x="875880" y="3202560"/>
            <a:chExt cx="170388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81480"/>
              <a:ext cx="1577160" cy="2500560"/>
              <a:chOff x="875880" y="338148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35276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360" y="532116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202560"/>
              <a:ext cx="1209960" cy="1918800"/>
              <a:chOff x="1369800" y="3202560"/>
              <a:chExt cx="120996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120" y="394812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360" y="469908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81320"/>
            <a:ext cx="1440000" cy="1439640"/>
            <a:chOff x="396720" y="2281320"/>
            <a:chExt cx="144000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813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813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2120" y="23745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2120" y="237780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4040" y="243828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455560"/>
              <a:ext cx="1090800" cy="1091880"/>
              <a:chOff x="571320" y="2455560"/>
              <a:chExt cx="1090800" cy="109188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45556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46168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47212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9984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225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936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225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936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225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936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84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95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631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631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631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89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815840"/>
            <a:ext cx="1222920" cy="1080"/>
          </a:xfrm>
          <a:prstGeom prst="straightConnector1">
            <a:avLst/>
          </a:prstGeom>
          <a:ln w="9360">
            <a:solidFill>
              <a:srgbClr val="0e237e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815840"/>
            <a:ext cx="1213560" cy="1080"/>
          </a:xfrm>
          <a:prstGeom prst="straightConnector1">
            <a:avLst/>
          </a:prstGeom>
          <a:ln w="9360">
            <a:solidFill>
              <a:srgbClr val="0e237e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816200"/>
            <a:ext cx="1220040" cy="2160"/>
          </a:xfrm>
          <a:prstGeom prst="straightConnector1">
            <a:avLst/>
          </a:prstGeom>
          <a:ln w="9360">
            <a:solidFill>
              <a:srgbClr val="0e237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3623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63670"/>
              </a:gs>
              <a:gs pos="100000">
                <a:srgbClr val="9874f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3623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b493c"/>
              </a:gs>
              <a:gs pos="100000">
                <a:srgbClr val="3b9d81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3623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44969"/>
              </a:gs>
              <a:gs pos="100000">
                <a:srgbClr val="709ee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600200"/>
            <a:ext cx="20574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4969"/>
              </a:gs>
              <a:gs pos="100000">
                <a:srgbClr val="709ee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600200"/>
            <a:ext cx="20574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493c"/>
              </a:gs>
              <a:gs pos="100000">
                <a:srgbClr val="3b9d8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600200"/>
            <a:ext cx="20574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3670"/>
              </a:gs>
              <a:gs pos="100000">
                <a:srgbClr val="9874f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172200" y="28195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419720" y="28195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679840" y="28195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914400" y="28195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972000" y="1325160"/>
            <a:ext cx="6436800" cy="1387800"/>
            <a:chOff x="972000" y="1325160"/>
            <a:chExt cx="6436800" cy="138780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182240" y="15501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b9d81"/>
                </a:gs>
                <a:gs pos="100000">
                  <a:srgbClr val="88c3b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146680" y="1721880"/>
              <a:ext cx="932040" cy="131760"/>
              <a:chOff x="2146680" y="1721880"/>
              <a:chExt cx="93204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146680" y="17218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235960" y="17229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2937600" y="17240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12600">
                <a:solidFill>
                  <a:srgbClr val="0e2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012840" y="17650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2903400" y="14842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874f2"/>
                </a:gs>
                <a:gs pos="100000">
                  <a:srgbClr val="c0abf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3867840" y="1721880"/>
              <a:ext cx="932040" cy="131760"/>
              <a:chOff x="3867840" y="1721880"/>
              <a:chExt cx="93204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3867840" y="17218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3957120" y="17229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658760" y="17240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12600">
                <a:solidFill>
                  <a:srgbClr val="0e2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734000" y="17650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552560" y="14842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3b9d81"/>
                </a:gs>
                <a:gs pos="100000">
                  <a:srgbClr val="88c3b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589000" y="1721880"/>
              <a:ext cx="1218600" cy="131760"/>
              <a:chOff x="5589000" y="1721880"/>
              <a:chExt cx="121860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589000" y="17218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705640" y="17229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622920" y="17240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12600">
                <a:solidFill>
                  <a:srgbClr val="0e2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721560" y="17650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273720" y="14842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9874f2"/>
                </a:gs>
                <a:gs pos="100000">
                  <a:srgbClr val="c0abf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3028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0553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655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40836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309320" y="31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061800" y="31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814280" y="31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567120" y="31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914400" y="1523880"/>
          <a:ext cx="7085160" cy="3629160"/>
        </p:xfrm>
        <a:graphic>
          <a:graphicData uri="http://schemas.openxmlformats.org/drawingml/2006/table">
            <a:tbl>
              <a:tblPr/>
              <a:tblGrid>
                <a:gridCol w="1417680"/>
                <a:gridCol w="1131840"/>
                <a:gridCol w="1131840"/>
                <a:gridCol w="1135080"/>
                <a:gridCol w="1133640"/>
                <a:gridCol w="1135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93c"/>
                        </a:gs>
                        <a:gs pos="50000">
                          <a:srgbClr val="3b9d81"/>
                        </a:gs>
                        <a:gs pos="100000">
                          <a:srgbClr val="1b493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93c"/>
                        </a:gs>
                        <a:gs pos="50000">
                          <a:srgbClr val="3b9d81"/>
                        </a:gs>
                        <a:gs pos="100000">
                          <a:srgbClr val="1b493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93c"/>
                        </a:gs>
                        <a:gs pos="50000">
                          <a:srgbClr val="3b9d81"/>
                        </a:gs>
                        <a:gs pos="100000">
                          <a:srgbClr val="1b493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93c"/>
                        </a:gs>
                        <a:gs pos="50000">
                          <a:srgbClr val="3b9d81"/>
                        </a:gs>
                        <a:gs pos="100000">
                          <a:srgbClr val="1b493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93c"/>
                        </a:gs>
                        <a:gs pos="50000">
                          <a:srgbClr val="3b9d81"/>
                        </a:gs>
                        <a:gs pos="100000">
                          <a:srgbClr val="1b493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93c"/>
                        </a:gs>
                        <a:gs pos="50000">
                          <a:srgbClr val="3b9d81"/>
                        </a:gs>
                        <a:gs pos="100000">
                          <a:srgbClr val="1b493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Oval 23"/>
          <p:cNvSpPr/>
          <p:nvPr/>
        </p:nvSpPr>
        <p:spPr>
          <a:xfrm>
            <a:off x="2192400" y="417996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00344f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24"/>
          <p:cNvSpPr/>
          <p:nvPr/>
        </p:nvSpPr>
        <p:spPr>
          <a:xfrm rot="20601600">
            <a:off x="1467000" y="206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25"/>
          <p:cNvSpPr/>
          <p:nvPr/>
        </p:nvSpPr>
        <p:spPr>
          <a:xfrm rot="20601600">
            <a:off x="1523520" y="190476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rc 26"/>
          <p:cNvSpPr/>
          <p:nvPr/>
        </p:nvSpPr>
        <p:spPr>
          <a:xfrm rot="20601600">
            <a:off x="4171680" y="1982520"/>
            <a:ext cx="2851200" cy="153828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rc 27"/>
          <p:cNvSpPr/>
          <p:nvPr/>
        </p:nvSpPr>
        <p:spPr>
          <a:xfrm flipH="1" rot="20602200">
            <a:off x="1576800" y="3295440"/>
            <a:ext cx="2876760" cy="1630080"/>
          </a:xfrm>
          <a:prstGeom prst="pie">
            <a:avLst/>
          </a:pr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rc 28"/>
          <p:cNvSpPr/>
          <p:nvPr/>
        </p:nvSpPr>
        <p:spPr>
          <a:xfrm rot="20601600">
            <a:off x="3416400" y="1711080"/>
            <a:ext cx="2813040" cy="1417680"/>
          </a:xfrm>
          <a:prstGeom prst="pie">
            <a:avLst/>
          </a:pr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rc 29"/>
          <p:cNvSpPr/>
          <p:nvPr/>
        </p:nvSpPr>
        <p:spPr>
          <a:xfrm flipH="1" rot="20602200">
            <a:off x="1377720" y="2363400"/>
            <a:ext cx="2762280" cy="1380960"/>
          </a:xfrm>
          <a:prstGeom prst="pie">
            <a:avLst/>
          </a:pr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30"/>
          <p:cNvSpPr/>
          <p:nvPr/>
        </p:nvSpPr>
        <p:spPr>
          <a:xfrm rot="20601600">
            <a:off x="2984400" y="261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300040" y="284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32"/>
          <p:cNvSpPr/>
          <p:nvPr/>
        </p:nvSpPr>
        <p:spPr>
          <a:xfrm>
            <a:off x="4204800" y="192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5881320" y="238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34"/>
          <p:cNvSpPr/>
          <p:nvPr/>
        </p:nvSpPr>
        <p:spPr>
          <a:xfrm>
            <a:off x="6307200" y="2917800"/>
            <a:ext cx="1295280" cy="1711440"/>
          </a:xfrm>
          <a:prstGeom prst="pie">
            <a:avLst/>
          </a:prstGeom>
          <a:gradFill rotWithShape="0">
            <a:gsLst>
              <a:gs pos="0">
                <a:srgbClr val="6600cc"/>
              </a:gs>
              <a:gs pos="100000">
                <a:srgbClr val="b98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rc 35"/>
          <p:cNvSpPr/>
          <p:nvPr/>
        </p:nvSpPr>
        <p:spPr>
          <a:xfrm rot="20539200">
            <a:off x="4704840" y="2923920"/>
            <a:ext cx="2984760" cy="13460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36"/>
          <p:cNvSpPr/>
          <p:nvPr/>
        </p:nvSpPr>
        <p:spPr>
          <a:xfrm>
            <a:off x="4606920" y="3398760"/>
            <a:ext cx="1758960" cy="1236600"/>
          </a:xfrm>
          <a:prstGeom prst="pie">
            <a:avLst/>
          </a:pr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7"/>
          <p:cNvSpPr/>
          <p:nvPr/>
        </p:nvSpPr>
        <p:spPr>
          <a:xfrm>
            <a:off x="5881320" y="337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38"/>
          <p:cNvSpPr/>
          <p:nvPr/>
        </p:nvSpPr>
        <p:spPr>
          <a:xfrm>
            <a:off x="4128840" y="4137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9"/>
          <p:cNvSpPr/>
          <p:nvPr/>
        </p:nvSpPr>
        <p:spPr>
          <a:xfrm>
            <a:off x="2223720" y="398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40"/>
          <p:cNvSpPr/>
          <p:nvPr/>
        </p:nvSpPr>
        <p:spPr>
          <a:xfrm rot="20601600">
            <a:off x="3086280" y="287172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00344f"/>
              </a:gs>
              <a:gs pos="100000">
                <a:srgbClr val="000000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reeform 41"/>
          <p:cNvSpPr/>
          <p:nvPr/>
        </p:nvSpPr>
        <p:spPr>
          <a:xfrm>
            <a:off x="4782960" y="3794040"/>
            <a:ext cx="1283040" cy="1028880"/>
          </a:xfrm>
          <a:prstGeom prst="pie">
            <a:avLst/>
          </a:pr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498680" y="208584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905120" y="1371600"/>
            <a:ext cx="510516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218400" y="26924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8"/>
          <p:cNvSpPr/>
          <p:nvPr/>
        </p:nvSpPr>
        <p:spPr>
          <a:xfrm>
            <a:off x="685800" y="387180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9"/>
          <p:cNvSpPr/>
          <p:nvPr/>
        </p:nvSpPr>
        <p:spPr>
          <a:xfrm>
            <a:off x="719280" y="3908520"/>
            <a:ext cx="1473120" cy="1474560"/>
          </a:xfrm>
          <a:prstGeom prst="ellipse">
            <a:avLst/>
          </a:prstGeom>
          <a:gradFill rotWithShape="0">
            <a:gsLst>
              <a:gs pos="0">
                <a:srgbClr val="95753c"/>
              </a:gs>
              <a:gs pos="100000">
                <a:srgbClr val="eab85e">
                  <a:alpha val="8509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10"/>
          <p:cNvSpPr/>
          <p:nvPr/>
        </p:nvSpPr>
        <p:spPr>
          <a:xfrm>
            <a:off x="776160" y="3962520"/>
            <a:ext cx="1332000" cy="1331640"/>
          </a:xfrm>
          <a:prstGeom prst="ellipse">
            <a:avLst/>
          </a:prstGeom>
          <a:gradFill rotWithShape="0">
            <a:gsLst>
              <a:gs pos="0">
                <a:srgbClr val="aa8544"/>
              </a:gs>
              <a:gs pos="100000">
                <a:srgbClr val="eab8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11" descr="Picture1"/>
          <p:cNvPicPr/>
          <p:nvPr/>
        </p:nvPicPr>
        <p:blipFill>
          <a:blip r:embed="rId3"/>
          <a:stretch/>
        </p:blipFill>
        <p:spPr>
          <a:xfrm>
            <a:off x="719280" y="396252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12"/>
          <p:cNvSpPr/>
          <p:nvPr/>
        </p:nvSpPr>
        <p:spPr>
          <a:xfrm>
            <a:off x="1035360" y="4491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15"/>
          <p:cNvSpPr/>
          <p:nvPr/>
        </p:nvSpPr>
        <p:spPr>
          <a:xfrm>
            <a:off x="2624040" y="3871800"/>
            <a:ext cx="154476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6"/>
          <p:cNvSpPr/>
          <p:nvPr/>
        </p:nvSpPr>
        <p:spPr>
          <a:xfrm>
            <a:off x="2657520" y="3908520"/>
            <a:ext cx="1473120" cy="1474560"/>
          </a:xfrm>
          <a:prstGeom prst="ellipse">
            <a:avLst/>
          </a:prstGeom>
          <a:gradFill rotWithShape="0">
            <a:gsLst>
              <a:gs pos="0">
                <a:srgbClr val="256452"/>
              </a:gs>
              <a:gs pos="100000">
                <a:srgbClr val="3b9d81">
                  <a:alpha val="8509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7"/>
          <p:cNvSpPr/>
          <p:nvPr/>
        </p:nvSpPr>
        <p:spPr>
          <a:xfrm>
            <a:off x="2714760" y="3962520"/>
            <a:ext cx="1331640" cy="1331640"/>
          </a:xfrm>
          <a:prstGeom prst="ellipse">
            <a:avLst/>
          </a:prstGeom>
          <a:gradFill rotWithShape="0">
            <a:gsLst>
              <a:gs pos="0">
                <a:srgbClr val="2b725e"/>
              </a:gs>
              <a:gs pos="100000">
                <a:srgbClr val="3b9d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18" descr="Picture1"/>
          <p:cNvPicPr/>
          <p:nvPr/>
        </p:nvPicPr>
        <p:blipFill>
          <a:blip r:embed="rId5"/>
          <a:stretch/>
        </p:blipFill>
        <p:spPr>
          <a:xfrm>
            <a:off x="2657520" y="396252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9"/>
          <p:cNvSpPr/>
          <p:nvPr/>
        </p:nvSpPr>
        <p:spPr>
          <a:xfrm>
            <a:off x="2973960" y="4491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22"/>
          <p:cNvSpPr/>
          <p:nvPr/>
        </p:nvSpPr>
        <p:spPr>
          <a:xfrm>
            <a:off x="4605480" y="387180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23"/>
          <p:cNvSpPr/>
          <p:nvPr/>
        </p:nvSpPr>
        <p:spPr>
          <a:xfrm>
            <a:off x="4638600" y="3908520"/>
            <a:ext cx="1473120" cy="1474560"/>
          </a:xfrm>
          <a:prstGeom prst="ellipse">
            <a:avLst/>
          </a:prstGeom>
          <a:gradFill rotWithShape="0">
            <a:gsLst>
              <a:gs pos="0">
                <a:srgbClr val="476490"/>
              </a:gs>
              <a:gs pos="100000">
                <a:srgbClr val="709ee2">
                  <a:alpha val="8509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24"/>
          <p:cNvSpPr/>
          <p:nvPr/>
        </p:nvSpPr>
        <p:spPr>
          <a:xfrm>
            <a:off x="4695840" y="3962520"/>
            <a:ext cx="1332000" cy="1331640"/>
          </a:xfrm>
          <a:prstGeom prst="ellipse">
            <a:avLst/>
          </a:prstGeom>
          <a:gradFill rotWithShape="0">
            <a:gsLst>
              <a:gs pos="0">
                <a:srgbClr val="5173a4"/>
              </a:gs>
              <a:gs pos="100000">
                <a:srgbClr val="709ee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25" descr="Picture1"/>
          <p:cNvPicPr/>
          <p:nvPr/>
        </p:nvPicPr>
        <p:blipFill>
          <a:blip r:embed="rId7"/>
          <a:stretch/>
        </p:blipFill>
        <p:spPr>
          <a:xfrm>
            <a:off x="4638600" y="396252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6"/>
          <p:cNvSpPr/>
          <p:nvPr/>
        </p:nvSpPr>
        <p:spPr>
          <a:xfrm>
            <a:off x="4955040" y="4491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29"/>
          <p:cNvSpPr/>
          <p:nvPr/>
        </p:nvSpPr>
        <p:spPr>
          <a:xfrm>
            <a:off x="6586560" y="387180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30"/>
          <p:cNvSpPr/>
          <p:nvPr/>
        </p:nvSpPr>
        <p:spPr>
          <a:xfrm>
            <a:off x="6620040" y="3908520"/>
            <a:ext cx="1473120" cy="1474560"/>
          </a:xfrm>
          <a:prstGeom prst="ellipse">
            <a:avLst/>
          </a:prstGeom>
          <a:gradFill rotWithShape="0">
            <a:gsLst>
              <a:gs pos="0">
                <a:srgbClr val="517a29"/>
              </a:gs>
              <a:gs pos="100000">
                <a:srgbClr val="80c040">
                  <a:alpha val="8509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31"/>
          <p:cNvSpPr/>
          <p:nvPr/>
        </p:nvSpPr>
        <p:spPr>
          <a:xfrm>
            <a:off x="6676920" y="3962520"/>
            <a:ext cx="1332000" cy="1331640"/>
          </a:xfrm>
          <a:prstGeom prst="ellipse">
            <a:avLst/>
          </a:prstGeom>
          <a:gradFill rotWithShape="0">
            <a:gsLst>
              <a:gs pos="0">
                <a:srgbClr val="5d8b2e"/>
              </a:gs>
              <a:gs pos="100000">
                <a:srgbClr val="80c04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32" descr="Picture1"/>
          <p:cNvPicPr/>
          <p:nvPr/>
        </p:nvPicPr>
        <p:blipFill>
          <a:blip r:embed="rId9"/>
          <a:stretch/>
        </p:blipFill>
        <p:spPr>
          <a:xfrm>
            <a:off x="6620040" y="396252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3"/>
          <p:cNvSpPr/>
          <p:nvPr/>
        </p:nvSpPr>
        <p:spPr>
          <a:xfrm>
            <a:off x="6936120" y="4491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2362320" y="24163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519720" y="19270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1981080" y="1752480"/>
            <a:ext cx="685800" cy="679320"/>
            <a:chOff x="1981080" y="1752480"/>
            <a:chExt cx="685800" cy="679320"/>
          </a:xfrm>
        </p:grpSpPr>
        <p:grpSp>
          <p:nvGrpSpPr>
            <p:cNvPr id="82" name="Group 6"/>
            <p:cNvGrpSpPr/>
            <p:nvPr/>
          </p:nvGrpSpPr>
          <p:grpSpPr>
            <a:xfrm>
              <a:off x="1981080" y="1752480"/>
              <a:ext cx="685800" cy="679320"/>
              <a:chOff x="1981080" y="1752480"/>
              <a:chExt cx="685800" cy="679320"/>
            </a:xfrm>
          </p:grpSpPr>
          <p:grpSp>
            <p:nvGrpSpPr>
              <p:cNvPr id="83" name="Group 7"/>
              <p:cNvGrpSpPr/>
              <p:nvPr/>
            </p:nvGrpSpPr>
            <p:grpSpPr>
              <a:xfrm>
                <a:off x="1981080" y="1752480"/>
                <a:ext cx="685800" cy="679320"/>
                <a:chOff x="1981080" y="1752480"/>
                <a:chExt cx="685800" cy="679320"/>
              </a:xfrm>
            </p:grpSpPr>
            <p:sp>
              <p:nvSpPr>
                <p:cNvPr id="84" name="Oval 8"/>
                <p:cNvSpPr/>
                <p:nvPr/>
              </p:nvSpPr>
              <p:spPr>
                <a:xfrm>
                  <a:off x="1981080" y="17524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50000">
                      <a:srgbClr val="ffffff"/>
                    </a:gs>
                    <a:gs pos="100000">
                      <a:srgbClr val="709ee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Oval 9"/>
                <p:cNvSpPr/>
                <p:nvPr/>
              </p:nvSpPr>
              <p:spPr>
                <a:xfrm>
                  <a:off x="1981080" y="17524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709ee2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Oval 10"/>
                <p:cNvSpPr/>
                <p:nvPr/>
              </p:nvSpPr>
              <p:spPr>
                <a:xfrm>
                  <a:off x="2026440" y="17967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50000">
                      <a:srgbClr val="3d567a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Oval 11"/>
                <p:cNvSpPr/>
                <p:nvPr/>
              </p:nvSpPr>
              <p:spPr>
                <a:xfrm>
                  <a:off x="2026440" y="17978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>
                        <a:alpha val="0"/>
                      </a:srgbClr>
                    </a:gs>
                    <a:gs pos="100000">
                      <a:srgbClr val="47649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12"/>
              <p:cNvGrpSpPr/>
              <p:nvPr/>
            </p:nvGrpSpPr>
            <p:grpSpPr>
              <a:xfrm>
                <a:off x="2063880" y="1825200"/>
                <a:ext cx="537120" cy="540360"/>
                <a:chOff x="2063880" y="1825200"/>
                <a:chExt cx="537120" cy="540360"/>
              </a:xfrm>
            </p:grpSpPr>
            <p:sp>
              <p:nvSpPr>
                <p:cNvPr id="89" name="Oval 13"/>
                <p:cNvSpPr/>
                <p:nvPr/>
              </p:nvSpPr>
              <p:spPr>
                <a:xfrm>
                  <a:off x="2063880" y="18349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" name="Group 14"/>
                <p:cNvGrpSpPr/>
                <p:nvPr/>
              </p:nvGrpSpPr>
              <p:grpSpPr>
                <a:xfrm>
                  <a:off x="2063880" y="1825200"/>
                  <a:ext cx="519840" cy="515160"/>
                  <a:chOff x="2063880" y="1825200"/>
                  <a:chExt cx="519840" cy="515160"/>
                </a:xfrm>
              </p:grpSpPr>
              <p:sp>
                <p:nvSpPr>
                  <p:cNvPr id="91" name="Oval 15"/>
                  <p:cNvSpPr/>
                  <p:nvPr/>
                </p:nvSpPr>
                <p:spPr>
                  <a:xfrm>
                    <a:off x="2063880" y="18252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16"/>
                  <p:cNvSpPr/>
                  <p:nvPr/>
                </p:nvSpPr>
                <p:spPr>
                  <a:xfrm>
                    <a:off x="2070360" y="18280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7"/>
                  <p:cNvSpPr/>
                  <p:nvPr/>
                </p:nvSpPr>
                <p:spPr>
                  <a:xfrm>
                    <a:off x="2075760" y="18327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8"/>
                  <p:cNvSpPr/>
                  <p:nvPr/>
                </p:nvSpPr>
                <p:spPr>
                  <a:xfrm>
                    <a:off x="2103840" y="18460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5" name="Text Box 19"/>
            <p:cNvSpPr/>
            <p:nvPr/>
          </p:nvSpPr>
          <p:spPr>
            <a:xfrm>
              <a:off x="2135520" y="186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Line 20"/>
          <p:cNvSpPr/>
          <p:nvPr/>
        </p:nvSpPr>
        <p:spPr>
          <a:xfrm>
            <a:off x="2362320" y="32986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3508560" y="2832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2362320" y="4267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3519720" y="3778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519720" y="4714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6"/>
          <p:cNvGrpSpPr/>
          <p:nvPr/>
        </p:nvGrpSpPr>
        <p:grpSpPr>
          <a:xfrm>
            <a:off x="1992240" y="2666880"/>
            <a:ext cx="685800" cy="685800"/>
            <a:chOff x="1992240" y="2666880"/>
            <a:chExt cx="685800" cy="685800"/>
          </a:xfrm>
        </p:grpSpPr>
        <p:grpSp>
          <p:nvGrpSpPr>
            <p:cNvPr id="103" name="Group 27"/>
            <p:cNvGrpSpPr/>
            <p:nvPr/>
          </p:nvGrpSpPr>
          <p:grpSpPr>
            <a:xfrm>
              <a:off x="1992240" y="2666880"/>
              <a:ext cx="685800" cy="685800"/>
              <a:chOff x="1992240" y="2666880"/>
              <a:chExt cx="685800" cy="685800"/>
            </a:xfrm>
          </p:grpSpPr>
          <p:grpSp>
            <p:nvGrpSpPr>
              <p:cNvPr id="104" name="Group 28"/>
              <p:cNvGrpSpPr/>
              <p:nvPr/>
            </p:nvGrpSpPr>
            <p:grpSpPr>
              <a:xfrm>
                <a:off x="1992240" y="2666880"/>
                <a:ext cx="685800" cy="685800"/>
                <a:chOff x="1992240" y="2666880"/>
                <a:chExt cx="685800" cy="685800"/>
              </a:xfrm>
            </p:grpSpPr>
            <p:sp>
              <p:nvSpPr>
                <p:cNvPr id="105" name="Oval 29"/>
                <p:cNvSpPr/>
                <p:nvPr/>
              </p:nvSpPr>
              <p:spPr>
                <a:xfrm>
                  <a:off x="1992240" y="26668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50000">
                      <a:srgbClr val="ffffff"/>
                    </a:gs>
                    <a:gs pos="100000">
                      <a:srgbClr val="3b9d8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Oval 30"/>
                <p:cNvSpPr/>
                <p:nvPr/>
              </p:nvSpPr>
              <p:spPr>
                <a:xfrm>
                  <a:off x="1992240" y="26668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b9d81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Oval 31"/>
                <p:cNvSpPr/>
                <p:nvPr/>
              </p:nvSpPr>
              <p:spPr>
                <a:xfrm>
                  <a:off x="2037600" y="27115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50000">
                      <a:srgbClr val="205546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Oval 32"/>
                <p:cNvSpPr/>
                <p:nvPr/>
              </p:nvSpPr>
              <p:spPr>
                <a:xfrm>
                  <a:off x="2037600" y="27126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>
                        <a:alpha val="0"/>
                      </a:srgbClr>
                    </a:gs>
                    <a:gs pos="100000">
                      <a:srgbClr val="2564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33"/>
              <p:cNvGrpSpPr/>
              <p:nvPr/>
            </p:nvGrpSpPr>
            <p:grpSpPr>
              <a:xfrm>
                <a:off x="2070720" y="2746080"/>
                <a:ext cx="537120" cy="545400"/>
                <a:chOff x="2070720" y="2746080"/>
                <a:chExt cx="537120" cy="545400"/>
              </a:xfrm>
            </p:grpSpPr>
            <p:sp>
              <p:nvSpPr>
                <p:cNvPr id="110" name="Oval 34"/>
                <p:cNvSpPr/>
                <p:nvPr/>
              </p:nvSpPr>
              <p:spPr>
                <a:xfrm>
                  <a:off x="2070720" y="27561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Group 35"/>
                <p:cNvGrpSpPr/>
                <p:nvPr/>
              </p:nvGrpSpPr>
              <p:grpSpPr>
                <a:xfrm>
                  <a:off x="2070720" y="2746080"/>
                  <a:ext cx="519840" cy="519840"/>
                  <a:chOff x="2070720" y="2746080"/>
                  <a:chExt cx="519840" cy="519840"/>
                </a:xfrm>
              </p:grpSpPr>
              <p:sp>
                <p:nvSpPr>
                  <p:cNvPr id="112" name="Oval 36"/>
                  <p:cNvSpPr/>
                  <p:nvPr/>
                </p:nvSpPr>
                <p:spPr>
                  <a:xfrm>
                    <a:off x="2070720" y="27460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37"/>
                  <p:cNvSpPr/>
                  <p:nvPr/>
                </p:nvSpPr>
                <p:spPr>
                  <a:xfrm>
                    <a:off x="2077200" y="27489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Oval 38"/>
                  <p:cNvSpPr/>
                  <p:nvPr/>
                </p:nvSpPr>
                <p:spPr>
                  <a:xfrm>
                    <a:off x="2082600" y="27536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Oval 39"/>
                  <p:cNvSpPr/>
                  <p:nvPr/>
                </p:nvSpPr>
                <p:spPr>
                  <a:xfrm>
                    <a:off x="2110680" y="27669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Text Box 40"/>
            <p:cNvSpPr/>
            <p:nvPr/>
          </p:nvSpPr>
          <p:spPr>
            <a:xfrm>
              <a:off x="2157840" y="278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41"/>
          <p:cNvGrpSpPr/>
          <p:nvPr/>
        </p:nvGrpSpPr>
        <p:grpSpPr>
          <a:xfrm>
            <a:off x="1981080" y="3603600"/>
            <a:ext cx="685800" cy="679320"/>
            <a:chOff x="1981080" y="3603600"/>
            <a:chExt cx="685800" cy="679320"/>
          </a:xfrm>
        </p:grpSpPr>
        <p:grpSp>
          <p:nvGrpSpPr>
            <p:cNvPr id="118" name="Group 42"/>
            <p:cNvGrpSpPr/>
            <p:nvPr/>
          </p:nvGrpSpPr>
          <p:grpSpPr>
            <a:xfrm>
              <a:off x="1981080" y="3603600"/>
              <a:ext cx="685800" cy="679320"/>
              <a:chOff x="1981080" y="3603600"/>
              <a:chExt cx="685800" cy="679320"/>
            </a:xfrm>
          </p:grpSpPr>
          <p:grpSp>
            <p:nvGrpSpPr>
              <p:cNvPr id="119" name="Group 43"/>
              <p:cNvGrpSpPr/>
              <p:nvPr/>
            </p:nvGrpSpPr>
            <p:grpSpPr>
              <a:xfrm>
                <a:off x="1981080" y="3603600"/>
                <a:ext cx="685800" cy="679320"/>
                <a:chOff x="1981080" y="3603600"/>
                <a:chExt cx="685800" cy="679320"/>
              </a:xfrm>
            </p:grpSpPr>
            <p:sp>
              <p:nvSpPr>
                <p:cNvPr id="120" name="Oval 44"/>
                <p:cNvSpPr/>
                <p:nvPr/>
              </p:nvSpPr>
              <p:spPr>
                <a:xfrm>
                  <a:off x="1981080" y="36036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50000">
                      <a:srgbClr val="ffffff"/>
                    </a:gs>
                    <a:gs pos="100000">
                      <a:srgbClr val="709ee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Oval 45"/>
                <p:cNvSpPr/>
                <p:nvPr/>
              </p:nvSpPr>
              <p:spPr>
                <a:xfrm>
                  <a:off x="1981080" y="36036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709ee2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Oval 46"/>
                <p:cNvSpPr/>
                <p:nvPr/>
              </p:nvSpPr>
              <p:spPr>
                <a:xfrm>
                  <a:off x="2026440" y="36478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50000">
                      <a:srgbClr val="3d567a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47"/>
                <p:cNvSpPr/>
                <p:nvPr/>
              </p:nvSpPr>
              <p:spPr>
                <a:xfrm>
                  <a:off x="2026440" y="36489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>
                        <a:alpha val="0"/>
                      </a:srgbClr>
                    </a:gs>
                    <a:gs pos="100000">
                      <a:srgbClr val="47649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8"/>
              <p:cNvGrpSpPr/>
              <p:nvPr/>
            </p:nvGrpSpPr>
            <p:grpSpPr>
              <a:xfrm>
                <a:off x="2063880" y="3676320"/>
                <a:ext cx="537120" cy="540360"/>
                <a:chOff x="2063880" y="3676320"/>
                <a:chExt cx="537120" cy="540360"/>
              </a:xfrm>
            </p:grpSpPr>
            <p:sp>
              <p:nvSpPr>
                <p:cNvPr id="125" name="Oval 49"/>
                <p:cNvSpPr/>
                <p:nvPr/>
              </p:nvSpPr>
              <p:spPr>
                <a:xfrm>
                  <a:off x="2063880" y="36860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50"/>
                <p:cNvGrpSpPr/>
                <p:nvPr/>
              </p:nvGrpSpPr>
              <p:grpSpPr>
                <a:xfrm>
                  <a:off x="2063880" y="3676320"/>
                  <a:ext cx="519840" cy="515160"/>
                  <a:chOff x="2063880" y="3676320"/>
                  <a:chExt cx="519840" cy="515160"/>
                </a:xfrm>
              </p:grpSpPr>
              <p:sp>
                <p:nvSpPr>
                  <p:cNvPr id="127" name="Oval 51"/>
                  <p:cNvSpPr/>
                  <p:nvPr/>
                </p:nvSpPr>
                <p:spPr>
                  <a:xfrm>
                    <a:off x="2063880" y="36763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52"/>
                  <p:cNvSpPr/>
                  <p:nvPr/>
                </p:nvSpPr>
                <p:spPr>
                  <a:xfrm>
                    <a:off x="2070360" y="36792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53"/>
                  <p:cNvSpPr/>
                  <p:nvPr/>
                </p:nvSpPr>
                <p:spPr>
                  <a:xfrm>
                    <a:off x="2075760" y="36838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54"/>
                  <p:cNvSpPr/>
                  <p:nvPr/>
                </p:nvSpPr>
                <p:spPr>
                  <a:xfrm>
                    <a:off x="2103840" y="36972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1" name="Text Box 55"/>
            <p:cNvSpPr/>
            <p:nvPr/>
          </p:nvSpPr>
          <p:spPr>
            <a:xfrm>
              <a:off x="2135520" y="371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Group 56"/>
          <p:cNvGrpSpPr/>
          <p:nvPr/>
        </p:nvGrpSpPr>
        <p:grpSpPr>
          <a:xfrm>
            <a:off x="1990800" y="4572000"/>
            <a:ext cx="685800" cy="685800"/>
            <a:chOff x="1990800" y="4572000"/>
            <a:chExt cx="685800" cy="685800"/>
          </a:xfrm>
        </p:grpSpPr>
        <p:grpSp>
          <p:nvGrpSpPr>
            <p:cNvPr id="133" name="Group 57"/>
            <p:cNvGrpSpPr/>
            <p:nvPr/>
          </p:nvGrpSpPr>
          <p:grpSpPr>
            <a:xfrm>
              <a:off x="1990800" y="4572000"/>
              <a:ext cx="685800" cy="685800"/>
              <a:chOff x="1990800" y="4572000"/>
              <a:chExt cx="685800" cy="685800"/>
            </a:xfrm>
          </p:grpSpPr>
          <p:grpSp>
            <p:nvGrpSpPr>
              <p:cNvPr id="134" name="Group 58"/>
              <p:cNvGrpSpPr/>
              <p:nvPr/>
            </p:nvGrpSpPr>
            <p:grpSpPr>
              <a:xfrm>
                <a:off x="1990800" y="4572000"/>
                <a:ext cx="685800" cy="685800"/>
                <a:chOff x="1990800" y="4572000"/>
                <a:chExt cx="685800" cy="685800"/>
              </a:xfrm>
            </p:grpSpPr>
            <p:sp>
              <p:nvSpPr>
                <p:cNvPr id="135" name="Oval 59"/>
                <p:cNvSpPr/>
                <p:nvPr/>
              </p:nvSpPr>
              <p:spPr>
                <a:xfrm>
                  <a:off x="1990800" y="45720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50000">
                      <a:srgbClr val="ffffff"/>
                    </a:gs>
                    <a:gs pos="100000">
                      <a:srgbClr val="3b9d8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Oval 60"/>
                <p:cNvSpPr/>
                <p:nvPr/>
              </p:nvSpPr>
              <p:spPr>
                <a:xfrm>
                  <a:off x="1990800" y="45720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b9d81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Oval 61"/>
                <p:cNvSpPr/>
                <p:nvPr/>
              </p:nvSpPr>
              <p:spPr>
                <a:xfrm>
                  <a:off x="2036160" y="461664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50000">
                      <a:srgbClr val="205546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62"/>
                <p:cNvSpPr/>
                <p:nvPr/>
              </p:nvSpPr>
              <p:spPr>
                <a:xfrm>
                  <a:off x="2036160" y="461772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>
                        <a:alpha val="0"/>
                      </a:srgbClr>
                    </a:gs>
                    <a:gs pos="100000">
                      <a:srgbClr val="2564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63"/>
              <p:cNvGrpSpPr/>
              <p:nvPr/>
            </p:nvGrpSpPr>
            <p:grpSpPr>
              <a:xfrm>
                <a:off x="2069280" y="4651200"/>
                <a:ext cx="537120" cy="545400"/>
                <a:chOff x="2069280" y="4651200"/>
                <a:chExt cx="537120" cy="545400"/>
              </a:xfrm>
            </p:grpSpPr>
            <p:sp>
              <p:nvSpPr>
                <p:cNvPr id="140" name="Oval 64"/>
                <p:cNvSpPr/>
                <p:nvPr/>
              </p:nvSpPr>
              <p:spPr>
                <a:xfrm>
                  <a:off x="2069280" y="466128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Group 65"/>
                <p:cNvGrpSpPr/>
                <p:nvPr/>
              </p:nvGrpSpPr>
              <p:grpSpPr>
                <a:xfrm>
                  <a:off x="2069280" y="4651200"/>
                  <a:ext cx="519840" cy="519840"/>
                  <a:chOff x="2069280" y="4651200"/>
                  <a:chExt cx="519840" cy="519840"/>
                </a:xfrm>
              </p:grpSpPr>
              <p:sp>
                <p:nvSpPr>
                  <p:cNvPr id="142" name="Oval 66"/>
                  <p:cNvSpPr/>
                  <p:nvPr/>
                </p:nvSpPr>
                <p:spPr>
                  <a:xfrm>
                    <a:off x="2069280" y="465120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67"/>
                  <p:cNvSpPr/>
                  <p:nvPr/>
                </p:nvSpPr>
                <p:spPr>
                  <a:xfrm>
                    <a:off x="2075760" y="465408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68"/>
                  <p:cNvSpPr/>
                  <p:nvPr/>
                </p:nvSpPr>
                <p:spPr>
                  <a:xfrm>
                    <a:off x="2081160" y="465876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69"/>
                  <p:cNvSpPr/>
                  <p:nvPr/>
                </p:nvSpPr>
                <p:spPr>
                  <a:xfrm>
                    <a:off x="2109240" y="467208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6" name="Text Box 70"/>
            <p:cNvSpPr/>
            <p:nvPr/>
          </p:nvSpPr>
          <p:spPr>
            <a:xfrm>
              <a:off x="2134080" y="467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b9d8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819520" y="32767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09ee2"/>
                    </a:gs>
                    <a:gs pos="100000">
                      <a:srgbClr val="0e237e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09ee2"/>
                  </a:gs>
                  <a:gs pos="100000">
                    <a:srgbClr val="0e237e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9ee2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709e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5486400" y="2867040"/>
            <a:ext cx="2209680" cy="26193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619360"/>
              <a:gd name="textAreaBottom" fmla="*/ 2511720 h 2619360"/>
            </a:gdLst>
            <a:ahLst/>
            <a:rect l="textAreaLeft" t="textAreaTop" r="textAreaRight" b="textAreaBottom"/>
            <a:pathLst>
              <a:path w="21600" h="25604">
                <a:moveTo>
                  <a:pt x="3600" y="0"/>
                </a:moveTo>
                <a:arcTo wR="3600" hR="3600" stAng="16200000" swAng="-5400000"/>
                <a:lnTo>
                  <a:pt x="0" y="22004"/>
                </a:lnTo>
                <a:arcTo wR="3600" hR="3600" stAng="10800000" swAng="-5400000"/>
                <a:lnTo>
                  <a:pt x="18000" y="25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066680" y="2867040"/>
            <a:ext cx="2210040" cy="261936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2619360"/>
              <a:gd name="textAreaBottom" fmla="*/ 2511720 h 2619360"/>
            </a:gdLst>
            <a:ahLst/>
            <a:rect l="textAreaLeft" t="textAreaTop" r="textAreaRight" b="textAreaBottom"/>
            <a:pathLst>
              <a:path w="21600" h="25600">
                <a:moveTo>
                  <a:pt x="3600" y="0"/>
                </a:moveTo>
                <a:arcTo wR="3600" hR="3600" stAng="16200000" swAng="-5400000"/>
                <a:lnTo>
                  <a:pt x="0" y="22000"/>
                </a:lnTo>
                <a:arcTo wR="3600" hR="3600" stAng="10800000" swAng="-5400000"/>
                <a:lnTo>
                  <a:pt x="18000" y="25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162080" y="3067200"/>
            <a:ext cx="19699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3146400" y="2766960"/>
            <a:ext cx="8938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3146400" y="2770200"/>
            <a:ext cx="873000" cy="1219320"/>
          </a:xfrm>
          <a:prstGeom prst="pie">
            <a:avLst/>
          </a:prstGeom>
          <a:gradFill rotWithShape="0">
            <a:gsLst>
              <a:gs pos="0">
                <a:srgbClr val="c1e0d7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 flipH="1">
            <a:off x="4791960" y="2766960"/>
            <a:ext cx="8938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 flipH="1">
            <a:off x="4798440" y="2770200"/>
            <a:ext cx="873000" cy="1219320"/>
          </a:xfrm>
          <a:prstGeom prst="pie">
            <a:avLst/>
          </a:prstGeom>
          <a:gradFill rotWithShape="0">
            <a:gsLst>
              <a:gs pos="0">
                <a:srgbClr val="d2e0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1"/>
          <p:cNvGrpSpPr/>
          <p:nvPr/>
        </p:nvGrpSpPr>
        <p:grpSpPr>
          <a:xfrm>
            <a:off x="2971800" y="1143000"/>
            <a:ext cx="2898360" cy="1572480"/>
            <a:chOff x="2971800" y="1143000"/>
            <a:chExt cx="2898360" cy="1572480"/>
          </a:xfrm>
        </p:grpSpPr>
        <p:grpSp>
          <p:nvGrpSpPr>
            <p:cNvPr id="158" name="Group 12"/>
            <p:cNvGrpSpPr/>
            <p:nvPr/>
          </p:nvGrpSpPr>
          <p:grpSpPr>
            <a:xfrm>
              <a:off x="2971800" y="1283040"/>
              <a:ext cx="2898360" cy="1432440"/>
              <a:chOff x="2971800" y="1283040"/>
              <a:chExt cx="2898360" cy="1432440"/>
            </a:xfrm>
          </p:grpSpPr>
          <p:sp>
            <p:nvSpPr>
              <p:cNvPr id="159" name="Oval 13"/>
              <p:cNvSpPr/>
              <p:nvPr/>
            </p:nvSpPr>
            <p:spPr>
              <a:xfrm>
                <a:off x="3003480" y="1328760"/>
                <a:ext cx="2866680" cy="1386720"/>
              </a:xfrm>
              <a:prstGeom prst="ellipse">
                <a:avLst/>
              </a:prstGeom>
              <a:gradFill rotWithShape="0">
                <a:gsLst>
                  <a:gs pos="0">
                    <a:srgbClr val="1d4c3f"/>
                  </a:gs>
                  <a:gs pos="100000">
                    <a:srgbClr val="3b9d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4"/>
              <p:cNvSpPr/>
              <p:nvPr/>
            </p:nvSpPr>
            <p:spPr>
              <a:xfrm>
                <a:off x="2971800" y="1283040"/>
                <a:ext cx="2867040" cy="1386720"/>
              </a:xfrm>
              <a:prstGeom prst="ellipse">
                <a:avLst/>
              </a:prstGeom>
              <a:gradFill rotWithShape="0">
                <a:gsLst>
                  <a:gs pos="0">
                    <a:srgbClr val="3b9d81"/>
                  </a:gs>
                  <a:gs pos="100000">
                    <a:srgbClr val="a8d4c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Oval 15"/>
            <p:cNvSpPr/>
            <p:nvPr/>
          </p:nvSpPr>
          <p:spPr>
            <a:xfrm>
              <a:off x="3107880" y="1143000"/>
              <a:ext cx="2594880" cy="1317240"/>
            </a:xfrm>
            <a:prstGeom prst="ellipse">
              <a:avLst/>
            </a:prstGeom>
            <a:gradFill rotWithShape="0">
              <a:gsLst>
                <a:gs pos="0">
                  <a:srgbClr val="709ee2"/>
                </a:gs>
                <a:gs pos="100000">
                  <a:srgbClr val="34496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"/>
            <p:cNvSpPr/>
            <p:nvPr/>
          </p:nvSpPr>
          <p:spPr>
            <a:xfrm>
              <a:off x="3141720" y="1150560"/>
              <a:ext cx="2532240" cy="1284840"/>
            </a:xfrm>
            <a:prstGeom prst="ellipse">
              <a:avLst/>
            </a:prstGeom>
            <a:gradFill rotWithShape="0">
              <a:gsLst>
                <a:gs pos="0">
                  <a:srgbClr val="cdddf5"/>
                </a:gs>
                <a:gs pos="100000">
                  <a:srgbClr val="709ee2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7"/>
            <p:cNvSpPr/>
            <p:nvPr/>
          </p:nvSpPr>
          <p:spPr>
            <a:xfrm>
              <a:off x="3168000" y="1162800"/>
              <a:ext cx="2409120" cy="1200600"/>
            </a:xfrm>
            <a:prstGeom prst="ellipse">
              <a:avLst/>
            </a:prstGeom>
            <a:gradFill rotWithShape="0">
              <a:gsLst>
                <a:gs pos="0">
                  <a:srgbClr val="709ee2">
                    <a:alpha val="48235"/>
                  </a:srgbClr>
                </a:gs>
                <a:gs pos="100000">
                  <a:srgbClr val="597db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8"/>
            <p:cNvSpPr/>
            <p:nvPr/>
          </p:nvSpPr>
          <p:spPr>
            <a:xfrm>
              <a:off x="3295080" y="1189440"/>
              <a:ext cx="2120760" cy="973080"/>
            </a:xfrm>
            <a:prstGeom prst="ellipse">
              <a:avLst/>
            </a:prstGeom>
            <a:gradFill rotWithShape="0">
              <a:gsLst>
                <a:gs pos="0">
                  <a:srgbClr val="709ee2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19"/>
          <p:cNvSpPr/>
          <p:nvPr/>
        </p:nvSpPr>
        <p:spPr>
          <a:xfrm>
            <a:off x="3786120" y="13431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5726160" y="3048120"/>
            <a:ext cx="19699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 rot="20241600">
            <a:off x="1083960" y="2538000"/>
            <a:ext cx="6853320" cy="2803680"/>
          </a:xfrm>
          <a:prstGeom prst="pi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816360" y="16765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3b9d81"/>
              </a:gs>
              <a:gs pos="100000">
                <a:srgbClr val="102b2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09ee2"/>
              </a:gs>
              <a:gs pos="100000">
                <a:srgbClr val="1f2b3e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218448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40331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4959360" y="42670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a203b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678816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80c040"/>
              </a:gs>
              <a:gs pos="100000">
                <a:srgbClr val="233512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14576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07796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28804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467080" y="5348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3435480" y="3662280"/>
            <a:ext cx="2590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479680" y="19638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AutoShape 15"/>
          <p:cNvCxnSpPr/>
          <p:nvPr/>
        </p:nvCxnSpPr>
        <p:spPr>
          <a:xfrm flipH="1">
            <a:off x="463320" y="19634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1" name="Text Box 16"/>
          <p:cNvSpPr/>
          <p:nvPr/>
        </p:nvSpPr>
        <p:spPr>
          <a:xfrm>
            <a:off x="54108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159876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9d81"/>
              </a:gs>
              <a:gs pos="50000">
                <a:srgbClr val="1b493c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9d81"/>
              </a:gs>
              <a:gs pos="50000">
                <a:srgbClr val="1b493c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9d81"/>
              </a:gs>
              <a:gs pos="50000">
                <a:srgbClr val="1b493c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63670">
                  <a:alpha val="12156"/>
                </a:srgbClr>
              </a:gs>
              <a:gs pos="100000">
                <a:srgbClr val="9874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874f2"/>
              </a:gs>
              <a:gs pos="100000">
                <a:srgbClr val="463670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297180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709ee2"/>
              </a:gs>
              <a:gs pos="50000">
                <a:srgbClr val="344969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874f2"/>
              </a:gs>
              <a:gs pos="100000">
                <a:srgbClr val="bea7f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25124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80c040"/>
              </a:gs>
              <a:gs pos="50000">
                <a:srgbClr val="3b591e"/>
              </a:gs>
              <a:gs pos="100000">
                <a:srgbClr val="80c0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ea7f7">
                  <a:alpha val="12156"/>
                </a:srgbClr>
              </a:gs>
              <a:gs pos="100000">
                <a:srgbClr val="9874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204" name="AutoShape 4"/>
            <p:cNvSpPr/>
            <p:nvPr/>
          </p:nvSpPr>
          <p:spPr>
            <a:xfrm flipH="1" rot="16200000">
              <a:off x="2791440" y="30186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AutoShape 5"/>
            <p:cNvSpPr/>
            <p:nvPr/>
          </p:nvSpPr>
          <p:spPr>
            <a:xfrm flipH="1" rot="5400000">
              <a:off x="5556600" y="29437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6"/>
            <p:cNvSpPr/>
            <p:nvPr/>
          </p:nvSpPr>
          <p:spPr>
            <a:xfrm flipH="1" rot="10800000">
              <a:off x="4173840" y="44197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2a2a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3b9d81"/>
              </a:gs>
              <a:gs pos="50000">
                <a:srgbClr val="ffffff"/>
              </a:gs>
              <a:gs pos="100000">
                <a:srgbClr val="3b9d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3b9d81"/>
              </a:gs>
              <a:gs pos="50000">
                <a:srgbClr val="205546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c6300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762120" y="3505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74f2"/>
              </a:gs>
              <a:gs pos="50000">
                <a:srgbClr val="463670"/>
              </a:gs>
              <a:gs pos="100000">
                <a:srgbClr val="9874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762120" y="29718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74f2"/>
              </a:gs>
              <a:gs pos="50000">
                <a:srgbClr val="463670"/>
              </a:gs>
              <a:gs pos="100000">
                <a:srgbClr val="9874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762120" y="2438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74f2"/>
              </a:gs>
              <a:gs pos="50000">
                <a:srgbClr val="463670"/>
              </a:gs>
              <a:gs pos="100000">
                <a:srgbClr val="9874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6"/>
          <p:cNvSpPr/>
          <p:nvPr/>
        </p:nvSpPr>
        <p:spPr>
          <a:xfrm>
            <a:off x="6248520" y="3505320"/>
            <a:ext cx="19047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9d81"/>
              </a:gs>
              <a:gs pos="50000">
                <a:srgbClr val="1b493c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6248520" y="2971800"/>
            <a:ext cx="19047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9d81"/>
              </a:gs>
              <a:gs pos="50000">
                <a:srgbClr val="1b493c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8"/>
          <p:cNvSpPr/>
          <p:nvPr/>
        </p:nvSpPr>
        <p:spPr>
          <a:xfrm>
            <a:off x="6248520" y="2438280"/>
            <a:ext cx="190476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9d81"/>
              </a:gs>
              <a:gs pos="50000">
                <a:srgbClr val="1b493c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3736440" y="29718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2481120" y="495288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29672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129672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129672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691668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691668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91668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7761240" y="1752480"/>
            <a:ext cx="614520" cy="981360"/>
          </a:xfrm>
          <a:prstGeom prst="pie">
            <a:avLst/>
          </a:prstGeom>
          <a:gradFill rotWithShape="0">
            <a:gsLst>
              <a:gs pos="0">
                <a:srgbClr val="00563f"/>
              </a:gs>
              <a:gs pos="50000">
                <a:srgbClr val="00281d"/>
              </a:gs>
              <a:gs pos="100000">
                <a:srgbClr val="0056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4821120" y="1752480"/>
            <a:ext cx="3560760" cy="62712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7143840" y="2727360"/>
            <a:ext cx="612720" cy="974520"/>
          </a:xfrm>
          <a:prstGeom prst="pie">
            <a:avLst/>
          </a:prstGeom>
          <a:gradFill rotWithShape="0">
            <a:gsLst>
              <a:gs pos="0">
                <a:srgbClr val="4b1092"/>
              </a:gs>
              <a:gs pos="50000">
                <a:srgbClr val="230744"/>
              </a:gs>
              <a:gs pos="100000">
                <a:srgbClr val="4b10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3936960" y="2727360"/>
            <a:ext cx="3827520" cy="625320"/>
          </a:xfrm>
          <a:prstGeom prst="pie">
            <a:avLst/>
          </a:pr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6524640" y="3691080"/>
            <a:ext cx="611280" cy="981000"/>
          </a:xfrm>
          <a:prstGeom prst="pie">
            <a:avLst/>
          </a:prstGeom>
          <a:gradFill rotWithShape="0">
            <a:gsLst>
              <a:gs pos="0">
                <a:srgbClr val="90330a"/>
              </a:gs>
              <a:gs pos="50000">
                <a:srgbClr val="431805"/>
              </a:gs>
              <a:gs pos="100000">
                <a:srgbClr val="9033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5910120" y="4657680"/>
            <a:ext cx="614520" cy="981000"/>
          </a:xfrm>
          <a:prstGeom prst="pie">
            <a:avLst/>
          </a:prstGeom>
          <a:gradFill rotWithShape="0">
            <a:gsLst>
              <a:gs pos="0">
                <a:srgbClr val="906b0e"/>
              </a:gs>
              <a:gs pos="50000">
                <a:srgbClr val="433206"/>
              </a:gs>
              <a:gs pos="100000">
                <a:srgbClr val="906b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2178000" y="4662360"/>
            <a:ext cx="4346640" cy="627120"/>
          </a:xfrm>
          <a:prstGeom prst="pie">
            <a:avLst/>
          </a:prstGeom>
          <a:solidFill>
            <a:srgbClr val="f2e160"/>
          </a:solidFill>
          <a:ln w="0">
            <a:solidFill>
              <a:srgbClr val="9874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874f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874f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874f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874f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Freeform 19"/>
          <p:cNvSpPr/>
          <p:nvPr/>
        </p:nvSpPr>
        <p:spPr>
          <a:xfrm>
            <a:off x="2808360" y="1941480"/>
            <a:ext cx="1957320" cy="3157560"/>
          </a:xfrm>
          <a:prstGeom prst="pie">
            <a:avLst/>
          </a:pr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906a"/>
              </a:gs>
              <a:gs pos="50000">
                <a:srgbClr val="00684d"/>
              </a:gs>
              <a:gs pos="100000">
                <a:srgbClr val="00906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8041ff"/>
              </a:gs>
              <a:gs pos="50000">
                <a:srgbClr val="5d2fb9"/>
              </a:gs>
              <a:gs pos="100000">
                <a:srgbClr val="804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22"/>
          <p:cNvSpPr/>
          <p:nvPr/>
        </p:nvSpPr>
        <p:spPr>
          <a:xfrm>
            <a:off x="3059280" y="3691080"/>
            <a:ext cx="4082760" cy="63180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dc7150"/>
              </a:gs>
              <a:gs pos="50000">
                <a:srgbClr val="a0523a"/>
              </a:gs>
              <a:gs pos="100000">
                <a:srgbClr val="dc7150"/>
              </a:gs>
            </a:gsLst>
            <a:lin ang="8100000"/>
          </a:gradFill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d0a11c"/>
              </a:gs>
              <a:gs pos="50000">
                <a:srgbClr val="977514"/>
              </a:gs>
              <a:gs pos="100000">
                <a:srgbClr val="d0a11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0" y="1295280"/>
            <a:ext cx="6324480" cy="4496040"/>
          </a:xfrm>
          <a:prstGeom prst="rightArrow">
            <a:avLst>
              <a:gd name="adj1" fmla="val 79306"/>
              <a:gd name="adj2" fmla="val 34841"/>
            </a:avLst>
          </a:prstGeom>
          <a:gradFill rotWithShape="0">
            <a:gsLst>
              <a:gs pos="0">
                <a:srgbClr val="adc7ee"/>
              </a:gs>
              <a:gs pos="100000">
                <a:srgbClr val="709ee2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990720" y="1947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874f2"/>
              </a:gs>
              <a:gs pos="100000">
                <a:srgbClr val="46367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990720" y="3090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b9d81"/>
              </a:gs>
              <a:gs pos="100000">
                <a:srgbClr val="1b493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90720" y="4233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c040"/>
              </a:gs>
              <a:gs pos="100000">
                <a:srgbClr val="3b591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61722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0:25:19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4:32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