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BB79-7609-46D0-91A0-8BBF2DDD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EB4-27EC-4053-A8CB-732BB598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8DD-246B-46E3-94E2-03A4DF7B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0A2-6FB4-4D32-A465-EF5714F2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1C47-3179-4E8F-AD3B-4E49E08D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4A0-9B51-4894-9C30-5CBBD9F4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E333-48C9-4283-9034-F1AD0EFE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9073-E7AA-4DBC-8A01-1F924ABA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AEF8-EC5F-45C4-915B-EB9210EF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C5A-308E-408C-8484-55AD3D6B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1CD2-321A-4F1D-AF99-30299F7A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59ED-7B9D-4B7C-9179-3E13F198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0BEC-BF51-4EF7-8880-B5941B4B4E7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6AD6-E957-4772-91F0-50306AE340A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62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11160" y="55548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外零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6200" y="415620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9360" y="0"/>
            <a:ext cx="91789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-3240" y="0"/>
            <a:ext cx="914724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52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1680" y="11160"/>
            <a:ext cx="911232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3BF7-56F5-493E-928A-2D6EB6B1F1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17:14:00Z</dcterms:created>
  <dc:creator>幻灯片之家：www.eeppt.com</dc:creator>
  <dc:description>幻灯片之家：www.eeppt.com</dc:description>
  <cp:keywords>幻灯片之家：www.eeppt.com</cp:keywords>
  <dc:language>en-US</dc:language>
  <cp:lastModifiedBy>Windows 用户</cp:lastModifiedBy>
  <dcterms:modified xsi:type="dcterms:W3CDTF">2015-08-17T06:21:35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