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B46-F00C-4B78-A9A7-2237CB1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3DE-21CF-41C2-A63B-28BA7069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9FF-27DC-4D6F-ACF0-FA8EECC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D54-F8C8-4EFD-81A8-67D486DB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015-EAA1-4D11-9284-103D6462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7F8-3295-4BB4-A710-2C5CBA2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059-D828-44D1-B185-F2335BF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A60-BE46-4008-884F-64B8930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1E4-7240-4848-84C0-B48F95F6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66B-1B6D-4ABB-AA35-511B6D3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7B5-9498-447A-8818-26BD27C3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53A-977F-4A38-BC18-351179F4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2040"/>
            <a:ext cx="8626320" cy="4513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tangle 5"/>
          <p:cNvGrpSpPr/>
          <p:nvPr/>
        </p:nvGrpSpPr>
        <p:grpSpPr>
          <a:xfrm>
            <a:off x="5450040" y="6791400"/>
            <a:ext cx="4584600" cy="36360"/>
            <a:chOff x="5450040" y="6791400"/>
            <a:chExt cx="4584600" cy="36360"/>
          </a:xfrm>
        </p:grpSpPr>
        <p:pic>
          <p:nvPicPr>
            <p:cNvPr id="3" name="Rectangle 5" descr=""/>
            <p:cNvPicPr/>
            <p:nvPr/>
          </p:nvPicPr>
          <p:blipFill>
            <a:blip r:embed="rId3"/>
            <a:stretch/>
          </p:blipFill>
          <p:spPr>
            <a:xfrm>
              <a:off x="5450040" y="6791400"/>
              <a:ext cx="458460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456520" y="6797880"/>
              <a:ext cx="457020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Text Box 8"/>
          <p:cNvSpPr/>
          <p:nvPr/>
        </p:nvSpPr>
        <p:spPr>
          <a:xfrm>
            <a:off x="6810480" y="6894360"/>
            <a:ext cx="3093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7600" y="7033680"/>
            <a:ext cx="236844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68600" y="7033680"/>
            <a:ext cx="321336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73800" y="7033680"/>
            <a:ext cx="236880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9531-6D70-44C2-8CF6-5D56DA308B0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hyperlink" Target="http://www.presentationpro.com/power_designs.aspx" TargetMode="External"/><Relationship Id="rId4" Type="http://schemas.openxmlformats.org/officeDocument/2006/relationships/image" Target="../media/image35.png"/><Relationship Id="rId5" Type="http://schemas.openxmlformats.org/officeDocument/2006/relationships/hyperlink" Target="http://www.presentationpro.com/power_designs.aspx" TargetMode="External"/><Relationship Id="rId6" Type="http://schemas.openxmlformats.org/officeDocument/2006/relationships/hyperlink" Target="http://www.presentationpro.com/in/PDATCFT" TargetMode="External"/><Relationship Id="rId7" Type="http://schemas.openxmlformats.org/officeDocument/2006/relationships/image" Target="../media/image35.png"/><Relationship Id="rId8" Type="http://schemas.openxmlformats.org/officeDocument/2006/relationships/hyperlink" Target="http://www.presentationpro.com/in/PDATCFT" TargetMode="External"/><Relationship Id="rId9" Type="http://schemas.openxmlformats.org/officeDocument/2006/relationships/hyperlink" Target="http://www.presentationpro.com/in/PDATCFT" TargetMode="External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EmailBackground"/>
          <p:cNvPicPr/>
          <p:nvPr/>
        </p:nvPicPr>
        <p:blipFill>
          <a:blip r:embed="rId1"/>
          <a:stretch/>
        </p:blipFill>
        <p:spPr>
          <a:xfrm>
            <a:off x="655560" y="138240"/>
            <a:ext cx="8915400" cy="7449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pdbox.png"/>
          <p:cNvPicPr/>
          <p:nvPr/>
        </p:nvPicPr>
        <p:blipFill>
          <a:blip r:embed="rId2"/>
          <a:stretch/>
        </p:blipFill>
        <p:spPr>
          <a:xfrm>
            <a:off x="884160" y="4253040"/>
            <a:ext cx="2057400" cy="19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579600" y="6310440"/>
            <a:ext cx="891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375e"/>
                </a:solidFill>
                <a:latin typeface="Arial"/>
                <a:ea typeface="宋体"/>
              </a:rPr>
              <a:t>FREE PowerDESIGNS template and graphics included in this presentation can be used to enhance your own presentations. Just copy and paste the graphics from this presentation to your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46200" y="149400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74640" y="2619360"/>
            <a:ext cx="630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Create stunning visuals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宋体"/>
              </a:rPr>
              <a:t>that sell, motivate and persu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637000" y="5091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This presentation was built entirely with templates and graphics from the PowerDESIGNS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OfficePowerPoint2007_Icon"/>
          <p:cNvPicPr/>
          <p:nvPr/>
        </p:nvPicPr>
        <p:blipFill>
          <a:blip r:embed="rId3"/>
          <a:stretch/>
        </p:blipFill>
        <p:spPr>
          <a:xfrm>
            <a:off x="6218280" y="1662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9040" y="1910880"/>
            <a:ext cx="7162560" cy="88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3600" spc="-1" strike="noStrike">
                <a:solidFill>
                  <a:srgbClr val="f27900"/>
                </a:solidFill>
                <a:latin typeface="Arial"/>
                <a:ea typeface="宋体"/>
              </a:rPr>
              <a:t>Free Sample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256840" y="37958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国外演示设计公司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680" y="707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Visual Metaphor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ales forecasts gradually improve over next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4"/>
          <p:cNvGrpSpPr/>
          <p:nvPr/>
        </p:nvGrpSpPr>
        <p:grpSpPr>
          <a:xfrm>
            <a:off x="293760" y="3033720"/>
            <a:ext cx="3682800" cy="2971800"/>
            <a:chOff x="293760" y="3033720"/>
            <a:chExt cx="3682800" cy="2971800"/>
          </a:xfrm>
        </p:grpSpPr>
        <p:pic>
          <p:nvPicPr>
            <p:cNvPr id="204" name="Picture 5" descr="PPP_CGENE_CLP_Lightningcloud"/>
            <p:cNvPicPr/>
            <p:nvPr/>
          </p:nvPicPr>
          <p:blipFill>
            <a:blip r:embed="rId2"/>
            <a:stretch/>
          </p:blipFill>
          <p:spPr>
            <a:xfrm>
              <a:off x="293760" y="3479760"/>
              <a:ext cx="368280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8"/>
            <p:cNvSpPr/>
            <p:nvPr/>
          </p:nvSpPr>
          <p:spPr>
            <a:xfrm>
              <a:off x="1252080" y="4116240"/>
              <a:ext cx="16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% De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1252080" y="3033720"/>
              <a:ext cx="16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NU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3321000" y="3033720"/>
            <a:ext cx="3684240" cy="2598840"/>
            <a:chOff x="3321000" y="3033720"/>
            <a:chExt cx="3684240" cy="2598840"/>
          </a:xfrm>
        </p:grpSpPr>
        <p:pic>
          <p:nvPicPr>
            <p:cNvPr id="208" name="Picture 6" descr="PPP_CGENE_CLP_Partlysunny"/>
            <p:cNvPicPr/>
            <p:nvPr/>
          </p:nvPicPr>
          <p:blipFill>
            <a:blip r:embed="rId3"/>
            <a:stretch/>
          </p:blipFill>
          <p:spPr>
            <a:xfrm>
              <a:off x="3321000" y="3052800"/>
              <a:ext cx="36842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9"/>
            <p:cNvSpPr/>
            <p:nvPr/>
          </p:nvSpPr>
          <p:spPr>
            <a:xfrm>
              <a:off x="4359600" y="4584600"/>
              <a:ext cx="167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%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2"/>
            <p:cNvSpPr/>
            <p:nvPr/>
          </p:nvSpPr>
          <p:spPr>
            <a:xfrm>
              <a:off x="4343760" y="3033720"/>
              <a:ext cx="167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6"/>
          <p:cNvGrpSpPr/>
          <p:nvPr/>
        </p:nvGrpSpPr>
        <p:grpSpPr>
          <a:xfrm>
            <a:off x="6751800" y="2881440"/>
            <a:ext cx="2957400" cy="2970000"/>
            <a:chOff x="6751800" y="2881440"/>
            <a:chExt cx="2957400" cy="2970000"/>
          </a:xfrm>
        </p:grpSpPr>
        <p:pic>
          <p:nvPicPr>
            <p:cNvPr id="212" name="Picture 7" descr="PPP_CGENE_CLP_Sunny"/>
            <p:cNvPicPr/>
            <p:nvPr/>
          </p:nvPicPr>
          <p:blipFill>
            <a:blip r:embed="rId4"/>
            <a:stretch/>
          </p:blipFill>
          <p:spPr>
            <a:xfrm>
              <a:off x="6751800" y="2881440"/>
              <a:ext cx="295740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0"/>
            <p:cNvSpPr/>
            <p:nvPr/>
          </p:nvSpPr>
          <p:spPr>
            <a:xfrm>
              <a:off x="7591680" y="3911040"/>
              <a:ext cx="1295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7382160" y="3033360"/>
              <a:ext cx="16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19"/>
          <p:cNvSpPr/>
          <p:nvPr/>
        </p:nvSpPr>
        <p:spPr>
          <a:xfrm>
            <a:off x="3978360" y="5776920"/>
            <a:ext cx="23922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7"/>
          <p:cNvGrpSpPr/>
          <p:nvPr/>
        </p:nvGrpSpPr>
        <p:grpSpPr>
          <a:xfrm>
            <a:off x="5213520" y="2728800"/>
            <a:ext cx="4052520" cy="3460680"/>
            <a:chOff x="5213520" y="2728800"/>
            <a:chExt cx="4052520" cy="3460680"/>
          </a:xfrm>
        </p:grpSpPr>
        <p:pic>
          <p:nvPicPr>
            <p:cNvPr id="217" name="Picture 8" descr="PPP_CGENE_CLP_ArrowChartDown_Red"/>
            <p:cNvPicPr/>
            <p:nvPr/>
          </p:nvPicPr>
          <p:blipFill>
            <a:blip r:embed="rId2"/>
            <a:stretch/>
          </p:blipFill>
          <p:spPr>
            <a:xfrm>
              <a:off x="5213520" y="2728800"/>
              <a:ext cx="405252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9"/>
            <p:cNvSpPr/>
            <p:nvPr/>
          </p:nvSpPr>
          <p:spPr>
            <a:xfrm rot="2160000">
              <a:off x="5486400" y="3983760"/>
              <a:ext cx="337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ut Less Loy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Animation to Create Movemen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New Breed of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1111320" y="2728800"/>
            <a:ext cx="3677760" cy="3460680"/>
            <a:chOff x="1111320" y="2728800"/>
            <a:chExt cx="3677760" cy="3460680"/>
          </a:xfrm>
        </p:grpSpPr>
        <p:pic>
          <p:nvPicPr>
            <p:cNvPr id="222" name="Picture 5" descr="PPP_CGENE_CLP_ArrowChartUp_Blue"/>
            <p:cNvPicPr/>
            <p:nvPr/>
          </p:nvPicPr>
          <p:blipFill>
            <a:blip r:embed="rId3"/>
            <a:stretch/>
          </p:blipFill>
          <p:spPr>
            <a:xfrm>
              <a:off x="1111320" y="2728800"/>
              <a:ext cx="36777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6"/>
            <p:cNvSpPr/>
            <p:nvPr/>
          </p:nvSpPr>
          <p:spPr>
            <a:xfrm rot="19440000">
              <a:off x="1119960" y="3992400"/>
              <a:ext cx="337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ore Dem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10"/>
          <p:cNvSpPr/>
          <p:nvPr/>
        </p:nvSpPr>
        <p:spPr>
          <a:xfrm>
            <a:off x="7132680" y="2805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7"/>
          <p:cNvGrpSpPr/>
          <p:nvPr/>
        </p:nvGrpSpPr>
        <p:grpSpPr>
          <a:xfrm>
            <a:off x="1494000" y="3719520"/>
            <a:ext cx="2361960" cy="2470320"/>
            <a:chOff x="1494000" y="3719520"/>
            <a:chExt cx="2361960" cy="2470320"/>
          </a:xfrm>
        </p:grpSpPr>
        <p:pic>
          <p:nvPicPr>
            <p:cNvPr id="227" name="Picture 9" descr="PowerTemplates.png"/>
            <p:cNvPicPr/>
            <p:nvPr/>
          </p:nvPicPr>
          <p:blipFill>
            <a:blip r:embed="rId2"/>
            <a:stretch/>
          </p:blipFill>
          <p:spPr>
            <a:xfrm>
              <a:off x="1505520" y="3719520"/>
              <a:ext cx="2317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12"/>
            <p:cNvSpPr/>
            <p:nvPr/>
          </p:nvSpPr>
          <p:spPr>
            <a:xfrm>
              <a:off x="1494000" y="5272200"/>
              <a:ext cx="23619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argest collection of professional PowerPoint templat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3881520" y="3719520"/>
            <a:ext cx="2363760" cy="2470320"/>
            <a:chOff x="3881520" y="3719520"/>
            <a:chExt cx="2363760" cy="2470320"/>
          </a:xfrm>
        </p:grpSpPr>
        <p:pic>
          <p:nvPicPr>
            <p:cNvPr id="230" name="Picture 19" descr="PowerGraphics.png"/>
            <p:cNvPicPr/>
            <p:nvPr/>
          </p:nvPicPr>
          <p:blipFill>
            <a:blip r:embed="rId3"/>
            <a:stretch/>
          </p:blipFill>
          <p:spPr>
            <a:xfrm>
              <a:off x="3920760" y="3719520"/>
              <a:ext cx="2281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16"/>
            <p:cNvSpPr/>
            <p:nvPr/>
          </p:nvSpPr>
          <p:spPr>
            <a:xfrm>
              <a:off x="3881520" y="5272200"/>
              <a:ext cx="23637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igh impact graphic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visually communicate your mess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6237360" y="3719520"/>
            <a:ext cx="2367000" cy="2470320"/>
            <a:chOff x="6237360" y="3719520"/>
            <a:chExt cx="2367000" cy="2470320"/>
          </a:xfrm>
        </p:grpSpPr>
        <p:pic>
          <p:nvPicPr>
            <p:cNvPr id="233" name="Picture 20" descr="PowerIcons.png"/>
            <p:cNvPicPr/>
            <p:nvPr/>
          </p:nvPicPr>
          <p:blipFill>
            <a:blip r:embed="rId4"/>
            <a:stretch/>
          </p:blipFill>
          <p:spPr>
            <a:xfrm>
              <a:off x="6237360" y="3719520"/>
              <a:ext cx="23284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8"/>
            <p:cNvSpPr/>
            <p:nvPr/>
          </p:nvSpPr>
          <p:spPr>
            <a:xfrm>
              <a:off x="6243480" y="5272200"/>
              <a:ext cx="23608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mage based icons emotionally connect with your audie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Rectangle 19"/>
          <p:cNvSpPr/>
          <p:nvPr/>
        </p:nvSpPr>
        <p:spPr>
          <a:xfrm>
            <a:off x="1668600" y="2495520"/>
            <a:ext cx="6797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owerDESIGNS includes everything you have just seen in this sample presentation plus over 15,000 other TEMPLATES, GRAPHICS and IC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y Should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itle 13"/>
          <p:cNvSpPr/>
          <p:nvPr/>
        </p:nvSpPr>
        <p:spPr>
          <a:xfrm>
            <a:off x="2994120" y="3683160"/>
            <a:ext cx="5510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mproved Image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Your audience deserves to see a presentation that reflects your energy and professional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ncreased Impact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Leave a memorable, lasting impression that gets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Save Time and Money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Create professional quality slides in a fraction of the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9" descr="PPP_CSHAP_CLP_3DCheckMark01_Blue.png"/>
          <p:cNvPicPr/>
          <p:nvPr/>
        </p:nvPicPr>
        <p:blipFill>
          <a:blip r:embed="rId2"/>
          <a:stretch/>
        </p:blipFill>
        <p:spPr>
          <a:xfrm>
            <a:off x="1722600" y="350820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PPP_CSHAP_CLP_3DCheckMark01_Blue.png"/>
          <p:cNvPicPr/>
          <p:nvPr/>
        </p:nvPicPr>
        <p:blipFill>
          <a:blip r:embed="rId3"/>
          <a:stretch/>
        </p:blipFill>
        <p:spPr>
          <a:xfrm>
            <a:off x="1722600" y="436392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PPP_CSHAP_CLP_3DCheckMark01_Blue.png"/>
          <p:cNvPicPr/>
          <p:nvPr/>
        </p:nvPicPr>
        <p:blipFill>
          <a:blip r:embed="rId4"/>
          <a:stretch/>
        </p:blipFill>
        <p:spPr>
          <a:xfrm>
            <a:off x="1722600" y="5245200"/>
            <a:ext cx="1098360" cy="1216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at Do I Get When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itle 13"/>
          <p:cNvSpPr/>
          <p:nvPr/>
        </p:nvSpPr>
        <p:spPr>
          <a:xfrm>
            <a:off x="1401840" y="3683160"/>
            <a:ext cx="735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Unlimited Access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to the World’s largest online collection of professionally designed PowerPoint templates and graph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FREE Monthly Updates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keep your presentations fresh and up-to-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Our Exclusive One-Click-Apply Tool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allows you to access the entire PowerDESIGNS library from a button on your PowerPoint toolbar. Creating stunning presentations has never been easi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0560" y="209520"/>
            <a:ext cx="9110880" cy="635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0600" y="1406160"/>
            <a:ext cx="9909360" cy="5775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8088480" y="368280"/>
            <a:ext cx="1542960" cy="387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910-D8CF-4C2E-ADC9-2155DE3520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pdbox.png"/>
          <p:cNvPicPr/>
          <p:nvPr/>
        </p:nvPicPr>
        <p:blipFill>
          <a:blip r:embed="rId2"/>
          <a:stretch/>
        </p:blipFill>
        <p:spPr>
          <a:xfrm>
            <a:off x="1816200" y="2833560"/>
            <a:ext cx="3335400" cy="317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PPP_CNAVI_CLP_Button4_Rt_Blue.t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46680" y="33926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9">
            <a:hlinkClick r:id="rId5"/>
          </p:cNvPr>
          <p:cNvSpPr/>
          <p:nvPr/>
        </p:nvSpPr>
        <p:spPr>
          <a:xfrm>
            <a:off x="5497560" y="3538440"/>
            <a:ext cx="2133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0" descr="PPP_CNAVI_CLP_Button4_Rt_Blue.t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46680" y="43070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1">
            <a:hlinkClick r:id="rId8"/>
          </p:cNvPr>
          <p:cNvSpPr/>
          <p:nvPr/>
        </p:nvSpPr>
        <p:spPr>
          <a:xfrm>
            <a:off x="5497560" y="4454640"/>
            <a:ext cx="2971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URCHAS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5">
            <a:hlinkClick r:id="rId9"/>
          </p:cNvPr>
          <p:cNvSpPr/>
          <p:nvPr/>
        </p:nvSpPr>
        <p:spPr>
          <a:xfrm>
            <a:off x="5500800" y="4764240"/>
            <a:ext cx="292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7900"/>
                </a:solidFill>
                <a:latin typeface="Arial"/>
                <a:ea typeface="宋体"/>
              </a:rPr>
              <a:t>Buy Now for Only $1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PowerPoint PowerTIP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pic>
        <p:nvPicPr>
          <p:cNvPr id="94" name="Picture 3" descr="PPP_CGENE_CLP_Bulb_Side_Glowing"/>
          <p:cNvPicPr/>
          <p:nvPr/>
        </p:nvPicPr>
        <p:blipFill>
          <a:blip r:embed="rId2"/>
          <a:stretch/>
        </p:blipFill>
        <p:spPr>
          <a:xfrm>
            <a:off x="3267000" y="2914560"/>
            <a:ext cx="5846760" cy="5148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982880" y="2332080"/>
            <a:ext cx="812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create stunning visuals –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a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ell, motivate and persu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008600" y="1674720"/>
            <a:ext cx="44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  <a:ea typeface="Arial"/>
              </a:rPr>
              <a:t>Visual Ma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796080" y="38718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03280" y="3490920"/>
            <a:ext cx="2394000" cy="6858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bs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Persuad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008600" y="175104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Visuals help you sell your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179800" y="2948040"/>
            <a:ext cx="3124080" cy="3073320"/>
            <a:chOff x="2179800" y="2948040"/>
            <a:chExt cx="3124080" cy="3073320"/>
          </a:xfrm>
        </p:grpSpPr>
        <p:pic>
          <p:nvPicPr>
            <p:cNvPr id="102" name="Picture 4" descr="Blue"/>
            <p:cNvPicPr/>
            <p:nvPr/>
          </p:nvPicPr>
          <p:blipFill>
            <a:blip r:embed="rId2"/>
            <a:stretch/>
          </p:blipFill>
          <p:spPr>
            <a:xfrm>
              <a:off x="2179800" y="2948040"/>
              <a:ext cx="31240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"/>
            <p:cNvSpPr/>
            <p:nvPr/>
          </p:nvSpPr>
          <p:spPr>
            <a:xfrm>
              <a:off x="2926080" y="4802400"/>
              <a:ext cx="160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ddfbff"/>
                  </a:solidFill>
                  <a:latin typeface="Arial"/>
                  <a:ea typeface="宋体"/>
                </a:rPr>
                <a:t>33%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6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Decker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84160" y="562464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ithout</a:t>
            </a: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89680" y="2577960"/>
            <a:ext cx="358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using</a:t>
            </a: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3795840" y="2868480"/>
            <a:ext cx="3578040" cy="3517920"/>
            <a:chOff x="3795840" y="2868480"/>
            <a:chExt cx="3578040" cy="3517920"/>
          </a:xfrm>
        </p:grpSpPr>
        <p:pic>
          <p:nvPicPr>
            <p:cNvPr id="108" name="Picture 9" descr="Blue2"/>
            <p:cNvPicPr/>
            <p:nvPr/>
          </p:nvPicPr>
          <p:blipFill>
            <a:blip r:embed="rId3"/>
            <a:stretch/>
          </p:blipFill>
          <p:spPr>
            <a:xfrm>
              <a:off x="3795840" y="2868480"/>
              <a:ext cx="35780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0"/>
            <p:cNvSpPr/>
            <p:nvPr/>
          </p:nvSpPr>
          <p:spPr>
            <a:xfrm>
              <a:off x="4586040" y="4252680"/>
              <a:ext cx="1985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760"/>
                  </a:solidFill>
                  <a:latin typeface="Arial"/>
                  <a:ea typeface="宋体"/>
                </a:rPr>
                <a:t>67%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7132680" y="5091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2"/>
          <p:cNvGrpSpPr/>
          <p:nvPr/>
        </p:nvGrpSpPr>
        <p:grpSpPr>
          <a:xfrm>
            <a:off x="4840200" y="2432160"/>
            <a:ext cx="3773520" cy="3322440"/>
            <a:chOff x="4840200" y="2432160"/>
            <a:chExt cx="3773520" cy="3322440"/>
          </a:xfrm>
        </p:grpSpPr>
        <p:pic>
          <p:nvPicPr>
            <p:cNvPr id="112" name="Rectangle 2" descr=""/>
            <p:cNvPicPr/>
            <p:nvPr/>
          </p:nvPicPr>
          <p:blipFill>
            <a:blip r:embed="rId2"/>
            <a:stretch/>
          </p:blipFill>
          <p:spPr>
            <a:xfrm>
              <a:off x="4840200" y="2432160"/>
              <a:ext cx="377352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846680" y="2436480"/>
              <a:ext cx="376236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Increase Retention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e remember less than 10% of what we hear verb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Wharton University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98560" y="3535200"/>
            <a:ext cx="3276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Message Retention in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59440" y="2436840"/>
          <a:ext cx="3352680" cy="3316320"/>
        </p:xfrm>
        <a:graphic>
          <a:graphicData uri="http://schemas.openxmlformats.org/drawingml/2006/table">
            <a:tbl>
              <a:tblPr/>
              <a:tblGrid>
                <a:gridCol w="1614600"/>
                <a:gridCol w="173808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6461280" y="2921040"/>
            <a:ext cx="455400" cy="2318760"/>
            <a:chOff x="6461280" y="2921040"/>
            <a:chExt cx="455400" cy="2318760"/>
          </a:xfrm>
        </p:grpSpPr>
        <p:sp>
          <p:nvSpPr>
            <p:cNvPr id="120" name="Text Box 37"/>
            <p:cNvSpPr/>
            <p:nvPr/>
          </p:nvSpPr>
          <p:spPr>
            <a:xfrm>
              <a:off x="6461280" y="493524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6461280" y="426492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461280" y="359280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0"/>
            <p:cNvSpPr/>
            <p:nvPr/>
          </p:nvSpPr>
          <p:spPr>
            <a:xfrm>
              <a:off x="6461280" y="292104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8"/>
          <p:cNvGrpSpPr/>
          <p:nvPr/>
        </p:nvGrpSpPr>
        <p:grpSpPr>
          <a:xfrm>
            <a:off x="6630840" y="2149560"/>
            <a:ext cx="2209680" cy="4509000"/>
            <a:chOff x="6630840" y="2149560"/>
            <a:chExt cx="2209680" cy="4509000"/>
          </a:xfrm>
        </p:grpSpPr>
        <p:sp>
          <p:nvSpPr>
            <p:cNvPr id="125" name="Text Box 42"/>
            <p:cNvSpPr/>
            <p:nvPr/>
          </p:nvSpPr>
          <p:spPr>
            <a:xfrm>
              <a:off x="6630840" y="6080040"/>
              <a:ext cx="22096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Presentation With Vis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43" descr="PPP_CSHAP_CLP_2in1_Cyl_Orange04"/>
            <p:cNvPicPr/>
            <p:nvPr/>
          </p:nvPicPr>
          <p:blipFill>
            <a:blip r:embed="rId3"/>
            <a:stretch/>
          </p:blipFill>
          <p:spPr>
            <a:xfrm>
              <a:off x="6651360" y="2149560"/>
              <a:ext cx="2157480" cy="446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47"/>
          <p:cNvGrpSpPr/>
          <p:nvPr/>
        </p:nvGrpSpPr>
        <p:grpSpPr>
          <a:xfrm>
            <a:off x="4748040" y="2149560"/>
            <a:ext cx="2156040" cy="4509000"/>
            <a:chOff x="4748040" y="2149560"/>
            <a:chExt cx="2156040" cy="4509000"/>
          </a:xfrm>
        </p:grpSpPr>
        <p:sp>
          <p:nvSpPr>
            <p:cNvPr id="128" name="Text Box 41"/>
            <p:cNvSpPr/>
            <p:nvPr/>
          </p:nvSpPr>
          <p:spPr>
            <a:xfrm>
              <a:off x="4787280" y="6080040"/>
              <a:ext cx="20559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Only 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4" descr="PPP_CSHAP_CLP_2in1_Cyl_Green01"/>
            <p:cNvPicPr/>
            <p:nvPr/>
          </p:nvPicPr>
          <p:blipFill>
            <a:blip r:embed="rId4"/>
            <a:stretch/>
          </p:blipFill>
          <p:spPr>
            <a:xfrm>
              <a:off x="4748040" y="2149560"/>
              <a:ext cx="2156040" cy="44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49"/>
          <p:cNvSpPr/>
          <p:nvPr/>
        </p:nvSpPr>
        <p:spPr>
          <a:xfrm>
            <a:off x="2681280" y="53197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ylin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A Visual Is Worth a Thousand Word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69960" y="2881440"/>
            <a:ext cx="266724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Visuals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PPP_IBUSI_CLP_Clock_B"/>
          <p:cNvPicPr/>
          <p:nvPr/>
        </p:nvPicPr>
        <p:blipFill>
          <a:blip r:embed="rId2"/>
          <a:stretch/>
        </p:blipFill>
        <p:spPr>
          <a:xfrm>
            <a:off x="4748040" y="2225520"/>
            <a:ext cx="3451320" cy="300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PP_IBUSI_CLP_Newspaper_B"/>
          <p:cNvPicPr/>
          <p:nvPr/>
        </p:nvPicPr>
        <p:blipFill>
          <a:blip r:embed="rId3"/>
          <a:stretch/>
        </p:blipFill>
        <p:spPr>
          <a:xfrm>
            <a:off x="3551400" y="3886200"/>
            <a:ext cx="3447720" cy="300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PP_IBUSI_CLP_LookingAhead_H_B"/>
          <p:cNvPicPr/>
          <p:nvPr/>
        </p:nvPicPr>
        <p:blipFill>
          <a:blip r:embed="rId4"/>
          <a:stretch/>
        </p:blipFill>
        <p:spPr>
          <a:xfrm>
            <a:off x="6523200" y="3184560"/>
            <a:ext cx="3450960" cy="3008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67518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IC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6751800" y="2413080"/>
            <a:ext cx="2827080" cy="1741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art With a Background Templat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87240" y="2516040"/>
            <a:ext cx="350532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Provide visu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Add pizz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Sav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6" descr=""/>
          <p:cNvPicPr/>
          <p:nvPr/>
        </p:nvPicPr>
        <p:blipFill>
          <a:blip r:embed="rId3"/>
          <a:stretch/>
        </p:blipFill>
        <p:spPr>
          <a:xfrm>
            <a:off x="4008600" y="3121200"/>
            <a:ext cx="2836800" cy="174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8" descr=""/>
          <p:cNvPicPr/>
          <p:nvPr/>
        </p:nvPicPr>
        <p:blipFill>
          <a:blip r:embed="rId4"/>
          <a:stretch/>
        </p:blipFill>
        <p:spPr>
          <a:xfrm>
            <a:off x="7209000" y="3957480"/>
            <a:ext cx="282708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5"/>
          <a:stretch/>
        </p:blipFill>
        <p:spPr>
          <a:xfrm>
            <a:off x="4524480" y="4687920"/>
            <a:ext cx="2836800" cy="1743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9"/>
          <p:cNvSpPr/>
          <p:nvPr/>
        </p:nvSpPr>
        <p:spPr>
          <a:xfrm>
            <a:off x="6948360" y="1738440"/>
            <a:ext cx="239256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74376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Med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1"/>
          <p:cNvSpPr/>
          <p:nvPr/>
        </p:nvSpPr>
        <p:spPr>
          <a:xfrm>
            <a:off x="2332080" y="5243400"/>
            <a:ext cx="23954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4237200" y="245268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Think KISS (Keep It Short and Simple)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1189080" y="29862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Impac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si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cl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vi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4541760" y="2960640"/>
            <a:ext cx="4238640" cy="3549600"/>
            <a:chOff x="4541760" y="2960640"/>
            <a:chExt cx="4238640" cy="3549600"/>
          </a:xfrm>
        </p:grpSpPr>
        <p:sp>
          <p:nvSpPr>
            <p:cNvPr id="150" name="Oval 2"/>
            <p:cNvSpPr/>
            <p:nvPr/>
          </p:nvSpPr>
          <p:spPr>
            <a:xfrm>
              <a:off x="7211880" y="3570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"/>
            <p:cNvSpPr/>
            <p:nvPr/>
          </p:nvSpPr>
          <p:spPr>
            <a:xfrm>
              <a:off x="8323200" y="3033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817092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8218440" y="5214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7754760" y="56116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6068880" y="5871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4541760" y="6053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468144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0"/>
            <p:cNvSpPr/>
            <p:nvPr/>
          </p:nvSpPr>
          <p:spPr>
            <a:xfrm>
              <a:off x="4910040" y="2960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635796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4788000" y="2805120"/>
            <a:ext cx="5094360" cy="3683160"/>
            <a:chOff x="4788000" y="2805120"/>
            <a:chExt cx="5094360" cy="3683160"/>
          </a:xfrm>
        </p:grpSpPr>
        <p:pic>
          <p:nvPicPr>
            <p:cNvPr id="161" name="Picture 15" descr="PPP_CSHAP_CLP_RoundBallGreen"/>
            <p:cNvPicPr/>
            <p:nvPr/>
          </p:nvPicPr>
          <p:blipFill>
            <a:blip r:embed="rId2"/>
            <a:stretch/>
          </p:blipFill>
          <p:spPr>
            <a:xfrm>
              <a:off x="4788000" y="4815000"/>
              <a:ext cx="1192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6" descr="PPP_CSHAP_CLP_RoundBallOrange"/>
            <p:cNvPicPr/>
            <p:nvPr/>
          </p:nvPicPr>
          <p:blipFill>
            <a:blip r:embed="rId3"/>
            <a:stretch/>
          </p:blipFill>
          <p:spPr>
            <a:xfrm>
              <a:off x="5575320" y="2805120"/>
              <a:ext cx="1192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7" descr="PPP_CSHAP_CLP_RoundBallPurple"/>
            <p:cNvPicPr/>
            <p:nvPr/>
          </p:nvPicPr>
          <p:blipFill>
            <a:blip r:embed="rId4"/>
            <a:stretch/>
          </p:blipFill>
          <p:spPr>
            <a:xfrm>
              <a:off x="7007400" y="4408560"/>
              <a:ext cx="119196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18"/>
            <p:cNvSpPr/>
            <p:nvPr/>
          </p:nvSpPr>
          <p:spPr>
            <a:xfrm flipV="1">
              <a:off x="5989680" y="4925880"/>
              <a:ext cx="914400" cy="1526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6662880" y="3859200"/>
              <a:ext cx="533520" cy="68580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5503680" y="3983040"/>
              <a:ext cx="307800" cy="8222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1"/>
            <p:cNvSpPr/>
            <p:nvPr/>
          </p:nvSpPr>
          <p:spPr>
            <a:xfrm>
              <a:off x="5926320" y="30686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Lead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7367760" y="472608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al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5075280" y="51260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 Intim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Keys to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7209000" y="3643200"/>
            <a:ext cx="23936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PP_CARRO_CLP_Hollow_Dn_Blue"/>
          <p:cNvPicPr/>
          <p:nvPr/>
        </p:nvPicPr>
        <p:blipFill>
          <a:blip r:embed="rId2">
            <a:grayscl/>
          </a:blip>
          <a:stretch/>
        </p:blipFill>
        <p:spPr>
          <a:xfrm>
            <a:off x="6024600" y="2332080"/>
            <a:ext cx="2038320" cy="4267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ick to One Idea Per Visual 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189080" y="29574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Clarity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Clear h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One point per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Unclut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6" descr="PPP_CARRO_CLP_Hollow_Dn_Blue"/>
          <p:cNvPicPr/>
          <p:nvPr/>
        </p:nvPicPr>
        <p:blipFill>
          <a:blip r:embed="rId3"/>
          <a:stretch/>
        </p:blipFill>
        <p:spPr>
          <a:xfrm>
            <a:off x="6053040" y="2303640"/>
            <a:ext cx="20383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14"/>
          <p:cNvGrpSpPr/>
          <p:nvPr/>
        </p:nvGrpSpPr>
        <p:grpSpPr>
          <a:xfrm>
            <a:off x="5989680" y="2941560"/>
            <a:ext cx="2209680" cy="630360"/>
            <a:chOff x="5989680" y="2941560"/>
            <a:chExt cx="2209680" cy="630360"/>
          </a:xfrm>
        </p:grpSpPr>
        <p:sp>
          <p:nvSpPr>
            <p:cNvPr id="177" name="Rectangle 7"/>
            <p:cNvSpPr/>
            <p:nvPr/>
          </p:nvSpPr>
          <p:spPr>
            <a:xfrm>
              <a:off x="5989680" y="2941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6053040" y="304632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5"/>
          <p:cNvGrpSpPr/>
          <p:nvPr/>
        </p:nvGrpSpPr>
        <p:grpSpPr>
          <a:xfrm>
            <a:off x="5989680" y="4037040"/>
            <a:ext cx="2209680" cy="631440"/>
            <a:chOff x="5989680" y="4037040"/>
            <a:chExt cx="2209680" cy="631440"/>
          </a:xfrm>
        </p:grpSpPr>
        <p:sp>
          <p:nvSpPr>
            <p:cNvPr id="180" name="Rectangle 8"/>
            <p:cNvSpPr/>
            <p:nvPr/>
          </p:nvSpPr>
          <p:spPr>
            <a:xfrm>
              <a:off x="5989680" y="4037040"/>
              <a:ext cx="2209680" cy="63144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6053040" y="41608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t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16"/>
          <p:cNvGrpSpPr/>
          <p:nvPr/>
        </p:nvGrpSpPr>
        <p:grpSpPr>
          <a:xfrm>
            <a:off x="5989680" y="5119560"/>
            <a:ext cx="2209680" cy="630360"/>
            <a:chOff x="5989680" y="5119560"/>
            <a:chExt cx="2209680" cy="630360"/>
          </a:xfrm>
        </p:grpSpPr>
        <p:sp>
          <p:nvSpPr>
            <p:cNvPr id="183" name="Rectangle 9"/>
            <p:cNvSpPr/>
            <p:nvPr/>
          </p:nvSpPr>
          <p:spPr>
            <a:xfrm>
              <a:off x="5989680" y="5119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6053040" y="52434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l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1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Es of Successfu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160880" y="59292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</a:rPr>
              <a:t>Search For a Single Visual to Sell your Message</a:t>
            </a:r>
            <a:endParaRPr b="1" i="1" lang="en-US" sz="28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189080" y="2957400"/>
            <a:ext cx="31240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Presentation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2760"/>
                </a:solidFill>
                <a:latin typeface="Arial"/>
                <a:ea typeface="Arial"/>
              </a:rPr>
              <a:t>Our profits come from a few key cl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Profit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5"/>
          <p:cNvGrpSpPr/>
          <p:nvPr/>
        </p:nvGrpSpPr>
        <p:grpSpPr>
          <a:xfrm>
            <a:off x="3019320" y="2424240"/>
            <a:ext cx="6160680" cy="4198680"/>
            <a:chOff x="3019320" y="2424240"/>
            <a:chExt cx="6160680" cy="4198680"/>
          </a:xfrm>
        </p:grpSpPr>
        <p:pic>
          <p:nvPicPr>
            <p:cNvPr id="191" name="Picture 6" descr="PPP_CPYRA_CLP_Pyramid_A_4Orange"/>
            <p:cNvPicPr/>
            <p:nvPr/>
          </p:nvPicPr>
          <p:blipFill>
            <a:blip r:embed="rId2"/>
            <a:stretch/>
          </p:blipFill>
          <p:spPr>
            <a:xfrm>
              <a:off x="3657240" y="2424240"/>
              <a:ext cx="552276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7"/>
            <p:cNvSpPr/>
            <p:nvPr/>
          </p:nvSpPr>
          <p:spPr>
            <a:xfrm>
              <a:off x="3019320" y="5303520"/>
              <a:ext cx="236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3384000" y="4446360"/>
              <a:ext cx="251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ginal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3847680" y="3582720"/>
              <a:ext cx="251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4266360" y="2881080"/>
              <a:ext cx="251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1"/>
          <p:cNvSpPr/>
          <p:nvPr/>
        </p:nvSpPr>
        <p:spPr>
          <a:xfrm>
            <a:off x="5626080" y="5148360"/>
            <a:ext cx="144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040440" y="434196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6500880" y="3503520"/>
            <a:ext cx="68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805440" y="2876400"/>
            <a:ext cx="685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7589880" y="23479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Pyram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9:40:15Z</dcterms:created>
  <dc:creator>www.eeppt.com</dc:creator>
  <dc:description>www.eeppt.com</dc:description>
  <dc:language>en-US</dc:language>
  <cp:lastModifiedBy>微软用户</cp:lastModifiedBy>
  <dcterms:modified xsi:type="dcterms:W3CDTF">2015-08-14T12:51:01Z</dcterms:modified>
  <cp:revision>8</cp:revision>
  <dc:subject>PresentationPro Free PowerPoint Download</dc:subject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