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D18-F104-467F-9C37-E6C6E7B8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F9A-75B5-43D1-A44A-0AA6EA78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78F-4DAF-4921-B749-5320BBDB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5D8-EDE3-4B4C-B16C-CB9DBFBF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737-9E02-4A03-BA87-D1775FEE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5727-3A77-4D36-B1C4-2A5B500A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BF1-95A9-4599-9534-F9C18894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C26D-C244-4B26-94A7-266CCCF2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EF5-18B8-4C53-AE62-F8EAC356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605-AA09-4909-A2CD-022D0CB6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F35-C5BD-44B4-8E53-F46B4787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3E7-EC2F-414B-9122-1C446564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0741-BFE9-473A-86D6-BAC6A052706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ws_E8E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98480" y="57340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国外英文个人简历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作品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ws_EA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ws_EA2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ws_EA4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ws_EA7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ws_EA9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ws_EAB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ws_EAD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ws_EAF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ws_EB1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ws_EB3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ws_E9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ws_EB5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ws_EB7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ws_EB9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17B-F329-43A8-84E4-B4484E3765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ws_EBC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ws_E92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ws_E94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ws_E96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ws_E98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ws_E9A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ws_E9C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ws_E9E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02:32:36Z</dcterms:created>
  <dc:creator>www.eeppt.com</dc:creator>
  <dc:description>www.eeppt.com</dc:description>
  <dc:language>en-US</dc:language>
  <cp:lastModifiedBy>Windows 用户</cp:lastModifiedBy>
  <dcterms:modified xsi:type="dcterms:W3CDTF">2015-08-14T12:51:08Z</dcterms:modified>
  <cp:revision>2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