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헤드라인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헤드라인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"/>
          <p:cNvSpPr/>
          <p:nvPr/>
        </p:nvSpPr>
        <p:spPr>
          <a:xfrm>
            <a:off x="3200760" y="69228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Gulim"/>
              </a:rPr>
              <a:t>个性简历</a:t>
            </a:r>
            <a:r>
              <a:rPr b="0" lang="ko-KR" sz="40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ko-KR" sz="4000" spc="-1" strike="noStrike">
                <a:solidFill>
                  <a:srgbClr val="ffffff"/>
                </a:solidFill>
                <a:latin typeface="Gulim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Gulim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234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HY헤드라인M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665280"/>
            <a:ext cx="7925040" cy="32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新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1557360"/>
            <a:ext cx="7153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Gulim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Gulim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2:51:4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0:38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