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7A3-2096-49B2-96E0-93395843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DED-4DED-4520-B034-27F99942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0ED-71D0-4DFF-A3CC-51B0B1B9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7B2-7C1B-44FB-AF86-D2410B9A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30A-3815-4B20-BE45-A1BF5738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B68-1468-43EE-9FF9-773DD700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2F7-4301-498B-BFB6-9839680D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FF4-BD77-4464-96AD-535A1121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AEA-03DA-41E2-87C5-8D78FF7C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82C-2358-4CFF-8C84-233220AE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5F7-6963-4568-8CCA-AE9A8034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859-E3C1-4999-8460-772C34FA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6944-E9B4-4064-89CB-F197B466D3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E5F6-89E9-415E-82E5-0E635CEEC3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0" y="2038320"/>
            <a:ext cx="9144000" cy="261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0" y="2276640"/>
            <a:ext cx="9144000" cy="2160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1860120" y="278748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汇报蓝灰简约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3708360" y="1484280"/>
            <a:ext cx="5184720" cy="484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95280" y="57168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297320" y="2657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282920" y="3789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4282920" y="47671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9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67800" y="260280"/>
            <a:ext cx="119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成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0" y="404640"/>
            <a:ext cx="9144000" cy="4319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39640" y="35337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82560" y="5084640"/>
            <a:ext cx="8082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点儿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单圆角矩形 2"/>
          <p:cNvSpPr/>
          <p:nvPr/>
        </p:nvSpPr>
        <p:spPr>
          <a:xfrm>
            <a:off x="8388360" y="189000"/>
            <a:ext cx="576360" cy="5111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单圆角矩形 5"/>
          <p:cNvSpPr/>
          <p:nvPr/>
        </p:nvSpPr>
        <p:spPr>
          <a:xfrm rot="5400000">
            <a:off x="7956000" y="5732280"/>
            <a:ext cx="1440000" cy="5763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8290080" y="681120"/>
            <a:ext cx="7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喵喵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十字箭头 14"/>
          <p:cNvSpPr/>
          <p:nvPr/>
        </p:nvSpPr>
        <p:spPr>
          <a:xfrm>
            <a:off x="1025640" y="765000"/>
            <a:ext cx="6659280" cy="5651640"/>
          </a:xfrm>
          <a:custGeom>
            <a:avLst/>
            <a:gdLst>
              <a:gd name="textAreaLeft" fmla="*/ 0 w 6659280"/>
              <a:gd name="textAreaRight" fmla="*/ 6659640 w 6659280"/>
              <a:gd name="textAreaTop" fmla="*/ 0 h 5651640"/>
              <a:gd name="textAreaBottom" fmla="*/ 5652000 h 565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80" y="10067"/>
                </a:lnTo>
                <a:lnTo>
                  <a:pt x="1080" y="10617"/>
                </a:lnTo>
                <a:lnTo>
                  <a:pt x="10617" y="10617"/>
                </a:lnTo>
                <a:lnTo>
                  <a:pt x="10617" y="1080"/>
                </a:lnTo>
                <a:lnTo>
                  <a:pt x="10067" y="1080"/>
                </a:lnTo>
                <a:lnTo>
                  <a:pt x="10800" y="0"/>
                </a:lnTo>
                <a:lnTo>
                  <a:pt x="11533" y="1080"/>
                </a:lnTo>
                <a:lnTo>
                  <a:pt x="10983" y="1080"/>
                </a:lnTo>
                <a:lnTo>
                  <a:pt x="10983" y="10617"/>
                </a:lnTo>
                <a:lnTo>
                  <a:pt x="20520" y="10617"/>
                </a:lnTo>
                <a:lnTo>
                  <a:pt x="20520" y="10067"/>
                </a:lnTo>
                <a:lnTo>
                  <a:pt x="21600" y="10800"/>
                </a:lnTo>
                <a:lnTo>
                  <a:pt x="20520" y="11533"/>
                </a:lnTo>
                <a:lnTo>
                  <a:pt x="20520" y="10983"/>
                </a:lnTo>
                <a:lnTo>
                  <a:pt x="10983" y="10983"/>
                </a:lnTo>
                <a:lnTo>
                  <a:pt x="10983" y="20520"/>
                </a:lnTo>
                <a:lnTo>
                  <a:pt x="11533" y="20520"/>
                </a:lnTo>
                <a:lnTo>
                  <a:pt x="10800" y="21600"/>
                </a:lnTo>
                <a:lnTo>
                  <a:pt x="10067" y="20520"/>
                </a:lnTo>
                <a:lnTo>
                  <a:pt x="10617" y="20520"/>
                </a:lnTo>
                <a:lnTo>
                  <a:pt x="10617" y="10983"/>
                </a:lnTo>
                <a:lnTo>
                  <a:pt x="1080" y="10983"/>
                </a:lnTo>
                <a:lnTo>
                  <a:pt x="1080" y="11533"/>
                </a:lnTo>
                <a:close/>
              </a:path>
            </a:pathLst>
          </a:custGeom>
          <a:solidFill>
            <a:srgbClr val="cf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5"/>
          <p:cNvSpPr/>
          <p:nvPr/>
        </p:nvSpPr>
        <p:spPr>
          <a:xfrm>
            <a:off x="1413000" y="1131840"/>
            <a:ext cx="2763720" cy="226224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6480" rIns="186480" tIns="186480" bIns="18648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4533840" y="1131840"/>
            <a:ext cx="2763720" cy="226224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6480" rIns="186480" tIns="186480" bIns="18648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7"/>
          <p:cNvSpPr/>
          <p:nvPr/>
        </p:nvSpPr>
        <p:spPr>
          <a:xfrm>
            <a:off x="1413000" y="3789360"/>
            <a:ext cx="2763720" cy="237636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98000" bIns="19800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4535640" y="3760920"/>
            <a:ext cx="2763720" cy="240480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0520" rIns="200520" tIns="200520" bIns="20052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单圆角矩形 2"/>
          <p:cNvSpPr/>
          <p:nvPr/>
        </p:nvSpPr>
        <p:spPr>
          <a:xfrm>
            <a:off x="8461440" y="189000"/>
            <a:ext cx="503280" cy="5111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单圆角矩形 5"/>
          <p:cNvSpPr/>
          <p:nvPr/>
        </p:nvSpPr>
        <p:spPr>
          <a:xfrm rot="5400000">
            <a:off x="7991640" y="5767920"/>
            <a:ext cx="1440000" cy="50508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395280" y="765000"/>
            <a:ext cx="144360" cy="71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8388360" y="530064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汪汪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826920" y="1844640"/>
            <a:ext cx="73454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682560" y="765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2205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3F0-B611-4A04-8DE5-51F17DAFFA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2"/>
          <p:cNvSpPr/>
          <p:nvPr/>
        </p:nvSpPr>
        <p:spPr>
          <a:xfrm>
            <a:off x="0" y="2038320"/>
            <a:ext cx="9144000" cy="261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"/>
          <p:cNvSpPr/>
          <p:nvPr/>
        </p:nvSpPr>
        <p:spPr>
          <a:xfrm>
            <a:off x="0" y="2276640"/>
            <a:ext cx="9144000" cy="2160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944520" y="27874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6:37:00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2T14:35:32Z</dcterms:modified>
  <cp:revision>2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