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B87-BC99-4C42-B680-A6008CDD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2A6-979F-410E-9493-3CC1257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BBD-EE79-41C6-ABB9-DE1B6C59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789-F17C-46C1-A111-580C8463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5F2-7783-43F1-8A4E-E3F2A65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DFEE-85FF-4CA6-BC04-83BAB6BD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9B6-70B7-444F-9137-6A866F2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7B5A-84CF-4354-82A9-497BE2CE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3312-778B-46B8-A2CA-2347E599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060A-729B-43E0-9792-424CD7C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43C-04B2-47C1-A90A-EF1E2B6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FE7-D25D-4E22-B253-9A20FD0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E982-FAC8-474C-87AA-DA8C3DF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C7FF-EA0E-4230-A429-3AC8066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252-99EE-45F4-82DD-7827CAD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513-1A79-4E15-B0EA-258D040F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3248-AD03-47B0-9C43-57608CC3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32-5F0F-4A03-91DA-5969C5F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A88-90EF-45E3-85BF-BFA00A59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866-8029-4397-8C55-C56FC1F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285-D32C-456B-BDC3-0723DA53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185-8AC0-4510-B7A4-56F714C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786-FE77-42D4-A865-9A2EC53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C50-930D-439D-8058-BFF6238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178-BB2D-46D5-B131-C249F97801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2799-C5D3-479C-8D51-BC16708D02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6"/>
          <p:cNvSpPr/>
          <p:nvPr/>
        </p:nvSpPr>
        <p:spPr>
          <a:xfrm>
            <a:off x="623880" y="2583000"/>
            <a:ext cx="7748640" cy="7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7"/>
          <p:cNvSpPr/>
          <p:nvPr/>
        </p:nvSpPr>
        <p:spPr>
          <a:xfrm>
            <a:off x="623880" y="3844800"/>
            <a:ext cx="7748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277920" y="174780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工作总结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ios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风格小清新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311760" y="2755800"/>
            <a:ext cx="163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402280" y="2741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d66d"/>
                </a:solidFill>
                <a:latin typeface="微软雅黑"/>
                <a:ea typeface="微软雅黑"/>
              </a:rPr>
              <a:t>工作总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517080" y="2752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d66d"/>
                </a:solidFill>
                <a:latin typeface="微软雅黑"/>
                <a:ea typeface="微软雅黑"/>
              </a:rPr>
              <a:t>工作计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2"/>
          <p:cNvGrpSpPr/>
          <p:nvPr/>
        </p:nvGrpSpPr>
        <p:grpSpPr>
          <a:xfrm>
            <a:off x="4898160" y="3991680"/>
            <a:ext cx="3610080" cy="1332000"/>
            <a:chOff x="4898160" y="3991680"/>
            <a:chExt cx="3610080" cy="1332000"/>
          </a:xfrm>
        </p:grpSpPr>
        <p:sp>
          <p:nvSpPr>
            <p:cNvPr id="90" name="矩形 18"/>
            <p:cNvSpPr/>
            <p:nvPr/>
          </p:nvSpPr>
          <p:spPr>
            <a:xfrm rot="1800000">
              <a:off x="5117400" y="417456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详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9"/>
            <p:cNvSpPr/>
            <p:nvPr/>
          </p:nvSpPr>
          <p:spPr>
            <a:xfrm rot="19800000">
              <a:off x="5962320" y="41011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细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20"/>
            <p:cNvSpPr/>
            <p:nvPr/>
          </p:nvSpPr>
          <p:spPr>
            <a:xfrm rot="1800000">
              <a:off x="6738480" y="408600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解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21"/>
            <p:cNvSpPr/>
            <p:nvPr/>
          </p:nvSpPr>
          <p:spPr>
            <a:xfrm rot="19800000">
              <a:off x="7628040" y="41083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读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KSO_Shape"/>
          <p:cNvSpPr/>
          <p:nvPr/>
        </p:nvSpPr>
        <p:spPr>
          <a:xfrm>
            <a:off x="4494240" y="2573280"/>
            <a:ext cx="1709640" cy="1179720"/>
          </a:xfrm>
          <a:custGeom>
            <a:avLst/>
            <a:gdLst/>
            <a:ahLst/>
            <a:rect l="l" t="t" r="r" b="b"/>
            <a:pathLst>
              <a:path w="23269574" h="16071852">
                <a:moveTo>
                  <a:pt x="12026903" y="6746876"/>
                </a:moveTo>
                <a:lnTo>
                  <a:pt x="12150728" y="6746876"/>
                </a:lnTo>
                <a:lnTo>
                  <a:pt x="12268203" y="6750052"/>
                </a:lnTo>
                <a:lnTo>
                  <a:pt x="12376153" y="6756400"/>
                </a:lnTo>
                <a:lnTo>
                  <a:pt x="12477753" y="6765926"/>
                </a:lnTo>
                <a:lnTo>
                  <a:pt x="12573003" y="6778626"/>
                </a:lnTo>
                <a:lnTo>
                  <a:pt x="12661903" y="6794500"/>
                </a:lnTo>
                <a:lnTo>
                  <a:pt x="12744453" y="6810376"/>
                </a:lnTo>
                <a:lnTo>
                  <a:pt x="12820653" y="6829426"/>
                </a:lnTo>
                <a:lnTo>
                  <a:pt x="12890503" y="6851652"/>
                </a:lnTo>
                <a:lnTo>
                  <a:pt x="12954003" y="6870700"/>
                </a:lnTo>
                <a:lnTo>
                  <a:pt x="13011153" y="6892926"/>
                </a:lnTo>
                <a:lnTo>
                  <a:pt x="13061953" y="6915152"/>
                </a:lnTo>
                <a:lnTo>
                  <a:pt x="13109578" y="6937376"/>
                </a:lnTo>
                <a:lnTo>
                  <a:pt x="13150853" y="6956426"/>
                </a:lnTo>
                <a:lnTo>
                  <a:pt x="13217528" y="6994526"/>
                </a:lnTo>
                <a:lnTo>
                  <a:pt x="13261978" y="7026276"/>
                </a:lnTo>
                <a:lnTo>
                  <a:pt x="13287378" y="7045326"/>
                </a:lnTo>
                <a:lnTo>
                  <a:pt x="13296903" y="7054852"/>
                </a:lnTo>
                <a:lnTo>
                  <a:pt x="13192128" y="7013576"/>
                </a:lnTo>
                <a:lnTo>
                  <a:pt x="13087353" y="6978652"/>
                </a:lnTo>
                <a:lnTo>
                  <a:pt x="12979403" y="6950076"/>
                </a:lnTo>
                <a:lnTo>
                  <a:pt x="12871453" y="6924676"/>
                </a:lnTo>
                <a:lnTo>
                  <a:pt x="12766678" y="6902452"/>
                </a:lnTo>
                <a:lnTo>
                  <a:pt x="12658728" y="6889752"/>
                </a:lnTo>
                <a:lnTo>
                  <a:pt x="12547603" y="6877052"/>
                </a:lnTo>
                <a:lnTo>
                  <a:pt x="12439653" y="6870700"/>
                </a:lnTo>
                <a:lnTo>
                  <a:pt x="12331703" y="6870700"/>
                </a:lnTo>
                <a:lnTo>
                  <a:pt x="12223753" y="6870700"/>
                </a:lnTo>
                <a:lnTo>
                  <a:pt x="12112628" y="6877052"/>
                </a:lnTo>
                <a:lnTo>
                  <a:pt x="12004678" y="6886576"/>
                </a:lnTo>
                <a:lnTo>
                  <a:pt x="11896728" y="6902452"/>
                </a:lnTo>
                <a:lnTo>
                  <a:pt x="11785603" y="6918326"/>
                </a:lnTo>
                <a:lnTo>
                  <a:pt x="11677653" y="6937376"/>
                </a:lnTo>
                <a:lnTo>
                  <a:pt x="11569703" y="6962776"/>
                </a:lnTo>
                <a:lnTo>
                  <a:pt x="11464928" y="6988176"/>
                </a:lnTo>
                <a:lnTo>
                  <a:pt x="11356978" y="7016752"/>
                </a:lnTo>
                <a:lnTo>
                  <a:pt x="11252203" y="7048500"/>
                </a:lnTo>
                <a:lnTo>
                  <a:pt x="11144254" y="7083426"/>
                </a:lnTo>
                <a:lnTo>
                  <a:pt x="11042653" y="7121526"/>
                </a:lnTo>
                <a:lnTo>
                  <a:pt x="10937878" y="7159626"/>
                </a:lnTo>
                <a:lnTo>
                  <a:pt x="10836278" y="7200900"/>
                </a:lnTo>
                <a:lnTo>
                  <a:pt x="10734679" y="7242176"/>
                </a:lnTo>
                <a:lnTo>
                  <a:pt x="10633078" y="7286626"/>
                </a:lnTo>
                <a:lnTo>
                  <a:pt x="10534654" y="7334252"/>
                </a:lnTo>
                <a:lnTo>
                  <a:pt x="10340978" y="7429500"/>
                </a:lnTo>
                <a:lnTo>
                  <a:pt x="10156828" y="7527926"/>
                </a:lnTo>
                <a:lnTo>
                  <a:pt x="9975853" y="7632700"/>
                </a:lnTo>
                <a:lnTo>
                  <a:pt x="9848853" y="7705726"/>
                </a:lnTo>
                <a:lnTo>
                  <a:pt x="9728203" y="7781926"/>
                </a:lnTo>
                <a:lnTo>
                  <a:pt x="9582154" y="7883526"/>
                </a:lnTo>
                <a:lnTo>
                  <a:pt x="9432928" y="7981952"/>
                </a:lnTo>
                <a:lnTo>
                  <a:pt x="9283703" y="8083552"/>
                </a:lnTo>
                <a:lnTo>
                  <a:pt x="9134478" y="8188326"/>
                </a:lnTo>
                <a:lnTo>
                  <a:pt x="9061453" y="8242300"/>
                </a:lnTo>
                <a:lnTo>
                  <a:pt x="8991603" y="8299452"/>
                </a:lnTo>
                <a:lnTo>
                  <a:pt x="8861428" y="8416926"/>
                </a:lnTo>
                <a:lnTo>
                  <a:pt x="8604253" y="8651876"/>
                </a:lnTo>
                <a:lnTo>
                  <a:pt x="8610603" y="8613776"/>
                </a:lnTo>
                <a:lnTo>
                  <a:pt x="8620128" y="8575676"/>
                </a:lnTo>
                <a:lnTo>
                  <a:pt x="8629653" y="8537576"/>
                </a:lnTo>
                <a:lnTo>
                  <a:pt x="8645528" y="8499476"/>
                </a:lnTo>
                <a:lnTo>
                  <a:pt x="8661403" y="8458200"/>
                </a:lnTo>
                <a:lnTo>
                  <a:pt x="8677278" y="8420100"/>
                </a:lnTo>
                <a:lnTo>
                  <a:pt x="8718553" y="8343900"/>
                </a:lnTo>
                <a:lnTo>
                  <a:pt x="8797928" y="8242300"/>
                </a:lnTo>
                <a:lnTo>
                  <a:pt x="8880478" y="8140700"/>
                </a:lnTo>
                <a:lnTo>
                  <a:pt x="8969378" y="8048626"/>
                </a:lnTo>
                <a:lnTo>
                  <a:pt x="9058278" y="7956552"/>
                </a:lnTo>
                <a:lnTo>
                  <a:pt x="9153528" y="7870826"/>
                </a:lnTo>
                <a:lnTo>
                  <a:pt x="9248778" y="7785100"/>
                </a:lnTo>
                <a:lnTo>
                  <a:pt x="9347203" y="7702552"/>
                </a:lnTo>
                <a:lnTo>
                  <a:pt x="9448804" y="7623176"/>
                </a:lnTo>
                <a:lnTo>
                  <a:pt x="9550403" y="7546976"/>
                </a:lnTo>
                <a:lnTo>
                  <a:pt x="9652003" y="7473952"/>
                </a:lnTo>
                <a:lnTo>
                  <a:pt x="9861553" y="7327900"/>
                </a:lnTo>
                <a:lnTo>
                  <a:pt x="9966329" y="7267576"/>
                </a:lnTo>
                <a:lnTo>
                  <a:pt x="10061578" y="7213600"/>
                </a:lnTo>
                <a:lnTo>
                  <a:pt x="10188578" y="7146926"/>
                </a:lnTo>
                <a:lnTo>
                  <a:pt x="10283829" y="7096126"/>
                </a:lnTo>
                <a:lnTo>
                  <a:pt x="10369553" y="7054852"/>
                </a:lnTo>
                <a:lnTo>
                  <a:pt x="10572753" y="6994526"/>
                </a:lnTo>
                <a:lnTo>
                  <a:pt x="10766428" y="6940552"/>
                </a:lnTo>
                <a:lnTo>
                  <a:pt x="10953753" y="6892926"/>
                </a:lnTo>
                <a:lnTo>
                  <a:pt x="11131553" y="6854826"/>
                </a:lnTo>
                <a:lnTo>
                  <a:pt x="11299828" y="6823076"/>
                </a:lnTo>
                <a:lnTo>
                  <a:pt x="11461754" y="6797676"/>
                </a:lnTo>
                <a:lnTo>
                  <a:pt x="11614153" y="6775452"/>
                </a:lnTo>
                <a:lnTo>
                  <a:pt x="11760203" y="6762752"/>
                </a:lnTo>
                <a:lnTo>
                  <a:pt x="11896728" y="6750052"/>
                </a:lnTo>
                <a:lnTo>
                  <a:pt x="12026903" y="6746876"/>
                </a:lnTo>
                <a:close/>
                <a:moveTo>
                  <a:pt x="10912477" y="6508752"/>
                </a:moveTo>
                <a:lnTo>
                  <a:pt x="10852152" y="6534152"/>
                </a:lnTo>
                <a:lnTo>
                  <a:pt x="10782302" y="6562724"/>
                </a:lnTo>
                <a:lnTo>
                  <a:pt x="10687052" y="6607176"/>
                </a:lnTo>
                <a:lnTo>
                  <a:pt x="10569577" y="6664324"/>
                </a:lnTo>
                <a:lnTo>
                  <a:pt x="10436227" y="6734176"/>
                </a:lnTo>
                <a:lnTo>
                  <a:pt x="10287003" y="6816724"/>
                </a:lnTo>
                <a:lnTo>
                  <a:pt x="10125077" y="6915152"/>
                </a:lnTo>
                <a:lnTo>
                  <a:pt x="9985377" y="7004052"/>
                </a:lnTo>
                <a:lnTo>
                  <a:pt x="9842502" y="7102476"/>
                </a:lnTo>
                <a:lnTo>
                  <a:pt x="9658353" y="7261224"/>
                </a:lnTo>
                <a:lnTo>
                  <a:pt x="9477377" y="7423152"/>
                </a:lnTo>
                <a:lnTo>
                  <a:pt x="9299577" y="7591424"/>
                </a:lnTo>
                <a:lnTo>
                  <a:pt x="9210678" y="7677152"/>
                </a:lnTo>
                <a:lnTo>
                  <a:pt x="9124952" y="7766052"/>
                </a:lnTo>
                <a:lnTo>
                  <a:pt x="9013827" y="7886700"/>
                </a:lnTo>
                <a:lnTo>
                  <a:pt x="8905877" y="8007352"/>
                </a:lnTo>
                <a:lnTo>
                  <a:pt x="8810627" y="8128000"/>
                </a:lnTo>
                <a:lnTo>
                  <a:pt x="8721727" y="8251824"/>
                </a:lnTo>
                <a:lnTo>
                  <a:pt x="8632827" y="8378824"/>
                </a:lnTo>
                <a:lnTo>
                  <a:pt x="8547102" y="8512176"/>
                </a:lnTo>
                <a:lnTo>
                  <a:pt x="8483602" y="8613776"/>
                </a:lnTo>
                <a:lnTo>
                  <a:pt x="8423277" y="8718552"/>
                </a:lnTo>
                <a:lnTo>
                  <a:pt x="8366127" y="8823324"/>
                </a:lnTo>
                <a:lnTo>
                  <a:pt x="8312152" y="8931276"/>
                </a:lnTo>
                <a:lnTo>
                  <a:pt x="8261352" y="9042400"/>
                </a:lnTo>
                <a:lnTo>
                  <a:pt x="8213728" y="9153524"/>
                </a:lnTo>
                <a:lnTo>
                  <a:pt x="8172452" y="9264652"/>
                </a:lnTo>
                <a:lnTo>
                  <a:pt x="8134353" y="9378952"/>
                </a:lnTo>
                <a:lnTo>
                  <a:pt x="8102602" y="9496424"/>
                </a:lnTo>
                <a:lnTo>
                  <a:pt x="8074027" y="9613900"/>
                </a:lnTo>
                <a:lnTo>
                  <a:pt x="8051802" y="9731376"/>
                </a:lnTo>
                <a:lnTo>
                  <a:pt x="8035927" y="9848852"/>
                </a:lnTo>
                <a:lnTo>
                  <a:pt x="8026402" y="9966324"/>
                </a:lnTo>
                <a:lnTo>
                  <a:pt x="8020052" y="10083800"/>
                </a:lnTo>
                <a:lnTo>
                  <a:pt x="8020052" y="10204452"/>
                </a:lnTo>
                <a:lnTo>
                  <a:pt x="8029578" y="10321924"/>
                </a:lnTo>
                <a:lnTo>
                  <a:pt x="8035927" y="10401300"/>
                </a:lnTo>
                <a:lnTo>
                  <a:pt x="8048627" y="10477500"/>
                </a:lnTo>
                <a:lnTo>
                  <a:pt x="8064502" y="10556876"/>
                </a:lnTo>
                <a:lnTo>
                  <a:pt x="8080377" y="10636252"/>
                </a:lnTo>
                <a:lnTo>
                  <a:pt x="8102602" y="10712452"/>
                </a:lnTo>
                <a:lnTo>
                  <a:pt x="8128002" y="10788652"/>
                </a:lnTo>
                <a:lnTo>
                  <a:pt x="8156577" y="10864852"/>
                </a:lnTo>
                <a:lnTo>
                  <a:pt x="8188328" y="10941052"/>
                </a:lnTo>
                <a:lnTo>
                  <a:pt x="8220077" y="10985500"/>
                </a:lnTo>
                <a:lnTo>
                  <a:pt x="8255002" y="11029952"/>
                </a:lnTo>
                <a:lnTo>
                  <a:pt x="8293103" y="11071224"/>
                </a:lnTo>
                <a:lnTo>
                  <a:pt x="8337552" y="11112500"/>
                </a:lnTo>
                <a:lnTo>
                  <a:pt x="8397877" y="11163300"/>
                </a:lnTo>
                <a:lnTo>
                  <a:pt x="8461377" y="11207752"/>
                </a:lnTo>
                <a:lnTo>
                  <a:pt x="8499477" y="11229976"/>
                </a:lnTo>
                <a:lnTo>
                  <a:pt x="8537577" y="11249024"/>
                </a:lnTo>
                <a:lnTo>
                  <a:pt x="8575677" y="11268076"/>
                </a:lnTo>
                <a:lnTo>
                  <a:pt x="8616952" y="11283952"/>
                </a:lnTo>
                <a:lnTo>
                  <a:pt x="8683627" y="11309352"/>
                </a:lnTo>
                <a:lnTo>
                  <a:pt x="8753477" y="11328400"/>
                </a:lnTo>
                <a:lnTo>
                  <a:pt x="8829677" y="11347452"/>
                </a:lnTo>
                <a:lnTo>
                  <a:pt x="8909052" y="11360152"/>
                </a:lnTo>
                <a:lnTo>
                  <a:pt x="8994777" y="11366500"/>
                </a:lnTo>
                <a:lnTo>
                  <a:pt x="9086852" y="11369676"/>
                </a:lnTo>
                <a:lnTo>
                  <a:pt x="9182102" y="11369676"/>
                </a:lnTo>
                <a:lnTo>
                  <a:pt x="9283702" y="11363324"/>
                </a:lnTo>
                <a:lnTo>
                  <a:pt x="9391652" y="11350624"/>
                </a:lnTo>
                <a:lnTo>
                  <a:pt x="9505952" y="11331576"/>
                </a:lnTo>
                <a:lnTo>
                  <a:pt x="9626602" y="11306176"/>
                </a:lnTo>
                <a:lnTo>
                  <a:pt x="9750428" y="11277600"/>
                </a:lnTo>
                <a:lnTo>
                  <a:pt x="9883778" y="11239500"/>
                </a:lnTo>
                <a:lnTo>
                  <a:pt x="10023477" y="11191876"/>
                </a:lnTo>
                <a:lnTo>
                  <a:pt x="10169527" y="11141076"/>
                </a:lnTo>
                <a:lnTo>
                  <a:pt x="10321927" y="11080752"/>
                </a:lnTo>
                <a:lnTo>
                  <a:pt x="10467977" y="11017252"/>
                </a:lnTo>
                <a:lnTo>
                  <a:pt x="10623552" y="10947400"/>
                </a:lnTo>
                <a:lnTo>
                  <a:pt x="10791827" y="10858500"/>
                </a:lnTo>
                <a:lnTo>
                  <a:pt x="10963277" y="10763252"/>
                </a:lnTo>
                <a:lnTo>
                  <a:pt x="11131552" y="10664824"/>
                </a:lnTo>
                <a:lnTo>
                  <a:pt x="11296653" y="10560052"/>
                </a:lnTo>
                <a:lnTo>
                  <a:pt x="11458577" y="10448924"/>
                </a:lnTo>
                <a:lnTo>
                  <a:pt x="11541127" y="10391776"/>
                </a:lnTo>
                <a:lnTo>
                  <a:pt x="11617327" y="10331452"/>
                </a:lnTo>
                <a:lnTo>
                  <a:pt x="11696702" y="10271124"/>
                </a:lnTo>
                <a:lnTo>
                  <a:pt x="11772902" y="10207624"/>
                </a:lnTo>
                <a:lnTo>
                  <a:pt x="11845927" y="10144124"/>
                </a:lnTo>
                <a:lnTo>
                  <a:pt x="11918952" y="10080624"/>
                </a:lnTo>
                <a:lnTo>
                  <a:pt x="11988802" y="10010776"/>
                </a:lnTo>
                <a:lnTo>
                  <a:pt x="12058652" y="9944100"/>
                </a:lnTo>
                <a:lnTo>
                  <a:pt x="12122152" y="9871076"/>
                </a:lnTo>
                <a:lnTo>
                  <a:pt x="12188827" y="9801224"/>
                </a:lnTo>
                <a:lnTo>
                  <a:pt x="12249152" y="9725024"/>
                </a:lnTo>
                <a:lnTo>
                  <a:pt x="12306302" y="9648824"/>
                </a:lnTo>
                <a:lnTo>
                  <a:pt x="12363452" y="9572624"/>
                </a:lnTo>
                <a:lnTo>
                  <a:pt x="12417427" y="9490076"/>
                </a:lnTo>
                <a:lnTo>
                  <a:pt x="12468227" y="9407524"/>
                </a:lnTo>
                <a:lnTo>
                  <a:pt x="12515852" y="9324976"/>
                </a:lnTo>
                <a:lnTo>
                  <a:pt x="12560302" y="9239252"/>
                </a:lnTo>
                <a:lnTo>
                  <a:pt x="12598402" y="9150352"/>
                </a:lnTo>
                <a:lnTo>
                  <a:pt x="12636502" y="9061452"/>
                </a:lnTo>
                <a:lnTo>
                  <a:pt x="12668252" y="8969376"/>
                </a:lnTo>
                <a:lnTo>
                  <a:pt x="12700002" y="8874124"/>
                </a:lnTo>
                <a:lnTo>
                  <a:pt x="12725402" y="8775700"/>
                </a:lnTo>
                <a:lnTo>
                  <a:pt x="12741277" y="8702676"/>
                </a:lnTo>
                <a:lnTo>
                  <a:pt x="12753977" y="8626476"/>
                </a:lnTo>
                <a:lnTo>
                  <a:pt x="12760327" y="8547100"/>
                </a:lnTo>
                <a:lnTo>
                  <a:pt x="12766677" y="8470900"/>
                </a:lnTo>
                <a:lnTo>
                  <a:pt x="12769852" y="8391524"/>
                </a:lnTo>
                <a:lnTo>
                  <a:pt x="12769852" y="8312152"/>
                </a:lnTo>
                <a:lnTo>
                  <a:pt x="12763502" y="8229600"/>
                </a:lnTo>
                <a:lnTo>
                  <a:pt x="12757152" y="8147052"/>
                </a:lnTo>
                <a:lnTo>
                  <a:pt x="12741277" y="8108952"/>
                </a:lnTo>
                <a:lnTo>
                  <a:pt x="12725402" y="8070852"/>
                </a:lnTo>
                <a:lnTo>
                  <a:pt x="12706352" y="8035924"/>
                </a:lnTo>
                <a:lnTo>
                  <a:pt x="12684127" y="8001000"/>
                </a:lnTo>
                <a:lnTo>
                  <a:pt x="12661902" y="7966076"/>
                </a:lnTo>
                <a:lnTo>
                  <a:pt x="12636502" y="7931152"/>
                </a:lnTo>
                <a:lnTo>
                  <a:pt x="12607927" y="7899400"/>
                </a:lnTo>
                <a:lnTo>
                  <a:pt x="12576177" y="7870824"/>
                </a:lnTo>
                <a:lnTo>
                  <a:pt x="12541252" y="7842252"/>
                </a:lnTo>
                <a:lnTo>
                  <a:pt x="12503152" y="7813676"/>
                </a:lnTo>
                <a:lnTo>
                  <a:pt x="12465052" y="7788276"/>
                </a:lnTo>
                <a:lnTo>
                  <a:pt x="12420602" y="7766052"/>
                </a:lnTo>
                <a:lnTo>
                  <a:pt x="12372977" y="7743824"/>
                </a:lnTo>
                <a:lnTo>
                  <a:pt x="12325352" y="7721600"/>
                </a:lnTo>
                <a:lnTo>
                  <a:pt x="12271377" y="7702552"/>
                </a:lnTo>
                <a:lnTo>
                  <a:pt x="12217402" y="7686676"/>
                </a:lnTo>
                <a:lnTo>
                  <a:pt x="12157077" y="7670800"/>
                </a:lnTo>
                <a:lnTo>
                  <a:pt x="12096752" y="7658100"/>
                </a:lnTo>
                <a:lnTo>
                  <a:pt x="12030077" y="7645400"/>
                </a:lnTo>
                <a:lnTo>
                  <a:pt x="11960227" y="7635876"/>
                </a:lnTo>
                <a:lnTo>
                  <a:pt x="11887202" y="7629524"/>
                </a:lnTo>
                <a:lnTo>
                  <a:pt x="11811002" y="7623176"/>
                </a:lnTo>
                <a:lnTo>
                  <a:pt x="11731627" y="7620000"/>
                </a:lnTo>
                <a:lnTo>
                  <a:pt x="11645902" y="7620000"/>
                </a:lnTo>
                <a:lnTo>
                  <a:pt x="11668127" y="7623176"/>
                </a:lnTo>
                <a:lnTo>
                  <a:pt x="11728452" y="7632700"/>
                </a:lnTo>
                <a:lnTo>
                  <a:pt x="11766552" y="7642224"/>
                </a:lnTo>
                <a:lnTo>
                  <a:pt x="11811002" y="7654924"/>
                </a:lnTo>
                <a:lnTo>
                  <a:pt x="11861802" y="7670800"/>
                </a:lnTo>
                <a:lnTo>
                  <a:pt x="11912602" y="7693024"/>
                </a:lnTo>
                <a:lnTo>
                  <a:pt x="11963402" y="7721600"/>
                </a:lnTo>
                <a:lnTo>
                  <a:pt x="12014202" y="7753352"/>
                </a:lnTo>
                <a:lnTo>
                  <a:pt x="12065002" y="7791452"/>
                </a:lnTo>
                <a:lnTo>
                  <a:pt x="12090402" y="7813676"/>
                </a:lnTo>
                <a:lnTo>
                  <a:pt x="12112627" y="7839076"/>
                </a:lnTo>
                <a:lnTo>
                  <a:pt x="12134852" y="7864476"/>
                </a:lnTo>
                <a:lnTo>
                  <a:pt x="12153902" y="7893052"/>
                </a:lnTo>
                <a:lnTo>
                  <a:pt x="12172952" y="7924800"/>
                </a:lnTo>
                <a:lnTo>
                  <a:pt x="12192002" y="7956552"/>
                </a:lnTo>
                <a:lnTo>
                  <a:pt x="12204702" y="7991476"/>
                </a:lnTo>
                <a:lnTo>
                  <a:pt x="12220577" y="8026400"/>
                </a:lnTo>
                <a:lnTo>
                  <a:pt x="12230102" y="8064500"/>
                </a:lnTo>
                <a:lnTo>
                  <a:pt x="12239627" y="8105776"/>
                </a:lnTo>
                <a:lnTo>
                  <a:pt x="12211052" y="8074024"/>
                </a:lnTo>
                <a:lnTo>
                  <a:pt x="12172952" y="8035924"/>
                </a:lnTo>
                <a:lnTo>
                  <a:pt x="12118977" y="7991476"/>
                </a:lnTo>
                <a:lnTo>
                  <a:pt x="12087227" y="7966076"/>
                </a:lnTo>
                <a:lnTo>
                  <a:pt x="12049127" y="7943852"/>
                </a:lnTo>
                <a:lnTo>
                  <a:pt x="12007852" y="7918452"/>
                </a:lnTo>
                <a:lnTo>
                  <a:pt x="11963402" y="7893052"/>
                </a:lnTo>
                <a:lnTo>
                  <a:pt x="11912602" y="7870824"/>
                </a:lnTo>
                <a:lnTo>
                  <a:pt x="11861802" y="7848600"/>
                </a:lnTo>
                <a:lnTo>
                  <a:pt x="11801477" y="7826376"/>
                </a:lnTo>
                <a:lnTo>
                  <a:pt x="11741152" y="7810500"/>
                </a:lnTo>
                <a:lnTo>
                  <a:pt x="11674477" y="7794624"/>
                </a:lnTo>
                <a:lnTo>
                  <a:pt x="11601452" y="7781924"/>
                </a:lnTo>
                <a:lnTo>
                  <a:pt x="11525252" y="7772400"/>
                </a:lnTo>
                <a:lnTo>
                  <a:pt x="11445878" y="7769224"/>
                </a:lnTo>
                <a:lnTo>
                  <a:pt x="11360152" y="7769224"/>
                </a:lnTo>
                <a:lnTo>
                  <a:pt x="11268077" y="7775576"/>
                </a:lnTo>
                <a:lnTo>
                  <a:pt x="11176002" y="7788276"/>
                </a:lnTo>
                <a:lnTo>
                  <a:pt x="11074402" y="7807324"/>
                </a:lnTo>
                <a:lnTo>
                  <a:pt x="10969628" y="7829552"/>
                </a:lnTo>
                <a:lnTo>
                  <a:pt x="10861677" y="7861300"/>
                </a:lnTo>
                <a:lnTo>
                  <a:pt x="10747377" y="7899400"/>
                </a:lnTo>
                <a:lnTo>
                  <a:pt x="10626727" y="7947024"/>
                </a:lnTo>
                <a:lnTo>
                  <a:pt x="10502902" y="8004176"/>
                </a:lnTo>
                <a:lnTo>
                  <a:pt x="10372727" y="8067676"/>
                </a:lnTo>
                <a:lnTo>
                  <a:pt x="10239377" y="8143876"/>
                </a:lnTo>
                <a:lnTo>
                  <a:pt x="10099677" y="8226424"/>
                </a:lnTo>
                <a:lnTo>
                  <a:pt x="10102852" y="8216900"/>
                </a:lnTo>
                <a:lnTo>
                  <a:pt x="10121902" y="8194676"/>
                </a:lnTo>
                <a:lnTo>
                  <a:pt x="10160002" y="8153400"/>
                </a:lnTo>
                <a:lnTo>
                  <a:pt x="10213977" y="8102600"/>
                </a:lnTo>
                <a:lnTo>
                  <a:pt x="10248902" y="8074024"/>
                </a:lnTo>
                <a:lnTo>
                  <a:pt x="10290177" y="8042276"/>
                </a:lnTo>
                <a:lnTo>
                  <a:pt x="10334627" y="8007352"/>
                </a:lnTo>
                <a:lnTo>
                  <a:pt x="10388602" y="7972424"/>
                </a:lnTo>
                <a:lnTo>
                  <a:pt x="10448927" y="7934324"/>
                </a:lnTo>
                <a:lnTo>
                  <a:pt x="10515602" y="7896224"/>
                </a:lnTo>
                <a:lnTo>
                  <a:pt x="10591802" y="7854952"/>
                </a:lnTo>
                <a:lnTo>
                  <a:pt x="10674352" y="7816852"/>
                </a:lnTo>
                <a:lnTo>
                  <a:pt x="10629902" y="7829552"/>
                </a:lnTo>
                <a:lnTo>
                  <a:pt x="10575927" y="7848600"/>
                </a:lnTo>
                <a:lnTo>
                  <a:pt x="10499727" y="7877176"/>
                </a:lnTo>
                <a:lnTo>
                  <a:pt x="10407652" y="7915276"/>
                </a:lnTo>
                <a:lnTo>
                  <a:pt x="10293353" y="7969252"/>
                </a:lnTo>
                <a:lnTo>
                  <a:pt x="10163177" y="8035924"/>
                </a:lnTo>
                <a:lnTo>
                  <a:pt x="10017127" y="8118476"/>
                </a:lnTo>
                <a:lnTo>
                  <a:pt x="10080627" y="8064500"/>
                </a:lnTo>
                <a:lnTo>
                  <a:pt x="10147302" y="8010524"/>
                </a:lnTo>
                <a:lnTo>
                  <a:pt x="10233027" y="7943852"/>
                </a:lnTo>
                <a:lnTo>
                  <a:pt x="10331452" y="7874000"/>
                </a:lnTo>
                <a:lnTo>
                  <a:pt x="10433052" y="7807324"/>
                </a:lnTo>
                <a:lnTo>
                  <a:pt x="10483852" y="7778752"/>
                </a:lnTo>
                <a:lnTo>
                  <a:pt x="10531477" y="7753352"/>
                </a:lnTo>
                <a:lnTo>
                  <a:pt x="10579103" y="7731124"/>
                </a:lnTo>
                <a:lnTo>
                  <a:pt x="10623552" y="7715252"/>
                </a:lnTo>
                <a:lnTo>
                  <a:pt x="10594977" y="7724776"/>
                </a:lnTo>
                <a:lnTo>
                  <a:pt x="10518778" y="7750176"/>
                </a:lnTo>
                <a:lnTo>
                  <a:pt x="10398127" y="7797800"/>
                </a:lnTo>
                <a:lnTo>
                  <a:pt x="10325102" y="7829552"/>
                </a:lnTo>
                <a:lnTo>
                  <a:pt x="10239377" y="7867652"/>
                </a:lnTo>
                <a:lnTo>
                  <a:pt x="10147302" y="7912100"/>
                </a:lnTo>
                <a:lnTo>
                  <a:pt x="10048877" y="7959724"/>
                </a:lnTo>
                <a:lnTo>
                  <a:pt x="9944102" y="8016876"/>
                </a:lnTo>
                <a:lnTo>
                  <a:pt x="9829802" y="8080376"/>
                </a:lnTo>
                <a:lnTo>
                  <a:pt x="9715502" y="8150224"/>
                </a:lnTo>
                <a:lnTo>
                  <a:pt x="9594852" y="8226424"/>
                </a:lnTo>
                <a:lnTo>
                  <a:pt x="9467852" y="8312152"/>
                </a:lnTo>
                <a:lnTo>
                  <a:pt x="9340853" y="8404224"/>
                </a:lnTo>
                <a:lnTo>
                  <a:pt x="9350377" y="8382000"/>
                </a:lnTo>
                <a:lnTo>
                  <a:pt x="9369428" y="8353424"/>
                </a:lnTo>
                <a:lnTo>
                  <a:pt x="9398002" y="8315324"/>
                </a:lnTo>
                <a:lnTo>
                  <a:pt x="9436103" y="8270876"/>
                </a:lnTo>
                <a:lnTo>
                  <a:pt x="9490077" y="8216900"/>
                </a:lnTo>
                <a:lnTo>
                  <a:pt x="9559927" y="8153400"/>
                </a:lnTo>
                <a:lnTo>
                  <a:pt x="9645652" y="8083552"/>
                </a:lnTo>
                <a:lnTo>
                  <a:pt x="9753602" y="8007352"/>
                </a:lnTo>
                <a:lnTo>
                  <a:pt x="9813927" y="7966076"/>
                </a:lnTo>
                <a:lnTo>
                  <a:pt x="9880602" y="7924800"/>
                </a:lnTo>
                <a:lnTo>
                  <a:pt x="9953627" y="7883524"/>
                </a:lnTo>
                <a:lnTo>
                  <a:pt x="10033002" y="7839076"/>
                </a:lnTo>
                <a:lnTo>
                  <a:pt x="10118727" y="7794624"/>
                </a:lnTo>
                <a:lnTo>
                  <a:pt x="10210802" y="7747000"/>
                </a:lnTo>
                <a:lnTo>
                  <a:pt x="10312402" y="7702552"/>
                </a:lnTo>
                <a:lnTo>
                  <a:pt x="10417177" y="7654924"/>
                </a:lnTo>
                <a:lnTo>
                  <a:pt x="10531477" y="7604124"/>
                </a:lnTo>
                <a:lnTo>
                  <a:pt x="10652128" y="7556500"/>
                </a:lnTo>
                <a:lnTo>
                  <a:pt x="10779128" y="7505700"/>
                </a:lnTo>
                <a:lnTo>
                  <a:pt x="10918827" y="7458076"/>
                </a:lnTo>
                <a:lnTo>
                  <a:pt x="11061703" y="7407276"/>
                </a:lnTo>
                <a:lnTo>
                  <a:pt x="11217277" y="7356476"/>
                </a:lnTo>
                <a:lnTo>
                  <a:pt x="11303002" y="7331076"/>
                </a:lnTo>
                <a:lnTo>
                  <a:pt x="11407777" y="7308852"/>
                </a:lnTo>
                <a:lnTo>
                  <a:pt x="11541127" y="7283452"/>
                </a:lnTo>
                <a:lnTo>
                  <a:pt x="11617327" y="7270752"/>
                </a:lnTo>
                <a:lnTo>
                  <a:pt x="11699877" y="7258052"/>
                </a:lnTo>
                <a:lnTo>
                  <a:pt x="11788777" y="7248524"/>
                </a:lnTo>
                <a:lnTo>
                  <a:pt x="11880852" y="7242176"/>
                </a:lnTo>
                <a:lnTo>
                  <a:pt x="11976102" y="7239000"/>
                </a:lnTo>
                <a:lnTo>
                  <a:pt x="12074527" y="7235824"/>
                </a:lnTo>
                <a:lnTo>
                  <a:pt x="12176127" y="7239000"/>
                </a:lnTo>
                <a:lnTo>
                  <a:pt x="12280902" y="7245352"/>
                </a:lnTo>
                <a:lnTo>
                  <a:pt x="12385677" y="7258052"/>
                </a:lnTo>
                <a:lnTo>
                  <a:pt x="12490452" y="7273924"/>
                </a:lnTo>
                <a:lnTo>
                  <a:pt x="12595227" y="7296152"/>
                </a:lnTo>
                <a:lnTo>
                  <a:pt x="12696827" y="7324724"/>
                </a:lnTo>
                <a:lnTo>
                  <a:pt x="12798427" y="7362824"/>
                </a:lnTo>
                <a:lnTo>
                  <a:pt x="12849227" y="7381876"/>
                </a:lnTo>
                <a:lnTo>
                  <a:pt x="12900027" y="7407276"/>
                </a:lnTo>
                <a:lnTo>
                  <a:pt x="12947652" y="7429500"/>
                </a:lnTo>
                <a:lnTo>
                  <a:pt x="12995277" y="7458076"/>
                </a:lnTo>
                <a:lnTo>
                  <a:pt x="13042902" y="7486652"/>
                </a:lnTo>
                <a:lnTo>
                  <a:pt x="13090527" y="7518400"/>
                </a:lnTo>
                <a:lnTo>
                  <a:pt x="13134977" y="7550152"/>
                </a:lnTo>
                <a:lnTo>
                  <a:pt x="13179427" y="7588252"/>
                </a:lnTo>
                <a:lnTo>
                  <a:pt x="13220702" y="7626352"/>
                </a:lnTo>
                <a:lnTo>
                  <a:pt x="13261977" y="7667624"/>
                </a:lnTo>
                <a:lnTo>
                  <a:pt x="13303252" y="7708900"/>
                </a:lnTo>
                <a:lnTo>
                  <a:pt x="13341352" y="7756524"/>
                </a:lnTo>
                <a:lnTo>
                  <a:pt x="13376277" y="7804152"/>
                </a:lnTo>
                <a:lnTo>
                  <a:pt x="13411202" y="7854952"/>
                </a:lnTo>
                <a:lnTo>
                  <a:pt x="13446127" y="7908924"/>
                </a:lnTo>
                <a:lnTo>
                  <a:pt x="13477877" y="7966076"/>
                </a:lnTo>
                <a:lnTo>
                  <a:pt x="13506452" y="8026400"/>
                </a:lnTo>
                <a:lnTo>
                  <a:pt x="13535027" y="8089900"/>
                </a:lnTo>
                <a:lnTo>
                  <a:pt x="13560427" y="8156576"/>
                </a:lnTo>
                <a:lnTo>
                  <a:pt x="13582652" y="8223252"/>
                </a:lnTo>
                <a:lnTo>
                  <a:pt x="13604877" y="8296276"/>
                </a:lnTo>
                <a:lnTo>
                  <a:pt x="13623927" y="8372476"/>
                </a:lnTo>
                <a:lnTo>
                  <a:pt x="13627102" y="8401052"/>
                </a:lnTo>
                <a:lnTo>
                  <a:pt x="13630277" y="8483600"/>
                </a:lnTo>
                <a:lnTo>
                  <a:pt x="13630277" y="8543924"/>
                </a:lnTo>
                <a:lnTo>
                  <a:pt x="13627102" y="8616952"/>
                </a:lnTo>
                <a:lnTo>
                  <a:pt x="13623927" y="8702676"/>
                </a:lnTo>
                <a:lnTo>
                  <a:pt x="13611227" y="8797924"/>
                </a:lnTo>
                <a:lnTo>
                  <a:pt x="13595352" y="8883652"/>
                </a:lnTo>
                <a:lnTo>
                  <a:pt x="13579477" y="8969376"/>
                </a:lnTo>
                <a:lnTo>
                  <a:pt x="13557252" y="9055100"/>
                </a:lnTo>
                <a:lnTo>
                  <a:pt x="13535027" y="9137652"/>
                </a:lnTo>
                <a:lnTo>
                  <a:pt x="13512802" y="9220200"/>
                </a:lnTo>
                <a:lnTo>
                  <a:pt x="13484227" y="9302752"/>
                </a:lnTo>
                <a:lnTo>
                  <a:pt x="13455652" y="9385300"/>
                </a:lnTo>
                <a:lnTo>
                  <a:pt x="13423902" y="9467852"/>
                </a:lnTo>
                <a:lnTo>
                  <a:pt x="13344527" y="9652000"/>
                </a:lnTo>
                <a:lnTo>
                  <a:pt x="13255627" y="9829800"/>
                </a:lnTo>
                <a:lnTo>
                  <a:pt x="13163552" y="10007600"/>
                </a:lnTo>
                <a:lnTo>
                  <a:pt x="13065127" y="10182224"/>
                </a:lnTo>
                <a:lnTo>
                  <a:pt x="12957177" y="10350500"/>
                </a:lnTo>
                <a:lnTo>
                  <a:pt x="12849227" y="10518776"/>
                </a:lnTo>
                <a:lnTo>
                  <a:pt x="12731752" y="10683876"/>
                </a:lnTo>
                <a:lnTo>
                  <a:pt x="12611102" y="10842624"/>
                </a:lnTo>
                <a:lnTo>
                  <a:pt x="12484102" y="11001376"/>
                </a:lnTo>
                <a:lnTo>
                  <a:pt x="12353927" y="11153776"/>
                </a:lnTo>
                <a:lnTo>
                  <a:pt x="12217402" y="11306176"/>
                </a:lnTo>
                <a:lnTo>
                  <a:pt x="12077702" y="11452224"/>
                </a:lnTo>
                <a:lnTo>
                  <a:pt x="11934827" y="11595100"/>
                </a:lnTo>
                <a:lnTo>
                  <a:pt x="11788777" y="11737976"/>
                </a:lnTo>
                <a:lnTo>
                  <a:pt x="11636377" y="11874500"/>
                </a:lnTo>
                <a:lnTo>
                  <a:pt x="11483977" y="12007852"/>
                </a:lnTo>
                <a:lnTo>
                  <a:pt x="11388727" y="12077700"/>
                </a:lnTo>
                <a:lnTo>
                  <a:pt x="11283952" y="12150724"/>
                </a:lnTo>
                <a:lnTo>
                  <a:pt x="11176002" y="12223752"/>
                </a:lnTo>
                <a:lnTo>
                  <a:pt x="11058527" y="12296776"/>
                </a:lnTo>
                <a:lnTo>
                  <a:pt x="10937878" y="12369800"/>
                </a:lnTo>
                <a:lnTo>
                  <a:pt x="10810878" y="12442824"/>
                </a:lnTo>
                <a:lnTo>
                  <a:pt x="10674352" y="12515852"/>
                </a:lnTo>
                <a:lnTo>
                  <a:pt x="10534652" y="12582524"/>
                </a:lnTo>
                <a:lnTo>
                  <a:pt x="10391777" y="12649200"/>
                </a:lnTo>
                <a:lnTo>
                  <a:pt x="10239377" y="12712700"/>
                </a:lnTo>
                <a:lnTo>
                  <a:pt x="10086978" y="12769852"/>
                </a:lnTo>
                <a:lnTo>
                  <a:pt x="9925052" y="12820652"/>
                </a:lnTo>
                <a:lnTo>
                  <a:pt x="9763127" y="12865100"/>
                </a:lnTo>
                <a:lnTo>
                  <a:pt x="9677402" y="12887324"/>
                </a:lnTo>
                <a:lnTo>
                  <a:pt x="9594852" y="12906376"/>
                </a:lnTo>
                <a:lnTo>
                  <a:pt x="9509127" y="12922252"/>
                </a:lnTo>
                <a:lnTo>
                  <a:pt x="9423402" y="12938124"/>
                </a:lnTo>
                <a:lnTo>
                  <a:pt x="9334502" y="12950824"/>
                </a:lnTo>
                <a:lnTo>
                  <a:pt x="9245602" y="12960352"/>
                </a:lnTo>
                <a:lnTo>
                  <a:pt x="9156702" y="12969876"/>
                </a:lnTo>
                <a:lnTo>
                  <a:pt x="9067802" y="12976224"/>
                </a:lnTo>
                <a:lnTo>
                  <a:pt x="8975727" y="12979400"/>
                </a:lnTo>
                <a:lnTo>
                  <a:pt x="8886827" y="12982576"/>
                </a:lnTo>
                <a:lnTo>
                  <a:pt x="8816977" y="12985752"/>
                </a:lnTo>
                <a:lnTo>
                  <a:pt x="8734427" y="12985752"/>
                </a:lnTo>
                <a:lnTo>
                  <a:pt x="8626478" y="12985752"/>
                </a:lnTo>
                <a:lnTo>
                  <a:pt x="8499477" y="12979400"/>
                </a:lnTo>
                <a:lnTo>
                  <a:pt x="8350252" y="12966700"/>
                </a:lnTo>
                <a:lnTo>
                  <a:pt x="8270877" y="12957176"/>
                </a:lnTo>
                <a:lnTo>
                  <a:pt x="8188328" y="12947652"/>
                </a:lnTo>
                <a:lnTo>
                  <a:pt x="8105777" y="12931776"/>
                </a:lnTo>
                <a:lnTo>
                  <a:pt x="8016877" y="12912724"/>
                </a:lnTo>
                <a:lnTo>
                  <a:pt x="7962903" y="12906376"/>
                </a:lnTo>
                <a:lnTo>
                  <a:pt x="7908927" y="12896852"/>
                </a:lnTo>
                <a:lnTo>
                  <a:pt x="7804153" y="12874624"/>
                </a:lnTo>
                <a:lnTo>
                  <a:pt x="7702552" y="12846052"/>
                </a:lnTo>
                <a:lnTo>
                  <a:pt x="7604127" y="12811124"/>
                </a:lnTo>
                <a:lnTo>
                  <a:pt x="7508878" y="12769852"/>
                </a:lnTo>
                <a:lnTo>
                  <a:pt x="7419978" y="12722224"/>
                </a:lnTo>
                <a:lnTo>
                  <a:pt x="7331077" y="12668252"/>
                </a:lnTo>
                <a:lnTo>
                  <a:pt x="7248527" y="12607924"/>
                </a:lnTo>
                <a:lnTo>
                  <a:pt x="7169152" y="12544424"/>
                </a:lnTo>
                <a:lnTo>
                  <a:pt x="7092952" y="12474576"/>
                </a:lnTo>
                <a:lnTo>
                  <a:pt x="7019927" y="12401552"/>
                </a:lnTo>
                <a:lnTo>
                  <a:pt x="6953252" y="12325352"/>
                </a:lnTo>
                <a:lnTo>
                  <a:pt x="6889752" y="12242800"/>
                </a:lnTo>
                <a:lnTo>
                  <a:pt x="6829427" y="12157076"/>
                </a:lnTo>
                <a:lnTo>
                  <a:pt x="6775452" y="12071352"/>
                </a:lnTo>
                <a:lnTo>
                  <a:pt x="6727827" y="11979276"/>
                </a:lnTo>
                <a:lnTo>
                  <a:pt x="6683377" y="11884024"/>
                </a:lnTo>
                <a:lnTo>
                  <a:pt x="6642102" y="11788776"/>
                </a:lnTo>
                <a:lnTo>
                  <a:pt x="6607177" y="11690352"/>
                </a:lnTo>
                <a:lnTo>
                  <a:pt x="6578602" y="11591924"/>
                </a:lnTo>
                <a:lnTo>
                  <a:pt x="6553202" y="11490324"/>
                </a:lnTo>
                <a:lnTo>
                  <a:pt x="6534152" y="11385552"/>
                </a:lnTo>
                <a:lnTo>
                  <a:pt x="6521452" y="11280776"/>
                </a:lnTo>
                <a:lnTo>
                  <a:pt x="6515102" y="11179176"/>
                </a:lnTo>
                <a:lnTo>
                  <a:pt x="6511927" y="11071224"/>
                </a:lnTo>
                <a:lnTo>
                  <a:pt x="6518278" y="10966452"/>
                </a:lnTo>
                <a:lnTo>
                  <a:pt x="6527802" y="10861676"/>
                </a:lnTo>
                <a:lnTo>
                  <a:pt x="6543677" y="10760076"/>
                </a:lnTo>
                <a:lnTo>
                  <a:pt x="6565903" y="10655300"/>
                </a:lnTo>
                <a:lnTo>
                  <a:pt x="6594477" y="10553700"/>
                </a:lnTo>
                <a:lnTo>
                  <a:pt x="6629402" y="10452100"/>
                </a:lnTo>
                <a:lnTo>
                  <a:pt x="6670677" y="10353676"/>
                </a:lnTo>
                <a:lnTo>
                  <a:pt x="6727827" y="10210800"/>
                </a:lnTo>
                <a:lnTo>
                  <a:pt x="6788152" y="10067924"/>
                </a:lnTo>
                <a:lnTo>
                  <a:pt x="6851652" y="9931400"/>
                </a:lnTo>
                <a:lnTo>
                  <a:pt x="6924678" y="9791700"/>
                </a:lnTo>
                <a:lnTo>
                  <a:pt x="6981827" y="9693276"/>
                </a:lnTo>
                <a:lnTo>
                  <a:pt x="7038977" y="9591676"/>
                </a:lnTo>
                <a:lnTo>
                  <a:pt x="7102477" y="9493252"/>
                </a:lnTo>
                <a:lnTo>
                  <a:pt x="7165977" y="9398000"/>
                </a:lnTo>
                <a:lnTo>
                  <a:pt x="7232652" y="9299576"/>
                </a:lnTo>
                <a:lnTo>
                  <a:pt x="7302502" y="9207500"/>
                </a:lnTo>
                <a:lnTo>
                  <a:pt x="7372352" y="9112252"/>
                </a:lnTo>
                <a:lnTo>
                  <a:pt x="7445378" y="9020176"/>
                </a:lnTo>
                <a:lnTo>
                  <a:pt x="7591427" y="8839200"/>
                </a:lnTo>
                <a:lnTo>
                  <a:pt x="7747002" y="8661400"/>
                </a:lnTo>
                <a:lnTo>
                  <a:pt x="7902577" y="8489952"/>
                </a:lnTo>
                <a:lnTo>
                  <a:pt x="8058152" y="8321676"/>
                </a:lnTo>
                <a:lnTo>
                  <a:pt x="8162927" y="8216900"/>
                </a:lnTo>
                <a:lnTo>
                  <a:pt x="8267702" y="8115300"/>
                </a:lnTo>
                <a:lnTo>
                  <a:pt x="8375652" y="8016876"/>
                </a:lnTo>
                <a:lnTo>
                  <a:pt x="8486777" y="7918452"/>
                </a:lnTo>
                <a:lnTo>
                  <a:pt x="8610602" y="7816852"/>
                </a:lnTo>
                <a:lnTo>
                  <a:pt x="8734427" y="7715252"/>
                </a:lnTo>
                <a:lnTo>
                  <a:pt x="8864602" y="7616824"/>
                </a:lnTo>
                <a:lnTo>
                  <a:pt x="8994777" y="7521576"/>
                </a:lnTo>
                <a:lnTo>
                  <a:pt x="9191627" y="7385052"/>
                </a:lnTo>
                <a:lnTo>
                  <a:pt x="9394827" y="7251700"/>
                </a:lnTo>
                <a:lnTo>
                  <a:pt x="9598027" y="7124700"/>
                </a:lnTo>
                <a:lnTo>
                  <a:pt x="9807577" y="7004052"/>
                </a:lnTo>
                <a:lnTo>
                  <a:pt x="9975853" y="6915152"/>
                </a:lnTo>
                <a:lnTo>
                  <a:pt x="10153653" y="6829424"/>
                </a:lnTo>
                <a:lnTo>
                  <a:pt x="10334627" y="6746876"/>
                </a:lnTo>
                <a:lnTo>
                  <a:pt x="10521952" y="6664324"/>
                </a:lnTo>
                <a:lnTo>
                  <a:pt x="10715627" y="6584952"/>
                </a:lnTo>
                <a:lnTo>
                  <a:pt x="10912477" y="6508752"/>
                </a:lnTo>
                <a:close/>
                <a:moveTo>
                  <a:pt x="17319628" y="5895976"/>
                </a:moveTo>
                <a:lnTo>
                  <a:pt x="17354552" y="5895976"/>
                </a:lnTo>
                <a:lnTo>
                  <a:pt x="17386304" y="5895976"/>
                </a:lnTo>
                <a:lnTo>
                  <a:pt x="17411704" y="5899152"/>
                </a:lnTo>
                <a:lnTo>
                  <a:pt x="17449804" y="5905500"/>
                </a:lnTo>
                <a:lnTo>
                  <a:pt x="17468852" y="5915024"/>
                </a:lnTo>
                <a:lnTo>
                  <a:pt x="17475204" y="5918200"/>
                </a:lnTo>
                <a:lnTo>
                  <a:pt x="17516476" y="5930900"/>
                </a:lnTo>
                <a:lnTo>
                  <a:pt x="17551404" y="5946776"/>
                </a:lnTo>
                <a:lnTo>
                  <a:pt x="17583152" y="5965824"/>
                </a:lnTo>
                <a:lnTo>
                  <a:pt x="17608552" y="5991224"/>
                </a:lnTo>
                <a:lnTo>
                  <a:pt x="17627604" y="6019800"/>
                </a:lnTo>
                <a:lnTo>
                  <a:pt x="17640304" y="6051552"/>
                </a:lnTo>
                <a:lnTo>
                  <a:pt x="17649828" y="6086476"/>
                </a:lnTo>
                <a:lnTo>
                  <a:pt x="17656176" y="6124576"/>
                </a:lnTo>
                <a:lnTo>
                  <a:pt x="17656176" y="6165852"/>
                </a:lnTo>
                <a:lnTo>
                  <a:pt x="17653004" y="6210300"/>
                </a:lnTo>
                <a:lnTo>
                  <a:pt x="17643476" y="6257924"/>
                </a:lnTo>
                <a:lnTo>
                  <a:pt x="17630776" y="6308724"/>
                </a:lnTo>
                <a:lnTo>
                  <a:pt x="17614904" y="6362700"/>
                </a:lnTo>
                <a:lnTo>
                  <a:pt x="17592676" y="6419852"/>
                </a:lnTo>
                <a:lnTo>
                  <a:pt x="17570452" y="6477000"/>
                </a:lnTo>
                <a:lnTo>
                  <a:pt x="17541876" y="6537324"/>
                </a:lnTo>
                <a:lnTo>
                  <a:pt x="17510128" y="6600824"/>
                </a:lnTo>
                <a:lnTo>
                  <a:pt x="17475204" y="6664324"/>
                </a:lnTo>
                <a:lnTo>
                  <a:pt x="17399004" y="6800852"/>
                </a:lnTo>
                <a:lnTo>
                  <a:pt x="17313276" y="6940552"/>
                </a:lnTo>
                <a:lnTo>
                  <a:pt x="17214852" y="7086600"/>
                </a:lnTo>
                <a:lnTo>
                  <a:pt x="17110076" y="7235824"/>
                </a:lnTo>
                <a:lnTo>
                  <a:pt x="16998952" y="7388224"/>
                </a:lnTo>
                <a:lnTo>
                  <a:pt x="16884652" y="7540624"/>
                </a:lnTo>
                <a:lnTo>
                  <a:pt x="16764004" y="7696200"/>
                </a:lnTo>
                <a:lnTo>
                  <a:pt x="16640176" y="7851776"/>
                </a:lnTo>
                <a:lnTo>
                  <a:pt x="16513176" y="8004176"/>
                </a:lnTo>
                <a:lnTo>
                  <a:pt x="16265528" y="8296276"/>
                </a:lnTo>
                <a:lnTo>
                  <a:pt x="16024228" y="8572500"/>
                </a:lnTo>
                <a:lnTo>
                  <a:pt x="15805152" y="8816976"/>
                </a:lnTo>
                <a:lnTo>
                  <a:pt x="15617828" y="9023352"/>
                </a:lnTo>
                <a:lnTo>
                  <a:pt x="15468604" y="9178924"/>
                </a:lnTo>
                <a:lnTo>
                  <a:pt x="15338428" y="9318624"/>
                </a:lnTo>
                <a:lnTo>
                  <a:pt x="15227304" y="9436100"/>
                </a:lnTo>
                <a:lnTo>
                  <a:pt x="15116176" y="9556752"/>
                </a:lnTo>
                <a:lnTo>
                  <a:pt x="14893928" y="9810752"/>
                </a:lnTo>
                <a:lnTo>
                  <a:pt x="14668504" y="10074276"/>
                </a:lnTo>
                <a:lnTo>
                  <a:pt x="14449428" y="10340976"/>
                </a:lnTo>
                <a:lnTo>
                  <a:pt x="14236704" y="10607676"/>
                </a:lnTo>
                <a:lnTo>
                  <a:pt x="14030328" y="10874376"/>
                </a:lnTo>
                <a:lnTo>
                  <a:pt x="13830302" y="11131552"/>
                </a:lnTo>
                <a:lnTo>
                  <a:pt x="13646152" y="11382376"/>
                </a:lnTo>
                <a:lnTo>
                  <a:pt x="13474702" y="11614152"/>
                </a:lnTo>
                <a:lnTo>
                  <a:pt x="13319127" y="11830052"/>
                </a:lnTo>
                <a:lnTo>
                  <a:pt x="13061952" y="12188824"/>
                </a:lnTo>
                <a:lnTo>
                  <a:pt x="12896852" y="12426952"/>
                </a:lnTo>
                <a:lnTo>
                  <a:pt x="12836527" y="12512676"/>
                </a:lnTo>
                <a:lnTo>
                  <a:pt x="12823827" y="12541252"/>
                </a:lnTo>
                <a:lnTo>
                  <a:pt x="12811127" y="12573000"/>
                </a:lnTo>
                <a:lnTo>
                  <a:pt x="12804777" y="12601576"/>
                </a:lnTo>
                <a:lnTo>
                  <a:pt x="12798427" y="12630152"/>
                </a:lnTo>
                <a:lnTo>
                  <a:pt x="12795252" y="12655552"/>
                </a:lnTo>
                <a:lnTo>
                  <a:pt x="12792077" y="12684124"/>
                </a:lnTo>
                <a:lnTo>
                  <a:pt x="12795252" y="12709524"/>
                </a:lnTo>
                <a:lnTo>
                  <a:pt x="12795252" y="12734924"/>
                </a:lnTo>
                <a:lnTo>
                  <a:pt x="12807952" y="12782552"/>
                </a:lnTo>
                <a:lnTo>
                  <a:pt x="12823827" y="12827000"/>
                </a:lnTo>
                <a:lnTo>
                  <a:pt x="12842877" y="12868276"/>
                </a:lnTo>
                <a:lnTo>
                  <a:pt x="12868277" y="12906376"/>
                </a:lnTo>
                <a:lnTo>
                  <a:pt x="12893677" y="12941300"/>
                </a:lnTo>
                <a:lnTo>
                  <a:pt x="12919077" y="12969876"/>
                </a:lnTo>
                <a:lnTo>
                  <a:pt x="12947652" y="12995276"/>
                </a:lnTo>
                <a:lnTo>
                  <a:pt x="12969877" y="13017500"/>
                </a:lnTo>
                <a:lnTo>
                  <a:pt x="13007977" y="13046076"/>
                </a:lnTo>
                <a:lnTo>
                  <a:pt x="13023852" y="13058776"/>
                </a:lnTo>
                <a:lnTo>
                  <a:pt x="12966702" y="13049252"/>
                </a:lnTo>
                <a:lnTo>
                  <a:pt x="12915902" y="13039724"/>
                </a:lnTo>
                <a:lnTo>
                  <a:pt x="12868277" y="13023852"/>
                </a:lnTo>
                <a:lnTo>
                  <a:pt x="12827002" y="13004800"/>
                </a:lnTo>
                <a:lnTo>
                  <a:pt x="12788902" y="12985752"/>
                </a:lnTo>
                <a:lnTo>
                  <a:pt x="12757152" y="12966700"/>
                </a:lnTo>
                <a:lnTo>
                  <a:pt x="12728577" y="12944476"/>
                </a:lnTo>
                <a:lnTo>
                  <a:pt x="12703177" y="12922252"/>
                </a:lnTo>
                <a:lnTo>
                  <a:pt x="12680952" y="12900024"/>
                </a:lnTo>
                <a:lnTo>
                  <a:pt x="12661902" y="12877800"/>
                </a:lnTo>
                <a:lnTo>
                  <a:pt x="12636502" y="12839700"/>
                </a:lnTo>
                <a:lnTo>
                  <a:pt x="12620627" y="12814300"/>
                </a:lnTo>
                <a:lnTo>
                  <a:pt x="12617452" y="12804776"/>
                </a:lnTo>
                <a:lnTo>
                  <a:pt x="12607927" y="12833352"/>
                </a:lnTo>
                <a:lnTo>
                  <a:pt x="12604752" y="12865100"/>
                </a:lnTo>
                <a:lnTo>
                  <a:pt x="12607927" y="12893676"/>
                </a:lnTo>
                <a:lnTo>
                  <a:pt x="12614277" y="12925424"/>
                </a:lnTo>
                <a:lnTo>
                  <a:pt x="12623802" y="12954000"/>
                </a:lnTo>
                <a:lnTo>
                  <a:pt x="12636502" y="12985752"/>
                </a:lnTo>
                <a:lnTo>
                  <a:pt x="12649202" y="13014324"/>
                </a:lnTo>
                <a:lnTo>
                  <a:pt x="12665077" y="13039724"/>
                </a:lnTo>
                <a:lnTo>
                  <a:pt x="12700002" y="13087352"/>
                </a:lnTo>
                <a:lnTo>
                  <a:pt x="12728577" y="13125452"/>
                </a:lnTo>
                <a:lnTo>
                  <a:pt x="12760327" y="13160376"/>
                </a:lnTo>
                <a:lnTo>
                  <a:pt x="12696827" y="13131800"/>
                </a:lnTo>
                <a:lnTo>
                  <a:pt x="12642852" y="13103224"/>
                </a:lnTo>
                <a:lnTo>
                  <a:pt x="12595227" y="13071476"/>
                </a:lnTo>
                <a:lnTo>
                  <a:pt x="12550777" y="13036552"/>
                </a:lnTo>
                <a:lnTo>
                  <a:pt x="12515852" y="13001624"/>
                </a:lnTo>
                <a:lnTo>
                  <a:pt x="12487277" y="12966700"/>
                </a:lnTo>
                <a:lnTo>
                  <a:pt x="12461877" y="12928600"/>
                </a:lnTo>
                <a:lnTo>
                  <a:pt x="12442827" y="12890500"/>
                </a:lnTo>
                <a:lnTo>
                  <a:pt x="12426952" y="12852400"/>
                </a:lnTo>
                <a:lnTo>
                  <a:pt x="12417427" y="12814300"/>
                </a:lnTo>
                <a:lnTo>
                  <a:pt x="12411077" y="12776200"/>
                </a:lnTo>
                <a:lnTo>
                  <a:pt x="12411077" y="12734924"/>
                </a:lnTo>
                <a:lnTo>
                  <a:pt x="12411077" y="12696824"/>
                </a:lnTo>
                <a:lnTo>
                  <a:pt x="12414252" y="12655552"/>
                </a:lnTo>
                <a:lnTo>
                  <a:pt x="12423777" y="12617452"/>
                </a:lnTo>
                <a:lnTo>
                  <a:pt x="12433302" y="12579352"/>
                </a:lnTo>
                <a:lnTo>
                  <a:pt x="12442827" y="12541252"/>
                </a:lnTo>
                <a:lnTo>
                  <a:pt x="12455527" y="12506324"/>
                </a:lnTo>
                <a:lnTo>
                  <a:pt x="12487277" y="12436476"/>
                </a:lnTo>
                <a:lnTo>
                  <a:pt x="12522202" y="12376152"/>
                </a:lnTo>
                <a:lnTo>
                  <a:pt x="12553952" y="12319000"/>
                </a:lnTo>
                <a:lnTo>
                  <a:pt x="12585702" y="12274552"/>
                </a:lnTo>
                <a:lnTo>
                  <a:pt x="12611102" y="12242800"/>
                </a:lnTo>
                <a:lnTo>
                  <a:pt x="12633327" y="12211052"/>
                </a:lnTo>
                <a:lnTo>
                  <a:pt x="12814302" y="11976100"/>
                </a:lnTo>
                <a:lnTo>
                  <a:pt x="13096877" y="11598276"/>
                </a:lnTo>
                <a:lnTo>
                  <a:pt x="13366752" y="11226800"/>
                </a:lnTo>
                <a:lnTo>
                  <a:pt x="13500102" y="11039476"/>
                </a:lnTo>
                <a:lnTo>
                  <a:pt x="13630277" y="10855324"/>
                </a:lnTo>
                <a:lnTo>
                  <a:pt x="13760452" y="10664824"/>
                </a:lnTo>
                <a:lnTo>
                  <a:pt x="13887452" y="10474324"/>
                </a:lnTo>
                <a:lnTo>
                  <a:pt x="14023976" y="10277476"/>
                </a:lnTo>
                <a:lnTo>
                  <a:pt x="14411328" y="9709152"/>
                </a:lnTo>
                <a:lnTo>
                  <a:pt x="14776452" y="9163052"/>
                </a:lnTo>
                <a:lnTo>
                  <a:pt x="15113004" y="8655052"/>
                </a:lnTo>
                <a:lnTo>
                  <a:pt x="15411452" y="8204200"/>
                </a:lnTo>
                <a:lnTo>
                  <a:pt x="15846428" y="7527924"/>
                </a:lnTo>
                <a:lnTo>
                  <a:pt x="16011528" y="7273924"/>
                </a:lnTo>
                <a:lnTo>
                  <a:pt x="15897228" y="7350124"/>
                </a:lnTo>
                <a:lnTo>
                  <a:pt x="15763876" y="7435852"/>
                </a:lnTo>
                <a:lnTo>
                  <a:pt x="15617828" y="7524752"/>
                </a:lnTo>
                <a:lnTo>
                  <a:pt x="15455904" y="7620000"/>
                </a:lnTo>
                <a:lnTo>
                  <a:pt x="15113004" y="7816852"/>
                </a:lnTo>
                <a:lnTo>
                  <a:pt x="14766928" y="8010524"/>
                </a:lnTo>
                <a:lnTo>
                  <a:pt x="14446252" y="8185152"/>
                </a:lnTo>
                <a:lnTo>
                  <a:pt x="14179552" y="8328024"/>
                </a:lnTo>
                <a:lnTo>
                  <a:pt x="13931902" y="8461376"/>
                </a:lnTo>
                <a:lnTo>
                  <a:pt x="13944602" y="8451852"/>
                </a:lnTo>
                <a:lnTo>
                  <a:pt x="13970002" y="8435976"/>
                </a:lnTo>
                <a:lnTo>
                  <a:pt x="14046204" y="8369300"/>
                </a:lnTo>
                <a:lnTo>
                  <a:pt x="14306552" y="8143876"/>
                </a:lnTo>
                <a:lnTo>
                  <a:pt x="14658976" y="7829552"/>
                </a:lnTo>
                <a:lnTo>
                  <a:pt x="15055852" y="7473952"/>
                </a:lnTo>
                <a:lnTo>
                  <a:pt x="15792452" y="6807200"/>
                </a:lnTo>
                <a:lnTo>
                  <a:pt x="16122652" y="6505576"/>
                </a:lnTo>
                <a:lnTo>
                  <a:pt x="16198852" y="6451600"/>
                </a:lnTo>
                <a:lnTo>
                  <a:pt x="16271876" y="6400800"/>
                </a:lnTo>
                <a:lnTo>
                  <a:pt x="16344904" y="6353176"/>
                </a:lnTo>
                <a:lnTo>
                  <a:pt x="16411576" y="6311900"/>
                </a:lnTo>
                <a:lnTo>
                  <a:pt x="16478252" y="6273800"/>
                </a:lnTo>
                <a:lnTo>
                  <a:pt x="16541752" y="6238876"/>
                </a:lnTo>
                <a:lnTo>
                  <a:pt x="16602076" y="6210300"/>
                </a:lnTo>
                <a:lnTo>
                  <a:pt x="16659228" y="6181724"/>
                </a:lnTo>
                <a:lnTo>
                  <a:pt x="16716376" y="6159500"/>
                </a:lnTo>
                <a:lnTo>
                  <a:pt x="16770352" y="6137276"/>
                </a:lnTo>
                <a:lnTo>
                  <a:pt x="16868776" y="6105524"/>
                </a:lnTo>
                <a:lnTo>
                  <a:pt x="16957676" y="6083300"/>
                </a:lnTo>
                <a:lnTo>
                  <a:pt x="17037052" y="6070600"/>
                </a:lnTo>
                <a:lnTo>
                  <a:pt x="17106904" y="6064252"/>
                </a:lnTo>
                <a:lnTo>
                  <a:pt x="17167228" y="6064252"/>
                </a:lnTo>
                <a:lnTo>
                  <a:pt x="17218028" y="6067424"/>
                </a:lnTo>
                <a:lnTo>
                  <a:pt x="17259304" y="6073776"/>
                </a:lnTo>
                <a:lnTo>
                  <a:pt x="17294228" y="6080124"/>
                </a:lnTo>
                <a:lnTo>
                  <a:pt x="17316452" y="6089652"/>
                </a:lnTo>
                <a:lnTo>
                  <a:pt x="17332328" y="6096000"/>
                </a:lnTo>
                <a:lnTo>
                  <a:pt x="17329152" y="6083300"/>
                </a:lnTo>
                <a:lnTo>
                  <a:pt x="17322804" y="6073776"/>
                </a:lnTo>
                <a:lnTo>
                  <a:pt x="17316452" y="6064252"/>
                </a:lnTo>
                <a:lnTo>
                  <a:pt x="17303752" y="6054724"/>
                </a:lnTo>
                <a:lnTo>
                  <a:pt x="17281528" y="6038852"/>
                </a:lnTo>
                <a:lnTo>
                  <a:pt x="17249776" y="6026152"/>
                </a:lnTo>
                <a:lnTo>
                  <a:pt x="17214852" y="6016624"/>
                </a:lnTo>
                <a:lnTo>
                  <a:pt x="17176752" y="6010276"/>
                </a:lnTo>
                <a:lnTo>
                  <a:pt x="17135476" y="6003924"/>
                </a:lnTo>
                <a:lnTo>
                  <a:pt x="17094204" y="6003924"/>
                </a:lnTo>
                <a:lnTo>
                  <a:pt x="17014828" y="6000752"/>
                </a:lnTo>
                <a:lnTo>
                  <a:pt x="16948152" y="6003924"/>
                </a:lnTo>
                <a:lnTo>
                  <a:pt x="16881476" y="6007100"/>
                </a:lnTo>
                <a:lnTo>
                  <a:pt x="16967204" y="5975352"/>
                </a:lnTo>
                <a:lnTo>
                  <a:pt x="17043404" y="5953124"/>
                </a:lnTo>
                <a:lnTo>
                  <a:pt x="17113252" y="5930900"/>
                </a:lnTo>
                <a:lnTo>
                  <a:pt x="17173576" y="5918200"/>
                </a:lnTo>
                <a:lnTo>
                  <a:pt x="17227552" y="5905500"/>
                </a:lnTo>
                <a:lnTo>
                  <a:pt x="17278352" y="5899152"/>
                </a:lnTo>
                <a:lnTo>
                  <a:pt x="17319628" y="5895976"/>
                </a:lnTo>
                <a:close/>
                <a:moveTo>
                  <a:pt x="23269574" y="5692776"/>
                </a:moveTo>
                <a:lnTo>
                  <a:pt x="23221950" y="5768976"/>
                </a:lnTo>
                <a:lnTo>
                  <a:pt x="23171150" y="5842000"/>
                </a:lnTo>
                <a:lnTo>
                  <a:pt x="23114002" y="5911852"/>
                </a:lnTo>
                <a:lnTo>
                  <a:pt x="23056850" y="5981700"/>
                </a:lnTo>
                <a:lnTo>
                  <a:pt x="22993350" y="6048376"/>
                </a:lnTo>
                <a:lnTo>
                  <a:pt x="22923502" y="6111876"/>
                </a:lnTo>
                <a:lnTo>
                  <a:pt x="22853650" y="6175376"/>
                </a:lnTo>
                <a:lnTo>
                  <a:pt x="22783802" y="6235700"/>
                </a:lnTo>
                <a:lnTo>
                  <a:pt x="22707602" y="6292852"/>
                </a:lnTo>
                <a:lnTo>
                  <a:pt x="22631402" y="6350000"/>
                </a:lnTo>
                <a:lnTo>
                  <a:pt x="22555202" y="6403976"/>
                </a:lnTo>
                <a:lnTo>
                  <a:pt x="22479002" y="6454776"/>
                </a:lnTo>
                <a:lnTo>
                  <a:pt x="22399626" y="6505576"/>
                </a:lnTo>
                <a:lnTo>
                  <a:pt x="22320250" y="6550024"/>
                </a:lnTo>
                <a:lnTo>
                  <a:pt x="22167850" y="6638924"/>
                </a:lnTo>
                <a:lnTo>
                  <a:pt x="22018626" y="6718300"/>
                </a:lnTo>
                <a:lnTo>
                  <a:pt x="21878926" y="6784976"/>
                </a:lnTo>
                <a:lnTo>
                  <a:pt x="21751926" y="6842124"/>
                </a:lnTo>
                <a:lnTo>
                  <a:pt x="21637626" y="6892924"/>
                </a:lnTo>
                <a:lnTo>
                  <a:pt x="21475702" y="6956424"/>
                </a:lnTo>
                <a:lnTo>
                  <a:pt x="21415374" y="6978652"/>
                </a:lnTo>
                <a:lnTo>
                  <a:pt x="21326474" y="7013576"/>
                </a:lnTo>
                <a:lnTo>
                  <a:pt x="21234402" y="7048500"/>
                </a:lnTo>
                <a:lnTo>
                  <a:pt x="21135974" y="7077076"/>
                </a:lnTo>
                <a:lnTo>
                  <a:pt x="21034374" y="7105652"/>
                </a:lnTo>
                <a:lnTo>
                  <a:pt x="20926426" y="7131052"/>
                </a:lnTo>
                <a:lnTo>
                  <a:pt x="20815302" y="7153276"/>
                </a:lnTo>
                <a:lnTo>
                  <a:pt x="20704176" y="7172324"/>
                </a:lnTo>
                <a:lnTo>
                  <a:pt x="20586704" y="7191376"/>
                </a:lnTo>
                <a:lnTo>
                  <a:pt x="20469228" y="7207252"/>
                </a:lnTo>
                <a:lnTo>
                  <a:pt x="20351752" y="7223124"/>
                </a:lnTo>
                <a:lnTo>
                  <a:pt x="20113628" y="7245352"/>
                </a:lnTo>
                <a:lnTo>
                  <a:pt x="19875504" y="7261224"/>
                </a:lnTo>
                <a:lnTo>
                  <a:pt x="19643728" y="7273924"/>
                </a:lnTo>
                <a:lnTo>
                  <a:pt x="19424652" y="7277100"/>
                </a:lnTo>
                <a:lnTo>
                  <a:pt x="19218276" y="7280276"/>
                </a:lnTo>
                <a:lnTo>
                  <a:pt x="19034128" y="7280276"/>
                </a:lnTo>
                <a:lnTo>
                  <a:pt x="18872204" y="7277100"/>
                </a:lnTo>
                <a:lnTo>
                  <a:pt x="18637252" y="7270752"/>
                </a:lnTo>
                <a:lnTo>
                  <a:pt x="18548352" y="7267576"/>
                </a:lnTo>
                <a:lnTo>
                  <a:pt x="18395952" y="7473952"/>
                </a:lnTo>
                <a:lnTo>
                  <a:pt x="18256252" y="7677152"/>
                </a:lnTo>
                <a:lnTo>
                  <a:pt x="18126076" y="7874000"/>
                </a:lnTo>
                <a:lnTo>
                  <a:pt x="18005428" y="8064500"/>
                </a:lnTo>
                <a:lnTo>
                  <a:pt x="17897476" y="8245476"/>
                </a:lnTo>
                <a:lnTo>
                  <a:pt x="17799052" y="8420100"/>
                </a:lnTo>
                <a:lnTo>
                  <a:pt x="17710152" y="8585200"/>
                </a:lnTo>
                <a:lnTo>
                  <a:pt x="17630776" y="8734424"/>
                </a:lnTo>
                <a:lnTo>
                  <a:pt x="17560928" y="8874124"/>
                </a:lnTo>
                <a:lnTo>
                  <a:pt x="17503776" y="9001124"/>
                </a:lnTo>
                <a:lnTo>
                  <a:pt x="17452976" y="9109076"/>
                </a:lnTo>
                <a:lnTo>
                  <a:pt x="17414876" y="9201152"/>
                </a:lnTo>
                <a:lnTo>
                  <a:pt x="17360904" y="9328152"/>
                </a:lnTo>
                <a:lnTo>
                  <a:pt x="17345028" y="9375776"/>
                </a:lnTo>
                <a:lnTo>
                  <a:pt x="17484728" y="9321800"/>
                </a:lnTo>
                <a:lnTo>
                  <a:pt x="17624428" y="9274176"/>
                </a:lnTo>
                <a:lnTo>
                  <a:pt x="17760952" y="9232900"/>
                </a:lnTo>
                <a:lnTo>
                  <a:pt x="17894304" y="9191624"/>
                </a:lnTo>
                <a:lnTo>
                  <a:pt x="18021304" y="9156700"/>
                </a:lnTo>
                <a:lnTo>
                  <a:pt x="18148304" y="9121776"/>
                </a:lnTo>
                <a:lnTo>
                  <a:pt x="18272128" y="9093200"/>
                </a:lnTo>
                <a:lnTo>
                  <a:pt x="18392776" y="9064624"/>
                </a:lnTo>
                <a:lnTo>
                  <a:pt x="18510252" y="9042400"/>
                </a:lnTo>
                <a:lnTo>
                  <a:pt x="18624552" y="9020176"/>
                </a:lnTo>
                <a:lnTo>
                  <a:pt x="18840452" y="8988424"/>
                </a:lnTo>
                <a:lnTo>
                  <a:pt x="19040476" y="8963024"/>
                </a:lnTo>
                <a:lnTo>
                  <a:pt x="19224628" y="8943976"/>
                </a:lnTo>
                <a:lnTo>
                  <a:pt x="19389728" y="8934452"/>
                </a:lnTo>
                <a:lnTo>
                  <a:pt x="19535776" y="8931276"/>
                </a:lnTo>
                <a:lnTo>
                  <a:pt x="19662776" y="8931276"/>
                </a:lnTo>
                <a:lnTo>
                  <a:pt x="19770728" y="8931276"/>
                </a:lnTo>
                <a:lnTo>
                  <a:pt x="19853276" y="8937624"/>
                </a:lnTo>
                <a:lnTo>
                  <a:pt x="19916776" y="8940800"/>
                </a:lnTo>
                <a:lnTo>
                  <a:pt x="19967576" y="8947152"/>
                </a:lnTo>
                <a:lnTo>
                  <a:pt x="20056476" y="8956676"/>
                </a:lnTo>
                <a:lnTo>
                  <a:pt x="20139028" y="8972552"/>
                </a:lnTo>
                <a:lnTo>
                  <a:pt x="20215228" y="8988424"/>
                </a:lnTo>
                <a:lnTo>
                  <a:pt x="20288252" y="9010652"/>
                </a:lnTo>
                <a:lnTo>
                  <a:pt x="20354928" y="9032876"/>
                </a:lnTo>
                <a:lnTo>
                  <a:pt x="20418428" y="9058276"/>
                </a:lnTo>
                <a:lnTo>
                  <a:pt x="20475576" y="9083676"/>
                </a:lnTo>
                <a:lnTo>
                  <a:pt x="20526376" y="9115424"/>
                </a:lnTo>
                <a:lnTo>
                  <a:pt x="20577176" y="9144000"/>
                </a:lnTo>
                <a:lnTo>
                  <a:pt x="20621628" y="9175752"/>
                </a:lnTo>
                <a:lnTo>
                  <a:pt x="20659728" y="9210676"/>
                </a:lnTo>
                <a:lnTo>
                  <a:pt x="20697828" y="9242424"/>
                </a:lnTo>
                <a:lnTo>
                  <a:pt x="20729576" y="9277352"/>
                </a:lnTo>
                <a:lnTo>
                  <a:pt x="20761326" y="9312276"/>
                </a:lnTo>
                <a:lnTo>
                  <a:pt x="20786726" y="9347200"/>
                </a:lnTo>
                <a:lnTo>
                  <a:pt x="20808950" y="9382124"/>
                </a:lnTo>
                <a:lnTo>
                  <a:pt x="20828002" y="9417052"/>
                </a:lnTo>
                <a:lnTo>
                  <a:pt x="20847050" y="9451976"/>
                </a:lnTo>
                <a:lnTo>
                  <a:pt x="20875626" y="9515476"/>
                </a:lnTo>
                <a:lnTo>
                  <a:pt x="20894674" y="9575800"/>
                </a:lnTo>
                <a:lnTo>
                  <a:pt x="20907374" y="9629776"/>
                </a:lnTo>
                <a:lnTo>
                  <a:pt x="20913726" y="9674224"/>
                </a:lnTo>
                <a:lnTo>
                  <a:pt x="20916902" y="9709152"/>
                </a:lnTo>
                <a:lnTo>
                  <a:pt x="20916902" y="9740900"/>
                </a:lnTo>
                <a:lnTo>
                  <a:pt x="20916902" y="9807576"/>
                </a:lnTo>
                <a:lnTo>
                  <a:pt x="20913726" y="9874252"/>
                </a:lnTo>
                <a:lnTo>
                  <a:pt x="20907374" y="9937752"/>
                </a:lnTo>
                <a:lnTo>
                  <a:pt x="20897850" y="10001252"/>
                </a:lnTo>
                <a:lnTo>
                  <a:pt x="20885150" y="10061576"/>
                </a:lnTo>
                <a:lnTo>
                  <a:pt x="20872450" y="10121900"/>
                </a:lnTo>
                <a:lnTo>
                  <a:pt x="20856574" y="10179052"/>
                </a:lnTo>
                <a:lnTo>
                  <a:pt x="20840702" y="10233024"/>
                </a:lnTo>
                <a:lnTo>
                  <a:pt x="20821650" y="10287000"/>
                </a:lnTo>
                <a:lnTo>
                  <a:pt x="20802602" y="10337800"/>
                </a:lnTo>
                <a:lnTo>
                  <a:pt x="20761326" y="10433052"/>
                </a:lnTo>
                <a:lnTo>
                  <a:pt x="20713704" y="10521952"/>
                </a:lnTo>
                <a:lnTo>
                  <a:pt x="20666076" y="10601324"/>
                </a:lnTo>
                <a:lnTo>
                  <a:pt x="20618452" y="10674352"/>
                </a:lnTo>
                <a:lnTo>
                  <a:pt x="20574004" y="10734676"/>
                </a:lnTo>
                <a:lnTo>
                  <a:pt x="20529552" y="10788652"/>
                </a:lnTo>
                <a:lnTo>
                  <a:pt x="20491452" y="10833100"/>
                </a:lnTo>
                <a:lnTo>
                  <a:pt x="20434304" y="10893424"/>
                </a:lnTo>
                <a:lnTo>
                  <a:pt x="20412076" y="10912476"/>
                </a:lnTo>
                <a:lnTo>
                  <a:pt x="20488276" y="10788652"/>
                </a:lnTo>
                <a:lnTo>
                  <a:pt x="20551776" y="10677524"/>
                </a:lnTo>
                <a:lnTo>
                  <a:pt x="20605752" y="10572752"/>
                </a:lnTo>
                <a:lnTo>
                  <a:pt x="20650204" y="10474324"/>
                </a:lnTo>
                <a:lnTo>
                  <a:pt x="20685128" y="10388600"/>
                </a:lnTo>
                <a:lnTo>
                  <a:pt x="20713704" y="10309224"/>
                </a:lnTo>
                <a:lnTo>
                  <a:pt x="20735928" y="10239376"/>
                </a:lnTo>
                <a:lnTo>
                  <a:pt x="20751802" y="10175876"/>
                </a:lnTo>
                <a:lnTo>
                  <a:pt x="20761326" y="10121900"/>
                </a:lnTo>
                <a:lnTo>
                  <a:pt x="20767674" y="10077452"/>
                </a:lnTo>
                <a:lnTo>
                  <a:pt x="20770850" y="10039352"/>
                </a:lnTo>
                <a:lnTo>
                  <a:pt x="20770850" y="10007600"/>
                </a:lnTo>
                <a:lnTo>
                  <a:pt x="20767674" y="9966324"/>
                </a:lnTo>
                <a:lnTo>
                  <a:pt x="20764502" y="9953624"/>
                </a:lnTo>
                <a:lnTo>
                  <a:pt x="20758150" y="9902824"/>
                </a:lnTo>
                <a:lnTo>
                  <a:pt x="20745450" y="9855200"/>
                </a:lnTo>
                <a:lnTo>
                  <a:pt x="20729576" y="9813924"/>
                </a:lnTo>
                <a:lnTo>
                  <a:pt x="20713704" y="9772652"/>
                </a:lnTo>
                <a:lnTo>
                  <a:pt x="20691476" y="9734552"/>
                </a:lnTo>
                <a:lnTo>
                  <a:pt x="20666076" y="9699624"/>
                </a:lnTo>
                <a:lnTo>
                  <a:pt x="20640676" y="9667876"/>
                </a:lnTo>
                <a:lnTo>
                  <a:pt x="20612104" y="9639300"/>
                </a:lnTo>
                <a:lnTo>
                  <a:pt x="20583528" y="9613900"/>
                </a:lnTo>
                <a:lnTo>
                  <a:pt x="20551776" y="9588500"/>
                </a:lnTo>
                <a:lnTo>
                  <a:pt x="20516852" y="9566276"/>
                </a:lnTo>
                <a:lnTo>
                  <a:pt x="20485104" y="9547224"/>
                </a:lnTo>
                <a:lnTo>
                  <a:pt x="20450176" y="9531352"/>
                </a:lnTo>
                <a:lnTo>
                  <a:pt x="20412076" y="9515476"/>
                </a:lnTo>
                <a:lnTo>
                  <a:pt x="20342228" y="9490076"/>
                </a:lnTo>
                <a:lnTo>
                  <a:pt x="20269204" y="9467852"/>
                </a:lnTo>
                <a:lnTo>
                  <a:pt x="20202528" y="9455152"/>
                </a:lnTo>
                <a:lnTo>
                  <a:pt x="20139028" y="9445624"/>
                </a:lnTo>
                <a:lnTo>
                  <a:pt x="20081876" y="9439276"/>
                </a:lnTo>
                <a:lnTo>
                  <a:pt x="19999328" y="9436100"/>
                </a:lnTo>
                <a:lnTo>
                  <a:pt x="19967576" y="9439276"/>
                </a:lnTo>
                <a:lnTo>
                  <a:pt x="20037428" y="9455152"/>
                </a:lnTo>
                <a:lnTo>
                  <a:pt x="20104104" y="9474200"/>
                </a:lnTo>
                <a:lnTo>
                  <a:pt x="20164428" y="9496424"/>
                </a:lnTo>
                <a:lnTo>
                  <a:pt x="20218404" y="9521824"/>
                </a:lnTo>
                <a:lnTo>
                  <a:pt x="20269204" y="9547224"/>
                </a:lnTo>
                <a:lnTo>
                  <a:pt x="20313652" y="9575800"/>
                </a:lnTo>
                <a:lnTo>
                  <a:pt x="20354928" y="9607552"/>
                </a:lnTo>
                <a:lnTo>
                  <a:pt x="20389852" y="9639300"/>
                </a:lnTo>
                <a:lnTo>
                  <a:pt x="20424776" y="9671052"/>
                </a:lnTo>
                <a:lnTo>
                  <a:pt x="20453352" y="9702800"/>
                </a:lnTo>
                <a:lnTo>
                  <a:pt x="20475576" y="9737724"/>
                </a:lnTo>
                <a:lnTo>
                  <a:pt x="20497804" y="9772652"/>
                </a:lnTo>
                <a:lnTo>
                  <a:pt x="20516852" y="9807576"/>
                </a:lnTo>
                <a:lnTo>
                  <a:pt x="20532728" y="9842500"/>
                </a:lnTo>
                <a:lnTo>
                  <a:pt x="20545428" y="9877424"/>
                </a:lnTo>
                <a:lnTo>
                  <a:pt x="20554952" y="9909176"/>
                </a:lnTo>
                <a:lnTo>
                  <a:pt x="20564476" y="9944100"/>
                </a:lnTo>
                <a:lnTo>
                  <a:pt x="20567652" y="9979024"/>
                </a:lnTo>
                <a:lnTo>
                  <a:pt x="20574004" y="10042524"/>
                </a:lnTo>
                <a:lnTo>
                  <a:pt x="20577176" y="10099676"/>
                </a:lnTo>
                <a:lnTo>
                  <a:pt x="20570828" y="10150476"/>
                </a:lnTo>
                <a:lnTo>
                  <a:pt x="20567652" y="10194924"/>
                </a:lnTo>
                <a:lnTo>
                  <a:pt x="20561304" y="10226676"/>
                </a:lnTo>
                <a:lnTo>
                  <a:pt x="20551776" y="10255252"/>
                </a:lnTo>
                <a:lnTo>
                  <a:pt x="20539076" y="10302876"/>
                </a:lnTo>
                <a:lnTo>
                  <a:pt x="20523204" y="10350500"/>
                </a:lnTo>
                <a:lnTo>
                  <a:pt x="20500976" y="10398124"/>
                </a:lnTo>
                <a:lnTo>
                  <a:pt x="20478752" y="10445752"/>
                </a:lnTo>
                <a:lnTo>
                  <a:pt x="20427952" y="10547352"/>
                </a:lnTo>
                <a:lnTo>
                  <a:pt x="20367628" y="10645776"/>
                </a:lnTo>
                <a:lnTo>
                  <a:pt x="20304128" y="10744200"/>
                </a:lnTo>
                <a:lnTo>
                  <a:pt x="20234276" y="10839452"/>
                </a:lnTo>
                <a:lnTo>
                  <a:pt x="20161252" y="10931524"/>
                </a:lnTo>
                <a:lnTo>
                  <a:pt x="20091404" y="11020424"/>
                </a:lnTo>
                <a:lnTo>
                  <a:pt x="20018376" y="11102976"/>
                </a:lnTo>
                <a:lnTo>
                  <a:pt x="19951704" y="11179176"/>
                </a:lnTo>
                <a:lnTo>
                  <a:pt x="19837404" y="11303000"/>
                </a:lnTo>
                <a:lnTo>
                  <a:pt x="19754852" y="11385552"/>
                </a:lnTo>
                <a:lnTo>
                  <a:pt x="19726276" y="11414124"/>
                </a:lnTo>
                <a:lnTo>
                  <a:pt x="19627852" y="11525252"/>
                </a:lnTo>
                <a:lnTo>
                  <a:pt x="19526252" y="11633200"/>
                </a:lnTo>
                <a:lnTo>
                  <a:pt x="19421476" y="11734800"/>
                </a:lnTo>
                <a:lnTo>
                  <a:pt x="19319876" y="11836400"/>
                </a:lnTo>
                <a:lnTo>
                  <a:pt x="19215104" y="11931652"/>
                </a:lnTo>
                <a:lnTo>
                  <a:pt x="19107152" y="12023724"/>
                </a:lnTo>
                <a:lnTo>
                  <a:pt x="19002376" y="12112624"/>
                </a:lnTo>
                <a:lnTo>
                  <a:pt x="18897604" y="12198352"/>
                </a:lnTo>
                <a:lnTo>
                  <a:pt x="18792828" y="12280900"/>
                </a:lnTo>
                <a:lnTo>
                  <a:pt x="18688052" y="12357100"/>
                </a:lnTo>
                <a:lnTo>
                  <a:pt x="18586452" y="12433300"/>
                </a:lnTo>
                <a:lnTo>
                  <a:pt x="18484852" y="12503152"/>
                </a:lnTo>
                <a:lnTo>
                  <a:pt x="18288004" y="12633324"/>
                </a:lnTo>
                <a:lnTo>
                  <a:pt x="18100676" y="12750800"/>
                </a:lnTo>
                <a:lnTo>
                  <a:pt x="17922876" y="12852400"/>
                </a:lnTo>
                <a:lnTo>
                  <a:pt x="17764128" y="12941300"/>
                </a:lnTo>
                <a:lnTo>
                  <a:pt x="17621252" y="13017500"/>
                </a:lnTo>
                <a:lnTo>
                  <a:pt x="17497428" y="13077824"/>
                </a:lnTo>
                <a:lnTo>
                  <a:pt x="17399004" y="13125452"/>
                </a:lnTo>
                <a:lnTo>
                  <a:pt x="17322804" y="13157200"/>
                </a:lnTo>
                <a:lnTo>
                  <a:pt x="17262476" y="13185776"/>
                </a:lnTo>
                <a:lnTo>
                  <a:pt x="17116428" y="13236576"/>
                </a:lnTo>
                <a:lnTo>
                  <a:pt x="16979904" y="13284200"/>
                </a:lnTo>
                <a:lnTo>
                  <a:pt x="16846552" y="13325476"/>
                </a:lnTo>
                <a:lnTo>
                  <a:pt x="16719552" y="13363576"/>
                </a:lnTo>
                <a:lnTo>
                  <a:pt x="16595728" y="13398500"/>
                </a:lnTo>
                <a:lnTo>
                  <a:pt x="16475076" y="13427076"/>
                </a:lnTo>
                <a:lnTo>
                  <a:pt x="16363952" y="13449300"/>
                </a:lnTo>
                <a:lnTo>
                  <a:pt x="16252828" y="13471524"/>
                </a:lnTo>
                <a:lnTo>
                  <a:pt x="16151228" y="13487400"/>
                </a:lnTo>
                <a:lnTo>
                  <a:pt x="16049628" y="13503276"/>
                </a:lnTo>
                <a:lnTo>
                  <a:pt x="15957552" y="13512800"/>
                </a:lnTo>
                <a:lnTo>
                  <a:pt x="15865476" y="13522324"/>
                </a:lnTo>
                <a:lnTo>
                  <a:pt x="15782928" y="13525500"/>
                </a:lnTo>
                <a:lnTo>
                  <a:pt x="15700376" y="13528676"/>
                </a:lnTo>
                <a:lnTo>
                  <a:pt x="15624176" y="13528676"/>
                </a:lnTo>
                <a:lnTo>
                  <a:pt x="15554328" y="13528676"/>
                </a:lnTo>
                <a:lnTo>
                  <a:pt x="15424152" y="13522324"/>
                </a:lnTo>
                <a:lnTo>
                  <a:pt x="15313028" y="13509624"/>
                </a:lnTo>
                <a:lnTo>
                  <a:pt x="15220952" y="13493752"/>
                </a:lnTo>
                <a:lnTo>
                  <a:pt x="15144752" y="13474700"/>
                </a:lnTo>
                <a:lnTo>
                  <a:pt x="15087604" y="13458824"/>
                </a:lnTo>
                <a:lnTo>
                  <a:pt x="15046328" y="13446124"/>
                </a:lnTo>
                <a:lnTo>
                  <a:pt x="15011404" y="13430252"/>
                </a:lnTo>
                <a:lnTo>
                  <a:pt x="15128876" y="13446124"/>
                </a:lnTo>
                <a:lnTo>
                  <a:pt x="15240004" y="13458824"/>
                </a:lnTo>
                <a:lnTo>
                  <a:pt x="15347952" y="13468352"/>
                </a:lnTo>
                <a:lnTo>
                  <a:pt x="15452728" y="13474700"/>
                </a:lnTo>
                <a:lnTo>
                  <a:pt x="15554328" y="13477876"/>
                </a:lnTo>
                <a:lnTo>
                  <a:pt x="15652752" y="13477876"/>
                </a:lnTo>
                <a:lnTo>
                  <a:pt x="15748004" y="13474700"/>
                </a:lnTo>
                <a:lnTo>
                  <a:pt x="15840076" y="13471524"/>
                </a:lnTo>
                <a:lnTo>
                  <a:pt x="15925804" y="13462000"/>
                </a:lnTo>
                <a:lnTo>
                  <a:pt x="16011528" y="13452476"/>
                </a:lnTo>
                <a:lnTo>
                  <a:pt x="16090904" y="13442952"/>
                </a:lnTo>
                <a:lnTo>
                  <a:pt x="16167104" y="13430252"/>
                </a:lnTo>
                <a:lnTo>
                  <a:pt x="16240128" y="13417552"/>
                </a:lnTo>
                <a:lnTo>
                  <a:pt x="16309976" y="13401676"/>
                </a:lnTo>
                <a:lnTo>
                  <a:pt x="16436976" y="13369924"/>
                </a:lnTo>
                <a:lnTo>
                  <a:pt x="16551276" y="13335000"/>
                </a:lnTo>
                <a:lnTo>
                  <a:pt x="16649704" y="13300076"/>
                </a:lnTo>
                <a:lnTo>
                  <a:pt x="16735428" y="13265152"/>
                </a:lnTo>
                <a:lnTo>
                  <a:pt x="16802104" y="13233400"/>
                </a:lnTo>
                <a:lnTo>
                  <a:pt x="16856076" y="13208000"/>
                </a:lnTo>
                <a:lnTo>
                  <a:pt x="16894176" y="13185776"/>
                </a:lnTo>
                <a:lnTo>
                  <a:pt x="16925928" y="13166724"/>
                </a:lnTo>
                <a:lnTo>
                  <a:pt x="16846552" y="13198476"/>
                </a:lnTo>
                <a:lnTo>
                  <a:pt x="16764004" y="13230224"/>
                </a:lnTo>
                <a:lnTo>
                  <a:pt x="16675104" y="13255624"/>
                </a:lnTo>
                <a:lnTo>
                  <a:pt x="16583028" y="13277852"/>
                </a:lnTo>
                <a:lnTo>
                  <a:pt x="16487776" y="13296900"/>
                </a:lnTo>
                <a:lnTo>
                  <a:pt x="16395704" y="13315952"/>
                </a:lnTo>
                <a:lnTo>
                  <a:pt x="16306804" y="13328652"/>
                </a:lnTo>
                <a:lnTo>
                  <a:pt x="16217904" y="13341352"/>
                </a:lnTo>
                <a:lnTo>
                  <a:pt x="16059152" y="13357224"/>
                </a:lnTo>
                <a:lnTo>
                  <a:pt x="15932152" y="13369924"/>
                </a:lnTo>
                <a:lnTo>
                  <a:pt x="15814676" y="13373100"/>
                </a:lnTo>
                <a:lnTo>
                  <a:pt x="15728952" y="13376276"/>
                </a:lnTo>
                <a:lnTo>
                  <a:pt x="15646404" y="13379452"/>
                </a:lnTo>
                <a:lnTo>
                  <a:pt x="15570204" y="13376276"/>
                </a:lnTo>
                <a:lnTo>
                  <a:pt x="15497176" y="13376276"/>
                </a:lnTo>
                <a:lnTo>
                  <a:pt x="15427328" y="13369924"/>
                </a:lnTo>
                <a:lnTo>
                  <a:pt x="15363828" y="13363576"/>
                </a:lnTo>
                <a:lnTo>
                  <a:pt x="15303504" y="13357224"/>
                </a:lnTo>
                <a:lnTo>
                  <a:pt x="15246352" y="13344524"/>
                </a:lnTo>
                <a:lnTo>
                  <a:pt x="15192376" y="13335000"/>
                </a:lnTo>
                <a:lnTo>
                  <a:pt x="15144752" y="13322300"/>
                </a:lnTo>
                <a:lnTo>
                  <a:pt x="15100304" y="13306424"/>
                </a:lnTo>
                <a:lnTo>
                  <a:pt x="15055852" y="13290552"/>
                </a:lnTo>
                <a:lnTo>
                  <a:pt x="15017752" y="13274676"/>
                </a:lnTo>
                <a:lnTo>
                  <a:pt x="14982828" y="13255624"/>
                </a:lnTo>
                <a:lnTo>
                  <a:pt x="14954252" y="13236576"/>
                </a:lnTo>
                <a:lnTo>
                  <a:pt x="14925676" y="13214352"/>
                </a:lnTo>
                <a:lnTo>
                  <a:pt x="14900276" y="13192124"/>
                </a:lnTo>
                <a:lnTo>
                  <a:pt x="14878052" y="13169900"/>
                </a:lnTo>
                <a:lnTo>
                  <a:pt x="14855828" y="13147676"/>
                </a:lnTo>
                <a:lnTo>
                  <a:pt x="14839952" y="13122276"/>
                </a:lnTo>
                <a:lnTo>
                  <a:pt x="14827252" y="13096876"/>
                </a:lnTo>
                <a:lnTo>
                  <a:pt x="14814552" y="13071476"/>
                </a:lnTo>
                <a:lnTo>
                  <a:pt x="14805028" y="13042900"/>
                </a:lnTo>
                <a:lnTo>
                  <a:pt x="14798676" y="13014324"/>
                </a:lnTo>
                <a:lnTo>
                  <a:pt x="14792328" y="12988924"/>
                </a:lnTo>
                <a:lnTo>
                  <a:pt x="14789152" y="12960352"/>
                </a:lnTo>
                <a:lnTo>
                  <a:pt x="14789152" y="12928600"/>
                </a:lnTo>
                <a:lnTo>
                  <a:pt x="14792328" y="12900024"/>
                </a:lnTo>
                <a:lnTo>
                  <a:pt x="14798676" y="12839700"/>
                </a:lnTo>
                <a:lnTo>
                  <a:pt x="14814552" y="12779376"/>
                </a:lnTo>
                <a:lnTo>
                  <a:pt x="14833604" y="12719052"/>
                </a:lnTo>
                <a:lnTo>
                  <a:pt x="14859004" y="12658724"/>
                </a:lnTo>
                <a:lnTo>
                  <a:pt x="14887576" y="12598400"/>
                </a:lnTo>
                <a:lnTo>
                  <a:pt x="14916152" y="12538076"/>
                </a:lnTo>
                <a:lnTo>
                  <a:pt x="14951076" y="12480924"/>
                </a:lnTo>
                <a:lnTo>
                  <a:pt x="14986004" y="12426952"/>
                </a:lnTo>
                <a:lnTo>
                  <a:pt x="15059028" y="12325352"/>
                </a:lnTo>
                <a:lnTo>
                  <a:pt x="15125704" y="12242800"/>
                </a:lnTo>
                <a:lnTo>
                  <a:pt x="15179676" y="12176124"/>
                </a:lnTo>
                <a:lnTo>
                  <a:pt x="15233652" y="12118976"/>
                </a:lnTo>
                <a:lnTo>
                  <a:pt x="15252704" y="12153900"/>
                </a:lnTo>
                <a:lnTo>
                  <a:pt x="15274928" y="12185652"/>
                </a:lnTo>
                <a:lnTo>
                  <a:pt x="15300328" y="12217400"/>
                </a:lnTo>
                <a:lnTo>
                  <a:pt x="15325728" y="12249152"/>
                </a:lnTo>
                <a:lnTo>
                  <a:pt x="15351128" y="12277724"/>
                </a:lnTo>
                <a:lnTo>
                  <a:pt x="15379704" y="12303124"/>
                </a:lnTo>
                <a:lnTo>
                  <a:pt x="15408276" y="12328524"/>
                </a:lnTo>
                <a:lnTo>
                  <a:pt x="15436852" y="12353924"/>
                </a:lnTo>
                <a:lnTo>
                  <a:pt x="15500352" y="12395200"/>
                </a:lnTo>
                <a:lnTo>
                  <a:pt x="15570204" y="12433300"/>
                </a:lnTo>
                <a:lnTo>
                  <a:pt x="15640052" y="12465052"/>
                </a:lnTo>
                <a:lnTo>
                  <a:pt x="15713076" y="12493624"/>
                </a:lnTo>
                <a:lnTo>
                  <a:pt x="15792452" y="12515852"/>
                </a:lnTo>
                <a:lnTo>
                  <a:pt x="15871828" y="12534900"/>
                </a:lnTo>
                <a:lnTo>
                  <a:pt x="15951204" y="12547600"/>
                </a:lnTo>
                <a:lnTo>
                  <a:pt x="16033752" y="12557124"/>
                </a:lnTo>
                <a:lnTo>
                  <a:pt x="16116304" y="12563476"/>
                </a:lnTo>
                <a:lnTo>
                  <a:pt x="16198852" y="12569824"/>
                </a:lnTo>
                <a:lnTo>
                  <a:pt x="16281404" y="12569824"/>
                </a:lnTo>
                <a:lnTo>
                  <a:pt x="16363952" y="12566652"/>
                </a:lnTo>
                <a:lnTo>
                  <a:pt x="16443328" y="12563476"/>
                </a:lnTo>
                <a:lnTo>
                  <a:pt x="16522704" y="12557124"/>
                </a:lnTo>
                <a:lnTo>
                  <a:pt x="16671928" y="12541252"/>
                </a:lnTo>
                <a:lnTo>
                  <a:pt x="16811628" y="12519024"/>
                </a:lnTo>
                <a:lnTo>
                  <a:pt x="16932276" y="12496800"/>
                </a:lnTo>
                <a:lnTo>
                  <a:pt x="17033876" y="12474576"/>
                </a:lnTo>
                <a:lnTo>
                  <a:pt x="17113252" y="12455524"/>
                </a:lnTo>
                <a:lnTo>
                  <a:pt x="17176752" y="12439652"/>
                </a:lnTo>
                <a:lnTo>
                  <a:pt x="17322804" y="12401552"/>
                </a:lnTo>
                <a:lnTo>
                  <a:pt x="17462504" y="12360276"/>
                </a:lnTo>
                <a:lnTo>
                  <a:pt x="17599028" y="12315824"/>
                </a:lnTo>
                <a:lnTo>
                  <a:pt x="17732376" y="12268200"/>
                </a:lnTo>
                <a:lnTo>
                  <a:pt x="17862552" y="12217400"/>
                </a:lnTo>
                <a:lnTo>
                  <a:pt x="17986376" y="12166600"/>
                </a:lnTo>
                <a:lnTo>
                  <a:pt x="18107028" y="12112624"/>
                </a:lnTo>
                <a:lnTo>
                  <a:pt x="18224504" y="12055476"/>
                </a:lnTo>
                <a:lnTo>
                  <a:pt x="18338804" y="11995152"/>
                </a:lnTo>
                <a:lnTo>
                  <a:pt x="18446752" y="11938000"/>
                </a:lnTo>
                <a:lnTo>
                  <a:pt x="18551528" y="11877676"/>
                </a:lnTo>
                <a:lnTo>
                  <a:pt x="18653128" y="11817352"/>
                </a:lnTo>
                <a:lnTo>
                  <a:pt x="18748376" y="11757024"/>
                </a:lnTo>
                <a:lnTo>
                  <a:pt x="18840452" y="11696700"/>
                </a:lnTo>
                <a:lnTo>
                  <a:pt x="18926176" y="11636376"/>
                </a:lnTo>
                <a:lnTo>
                  <a:pt x="19008728" y="11576052"/>
                </a:lnTo>
                <a:lnTo>
                  <a:pt x="19161128" y="11461752"/>
                </a:lnTo>
                <a:lnTo>
                  <a:pt x="19291304" y="11353800"/>
                </a:lnTo>
                <a:lnTo>
                  <a:pt x="19405604" y="11255376"/>
                </a:lnTo>
                <a:lnTo>
                  <a:pt x="19497676" y="11166476"/>
                </a:lnTo>
                <a:lnTo>
                  <a:pt x="19570704" y="11096624"/>
                </a:lnTo>
                <a:lnTo>
                  <a:pt x="19624676" y="11042652"/>
                </a:lnTo>
                <a:lnTo>
                  <a:pt x="19669128" y="10995024"/>
                </a:lnTo>
                <a:lnTo>
                  <a:pt x="19716752" y="10950576"/>
                </a:lnTo>
                <a:lnTo>
                  <a:pt x="19758028" y="10906124"/>
                </a:lnTo>
                <a:lnTo>
                  <a:pt x="19796128" y="10861676"/>
                </a:lnTo>
                <a:lnTo>
                  <a:pt x="19824704" y="10820400"/>
                </a:lnTo>
                <a:lnTo>
                  <a:pt x="19850104" y="10779124"/>
                </a:lnTo>
                <a:lnTo>
                  <a:pt x="19869152" y="10737852"/>
                </a:lnTo>
                <a:lnTo>
                  <a:pt x="19885028" y="10699752"/>
                </a:lnTo>
                <a:lnTo>
                  <a:pt x="19897728" y="10661652"/>
                </a:lnTo>
                <a:lnTo>
                  <a:pt x="19904076" y="10623552"/>
                </a:lnTo>
                <a:lnTo>
                  <a:pt x="19907252" y="10588624"/>
                </a:lnTo>
                <a:lnTo>
                  <a:pt x="19907252" y="10553700"/>
                </a:lnTo>
                <a:lnTo>
                  <a:pt x="19900904" y="10521952"/>
                </a:lnTo>
                <a:lnTo>
                  <a:pt x="19894552" y="10490200"/>
                </a:lnTo>
                <a:lnTo>
                  <a:pt x="19885028" y="10461624"/>
                </a:lnTo>
                <a:lnTo>
                  <a:pt x="19875504" y="10429876"/>
                </a:lnTo>
                <a:lnTo>
                  <a:pt x="19862804" y="10404476"/>
                </a:lnTo>
                <a:lnTo>
                  <a:pt x="19846928" y="10379076"/>
                </a:lnTo>
                <a:lnTo>
                  <a:pt x="19831052" y="10353676"/>
                </a:lnTo>
                <a:lnTo>
                  <a:pt x="19796128" y="10309224"/>
                </a:lnTo>
                <a:lnTo>
                  <a:pt x="19758028" y="10271124"/>
                </a:lnTo>
                <a:lnTo>
                  <a:pt x="19723104" y="10236200"/>
                </a:lnTo>
                <a:lnTo>
                  <a:pt x="19691352" y="10210800"/>
                </a:lnTo>
                <a:lnTo>
                  <a:pt x="19665952" y="10194924"/>
                </a:lnTo>
                <a:lnTo>
                  <a:pt x="19643728" y="10179052"/>
                </a:lnTo>
                <a:lnTo>
                  <a:pt x="19608804" y="10153652"/>
                </a:lnTo>
                <a:lnTo>
                  <a:pt x="19570704" y="10128252"/>
                </a:lnTo>
                <a:lnTo>
                  <a:pt x="19532604" y="10109200"/>
                </a:lnTo>
                <a:lnTo>
                  <a:pt x="19491328" y="10090152"/>
                </a:lnTo>
                <a:lnTo>
                  <a:pt x="19446876" y="10074276"/>
                </a:lnTo>
                <a:lnTo>
                  <a:pt x="19402428" y="10061576"/>
                </a:lnTo>
                <a:lnTo>
                  <a:pt x="19351628" y="10048876"/>
                </a:lnTo>
                <a:lnTo>
                  <a:pt x="19304004" y="10039352"/>
                </a:lnTo>
                <a:lnTo>
                  <a:pt x="19250028" y="10033000"/>
                </a:lnTo>
                <a:lnTo>
                  <a:pt x="19199228" y="10026652"/>
                </a:lnTo>
                <a:lnTo>
                  <a:pt x="19142076" y="10023476"/>
                </a:lnTo>
                <a:lnTo>
                  <a:pt x="19084928" y="10023476"/>
                </a:lnTo>
                <a:lnTo>
                  <a:pt x="18967452" y="10026652"/>
                </a:lnTo>
                <a:lnTo>
                  <a:pt x="18846804" y="10036176"/>
                </a:lnTo>
                <a:lnTo>
                  <a:pt x="18719804" y="10052052"/>
                </a:lnTo>
                <a:lnTo>
                  <a:pt x="18589628" y="10071100"/>
                </a:lnTo>
                <a:lnTo>
                  <a:pt x="18456276" y="10096500"/>
                </a:lnTo>
                <a:lnTo>
                  <a:pt x="18319752" y="10128252"/>
                </a:lnTo>
                <a:lnTo>
                  <a:pt x="18183228" y="10163176"/>
                </a:lnTo>
                <a:lnTo>
                  <a:pt x="18046704" y="10201276"/>
                </a:lnTo>
                <a:lnTo>
                  <a:pt x="17913352" y="10242552"/>
                </a:lnTo>
                <a:lnTo>
                  <a:pt x="17776828" y="10283824"/>
                </a:lnTo>
                <a:lnTo>
                  <a:pt x="17643476" y="10331452"/>
                </a:lnTo>
                <a:lnTo>
                  <a:pt x="17513304" y="10375900"/>
                </a:lnTo>
                <a:lnTo>
                  <a:pt x="17265652" y="10467976"/>
                </a:lnTo>
                <a:lnTo>
                  <a:pt x="17040228" y="10560052"/>
                </a:lnTo>
                <a:lnTo>
                  <a:pt x="16840204" y="10645776"/>
                </a:lnTo>
                <a:lnTo>
                  <a:pt x="16675104" y="10718800"/>
                </a:lnTo>
                <a:lnTo>
                  <a:pt x="16548104" y="10775952"/>
                </a:lnTo>
                <a:lnTo>
                  <a:pt x="16436976" y="10826752"/>
                </a:lnTo>
                <a:lnTo>
                  <a:pt x="16325852" y="10890252"/>
                </a:lnTo>
                <a:lnTo>
                  <a:pt x="16214728" y="10944224"/>
                </a:lnTo>
                <a:lnTo>
                  <a:pt x="16109952" y="10988676"/>
                </a:lnTo>
                <a:lnTo>
                  <a:pt x="16008352" y="11029952"/>
                </a:lnTo>
                <a:lnTo>
                  <a:pt x="15913104" y="11064876"/>
                </a:lnTo>
                <a:lnTo>
                  <a:pt x="15824204" y="11096624"/>
                </a:lnTo>
                <a:lnTo>
                  <a:pt x="15738476" y="11118852"/>
                </a:lnTo>
                <a:lnTo>
                  <a:pt x="15662276" y="11141076"/>
                </a:lnTo>
                <a:lnTo>
                  <a:pt x="15592428" y="11156952"/>
                </a:lnTo>
                <a:lnTo>
                  <a:pt x="15528928" y="11169652"/>
                </a:lnTo>
                <a:lnTo>
                  <a:pt x="15427328" y="11185524"/>
                </a:lnTo>
                <a:lnTo>
                  <a:pt x="15363828" y="11191876"/>
                </a:lnTo>
                <a:lnTo>
                  <a:pt x="15341604" y="11191876"/>
                </a:lnTo>
                <a:lnTo>
                  <a:pt x="15313028" y="11182352"/>
                </a:lnTo>
                <a:lnTo>
                  <a:pt x="15284452" y="11169652"/>
                </a:lnTo>
                <a:lnTo>
                  <a:pt x="15262228" y="11156952"/>
                </a:lnTo>
                <a:lnTo>
                  <a:pt x="15243176" y="11137900"/>
                </a:lnTo>
                <a:lnTo>
                  <a:pt x="15224128" y="11118852"/>
                </a:lnTo>
                <a:lnTo>
                  <a:pt x="15211428" y="11099800"/>
                </a:lnTo>
                <a:lnTo>
                  <a:pt x="15198728" y="11077576"/>
                </a:lnTo>
                <a:lnTo>
                  <a:pt x="15189204" y="11055352"/>
                </a:lnTo>
                <a:lnTo>
                  <a:pt x="15182852" y="11029952"/>
                </a:lnTo>
                <a:lnTo>
                  <a:pt x="15176504" y="11004552"/>
                </a:lnTo>
                <a:lnTo>
                  <a:pt x="15173328" y="10950576"/>
                </a:lnTo>
                <a:lnTo>
                  <a:pt x="15173328" y="10896600"/>
                </a:lnTo>
                <a:lnTo>
                  <a:pt x="15179676" y="10842624"/>
                </a:lnTo>
                <a:lnTo>
                  <a:pt x="15192376" y="10788652"/>
                </a:lnTo>
                <a:lnTo>
                  <a:pt x="15205076" y="10734676"/>
                </a:lnTo>
                <a:lnTo>
                  <a:pt x="15217776" y="10687052"/>
                </a:lnTo>
                <a:lnTo>
                  <a:pt x="15233652" y="10645776"/>
                </a:lnTo>
                <a:lnTo>
                  <a:pt x="15259052" y="10585452"/>
                </a:lnTo>
                <a:lnTo>
                  <a:pt x="15268576" y="10560052"/>
                </a:lnTo>
                <a:lnTo>
                  <a:pt x="15284452" y="10518776"/>
                </a:lnTo>
                <a:lnTo>
                  <a:pt x="15300328" y="10474324"/>
                </a:lnTo>
                <a:lnTo>
                  <a:pt x="15344776" y="10382252"/>
                </a:lnTo>
                <a:lnTo>
                  <a:pt x="15398752" y="10277476"/>
                </a:lnTo>
                <a:lnTo>
                  <a:pt x="15465428" y="10166352"/>
                </a:lnTo>
                <a:lnTo>
                  <a:pt x="15541628" y="10048876"/>
                </a:lnTo>
                <a:lnTo>
                  <a:pt x="15627352" y="9925052"/>
                </a:lnTo>
                <a:lnTo>
                  <a:pt x="15722604" y="9794876"/>
                </a:lnTo>
                <a:lnTo>
                  <a:pt x="15824204" y="9661524"/>
                </a:lnTo>
                <a:lnTo>
                  <a:pt x="15928976" y="9525000"/>
                </a:lnTo>
                <a:lnTo>
                  <a:pt x="16043276" y="9385300"/>
                </a:lnTo>
                <a:lnTo>
                  <a:pt x="16160752" y="9242424"/>
                </a:lnTo>
                <a:lnTo>
                  <a:pt x="16281404" y="9096376"/>
                </a:lnTo>
                <a:lnTo>
                  <a:pt x="16532228" y="8807452"/>
                </a:lnTo>
                <a:lnTo>
                  <a:pt x="16783052" y="8524876"/>
                </a:lnTo>
                <a:lnTo>
                  <a:pt x="17033876" y="8248652"/>
                </a:lnTo>
                <a:lnTo>
                  <a:pt x="17275176" y="7991476"/>
                </a:lnTo>
                <a:lnTo>
                  <a:pt x="17497428" y="7753352"/>
                </a:lnTo>
                <a:lnTo>
                  <a:pt x="17697452" y="7546976"/>
                </a:lnTo>
                <a:lnTo>
                  <a:pt x="17992728" y="7245352"/>
                </a:lnTo>
                <a:lnTo>
                  <a:pt x="18103852" y="7131052"/>
                </a:lnTo>
                <a:lnTo>
                  <a:pt x="18075276" y="7086600"/>
                </a:lnTo>
                <a:lnTo>
                  <a:pt x="18049876" y="7042152"/>
                </a:lnTo>
                <a:lnTo>
                  <a:pt x="18030828" y="6997700"/>
                </a:lnTo>
                <a:lnTo>
                  <a:pt x="18011776" y="6953252"/>
                </a:lnTo>
                <a:lnTo>
                  <a:pt x="17999076" y="6908800"/>
                </a:lnTo>
                <a:lnTo>
                  <a:pt x="17989552" y="6867524"/>
                </a:lnTo>
                <a:lnTo>
                  <a:pt x="17983204" y="6826252"/>
                </a:lnTo>
                <a:lnTo>
                  <a:pt x="17980028" y="6784976"/>
                </a:lnTo>
                <a:lnTo>
                  <a:pt x="17980028" y="6746876"/>
                </a:lnTo>
                <a:lnTo>
                  <a:pt x="17980028" y="6708776"/>
                </a:lnTo>
                <a:lnTo>
                  <a:pt x="17983204" y="6670676"/>
                </a:lnTo>
                <a:lnTo>
                  <a:pt x="17989552" y="6632576"/>
                </a:lnTo>
                <a:lnTo>
                  <a:pt x="17995904" y="6597652"/>
                </a:lnTo>
                <a:lnTo>
                  <a:pt x="18005428" y="6565900"/>
                </a:lnTo>
                <a:lnTo>
                  <a:pt x="18027652" y="6502400"/>
                </a:lnTo>
                <a:lnTo>
                  <a:pt x="18056228" y="6445252"/>
                </a:lnTo>
                <a:lnTo>
                  <a:pt x="18084804" y="6391276"/>
                </a:lnTo>
                <a:lnTo>
                  <a:pt x="18113376" y="6346824"/>
                </a:lnTo>
                <a:lnTo>
                  <a:pt x="18138776" y="6308724"/>
                </a:lnTo>
                <a:lnTo>
                  <a:pt x="18183228" y="6257924"/>
                </a:lnTo>
                <a:lnTo>
                  <a:pt x="18202276" y="6238876"/>
                </a:lnTo>
                <a:lnTo>
                  <a:pt x="18256252" y="6188076"/>
                </a:lnTo>
                <a:lnTo>
                  <a:pt x="18310228" y="6146800"/>
                </a:lnTo>
                <a:lnTo>
                  <a:pt x="18361028" y="6111876"/>
                </a:lnTo>
                <a:lnTo>
                  <a:pt x="18411828" y="6083300"/>
                </a:lnTo>
                <a:lnTo>
                  <a:pt x="18462628" y="6057900"/>
                </a:lnTo>
                <a:lnTo>
                  <a:pt x="18510252" y="6042024"/>
                </a:lnTo>
                <a:lnTo>
                  <a:pt x="18554704" y="6029324"/>
                </a:lnTo>
                <a:lnTo>
                  <a:pt x="18595976" y="6019800"/>
                </a:lnTo>
                <a:lnTo>
                  <a:pt x="18634076" y="6016624"/>
                </a:lnTo>
                <a:lnTo>
                  <a:pt x="18665828" y="6013452"/>
                </a:lnTo>
                <a:lnTo>
                  <a:pt x="18722976" y="6016624"/>
                </a:lnTo>
                <a:lnTo>
                  <a:pt x="18757904" y="6019800"/>
                </a:lnTo>
                <a:lnTo>
                  <a:pt x="18770604" y="6022976"/>
                </a:lnTo>
                <a:lnTo>
                  <a:pt x="18776952" y="6073776"/>
                </a:lnTo>
                <a:lnTo>
                  <a:pt x="18789652" y="6121400"/>
                </a:lnTo>
                <a:lnTo>
                  <a:pt x="18805528" y="6162676"/>
                </a:lnTo>
                <a:lnTo>
                  <a:pt x="18824576" y="6200776"/>
                </a:lnTo>
                <a:lnTo>
                  <a:pt x="18846804" y="6232524"/>
                </a:lnTo>
                <a:lnTo>
                  <a:pt x="18872204" y="6257924"/>
                </a:lnTo>
                <a:lnTo>
                  <a:pt x="18894428" y="6283324"/>
                </a:lnTo>
                <a:lnTo>
                  <a:pt x="18919828" y="6302376"/>
                </a:lnTo>
                <a:lnTo>
                  <a:pt x="18945228" y="6318252"/>
                </a:lnTo>
                <a:lnTo>
                  <a:pt x="18967452" y="6330952"/>
                </a:lnTo>
                <a:lnTo>
                  <a:pt x="19011904" y="6350000"/>
                </a:lnTo>
                <a:lnTo>
                  <a:pt x="19040476" y="6359524"/>
                </a:lnTo>
                <a:lnTo>
                  <a:pt x="19050004" y="6359524"/>
                </a:lnTo>
                <a:lnTo>
                  <a:pt x="19164304" y="6270624"/>
                </a:lnTo>
                <a:lnTo>
                  <a:pt x="19272252" y="6188076"/>
                </a:lnTo>
                <a:lnTo>
                  <a:pt x="19367504" y="6121400"/>
                </a:lnTo>
                <a:lnTo>
                  <a:pt x="19456404" y="6064252"/>
                </a:lnTo>
                <a:lnTo>
                  <a:pt x="19535776" y="6016624"/>
                </a:lnTo>
                <a:lnTo>
                  <a:pt x="19608804" y="5975352"/>
                </a:lnTo>
                <a:lnTo>
                  <a:pt x="19672304" y="5943600"/>
                </a:lnTo>
                <a:lnTo>
                  <a:pt x="19729452" y="5918200"/>
                </a:lnTo>
                <a:lnTo>
                  <a:pt x="19777076" y="5899152"/>
                </a:lnTo>
                <a:lnTo>
                  <a:pt x="19818352" y="5886452"/>
                </a:lnTo>
                <a:lnTo>
                  <a:pt x="19850104" y="5876924"/>
                </a:lnTo>
                <a:lnTo>
                  <a:pt x="19878676" y="5873752"/>
                </a:lnTo>
                <a:lnTo>
                  <a:pt x="19913604" y="5867400"/>
                </a:lnTo>
                <a:lnTo>
                  <a:pt x="19926304" y="5870576"/>
                </a:lnTo>
                <a:lnTo>
                  <a:pt x="19837404" y="5921376"/>
                </a:lnTo>
                <a:lnTo>
                  <a:pt x="19754852" y="5972176"/>
                </a:lnTo>
                <a:lnTo>
                  <a:pt x="19678652" y="6022976"/>
                </a:lnTo>
                <a:lnTo>
                  <a:pt x="19611976" y="6073776"/>
                </a:lnTo>
                <a:lnTo>
                  <a:pt x="19551652" y="6121400"/>
                </a:lnTo>
                <a:lnTo>
                  <a:pt x="19497676" y="6169024"/>
                </a:lnTo>
                <a:lnTo>
                  <a:pt x="19446876" y="6210300"/>
                </a:lnTo>
                <a:lnTo>
                  <a:pt x="19405604" y="6251576"/>
                </a:lnTo>
                <a:lnTo>
                  <a:pt x="19338928" y="6321424"/>
                </a:lnTo>
                <a:lnTo>
                  <a:pt x="19291304" y="6375400"/>
                </a:lnTo>
                <a:lnTo>
                  <a:pt x="19265904" y="6410324"/>
                </a:lnTo>
                <a:lnTo>
                  <a:pt x="19256376" y="6423024"/>
                </a:lnTo>
                <a:lnTo>
                  <a:pt x="19275428" y="6438900"/>
                </a:lnTo>
                <a:lnTo>
                  <a:pt x="19300828" y="6451600"/>
                </a:lnTo>
                <a:lnTo>
                  <a:pt x="19329404" y="6464300"/>
                </a:lnTo>
                <a:lnTo>
                  <a:pt x="19364328" y="6473824"/>
                </a:lnTo>
                <a:lnTo>
                  <a:pt x="19440528" y="6489700"/>
                </a:lnTo>
                <a:lnTo>
                  <a:pt x="19532604" y="6505576"/>
                </a:lnTo>
                <a:lnTo>
                  <a:pt x="19634204" y="6515100"/>
                </a:lnTo>
                <a:lnTo>
                  <a:pt x="19742152" y="6521452"/>
                </a:lnTo>
                <a:lnTo>
                  <a:pt x="19853276" y="6527800"/>
                </a:lnTo>
                <a:lnTo>
                  <a:pt x="19967576" y="6527800"/>
                </a:lnTo>
                <a:lnTo>
                  <a:pt x="20183476" y="6527800"/>
                </a:lnTo>
                <a:lnTo>
                  <a:pt x="20367628" y="6521452"/>
                </a:lnTo>
                <a:lnTo>
                  <a:pt x="20542252" y="6515100"/>
                </a:lnTo>
                <a:lnTo>
                  <a:pt x="20602576" y="6508752"/>
                </a:lnTo>
                <a:lnTo>
                  <a:pt x="20662904" y="6499224"/>
                </a:lnTo>
                <a:lnTo>
                  <a:pt x="20726404" y="6489700"/>
                </a:lnTo>
                <a:lnTo>
                  <a:pt x="20793074" y="6473824"/>
                </a:lnTo>
                <a:lnTo>
                  <a:pt x="20929602" y="6438900"/>
                </a:lnTo>
                <a:lnTo>
                  <a:pt x="21069302" y="6397624"/>
                </a:lnTo>
                <a:lnTo>
                  <a:pt x="21212174" y="6346824"/>
                </a:lnTo>
                <a:lnTo>
                  <a:pt x="21355050" y="6292852"/>
                </a:lnTo>
                <a:lnTo>
                  <a:pt x="21497926" y="6235700"/>
                </a:lnTo>
                <a:lnTo>
                  <a:pt x="21634450" y="6175376"/>
                </a:lnTo>
                <a:lnTo>
                  <a:pt x="21761450" y="6118224"/>
                </a:lnTo>
                <a:lnTo>
                  <a:pt x="21882102" y="6064252"/>
                </a:lnTo>
                <a:lnTo>
                  <a:pt x="22082126" y="5965824"/>
                </a:lnTo>
                <a:lnTo>
                  <a:pt x="22218650" y="5895976"/>
                </a:lnTo>
                <a:lnTo>
                  <a:pt x="22266274" y="5870576"/>
                </a:lnTo>
                <a:lnTo>
                  <a:pt x="22174202" y="5934076"/>
                </a:lnTo>
                <a:lnTo>
                  <a:pt x="22072602" y="5997576"/>
                </a:lnTo>
                <a:lnTo>
                  <a:pt x="21971002" y="6057900"/>
                </a:lnTo>
                <a:lnTo>
                  <a:pt x="21863050" y="6111876"/>
                </a:lnTo>
                <a:lnTo>
                  <a:pt x="21755102" y="6165852"/>
                </a:lnTo>
                <a:lnTo>
                  <a:pt x="21650326" y="6213476"/>
                </a:lnTo>
                <a:lnTo>
                  <a:pt x="21545550" y="6257924"/>
                </a:lnTo>
                <a:lnTo>
                  <a:pt x="21443950" y="6299200"/>
                </a:lnTo>
                <a:lnTo>
                  <a:pt x="21262974" y="6369052"/>
                </a:lnTo>
                <a:lnTo>
                  <a:pt x="21116926" y="6423024"/>
                </a:lnTo>
                <a:lnTo>
                  <a:pt x="20986750" y="6464300"/>
                </a:lnTo>
                <a:lnTo>
                  <a:pt x="21047074" y="6457952"/>
                </a:lnTo>
                <a:lnTo>
                  <a:pt x="21113750" y="6451600"/>
                </a:lnTo>
                <a:lnTo>
                  <a:pt x="21177250" y="6442076"/>
                </a:lnTo>
                <a:lnTo>
                  <a:pt x="21240750" y="6429376"/>
                </a:lnTo>
                <a:lnTo>
                  <a:pt x="21374102" y="6397624"/>
                </a:lnTo>
                <a:lnTo>
                  <a:pt x="21504274" y="6359524"/>
                </a:lnTo>
                <a:lnTo>
                  <a:pt x="21634450" y="6315076"/>
                </a:lnTo>
                <a:lnTo>
                  <a:pt x="21761450" y="6267452"/>
                </a:lnTo>
                <a:lnTo>
                  <a:pt x="21885274" y="6219824"/>
                </a:lnTo>
                <a:lnTo>
                  <a:pt x="22002750" y="6169024"/>
                </a:lnTo>
                <a:lnTo>
                  <a:pt x="22110702" y="6118224"/>
                </a:lnTo>
                <a:lnTo>
                  <a:pt x="22209126" y="6067424"/>
                </a:lnTo>
                <a:lnTo>
                  <a:pt x="22374226" y="5981700"/>
                </a:lnTo>
                <a:lnTo>
                  <a:pt x="22482174" y="5924552"/>
                </a:lnTo>
                <a:lnTo>
                  <a:pt x="22520274" y="5902324"/>
                </a:lnTo>
                <a:lnTo>
                  <a:pt x="22504402" y="5927724"/>
                </a:lnTo>
                <a:lnTo>
                  <a:pt x="22485350" y="5956300"/>
                </a:lnTo>
                <a:lnTo>
                  <a:pt x="22463126" y="5984876"/>
                </a:lnTo>
                <a:lnTo>
                  <a:pt x="22434550" y="6013452"/>
                </a:lnTo>
                <a:lnTo>
                  <a:pt x="22405974" y="6042024"/>
                </a:lnTo>
                <a:lnTo>
                  <a:pt x="22371050" y="6070600"/>
                </a:lnTo>
                <a:lnTo>
                  <a:pt x="22307550" y="6118224"/>
                </a:lnTo>
                <a:lnTo>
                  <a:pt x="22240874" y="6162676"/>
                </a:lnTo>
                <a:lnTo>
                  <a:pt x="22186902" y="6194424"/>
                </a:lnTo>
                <a:lnTo>
                  <a:pt x="22136102" y="6226176"/>
                </a:lnTo>
                <a:lnTo>
                  <a:pt x="22167850" y="6223000"/>
                </a:lnTo>
                <a:lnTo>
                  <a:pt x="22199602" y="6216652"/>
                </a:lnTo>
                <a:lnTo>
                  <a:pt x="22272626" y="6194424"/>
                </a:lnTo>
                <a:lnTo>
                  <a:pt x="22355174" y="6165852"/>
                </a:lnTo>
                <a:lnTo>
                  <a:pt x="22444074" y="6130924"/>
                </a:lnTo>
                <a:lnTo>
                  <a:pt x="22536150" y="6089652"/>
                </a:lnTo>
                <a:lnTo>
                  <a:pt x="22628226" y="6045200"/>
                </a:lnTo>
                <a:lnTo>
                  <a:pt x="22818726" y="5949952"/>
                </a:lnTo>
                <a:lnTo>
                  <a:pt x="22990174" y="5854700"/>
                </a:lnTo>
                <a:lnTo>
                  <a:pt x="23136226" y="5772152"/>
                </a:lnTo>
                <a:lnTo>
                  <a:pt x="23269574" y="5692776"/>
                </a:lnTo>
                <a:close/>
                <a:moveTo>
                  <a:pt x="7197727" y="5232400"/>
                </a:moveTo>
                <a:lnTo>
                  <a:pt x="7235827" y="5235576"/>
                </a:lnTo>
                <a:lnTo>
                  <a:pt x="7273927" y="5238752"/>
                </a:lnTo>
                <a:lnTo>
                  <a:pt x="7312027" y="5241924"/>
                </a:lnTo>
                <a:lnTo>
                  <a:pt x="7346952" y="5251452"/>
                </a:lnTo>
                <a:lnTo>
                  <a:pt x="7381877" y="5260976"/>
                </a:lnTo>
                <a:lnTo>
                  <a:pt x="7416803" y="5273676"/>
                </a:lnTo>
                <a:lnTo>
                  <a:pt x="7448552" y="5289552"/>
                </a:lnTo>
                <a:lnTo>
                  <a:pt x="7480302" y="5305424"/>
                </a:lnTo>
                <a:lnTo>
                  <a:pt x="7512053" y="5327652"/>
                </a:lnTo>
                <a:lnTo>
                  <a:pt x="7540627" y="5349876"/>
                </a:lnTo>
                <a:lnTo>
                  <a:pt x="7569202" y="5378452"/>
                </a:lnTo>
                <a:lnTo>
                  <a:pt x="7597777" y="5407024"/>
                </a:lnTo>
                <a:lnTo>
                  <a:pt x="7620002" y="5435600"/>
                </a:lnTo>
                <a:lnTo>
                  <a:pt x="7635877" y="5461000"/>
                </a:lnTo>
                <a:lnTo>
                  <a:pt x="7651752" y="5489576"/>
                </a:lnTo>
                <a:lnTo>
                  <a:pt x="7664452" y="5518152"/>
                </a:lnTo>
                <a:lnTo>
                  <a:pt x="7673977" y="5546724"/>
                </a:lnTo>
                <a:lnTo>
                  <a:pt x="7683502" y="5572124"/>
                </a:lnTo>
                <a:lnTo>
                  <a:pt x="7693027" y="5629276"/>
                </a:lnTo>
                <a:lnTo>
                  <a:pt x="7689852" y="5683252"/>
                </a:lnTo>
                <a:lnTo>
                  <a:pt x="7683502" y="5737224"/>
                </a:lnTo>
                <a:lnTo>
                  <a:pt x="7673977" y="5788024"/>
                </a:lnTo>
                <a:lnTo>
                  <a:pt x="7664452" y="5842000"/>
                </a:lnTo>
                <a:lnTo>
                  <a:pt x="7648577" y="5889624"/>
                </a:lnTo>
                <a:lnTo>
                  <a:pt x="7632702" y="5940424"/>
                </a:lnTo>
                <a:lnTo>
                  <a:pt x="7616827" y="5988052"/>
                </a:lnTo>
                <a:lnTo>
                  <a:pt x="7594602" y="6035676"/>
                </a:lnTo>
                <a:lnTo>
                  <a:pt x="7572377" y="6080124"/>
                </a:lnTo>
                <a:lnTo>
                  <a:pt x="7550152" y="6127752"/>
                </a:lnTo>
                <a:lnTo>
                  <a:pt x="7524752" y="6169024"/>
                </a:lnTo>
                <a:lnTo>
                  <a:pt x="7496177" y="6213476"/>
                </a:lnTo>
                <a:lnTo>
                  <a:pt x="7435852" y="6299200"/>
                </a:lnTo>
                <a:lnTo>
                  <a:pt x="7369177" y="6378576"/>
                </a:lnTo>
                <a:lnTo>
                  <a:pt x="7299327" y="6457952"/>
                </a:lnTo>
                <a:lnTo>
                  <a:pt x="7226302" y="6530976"/>
                </a:lnTo>
                <a:lnTo>
                  <a:pt x="7150103" y="6604000"/>
                </a:lnTo>
                <a:lnTo>
                  <a:pt x="7070727" y="6677024"/>
                </a:lnTo>
                <a:lnTo>
                  <a:pt x="6908802" y="6810376"/>
                </a:lnTo>
                <a:lnTo>
                  <a:pt x="6746877" y="6943724"/>
                </a:lnTo>
                <a:lnTo>
                  <a:pt x="6518278" y="7115176"/>
                </a:lnTo>
                <a:lnTo>
                  <a:pt x="6410327" y="7204076"/>
                </a:lnTo>
                <a:lnTo>
                  <a:pt x="6305552" y="7289800"/>
                </a:lnTo>
                <a:lnTo>
                  <a:pt x="6162677" y="7385052"/>
                </a:lnTo>
                <a:lnTo>
                  <a:pt x="6019802" y="7470776"/>
                </a:lnTo>
                <a:lnTo>
                  <a:pt x="5870577" y="7556500"/>
                </a:lnTo>
                <a:lnTo>
                  <a:pt x="5718177" y="7635876"/>
                </a:lnTo>
                <a:lnTo>
                  <a:pt x="5565778" y="7712076"/>
                </a:lnTo>
                <a:lnTo>
                  <a:pt x="5410204" y="7781924"/>
                </a:lnTo>
                <a:lnTo>
                  <a:pt x="5308603" y="7820024"/>
                </a:lnTo>
                <a:lnTo>
                  <a:pt x="5235579" y="7848600"/>
                </a:lnTo>
                <a:lnTo>
                  <a:pt x="5175253" y="7870824"/>
                </a:lnTo>
                <a:lnTo>
                  <a:pt x="5273678" y="7820024"/>
                </a:lnTo>
                <a:lnTo>
                  <a:pt x="5368928" y="7762876"/>
                </a:lnTo>
                <a:lnTo>
                  <a:pt x="5454653" y="7708900"/>
                </a:lnTo>
                <a:lnTo>
                  <a:pt x="5543553" y="7651752"/>
                </a:lnTo>
                <a:lnTo>
                  <a:pt x="5626102" y="7594600"/>
                </a:lnTo>
                <a:lnTo>
                  <a:pt x="5711827" y="7531100"/>
                </a:lnTo>
                <a:lnTo>
                  <a:pt x="5791202" y="7464424"/>
                </a:lnTo>
                <a:lnTo>
                  <a:pt x="5873752" y="7397752"/>
                </a:lnTo>
                <a:lnTo>
                  <a:pt x="5949953" y="7327900"/>
                </a:lnTo>
                <a:lnTo>
                  <a:pt x="6026152" y="7258052"/>
                </a:lnTo>
                <a:lnTo>
                  <a:pt x="6102352" y="7181852"/>
                </a:lnTo>
                <a:lnTo>
                  <a:pt x="6175377" y="7108824"/>
                </a:lnTo>
                <a:lnTo>
                  <a:pt x="6245227" y="7029452"/>
                </a:lnTo>
                <a:lnTo>
                  <a:pt x="6311902" y="6953252"/>
                </a:lnTo>
                <a:lnTo>
                  <a:pt x="6378577" y="6870700"/>
                </a:lnTo>
                <a:lnTo>
                  <a:pt x="6445252" y="6791324"/>
                </a:lnTo>
                <a:lnTo>
                  <a:pt x="6505577" y="6705600"/>
                </a:lnTo>
                <a:lnTo>
                  <a:pt x="6565903" y="6623052"/>
                </a:lnTo>
                <a:lnTo>
                  <a:pt x="6648452" y="6511924"/>
                </a:lnTo>
                <a:lnTo>
                  <a:pt x="6683377" y="6461124"/>
                </a:lnTo>
                <a:lnTo>
                  <a:pt x="6715127" y="6410324"/>
                </a:lnTo>
                <a:lnTo>
                  <a:pt x="6756402" y="6343652"/>
                </a:lnTo>
                <a:lnTo>
                  <a:pt x="6788152" y="6280152"/>
                </a:lnTo>
                <a:lnTo>
                  <a:pt x="6816727" y="6216652"/>
                </a:lnTo>
                <a:lnTo>
                  <a:pt x="6838952" y="6159500"/>
                </a:lnTo>
                <a:lnTo>
                  <a:pt x="6854827" y="6105524"/>
                </a:lnTo>
                <a:lnTo>
                  <a:pt x="6867527" y="6051552"/>
                </a:lnTo>
                <a:lnTo>
                  <a:pt x="6877053" y="6000752"/>
                </a:lnTo>
                <a:lnTo>
                  <a:pt x="6880227" y="5956300"/>
                </a:lnTo>
                <a:lnTo>
                  <a:pt x="6883402" y="5908676"/>
                </a:lnTo>
                <a:lnTo>
                  <a:pt x="6880227" y="5867400"/>
                </a:lnTo>
                <a:lnTo>
                  <a:pt x="6873877" y="5829300"/>
                </a:lnTo>
                <a:lnTo>
                  <a:pt x="6867527" y="5791200"/>
                </a:lnTo>
                <a:lnTo>
                  <a:pt x="6854827" y="5756276"/>
                </a:lnTo>
                <a:lnTo>
                  <a:pt x="6842127" y="5724524"/>
                </a:lnTo>
                <a:lnTo>
                  <a:pt x="6826252" y="5692776"/>
                </a:lnTo>
                <a:lnTo>
                  <a:pt x="6810378" y="5667376"/>
                </a:lnTo>
                <a:lnTo>
                  <a:pt x="6794502" y="5638800"/>
                </a:lnTo>
                <a:lnTo>
                  <a:pt x="6775452" y="5616576"/>
                </a:lnTo>
                <a:lnTo>
                  <a:pt x="6734177" y="5575300"/>
                </a:lnTo>
                <a:lnTo>
                  <a:pt x="6696077" y="5540376"/>
                </a:lnTo>
                <a:lnTo>
                  <a:pt x="6657977" y="5514976"/>
                </a:lnTo>
                <a:lnTo>
                  <a:pt x="6623052" y="5495924"/>
                </a:lnTo>
                <a:lnTo>
                  <a:pt x="6597652" y="5480052"/>
                </a:lnTo>
                <a:lnTo>
                  <a:pt x="6572252" y="5470524"/>
                </a:lnTo>
                <a:lnTo>
                  <a:pt x="6594477" y="5445124"/>
                </a:lnTo>
                <a:lnTo>
                  <a:pt x="6619877" y="5422900"/>
                </a:lnTo>
                <a:lnTo>
                  <a:pt x="6645277" y="5400676"/>
                </a:lnTo>
                <a:lnTo>
                  <a:pt x="6673852" y="5381624"/>
                </a:lnTo>
                <a:lnTo>
                  <a:pt x="6731002" y="5346700"/>
                </a:lnTo>
                <a:lnTo>
                  <a:pt x="6791328" y="5318124"/>
                </a:lnTo>
                <a:lnTo>
                  <a:pt x="6851652" y="5292724"/>
                </a:lnTo>
                <a:lnTo>
                  <a:pt x="6911977" y="5273676"/>
                </a:lnTo>
                <a:lnTo>
                  <a:pt x="6972302" y="5257800"/>
                </a:lnTo>
                <a:lnTo>
                  <a:pt x="7032627" y="5248276"/>
                </a:lnTo>
                <a:lnTo>
                  <a:pt x="7115177" y="5235576"/>
                </a:lnTo>
                <a:lnTo>
                  <a:pt x="7197727" y="5232400"/>
                </a:lnTo>
                <a:close/>
                <a:moveTo>
                  <a:pt x="4940302" y="5194300"/>
                </a:moveTo>
                <a:lnTo>
                  <a:pt x="5003804" y="5194300"/>
                </a:lnTo>
                <a:lnTo>
                  <a:pt x="5064128" y="5197476"/>
                </a:lnTo>
                <a:lnTo>
                  <a:pt x="5127628" y="5203824"/>
                </a:lnTo>
                <a:lnTo>
                  <a:pt x="5191127" y="5213352"/>
                </a:lnTo>
                <a:lnTo>
                  <a:pt x="5254629" y="5226052"/>
                </a:lnTo>
                <a:lnTo>
                  <a:pt x="5314952" y="5245100"/>
                </a:lnTo>
                <a:lnTo>
                  <a:pt x="5375278" y="5267324"/>
                </a:lnTo>
                <a:lnTo>
                  <a:pt x="5438779" y="5295900"/>
                </a:lnTo>
                <a:lnTo>
                  <a:pt x="5499102" y="5327652"/>
                </a:lnTo>
                <a:lnTo>
                  <a:pt x="5556253" y="5368924"/>
                </a:lnTo>
                <a:lnTo>
                  <a:pt x="5597527" y="5397500"/>
                </a:lnTo>
                <a:lnTo>
                  <a:pt x="5632452" y="5432424"/>
                </a:lnTo>
                <a:lnTo>
                  <a:pt x="5661027" y="5467352"/>
                </a:lnTo>
                <a:lnTo>
                  <a:pt x="5689602" y="5502276"/>
                </a:lnTo>
                <a:lnTo>
                  <a:pt x="5711827" y="5540376"/>
                </a:lnTo>
                <a:lnTo>
                  <a:pt x="5730877" y="5581652"/>
                </a:lnTo>
                <a:lnTo>
                  <a:pt x="5743577" y="5622924"/>
                </a:lnTo>
                <a:lnTo>
                  <a:pt x="5756277" y="5664200"/>
                </a:lnTo>
                <a:lnTo>
                  <a:pt x="5762627" y="5708652"/>
                </a:lnTo>
                <a:lnTo>
                  <a:pt x="5765802" y="5753100"/>
                </a:lnTo>
                <a:lnTo>
                  <a:pt x="5768977" y="5800724"/>
                </a:lnTo>
                <a:lnTo>
                  <a:pt x="5765802" y="5848352"/>
                </a:lnTo>
                <a:lnTo>
                  <a:pt x="5759452" y="5895976"/>
                </a:lnTo>
                <a:lnTo>
                  <a:pt x="5749928" y="5943600"/>
                </a:lnTo>
                <a:lnTo>
                  <a:pt x="5737227" y="5991224"/>
                </a:lnTo>
                <a:lnTo>
                  <a:pt x="5724528" y="6042024"/>
                </a:lnTo>
                <a:lnTo>
                  <a:pt x="5702302" y="6118224"/>
                </a:lnTo>
                <a:lnTo>
                  <a:pt x="5676902" y="6194424"/>
                </a:lnTo>
                <a:lnTo>
                  <a:pt x="5648329" y="6267452"/>
                </a:lnTo>
                <a:lnTo>
                  <a:pt x="5616577" y="6337300"/>
                </a:lnTo>
                <a:lnTo>
                  <a:pt x="5581652" y="6403976"/>
                </a:lnTo>
                <a:lnTo>
                  <a:pt x="5543553" y="6470652"/>
                </a:lnTo>
                <a:lnTo>
                  <a:pt x="5502278" y="6530976"/>
                </a:lnTo>
                <a:lnTo>
                  <a:pt x="5461003" y="6591300"/>
                </a:lnTo>
                <a:lnTo>
                  <a:pt x="5419729" y="6648452"/>
                </a:lnTo>
                <a:lnTo>
                  <a:pt x="5375278" y="6702424"/>
                </a:lnTo>
                <a:lnTo>
                  <a:pt x="5330828" y="6750052"/>
                </a:lnTo>
                <a:lnTo>
                  <a:pt x="5286378" y="6797676"/>
                </a:lnTo>
                <a:lnTo>
                  <a:pt x="5203828" y="6883400"/>
                </a:lnTo>
                <a:lnTo>
                  <a:pt x="5127628" y="6953252"/>
                </a:lnTo>
                <a:lnTo>
                  <a:pt x="5060954" y="7010400"/>
                </a:lnTo>
                <a:lnTo>
                  <a:pt x="5006977" y="7048500"/>
                </a:lnTo>
                <a:lnTo>
                  <a:pt x="4959353" y="7083424"/>
                </a:lnTo>
                <a:lnTo>
                  <a:pt x="4927604" y="7108824"/>
                </a:lnTo>
                <a:lnTo>
                  <a:pt x="4892678" y="7131052"/>
                </a:lnTo>
                <a:lnTo>
                  <a:pt x="4860928" y="7153276"/>
                </a:lnTo>
                <a:lnTo>
                  <a:pt x="4826003" y="7172324"/>
                </a:lnTo>
                <a:lnTo>
                  <a:pt x="4752979" y="7207252"/>
                </a:lnTo>
                <a:lnTo>
                  <a:pt x="4683128" y="7232652"/>
                </a:lnTo>
                <a:lnTo>
                  <a:pt x="4610103" y="7254876"/>
                </a:lnTo>
                <a:lnTo>
                  <a:pt x="4540254" y="7267576"/>
                </a:lnTo>
                <a:lnTo>
                  <a:pt x="4473577" y="7277100"/>
                </a:lnTo>
                <a:lnTo>
                  <a:pt x="4410078" y="7283452"/>
                </a:lnTo>
                <a:lnTo>
                  <a:pt x="4346578" y="7286624"/>
                </a:lnTo>
                <a:lnTo>
                  <a:pt x="4292603" y="7286624"/>
                </a:lnTo>
                <a:lnTo>
                  <a:pt x="4200529" y="7280276"/>
                </a:lnTo>
                <a:lnTo>
                  <a:pt x="4140203" y="7270752"/>
                </a:lnTo>
                <a:lnTo>
                  <a:pt x="4117978" y="7267576"/>
                </a:lnTo>
                <a:lnTo>
                  <a:pt x="4076703" y="7248524"/>
                </a:lnTo>
                <a:lnTo>
                  <a:pt x="4044953" y="7229476"/>
                </a:lnTo>
                <a:lnTo>
                  <a:pt x="4016379" y="7204076"/>
                </a:lnTo>
                <a:lnTo>
                  <a:pt x="3997329" y="7178676"/>
                </a:lnTo>
                <a:lnTo>
                  <a:pt x="3981452" y="7150100"/>
                </a:lnTo>
                <a:lnTo>
                  <a:pt x="3971927" y="7124700"/>
                </a:lnTo>
                <a:lnTo>
                  <a:pt x="3965578" y="7096124"/>
                </a:lnTo>
                <a:lnTo>
                  <a:pt x="3962403" y="7067552"/>
                </a:lnTo>
                <a:lnTo>
                  <a:pt x="3962403" y="7038976"/>
                </a:lnTo>
                <a:lnTo>
                  <a:pt x="3965578" y="7013576"/>
                </a:lnTo>
                <a:lnTo>
                  <a:pt x="3975103" y="6969124"/>
                </a:lnTo>
                <a:lnTo>
                  <a:pt x="3981452" y="6940552"/>
                </a:lnTo>
                <a:lnTo>
                  <a:pt x="3987803" y="6931024"/>
                </a:lnTo>
                <a:lnTo>
                  <a:pt x="4006854" y="6981824"/>
                </a:lnTo>
                <a:lnTo>
                  <a:pt x="4029078" y="7026276"/>
                </a:lnTo>
                <a:lnTo>
                  <a:pt x="4057653" y="7061200"/>
                </a:lnTo>
                <a:lnTo>
                  <a:pt x="4086229" y="7089776"/>
                </a:lnTo>
                <a:lnTo>
                  <a:pt x="4117978" y="7115176"/>
                </a:lnTo>
                <a:lnTo>
                  <a:pt x="4152904" y="7131052"/>
                </a:lnTo>
                <a:lnTo>
                  <a:pt x="4184653" y="7143752"/>
                </a:lnTo>
                <a:lnTo>
                  <a:pt x="4219579" y="7153276"/>
                </a:lnTo>
                <a:lnTo>
                  <a:pt x="4251328" y="7159624"/>
                </a:lnTo>
                <a:lnTo>
                  <a:pt x="4279903" y="7162800"/>
                </a:lnTo>
                <a:lnTo>
                  <a:pt x="4330702" y="7162800"/>
                </a:lnTo>
                <a:lnTo>
                  <a:pt x="4365629" y="7156452"/>
                </a:lnTo>
                <a:lnTo>
                  <a:pt x="4378328" y="7156452"/>
                </a:lnTo>
                <a:lnTo>
                  <a:pt x="4413253" y="7159624"/>
                </a:lnTo>
                <a:lnTo>
                  <a:pt x="4448177" y="7159624"/>
                </a:lnTo>
                <a:lnTo>
                  <a:pt x="4483103" y="7156452"/>
                </a:lnTo>
                <a:lnTo>
                  <a:pt x="4518028" y="7153276"/>
                </a:lnTo>
                <a:lnTo>
                  <a:pt x="4584703" y="7140576"/>
                </a:lnTo>
                <a:lnTo>
                  <a:pt x="4648202" y="7124700"/>
                </a:lnTo>
                <a:lnTo>
                  <a:pt x="4711703" y="7099300"/>
                </a:lnTo>
                <a:lnTo>
                  <a:pt x="4772028" y="7070724"/>
                </a:lnTo>
                <a:lnTo>
                  <a:pt x="4829179" y="7042152"/>
                </a:lnTo>
                <a:lnTo>
                  <a:pt x="4879978" y="7010400"/>
                </a:lnTo>
                <a:lnTo>
                  <a:pt x="4927604" y="6975476"/>
                </a:lnTo>
                <a:lnTo>
                  <a:pt x="4972053" y="6943724"/>
                </a:lnTo>
                <a:lnTo>
                  <a:pt x="5041904" y="6886576"/>
                </a:lnTo>
                <a:lnTo>
                  <a:pt x="5086353" y="6845300"/>
                </a:lnTo>
                <a:lnTo>
                  <a:pt x="5099052" y="6829424"/>
                </a:lnTo>
                <a:lnTo>
                  <a:pt x="5048252" y="6867524"/>
                </a:lnTo>
                <a:lnTo>
                  <a:pt x="5000628" y="6902452"/>
                </a:lnTo>
                <a:lnTo>
                  <a:pt x="4949828" y="6934200"/>
                </a:lnTo>
                <a:lnTo>
                  <a:pt x="4902203" y="6959600"/>
                </a:lnTo>
                <a:lnTo>
                  <a:pt x="4854578" y="6985000"/>
                </a:lnTo>
                <a:lnTo>
                  <a:pt x="4810129" y="7007224"/>
                </a:lnTo>
                <a:lnTo>
                  <a:pt x="4765677" y="7023100"/>
                </a:lnTo>
                <a:lnTo>
                  <a:pt x="4721228" y="7038976"/>
                </a:lnTo>
                <a:lnTo>
                  <a:pt x="4679953" y="7051676"/>
                </a:lnTo>
                <a:lnTo>
                  <a:pt x="4638678" y="7061200"/>
                </a:lnTo>
                <a:lnTo>
                  <a:pt x="4562478" y="7077076"/>
                </a:lnTo>
                <a:lnTo>
                  <a:pt x="4492628" y="7080252"/>
                </a:lnTo>
                <a:lnTo>
                  <a:pt x="4425953" y="7080252"/>
                </a:lnTo>
                <a:lnTo>
                  <a:pt x="4368803" y="7077076"/>
                </a:lnTo>
                <a:lnTo>
                  <a:pt x="4318004" y="7067552"/>
                </a:lnTo>
                <a:lnTo>
                  <a:pt x="4273552" y="7054852"/>
                </a:lnTo>
                <a:lnTo>
                  <a:pt x="4235453" y="7042152"/>
                </a:lnTo>
                <a:lnTo>
                  <a:pt x="4206878" y="7029452"/>
                </a:lnTo>
                <a:lnTo>
                  <a:pt x="4184653" y="7019924"/>
                </a:lnTo>
                <a:lnTo>
                  <a:pt x="4165603" y="7010400"/>
                </a:lnTo>
                <a:lnTo>
                  <a:pt x="4140203" y="6988176"/>
                </a:lnTo>
                <a:lnTo>
                  <a:pt x="4114804" y="6965952"/>
                </a:lnTo>
                <a:lnTo>
                  <a:pt x="4095753" y="6943724"/>
                </a:lnTo>
                <a:lnTo>
                  <a:pt x="4079877" y="6921500"/>
                </a:lnTo>
                <a:lnTo>
                  <a:pt x="4067178" y="6896100"/>
                </a:lnTo>
                <a:lnTo>
                  <a:pt x="4054478" y="6873876"/>
                </a:lnTo>
                <a:lnTo>
                  <a:pt x="4048127" y="6848476"/>
                </a:lnTo>
                <a:lnTo>
                  <a:pt x="4041778" y="6826252"/>
                </a:lnTo>
                <a:lnTo>
                  <a:pt x="4038602" y="6800852"/>
                </a:lnTo>
                <a:lnTo>
                  <a:pt x="4038602" y="6775452"/>
                </a:lnTo>
                <a:lnTo>
                  <a:pt x="4041778" y="6753224"/>
                </a:lnTo>
                <a:lnTo>
                  <a:pt x="4044953" y="6731000"/>
                </a:lnTo>
                <a:lnTo>
                  <a:pt x="4054478" y="6683376"/>
                </a:lnTo>
                <a:lnTo>
                  <a:pt x="4073528" y="6638924"/>
                </a:lnTo>
                <a:lnTo>
                  <a:pt x="4092578" y="6600824"/>
                </a:lnTo>
                <a:lnTo>
                  <a:pt x="4114804" y="6562724"/>
                </a:lnTo>
                <a:lnTo>
                  <a:pt x="4140203" y="6527800"/>
                </a:lnTo>
                <a:lnTo>
                  <a:pt x="4162428" y="6499224"/>
                </a:lnTo>
                <a:lnTo>
                  <a:pt x="4197352" y="6457952"/>
                </a:lnTo>
                <a:lnTo>
                  <a:pt x="4213228" y="6442076"/>
                </a:lnTo>
                <a:lnTo>
                  <a:pt x="4254503" y="6413500"/>
                </a:lnTo>
                <a:lnTo>
                  <a:pt x="4292603" y="6388100"/>
                </a:lnTo>
                <a:lnTo>
                  <a:pt x="4327529" y="6372224"/>
                </a:lnTo>
                <a:lnTo>
                  <a:pt x="4356104" y="6356352"/>
                </a:lnTo>
                <a:lnTo>
                  <a:pt x="4381502" y="6350000"/>
                </a:lnTo>
                <a:lnTo>
                  <a:pt x="4400553" y="6343652"/>
                </a:lnTo>
                <a:lnTo>
                  <a:pt x="4419603" y="6340476"/>
                </a:lnTo>
                <a:lnTo>
                  <a:pt x="4435478" y="6343652"/>
                </a:lnTo>
                <a:lnTo>
                  <a:pt x="4445003" y="6343652"/>
                </a:lnTo>
                <a:lnTo>
                  <a:pt x="4454528" y="6350000"/>
                </a:lnTo>
                <a:lnTo>
                  <a:pt x="4467228" y="6359524"/>
                </a:lnTo>
                <a:lnTo>
                  <a:pt x="4473577" y="6369052"/>
                </a:lnTo>
                <a:lnTo>
                  <a:pt x="4473577" y="6375400"/>
                </a:lnTo>
                <a:lnTo>
                  <a:pt x="4422778" y="6410324"/>
                </a:lnTo>
                <a:lnTo>
                  <a:pt x="4384679" y="6448424"/>
                </a:lnTo>
                <a:lnTo>
                  <a:pt x="4352928" y="6483352"/>
                </a:lnTo>
                <a:lnTo>
                  <a:pt x="4327529" y="6518276"/>
                </a:lnTo>
                <a:lnTo>
                  <a:pt x="4308479" y="6550024"/>
                </a:lnTo>
                <a:lnTo>
                  <a:pt x="4298954" y="6581776"/>
                </a:lnTo>
                <a:lnTo>
                  <a:pt x="4292603" y="6610352"/>
                </a:lnTo>
                <a:lnTo>
                  <a:pt x="4289427" y="6638924"/>
                </a:lnTo>
                <a:lnTo>
                  <a:pt x="4289427" y="6664324"/>
                </a:lnTo>
                <a:lnTo>
                  <a:pt x="4292603" y="6686552"/>
                </a:lnTo>
                <a:lnTo>
                  <a:pt x="4298954" y="6705600"/>
                </a:lnTo>
                <a:lnTo>
                  <a:pt x="4302128" y="6721476"/>
                </a:lnTo>
                <a:lnTo>
                  <a:pt x="4314827" y="6746876"/>
                </a:lnTo>
                <a:lnTo>
                  <a:pt x="4321178" y="6753224"/>
                </a:lnTo>
                <a:lnTo>
                  <a:pt x="4362453" y="6778624"/>
                </a:lnTo>
                <a:lnTo>
                  <a:pt x="4400553" y="6800852"/>
                </a:lnTo>
                <a:lnTo>
                  <a:pt x="4441829" y="6819900"/>
                </a:lnTo>
                <a:lnTo>
                  <a:pt x="4479928" y="6829424"/>
                </a:lnTo>
                <a:lnTo>
                  <a:pt x="4514852" y="6838952"/>
                </a:lnTo>
                <a:lnTo>
                  <a:pt x="4552953" y="6842124"/>
                </a:lnTo>
                <a:lnTo>
                  <a:pt x="4587878" y="6842124"/>
                </a:lnTo>
                <a:lnTo>
                  <a:pt x="4622802" y="6838952"/>
                </a:lnTo>
                <a:lnTo>
                  <a:pt x="4654554" y="6835776"/>
                </a:lnTo>
                <a:lnTo>
                  <a:pt x="4686303" y="6826252"/>
                </a:lnTo>
                <a:lnTo>
                  <a:pt x="4718053" y="6813552"/>
                </a:lnTo>
                <a:lnTo>
                  <a:pt x="4749803" y="6800852"/>
                </a:lnTo>
                <a:lnTo>
                  <a:pt x="4778378" y="6784976"/>
                </a:lnTo>
                <a:lnTo>
                  <a:pt x="4803778" y="6765924"/>
                </a:lnTo>
                <a:lnTo>
                  <a:pt x="4854578" y="6727824"/>
                </a:lnTo>
                <a:lnTo>
                  <a:pt x="4902203" y="6686552"/>
                </a:lnTo>
                <a:lnTo>
                  <a:pt x="4943478" y="6642100"/>
                </a:lnTo>
                <a:lnTo>
                  <a:pt x="4978403" y="6597652"/>
                </a:lnTo>
                <a:lnTo>
                  <a:pt x="5006977" y="6556376"/>
                </a:lnTo>
                <a:lnTo>
                  <a:pt x="5045078" y="6492876"/>
                </a:lnTo>
                <a:lnTo>
                  <a:pt x="5060954" y="6470652"/>
                </a:lnTo>
                <a:lnTo>
                  <a:pt x="5076828" y="6426200"/>
                </a:lnTo>
                <a:lnTo>
                  <a:pt x="5092703" y="6381752"/>
                </a:lnTo>
                <a:lnTo>
                  <a:pt x="5105403" y="6340476"/>
                </a:lnTo>
                <a:lnTo>
                  <a:pt x="5111753" y="6299200"/>
                </a:lnTo>
                <a:lnTo>
                  <a:pt x="5118103" y="6257924"/>
                </a:lnTo>
                <a:lnTo>
                  <a:pt x="5121278" y="6216652"/>
                </a:lnTo>
                <a:lnTo>
                  <a:pt x="5121278" y="6178552"/>
                </a:lnTo>
                <a:lnTo>
                  <a:pt x="5118103" y="6140452"/>
                </a:lnTo>
                <a:lnTo>
                  <a:pt x="5114927" y="6102352"/>
                </a:lnTo>
                <a:lnTo>
                  <a:pt x="5108578" y="6067424"/>
                </a:lnTo>
                <a:lnTo>
                  <a:pt x="5092703" y="5997576"/>
                </a:lnTo>
                <a:lnTo>
                  <a:pt x="5070479" y="5934076"/>
                </a:lnTo>
                <a:lnTo>
                  <a:pt x="5041904" y="5873752"/>
                </a:lnTo>
                <a:lnTo>
                  <a:pt x="5013328" y="5819776"/>
                </a:lnTo>
                <a:lnTo>
                  <a:pt x="4984754" y="5772152"/>
                </a:lnTo>
                <a:lnTo>
                  <a:pt x="4953003" y="5730876"/>
                </a:lnTo>
                <a:lnTo>
                  <a:pt x="4927604" y="5695952"/>
                </a:lnTo>
                <a:lnTo>
                  <a:pt x="4883153" y="5648324"/>
                </a:lnTo>
                <a:lnTo>
                  <a:pt x="4867279" y="5629276"/>
                </a:lnTo>
                <a:lnTo>
                  <a:pt x="4822827" y="5594352"/>
                </a:lnTo>
                <a:lnTo>
                  <a:pt x="4778378" y="5565776"/>
                </a:lnTo>
                <a:lnTo>
                  <a:pt x="4733929" y="5540376"/>
                </a:lnTo>
                <a:lnTo>
                  <a:pt x="4692653" y="5518152"/>
                </a:lnTo>
                <a:lnTo>
                  <a:pt x="4648202" y="5499100"/>
                </a:lnTo>
                <a:lnTo>
                  <a:pt x="4606929" y="5483224"/>
                </a:lnTo>
                <a:lnTo>
                  <a:pt x="4568829" y="5470524"/>
                </a:lnTo>
                <a:lnTo>
                  <a:pt x="4527553" y="5464176"/>
                </a:lnTo>
                <a:lnTo>
                  <a:pt x="4489452" y="5457824"/>
                </a:lnTo>
                <a:lnTo>
                  <a:pt x="4451354" y="5451476"/>
                </a:lnTo>
                <a:lnTo>
                  <a:pt x="4416428" y="5451476"/>
                </a:lnTo>
                <a:lnTo>
                  <a:pt x="4381502" y="5451476"/>
                </a:lnTo>
                <a:lnTo>
                  <a:pt x="4346578" y="5454652"/>
                </a:lnTo>
                <a:lnTo>
                  <a:pt x="4314827" y="5461000"/>
                </a:lnTo>
                <a:lnTo>
                  <a:pt x="4251328" y="5473700"/>
                </a:lnTo>
                <a:lnTo>
                  <a:pt x="4194178" y="5492752"/>
                </a:lnTo>
                <a:lnTo>
                  <a:pt x="4143379" y="5511800"/>
                </a:lnTo>
                <a:lnTo>
                  <a:pt x="4102103" y="5534024"/>
                </a:lnTo>
                <a:lnTo>
                  <a:pt x="4064002" y="5556252"/>
                </a:lnTo>
                <a:lnTo>
                  <a:pt x="4035429" y="5575300"/>
                </a:lnTo>
                <a:lnTo>
                  <a:pt x="4013202" y="5591176"/>
                </a:lnTo>
                <a:lnTo>
                  <a:pt x="3994153" y="5607052"/>
                </a:lnTo>
                <a:lnTo>
                  <a:pt x="4022727" y="5568952"/>
                </a:lnTo>
                <a:lnTo>
                  <a:pt x="4051303" y="5530852"/>
                </a:lnTo>
                <a:lnTo>
                  <a:pt x="4083053" y="5495924"/>
                </a:lnTo>
                <a:lnTo>
                  <a:pt x="4114804" y="5464176"/>
                </a:lnTo>
                <a:lnTo>
                  <a:pt x="4149728" y="5432424"/>
                </a:lnTo>
                <a:lnTo>
                  <a:pt x="4184653" y="5407024"/>
                </a:lnTo>
                <a:lnTo>
                  <a:pt x="4219579" y="5381624"/>
                </a:lnTo>
                <a:lnTo>
                  <a:pt x="4257678" y="5356224"/>
                </a:lnTo>
                <a:lnTo>
                  <a:pt x="4295778" y="5337176"/>
                </a:lnTo>
                <a:lnTo>
                  <a:pt x="4333878" y="5318124"/>
                </a:lnTo>
                <a:lnTo>
                  <a:pt x="4410078" y="5286376"/>
                </a:lnTo>
                <a:lnTo>
                  <a:pt x="4486278" y="5257800"/>
                </a:lnTo>
                <a:lnTo>
                  <a:pt x="4559304" y="5238752"/>
                </a:lnTo>
                <a:lnTo>
                  <a:pt x="4686303" y="5216524"/>
                </a:lnTo>
                <a:lnTo>
                  <a:pt x="4813303" y="5200652"/>
                </a:lnTo>
                <a:lnTo>
                  <a:pt x="4876804" y="5197476"/>
                </a:lnTo>
                <a:lnTo>
                  <a:pt x="4940302" y="5194300"/>
                </a:lnTo>
                <a:close/>
                <a:moveTo>
                  <a:pt x="9153525" y="4184652"/>
                </a:moveTo>
                <a:lnTo>
                  <a:pt x="9201151" y="4289424"/>
                </a:lnTo>
                <a:lnTo>
                  <a:pt x="9245600" y="4394200"/>
                </a:lnTo>
                <a:lnTo>
                  <a:pt x="9280525" y="4498976"/>
                </a:lnTo>
                <a:lnTo>
                  <a:pt x="9312275" y="4597400"/>
                </a:lnTo>
                <a:lnTo>
                  <a:pt x="9337676" y="4695824"/>
                </a:lnTo>
                <a:lnTo>
                  <a:pt x="9359901" y="4794252"/>
                </a:lnTo>
                <a:lnTo>
                  <a:pt x="9378950" y="4886324"/>
                </a:lnTo>
                <a:lnTo>
                  <a:pt x="9391650" y="4978400"/>
                </a:lnTo>
                <a:lnTo>
                  <a:pt x="9404351" y="5070476"/>
                </a:lnTo>
                <a:lnTo>
                  <a:pt x="9407525" y="5156200"/>
                </a:lnTo>
                <a:lnTo>
                  <a:pt x="9410701" y="5238752"/>
                </a:lnTo>
                <a:lnTo>
                  <a:pt x="9410701" y="5321300"/>
                </a:lnTo>
                <a:lnTo>
                  <a:pt x="9410701" y="5400676"/>
                </a:lnTo>
                <a:lnTo>
                  <a:pt x="9404351" y="5476876"/>
                </a:lnTo>
                <a:lnTo>
                  <a:pt x="9394825" y="5549900"/>
                </a:lnTo>
                <a:lnTo>
                  <a:pt x="9385300" y="5619752"/>
                </a:lnTo>
                <a:lnTo>
                  <a:pt x="9366250" y="5727700"/>
                </a:lnTo>
                <a:lnTo>
                  <a:pt x="9344026" y="5822952"/>
                </a:lnTo>
                <a:lnTo>
                  <a:pt x="9318625" y="5911852"/>
                </a:lnTo>
                <a:lnTo>
                  <a:pt x="9290050" y="6000752"/>
                </a:lnTo>
                <a:lnTo>
                  <a:pt x="9258300" y="6086476"/>
                </a:lnTo>
                <a:lnTo>
                  <a:pt x="9223375" y="6172200"/>
                </a:lnTo>
                <a:lnTo>
                  <a:pt x="9185275" y="6254752"/>
                </a:lnTo>
                <a:lnTo>
                  <a:pt x="9147175" y="6337300"/>
                </a:lnTo>
                <a:lnTo>
                  <a:pt x="9102725" y="6416676"/>
                </a:lnTo>
                <a:lnTo>
                  <a:pt x="9055100" y="6496052"/>
                </a:lnTo>
                <a:lnTo>
                  <a:pt x="9007475" y="6575424"/>
                </a:lnTo>
                <a:lnTo>
                  <a:pt x="8956675" y="6651624"/>
                </a:lnTo>
                <a:lnTo>
                  <a:pt x="8902700" y="6727824"/>
                </a:lnTo>
                <a:lnTo>
                  <a:pt x="8848725" y="6800852"/>
                </a:lnTo>
                <a:lnTo>
                  <a:pt x="8788400" y="6873876"/>
                </a:lnTo>
                <a:lnTo>
                  <a:pt x="8731250" y="6946900"/>
                </a:lnTo>
                <a:lnTo>
                  <a:pt x="8667750" y="7016752"/>
                </a:lnTo>
                <a:lnTo>
                  <a:pt x="8604250" y="7083424"/>
                </a:lnTo>
                <a:lnTo>
                  <a:pt x="8496300" y="7191376"/>
                </a:lnTo>
                <a:lnTo>
                  <a:pt x="8388350" y="7292976"/>
                </a:lnTo>
                <a:lnTo>
                  <a:pt x="8299450" y="7372352"/>
                </a:lnTo>
                <a:lnTo>
                  <a:pt x="8207376" y="7448552"/>
                </a:lnTo>
                <a:lnTo>
                  <a:pt x="8112125" y="7521576"/>
                </a:lnTo>
                <a:lnTo>
                  <a:pt x="8013700" y="7591424"/>
                </a:lnTo>
                <a:lnTo>
                  <a:pt x="7915275" y="7661276"/>
                </a:lnTo>
                <a:lnTo>
                  <a:pt x="7813675" y="7724776"/>
                </a:lnTo>
                <a:lnTo>
                  <a:pt x="7610475" y="7851776"/>
                </a:lnTo>
                <a:lnTo>
                  <a:pt x="7334250" y="8016876"/>
                </a:lnTo>
                <a:lnTo>
                  <a:pt x="7213600" y="8077200"/>
                </a:lnTo>
                <a:lnTo>
                  <a:pt x="7099300" y="8143876"/>
                </a:lnTo>
                <a:lnTo>
                  <a:pt x="6985001" y="8213724"/>
                </a:lnTo>
                <a:lnTo>
                  <a:pt x="6873875" y="8283576"/>
                </a:lnTo>
                <a:lnTo>
                  <a:pt x="6765925" y="8362952"/>
                </a:lnTo>
                <a:lnTo>
                  <a:pt x="6661150" y="8442324"/>
                </a:lnTo>
                <a:lnTo>
                  <a:pt x="6559551" y="8524876"/>
                </a:lnTo>
                <a:lnTo>
                  <a:pt x="6461125" y="8610600"/>
                </a:lnTo>
                <a:lnTo>
                  <a:pt x="6365875" y="8702676"/>
                </a:lnTo>
                <a:lnTo>
                  <a:pt x="6276975" y="8797924"/>
                </a:lnTo>
                <a:lnTo>
                  <a:pt x="6188075" y="8896352"/>
                </a:lnTo>
                <a:lnTo>
                  <a:pt x="6105525" y="8997952"/>
                </a:lnTo>
                <a:lnTo>
                  <a:pt x="6026152" y="9102724"/>
                </a:lnTo>
                <a:lnTo>
                  <a:pt x="5949950" y="9210676"/>
                </a:lnTo>
                <a:lnTo>
                  <a:pt x="5876926" y="9324976"/>
                </a:lnTo>
                <a:lnTo>
                  <a:pt x="5810251" y="9442452"/>
                </a:lnTo>
                <a:lnTo>
                  <a:pt x="5851525" y="9413876"/>
                </a:lnTo>
                <a:lnTo>
                  <a:pt x="5892802" y="9388476"/>
                </a:lnTo>
                <a:lnTo>
                  <a:pt x="5981700" y="9340852"/>
                </a:lnTo>
                <a:lnTo>
                  <a:pt x="6153150" y="9258300"/>
                </a:lnTo>
                <a:lnTo>
                  <a:pt x="6238875" y="9217024"/>
                </a:lnTo>
                <a:lnTo>
                  <a:pt x="6280150" y="9191624"/>
                </a:lnTo>
                <a:lnTo>
                  <a:pt x="6321425" y="9166224"/>
                </a:lnTo>
                <a:lnTo>
                  <a:pt x="6359526" y="9137652"/>
                </a:lnTo>
                <a:lnTo>
                  <a:pt x="6400801" y="9105900"/>
                </a:lnTo>
                <a:lnTo>
                  <a:pt x="6435725" y="9070976"/>
                </a:lnTo>
                <a:lnTo>
                  <a:pt x="6473825" y="9029700"/>
                </a:lnTo>
                <a:lnTo>
                  <a:pt x="6454775" y="9061452"/>
                </a:lnTo>
                <a:lnTo>
                  <a:pt x="6435725" y="9086852"/>
                </a:lnTo>
                <a:lnTo>
                  <a:pt x="6391275" y="9137652"/>
                </a:lnTo>
                <a:lnTo>
                  <a:pt x="6346825" y="9182100"/>
                </a:lnTo>
                <a:lnTo>
                  <a:pt x="6296025" y="9223376"/>
                </a:lnTo>
                <a:lnTo>
                  <a:pt x="6242050" y="9258300"/>
                </a:lnTo>
                <a:lnTo>
                  <a:pt x="6188075" y="9290052"/>
                </a:lnTo>
                <a:lnTo>
                  <a:pt x="6130925" y="9321800"/>
                </a:lnTo>
                <a:lnTo>
                  <a:pt x="6070600" y="9350376"/>
                </a:lnTo>
                <a:lnTo>
                  <a:pt x="5953125" y="9404352"/>
                </a:lnTo>
                <a:lnTo>
                  <a:pt x="5838825" y="9458324"/>
                </a:lnTo>
                <a:lnTo>
                  <a:pt x="5784851" y="9486900"/>
                </a:lnTo>
                <a:lnTo>
                  <a:pt x="5730875" y="9518652"/>
                </a:lnTo>
                <a:lnTo>
                  <a:pt x="5680075" y="9553576"/>
                </a:lnTo>
                <a:lnTo>
                  <a:pt x="5635625" y="9591676"/>
                </a:lnTo>
                <a:lnTo>
                  <a:pt x="5549901" y="9648824"/>
                </a:lnTo>
                <a:lnTo>
                  <a:pt x="5508626" y="9680576"/>
                </a:lnTo>
                <a:lnTo>
                  <a:pt x="5470527" y="9712324"/>
                </a:lnTo>
                <a:lnTo>
                  <a:pt x="5368927" y="9788524"/>
                </a:lnTo>
                <a:lnTo>
                  <a:pt x="5270501" y="9867900"/>
                </a:lnTo>
                <a:lnTo>
                  <a:pt x="5200650" y="9921876"/>
                </a:lnTo>
                <a:lnTo>
                  <a:pt x="5133977" y="9979024"/>
                </a:lnTo>
                <a:lnTo>
                  <a:pt x="5067302" y="10036176"/>
                </a:lnTo>
                <a:lnTo>
                  <a:pt x="5000625" y="10093324"/>
                </a:lnTo>
                <a:lnTo>
                  <a:pt x="4892677" y="10191752"/>
                </a:lnTo>
                <a:lnTo>
                  <a:pt x="4791076" y="10287000"/>
                </a:lnTo>
                <a:lnTo>
                  <a:pt x="4635502" y="10442576"/>
                </a:lnTo>
                <a:lnTo>
                  <a:pt x="4489451" y="10598152"/>
                </a:lnTo>
                <a:lnTo>
                  <a:pt x="4356101" y="10750552"/>
                </a:lnTo>
                <a:lnTo>
                  <a:pt x="4232276" y="10902952"/>
                </a:lnTo>
                <a:lnTo>
                  <a:pt x="4117976" y="11055352"/>
                </a:lnTo>
                <a:lnTo>
                  <a:pt x="4013201" y="11201400"/>
                </a:lnTo>
                <a:lnTo>
                  <a:pt x="3917951" y="11347452"/>
                </a:lnTo>
                <a:lnTo>
                  <a:pt x="3829051" y="11493500"/>
                </a:lnTo>
                <a:lnTo>
                  <a:pt x="3752851" y="11633200"/>
                </a:lnTo>
                <a:lnTo>
                  <a:pt x="3679825" y="11772900"/>
                </a:lnTo>
                <a:lnTo>
                  <a:pt x="3616325" y="11906252"/>
                </a:lnTo>
                <a:lnTo>
                  <a:pt x="3559176" y="12036424"/>
                </a:lnTo>
                <a:lnTo>
                  <a:pt x="3508375" y="12163424"/>
                </a:lnTo>
                <a:lnTo>
                  <a:pt x="3463925" y="12287252"/>
                </a:lnTo>
                <a:lnTo>
                  <a:pt x="3425826" y="12407900"/>
                </a:lnTo>
                <a:lnTo>
                  <a:pt x="3394076" y="12522200"/>
                </a:lnTo>
                <a:lnTo>
                  <a:pt x="3365501" y="12630152"/>
                </a:lnTo>
                <a:lnTo>
                  <a:pt x="3343275" y="12734924"/>
                </a:lnTo>
                <a:lnTo>
                  <a:pt x="3324225" y="12833352"/>
                </a:lnTo>
                <a:lnTo>
                  <a:pt x="3311526" y="12928600"/>
                </a:lnTo>
                <a:lnTo>
                  <a:pt x="3298826" y="13014324"/>
                </a:lnTo>
                <a:lnTo>
                  <a:pt x="3289300" y="13096876"/>
                </a:lnTo>
                <a:lnTo>
                  <a:pt x="3282951" y="13169900"/>
                </a:lnTo>
                <a:lnTo>
                  <a:pt x="3279775" y="13239752"/>
                </a:lnTo>
                <a:lnTo>
                  <a:pt x="3279775" y="13354052"/>
                </a:lnTo>
                <a:lnTo>
                  <a:pt x="3282951" y="13436600"/>
                </a:lnTo>
                <a:lnTo>
                  <a:pt x="3286125" y="13490576"/>
                </a:lnTo>
                <a:lnTo>
                  <a:pt x="3289300" y="13506452"/>
                </a:lnTo>
                <a:lnTo>
                  <a:pt x="3397250" y="13484224"/>
                </a:lnTo>
                <a:lnTo>
                  <a:pt x="3511551" y="13458824"/>
                </a:lnTo>
                <a:lnTo>
                  <a:pt x="3635375" y="13436600"/>
                </a:lnTo>
                <a:lnTo>
                  <a:pt x="3765550" y="13414376"/>
                </a:lnTo>
                <a:lnTo>
                  <a:pt x="4041775" y="13376276"/>
                </a:lnTo>
                <a:lnTo>
                  <a:pt x="4340226" y="13338176"/>
                </a:lnTo>
                <a:lnTo>
                  <a:pt x="4654551" y="13306424"/>
                </a:lnTo>
                <a:lnTo>
                  <a:pt x="4987926" y="13274676"/>
                </a:lnTo>
                <a:lnTo>
                  <a:pt x="5330826" y="13249276"/>
                </a:lnTo>
                <a:lnTo>
                  <a:pt x="5686425" y="13223876"/>
                </a:lnTo>
                <a:lnTo>
                  <a:pt x="6172200" y="13198476"/>
                </a:lnTo>
                <a:lnTo>
                  <a:pt x="6661150" y="13176252"/>
                </a:lnTo>
                <a:lnTo>
                  <a:pt x="7150100" y="13157200"/>
                </a:lnTo>
                <a:lnTo>
                  <a:pt x="7632700" y="13141324"/>
                </a:lnTo>
                <a:lnTo>
                  <a:pt x="8216900" y="13125452"/>
                </a:lnTo>
                <a:lnTo>
                  <a:pt x="8763000" y="13115924"/>
                </a:lnTo>
                <a:lnTo>
                  <a:pt x="9261475" y="13109576"/>
                </a:lnTo>
                <a:lnTo>
                  <a:pt x="9699625" y="13106400"/>
                </a:lnTo>
                <a:lnTo>
                  <a:pt x="10337800" y="13103224"/>
                </a:lnTo>
                <a:lnTo>
                  <a:pt x="10575925" y="13103224"/>
                </a:lnTo>
                <a:lnTo>
                  <a:pt x="10798175" y="13106400"/>
                </a:lnTo>
                <a:lnTo>
                  <a:pt x="11023600" y="13112752"/>
                </a:lnTo>
                <a:lnTo>
                  <a:pt x="11252200" y="13122276"/>
                </a:lnTo>
                <a:lnTo>
                  <a:pt x="11480800" y="13134976"/>
                </a:lnTo>
                <a:lnTo>
                  <a:pt x="11709400" y="13147676"/>
                </a:lnTo>
                <a:lnTo>
                  <a:pt x="11938000" y="13166724"/>
                </a:lnTo>
                <a:lnTo>
                  <a:pt x="12166600" y="13188952"/>
                </a:lnTo>
                <a:lnTo>
                  <a:pt x="12395200" y="13211176"/>
                </a:lnTo>
                <a:lnTo>
                  <a:pt x="12620625" y="13236576"/>
                </a:lnTo>
                <a:lnTo>
                  <a:pt x="12842875" y="13261976"/>
                </a:lnTo>
                <a:lnTo>
                  <a:pt x="13277850" y="13319124"/>
                </a:lnTo>
                <a:lnTo>
                  <a:pt x="13696950" y="13379452"/>
                </a:lnTo>
                <a:lnTo>
                  <a:pt x="14093828" y="13442952"/>
                </a:lnTo>
                <a:lnTo>
                  <a:pt x="14462128" y="13506452"/>
                </a:lnTo>
                <a:lnTo>
                  <a:pt x="14798676" y="13569952"/>
                </a:lnTo>
                <a:lnTo>
                  <a:pt x="15093952" y="13627100"/>
                </a:lnTo>
                <a:lnTo>
                  <a:pt x="15351128" y="13677900"/>
                </a:lnTo>
                <a:lnTo>
                  <a:pt x="15713076" y="13754100"/>
                </a:lnTo>
                <a:lnTo>
                  <a:pt x="15840076" y="13782676"/>
                </a:lnTo>
                <a:lnTo>
                  <a:pt x="15995652" y="13823952"/>
                </a:lnTo>
                <a:lnTo>
                  <a:pt x="16144876" y="13865224"/>
                </a:lnTo>
                <a:lnTo>
                  <a:pt x="16430628" y="13950952"/>
                </a:lnTo>
                <a:lnTo>
                  <a:pt x="16700500" y="14039852"/>
                </a:lnTo>
                <a:lnTo>
                  <a:pt x="16954500" y="14131924"/>
                </a:lnTo>
                <a:lnTo>
                  <a:pt x="17192624" y="14224000"/>
                </a:lnTo>
                <a:lnTo>
                  <a:pt x="17411700" y="14316076"/>
                </a:lnTo>
                <a:lnTo>
                  <a:pt x="17621252" y="14411324"/>
                </a:lnTo>
                <a:lnTo>
                  <a:pt x="17811752" y="14506576"/>
                </a:lnTo>
                <a:lnTo>
                  <a:pt x="17992724" y="14605000"/>
                </a:lnTo>
                <a:lnTo>
                  <a:pt x="18157824" y="14700252"/>
                </a:lnTo>
                <a:lnTo>
                  <a:pt x="18310224" y="14795500"/>
                </a:lnTo>
                <a:lnTo>
                  <a:pt x="18453100" y="14890752"/>
                </a:lnTo>
                <a:lnTo>
                  <a:pt x="18580100" y="14982828"/>
                </a:lnTo>
                <a:lnTo>
                  <a:pt x="18697576" y="15074900"/>
                </a:lnTo>
                <a:lnTo>
                  <a:pt x="18805524" y="15166976"/>
                </a:lnTo>
                <a:lnTo>
                  <a:pt x="18903952" y="15252700"/>
                </a:lnTo>
                <a:lnTo>
                  <a:pt x="18989676" y="15338428"/>
                </a:lnTo>
                <a:lnTo>
                  <a:pt x="19069052" y="15420976"/>
                </a:lnTo>
                <a:lnTo>
                  <a:pt x="19135724" y="15503524"/>
                </a:lnTo>
                <a:lnTo>
                  <a:pt x="19196052" y="15576552"/>
                </a:lnTo>
                <a:lnTo>
                  <a:pt x="19250024" y="15649576"/>
                </a:lnTo>
                <a:lnTo>
                  <a:pt x="19294476" y="15716252"/>
                </a:lnTo>
                <a:lnTo>
                  <a:pt x="19335752" y="15779752"/>
                </a:lnTo>
                <a:lnTo>
                  <a:pt x="19367500" y="15836900"/>
                </a:lnTo>
                <a:lnTo>
                  <a:pt x="19396076" y="15890876"/>
                </a:lnTo>
                <a:lnTo>
                  <a:pt x="19415124" y="15935324"/>
                </a:lnTo>
                <a:lnTo>
                  <a:pt x="19446876" y="16011524"/>
                </a:lnTo>
                <a:lnTo>
                  <a:pt x="19462752" y="16055976"/>
                </a:lnTo>
                <a:lnTo>
                  <a:pt x="19465924" y="16071852"/>
                </a:lnTo>
                <a:lnTo>
                  <a:pt x="19392900" y="15979776"/>
                </a:lnTo>
                <a:lnTo>
                  <a:pt x="19319876" y="15890876"/>
                </a:lnTo>
                <a:lnTo>
                  <a:pt x="19240500" y="15801976"/>
                </a:lnTo>
                <a:lnTo>
                  <a:pt x="19161124" y="15716252"/>
                </a:lnTo>
                <a:lnTo>
                  <a:pt x="19078576" y="15636876"/>
                </a:lnTo>
                <a:lnTo>
                  <a:pt x="18996024" y="15557500"/>
                </a:lnTo>
                <a:lnTo>
                  <a:pt x="18910300" y="15478124"/>
                </a:lnTo>
                <a:lnTo>
                  <a:pt x="18821400" y="15405100"/>
                </a:lnTo>
                <a:lnTo>
                  <a:pt x="18729324" y="15332076"/>
                </a:lnTo>
                <a:lnTo>
                  <a:pt x="18637252" y="15262228"/>
                </a:lnTo>
                <a:lnTo>
                  <a:pt x="18545176" y="15195552"/>
                </a:lnTo>
                <a:lnTo>
                  <a:pt x="18449924" y="15128876"/>
                </a:lnTo>
                <a:lnTo>
                  <a:pt x="18354676" y="15068552"/>
                </a:lnTo>
                <a:lnTo>
                  <a:pt x="18256252" y="15008228"/>
                </a:lnTo>
                <a:lnTo>
                  <a:pt x="18157824" y="14947900"/>
                </a:lnTo>
                <a:lnTo>
                  <a:pt x="18059400" y="14893924"/>
                </a:lnTo>
                <a:lnTo>
                  <a:pt x="17957800" y="14839952"/>
                </a:lnTo>
                <a:lnTo>
                  <a:pt x="17859376" y="14789152"/>
                </a:lnTo>
                <a:lnTo>
                  <a:pt x="17757776" y="14738352"/>
                </a:lnTo>
                <a:lnTo>
                  <a:pt x="17653000" y="14690724"/>
                </a:lnTo>
                <a:lnTo>
                  <a:pt x="17449800" y="14601828"/>
                </a:lnTo>
                <a:lnTo>
                  <a:pt x="17243424" y="14519276"/>
                </a:lnTo>
                <a:lnTo>
                  <a:pt x="17040224" y="14443076"/>
                </a:lnTo>
                <a:lnTo>
                  <a:pt x="16833852" y="14376400"/>
                </a:lnTo>
                <a:lnTo>
                  <a:pt x="16633828" y="14316076"/>
                </a:lnTo>
                <a:lnTo>
                  <a:pt x="16436976" y="14258924"/>
                </a:lnTo>
                <a:lnTo>
                  <a:pt x="16243300" y="14211300"/>
                </a:lnTo>
                <a:lnTo>
                  <a:pt x="16055976" y="14166852"/>
                </a:lnTo>
                <a:lnTo>
                  <a:pt x="15875000" y="14128752"/>
                </a:lnTo>
                <a:lnTo>
                  <a:pt x="15700376" y="14097000"/>
                </a:lnTo>
                <a:lnTo>
                  <a:pt x="15535276" y="14068428"/>
                </a:lnTo>
                <a:lnTo>
                  <a:pt x="15376528" y="14043028"/>
                </a:lnTo>
                <a:lnTo>
                  <a:pt x="15230476" y="14020800"/>
                </a:lnTo>
                <a:lnTo>
                  <a:pt x="15097128" y="14004924"/>
                </a:lnTo>
                <a:lnTo>
                  <a:pt x="14865352" y="13979524"/>
                </a:lnTo>
                <a:lnTo>
                  <a:pt x="14687552" y="13966828"/>
                </a:lnTo>
                <a:lnTo>
                  <a:pt x="14576428" y="13960476"/>
                </a:lnTo>
                <a:lnTo>
                  <a:pt x="14538328" y="13957300"/>
                </a:lnTo>
                <a:lnTo>
                  <a:pt x="14754228" y="13995400"/>
                </a:lnTo>
                <a:lnTo>
                  <a:pt x="14966952" y="14036676"/>
                </a:lnTo>
                <a:lnTo>
                  <a:pt x="15176500" y="14087476"/>
                </a:lnTo>
                <a:lnTo>
                  <a:pt x="15379700" y="14138276"/>
                </a:lnTo>
                <a:lnTo>
                  <a:pt x="15579728" y="14195428"/>
                </a:lnTo>
                <a:lnTo>
                  <a:pt x="15776576" y="14255752"/>
                </a:lnTo>
                <a:lnTo>
                  <a:pt x="15970252" y="14319252"/>
                </a:lnTo>
                <a:lnTo>
                  <a:pt x="16154400" y="14385924"/>
                </a:lnTo>
                <a:lnTo>
                  <a:pt x="16338552" y="14455776"/>
                </a:lnTo>
                <a:lnTo>
                  <a:pt x="16513176" y="14525628"/>
                </a:lnTo>
                <a:lnTo>
                  <a:pt x="16684628" y="14598652"/>
                </a:lnTo>
                <a:lnTo>
                  <a:pt x="16849724" y="14671676"/>
                </a:lnTo>
                <a:lnTo>
                  <a:pt x="17008476" y="14747876"/>
                </a:lnTo>
                <a:lnTo>
                  <a:pt x="17160876" y="14820900"/>
                </a:lnTo>
                <a:lnTo>
                  <a:pt x="17310100" y="14893924"/>
                </a:lnTo>
                <a:lnTo>
                  <a:pt x="17449800" y="14970124"/>
                </a:lnTo>
                <a:lnTo>
                  <a:pt x="17583152" y="15039976"/>
                </a:lnTo>
                <a:lnTo>
                  <a:pt x="17710152" y="15113000"/>
                </a:lnTo>
                <a:lnTo>
                  <a:pt x="17938752" y="15246352"/>
                </a:lnTo>
                <a:lnTo>
                  <a:pt x="18138776" y="15373352"/>
                </a:lnTo>
                <a:lnTo>
                  <a:pt x="18307052" y="15481300"/>
                </a:lnTo>
                <a:lnTo>
                  <a:pt x="18440400" y="15573376"/>
                </a:lnTo>
                <a:lnTo>
                  <a:pt x="18538824" y="15643228"/>
                </a:lnTo>
                <a:lnTo>
                  <a:pt x="18618200" y="15703552"/>
                </a:lnTo>
                <a:lnTo>
                  <a:pt x="18421352" y="15595600"/>
                </a:lnTo>
                <a:lnTo>
                  <a:pt x="18221324" y="15490828"/>
                </a:lnTo>
                <a:lnTo>
                  <a:pt x="18021300" y="15392400"/>
                </a:lnTo>
                <a:lnTo>
                  <a:pt x="17821276" y="15293976"/>
                </a:lnTo>
                <a:lnTo>
                  <a:pt x="17621252" y="15198724"/>
                </a:lnTo>
                <a:lnTo>
                  <a:pt x="17418052" y="15109828"/>
                </a:lnTo>
                <a:lnTo>
                  <a:pt x="17218024" y="15020924"/>
                </a:lnTo>
                <a:lnTo>
                  <a:pt x="17014824" y="14938376"/>
                </a:lnTo>
                <a:lnTo>
                  <a:pt x="16811624" y="14855828"/>
                </a:lnTo>
                <a:lnTo>
                  <a:pt x="16611600" y="14776452"/>
                </a:lnTo>
                <a:lnTo>
                  <a:pt x="16408400" y="14703428"/>
                </a:lnTo>
                <a:lnTo>
                  <a:pt x="16205200" y="14630400"/>
                </a:lnTo>
                <a:lnTo>
                  <a:pt x="16002000" y="14560552"/>
                </a:lnTo>
                <a:lnTo>
                  <a:pt x="15798800" y="14493876"/>
                </a:lnTo>
                <a:lnTo>
                  <a:pt x="15592428" y="14430376"/>
                </a:lnTo>
                <a:lnTo>
                  <a:pt x="15389228" y="14370052"/>
                </a:lnTo>
                <a:lnTo>
                  <a:pt x="15186028" y="14312900"/>
                </a:lnTo>
                <a:lnTo>
                  <a:pt x="14982828" y="14255752"/>
                </a:lnTo>
                <a:lnTo>
                  <a:pt x="14779628" y="14204952"/>
                </a:lnTo>
                <a:lnTo>
                  <a:pt x="14576428" y="14154152"/>
                </a:lnTo>
                <a:lnTo>
                  <a:pt x="14373228" y="14106524"/>
                </a:lnTo>
                <a:lnTo>
                  <a:pt x="14170028" y="14062076"/>
                </a:lnTo>
                <a:lnTo>
                  <a:pt x="13963650" y="14017628"/>
                </a:lnTo>
                <a:lnTo>
                  <a:pt x="13760450" y="13979524"/>
                </a:lnTo>
                <a:lnTo>
                  <a:pt x="13560425" y="13941428"/>
                </a:lnTo>
                <a:lnTo>
                  <a:pt x="13357225" y="13906500"/>
                </a:lnTo>
                <a:lnTo>
                  <a:pt x="13154025" y="13874752"/>
                </a:lnTo>
                <a:lnTo>
                  <a:pt x="12950825" y="13843000"/>
                </a:lnTo>
                <a:lnTo>
                  <a:pt x="12750800" y="13814424"/>
                </a:lnTo>
                <a:lnTo>
                  <a:pt x="12547600" y="13789024"/>
                </a:lnTo>
                <a:lnTo>
                  <a:pt x="12347575" y="13766800"/>
                </a:lnTo>
                <a:lnTo>
                  <a:pt x="12147550" y="13744576"/>
                </a:lnTo>
                <a:lnTo>
                  <a:pt x="11947525" y="13725524"/>
                </a:lnTo>
                <a:lnTo>
                  <a:pt x="11747500" y="13706476"/>
                </a:lnTo>
                <a:lnTo>
                  <a:pt x="11547475" y="13693776"/>
                </a:lnTo>
                <a:lnTo>
                  <a:pt x="11350625" y="13681076"/>
                </a:lnTo>
                <a:lnTo>
                  <a:pt x="11153775" y="13668376"/>
                </a:lnTo>
                <a:lnTo>
                  <a:pt x="10953750" y="13658852"/>
                </a:lnTo>
                <a:lnTo>
                  <a:pt x="10563225" y="13646152"/>
                </a:lnTo>
                <a:lnTo>
                  <a:pt x="10172700" y="13639800"/>
                </a:lnTo>
                <a:lnTo>
                  <a:pt x="9788526" y="13642976"/>
                </a:lnTo>
                <a:lnTo>
                  <a:pt x="9404351" y="13649324"/>
                </a:lnTo>
                <a:lnTo>
                  <a:pt x="9026525" y="13665200"/>
                </a:lnTo>
                <a:lnTo>
                  <a:pt x="8651875" y="13684252"/>
                </a:lnTo>
                <a:lnTo>
                  <a:pt x="8280400" y="13709652"/>
                </a:lnTo>
                <a:lnTo>
                  <a:pt x="7915275" y="13741400"/>
                </a:lnTo>
                <a:lnTo>
                  <a:pt x="7556500" y="13776324"/>
                </a:lnTo>
                <a:lnTo>
                  <a:pt x="7200900" y="13817600"/>
                </a:lnTo>
                <a:lnTo>
                  <a:pt x="6848475" y="13862052"/>
                </a:lnTo>
                <a:lnTo>
                  <a:pt x="6505575" y="13909676"/>
                </a:lnTo>
                <a:lnTo>
                  <a:pt x="6165850" y="13963652"/>
                </a:lnTo>
                <a:lnTo>
                  <a:pt x="5832475" y="14020800"/>
                </a:lnTo>
                <a:lnTo>
                  <a:pt x="5508626" y="14077952"/>
                </a:lnTo>
                <a:lnTo>
                  <a:pt x="5187952" y="14141452"/>
                </a:lnTo>
                <a:lnTo>
                  <a:pt x="4876802" y="14204952"/>
                </a:lnTo>
                <a:lnTo>
                  <a:pt x="4572001" y="14271628"/>
                </a:lnTo>
                <a:lnTo>
                  <a:pt x="4273551" y="14341476"/>
                </a:lnTo>
                <a:lnTo>
                  <a:pt x="3984626" y="14411324"/>
                </a:lnTo>
                <a:lnTo>
                  <a:pt x="3702051" y="14481176"/>
                </a:lnTo>
                <a:lnTo>
                  <a:pt x="3429000" y="14554200"/>
                </a:lnTo>
                <a:lnTo>
                  <a:pt x="3165476" y="14627228"/>
                </a:lnTo>
                <a:lnTo>
                  <a:pt x="2908301" y="14697076"/>
                </a:lnTo>
                <a:lnTo>
                  <a:pt x="2660650" y="14770100"/>
                </a:lnTo>
                <a:lnTo>
                  <a:pt x="2425700" y="14843124"/>
                </a:lnTo>
                <a:lnTo>
                  <a:pt x="2197101" y="14912976"/>
                </a:lnTo>
                <a:lnTo>
                  <a:pt x="1981200" y="14986000"/>
                </a:lnTo>
                <a:lnTo>
                  <a:pt x="1771650" y="15052676"/>
                </a:lnTo>
                <a:lnTo>
                  <a:pt x="1390650" y="15186028"/>
                </a:lnTo>
                <a:lnTo>
                  <a:pt x="1050925" y="15309852"/>
                </a:lnTo>
                <a:lnTo>
                  <a:pt x="758825" y="15420976"/>
                </a:lnTo>
                <a:lnTo>
                  <a:pt x="514350" y="15516228"/>
                </a:lnTo>
                <a:lnTo>
                  <a:pt x="320676" y="15595600"/>
                </a:lnTo>
                <a:lnTo>
                  <a:pt x="180975" y="15655924"/>
                </a:lnTo>
                <a:lnTo>
                  <a:pt x="63501" y="15706724"/>
                </a:lnTo>
                <a:lnTo>
                  <a:pt x="41275" y="15662276"/>
                </a:lnTo>
                <a:lnTo>
                  <a:pt x="22225" y="15614652"/>
                </a:lnTo>
                <a:lnTo>
                  <a:pt x="9526" y="15570200"/>
                </a:lnTo>
                <a:lnTo>
                  <a:pt x="0" y="15525752"/>
                </a:lnTo>
                <a:lnTo>
                  <a:pt x="0" y="15481300"/>
                </a:lnTo>
                <a:lnTo>
                  <a:pt x="0" y="15436852"/>
                </a:lnTo>
                <a:lnTo>
                  <a:pt x="9526" y="15395576"/>
                </a:lnTo>
                <a:lnTo>
                  <a:pt x="19051" y="15351124"/>
                </a:lnTo>
                <a:lnTo>
                  <a:pt x="31750" y="15309852"/>
                </a:lnTo>
                <a:lnTo>
                  <a:pt x="50800" y="15271752"/>
                </a:lnTo>
                <a:lnTo>
                  <a:pt x="69851" y="15230476"/>
                </a:lnTo>
                <a:lnTo>
                  <a:pt x="95251" y="15192376"/>
                </a:lnTo>
                <a:lnTo>
                  <a:pt x="120651" y="15157452"/>
                </a:lnTo>
                <a:lnTo>
                  <a:pt x="146051" y="15119352"/>
                </a:lnTo>
                <a:lnTo>
                  <a:pt x="206375" y="15052676"/>
                </a:lnTo>
                <a:lnTo>
                  <a:pt x="269876" y="14992352"/>
                </a:lnTo>
                <a:lnTo>
                  <a:pt x="333375" y="14935200"/>
                </a:lnTo>
                <a:lnTo>
                  <a:pt x="393701" y="14887576"/>
                </a:lnTo>
                <a:lnTo>
                  <a:pt x="447675" y="14846300"/>
                </a:lnTo>
                <a:lnTo>
                  <a:pt x="536576" y="14789152"/>
                </a:lnTo>
                <a:lnTo>
                  <a:pt x="568326" y="14770100"/>
                </a:lnTo>
                <a:lnTo>
                  <a:pt x="600075" y="14652628"/>
                </a:lnTo>
                <a:lnTo>
                  <a:pt x="628651" y="14535152"/>
                </a:lnTo>
                <a:lnTo>
                  <a:pt x="663575" y="14417676"/>
                </a:lnTo>
                <a:lnTo>
                  <a:pt x="698500" y="14303376"/>
                </a:lnTo>
                <a:lnTo>
                  <a:pt x="733425" y="14189076"/>
                </a:lnTo>
                <a:lnTo>
                  <a:pt x="771526" y="14077952"/>
                </a:lnTo>
                <a:lnTo>
                  <a:pt x="812801" y="13970000"/>
                </a:lnTo>
                <a:lnTo>
                  <a:pt x="854076" y="13862052"/>
                </a:lnTo>
                <a:lnTo>
                  <a:pt x="939800" y="13649324"/>
                </a:lnTo>
                <a:lnTo>
                  <a:pt x="1031875" y="13446124"/>
                </a:lnTo>
                <a:lnTo>
                  <a:pt x="1127126" y="13246100"/>
                </a:lnTo>
                <a:lnTo>
                  <a:pt x="1225550" y="13055600"/>
                </a:lnTo>
                <a:lnTo>
                  <a:pt x="1282700" y="12947652"/>
                </a:lnTo>
                <a:lnTo>
                  <a:pt x="1339850" y="12839700"/>
                </a:lnTo>
                <a:lnTo>
                  <a:pt x="1409700" y="12700000"/>
                </a:lnTo>
                <a:lnTo>
                  <a:pt x="1485900" y="12563476"/>
                </a:lnTo>
                <a:lnTo>
                  <a:pt x="1565276" y="12430124"/>
                </a:lnTo>
                <a:lnTo>
                  <a:pt x="1647825" y="12296776"/>
                </a:lnTo>
                <a:lnTo>
                  <a:pt x="1736725" y="12166600"/>
                </a:lnTo>
                <a:lnTo>
                  <a:pt x="1828800" y="12039600"/>
                </a:lnTo>
                <a:lnTo>
                  <a:pt x="1924050" y="11912600"/>
                </a:lnTo>
                <a:lnTo>
                  <a:pt x="2022476" y="11788776"/>
                </a:lnTo>
                <a:lnTo>
                  <a:pt x="2124076" y="11668124"/>
                </a:lnTo>
                <a:lnTo>
                  <a:pt x="2228850" y="11550652"/>
                </a:lnTo>
                <a:lnTo>
                  <a:pt x="2336800" y="11436352"/>
                </a:lnTo>
                <a:lnTo>
                  <a:pt x="2444751" y="11322052"/>
                </a:lnTo>
                <a:lnTo>
                  <a:pt x="2559051" y="11210924"/>
                </a:lnTo>
                <a:lnTo>
                  <a:pt x="2673351" y="11106152"/>
                </a:lnTo>
                <a:lnTo>
                  <a:pt x="2790825" y="11001376"/>
                </a:lnTo>
                <a:lnTo>
                  <a:pt x="2908301" y="10899776"/>
                </a:lnTo>
                <a:lnTo>
                  <a:pt x="3038475" y="10788652"/>
                </a:lnTo>
                <a:lnTo>
                  <a:pt x="3121025" y="10718800"/>
                </a:lnTo>
                <a:lnTo>
                  <a:pt x="3149601" y="10696576"/>
                </a:lnTo>
                <a:lnTo>
                  <a:pt x="3063875" y="10744200"/>
                </a:lnTo>
                <a:lnTo>
                  <a:pt x="2981326" y="10795000"/>
                </a:lnTo>
                <a:lnTo>
                  <a:pt x="2898775" y="10848976"/>
                </a:lnTo>
                <a:lnTo>
                  <a:pt x="2819401" y="10902952"/>
                </a:lnTo>
                <a:lnTo>
                  <a:pt x="2740026" y="10956924"/>
                </a:lnTo>
                <a:lnTo>
                  <a:pt x="2663825" y="11014076"/>
                </a:lnTo>
                <a:lnTo>
                  <a:pt x="2511426" y="11131552"/>
                </a:lnTo>
                <a:lnTo>
                  <a:pt x="2365375" y="11252200"/>
                </a:lnTo>
                <a:lnTo>
                  <a:pt x="2222500" y="11379200"/>
                </a:lnTo>
                <a:lnTo>
                  <a:pt x="2085976" y="11512552"/>
                </a:lnTo>
                <a:lnTo>
                  <a:pt x="1952626" y="11649076"/>
                </a:lnTo>
                <a:lnTo>
                  <a:pt x="1822451" y="11788776"/>
                </a:lnTo>
                <a:lnTo>
                  <a:pt x="1698626" y="11931652"/>
                </a:lnTo>
                <a:lnTo>
                  <a:pt x="1577975" y="12077700"/>
                </a:lnTo>
                <a:lnTo>
                  <a:pt x="1460501" y="12230100"/>
                </a:lnTo>
                <a:lnTo>
                  <a:pt x="1343025" y="12382500"/>
                </a:lnTo>
                <a:lnTo>
                  <a:pt x="1231900" y="12538076"/>
                </a:lnTo>
                <a:lnTo>
                  <a:pt x="1123950" y="12696824"/>
                </a:lnTo>
                <a:lnTo>
                  <a:pt x="1016000" y="12855576"/>
                </a:lnTo>
                <a:lnTo>
                  <a:pt x="911226" y="13023852"/>
                </a:lnTo>
                <a:lnTo>
                  <a:pt x="796925" y="13201652"/>
                </a:lnTo>
                <a:lnTo>
                  <a:pt x="692150" y="13379452"/>
                </a:lnTo>
                <a:lnTo>
                  <a:pt x="593726" y="13547724"/>
                </a:lnTo>
                <a:lnTo>
                  <a:pt x="508000" y="13709652"/>
                </a:lnTo>
                <a:lnTo>
                  <a:pt x="428626" y="13865224"/>
                </a:lnTo>
                <a:lnTo>
                  <a:pt x="355600" y="14011276"/>
                </a:lnTo>
                <a:lnTo>
                  <a:pt x="292100" y="14147800"/>
                </a:lnTo>
                <a:lnTo>
                  <a:pt x="234951" y="14271628"/>
                </a:lnTo>
                <a:lnTo>
                  <a:pt x="187327" y="14385924"/>
                </a:lnTo>
                <a:lnTo>
                  <a:pt x="142875" y="14490700"/>
                </a:lnTo>
                <a:lnTo>
                  <a:pt x="82551" y="14652628"/>
                </a:lnTo>
                <a:lnTo>
                  <a:pt x="44451" y="14754228"/>
                </a:lnTo>
                <a:lnTo>
                  <a:pt x="31750" y="14792324"/>
                </a:lnTo>
                <a:lnTo>
                  <a:pt x="38101" y="14649452"/>
                </a:lnTo>
                <a:lnTo>
                  <a:pt x="44451" y="14509752"/>
                </a:lnTo>
                <a:lnTo>
                  <a:pt x="60327" y="14373228"/>
                </a:lnTo>
                <a:lnTo>
                  <a:pt x="76200" y="14236700"/>
                </a:lnTo>
                <a:lnTo>
                  <a:pt x="95251" y="14106524"/>
                </a:lnTo>
                <a:lnTo>
                  <a:pt x="120651" y="13976352"/>
                </a:lnTo>
                <a:lnTo>
                  <a:pt x="146051" y="13849352"/>
                </a:lnTo>
                <a:lnTo>
                  <a:pt x="177801" y="13722352"/>
                </a:lnTo>
                <a:lnTo>
                  <a:pt x="209551" y="13601700"/>
                </a:lnTo>
                <a:lnTo>
                  <a:pt x="247651" y="13481052"/>
                </a:lnTo>
                <a:lnTo>
                  <a:pt x="285751" y="13363576"/>
                </a:lnTo>
                <a:lnTo>
                  <a:pt x="327026" y="13249276"/>
                </a:lnTo>
                <a:lnTo>
                  <a:pt x="368301" y="13138152"/>
                </a:lnTo>
                <a:lnTo>
                  <a:pt x="412751" y="13030200"/>
                </a:lnTo>
                <a:lnTo>
                  <a:pt x="457200" y="12925424"/>
                </a:lnTo>
                <a:lnTo>
                  <a:pt x="504826" y="12823824"/>
                </a:lnTo>
                <a:lnTo>
                  <a:pt x="587376" y="12646024"/>
                </a:lnTo>
                <a:lnTo>
                  <a:pt x="682625" y="12468224"/>
                </a:lnTo>
                <a:lnTo>
                  <a:pt x="777876" y="12290424"/>
                </a:lnTo>
                <a:lnTo>
                  <a:pt x="876300" y="12112624"/>
                </a:lnTo>
                <a:lnTo>
                  <a:pt x="981075" y="11941176"/>
                </a:lnTo>
                <a:lnTo>
                  <a:pt x="1085851" y="11769724"/>
                </a:lnTo>
                <a:lnTo>
                  <a:pt x="1196975" y="11604624"/>
                </a:lnTo>
                <a:lnTo>
                  <a:pt x="1311276" y="11439524"/>
                </a:lnTo>
                <a:lnTo>
                  <a:pt x="1431925" y="11277600"/>
                </a:lnTo>
                <a:lnTo>
                  <a:pt x="1552576" y="11118852"/>
                </a:lnTo>
                <a:lnTo>
                  <a:pt x="1679575" y="10966452"/>
                </a:lnTo>
                <a:lnTo>
                  <a:pt x="1809751" y="10814052"/>
                </a:lnTo>
                <a:lnTo>
                  <a:pt x="1943100" y="10668000"/>
                </a:lnTo>
                <a:lnTo>
                  <a:pt x="2082801" y="10528300"/>
                </a:lnTo>
                <a:lnTo>
                  <a:pt x="2225676" y="10388600"/>
                </a:lnTo>
                <a:lnTo>
                  <a:pt x="2374901" y="10255252"/>
                </a:lnTo>
                <a:lnTo>
                  <a:pt x="2524126" y="10128252"/>
                </a:lnTo>
                <a:lnTo>
                  <a:pt x="2619376" y="10048876"/>
                </a:lnTo>
                <a:lnTo>
                  <a:pt x="2727326" y="9966324"/>
                </a:lnTo>
                <a:lnTo>
                  <a:pt x="2816226" y="9902824"/>
                </a:lnTo>
                <a:lnTo>
                  <a:pt x="2914651" y="9832976"/>
                </a:lnTo>
                <a:lnTo>
                  <a:pt x="3124200" y="9693276"/>
                </a:lnTo>
                <a:lnTo>
                  <a:pt x="3349626" y="9550400"/>
                </a:lnTo>
                <a:lnTo>
                  <a:pt x="3590926" y="9401176"/>
                </a:lnTo>
                <a:lnTo>
                  <a:pt x="3841750" y="9251952"/>
                </a:lnTo>
                <a:lnTo>
                  <a:pt x="4092577" y="9105900"/>
                </a:lnTo>
                <a:lnTo>
                  <a:pt x="4343402" y="8963024"/>
                </a:lnTo>
                <a:lnTo>
                  <a:pt x="4587876" y="8826500"/>
                </a:lnTo>
                <a:lnTo>
                  <a:pt x="4765676" y="8724900"/>
                </a:lnTo>
                <a:lnTo>
                  <a:pt x="5051425" y="8572500"/>
                </a:lnTo>
                <a:lnTo>
                  <a:pt x="5334001" y="8420100"/>
                </a:lnTo>
                <a:lnTo>
                  <a:pt x="5486402" y="8331200"/>
                </a:lnTo>
                <a:lnTo>
                  <a:pt x="5641977" y="8242300"/>
                </a:lnTo>
                <a:lnTo>
                  <a:pt x="5953125" y="8067676"/>
                </a:lnTo>
                <a:lnTo>
                  <a:pt x="6162675" y="7953376"/>
                </a:lnTo>
                <a:lnTo>
                  <a:pt x="6327776" y="7864476"/>
                </a:lnTo>
                <a:lnTo>
                  <a:pt x="6496050" y="7775576"/>
                </a:lnTo>
                <a:lnTo>
                  <a:pt x="6835775" y="7607300"/>
                </a:lnTo>
                <a:lnTo>
                  <a:pt x="7007225" y="7518400"/>
                </a:lnTo>
                <a:lnTo>
                  <a:pt x="7175500" y="7429500"/>
                </a:lnTo>
                <a:lnTo>
                  <a:pt x="7340600" y="7334252"/>
                </a:lnTo>
                <a:lnTo>
                  <a:pt x="7423150" y="7283452"/>
                </a:lnTo>
                <a:lnTo>
                  <a:pt x="7505701" y="7232652"/>
                </a:lnTo>
                <a:lnTo>
                  <a:pt x="7632700" y="7150100"/>
                </a:lnTo>
                <a:lnTo>
                  <a:pt x="7756525" y="7067552"/>
                </a:lnTo>
                <a:lnTo>
                  <a:pt x="7845425" y="7000876"/>
                </a:lnTo>
                <a:lnTo>
                  <a:pt x="7937500" y="6934200"/>
                </a:lnTo>
                <a:lnTo>
                  <a:pt x="8023226" y="6864352"/>
                </a:lnTo>
                <a:lnTo>
                  <a:pt x="8108950" y="6791324"/>
                </a:lnTo>
                <a:lnTo>
                  <a:pt x="8191500" y="6718300"/>
                </a:lnTo>
                <a:lnTo>
                  <a:pt x="8274051" y="6642100"/>
                </a:lnTo>
                <a:lnTo>
                  <a:pt x="8350250" y="6565900"/>
                </a:lnTo>
                <a:lnTo>
                  <a:pt x="8426450" y="6486524"/>
                </a:lnTo>
                <a:lnTo>
                  <a:pt x="8499476" y="6403976"/>
                </a:lnTo>
                <a:lnTo>
                  <a:pt x="8572500" y="6318252"/>
                </a:lnTo>
                <a:lnTo>
                  <a:pt x="8639175" y="6229352"/>
                </a:lnTo>
                <a:lnTo>
                  <a:pt x="8702675" y="6140452"/>
                </a:lnTo>
                <a:lnTo>
                  <a:pt x="8763000" y="6048376"/>
                </a:lnTo>
                <a:lnTo>
                  <a:pt x="8823325" y="5953124"/>
                </a:lnTo>
                <a:lnTo>
                  <a:pt x="8877301" y="5854700"/>
                </a:lnTo>
                <a:lnTo>
                  <a:pt x="8928100" y="5753100"/>
                </a:lnTo>
                <a:lnTo>
                  <a:pt x="8982075" y="5645152"/>
                </a:lnTo>
                <a:lnTo>
                  <a:pt x="9029700" y="5540376"/>
                </a:lnTo>
                <a:lnTo>
                  <a:pt x="9058275" y="5470524"/>
                </a:lnTo>
                <a:lnTo>
                  <a:pt x="9086850" y="5400676"/>
                </a:lnTo>
                <a:lnTo>
                  <a:pt x="9109076" y="5330824"/>
                </a:lnTo>
                <a:lnTo>
                  <a:pt x="9131300" y="5264152"/>
                </a:lnTo>
                <a:lnTo>
                  <a:pt x="9147175" y="5197476"/>
                </a:lnTo>
                <a:lnTo>
                  <a:pt x="9163050" y="5133976"/>
                </a:lnTo>
                <a:lnTo>
                  <a:pt x="9188450" y="5006976"/>
                </a:lnTo>
                <a:lnTo>
                  <a:pt x="9204326" y="4889500"/>
                </a:lnTo>
                <a:lnTo>
                  <a:pt x="9213850" y="4775200"/>
                </a:lnTo>
                <a:lnTo>
                  <a:pt x="9217025" y="4670424"/>
                </a:lnTo>
                <a:lnTo>
                  <a:pt x="9217025" y="4575176"/>
                </a:lnTo>
                <a:lnTo>
                  <a:pt x="9210676" y="4489452"/>
                </a:lnTo>
                <a:lnTo>
                  <a:pt x="9201151" y="4410076"/>
                </a:lnTo>
                <a:lnTo>
                  <a:pt x="9191625" y="4343400"/>
                </a:lnTo>
                <a:lnTo>
                  <a:pt x="9182100" y="4289424"/>
                </a:lnTo>
                <a:lnTo>
                  <a:pt x="9163050" y="4210052"/>
                </a:lnTo>
                <a:lnTo>
                  <a:pt x="9153525" y="4184652"/>
                </a:lnTo>
                <a:close/>
                <a:moveTo>
                  <a:pt x="8061347" y="3154372"/>
                </a:moveTo>
                <a:lnTo>
                  <a:pt x="8115302" y="3178176"/>
                </a:lnTo>
                <a:lnTo>
                  <a:pt x="8210552" y="3225800"/>
                </a:lnTo>
                <a:lnTo>
                  <a:pt x="8302627" y="3276600"/>
                </a:lnTo>
                <a:lnTo>
                  <a:pt x="8388352" y="3330576"/>
                </a:lnTo>
                <a:lnTo>
                  <a:pt x="8467727" y="3384552"/>
                </a:lnTo>
                <a:lnTo>
                  <a:pt x="8537577" y="3438524"/>
                </a:lnTo>
                <a:lnTo>
                  <a:pt x="8604252" y="3495676"/>
                </a:lnTo>
                <a:lnTo>
                  <a:pt x="8664578" y="3549652"/>
                </a:lnTo>
                <a:lnTo>
                  <a:pt x="8721727" y="3606800"/>
                </a:lnTo>
                <a:lnTo>
                  <a:pt x="8772527" y="3663952"/>
                </a:lnTo>
                <a:lnTo>
                  <a:pt x="8816977" y="3721100"/>
                </a:lnTo>
                <a:lnTo>
                  <a:pt x="8858252" y="3775076"/>
                </a:lnTo>
                <a:lnTo>
                  <a:pt x="8893177" y="3829052"/>
                </a:lnTo>
                <a:lnTo>
                  <a:pt x="8924927" y="3883024"/>
                </a:lnTo>
                <a:lnTo>
                  <a:pt x="8953502" y="3937000"/>
                </a:lnTo>
                <a:lnTo>
                  <a:pt x="8978902" y="3987800"/>
                </a:lnTo>
                <a:lnTo>
                  <a:pt x="8997952" y="4035424"/>
                </a:lnTo>
                <a:lnTo>
                  <a:pt x="9017002" y="4083052"/>
                </a:lnTo>
                <a:lnTo>
                  <a:pt x="9045577" y="4171952"/>
                </a:lnTo>
                <a:lnTo>
                  <a:pt x="9064627" y="4244976"/>
                </a:lnTo>
                <a:lnTo>
                  <a:pt x="9074152" y="4308476"/>
                </a:lnTo>
                <a:lnTo>
                  <a:pt x="9077328" y="4356100"/>
                </a:lnTo>
                <a:lnTo>
                  <a:pt x="9080502" y="4397376"/>
                </a:lnTo>
                <a:lnTo>
                  <a:pt x="9083677" y="4473576"/>
                </a:lnTo>
                <a:lnTo>
                  <a:pt x="9083677" y="4549776"/>
                </a:lnTo>
                <a:lnTo>
                  <a:pt x="9080502" y="4625976"/>
                </a:lnTo>
                <a:lnTo>
                  <a:pt x="9077328" y="4702176"/>
                </a:lnTo>
                <a:lnTo>
                  <a:pt x="9067802" y="4775200"/>
                </a:lnTo>
                <a:lnTo>
                  <a:pt x="9058277" y="4845052"/>
                </a:lnTo>
                <a:lnTo>
                  <a:pt x="9048753" y="4918076"/>
                </a:lnTo>
                <a:lnTo>
                  <a:pt x="9032877" y="4984752"/>
                </a:lnTo>
                <a:lnTo>
                  <a:pt x="9017002" y="5054600"/>
                </a:lnTo>
                <a:lnTo>
                  <a:pt x="9001127" y="5121276"/>
                </a:lnTo>
                <a:lnTo>
                  <a:pt x="8982078" y="5184776"/>
                </a:lnTo>
                <a:lnTo>
                  <a:pt x="8959852" y="5251452"/>
                </a:lnTo>
                <a:lnTo>
                  <a:pt x="8915402" y="5375276"/>
                </a:lnTo>
                <a:lnTo>
                  <a:pt x="8864602" y="5492752"/>
                </a:lnTo>
                <a:lnTo>
                  <a:pt x="8823328" y="5581652"/>
                </a:lnTo>
                <a:lnTo>
                  <a:pt x="8778877" y="5667376"/>
                </a:lnTo>
                <a:lnTo>
                  <a:pt x="8718553" y="5772152"/>
                </a:lnTo>
                <a:lnTo>
                  <a:pt x="8655052" y="5876924"/>
                </a:lnTo>
                <a:lnTo>
                  <a:pt x="8588377" y="5978524"/>
                </a:lnTo>
                <a:lnTo>
                  <a:pt x="8521702" y="6080124"/>
                </a:lnTo>
                <a:lnTo>
                  <a:pt x="8448677" y="6178552"/>
                </a:lnTo>
                <a:lnTo>
                  <a:pt x="8372478" y="6273800"/>
                </a:lnTo>
                <a:lnTo>
                  <a:pt x="8296277" y="6369052"/>
                </a:lnTo>
                <a:lnTo>
                  <a:pt x="8216902" y="6464300"/>
                </a:lnTo>
                <a:lnTo>
                  <a:pt x="8131177" y="6553200"/>
                </a:lnTo>
                <a:lnTo>
                  <a:pt x="8045452" y="6642100"/>
                </a:lnTo>
                <a:lnTo>
                  <a:pt x="7956552" y="6731000"/>
                </a:lnTo>
                <a:lnTo>
                  <a:pt x="7867653" y="6813552"/>
                </a:lnTo>
                <a:lnTo>
                  <a:pt x="7772402" y="6896100"/>
                </a:lnTo>
                <a:lnTo>
                  <a:pt x="7677152" y="6975476"/>
                </a:lnTo>
                <a:lnTo>
                  <a:pt x="7578728" y="7051676"/>
                </a:lnTo>
                <a:lnTo>
                  <a:pt x="7480302" y="7124700"/>
                </a:lnTo>
                <a:lnTo>
                  <a:pt x="7362827" y="7204076"/>
                </a:lnTo>
                <a:lnTo>
                  <a:pt x="7242177" y="7280276"/>
                </a:lnTo>
                <a:lnTo>
                  <a:pt x="7118352" y="7353300"/>
                </a:lnTo>
                <a:lnTo>
                  <a:pt x="6994527" y="7419976"/>
                </a:lnTo>
                <a:lnTo>
                  <a:pt x="6867527" y="7480300"/>
                </a:lnTo>
                <a:lnTo>
                  <a:pt x="6737352" y="7540624"/>
                </a:lnTo>
                <a:lnTo>
                  <a:pt x="6607177" y="7594600"/>
                </a:lnTo>
                <a:lnTo>
                  <a:pt x="6477002" y="7651752"/>
                </a:lnTo>
                <a:lnTo>
                  <a:pt x="6210302" y="7759700"/>
                </a:lnTo>
                <a:lnTo>
                  <a:pt x="6073778" y="7813676"/>
                </a:lnTo>
                <a:lnTo>
                  <a:pt x="5937252" y="7861300"/>
                </a:lnTo>
                <a:lnTo>
                  <a:pt x="6067427" y="7813676"/>
                </a:lnTo>
                <a:lnTo>
                  <a:pt x="6197602" y="7759700"/>
                </a:lnTo>
                <a:lnTo>
                  <a:pt x="6337302" y="7689852"/>
                </a:lnTo>
                <a:lnTo>
                  <a:pt x="6477002" y="7620000"/>
                </a:lnTo>
                <a:lnTo>
                  <a:pt x="6616702" y="7546976"/>
                </a:lnTo>
                <a:lnTo>
                  <a:pt x="6753227" y="7470776"/>
                </a:lnTo>
                <a:lnTo>
                  <a:pt x="6892927" y="7385052"/>
                </a:lnTo>
                <a:lnTo>
                  <a:pt x="7029452" y="7296152"/>
                </a:lnTo>
                <a:lnTo>
                  <a:pt x="7096127" y="7248524"/>
                </a:lnTo>
                <a:lnTo>
                  <a:pt x="7162802" y="7200900"/>
                </a:lnTo>
                <a:lnTo>
                  <a:pt x="7229477" y="7150100"/>
                </a:lnTo>
                <a:lnTo>
                  <a:pt x="7296152" y="7096124"/>
                </a:lnTo>
                <a:lnTo>
                  <a:pt x="7426327" y="6991352"/>
                </a:lnTo>
                <a:lnTo>
                  <a:pt x="7550152" y="6883400"/>
                </a:lnTo>
                <a:lnTo>
                  <a:pt x="7626352" y="6813552"/>
                </a:lnTo>
                <a:lnTo>
                  <a:pt x="7702552" y="6743700"/>
                </a:lnTo>
                <a:lnTo>
                  <a:pt x="7775578" y="6670676"/>
                </a:lnTo>
                <a:lnTo>
                  <a:pt x="7845427" y="6597652"/>
                </a:lnTo>
                <a:lnTo>
                  <a:pt x="7915277" y="6521452"/>
                </a:lnTo>
                <a:lnTo>
                  <a:pt x="7985127" y="6445252"/>
                </a:lnTo>
                <a:lnTo>
                  <a:pt x="8051802" y="6369052"/>
                </a:lnTo>
                <a:lnTo>
                  <a:pt x="8115302" y="6289676"/>
                </a:lnTo>
                <a:lnTo>
                  <a:pt x="8178802" y="6210300"/>
                </a:lnTo>
                <a:lnTo>
                  <a:pt x="8242302" y="6127752"/>
                </a:lnTo>
                <a:lnTo>
                  <a:pt x="8302627" y="6045200"/>
                </a:lnTo>
                <a:lnTo>
                  <a:pt x="8359778" y="5959476"/>
                </a:lnTo>
                <a:lnTo>
                  <a:pt x="8416927" y="5876924"/>
                </a:lnTo>
                <a:lnTo>
                  <a:pt x="8470902" y="5788024"/>
                </a:lnTo>
                <a:lnTo>
                  <a:pt x="8524877" y="5699124"/>
                </a:lnTo>
                <a:lnTo>
                  <a:pt x="8575677" y="5610224"/>
                </a:lnTo>
                <a:lnTo>
                  <a:pt x="8642352" y="5489576"/>
                </a:lnTo>
                <a:lnTo>
                  <a:pt x="8696327" y="5375276"/>
                </a:lnTo>
                <a:lnTo>
                  <a:pt x="8737602" y="5280024"/>
                </a:lnTo>
                <a:lnTo>
                  <a:pt x="8775702" y="5194300"/>
                </a:lnTo>
                <a:lnTo>
                  <a:pt x="8804277" y="5114924"/>
                </a:lnTo>
                <a:lnTo>
                  <a:pt x="8829677" y="5041900"/>
                </a:lnTo>
                <a:lnTo>
                  <a:pt x="8851903" y="4975224"/>
                </a:lnTo>
                <a:lnTo>
                  <a:pt x="8867777" y="4914900"/>
                </a:lnTo>
                <a:lnTo>
                  <a:pt x="8883652" y="4860924"/>
                </a:lnTo>
                <a:lnTo>
                  <a:pt x="8893177" y="4813300"/>
                </a:lnTo>
                <a:lnTo>
                  <a:pt x="8902702" y="4737100"/>
                </a:lnTo>
                <a:lnTo>
                  <a:pt x="8909052" y="4679952"/>
                </a:lnTo>
                <a:lnTo>
                  <a:pt x="8909052" y="4648200"/>
                </a:lnTo>
                <a:lnTo>
                  <a:pt x="8905877" y="4638676"/>
                </a:lnTo>
                <a:lnTo>
                  <a:pt x="8902702" y="4514852"/>
                </a:lnTo>
                <a:lnTo>
                  <a:pt x="8890003" y="4397376"/>
                </a:lnTo>
                <a:lnTo>
                  <a:pt x="8874127" y="4283076"/>
                </a:lnTo>
                <a:lnTo>
                  <a:pt x="8851903" y="4178300"/>
                </a:lnTo>
                <a:lnTo>
                  <a:pt x="8823328" y="4079876"/>
                </a:lnTo>
                <a:lnTo>
                  <a:pt x="8791577" y="3984624"/>
                </a:lnTo>
                <a:lnTo>
                  <a:pt x="8756653" y="3895724"/>
                </a:lnTo>
                <a:lnTo>
                  <a:pt x="8718553" y="3813176"/>
                </a:lnTo>
                <a:lnTo>
                  <a:pt x="8677277" y="3736976"/>
                </a:lnTo>
                <a:lnTo>
                  <a:pt x="8632827" y="3663952"/>
                </a:lnTo>
                <a:lnTo>
                  <a:pt x="8585203" y="3597276"/>
                </a:lnTo>
                <a:lnTo>
                  <a:pt x="8537577" y="3533776"/>
                </a:lnTo>
                <a:lnTo>
                  <a:pt x="8486777" y="3476624"/>
                </a:lnTo>
                <a:lnTo>
                  <a:pt x="8435977" y="3422652"/>
                </a:lnTo>
                <a:lnTo>
                  <a:pt x="8382002" y="3375024"/>
                </a:lnTo>
                <a:lnTo>
                  <a:pt x="8331202" y="3330576"/>
                </a:lnTo>
                <a:lnTo>
                  <a:pt x="8280403" y="3289300"/>
                </a:lnTo>
                <a:lnTo>
                  <a:pt x="8226428" y="3251200"/>
                </a:lnTo>
                <a:lnTo>
                  <a:pt x="8175627" y="3219452"/>
                </a:lnTo>
                <a:lnTo>
                  <a:pt x="8124827" y="3187700"/>
                </a:lnTo>
                <a:lnTo>
                  <a:pt x="8077202" y="3162300"/>
                </a:lnTo>
                <a:lnTo>
                  <a:pt x="8061347" y="3154372"/>
                </a:lnTo>
                <a:close/>
                <a:moveTo>
                  <a:pt x="7775578" y="3044824"/>
                </a:moveTo>
                <a:lnTo>
                  <a:pt x="7823202" y="3057524"/>
                </a:lnTo>
                <a:lnTo>
                  <a:pt x="7877177" y="3073400"/>
                </a:lnTo>
                <a:lnTo>
                  <a:pt x="7947027" y="3101976"/>
                </a:lnTo>
                <a:lnTo>
                  <a:pt x="8032752" y="3140076"/>
                </a:lnTo>
                <a:lnTo>
                  <a:pt x="8061347" y="3154372"/>
                </a:lnTo>
                <a:lnTo>
                  <a:pt x="8007352" y="3130552"/>
                </a:lnTo>
                <a:lnTo>
                  <a:pt x="7896228" y="3086100"/>
                </a:lnTo>
                <a:lnTo>
                  <a:pt x="7775578" y="3044824"/>
                </a:lnTo>
                <a:close/>
                <a:moveTo>
                  <a:pt x="6981825" y="2997200"/>
                </a:moveTo>
                <a:lnTo>
                  <a:pt x="7048500" y="2997200"/>
                </a:lnTo>
                <a:lnTo>
                  <a:pt x="7169150" y="3000376"/>
                </a:lnTo>
                <a:lnTo>
                  <a:pt x="7258050" y="3006724"/>
                </a:lnTo>
                <a:lnTo>
                  <a:pt x="7318376" y="3013076"/>
                </a:lnTo>
                <a:lnTo>
                  <a:pt x="7337425" y="3019424"/>
                </a:lnTo>
                <a:lnTo>
                  <a:pt x="7404100" y="3028952"/>
                </a:lnTo>
                <a:lnTo>
                  <a:pt x="7467600" y="3038476"/>
                </a:lnTo>
                <a:lnTo>
                  <a:pt x="7527925" y="3051176"/>
                </a:lnTo>
                <a:lnTo>
                  <a:pt x="7585076" y="3067052"/>
                </a:lnTo>
                <a:lnTo>
                  <a:pt x="7642225" y="3082924"/>
                </a:lnTo>
                <a:lnTo>
                  <a:pt x="7699375" y="3098800"/>
                </a:lnTo>
                <a:lnTo>
                  <a:pt x="7750175" y="3117852"/>
                </a:lnTo>
                <a:lnTo>
                  <a:pt x="7800975" y="3136900"/>
                </a:lnTo>
                <a:lnTo>
                  <a:pt x="7899400" y="3181352"/>
                </a:lnTo>
                <a:lnTo>
                  <a:pt x="7988300" y="3232152"/>
                </a:lnTo>
                <a:lnTo>
                  <a:pt x="8074025" y="3286124"/>
                </a:lnTo>
                <a:lnTo>
                  <a:pt x="8150225" y="3340100"/>
                </a:lnTo>
                <a:lnTo>
                  <a:pt x="8220075" y="3400424"/>
                </a:lnTo>
                <a:lnTo>
                  <a:pt x="8286751" y="3463924"/>
                </a:lnTo>
                <a:lnTo>
                  <a:pt x="8343902" y="3530600"/>
                </a:lnTo>
                <a:lnTo>
                  <a:pt x="8397875" y="3597276"/>
                </a:lnTo>
                <a:lnTo>
                  <a:pt x="8445500" y="3663952"/>
                </a:lnTo>
                <a:lnTo>
                  <a:pt x="8489950" y="3733800"/>
                </a:lnTo>
                <a:lnTo>
                  <a:pt x="8528050" y="3803652"/>
                </a:lnTo>
                <a:lnTo>
                  <a:pt x="8562975" y="3873500"/>
                </a:lnTo>
                <a:lnTo>
                  <a:pt x="8594725" y="3940176"/>
                </a:lnTo>
                <a:lnTo>
                  <a:pt x="8620126" y="4010024"/>
                </a:lnTo>
                <a:lnTo>
                  <a:pt x="8642350" y="4076700"/>
                </a:lnTo>
                <a:lnTo>
                  <a:pt x="8661400" y="4140200"/>
                </a:lnTo>
                <a:lnTo>
                  <a:pt x="8680450" y="4200524"/>
                </a:lnTo>
                <a:lnTo>
                  <a:pt x="8693150" y="4260852"/>
                </a:lnTo>
                <a:lnTo>
                  <a:pt x="8712201" y="4368800"/>
                </a:lnTo>
                <a:lnTo>
                  <a:pt x="8724901" y="4457700"/>
                </a:lnTo>
                <a:lnTo>
                  <a:pt x="8731250" y="4527552"/>
                </a:lnTo>
                <a:lnTo>
                  <a:pt x="8731250" y="4587876"/>
                </a:lnTo>
                <a:lnTo>
                  <a:pt x="8737600" y="4635500"/>
                </a:lnTo>
                <a:lnTo>
                  <a:pt x="8737600" y="4679952"/>
                </a:lnTo>
                <a:lnTo>
                  <a:pt x="8737600" y="4727576"/>
                </a:lnTo>
                <a:lnTo>
                  <a:pt x="8734425" y="4775200"/>
                </a:lnTo>
                <a:lnTo>
                  <a:pt x="8724901" y="4870452"/>
                </a:lnTo>
                <a:lnTo>
                  <a:pt x="8705850" y="4968876"/>
                </a:lnTo>
                <a:lnTo>
                  <a:pt x="8683625" y="5064124"/>
                </a:lnTo>
                <a:lnTo>
                  <a:pt x="8651875" y="5159376"/>
                </a:lnTo>
                <a:lnTo>
                  <a:pt x="8616950" y="5257800"/>
                </a:lnTo>
                <a:lnTo>
                  <a:pt x="8575675" y="5353052"/>
                </a:lnTo>
                <a:lnTo>
                  <a:pt x="8515350" y="5476876"/>
                </a:lnTo>
                <a:lnTo>
                  <a:pt x="8448675" y="5600700"/>
                </a:lnTo>
                <a:lnTo>
                  <a:pt x="8378825" y="5721352"/>
                </a:lnTo>
                <a:lnTo>
                  <a:pt x="8302625" y="5842000"/>
                </a:lnTo>
                <a:lnTo>
                  <a:pt x="8226425" y="5959476"/>
                </a:lnTo>
                <a:lnTo>
                  <a:pt x="8147050" y="6076952"/>
                </a:lnTo>
                <a:lnTo>
                  <a:pt x="8064500" y="6191252"/>
                </a:lnTo>
                <a:lnTo>
                  <a:pt x="7978775" y="6302376"/>
                </a:lnTo>
                <a:lnTo>
                  <a:pt x="7889876" y="6410324"/>
                </a:lnTo>
                <a:lnTo>
                  <a:pt x="7800975" y="6518276"/>
                </a:lnTo>
                <a:lnTo>
                  <a:pt x="7705725" y="6623052"/>
                </a:lnTo>
                <a:lnTo>
                  <a:pt x="7607300" y="6721476"/>
                </a:lnTo>
                <a:lnTo>
                  <a:pt x="7505701" y="6819900"/>
                </a:lnTo>
                <a:lnTo>
                  <a:pt x="7400925" y="6915152"/>
                </a:lnTo>
                <a:lnTo>
                  <a:pt x="7292975" y="7004052"/>
                </a:lnTo>
                <a:lnTo>
                  <a:pt x="7181850" y="7092952"/>
                </a:lnTo>
                <a:lnTo>
                  <a:pt x="7067550" y="7175500"/>
                </a:lnTo>
                <a:lnTo>
                  <a:pt x="6946900" y="7254876"/>
                </a:lnTo>
                <a:lnTo>
                  <a:pt x="6807200" y="7340600"/>
                </a:lnTo>
                <a:lnTo>
                  <a:pt x="6661150" y="7419976"/>
                </a:lnTo>
                <a:lnTo>
                  <a:pt x="6534150" y="7489824"/>
                </a:lnTo>
                <a:lnTo>
                  <a:pt x="6400801" y="7553324"/>
                </a:lnTo>
                <a:lnTo>
                  <a:pt x="6267451" y="7620000"/>
                </a:lnTo>
                <a:lnTo>
                  <a:pt x="6127750" y="7680324"/>
                </a:lnTo>
                <a:lnTo>
                  <a:pt x="5988050" y="7734300"/>
                </a:lnTo>
                <a:lnTo>
                  <a:pt x="5848350" y="7781924"/>
                </a:lnTo>
                <a:lnTo>
                  <a:pt x="5702300" y="7826376"/>
                </a:lnTo>
                <a:lnTo>
                  <a:pt x="5556252" y="7861300"/>
                </a:lnTo>
                <a:lnTo>
                  <a:pt x="5715000" y="7800976"/>
                </a:lnTo>
                <a:lnTo>
                  <a:pt x="5870575" y="7731124"/>
                </a:lnTo>
                <a:lnTo>
                  <a:pt x="6019800" y="7658100"/>
                </a:lnTo>
                <a:lnTo>
                  <a:pt x="6169026" y="7581900"/>
                </a:lnTo>
                <a:lnTo>
                  <a:pt x="6311900" y="7496176"/>
                </a:lnTo>
                <a:lnTo>
                  <a:pt x="6451600" y="7410452"/>
                </a:lnTo>
                <a:lnTo>
                  <a:pt x="6569075" y="7334252"/>
                </a:lnTo>
                <a:lnTo>
                  <a:pt x="6683375" y="7251700"/>
                </a:lnTo>
                <a:lnTo>
                  <a:pt x="6911975" y="7077076"/>
                </a:lnTo>
                <a:lnTo>
                  <a:pt x="7023100" y="6985000"/>
                </a:lnTo>
                <a:lnTo>
                  <a:pt x="7134225" y="6892924"/>
                </a:lnTo>
                <a:lnTo>
                  <a:pt x="7242175" y="6797676"/>
                </a:lnTo>
                <a:lnTo>
                  <a:pt x="7346951" y="6702424"/>
                </a:lnTo>
                <a:lnTo>
                  <a:pt x="7448550" y="6600824"/>
                </a:lnTo>
                <a:lnTo>
                  <a:pt x="7546975" y="6499224"/>
                </a:lnTo>
                <a:lnTo>
                  <a:pt x="7642225" y="6391276"/>
                </a:lnTo>
                <a:lnTo>
                  <a:pt x="7731126" y="6280152"/>
                </a:lnTo>
                <a:lnTo>
                  <a:pt x="7816850" y="6165852"/>
                </a:lnTo>
                <a:lnTo>
                  <a:pt x="7854950" y="6105524"/>
                </a:lnTo>
                <a:lnTo>
                  <a:pt x="7893050" y="6045200"/>
                </a:lnTo>
                <a:lnTo>
                  <a:pt x="7931150" y="5984876"/>
                </a:lnTo>
                <a:lnTo>
                  <a:pt x="7966075" y="5921376"/>
                </a:lnTo>
                <a:lnTo>
                  <a:pt x="7997825" y="5857876"/>
                </a:lnTo>
                <a:lnTo>
                  <a:pt x="8029575" y="5791200"/>
                </a:lnTo>
                <a:lnTo>
                  <a:pt x="8058150" y="5724524"/>
                </a:lnTo>
                <a:lnTo>
                  <a:pt x="8086725" y="5654676"/>
                </a:lnTo>
                <a:lnTo>
                  <a:pt x="8112125" y="5584824"/>
                </a:lnTo>
                <a:lnTo>
                  <a:pt x="8137525" y="5514976"/>
                </a:lnTo>
                <a:lnTo>
                  <a:pt x="8156575" y="5451476"/>
                </a:lnTo>
                <a:lnTo>
                  <a:pt x="8172450" y="5387976"/>
                </a:lnTo>
                <a:lnTo>
                  <a:pt x="8185151" y="5330824"/>
                </a:lnTo>
                <a:lnTo>
                  <a:pt x="8194676" y="5276852"/>
                </a:lnTo>
                <a:lnTo>
                  <a:pt x="8204200" y="5200652"/>
                </a:lnTo>
                <a:lnTo>
                  <a:pt x="8210552" y="5133976"/>
                </a:lnTo>
                <a:lnTo>
                  <a:pt x="8213725" y="5076824"/>
                </a:lnTo>
                <a:lnTo>
                  <a:pt x="8213725" y="5026024"/>
                </a:lnTo>
                <a:lnTo>
                  <a:pt x="8210552" y="4959352"/>
                </a:lnTo>
                <a:lnTo>
                  <a:pt x="8210552" y="4933952"/>
                </a:lnTo>
                <a:lnTo>
                  <a:pt x="8204200" y="4854576"/>
                </a:lnTo>
                <a:lnTo>
                  <a:pt x="8194676" y="4778376"/>
                </a:lnTo>
                <a:lnTo>
                  <a:pt x="8181976" y="4708524"/>
                </a:lnTo>
                <a:lnTo>
                  <a:pt x="8169275" y="4638676"/>
                </a:lnTo>
                <a:lnTo>
                  <a:pt x="8153400" y="4575176"/>
                </a:lnTo>
                <a:lnTo>
                  <a:pt x="8134350" y="4514852"/>
                </a:lnTo>
                <a:lnTo>
                  <a:pt x="8112125" y="4460876"/>
                </a:lnTo>
                <a:lnTo>
                  <a:pt x="8093075" y="4406900"/>
                </a:lnTo>
                <a:lnTo>
                  <a:pt x="8067675" y="4356100"/>
                </a:lnTo>
                <a:lnTo>
                  <a:pt x="8042275" y="4311652"/>
                </a:lnTo>
                <a:lnTo>
                  <a:pt x="8016875" y="4267200"/>
                </a:lnTo>
                <a:lnTo>
                  <a:pt x="7991475" y="4229100"/>
                </a:lnTo>
                <a:lnTo>
                  <a:pt x="7966075" y="4191000"/>
                </a:lnTo>
                <a:lnTo>
                  <a:pt x="7937500" y="4156076"/>
                </a:lnTo>
                <a:lnTo>
                  <a:pt x="7908925" y="4127500"/>
                </a:lnTo>
                <a:lnTo>
                  <a:pt x="7880350" y="4098924"/>
                </a:lnTo>
                <a:lnTo>
                  <a:pt x="7826375" y="4048124"/>
                </a:lnTo>
                <a:lnTo>
                  <a:pt x="7772400" y="4006852"/>
                </a:lnTo>
                <a:lnTo>
                  <a:pt x="7724775" y="3975100"/>
                </a:lnTo>
                <a:lnTo>
                  <a:pt x="7680325" y="3952876"/>
                </a:lnTo>
                <a:lnTo>
                  <a:pt x="7642225" y="3933824"/>
                </a:lnTo>
                <a:lnTo>
                  <a:pt x="7616825" y="3924300"/>
                </a:lnTo>
                <a:lnTo>
                  <a:pt x="7591425" y="3914776"/>
                </a:lnTo>
                <a:lnTo>
                  <a:pt x="7629525" y="3971924"/>
                </a:lnTo>
                <a:lnTo>
                  <a:pt x="7664451" y="4025900"/>
                </a:lnTo>
                <a:lnTo>
                  <a:pt x="7696200" y="4076700"/>
                </a:lnTo>
                <a:lnTo>
                  <a:pt x="7724775" y="4127500"/>
                </a:lnTo>
                <a:lnTo>
                  <a:pt x="7747000" y="4178300"/>
                </a:lnTo>
                <a:lnTo>
                  <a:pt x="7769226" y="4225924"/>
                </a:lnTo>
                <a:lnTo>
                  <a:pt x="7785102" y="4273552"/>
                </a:lnTo>
                <a:lnTo>
                  <a:pt x="7800975" y="4318000"/>
                </a:lnTo>
                <a:lnTo>
                  <a:pt x="7813675" y="4362452"/>
                </a:lnTo>
                <a:lnTo>
                  <a:pt x="7820025" y="4406900"/>
                </a:lnTo>
                <a:lnTo>
                  <a:pt x="7826375" y="4448176"/>
                </a:lnTo>
                <a:lnTo>
                  <a:pt x="7829550" y="4489452"/>
                </a:lnTo>
                <a:lnTo>
                  <a:pt x="7832725" y="4527552"/>
                </a:lnTo>
                <a:lnTo>
                  <a:pt x="7829550" y="4565652"/>
                </a:lnTo>
                <a:lnTo>
                  <a:pt x="7826375" y="4600576"/>
                </a:lnTo>
                <a:lnTo>
                  <a:pt x="7823200" y="4635500"/>
                </a:lnTo>
                <a:lnTo>
                  <a:pt x="7813675" y="4670424"/>
                </a:lnTo>
                <a:lnTo>
                  <a:pt x="7804150" y="4702176"/>
                </a:lnTo>
                <a:lnTo>
                  <a:pt x="7781925" y="4765676"/>
                </a:lnTo>
                <a:lnTo>
                  <a:pt x="7753350" y="4819652"/>
                </a:lnTo>
                <a:lnTo>
                  <a:pt x="7721600" y="4873624"/>
                </a:lnTo>
                <a:lnTo>
                  <a:pt x="7683500" y="4921252"/>
                </a:lnTo>
                <a:lnTo>
                  <a:pt x="7645400" y="4962524"/>
                </a:lnTo>
                <a:lnTo>
                  <a:pt x="7607300" y="5000624"/>
                </a:lnTo>
                <a:lnTo>
                  <a:pt x="7566025" y="5035552"/>
                </a:lnTo>
                <a:lnTo>
                  <a:pt x="7546975" y="5045076"/>
                </a:lnTo>
                <a:lnTo>
                  <a:pt x="7524750" y="5060952"/>
                </a:lnTo>
                <a:lnTo>
                  <a:pt x="7477126" y="5095876"/>
                </a:lnTo>
                <a:lnTo>
                  <a:pt x="7451726" y="5114924"/>
                </a:lnTo>
                <a:lnTo>
                  <a:pt x="7423150" y="5130800"/>
                </a:lnTo>
                <a:lnTo>
                  <a:pt x="7391400" y="5143500"/>
                </a:lnTo>
                <a:lnTo>
                  <a:pt x="7375525" y="5146676"/>
                </a:lnTo>
                <a:lnTo>
                  <a:pt x="7356475" y="5146676"/>
                </a:lnTo>
                <a:lnTo>
                  <a:pt x="7397750" y="5121276"/>
                </a:lnTo>
                <a:lnTo>
                  <a:pt x="7435850" y="5092700"/>
                </a:lnTo>
                <a:lnTo>
                  <a:pt x="7467600" y="5060952"/>
                </a:lnTo>
                <a:lnTo>
                  <a:pt x="7499350" y="5026024"/>
                </a:lnTo>
                <a:lnTo>
                  <a:pt x="7527925" y="4987924"/>
                </a:lnTo>
                <a:lnTo>
                  <a:pt x="7553325" y="4949824"/>
                </a:lnTo>
                <a:lnTo>
                  <a:pt x="7575550" y="4908552"/>
                </a:lnTo>
                <a:lnTo>
                  <a:pt x="7594600" y="4867276"/>
                </a:lnTo>
                <a:lnTo>
                  <a:pt x="7610475" y="4822824"/>
                </a:lnTo>
                <a:lnTo>
                  <a:pt x="7623175" y="4778376"/>
                </a:lnTo>
                <a:lnTo>
                  <a:pt x="7632700" y="4733924"/>
                </a:lnTo>
                <a:lnTo>
                  <a:pt x="7642225" y="4689476"/>
                </a:lnTo>
                <a:lnTo>
                  <a:pt x="7645400" y="4645024"/>
                </a:lnTo>
                <a:lnTo>
                  <a:pt x="7648575" y="4600576"/>
                </a:lnTo>
                <a:lnTo>
                  <a:pt x="7645400" y="4556124"/>
                </a:lnTo>
                <a:lnTo>
                  <a:pt x="7642225" y="4514852"/>
                </a:lnTo>
                <a:lnTo>
                  <a:pt x="7626350" y="4451352"/>
                </a:lnTo>
                <a:lnTo>
                  <a:pt x="7610475" y="4384676"/>
                </a:lnTo>
                <a:lnTo>
                  <a:pt x="7585076" y="4321176"/>
                </a:lnTo>
                <a:lnTo>
                  <a:pt x="7559675" y="4260852"/>
                </a:lnTo>
                <a:lnTo>
                  <a:pt x="7527925" y="4197352"/>
                </a:lnTo>
                <a:lnTo>
                  <a:pt x="7493000" y="4140200"/>
                </a:lnTo>
                <a:lnTo>
                  <a:pt x="7454900" y="4086224"/>
                </a:lnTo>
                <a:lnTo>
                  <a:pt x="7413626" y="4032252"/>
                </a:lnTo>
                <a:lnTo>
                  <a:pt x="7366000" y="3984624"/>
                </a:lnTo>
                <a:lnTo>
                  <a:pt x="7315200" y="3940176"/>
                </a:lnTo>
                <a:lnTo>
                  <a:pt x="7264400" y="3902076"/>
                </a:lnTo>
                <a:lnTo>
                  <a:pt x="7207250" y="3867152"/>
                </a:lnTo>
                <a:lnTo>
                  <a:pt x="7146925" y="3838576"/>
                </a:lnTo>
                <a:lnTo>
                  <a:pt x="7083425" y="3813176"/>
                </a:lnTo>
                <a:lnTo>
                  <a:pt x="7016750" y="3797300"/>
                </a:lnTo>
                <a:lnTo>
                  <a:pt x="6946900" y="3787776"/>
                </a:lnTo>
                <a:lnTo>
                  <a:pt x="7010400" y="3825876"/>
                </a:lnTo>
                <a:lnTo>
                  <a:pt x="7073900" y="3870324"/>
                </a:lnTo>
                <a:lnTo>
                  <a:pt x="7131050" y="3921124"/>
                </a:lnTo>
                <a:lnTo>
                  <a:pt x="7188201" y="3971924"/>
                </a:lnTo>
                <a:lnTo>
                  <a:pt x="7239000" y="4029076"/>
                </a:lnTo>
                <a:lnTo>
                  <a:pt x="7286625" y="4092576"/>
                </a:lnTo>
                <a:lnTo>
                  <a:pt x="7327900" y="4156076"/>
                </a:lnTo>
                <a:lnTo>
                  <a:pt x="7366000" y="4222752"/>
                </a:lnTo>
                <a:lnTo>
                  <a:pt x="7394575" y="4292600"/>
                </a:lnTo>
                <a:lnTo>
                  <a:pt x="7407275" y="4327524"/>
                </a:lnTo>
                <a:lnTo>
                  <a:pt x="7416800" y="4362452"/>
                </a:lnTo>
                <a:lnTo>
                  <a:pt x="7423150" y="4397376"/>
                </a:lnTo>
                <a:lnTo>
                  <a:pt x="7429500" y="4435476"/>
                </a:lnTo>
                <a:lnTo>
                  <a:pt x="7432675" y="4470400"/>
                </a:lnTo>
                <a:lnTo>
                  <a:pt x="7435850" y="4508500"/>
                </a:lnTo>
                <a:lnTo>
                  <a:pt x="7435850" y="4543424"/>
                </a:lnTo>
                <a:lnTo>
                  <a:pt x="7432675" y="4581524"/>
                </a:lnTo>
                <a:lnTo>
                  <a:pt x="7426325" y="4619624"/>
                </a:lnTo>
                <a:lnTo>
                  <a:pt x="7416800" y="4654552"/>
                </a:lnTo>
                <a:lnTo>
                  <a:pt x="7407275" y="4692652"/>
                </a:lnTo>
                <a:lnTo>
                  <a:pt x="7394575" y="4727576"/>
                </a:lnTo>
                <a:lnTo>
                  <a:pt x="7375525" y="4762500"/>
                </a:lnTo>
                <a:lnTo>
                  <a:pt x="7356475" y="4800600"/>
                </a:lnTo>
                <a:lnTo>
                  <a:pt x="7315200" y="4864100"/>
                </a:lnTo>
                <a:lnTo>
                  <a:pt x="7267575" y="4921252"/>
                </a:lnTo>
                <a:lnTo>
                  <a:pt x="7219950" y="4968876"/>
                </a:lnTo>
                <a:lnTo>
                  <a:pt x="7172325" y="5013324"/>
                </a:lnTo>
                <a:lnTo>
                  <a:pt x="7118351" y="5048252"/>
                </a:lnTo>
                <a:lnTo>
                  <a:pt x="7064375" y="5076824"/>
                </a:lnTo>
                <a:lnTo>
                  <a:pt x="7007225" y="5102224"/>
                </a:lnTo>
                <a:lnTo>
                  <a:pt x="6946900" y="5121276"/>
                </a:lnTo>
                <a:lnTo>
                  <a:pt x="6889750" y="5137152"/>
                </a:lnTo>
                <a:lnTo>
                  <a:pt x="6826251" y="5146676"/>
                </a:lnTo>
                <a:lnTo>
                  <a:pt x="6762750" y="5153024"/>
                </a:lnTo>
                <a:lnTo>
                  <a:pt x="6699250" y="5153024"/>
                </a:lnTo>
                <a:lnTo>
                  <a:pt x="6632575" y="5153024"/>
                </a:lnTo>
                <a:lnTo>
                  <a:pt x="6565900" y="5149852"/>
                </a:lnTo>
                <a:lnTo>
                  <a:pt x="6499225" y="5143500"/>
                </a:lnTo>
                <a:lnTo>
                  <a:pt x="6432550" y="5133976"/>
                </a:lnTo>
                <a:lnTo>
                  <a:pt x="6292851" y="5111752"/>
                </a:lnTo>
                <a:lnTo>
                  <a:pt x="6153150" y="5083176"/>
                </a:lnTo>
                <a:lnTo>
                  <a:pt x="6013450" y="5057776"/>
                </a:lnTo>
                <a:lnTo>
                  <a:pt x="5873750" y="5029200"/>
                </a:lnTo>
                <a:lnTo>
                  <a:pt x="5737225" y="5010152"/>
                </a:lnTo>
                <a:lnTo>
                  <a:pt x="5670550" y="5003800"/>
                </a:lnTo>
                <a:lnTo>
                  <a:pt x="5603875" y="4997452"/>
                </a:lnTo>
                <a:lnTo>
                  <a:pt x="5537202" y="4997452"/>
                </a:lnTo>
                <a:lnTo>
                  <a:pt x="5473702" y="4997452"/>
                </a:lnTo>
                <a:lnTo>
                  <a:pt x="5410202" y="5003800"/>
                </a:lnTo>
                <a:lnTo>
                  <a:pt x="5346701" y="5010152"/>
                </a:lnTo>
                <a:lnTo>
                  <a:pt x="5194302" y="5006976"/>
                </a:lnTo>
                <a:lnTo>
                  <a:pt x="5048252" y="5013324"/>
                </a:lnTo>
                <a:lnTo>
                  <a:pt x="4914902" y="5022852"/>
                </a:lnTo>
                <a:lnTo>
                  <a:pt x="4791076" y="5041900"/>
                </a:lnTo>
                <a:lnTo>
                  <a:pt x="4676777" y="5064124"/>
                </a:lnTo>
                <a:lnTo>
                  <a:pt x="4568827" y="5092700"/>
                </a:lnTo>
                <a:lnTo>
                  <a:pt x="4473576" y="5124452"/>
                </a:lnTo>
                <a:lnTo>
                  <a:pt x="4381501" y="5159376"/>
                </a:lnTo>
                <a:lnTo>
                  <a:pt x="4302127" y="5194300"/>
                </a:lnTo>
                <a:lnTo>
                  <a:pt x="4229102" y="5235576"/>
                </a:lnTo>
                <a:lnTo>
                  <a:pt x="4162427" y="5276852"/>
                </a:lnTo>
                <a:lnTo>
                  <a:pt x="4102102" y="5318124"/>
                </a:lnTo>
                <a:lnTo>
                  <a:pt x="4048126" y="5362576"/>
                </a:lnTo>
                <a:lnTo>
                  <a:pt x="4000502" y="5403852"/>
                </a:lnTo>
                <a:lnTo>
                  <a:pt x="3962401" y="5445124"/>
                </a:lnTo>
                <a:lnTo>
                  <a:pt x="3924301" y="5483224"/>
                </a:lnTo>
                <a:lnTo>
                  <a:pt x="3895725" y="5521324"/>
                </a:lnTo>
                <a:lnTo>
                  <a:pt x="3870326" y="5553076"/>
                </a:lnTo>
                <a:lnTo>
                  <a:pt x="3835401" y="5610224"/>
                </a:lnTo>
                <a:lnTo>
                  <a:pt x="3816351" y="5648324"/>
                </a:lnTo>
                <a:lnTo>
                  <a:pt x="3810001" y="5661024"/>
                </a:lnTo>
                <a:lnTo>
                  <a:pt x="3790951" y="5692776"/>
                </a:lnTo>
                <a:lnTo>
                  <a:pt x="3771900" y="5721352"/>
                </a:lnTo>
                <a:lnTo>
                  <a:pt x="3752851" y="5746752"/>
                </a:lnTo>
                <a:lnTo>
                  <a:pt x="3733801" y="5772152"/>
                </a:lnTo>
                <a:lnTo>
                  <a:pt x="3711575" y="5791200"/>
                </a:lnTo>
                <a:lnTo>
                  <a:pt x="3692525" y="5807076"/>
                </a:lnTo>
                <a:lnTo>
                  <a:pt x="3670300" y="5822952"/>
                </a:lnTo>
                <a:lnTo>
                  <a:pt x="3648076" y="5835652"/>
                </a:lnTo>
                <a:lnTo>
                  <a:pt x="3625851" y="5845176"/>
                </a:lnTo>
                <a:lnTo>
                  <a:pt x="3603626" y="5851524"/>
                </a:lnTo>
                <a:lnTo>
                  <a:pt x="3559176" y="5864224"/>
                </a:lnTo>
                <a:lnTo>
                  <a:pt x="3517901" y="5867400"/>
                </a:lnTo>
                <a:lnTo>
                  <a:pt x="3473450" y="5867400"/>
                </a:lnTo>
                <a:lnTo>
                  <a:pt x="3435350" y="5861052"/>
                </a:lnTo>
                <a:lnTo>
                  <a:pt x="3397250" y="5851524"/>
                </a:lnTo>
                <a:lnTo>
                  <a:pt x="3362325" y="5842000"/>
                </a:lnTo>
                <a:lnTo>
                  <a:pt x="3333751" y="5829300"/>
                </a:lnTo>
                <a:lnTo>
                  <a:pt x="3292476" y="5810252"/>
                </a:lnTo>
                <a:lnTo>
                  <a:pt x="3276601" y="5800724"/>
                </a:lnTo>
                <a:lnTo>
                  <a:pt x="3254375" y="5762624"/>
                </a:lnTo>
                <a:lnTo>
                  <a:pt x="3238500" y="5724524"/>
                </a:lnTo>
                <a:lnTo>
                  <a:pt x="3225801" y="5686424"/>
                </a:lnTo>
                <a:lnTo>
                  <a:pt x="3222626" y="5645152"/>
                </a:lnTo>
                <a:lnTo>
                  <a:pt x="3222626" y="5603876"/>
                </a:lnTo>
                <a:lnTo>
                  <a:pt x="3228975" y="5565776"/>
                </a:lnTo>
                <a:lnTo>
                  <a:pt x="3238500" y="5524500"/>
                </a:lnTo>
                <a:lnTo>
                  <a:pt x="3254375" y="5483224"/>
                </a:lnTo>
                <a:lnTo>
                  <a:pt x="3273426" y="5441952"/>
                </a:lnTo>
                <a:lnTo>
                  <a:pt x="3295650" y="5403852"/>
                </a:lnTo>
                <a:lnTo>
                  <a:pt x="3321050" y="5362576"/>
                </a:lnTo>
                <a:lnTo>
                  <a:pt x="3349626" y="5324476"/>
                </a:lnTo>
                <a:lnTo>
                  <a:pt x="3378200" y="5286376"/>
                </a:lnTo>
                <a:lnTo>
                  <a:pt x="3409951" y="5248276"/>
                </a:lnTo>
                <a:lnTo>
                  <a:pt x="3479800" y="5175252"/>
                </a:lnTo>
                <a:lnTo>
                  <a:pt x="3552826" y="5108576"/>
                </a:lnTo>
                <a:lnTo>
                  <a:pt x="3625851" y="5048252"/>
                </a:lnTo>
                <a:lnTo>
                  <a:pt x="3695700" y="4994276"/>
                </a:lnTo>
                <a:lnTo>
                  <a:pt x="3762375" y="4946652"/>
                </a:lnTo>
                <a:lnTo>
                  <a:pt x="3860801" y="4876800"/>
                </a:lnTo>
                <a:lnTo>
                  <a:pt x="3898901" y="4854576"/>
                </a:lnTo>
                <a:lnTo>
                  <a:pt x="3854450" y="4864100"/>
                </a:lnTo>
                <a:lnTo>
                  <a:pt x="3806826" y="4876800"/>
                </a:lnTo>
                <a:lnTo>
                  <a:pt x="3762375" y="4892676"/>
                </a:lnTo>
                <a:lnTo>
                  <a:pt x="3714751" y="4914900"/>
                </a:lnTo>
                <a:lnTo>
                  <a:pt x="3670300" y="4937124"/>
                </a:lnTo>
                <a:lnTo>
                  <a:pt x="3625851" y="4965700"/>
                </a:lnTo>
                <a:lnTo>
                  <a:pt x="3581400" y="4994276"/>
                </a:lnTo>
                <a:lnTo>
                  <a:pt x="3536951" y="5026024"/>
                </a:lnTo>
                <a:lnTo>
                  <a:pt x="3451225" y="5092700"/>
                </a:lnTo>
                <a:lnTo>
                  <a:pt x="3368676" y="5168900"/>
                </a:lnTo>
                <a:lnTo>
                  <a:pt x="3292476" y="5245100"/>
                </a:lnTo>
                <a:lnTo>
                  <a:pt x="3219451" y="5324476"/>
                </a:lnTo>
                <a:lnTo>
                  <a:pt x="3149601" y="5403852"/>
                </a:lnTo>
                <a:lnTo>
                  <a:pt x="3089276" y="5480052"/>
                </a:lnTo>
                <a:lnTo>
                  <a:pt x="3035301" y="5549900"/>
                </a:lnTo>
                <a:lnTo>
                  <a:pt x="2990850" y="5610224"/>
                </a:lnTo>
                <a:lnTo>
                  <a:pt x="2927351" y="5702300"/>
                </a:lnTo>
                <a:lnTo>
                  <a:pt x="2901950" y="5737224"/>
                </a:lnTo>
                <a:lnTo>
                  <a:pt x="2838450" y="5727700"/>
                </a:lnTo>
                <a:lnTo>
                  <a:pt x="2778126" y="5718176"/>
                </a:lnTo>
                <a:lnTo>
                  <a:pt x="2670176" y="5692776"/>
                </a:lnTo>
                <a:lnTo>
                  <a:pt x="2578101" y="5667376"/>
                </a:lnTo>
                <a:lnTo>
                  <a:pt x="2505075" y="5641976"/>
                </a:lnTo>
                <a:lnTo>
                  <a:pt x="2447926" y="5616576"/>
                </a:lnTo>
                <a:lnTo>
                  <a:pt x="2406650" y="5597524"/>
                </a:lnTo>
                <a:lnTo>
                  <a:pt x="2371725" y="5578476"/>
                </a:lnTo>
                <a:lnTo>
                  <a:pt x="2339976" y="5549900"/>
                </a:lnTo>
                <a:lnTo>
                  <a:pt x="2317751" y="5521324"/>
                </a:lnTo>
                <a:lnTo>
                  <a:pt x="2298701" y="5495924"/>
                </a:lnTo>
                <a:lnTo>
                  <a:pt x="2286001" y="5470524"/>
                </a:lnTo>
                <a:lnTo>
                  <a:pt x="2279650" y="5448300"/>
                </a:lnTo>
                <a:lnTo>
                  <a:pt x="2276475" y="5429252"/>
                </a:lnTo>
                <a:lnTo>
                  <a:pt x="2279650" y="5410200"/>
                </a:lnTo>
                <a:lnTo>
                  <a:pt x="2282826" y="5394324"/>
                </a:lnTo>
                <a:lnTo>
                  <a:pt x="2289176" y="5381624"/>
                </a:lnTo>
                <a:lnTo>
                  <a:pt x="2298701" y="5368924"/>
                </a:lnTo>
                <a:lnTo>
                  <a:pt x="2314575" y="5349876"/>
                </a:lnTo>
                <a:lnTo>
                  <a:pt x="2327276" y="5337176"/>
                </a:lnTo>
                <a:lnTo>
                  <a:pt x="2333625" y="5334000"/>
                </a:lnTo>
                <a:lnTo>
                  <a:pt x="2384425" y="5302252"/>
                </a:lnTo>
                <a:lnTo>
                  <a:pt x="2432051" y="5273676"/>
                </a:lnTo>
                <a:lnTo>
                  <a:pt x="2473326" y="5241924"/>
                </a:lnTo>
                <a:lnTo>
                  <a:pt x="2514600" y="5210176"/>
                </a:lnTo>
                <a:lnTo>
                  <a:pt x="2581276" y="5153024"/>
                </a:lnTo>
                <a:lnTo>
                  <a:pt x="2635251" y="5099052"/>
                </a:lnTo>
                <a:lnTo>
                  <a:pt x="2676526" y="5051424"/>
                </a:lnTo>
                <a:lnTo>
                  <a:pt x="2708276" y="5016500"/>
                </a:lnTo>
                <a:lnTo>
                  <a:pt x="2730501" y="4984752"/>
                </a:lnTo>
                <a:lnTo>
                  <a:pt x="2765426" y="4924424"/>
                </a:lnTo>
                <a:lnTo>
                  <a:pt x="2794000" y="4870452"/>
                </a:lnTo>
                <a:lnTo>
                  <a:pt x="2813050" y="4816476"/>
                </a:lnTo>
                <a:lnTo>
                  <a:pt x="2822576" y="4772024"/>
                </a:lnTo>
                <a:lnTo>
                  <a:pt x="2825750" y="4727576"/>
                </a:lnTo>
                <a:lnTo>
                  <a:pt x="2822576" y="4689476"/>
                </a:lnTo>
                <a:lnTo>
                  <a:pt x="2813050" y="4654552"/>
                </a:lnTo>
                <a:lnTo>
                  <a:pt x="2803526" y="4622800"/>
                </a:lnTo>
                <a:lnTo>
                  <a:pt x="2787650" y="4594224"/>
                </a:lnTo>
                <a:lnTo>
                  <a:pt x="2774950" y="4572000"/>
                </a:lnTo>
                <a:lnTo>
                  <a:pt x="2759076" y="4549776"/>
                </a:lnTo>
                <a:lnTo>
                  <a:pt x="2743201" y="4533900"/>
                </a:lnTo>
                <a:lnTo>
                  <a:pt x="2717800" y="4514852"/>
                </a:lnTo>
                <a:lnTo>
                  <a:pt x="2705100" y="4505324"/>
                </a:lnTo>
                <a:lnTo>
                  <a:pt x="2698750" y="4492624"/>
                </a:lnTo>
                <a:lnTo>
                  <a:pt x="2695575" y="4476752"/>
                </a:lnTo>
                <a:lnTo>
                  <a:pt x="2695575" y="4464052"/>
                </a:lnTo>
                <a:lnTo>
                  <a:pt x="2698750" y="4451352"/>
                </a:lnTo>
                <a:lnTo>
                  <a:pt x="2701925" y="4438652"/>
                </a:lnTo>
                <a:lnTo>
                  <a:pt x="2711451" y="4425952"/>
                </a:lnTo>
                <a:lnTo>
                  <a:pt x="2724151" y="4413252"/>
                </a:lnTo>
                <a:lnTo>
                  <a:pt x="2736850" y="4400552"/>
                </a:lnTo>
                <a:lnTo>
                  <a:pt x="2771775" y="4378324"/>
                </a:lnTo>
                <a:lnTo>
                  <a:pt x="2813050" y="4359276"/>
                </a:lnTo>
                <a:lnTo>
                  <a:pt x="2857501" y="4340224"/>
                </a:lnTo>
                <a:lnTo>
                  <a:pt x="2905125" y="4324352"/>
                </a:lnTo>
                <a:lnTo>
                  <a:pt x="3003551" y="4295776"/>
                </a:lnTo>
                <a:lnTo>
                  <a:pt x="3095625" y="4276724"/>
                </a:lnTo>
                <a:lnTo>
                  <a:pt x="3184526" y="4257676"/>
                </a:lnTo>
                <a:lnTo>
                  <a:pt x="3419476" y="4276724"/>
                </a:lnTo>
                <a:lnTo>
                  <a:pt x="3635375" y="4289424"/>
                </a:lnTo>
                <a:lnTo>
                  <a:pt x="3829051" y="4298952"/>
                </a:lnTo>
                <a:lnTo>
                  <a:pt x="3997326" y="4305300"/>
                </a:lnTo>
                <a:lnTo>
                  <a:pt x="4146551" y="4308476"/>
                </a:lnTo>
                <a:lnTo>
                  <a:pt x="4273551" y="4305300"/>
                </a:lnTo>
                <a:lnTo>
                  <a:pt x="4381501" y="4305300"/>
                </a:lnTo>
                <a:lnTo>
                  <a:pt x="4467225" y="4302124"/>
                </a:lnTo>
                <a:lnTo>
                  <a:pt x="4581526" y="4292600"/>
                </a:lnTo>
                <a:lnTo>
                  <a:pt x="4616451" y="4289424"/>
                </a:lnTo>
                <a:lnTo>
                  <a:pt x="4670427" y="4289424"/>
                </a:lnTo>
                <a:lnTo>
                  <a:pt x="4718052" y="4283076"/>
                </a:lnTo>
                <a:lnTo>
                  <a:pt x="4768852" y="4276724"/>
                </a:lnTo>
                <a:lnTo>
                  <a:pt x="4816475" y="4264024"/>
                </a:lnTo>
                <a:lnTo>
                  <a:pt x="4860927" y="4251324"/>
                </a:lnTo>
                <a:lnTo>
                  <a:pt x="4908550" y="4235452"/>
                </a:lnTo>
                <a:lnTo>
                  <a:pt x="4953002" y="4216400"/>
                </a:lnTo>
                <a:lnTo>
                  <a:pt x="4997451" y="4194176"/>
                </a:lnTo>
                <a:lnTo>
                  <a:pt x="5083176" y="4146552"/>
                </a:lnTo>
                <a:lnTo>
                  <a:pt x="5168902" y="4092576"/>
                </a:lnTo>
                <a:lnTo>
                  <a:pt x="5254626" y="4035424"/>
                </a:lnTo>
                <a:lnTo>
                  <a:pt x="5337177" y="3978276"/>
                </a:lnTo>
                <a:lnTo>
                  <a:pt x="5321302" y="4022724"/>
                </a:lnTo>
                <a:lnTo>
                  <a:pt x="5305426" y="4067176"/>
                </a:lnTo>
                <a:lnTo>
                  <a:pt x="5289551" y="4111624"/>
                </a:lnTo>
                <a:lnTo>
                  <a:pt x="5267326" y="4149724"/>
                </a:lnTo>
                <a:lnTo>
                  <a:pt x="5245102" y="4191000"/>
                </a:lnTo>
                <a:lnTo>
                  <a:pt x="5219701" y="4225924"/>
                </a:lnTo>
                <a:lnTo>
                  <a:pt x="5194302" y="4264024"/>
                </a:lnTo>
                <a:lnTo>
                  <a:pt x="5165726" y="4298952"/>
                </a:lnTo>
                <a:lnTo>
                  <a:pt x="5108575" y="4362452"/>
                </a:lnTo>
                <a:lnTo>
                  <a:pt x="5048252" y="4425952"/>
                </a:lnTo>
                <a:lnTo>
                  <a:pt x="4924426" y="4546600"/>
                </a:lnTo>
                <a:lnTo>
                  <a:pt x="4965701" y="4552952"/>
                </a:lnTo>
                <a:lnTo>
                  <a:pt x="5006976" y="4562476"/>
                </a:lnTo>
                <a:lnTo>
                  <a:pt x="5086351" y="4584700"/>
                </a:lnTo>
                <a:lnTo>
                  <a:pt x="5165726" y="4606924"/>
                </a:lnTo>
                <a:lnTo>
                  <a:pt x="5241926" y="4629152"/>
                </a:lnTo>
                <a:lnTo>
                  <a:pt x="5318127" y="4648200"/>
                </a:lnTo>
                <a:lnTo>
                  <a:pt x="5356226" y="4654552"/>
                </a:lnTo>
                <a:lnTo>
                  <a:pt x="5397502" y="4657724"/>
                </a:lnTo>
                <a:lnTo>
                  <a:pt x="5435601" y="4657724"/>
                </a:lnTo>
                <a:lnTo>
                  <a:pt x="5476875" y="4657724"/>
                </a:lnTo>
                <a:lnTo>
                  <a:pt x="5514977" y="4651376"/>
                </a:lnTo>
                <a:lnTo>
                  <a:pt x="5556252" y="4641852"/>
                </a:lnTo>
                <a:lnTo>
                  <a:pt x="5524501" y="4581524"/>
                </a:lnTo>
                <a:lnTo>
                  <a:pt x="5495927" y="4521200"/>
                </a:lnTo>
                <a:lnTo>
                  <a:pt x="5476875" y="4460876"/>
                </a:lnTo>
                <a:lnTo>
                  <a:pt x="5457826" y="4403724"/>
                </a:lnTo>
                <a:lnTo>
                  <a:pt x="5448302" y="4343400"/>
                </a:lnTo>
                <a:lnTo>
                  <a:pt x="5441951" y="4283076"/>
                </a:lnTo>
                <a:lnTo>
                  <a:pt x="5438777" y="4222752"/>
                </a:lnTo>
                <a:lnTo>
                  <a:pt x="5441951" y="4165600"/>
                </a:lnTo>
                <a:lnTo>
                  <a:pt x="5448302" y="4105276"/>
                </a:lnTo>
                <a:lnTo>
                  <a:pt x="5457826" y="4048124"/>
                </a:lnTo>
                <a:lnTo>
                  <a:pt x="5473702" y="3990976"/>
                </a:lnTo>
                <a:lnTo>
                  <a:pt x="5492750" y="3933824"/>
                </a:lnTo>
                <a:lnTo>
                  <a:pt x="5514977" y="3876676"/>
                </a:lnTo>
                <a:lnTo>
                  <a:pt x="5540377" y="3822700"/>
                </a:lnTo>
                <a:lnTo>
                  <a:pt x="5568951" y="3768724"/>
                </a:lnTo>
                <a:lnTo>
                  <a:pt x="5603875" y="3714752"/>
                </a:lnTo>
                <a:lnTo>
                  <a:pt x="5638800" y="3663952"/>
                </a:lnTo>
                <a:lnTo>
                  <a:pt x="5676900" y="3613152"/>
                </a:lnTo>
                <a:lnTo>
                  <a:pt x="5715000" y="3562352"/>
                </a:lnTo>
                <a:lnTo>
                  <a:pt x="5759451" y="3514724"/>
                </a:lnTo>
                <a:lnTo>
                  <a:pt x="5803900" y="3470276"/>
                </a:lnTo>
                <a:lnTo>
                  <a:pt x="5851525" y="3425824"/>
                </a:lnTo>
                <a:lnTo>
                  <a:pt x="5899150" y="3384552"/>
                </a:lnTo>
                <a:lnTo>
                  <a:pt x="5949950" y="3343276"/>
                </a:lnTo>
                <a:lnTo>
                  <a:pt x="6000750" y="3305176"/>
                </a:lnTo>
                <a:lnTo>
                  <a:pt x="6054725" y="3267076"/>
                </a:lnTo>
                <a:lnTo>
                  <a:pt x="6108700" y="3235324"/>
                </a:lnTo>
                <a:lnTo>
                  <a:pt x="6165850" y="3203576"/>
                </a:lnTo>
                <a:lnTo>
                  <a:pt x="6219825" y="3171824"/>
                </a:lnTo>
                <a:lnTo>
                  <a:pt x="6276975" y="3146424"/>
                </a:lnTo>
                <a:lnTo>
                  <a:pt x="6334126" y="3121024"/>
                </a:lnTo>
                <a:lnTo>
                  <a:pt x="6391275" y="3098800"/>
                </a:lnTo>
                <a:lnTo>
                  <a:pt x="6483350" y="3070224"/>
                </a:lnTo>
                <a:lnTo>
                  <a:pt x="6575425" y="3048000"/>
                </a:lnTo>
                <a:lnTo>
                  <a:pt x="6661150" y="3028952"/>
                </a:lnTo>
                <a:lnTo>
                  <a:pt x="6746875" y="3016252"/>
                </a:lnTo>
                <a:lnTo>
                  <a:pt x="6829425" y="3006724"/>
                </a:lnTo>
                <a:lnTo>
                  <a:pt x="6908800" y="3000376"/>
                </a:lnTo>
                <a:lnTo>
                  <a:pt x="6981825" y="2997200"/>
                </a:lnTo>
                <a:close/>
                <a:moveTo>
                  <a:pt x="7826375" y="1866900"/>
                </a:moveTo>
                <a:lnTo>
                  <a:pt x="7940675" y="1870076"/>
                </a:lnTo>
                <a:lnTo>
                  <a:pt x="8064500" y="1879600"/>
                </a:lnTo>
                <a:lnTo>
                  <a:pt x="8096250" y="1882776"/>
                </a:lnTo>
                <a:lnTo>
                  <a:pt x="8185151" y="1889124"/>
                </a:lnTo>
                <a:lnTo>
                  <a:pt x="8245475" y="1898652"/>
                </a:lnTo>
                <a:lnTo>
                  <a:pt x="8318501" y="1908176"/>
                </a:lnTo>
                <a:lnTo>
                  <a:pt x="8401050" y="1927224"/>
                </a:lnTo>
                <a:lnTo>
                  <a:pt x="8489950" y="1946276"/>
                </a:lnTo>
                <a:lnTo>
                  <a:pt x="8588375" y="1974852"/>
                </a:lnTo>
                <a:lnTo>
                  <a:pt x="8689975" y="2006600"/>
                </a:lnTo>
                <a:lnTo>
                  <a:pt x="8794750" y="2047876"/>
                </a:lnTo>
                <a:lnTo>
                  <a:pt x="8905875" y="2095500"/>
                </a:lnTo>
                <a:lnTo>
                  <a:pt x="9017000" y="2152652"/>
                </a:lnTo>
                <a:lnTo>
                  <a:pt x="9074150" y="2184400"/>
                </a:lnTo>
                <a:lnTo>
                  <a:pt x="9131300" y="2219324"/>
                </a:lnTo>
                <a:lnTo>
                  <a:pt x="9188450" y="2254252"/>
                </a:lnTo>
                <a:lnTo>
                  <a:pt x="9242425" y="2295524"/>
                </a:lnTo>
                <a:lnTo>
                  <a:pt x="9299575" y="2336800"/>
                </a:lnTo>
                <a:lnTo>
                  <a:pt x="9353550" y="2381252"/>
                </a:lnTo>
                <a:lnTo>
                  <a:pt x="9344026" y="2393952"/>
                </a:lnTo>
                <a:lnTo>
                  <a:pt x="9328150" y="2406652"/>
                </a:lnTo>
                <a:lnTo>
                  <a:pt x="9305925" y="2425700"/>
                </a:lnTo>
                <a:lnTo>
                  <a:pt x="9277351" y="2444752"/>
                </a:lnTo>
                <a:lnTo>
                  <a:pt x="9239250" y="2470152"/>
                </a:lnTo>
                <a:lnTo>
                  <a:pt x="9194800" y="2492376"/>
                </a:lnTo>
                <a:lnTo>
                  <a:pt x="9137651" y="2514600"/>
                </a:lnTo>
                <a:lnTo>
                  <a:pt x="9074150" y="2540000"/>
                </a:lnTo>
                <a:lnTo>
                  <a:pt x="9001125" y="2559052"/>
                </a:lnTo>
                <a:lnTo>
                  <a:pt x="8918575" y="2574924"/>
                </a:lnTo>
                <a:lnTo>
                  <a:pt x="8823325" y="2590800"/>
                </a:lnTo>
                <a:lnTo>
                  <a:pt x="8718550" y="2597152"/>
                </a:lnTo>
                <a:lnTo>
                  <a:pt x="8601075" y="2600324"/>
                </a:lnTo>
                <a:lnTo>
                  <a:pt x="8470900" y="2593976"/>
                </a:lnTo>
                <a:lnTo>
                  <a:pt x="8328025" y="2581276"/>
                </a:lnTo>
                <a:lnTo>
                  <a:pt x="8350250" y="2600324"/>
                </a:lnTo>
                <a:lnTo>
                  <a:pt x="8413750" y="2657476"/>
                </a:lnTo>
                <a:lnTo>
                  <a:pt x="8458200" y="2698752"/>
                </a:lnTo>
                <a:lnTo>
                  <a:pt x="8505825" y="2749552"/>
                </a:lnTo>
                <a:lnTo>
                  <a:pt x="8559800" y="2806700"/>
                </a:lnTo>
                <a:lnTo>
                  <a:pt x="8616950" y="2876552"/>
                </a:lnTo>
                <a:lnTo>
                  <a:pt x="8674100" y="2949576"/>
                </a:lnTo>
                <a:lnTo>
                  <a:pt x="8734425" y="3035300"/>
                </a:lnTo>
                <a:lnTo>
                  <a:pt x="8794750" y="3124200"/>
                </a:lnTo>
                <a:lnTo>
                  <a:pt x="8848725" y="3225800"/>
                </a:lnTo>
                <a:lnTo>
                  <a:pt x="8902700" y="3330576"/>
                </a:lnTo>
                <a:lnTo>
                  <a:pt x="8928100" y="3387724"/>
                </a:lnTo>
                <a:lnTo>
                  <a:pt x="8950326" y="3444876"/>
                </a:lnTo>
                <a:lnTo>
                  <a:pt x="8972550" y="3502024"/>
                </a:lnTo>
                <a:lnTo>
                  <a:pt x="8994775" y="3562352"/>
                </a:lnTo>
                <a:lnTo>
                  <a:pt x="9010651" y="3625852"/>
                </a:lnTo>
                <a:lnTo>
                  <a:pt x="9026525" y="3689352"/>
                </a:lnTo>
                <a:lnTo>
                  <a:pt x="9010651" y="3660776"/>
                </a:lnTo>
                <a:lnTo>
                  <a:pt x="8963025" y="3575052"/>
                </a:lnTo>
                <a:lnTo>
                  <a:pt x="8886825" y="3451224"/>
                </a:lnTo>
                <a:lnTo>
                  <a:pt x="8839200" y="3381376"/>
                </a:lnTo>
                <a:lnTo>
                  <a:pt x="8785225" y="3305176"/>
                </a:lnTo>
                <a:lnTo>
                  <a:pt x="8724901" y="3228976"/>
                </a:lnTo>
                <a:lnTo>
                  <a:pt x="8661400" y="3152776"/>
                </a:lnTo>
                <a:lnTo>
                  <a:pt x="8591551" y="3076576"/>
                </a:lnTo>
                <a:lnTo>
                  <a:pt x="8518525" y="3003552"/>
                </a:lnTo>
                <a:lnTo>
                  <a:pt x="8439150" y="2940052"/>
                </a:lnTo>
                <a:lnTo>
                  <a:pt x="8397875" y="2908300"/>
                </a:lnTo>
                <a:lnTo>
                  <a:pt x="8356600" y="2879724"/>
                </a:lnTo>
                <a:lnTo>
                  <a:pt x="8315325" y="2854324"/>
                </a:lnTo>
                <a:lnTo>
                  <a:pt x="8274051" y="2828924"/>
                </a:lnTo>
                <a:lnTo>
                  <a:pt x="8229600" y="2809876"/>
                </a:lnTo>
                <a:lnTo>
                  <a:pt x="8185151" y="2790824"/>
                </a:lnTo>
                <a:lnTo>
                  <a:pt x="8156575" y="2778124"/>
                </a:lnTo>
                <a:lnTo>
                  <a:pt x="8070850" y="2743200"/>
                </a:lnTo>
                <a:lnTo>
                  <a:pt x="8007350" y="2720976"/>
                </a:lnTo>
                <a:lnTo>
                  <a:pt x="7934325" y="2695576"/>
                </a:lnTo>
                <a:lnTo>
                  <a:pt x="7848600" y="2673352"/>
                </a:lnTo>
                <a:lnTo>
                  <a:pt x="7750175" y="2651124"/>
                </a:lnTo>
                <a:lnTo>
                  <a:pt x="7639051" y="2632076"/>
                </a:lnTo>
                <a:lnTo>
                  <a:pt x="7521575" y="2613024"/>
                </a:lnTo>
                <a:lnTo>
                  <a:pt x="7391400" y="2603500"/>
                </a:lnTo>
                <a:lnTo>
                  <a:pt x="7251701" y="2597152"/>
                </a:lnTo>
                <a:lnTo>
                  <a:pt x="7181850" y="2597152"/>
                </a:lnTo>
                <a:lnTo>
                  <a:pt x="7105650" y="2600324"/>
                </a:lnTo>
                <a:lnTo>
                  <a:pt x="7029451" y="2603500"/>
                </a:lnTo>
                <a:lnTo>
                  <a:pt x="6950075" y="2609852"/>
                </a:lnTo>
                <a:lnTo>
                  <a:pt x="6870701" y="2619376"/>
                </a:lnTo>
                <a:lnTo>
                  <a:pt x="6788150" y="2632076"/>
                </a:lnTo>
                <a:lnTo>
                  <a:pt x="6702425" y="2647952"/>
                </a:lnTo>
                <a:lnTo>
                  <a:pt x="6616700" y="2663824"/>
                </a:lnTo>
                <a:lnTo>
                  <a:pt x="6515100" y="2682876"/>
                </a:lnTo>
                <a:lnTo>
                  <a:pt x="6400801" y="2701924"/>
                </a:lnTo>
                <a:lnTo>
                  <a:pt x="6251575" y="2724152"/>
                </a:lnTo>
                <a:lnTo>
                  <a:pt x="6083300" y="2746376"/>
                </a:lnTo>
                <a:lnTo>
                  <a:pt x="5899150" y="2762252"/>
                </a:lnTo>
                <a:lnTo>
                  <a:pt x="5803900" y="2768600"/>
                </a:lnTo>
                <a:lnTo>
                  <a:pt x="5705475" y="2771776"/>
                </a:lnTo>
                <a:lnTo>
                  <a:pt x="5610225" y="2771776"/>
                </a:lnTo>
                <a:lnTo>
                  <a:pt x="5518152" y="2768600"/>
                </a:lnTo>
                <a:lnTo>
                  <a:pt x="5514977" y="2797176"/>
                </a:lnTo>
                <a:lnTo>
                  <a:pt x="5511802" y="2828924"/>
                </a:lnTo>
                <a:lnTo>
                  <a:pt x="5505452" y="2867024"/>
                </a:lnTo>
                <a:lnTo>
                  <a:pt x="5495927" y="2905124"/>
                </a:lnTo>
                <a:lnTo>
                  <a:pt x="5480052" y="2943224"/>
                </a:lnTo>
                <a:lnTo>
                  <a:pt x="5470527" y="2962276"/>
                </a:lnTo>
                <a:lnTo>
                  <a:pt x="5457826" y="2978152"/>
                </a:lnTo>
                <a:lnTo>
                  <a:pt x="5445127" y="2990852"/>
                </a:lnTo>
                <a:lnTo>
                  <a:pt x="5429252" y="3003552"/>
                </a:lnTo>
                <a:lnTo>
                  <a:pt x="5422902" y="3009900"/>
                </a:lnTo>
                <a:lnTo>
                  <a:pt x="5407027" y="3022600"/>
                </a:lnTo>
                <a:lnTo>
                  <a:pt x="5378452" y="3041652"/>
                </a:lnTo>
                <a:lnTo>
                  <a:pt x="5340352" y="3057524"/>
                </a:lnTo>
                <a:lnTo>
                  <a:pt x="5318127" y="3067052"/>
                </a:lnTo>
                <a:lnTo>
                  <a:pt x="5292725" y="3070224"/>
                </a:lnTo>
                <a:lnTo>
                  <a:pt x="5264151" y="3076576"/>
                </a:lnTo>
                <a:lnTo>
                  <a:pt x="5232401" y="3076576"/>
                </a:lnTo>
                <a:lnTo>
                  <a:pt x="5200650" y="3073400"/>
                </a:lnTo>
                <a:lnTo>
                  <a:pt x="5162551" y="3067052"/>
                </a:lnTo>
                <a:lnTo>
                  <a:pt x="5124451" y="3057524"/>
                </a:lnTo>
                <a:lnTo>
                  <a:pt x="5083176" y="3041652"/>
                </a:lnTo>
                <a:lnTo>
                  <a:pt x="5064126" y="3032124"/>
                </a:lnTo>
                <a:lnTo>
                  <a:pt x="5041901" y="3019424"/>
                </a:lnTo>
                <a:lnTo>
                  <a:pt x="5019677" y="2997200"/>
                </a:lnTo>
                <a:lnTo>
                  <a:pt x="5006976" y="2981324"/>
                </a:lnTo>
                <a:lnTo>
                  <a:pt x="4997451" y="2965452"/>
                </a:lnTo>
                <a:lnTo>
                  <a:pt x="4984752" y="2946400"/>
                </a:lnTo>
                <a:lnTo>
                  <a:pt x="4975226" y="2927352"/>
                </a:lnTo>
                <a:lnTo>
                  <a:pt x="4968877" y="2901952"/>
                </a:lnTo>
                <a:lnTo>
                  <a:pt x="4962526" y="2873376"/>
                </a:lnTo>
                <a:lnTo>
                  <a:pt x="4959350" y="2844800"/>
                </a:lnTo>
                <a:lnTo>
                  <a:pt x="4959350" y="2809876"/>
                </a:lnTo>
                <a:lnTo>
                  <a:pt x="4956176" y="2784476"/>
                </a:lnTo>
                <a:lnTo>
                  <a:pt x="4956176" y="2755900"/>
                </a:lnTo>
                <a:lnTo>
                  <a:pt x="4959350" y="2724152"/>
                </a:lnTo>
                <a:lnTo>
                  <a:pt x="4965701" y="2689224"/>
                </a:lnTo>
                <a:lnTo>
                  <a:pt x="4972051" y="2670176"/>
                </a:lnTo>
                <a:lnTo>
                  <a:pt x="4981576" y="2651124"/>
                </a:lnTo>
                <a:lnTo>
                  <a:pt x="4991101" y="2632076"/>
                </a:lnTo>
                <a:lnTo>
                  <a:pt x="5003802" y="2616200"/>
                </a:lnTo>
                <a:lnTo>
                  <a:pt x="5019677" y="2600324"/>
                </a:lnTo>
                <a:lnTo>
                  <a:pt x="5035551" y="2587624"/>
                </a:lnTo>
                <a:lnTo>
                  <a:pt x="4959350" y="2536824"/>
                </a:lnTo>
                <a:lnTo>
                  <a:pt x="4953002" y="2540000"/>
                </a:lnTo>
                <a:lnTo>
                  <a:pt x="4937127" y="2549524"/>
                </a:lnTo>
                <a:lnTo>
                  <a:pt x="4918077" y="2568576"/>
                </a:lnTo>
                <a:lnTo>
                  <a:pt x="4895852" y="2597152"/>
                </a:lnTo>
                <a:lnTo>
                  <a:pt x="4883151" y="2616200"/>
                </a:lnTo>
                <a:lnTo>
                  <a:pt x="4870451" y="2638424"/>
                </a:lnTo>
                <a:lnTo>
                  <a:pt x="4860927" y="2663824"/>
                </a:lnTo>
                <a:lnTo>
                  <a:pt x="4848226" y="2692400"/>
                </a:lnTo>
                <a:lnTo>
                  <a:pt x="4841876" y="2724152"/>
                </a:lnTo>
                <a:lnTo>
                  <a:pt x="4835527" y="2759076"/>
                </a:lnTo>
                <a:lnTo>
                  <a:pt x="4829176" y="2800352"/>
                </a:lnTo>
                <a:lnTo>
                  <a:pt x="4829176" y="2844800"/>
                </a:lnTo>
                <a:lnTo>
                  <a:pt x="4829176" y="2860676"/>
                </a:lnTo>
                <a:lnTo>
                  <a:pt x="4832351" y="2898776"/>
                </a:lnTo>
                <a:lnTo>
                  <a:pt x="4835527" y="2927352"/>
                </a:lnTo>
                <a:lnTo>
                  <a:pt x="4845052" y="2955924"/>
                </a:lnTo>
                <a:lnTo>
                  <a:pt x="4854576" y="2987676"/>
                </a:lnTo>
                <a:lnTo>
                  <a:pt x="4867275" y="3019424"/>
                </a:lnTo>
                <a:lnTo>
                  <a:pt x="4886326" y="3054352"/>
                </a:lnTo>
                <a:lnTo>
                  <a:pt x="4908550" y="3086100"/>
                </a:lnTo>
                <a:lnTo>
                  <a:pt x="4937127" y="3114676"/>
                </a:lnTo>
                <a:lnTo>
                  <a:pt x="4972051" y="3143252"/>
                </a:lnTo>
                <a:lnTo>
                  <a:pt x="5010152" y="3165476"/>
                </a:lnTo>
                <a:lnTo>
                  <a:pt x="5032376" y="3178176"/>
                </a:lnTo>
                <a:lnTo>
                  <a:pt x="5057776" y="3184524"/>
                </a:lnTo>
                <a:lnTo>
                  <a:pt x="5083176" y="3194052"/>
                </a:lnTo>
                <a:lnTo>
                  <a:pt x="5111752" y="3197224"/>
                </a:lnTo>
                <a:lnTo>
                  <a:pt x="5143501" y="3203576"/>
                </a:lnTo>
                <a:lnTo>
                  <a:pt x="5175251" y="3203576"/>
                </a:lnTo>
                <a:lnTo>
                  <a:pt x="5194302" y="3206752"/>
                </a:lnTo>
                <a:lnTo>
                  <a:pt x="5216525" y="3209924"/>
                </a:lnTo>
                <a:lnTo>
                  <a:pt x="5254626" y="3203576"/>
                </a:lnTo>
                <a:lnTo>
                  <a:pt x="5302252" y="3194052"/>
                </a:lnTo>
                <a:lnTo>
                  <a:pt x="5362576" y="3175000"/>
                </a:lnTo>
                <a:lnTo>
                  <a:pt x="5435601" y="3140076"/>
                </a:lnTo>
                <a:lnTo>
                  <a:pt x="5527676" y="3092452"/>
                </a:lnTo>
                <a:lnTo>
                  <a:pt x="5616576" y="3044824"/>
                </a:lnTo>
                <a:lnTo>
                  <a:pt x="5718176" y="2994024"/>
                </a:lnTo>
                <a:lnTo>
                  <a:pt x="5845175" y="2936876"/>
                </a:lnTo>
                <a:lnTo>
                  <a:pt x="5918200" y="2905124"/>
                </a:lnTo>
                <a:lnTo>
                  <a:pt x="5994400" y="2876552"/>
                </a:lnTo>
                <a:lnTo>
                  <a:pt x="6073775" y="2847976"/>
                </a:lnTo>
                <a:lnTo>
                  <a:pt x="6156325" y="2819400"/>
                </a:lnTo>
                <a:lnTo>
                  <a:pt x="6238875" y="2797176"/>
                </a:lnTo>
                <a:lnTo>
                  <a:pt x="6321425" y="2778124"/>
                </a:lnTo>
                <a:lnTo>
                  <a:pt x="6403975" y="2762252"/>
                </a:lnTo>
                <a:lnTo>
                  <a:pt x="6486526" y="2752724"/>
                </a:lnTo>
                <a:lnTo>
                  <a:pt x="6511926" y="2749552"/>
                </a:lnTo>
                <a:lnTo>
                  <a:pt x="6588125" y="2736852"/>
                </a:lnTo>
                <a:lnTo>
                  <a:pt x="6699250" y="2720976"/>
                </a:lnTo>
                <a:lnTo>
                  <a:pt x="6769100" y="2717800"/>
                </a:lnTo>
                <a:lnTo>
                  <a:pt x="6845300" y="2714624"/>
                </a:lnTo>
                <a:lnTo>
                  <a:pt x="6924675" y="2711452"/>
                </a:lnTo>
                <a:lnTo>
                  <a:pt x="7007225" y="2714624"/>
                </a:lnTo>
                <a:lnTo>
                  <a:pt x="7096126" y="2724152"/>
                </a:lnTo>
                <a:lnTo>
                  <a:pt x="7185026" y="2736852"/>
                </a:lnTo>
                <a:lnTo>
                  <a:pt x="7273925" y="2752724"/>
                </a:lnTo>
                <a:lnTo>
                  <a:pt x="7366000" y="2778124"/>
                </a:lnTo>
                <a:lnTo>
                  <a:pt x="7410451" y="2794000"/>
                </a:lnTo>
                <a:lnTo>
                  <a:pt x="7454900" y="2813052"/>
                </a:lnTo>
                <a:lnTo>
                  <a:pt x="7496175" y="2832100"/>
                </a:lnTo>
                <a:lnTo>
                  <a:pt x="7540625" y="2854324"/>
                </a:lnTo>
                <a:lnTo>
                  <a:pt x="7458075" y="2841624"/>
                </a:lnTo>
                <a:lnTo>
                  <a:pt x="7366000" y="2835276"/>
                </a:lnTo>
                <a:lnTo>
                  <a:pt x="7245350" y="2832100"/>
                </a:lnTo>
                <a:lnTo>
                  <a:pt x="7172325" y="2832100"/>
                </a:lnTo>
                <a:lnTo>
                  <a:pt x="7096126" y="2835276"/>
                </a:lnTo>
                <a:lnTo>
                  <a:pt x="7016750" y="2838452"/>
                </a:lnTo>
                <a:lnTo>
                  <a:pt x="6931025" y="2844800"/>
                </a:lnTo>
                <a:lnTo>
                  <a:pt x="6842125" y="2857500"/>
                </a:lnTo>
                <a:lnTo>
                  <a:pt x="6750050" y="2870200"/>
                </a:lnTo>
                <a:lnTo>
                  <a:pt x="6654800" y="2889252"/>
                </a:lnTo>
                <a:lnTo>
                  <a:pt x="6556375" y="2911476"/>
                </a:lnTo>
                <a:lnTo>
                  <a:pt x="6457950" y="2936876"/>
                </a:lnTo>
                <a:lnTo>
                  <a:pt x="6359526" y="2971800"/>
                </a:lnTo>
                <a:lnTo>
                  <a:pt x="6261101" y="3009900"/>
                </a:lnTo>
                <a:lnTo>
                  <a:pt x="6162675" y="3054352"/>
                </a:lnTo>
                <a:lnTo>
                  <a:pt x="6064250" y="3105152"/>
                </a:lnTo>
                <a:lnTo>
                  <a:pt x="5969001" y="3165476"/>
                </a:lnTo>
                <a:lnTo>
                  <a:pt x="5921375" y="3197224"/>
                </a:lnTo>
                <a:lnTo>
                  <a:pt x="5873750" y="3228976"/>
                </a:lnTo>
                <a:lnTo>
                  <a:pt x="5829300" y="3263900"/>
                </a:lnTo>
                <a:lnTo>
                  <a:pt x="5784851" y="3302000"/>
                </a:lnTo>
                <a:lnTo>
                  <a:pt x="5721350" y="3365500"/>
                </a:lnTo>
                <a:lnTo>
                  <a:pt x="5661025" y="3422652"/>
                </a:lnTo>
                <a:lnTo>
                  <a:pt x="5597525" y="3482976"/>
                </a:lnTo>
                <a:lnTo>
                  <a:pt x="5530852" y="3540124"/>
                </a:lnTo>
                <a:lnTo>
                  <a:pt x="5464177" y="3594100"/>
                </a:lnTo>
                <a:lnTo>
                  <a:pt x="5394327" y="3644900"/>
                </a:lnTo>
                <a:lnTo>
                  <a:pt x="5324476" y="3695700"/>
                </a:lnTo>
                <a:lnTo>
                  <a:pt x="5251452" y="3743324"/>
                </a:lnTo>
                <a:lnTo>
                  <a:pt x="5178426" y="3790952"/>
                </a:lnTo>
                <a:lnTo>
                  <a:pt x="5102227" y="3832224"/>
                </a:lnTo>
                <a:lnTo>
                  <a:pt x="5026027" y="3873500"/>
                </a:lnTo>
                <a:lnTo>
                  <a:pt x="4943476" y="3908424"/>
                </a:lnTo>
                <a:lnTo>
                  <a:pt x="4864101" y="3940176"/>
                </a:lnTo>
                <a:lnTo>
                  <a:pt x="4778376" y="3971924"/>
                </a:lnTo>
                <a:lnTo>
                  <a:pt x="4692652" y="3997324"/>
                </a:lnTo>
                <a:lnTo>
                  <a:pt x="4603752" y="4016376"/>
                </a:lnTo>
                <a:lnTo>
                  <a:pt x="4552951" y="4032252"/>
                </a:lnTo>
                <a:lnTo>
                  <a:pt x="4483100" y="4044952"/>
                </a:lnTo>
                <a:lnTo>
                  <a:pt x="4384677" y="4060824"/>
                </a:lnTo>
                <a:lnTo>
                  <a:pt x="4248151" y="4073524"/>
                </a:lnTo>
                <a:lnTo>
                  <a:pt x="4076701" y="4086224"/>
                </a:lnTo>
                <a:lnTo>
                  <a:pt x="3978277" y="4089400"/>
                </a:lnTo>
                <a:lnTo>
                  <a:pt x="3867151" y="4092576"/>
                </a:lnTo>
                <a:lnTo>
                  <a:pt x="3743326" y="4092576"/>
                </a:lnTo>
                <a:lnTo>
                  <a:pt x="3613150" y="4092576"/>
                </a:lnTo>
                <a:lnTo>
                  <a:pt x="3489325" y="4089400"/>
                </a:lnTo>
                <a:lnTo>
                  <a:pt x="3362325" y="4089400"/>
                </a:lnTo>
                <a:lnTo>
                  <a:pt x="3206751" y="4095752"/>
                </a:lnTo>
                <a:lnTo>
                  <a:pt x="3124200" y="4102100"/>
                </a:lnTo>
                <a:lnTo>
                  <a:pt x="3038475" y="4108452"/>
                </a:lnTo>
                <a:lnTo>
                  <a:pt x="2955925" y="4117976"/>
                </a:lnTo>
                <a:lnTo>
                  <a:pt x="2876551" y="4133852"/>
                </a:lnTo>
                <a:lnTo>
                  <a:pt x="2800351" y="4149724"/>
                </a:lnTo>
                <a:lnTo>
                  <a:pt x="2730501" y="4168776"/>
                </a:lnTo>
                <a:lnTo>
                  <a:pt x="2667001" y="4191000"/>
                </a:lnTo>
                <a:lnTo>
                  <a:pt x="2641600" y="4203700"/>
                </a:lnTo>
                <a:lnTo>
                  <a:pt x="2616201" y="4219576"/>
                </a:lnTo>
                <a:lnTo>
                  <a:pt x="2593976" y="4229100"/>
                </a:lnTo>
                <a:lnTo>
                  <a:pt x="2533650" y="4260852"/>
                </a:lnTo>
                <a:lnTo>
                  <a:pt x="2492376" y="4283076"/>
                </a:lnTo>
                <a:lnTo>
                  <a:pt x="2447926" y="4311652"/>
                </a:lnTo>
                <a:lnTo>
                  <a:pt x="2400301" y="4346576"/>
                </a:lnTo>
                <a:lnTo>
                  <a:pt x="2352675" y="4384676"/>
                </a:lnTo>
                <a:lnTo>
                  <a:pt x="2305050" y="4425952"/>
                </a:lnTo>
                <a:lnTo>
                  <a:pt x="2260600" y="4476752"/>
                </a:lnTo>
                <a:lnTo>
                  <a:pt x="2219325" y="4527552"/>
                </a:lnTo>
                <a:lnTo>
                  <a:pt x="2200275" y="4556124"/>
                </a:lnTo>
                <a:lnTo>
                  <a:pt x="2181225" y="4587876"/>
                </a:lnTo>
                <a:lnTo>
                  <a:pt x="2168525" y="4616452"/>
                </a:lnTo>
                <a:lnTo>
                  <a:pt x="2152651" y="4648200"/>
                </a:lnTo>
                <a:lnTo>
                  <a:pt x="2143126" y="4683124"/>
                </a:lnTo>
                <a:lnTo>
                  <a:pt x="2133601" y="4718052"/>
                </a:lnTo>
                <a:lnTo>
                  <a:pt x="2127250" y="4752976"/>
                </a:lnTo>
                <a:lnTo>
                  <a:pt x="2124076" y="4787900"/>
                </a:lnTo>
                <a:lnTo>
                  <a:pt x="2124076" y="4826000"/>
                </a:lnTo>
                <a:lnTo>
                  <a:pt x="2127250" y="4867276"/>
                </a:lnTo>
                <a:lnTo>
                  <a:pt x="2127250" y="4879976"/>
                </a:lnTo>
                <a:lnTo>
                  <a:pt x="2130425" y="4892676"/>
                </a:lnTo>
                <a:lnTo>
                  <a:pt x="2133601" y="4899024"/>
                </a:lnTo>
                <a:lnTo>
                  <a:pt x="2136775" y="4902200"/>
                </a:lnTo>
                <a:lnTo>
                  <a:pt x="2139951" y="4899024"/>
                </a:lnTo>
                <a:lnTo>
                  <a:pt x="2152651" y="4883152"/>
                </a:lnTo>
                <a:lnTo>
                  <a:pt x="2168525" y="4851400"/>
                </a:lnTo>
                <a:lnTo>
                  <a:pt x="2190751" y="4794252"/>
                </a:lnTo>
                <a:lnTo>
                  <a:pt x="2197101" y="4781552"/>
                </a:lnTo>
                <a:lnTo>
                  <a:pt x="2212975" y="4746624"/>
                </a:lnTo>
                <a:lnTo>
                  <a:pt x="2228850" y="4724400"/>
                </a:lnTo>
                <a:lnTo>
                  <a:pt x="2244726" y="4702176"/>
                </a:lnTo>
                <a:lnTo>
                  <a:pt x="2263776" y="4676776"/>
                </a:lnTo>
                <a:lnTo>
                  <a:pt x="2289176" y="4654552"/>
                </a:lnTo>
                <a:lnTo>
                  <a:pt x="2314575" y="4632324"/>
                </a:lnTo>
                <a:lnTo>
                  <a:pt x="2346325" y="4613276"/>
                </a:lnTo>
                <a:lnTo>
                  <a:pt x="2381251" y="4600576"/>
                </a:lnTo>
                <a:lnTo>
                  <a:pt x="2419351" y="4591052"/>
                </a:lnTo>
                <a:lnTo>
                  <a:pt x="2460625" y="4587876"/>
                </a:lnTo>
                <a:lnTo>
                  <a:pt x="2482851" y="4587876"/>
                </a:lnTo>
                <a:lnTo>
                  <a:pt x="2505075" y="4591052"/>
                </a:lnTo>
                <a:lnTo>
                  <a:pt x="2530475" y="4597400"/>
                </a:lnTo>
                <a:lnTo>
                  <a:pt x="2555876" y="4606924"/>
                </a:lnTo>
                <a:lnTo>
                  <a:pt x="2581276" y="4616452"/>
                </a:lnTo>
                <a:lnTo>
                  <a:pt x="2609850" y="4629152"/>
                </a:lnTo>
                <a:lnTo>
                  <a:pt x="2616201" y="4635500"/>
                </a:lnTo>
                <a:lnTo>
                  <a:pt x="2632076" y="4648200"/>
                </a:lnTo>
                <a:lnTo>
                  <a:pt x="2654300" y="4676776"/>
                </a:lnTo>
                <a:lnTo>
                  <a:pt x="2663825" y="4692652"/>
                </a:lnTo>
                <a:lnTo>
                  <a:pt x="2670176" y="4714876"/>
                </a:lnTo>
                <a:lnTo>
                  <a:pt x="2676526" y="4737100"/>
                </a:lnTo>
                <a:lnTo>
                  <a:pt x="2676526" y="4762500"/>
                </a:lnTo>
                <a:lnTo>
                  <a:pt x="2673351" y="4791076"/>
                </a:lnTo>
                <a:lnTo>
                  <a:pt x="2667001" y="4822824"/>
                </a:lnTo>
                <a:lnTo>
                  <a:pt x="2654300" y="4857752"/>
                </a:lnTo>
                <a:lnTo>
                  <a:pt x="2635251" y="4899024"/>
                </a:lnTo>
                <a:lnTo>
                  <a:pt x="2609850" y="4940300"/>
                </a:lnTo>
                <a:lnTo>
                  <a:pt x="2574926" y="4984752"/>
                </a:lnTo>
                <a:lnTo>
                  <a:pt x="2562225" y="5000624"/>
                </a:lnTo>
                <a:lnTo>
                  <a:pt x="2546350" y="5019676"/>
                </a:lnTo>
                <a:lnTo>
                  <a:pt x="2524126" y="5045076"/>
                </a:lnTo>
                <a:lnTo>
                  <a:pt x="2492376" y="5073652"/>
                </a:lnTo>
                <a:lnTo>
                  <a:pt x="2454275" y="5105400"/>
                </a:lnTo>
                <a:lnTo>
                  <a:pt x="2406650" y="5137152"/>
                </a:lnTo>
                <a:lnTo>
                  <a:pt x="2349500" y="5175252"/>
                </a:lnTo>
                <a:lnTo>
                  <a:pt x="2339976" y="5181600"/>
                </a:lnTo>
                <a:lnTo>
                  <a:pt x="2314575" y="5194300"/>
                </a:lnTo>
                <a:lnTo>
                  <a:pt x="2273300" y="5213352"/>
                </a:lnTo>
                <a:lnTo>
                  <a:pt x="2247901" y="5219700"/>
                </a:lnTo>
                <a:lnTo>
                  <a:pt x="2222500" y="5226052"/>
                </a:lnTo>
                <a:lnTo>
                  <a:pt x="2190751" y="5229224"/>
                </a:lnTo>
                <a:lnTo>
                  <a:pt x="2162175" y="5229224"/>
                </a:lnTo>
                <a:lnTo>
                  <a:pt x="2130425" y="5226052"/>
                </a:lnTo>
                <a:lnTo>
                  <a:pt x="2095500" y="5216524"/>
                </a:lnTo>
                <a:lnTo>
                  <a:pt x="2060576" y="5200652"/>
                </a:lnTo>
                <a:lnTo>
                  <a:pt x="2025651" y="5178424"/>
                </a:lnTo>
                <a:lnTo>
                  <a:pt x="1990726" y="5149852"/>
                </a:lnTo>
                <a:lnTo>
                  <a:pt x="1958976" y="5114924"/>
                </a:lnTo>
                <a:lnTo>
                  <a:pt x="1949451" y="5105400"/>
                </a:lnTo>
                <a:lnTo>
                  <a:pt x="1933576" y="5076824"/>
                </a:lnTo>
                <a:lnTo>
                  <a:pt x="1920875" y="5054600"/>
                </a:lnTo>
                <a:lnTo>
                  <a:pt x="1911350" y="5026024"/>
                </a:lnTo>
                <a:lnTo>
                  <a:pt x="1901826" y="4994276"/>
                </a:lnTo>
                <a:lnTo>
                  <a:pt x="1895475" y="4959352"/>
                </a:lnTo>
                <a:lnTo>
                  <a:pt x="1889125" y="4918076"/>
                </a:lnTo>
                <a:lnTo>
                  <a:pt x="1889125" y="4873624"/>
                </a:lnTo>
                <a:lnTo>
                  <a:pt x="1892300" y="4822824"/>
                </a:lnTo>
                <a:lnTo>
                  <a:pt x="1901826" y="4765676"/>
                </a:lnTo>
                <a:lnTo>
                  <a:pt x="1917701" y="4705352"/>
                </a:lnTo>
                <a:lnTo>
                  <a:pt x="1939926" y="4641852"/>
                </a:lnTo>
                <a:lnTo>
                  <a:pt x="1968501" y="4572000"/>
                </a:lnTo>
                <a:lnTo>
                  <a:pt x="2009776" y="4498976"/>
                </a:lnTo>
                <a:lnTo>
                  <a:pt x="2016125" y="4483100"/>
                </a:lnTo>
                <a:lnTo>
                  <a:pt x="2044701" y="4438652"/>
                </a:lnTo>
                <a:lnTo>
                  <a:pt x="2070100" y="4406900"/>
                </a:lnTo>
                <a:lnTo>
                  <a:pt x="2101851" y="4368800"/>
                </a:lnTo>
                <a:lnTo>
                  <a:pt x="2139951" y="4327524"/>
                </a:lnTo>
                <a:lnTo>
                  <a:pt x="2190751" y="4279900"/>
                </a:lnTo>
                <a:lnTo>
                  <a:pt x="2251076" y="4225924"/>
                </a:lnTo>
                <a:lnTo>
                  <a:pt x="2320925" y="4171952"/>
                </a:lnTo>
                <a:lnTo>
                  <a:pt x="2403475" y="4111624"/>
                </a:lnTo>
                <a:lnTo>
                  <a:pt x="2501901" y="4048124"/>
                </a:lnTo>
                <a:lnTo>
                  <a:pt x="2609850" y="3984624"/>
                </a:lnTo>
                <a:lnTo>
                  <a:pt x="2733675" y="3917952"/>
                </a:lnTo>
                <a:lnTo>
                  <a:pt x="2873376" y="3848100"/>
                </a:lnTo>
                <a:lnTo>
                  <a:pt x="3032125" y="3781424"/>
                </a:lnTo>
                <a:lnTo>
                  <a:pt x="3060701" y="3768724"/>
                </a:lnTo>
                <a:lnTo>
                  <a:pt x="3136900" y="3733800"/>
                </a:lnTo>
                <a:lnTo>
                  <a:pt x="3257551" y="3670300"/>
                </a:lnTo>
                <a:lnTo>
                  <a:pt x="3330575" y="3629024"/>
                </a:lnTo>
                <a:lnTo>
                  <a:pt x="3409951" y="3581400"/>
                </a:lnTo>
                <a:lnTo>
                  <a:pt x="3495675" y="3527424"/>
                </a:lnTo>
                <a:lnTo>
                  <a:pt x="3587750" y="3467100"/>
                </a:lnTo>
                <a:lnTo>
                  <a:pt x="3683001" y="3397252"/>
                </a:lnTo>
                <a:lnTo>
                  <a:pt x="3778251" y="3317876"/>
                </a:lnTo>
                <a:lnTo>
                  <a:pt x="3876675" y="3235324"/>
                </a:lnTo>
                <a:lnTo>
                  <a:pt x="3978277" y="3140076"/>
                </a:lnTo>
                <a:lnTo>
                  <a:pt x="4076701" y="3041652"/>
                </a:lnTo>
                <a:lnTo>
                  <a:pt x="4171951" y="2930524"/>
                </a:lnTo>
                <a:lnTo>
                  <a:pt x="4273551" y="2794000"/>
                </a:lnTo>
                <a:lnTo>
                  <a:pt x="4381501" y="2651124"/>
                </a:lnTo>
                <a:lnTo>
                  <a:pt x="4508502" y="2489200"/>
                </a:lnTo>
                <a:lnTo>
                  <a:pt x="4641852" y="2327276"/>
                </a:lnTo>
                <a:lnTo>
                  <a:pt x="4705351" y="2251076"/>
                </a:lnTo>
                <a:lnTo>
                  <a:pt x="4765676" y="2184400"/>
                </a:lnTo>
                <a:lnTo>
                  <a:pt x="4822826" y="2130424"/>
                </a:lnTo>
                <a:lnTo>
                  <a:pt x="4870451" y="2085976"/>
                </a:lnTo>
                <a:lnTo>
                  <a:pt x="4889501" y="2070100"/>
                </a:lnTo>
                <a:lnTo>
                  <a:pt x="4908550" y="2057400"/>
                </a:lnTo>
                <a:lnTo>
                  <a:pt x="4924426" y="2051052"/>
                </a:lnTo>
                <a:lnTo>
                  <a:pt x="4937127" y="2047876"/>
                </a:lnTo>
                <a:lnTo>
                  <a:pt x="4968877" y="2060576"/>
                </a:lnTo>
                <a:lnTo>
                  <a:pt x="5010152" y="2073276"/>
                </a:lnTo>
                <a:lnTo>
                  <a:pt x="5067302" y="2089152"/>
                </a:lnTo>
                <a:lnTo>
                  <a:pt x="5140327" y="2108200"/>
                </a:lnTo>
                <a:lnTo>
                  <a:pt x="5232401" y="2124076"/>
                </a:lnTo>
                <a:lnTo>
                  <a:pt x="5340352" y="2139952"/>
                </a:lnTo>
                <a:lnTo>
                  <a:pt x="5467351" y="2155824"/>
                </a:lnTo>
                <a:lnTo>
                  <a:pt x="5610225" y="2168524"/>
                </a:lnTo>
                <a:lnTo>
                  <a:pt x="5772150" y="2174876"/>
                </a:lnTo>
                <a:lnTo>
                  <a:pt x="5949950" y="2174876"/>
                </a:lnTo>
                <a:lnTo>
                  <a:pt x="6146800" y="2165352"/>
                </a:lnTo>
                <a:lnTo>
                  <a:pt x="6254750" y="2159000"/>
                </a:lnTo>
                <a:lnTo>
                  <a:pt x="6365875" y="2149476"/>
                </a:lnTo>
                <a:lnTo>
                  <a:pt x="6480175" y="2139952"/>
                </a:lnTo>
                <a:lnTo>
                  <a:pt x="6600825" y="2124076"/>
                </a:lnTo>
                <a:lnTo>
                  <a:pt x="6724650" y="2108200"/>
                </a:lnTo>
                <a:lnTo>
                  <a:pt x="6854825" y="2089152"/>
                </a:lnTo>
                <a:lnTo>
                  <a:pt x="6988175" y="2063752"/>
                </a:lnTo>
                <a:lnTo>
                  <a:pt x="7127875" y="2038352"/>
                </a:lnTo>
                <a:lnTo>
                  <a:pt x="7140575" y="2028824"/>
                </a:lnTo>
                <a:lnTo>
                  <a:pt x="7175500" y="2003424"/>
                </a:lnTo>
                <a:lnTo>
                  <a:pt x="7204075" y="1987552"/>
                </a:lnTo>
                <a:lnTo>
                  <a:pt x="7242175" y="1971676"/>
                </a:lnTo>
                <a:lnTo>
                  <a:pt x="7283450" y="1952624"/>
                </a:lnTo>
                <a:lnTo>
                  <a:pt x="7334250" y="1933576"/>
                </a:lnTo>
                <a:lnTo>
                  <a:pt x="7394575" y="1917700"/>
                </a:lnTo>
                <a:lnTo>
                  <a:pt x="7464425" y="1901824"/>
                </a:lnTo>
                <a:lnTo>
                  <a:pt x="7540625" y="1885952"/>
                </a:lnTo>
                <a:lnTo>
                  <a:pt x="7626350" y="1876424"/>
                </a:lnTo>
                <a:lnTo>
                  <a:pt x="7721600" y="1870076"/>
                </a:lnTo>
                <a:lnTo>
                  <a:pt x="7826375" y="1866900"/>
                </a:lnTo>
                <a:close/>
                <a:moveTo>
                  <a:pt x="9728201" y="0"/>
                </a:moveTo>
                <a:lnTo>
                  <a:pt x="9766301" y="0"/>
                </a:lnTo>
                <a:lnTo>
                  <a:pt x="9832976" y="0"/>
                </a:lnTo>
                <a:lnTo>
                  <a:pt x="9893302" y="0"/>
                </a:lnTo>
                <a:lnTo>
                  <a:pt x="9953626" y="3176"/>
                </a:lnTo>
                <a:lnTo>
                  <a:pt x="10007601" y="9524"/>
                </a:lnTo>
                <a:lnTo>
                  <a:pt x="10055226" y="15876"/>
                </a:lnTo>
                <a:lnTo>
                  <a:pt x="10102851" y="25400"/>
                </a:lnTo>
                <a:lnTo>
                  <a:pt x="10147301" y="34924"/>
                </a:lnTo>
                <a:lnTo>
                  <a:pt x="10185402" y="47624"/>
                </a:lnTo>
                <a:lnTo>
                  <a:pt x="10223501" y="60324"/>
                </a:lnTo>
                <a:lnTo>
                  <a:pt x="10255251" y="76200"/>
                </a:lnTo>
                <a:lnTo>
                  <a:pt x="10287001" y="92076"/>
                </a:lnTo>
                <a:lnTo>
                  <a:pt x="10315576" y="107952"/>
                </a:lnTo>
                <a:lnTo>
                  <a:pt x="10340976" y="123824"/>
                </a:lnTo>
                <a:lnTo>
                  <a:pt x="10363202" y="139700"/>
                </a:lnTo>
                <a:lnTo>
                  <a:pt x="10401301" y="177800"/>
                </a:lnTo>
                <a:lnTo>
                  <a:pt x="10429877" y="212724"/>
                </a:lnTo>
                <a:lnTo>
                  <a:pt x="10452103" y="247652"/>
                </a:lnTo>
                <a:lnTo>
                  <a:pt x="10467976" y="279400"/>
                </a:lnTo>
                <a:lnTo>
                  <a:pt x="10477501" y="307976"/>
                </a:lnTo>
                <a:lnTo>
                  <a:pt x="10483851" y="333376"/>
                </a:lnTo>
                <a:lnTo>
                  <a:pt x="10487026" y="352424"/>
                </a:lnTo>
                <a:lnTo>
                  <a:pt x="10487026" y="368300"/>
                </a:lnTo>
                <a:lnTo>
                  <a:pt x="10442576" y="352424"/>
                </a:lnTo>
                <a:lnTo>
                  <a:pt x="10394951" y="339724"/>
                </a:lnTo>
                <a:lnTo>
                  <a:pt x="10344152" y="327024"/>
                </a:lnTo>
                <a:lnTo>
                  <a:pt x="10293353" y="314324"/>
                </a:lnTo>
                <a:lnTo>
                  <a:pt x="10242551" y="307976"/>
                </a:lnTo>
                <a:lnTo>
                  <a:pt x="10188576" y="298452"/>
                </a:lnTo>
                <a:lnTo>
                  <a:pt x="10077451" y="292100"/>
                </a:lnTo>
                <a:lnTo>
                  <a:pt x="9963151" y="288924"/>
                </a:lnTo>
                <a:lnTo>
                  <a:pt x="9842501" y="292100"/>
                </a:lnTo>
                <a:lnTo>
                  <a:pt x="9721851" y="298452"/>
                </a:lnTo>
                <a:lnTo>
                  <a:pt x="9594851" y="314324"/>
                </a:lnTo>
                <a:lnTo>
                  <a:pt x="9467851" y="330200"/>
                </a:lnTo>
                <a:lnTo>
                  <a:pt x="9337676" y="352424"/>
                </a:lnTo>
                <a:lnTo>
                  <a:pt x="9207501" y="377824"/>
                </a:lnTo>
                <a:lnTo>
                  <a:pt x="9077326" y="409576"/>
                </a:lnTo>
                <a:lnTo>
                  <a:pt x="8947151" y="441324"/>
                </a:lnTo>
                <a:lnTo>
                  <a:pt x="8820151" y="476252"/>
                </a:lnTo>
                <a:lnTo>
                  <a:pt x="8689976" y="511176"/>
                </a:lnTo>
                <a:lnTo>
                  <a:pt x="8566151" y="549276"/>
                </a:lnTo>
                <a:lnTo>
                  <a:pt x="8324851" y="628652"/>
                </a:lnTo>
                <a:lnTo>
                  <a:pt x="8099426" y="708024"/>
                </a:lnTo>
                <a:lnTo>
                  <a:pt x="7893051" y="784224"/>
                </a:lnTo>
                <a:lnTo>
                  <a:pt x="7715251" y="854076"/>
                </a:lnTo>
                <a:lnTo>
                  <a:pt x="7569201" y="914400"/>
                </a:lnTo>
                <a:lnTo>
                  <a:pt x="7454901" y="962024"/>
                </a:lnTo>
                <a:lnTo>
                  <a:pt x="7359652" y="1006476"/>
                </a:lnTo>
                <a:lnTo>
                  <a:pt x="7534277" y="939800"/>
                </a:lnTo>
                <a:lnTo>
                  <a:pt x="7699376" y="882652"/>
                </a:lnTo>
                <a:lnTo>
                  <a:pt x="7858126" y="828676"/>
                </a:lnTo>
                <a:lnTo>
                  <a:pt x="8010526" y="781052"/>
                </a:lnTo>
                <a:lnTo>
                  <a:pt x="8150226" y="736600"/>
                </a:lnTo>
                <a:lnTo>
                  <a:pt x="8283576" y="698500"/>
                </a:lnTo>
                <a:lnTo>
                  <a:pt x="8521701" y="635000"/>
                </a:lnTo>
                <a:lnTo>
                  <a:pt x="8712201" y="590552"/>
                </a:lnTo>
                <a:lnTo>
                  <a:pt x="8855076" y="558800"/>
                </a:lnTo>
                <a:lnTo>
                  <a:pt x="8975726" y="536576"/>
                </a:lnTo>
                <a:lnTo>
                  <a:pt x="9140826" y="517524"/>
                </a:lnTo>
                <a:lnTo>
                  <a:pt x="9299576" y="501652"/>
                </a:lnTo>
                <a:lnTo>
                  <a:pt x="9445626" y="488952"/>
                </a:lnTo>
                <a:lnTo>
                  <a:pt x="9582151" y="479424"/>
                </a:lnTo>
                <a:lnTo>
                  <a:pt x="9712327" y="476252"/>
                </a:lnTo>
                <a:lnTo>
                  <a:pt x="9829801" y="473076"/>
                </a:lnTo>
                <a:lnTo>
                  <a:pt x="9940926" y="473076"/>
                </a:lnTo>
                <a:lnTo>
                  <a:pt x="10045701" y="479424"/>
                </a:lnTo>
                <a:lnTo>
                  <a:pt x="10140951" y="485776"/>
                </a:lnTo>
                <a:lnTo>
                  <a:pt x="10229851" y="492124"/>
                </a:lnTo>
                <a:lnTo>
                  <a:pt x="10309226" y="504824"/>
                </a:lnTo>
                <a:lnTo>
                  <a:pt x="10385427" y="517524"/>
                </a:lnTo>
                <a:lnTo>
                  <a:pt x="10452103" y="530224"/>
                </a:lnTo>
                <a:lnTo>
                  <a:pt x="10512426" y="546100"/>
                </a:lnTo>
                <a:lnTo>
                  <a:pt x="10569577" y="565152"/>
                </a:lnTo>
                <a:lnTo>
                  <a:pt x="10617201" y="581024"/>
                </a:lnTo>
                <a:lnTo>
                  <a:pt x="10661652" y="600076"/>
                </a:lnTo>
                <a:lnTo>
                  <a:pt x="10699751" y="619124"/>
                </a:lnTo>
                <a:lnTo>
                  <a:pt x="10734676" y="638176"/>
                </a:lnTo>
                <a:lnTo>
                  <a:pt x="10766426" y="657224"/>
                </a:lnTo>
                <a:lnTo>
                  <a:pt x="10791826" y="676276"/>
                </a:lnTo>
                <a:lnTo>
                  <a:pt x="10814051" y="695324"/>
                </a:lnTo>
                <a:lnTo>
                  <a:pt x="10845801" y="730252"/>
                </a:lnTo>
                <a:lnTo>
                  <a:pt x="10868026" y="762000"/>
                </a:lnTo>
                <a:lnTo>
                  <a:pt x="10880726" y="787400"/>
                </a:lnTo>
                <a:lnTo>
                  <a:pt x="10887077" y="800100"/>
                </a:lnTo>
                <a:lnTo>
                  <a:pt x="10890251" y="806452"/>
                </a:lnTo>
                <a:lnTo>
                  <a:pt x="10909301" y="841376"/>
                </a:lnTo>
                <a:lnTo>
                  <a:pt x="10925176" y="876300"/>
                </a:lnTo>
                <a:lnTo>
                  <a:pt x="10941051" y="908052"/>
                </a:lnTo>
                <a:lnTo>
                  <a:pt x="10953752" y="942976"/>
                </a:lnTo>
                <a:lnTo>
                  <a:pt x="10960101" y="977900"/>
                </a:lnTo>
                <a:lnTo>
                  <a:pt x="10966451" y="1009652"/>
                </a:lnTo>
                <a:lnTo>
                  <a:pt x="10972801" y="1044576"/>
                </a:lnTo>
                <a:lnTo>
                  <a:pt x="10972801" y="1076324"/>
                </a:lnTo>
                <a:lnTo>
                  <a:pt x="10972801" y="1139824"/>
                </a:lnTo>
                <a:lnTo>
                  <a:pt x="10963276" y="1203324"/>
                </a:lnTo>
                <a:lnTo>
                  <a:pt x="10950576" y="1263652"/>
                </a:lnTo>
                <a:lnTo>
                  <a:pt x="10931526" y="1317624"/>
                </a:lnTo>
                <a:lnTo>
                  <a:pt x="10912476" y="1368424"/>
                </a:lnTo>
                <a:lnTo>
                  <a:pt x="10890251" y="1416052"/>
                </a:lnTo>
                <a:lnTo>
                  <a:pt x="10868026" y="1457324"/>
                </a:lnTo>
                <a:lnTo>
                  <a:pt x="10845801" y="1492252"/>
                </a:lnTo>
                <a:lnTo>
                  <a:pt x="10814051" y="1539876"/>
                </a:lnTo>
                <a:lnTo>
                  <a:pt x="10798176" y="1555752"/>
                </a:lnTo>
                <a:lnTo>
                  <a:pt x="10718802" y="1670052"/>
                </a:lnTo>
                <a:lnTo>
                  <a:pt x="10639426" y="1774824"/>
                </a:lnTo>
                <a:lnTo>
                  <a:pt x="10563227" y="1870076"/>
                </a:lnTo>
                <a:lnTo>
                  <a:pt x="10490201" y="1955800"/>
                </a:lnTo>
                <a:lnTo>
                  <a:pt x="10420351" y="2028824"/>
                </a:lnTo>
                <a:lnTo>
                  <a:pt x="10350501" y="2098676"/>
                </a:lnTo>
                <a:lnTo>
                  <a:pt x="10287001" y="2155824"/>
                </a:lnTo>
                <a:lnTo>
                  <a:pt x="10226677" y="2206624"/>
                </a:lnTo>
                <a:lnTo>
                  <a:pt x="10172701" y="2251076"/>
                </a:lnTo>
                <a:lnTo>
                  <a:pt x="10125076" y="2286000"/>
                </a:lnTo>
                <a:lnTo>
                  <a:pt x="10045701" y="2339976"/>
                </a:lnTo>
                <a:lnTo>
                  <a:pt x="9994901" y="2368552"/>
                </a:lnTo>
                <a:lnTo>
                  <a:pt x="9979026" y="2378076"/>
                </a:lnTo>
                <a:lnTo>
                  <a:pt x="10033001" y="2327276"/>
                </a:lnTo>
                <a:lnTo>
                  <a:pt x="10090151" y="2270124"/>
                </a:lnTo>
                <a:lnTo>
                  <a:pt x="10140951" y="2212976"/>
                </a:lnTo>
                <a:lnTo>
                  <a:pt x="10191751" y="2152652"/>
                </a:lnTo>
                <a:lnTo>
                  <a:pt x="10239376" y="2089152"/>
                </a:lnTo>
                <a:lnTo>
                  <a:pt x="10287001" y="2025652"/>
                </a:lnTo>
                <a:lnTo>
                  <a:pt x="10366376" y="1905000"/>
                </a:lnTo>
                <a:lnTo>
                  <a:pt x="10433051" y="1797052"/>
                </a:lnTo>
                <a:lnTo>
                  <a:pt x="10483851" y="1708152"/>
                </a:lnTo>
                <a:lnTo>
                  <a:pt x="10528301" y="1625600"/>
                </a:lnTo>
                <a:lnTo>
                  <a:pt x="10550526" y="1574800"/>
                </a:lnTo>
                <a:lnTo>
                  <a:pt x="10569577" y="1527176"/>
                </a:lnTo>
                <a:lnTo>
                  <a:pt x="10585453" y="1482724"/>
                </a:lnTo>
                <a:lnTo>
                  <a:pt x="10594977" y="1438276"/>
                </a:lnTo>
                <a:lnTo>
                  <a:pt x="10601326" y="1400176"/>
                </a:lnTo>
                <a:lnTo>
                  <a:pt x="10607676" y="1362076"/>
                </a:lnTo>
                <a:lnTo>
                  <a:pt x="10607676" y="1327152"/>
                </a:lnTo>
                <a:lnTo>
                  <a:pt x="10604501" y="1292224"/>
                </a:lnTo>
                <a:lnTo>
                  <a:pt x="10601326" y="1263652"/>
                </a:lnTo>
                <a:lnTo>
                  <a:pt x="10594977" y="1235076"/>
                </a:lnTo>
                <a:lnTo>
                  <a:pt x="10585453" y="1209676"/>
                </a:lnTo>
                <a:lnTo>
                  <a:pt x="10575926" y="1184276"/>
                </a:lnTo>
                <a:lnTo>
                  <a:pt x="10563227" y="1165224"/>
                </a:lnTo>
                <a:lnTo>
                  <a:pt x="10547351" y="1143000"/>
                </a:lnTo>
                <a:lnTo>
                  <a:pt x="10534651" y="1127124"/>
                </a:lnTo>
                <a:lnTo>
                  <a:pt x="10515601" y="1108076"/>
                </a:lnTo>
                <a:lnTo>
                  <a:pt x="10483851" y="1082676"/>
                </a:lnTo>
                <a:lnTo>
                  <a:pt x="10445751" y="1060452"/>
                </a:lnTo>
                <a:lnTo>
                  <a:pt x="10410826" y="1041400"/>
                </a:lnTo>
                <a:lnTo>
                  <a:pt x="10379076" y="1031876"/>
                </a:lnTo>
                <a:lnTo>
                  <a:pt x="10350501" y="1022352"/>
                </a:lnTo>
                <a:lnTo>
                  <a:pt x="10328276" y="1016000"/>
                </a:lnTo>
                <a:lnTo>
                  <a:pt x="10306051" y="1012824"/>
                </a:lnTo>
                <a:lnTo>
                  <a:pt x="10239376" y="1117600"/>
                </a:lnTo>
                <a:lnTo>
                  <a:pt x="10169526" y="1219200"/>
                </a:lnTo>
                <a:lnTo>
                  <a:pt x="10096501" y="1314452"/>
                </a:lnTo>
                <a:lnTo>
                  <a:pt x="10026652" y="1406524"/>
                </a:lnTo>
                <a:lnTo>
                  <a:pt x="9953626" y="1492252"/>
                </a:lnTo>
                <a:lnTo>
                  <a:pt x="9883776" y="1571624"/>
                </a:lnTo>
                <a:lnTo>
                  <a:pt x="9817101" y="1644652"/>
                </a:lnTo>
                <a:lnTo>
                  <a:pt x="9750426" y="1714500"/>
                </a:lnTo>
                <a:lnTo>
                  <a:pt x="9636126" y="1828800"/>
                </a:lnTo>
                <a:lnTo>
                  <a:pt x="9544051" y="1914524"/>
                </a:lnTo>
                <a:lnTo>
                  <a:pt x="9461501" y="1987552"/>
                </a:lnTo>
                <a:lnTo>
                  <a:pt x="9572626" y="1847852"/>
                </a:lnTo>
                <a:lnTo>
                  <a:pt x="9671051" y="1720852"/>
                </a:lnTo>
                <a:lnTo>
                  <a:pt x="9753601" y="1603376"/>
                </a:lnTo>
                <a:lnTo>
                  <a:pt x="9826627" y="1498600"/>
                </a:lnTo>
                <a:lnTo>
                  <a:pt x="9886951" y="1403352"/>
                </a:lnTo>
                <a:lnTo>
                  <a:pt x="9937752" y="1320800"/>
                </a:lnTo>
                <a:lnTo>
                  <a:pt x="9979026" y="1244600"/>
                </a:lnTo>
                <a:lnTo>
                  <a:pt x="10013951" y="1181100"/>
                </a:lnTo>
                <a:lnTo>
                  <a:pt x="10036176" y="1123952"/>
                </a:lnTo>
                <a:lnTo>
                  <a:pt x="10055226" y="1079500"/>
                </a:lnTo>
                <a:lnTo>
                  <a:pt x="10067926" y="1038224"/>
                </a:lnTo>
                <a:lnTo>
                  <a:pt x="10077451" y="1009652"/>
                </a:lnTo>
                <a:lnTo>
                  <a:pt x="10083801" y="968376"/>
                </a:lnTo>
                <a:lnTo>
                  <a:pt x="10086976" y="955676"/>
                </a:lnTo>
                <a:lnTo>
                  <a:pt x="9950451" y="955676"/>
                </a:lnTo>
                <a:lnTo>
                  <a:pt x="9813926" y="958852"/>
                </a:lnTo>
                <a:lnTo>
                  <a:pt x="9674226" y="968376"/>
                </a:lnTo>
                <a:lnTo>
                  <a:pt x="9534526" y="984252"/>
                </a:lnTo>
                <a:lnTo>
                  <a:pt x="9398001" y="1003300"/>
                </a:lnTo>
                <a:lnTo>
                  <a:pt x="9258302" y="1025524"/>
                </a:lnTo>
                <a:lnTo>
                  <a:pt x="9118601" y="1054100"/>
                </a:lnTo>
                <a:lnTo>
                  <a:pt x="8982076" y="1082676"/>
                </a:lnTo>
                <a:lnTo>
                  <a:pt x="8845551" y="1117600"/>
                </a:lnTo>
                <a:lnTo>
                  <a:pt x="8709026" y="1155700"/>
                </a:lnTo>
                <a:lnTo>
                  <a:pt x="8575676" y="1193800"/>
                </a:lnTo>
                <a:lnTo>
                  <a:pt x="8445501" y="1235076"/>
                </a:lnTo>
                <a:lnTo>
                  <a:pt x="8318501" y="1276352"/>
                </a:lnTo>
                <a:lnTo>
                  <a:pt x="8191501" y="1320800"/>
                </a:lnTo>
                <a:lnTo>
                  <a:pt x="8070851" y="1365252"/>
                </a:lnTo>
                <a:lnTo>
                  <a:pt x="7953376" y="1412876"/>
                </a:lnTo>
                <a:lnTo>
                  <a:pt x="7731126" y="1501776"/>
                </a:lnTo>
                <a:lnTo>
                  <a:pt x="7531101" y="1590676"/>
                </a:lnTo>
                <a:lnTo>
                  <a:pt x="7350126" y="1673224"/>
                </a:lnTo>
                <a:lnTo>
                  <a:pt x="7197726" y="1749424"/>
                </a:lnTo>
                <a:lnTo>
                  <a:pt x="7073901" y="1812924"/>
                </a:lnTo>
                <a:lnTo>
                  <a:pt x="6981826" y="1860552"/>
                </a:lnTo>
                <a:lnTo>
                  <a:pt x="6902451" y="1905000"/>
                </a:lnTo>
                <a:lnTo>
                  <a:pt x="5387978" y="1993900"/>
                </a:lnTo>
                <a:lnTo>
                  <a:pt x="5429253" y="1936752"/>
                </a:lnTo>
                <a:lnTo>
                  <a:pt x="5483227" y="1879600"/>
                </a:lnTo>
                <a:lnTo>
                  <a:pt x="5540377" y="1819276"/>
                </a:lnTo>
                <a:lnTo>
                  <a:pt x="5603876" y="1762124"/>
                </a:lnTo>
                <a:lnTo>
                  <a:pt x="5676901" y="1701800"/>
                </a:lnTo>
                <a:lnTo>
                  <a:pt x="5749928" y="1641476"/>
                </a:lnTo>
                <a:lnTo>
                  <a:pt x="5832477" y="1577976"/>
                </a:lnTo>
                <a:lnTo>
                  <a:pt x="5915026" y="1517652"/>
                </a:lnTo>
                <a:lnTo>
                  <a:pt x="6092826" y="1397000"/>
                </a:lnTo>
                <a:lnTo>
                  <a:pt x="6280151" y="1276352"/>
                </a:lnTo>
                <a:lnTo>
                  <a:pt x="6470651" y="1158876"/>
                </a:lnTo>
                <a:lnTo>
                  <a:pt x="6661152" y="1047752"/>
                </a:lnTo>
                <a:lnTo>
                  <a:pt x="6845301" y="942976"/>
                </a:lnTo>
                <a:lnTo>
                  <a:pt x="7023101" y="847724"/>
                </a:lnTo>
                <a:lnTo>
                  <a:pt x="7181851" y="762000"/>
                </a:lnTo>
                <a:lnTo>
                  <a:pt x="7324726" y="688976"/>
                </a:lnTo>
                <a:lnTo>
                  <a:pt x="7534277" y="584200"/>
                </a:lnTo>
                <a:lnTo>
                  <a:pt x="7613651" y="546100"/>
                </a:lnTo>
                <a:lnTo>
                  <a:pt x="7737476" y="495300"/>
                </a:lnTo>
                <a:lnTo>
                  <a:pt x="7854951" y="444500"/>
                </a:lnTo>
                <a:lnTo>
                  <a:pt x="8086726" y="358776"/>
                </a:lnTo>
                <a:lnTo>
                  <a:pt x="8305801" y="285752"/>
                </a:lnTo>
                <a:lnTo>
                  <a:pt x="8509001" y="219076"/>
                </a:lnTo>
                <a:lnTo>
                  <a:pt x="8699501" y="168276"/>
                </a:lnTo>
                <a:lnTo>
                  <a:pt x="8877301" y="123824"/>
                </a:lnTo>
                <a:lnTo>
                  <a:pt x="9039226" y="88900"/>
                </a:lnTo>
                <a:lnTo>
                  <a:pt x="9188451" y="60324"/>
                </a:lnTo>
                <a:lnTo>
                  <a:pt x="9318626" y="38100"/>
                </a:lnTo>
                <a:lnTo>
                  <a:pt x="9432926" y="22224"/>
                </a:lnTo>
                <a:lnTo>
                  <a:pt x="9534526" y="12700"/>
                </a:lnTo>
                <a:lnTo>
                  <a:pt x="9617076" y="6352"/>
                </a:lnTo>
                <a:lnTo>
                  <a:pt x="97282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爆炸形 1 1"/>
          <p:cNvSpPr/>
          <p:nvPr/>
        </p:nvSpPr>
        <p:spPr>
          <a:xfrm>
            <a:off x="6838920" y="2971800"/>
            <a:ext cx="2000160" cy="1917720"/>
          </a:xfrm>
          <a:prstGeom prst="irregularSeal1">
            <a:avLst/>
          </a:pr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对象 12" descr=""/>
          <p:cNvPicPr/>
          <p:nvPr/>
        </p:nvPicPr>
        <p:blipFill>
          <a:blip r:embed="rId1"/>
          <a:stretch/>
        </p:blipFill>
        <p:spPr>
          <a:xfrm>
            <a:off x="2220840" y="2833560"/>
            <a:ext cx="4624560" cy="3594240"/>
          </a:xfrm>
          <a:prstGeom prst="rect">
            <a:avLst/>
          </a:prstGeom>
          <a:ln w="9360">
            <a:solidFill>
              <a:srgbClr val="49bccf"/>
            </a:solidFill>
            <a:miter/>
          </a:ln>
        </p:spPr>
      </p:pic>
      <p:sp>
        <p:nvSpPr>
          <p:cNvPr id="271" name="文本框 13"/>
          <p:cNvSpPr/>
          <p:nvPr/>
        </p:nvSpPr>
        <p:spPr>
          <a:xfrm>
            <a:off x="1809720" y="10922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重点</a:t>
            </a:r>
            <a:r>
              <a:rPr b="0" lang="en-US" sz="2400" spc="-1" strike="noStrike">
                <a:solidFill>
                  <a:srgbClr val="49bccf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4"/>
          <p:cNvSpPr/>
          <p:nvPr/>
        </p:nvSpPr>
        <p:spPr>
          <a:xfrm>
            <a:off x="2475720" y="15541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其次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5"/>
          <p:cNvSpPr/>
          <p:nvPr/>
        </p:nvSpPr>
        <p:spPr>
          <a:xfrm>
            <a:off x="2475720" y="203364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最后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KSO_Shape"/>
          <p:cNvSpPr/>
          <p:nvPr/>
        </p:nvSpPr>
        <p:spPr>
          <a:xfrm>
            <a:off x="6041880" y="1368360"/>
            <a:ext cx="609840" cy="1047960"/>
          </a:xfrm>
          <a:custGeom>
            <a:avLst/>
            <a:gdLst/>
            <a:ahLst/>
            <a:rect l="l" t="t" r="r" b="b"/>
            <a:pathLst>
              <a:path w="1119188" h="1925638">
                <a:moveTo>
                  <a:pt x="282427" y="1681162"/>
                </a:moveTo>
                <a:lnTo>
                  <a:pt x="301180" y="1681162"/>
                </a:lnTo>
                <a:lnTo>
                  <a:pt x="319614" y="1681480"/>
                </a:lnTo>
                <a:lnTo>
                  <a:pt x="337095" y="1681797"/>
                </a:lnTo>
                <a:lnTo>
                  <a:pt x="354577" y="1682432"/>
                </a:lnTo>
                <a:lnTo>
                  <a:pt x="371104" y="1683385"/>
                </a:lnTo>
                <a:lnTo>
                  <a:pt x="387632" y="1684655"/>
                </a:lnTo>
                <a:lnTo>
                  <a:pt x="403524" y="1686242"/>
                </a:lnTo>
                <a:lnTo>
                  <a:pt x="418462" y="1687830"/>
                </a:lnTo>
                <a:lnTo>
                  <a:pt x="433401" y="1689735"/>
                </a:lnTo>
                <a:lnTo>
                  <a:pt x="447703" y="1691640"/>
                </a:lnTo>
                <a:lnTo>
                  <a:pt x="461688" y="1693545"/>
                </a:lnTo>
                <a:lnTo>
                  <a:pt x="475038" y="1695767"/>
                </a:lnTo>
                <a:lnTo>
                  <a:pt x="487751" y="1698625"/>
                </a:lnTo>
                <a:lnTo>
                  <a:pt x="500147" y="1701165"/>
                </a:lnTo>
                <a:lnTo>
                  <a:pt x="512225" y="1703705"/>
                </a:lnTo>
                <a:lnTo>
                  <a:pt x="523985" y="1706562"/>
                </a:lnTo>
                <a:lnTo>
                  <a:pt x="535109" y="1709737"/>
                </a:lnTo>
                <a:lnTo>
                  <a:pt x="545916" y="1712912"/>
                </a:lnTo>
                <a:lnTo>
                  <a:pt x="556087" y="1716087"/>
                </a:lnTo>
                <a:lnTo>
                  <a:pt x="566258" y="1719262"/>
                </a:lnTo>
                <a:lnTo>
                  <a:pt x="575793" y="1723072"/>
                </a:lnTo>
                <a:lnTo>
                  <a:pt x="585010" y="1726247"/>
                </a:lnTo>
                <a:lnTo>
                  <a:pt x="593592" y="1729740"/>
                </a:lnTo>
                <a:lnTo>
                  <a:pt x="601856" y="1733550"/>
                </a:lnTo>
                <a:lnTo>
                  <a:pt x="610119" y="1737042"/>
                </a:lnTo>
                <a:lnTo>
                  <a:pt x="625058" y="1744662"/>
                </a:lnTo>
                <a:lnTo>
                  <a:pt x="638725" y="1751965"/>
                </a:lnTo>
                <a:lnTo>
                  <a:pt x="650803" y="1759585"/>
                </a:lnTo>
                <a:lnTo>
                  <a:pt x="661927" y="1767205"/>
                </a:lnTo>
                <a:lnTo>
                  <a:pt x="671780" y="1774507"/>
                </a:lnTo>
                <a:lnTo>
                  <a:pt x="680680" y="1781810"/>
                </a:lnTo>
                <a:lnTo>
                  <a:pt x="688626" y="1788795"/>
                </a:lnTo>
                <a:lnTo>
                  <a:pt x="694982" y="1795462"/>
                </a:lnTo>
                <a:lnTo>
                  <a:pt x="700704" y="1801812"/>
                </a:lnTo>
                <a:lnTo>
                  <a:pt x="705471" y="1807527"/>
                </a:lnTo>
                <a:lnTo>
                  <a:pt x="709285" y="1812925"/>
                </a:lnTo>
                <a:lnTo>
                  <a:pt x="712781" y="1817370"/>
                </a:lnTo>
                <a:lnTo>
                  <a:pt x="715006" y="1821180"/>
                </a:lnTo>
                <a:lnTo>
                  <a:pt x="718185" y="1826895"/>
                </a:lnTo>
                <a:lnTo>
                  <a:pt x="718820" y="1828800"/>
                </a:lnTo>
                <a:lnTo>
                  <a:pt x="719138" y="1831975"/>
                </a:lnTo>
                <a:lnTo>
                  <a:pt x="719138" y="1835150"/>
                </a:lnTo>
                <a:lnTo>
                  <a:pt x="718820" y="1838642"/>
                </a:lnTo>
                <a:lnTo>
                  <a:pt x="718503" y="1841500"/>
                </a:lnTo>
                <a:lnTo>
                  <a:pt x="717867" y="1844357"/>
                </a:lnTo>
                <a:lnTo>
                  <a:pt x="716913" y="1847532"/>
                </a:lnTo>
                <a:lnTo>
                  <a:pt x="715960" y="1850390"/>
                </a:lnTo>
                <a:lnTo>
                  <a:pt x="714688" y="1852930"/>
                </a:lnTo>
                <a:lnTo>
                  <a:pt x="711828" y="1858010"/>
                </a:lnTo>
                <a:lnTo>
                  <a:pt x="708014" y="1863090"/>
                </a:lnTo>
                <a:lnTo>
                  <a:pt x="703882" y="1867535"/>
                </a:lnTo>
                <a:lnTo>
                  <a:pt x="699114" y="1871980"/>
                </a:lnTo>
                <a:lnTo>
                  <a:pt x="693393" y="1875790"/>
                </a:lnTo>
                <a:lnTo>
                  <a:pt x="687354" y="1879600"/>
                </a:lnTo>
                <a:lnTo>
                  <a:pt x="680680" y="1883092"/>
                </a:lnTo>
                <a:lnTo>
                  <a:pt x="673052" y="1886267"/>
                </a:lnTo>
                <a:lnTo>
                  <a:pt x="665741" y="1889125"/>
                </a:lnTo>
                <a:lnTo>
                  <a:pt x="657160" y="1891665"/>
                </a:lnTo>
                <a:lnTo>
                  <a:pt x="648260" y="1894205"/>
                </a:lnTo>
                <a:lnTo>
                  <a:pt x="639043" y="1896427"/>
                </a:lnTo>
                <a:lnTo>
                  <a:pt x="629825" y="1898332"/>
                </a:lnTo>
                <a:lnTo>
                  <a:pt x="619655" y="1899920"/>
                </a:lnTo>
                <a:lnTo>
                  <a:pt x="609484" y="1901507"/>
                </a:lnTo>
                <a:lnTo>
                  <a:pt x="598677" y="1902460"/>
                </a:lnTo>
                <a:lnTo>
                  <a:pt x="587553" y="1903730"/>
                </a:lnTo>
                <a:lnTo>
                  <a:pt x="576111" y="1904365"/>
                </a:lnTo>
                <a:lnTo>
                  <a:pt x="552908" y="1905952"/>
                </a:lnTo>
                <a:lnTo>
                  <a:pt x="528752" y="1906587"/>
                </a:lnTo>
                <a:lnTo>
                  <a:pt x="503643" y="1906587"/>
                </a:lnTo>
                <a:lnTo>
                  <a:pt x="478216" y="1905952"/>
                </a:lnTo>
                <a:lnTo>
                  <a:pt x="452789" y="1904365"/>
                </a:lnTo>
                <a:lnTo>
                  <a:pt x="427044" y="1903095"/>
                </a:lnTo>
                <a:lnTo>
                  <a:pt x="401935" y="1901190"/>
                </a:lnTo>
                <a:lnTo>
                  <a:pt x="376825" y="1898967"/>
                </a:lnTo>
                <a:lnTo>
                  <a:pt x="352352" y="1896745"/>
                </a:lnTo>
                <a:lnTo>
                  <a:pt x="328832" y="1894205"/>
                </a:lnTo>
                <a:lnTo>
                  <a:pt x="305947" y="1891347"/>
                </a:lnTo>
                <a:lnTo>
                  <a:pt x="264310" y="1885950"/>
                </a:lnTo>
                <a:lnTo>
                  <a:pt x="229030" y="1880870"/>
                </a:lnTo>
                <a:lnTo>
                  <a:pt x="202014" y="1876742"/>
                </a:lnTo>
                <a:lnTo>
                  <a:pt x="178176" y="1872615"/>
                </a:lnTo>
                <a:lnTo>
                  <a:pt x="172455" y="1870710"/>
                </a:lnTo>
                <a:lnTo>
                  <a:pt x="167369" y="1868170"/>
                </a:lnTo>
                <a:lnTo>
                  <a:pt x="162284" y="1865947"/>
                </a:lnTo>
                <a:lnTo>
                  <a:pt x="157834" y="1863725"/>
                </a:lnTo>
                <a:lnTo>
                  <a:pt x="153384" y="1861185"/>
                </a:lnTo>
                <a:lnTo>
                  <a:pt x="149570" y="1858010"/>
                </a:lnTo>
                <a:lnTo>
                  <a:pt x="146074" y="1855470"/>
                </a:lnTo>
                <a:lnTo>
                  <a:pt x="142578" y="1852612"/>
                </a:lnTo>
                <a:lnTo>
                  <a:pt x="139717" y="1849437"/>
                </a:lnTo>
                <a:lnTo>
                  <a:pt x="137174" y="1846262"/>
                </a:lnTo>
                <a:lnTo>
                  <a:pt x="134632" y="1843087"/>
                </a:lnTo>
                <a:lnTo>
                  <a:pt x="132725" y="1839912"/>
                </a:lnTo>
                <a:lnTo>
                  <a:pt x="130500" y="1836420"/>
                </a:lnTo>
                <a:lnTo>
                  <a:pt x="128911" y="1832927"/>
                </a:lnTo>
                <a:lnTo>
                  <a:pt x="127321" y="1829435"/>
                </a:lnTo>
                <a:lnTo>
                  <a:pt x="126368" y="1825625"/>
                </a:lnTo>
                <a:lnTo>
                  <a:pt x="125414" y="1821815"/>
                </a:lnTo>
                <a:lnTo>
                  <a:pt x="124779" y="1818322"/>
                </a:lnTo>
                <a:lnTo>
                  <a:pt x="124143" y="1814512"/>
                </a:lnTo>
                <a:lnTo>
                  <a:pt x="123825" y="1810385"/>
                </a:lnTo>
                <a:lnTo>
                  <a:pt x="123825" y="1803082"/>
                </a:lnTo>
                <a:lnTo>
                  <a:pt x="124461" y="1794827"/>
                </a:lnTo>
                <a:lnTo>
                  <a:pt x="125732" y="1786890"/>
                </a:lnTo>
                <a:lnTo>
                  <a:pt x="127321" y="1779270"/>
                </a:lnTo>
                <a:lnTo>
                  <a:pt x="129546" y="1771015"/>
                </a:lnTo>
                <a:lnTo>
                  <a:pt x="132725" y="1763077"/>
                </a:lnTo>
                <a:lnTo>
                  <a:pt x="135585" y="1755775"/>
                </a:lnTo>
                <a:lnTo>
                  <a:pt x="139082" y="1747837"/>
                </a:lnTo>
                <a:lnTo>
                  <a:pt x="142578" y="1740535"/>
                </a:lnTo>
                <a:lnTo>
                  <a:pt x="146710" y="1733550"/>
                </a:lnTo>
                <a:lnTo>
                  <a:pt x="150524" y="1726565"/>
                </a:lnTo>
                <a:lnTo>
                  <a:pt x="154020" y="1720532"/>
                </a:lnTo>
                <a:lnTo>
                  <a:pt x="161966" y="1708785"/>
                </a:lnTo>
                <a:lnTo>
                  <a:pt x="168958" y="1699260"/>
                </a:lnTo>
                <a:lnTo>
                  <a:pt x="174362" y="1691640"/>
                </a:lnTo>
                <a:lnTo>
                  <a:pt x="179447" y="1685607"/>
                </a:lnTo>
                <a:lnTo>
                  <a:pt x="201378" y="1683702"/>
                </a:lnTo>
                <a:lnTo>
                  <a:pt x="222038" y="1682750"/>
                </a:lnTo>
                <a:lnTo>
                  <a:pt x="242697" y="1681797"/>
                </a:lnTo>
                <a:lnTo>
                  <a:pt x="262721" y="1681480"/>
                </a:lnTo>
                <a:lnTo>
                  <a:pt x="282427" y="1681162"/>
                </a:lnTo>
                <a:close/>
                <a:moveTo>
                  <a:pt x="238591" y="1387475"/>
                </a:moveTo>
                <a:lnTo>
                  <a:pt x="261431" y="1387475"/>
                </a:lnTo>
                <a:lnTo>
                  <a:pt x="283636" y="1387792"/>
                </a:lnTo>
                <a:lnTo>
                  <a:pt x="305207" y="1388426"/>
                </a:lnTo>
                <a:lnTo>
                  <a:pt x="325827" y="1389378"/>
                </a:lnTo>
                <a:lnTo>
                  <a:pt x="346129" y="1390329"/>
                </a:lnTo>
                <a:lnTo>
                  <a:pt x="365796" y="1391915"/>
                </a:lnTo>
                <a:lnTo>
                  <a:pt x="384512" y="1393500"/>
                </a:lnTo>
                <a:lnTo>
                  <a:pt x="402911" y="1395720"/>
                </a:lnTo>
                <a:lnTo>
                  <a:pt x="420992" y="1397623"/>
                </a:lnTo>
                <a:lnTo>
                  <a:pt x="438122" y="1400160"/>
                </a:lnTo>
                <a:lnTo>
                  <a:pt x="454618" y="1402697"/>
                </a:lnTo>
                <a:lnTo>
                  <a:pt x="470796" y="1405234"/>
                </a:lnTo>
                <a:lnTo>
                  <a:pt x="486339" y="1408405"/>
                </a:lnTo>
                <a:lnTo>
                  <a:pt x="501566" y="1411577"/>
                </a:lnTo>
                <a:lnTo>
                  <a:pt x="516158" y="1414748"/>
                </a:lnTo>
                <a:lnTo>
                  <a:pt x="530116" y="1418554"/>
                </a:lnTo>
                <a:lnTo>
                  <a:pt x="543439" y="1422042"/>
                </a:lnTo>
                <a:lnTo>
                  <a:pt x="556445" y="1425848"/>
                </a:lnTo>
                <a:lnTo>
                  <a:pt x="568817" y="1429336"/>
                </a:lnTo>
                <a:lnTo>
                  <a:pt x="580871" y="1433776"/>
                </a:lnTo>
                <a:lnTo>
                  <a:pt x="592291" y="1437581"/>
                </a:lnTo>
                <a:lnTo>
                  <a:pt x="603393" y="1442021"/>
                </a:lnTo>
                <a:lnTo>
                  <a:pt x="613862" y="1446144"/>
                </a:lnTo>
                <a:lnTo>
                  <a:pt x="624013" y="1450584"/>
                </a:lnTo>
                <a:lnTo>
                  <a:pt x="633846" y="1455023"/>
                </a:lnTo>
                <a:lnTo>
                  <a:pt x="643046" y="1459463"/>
                </a:lnTo>
                <a:lnTo>
                  <a:pt x="651928" y="1463903"/>
                </a:lnTo>
                <a:lnTo>
                  <a:pt x="660176" y="1468660"/>
                </a:lnTo>
                <a:lnTo>
                  <a:pt x="668106" y="1473100"/>
                </a:lnTo>
                <a:lnTo>
                  <a:pt x="676037" y="1477857"/>
                </a:lnTo>
                <a:lnTo>
                  <a:pt x="683015" y="1482297"/>
                </a:lnTo>
                <a:lnTo>
                  <a:pt x="696339" y="1491493"/>
                </a:lnTo>
                <a:lnTo>
                  <a:pt x="708076" y="1500373"/>
                </a:lnTo>
                <a:lnTo>
                  <a:pt x="718544" y="1508936"/>
                </a:lnTo>
                <a:lnTo>
                  <a:pt x="728061" y="1517181"/>
                </a:lnTo>
                <a:lnTo>
                  <a:pt x="735991" y="1525426"/>
                </a:lnTo>
                <a:lnTo>
                  <a:pt x="742653" y="1532720"/>
                </a:lnTo>
                <a:lnTo>
                  <a:pt x="748680" y="1539697"/>
                </a:lnTo>
                <a:lnTo>
                  <a:pt x="753438" y="1546357"/>
                </a:lnTo>
                <a:lnTo>
                  <a:pt x="757245" y="1551748"/>
                </a:lnTo>
                <a:lnTo>
                  <a:pt x="760417" y="1556188"/>
                </a:lnTo>
                <a:lnTo>
                  <a:pt x="763906" y="1563165"/>
                </a:lnTo>
                <a:lnTo>
                  <a:pt x="764858" y="1565385"/>
                </a:lnTo>
                <a:lnTo>
                  <a:pt x="765175" y="1569824"/>
                </a:lnTo>
                <a:lnTo>
                  <a:pt x="765175" y="1573630"/>
                </a:lnTo>
                <a:lnTo>
                  <a:pt x="764858" y="1577118"/>
                </a:lnTo>
                <a:lnTo>
                  <a:pt x="764224" y="1581241"/>
                </a:lnTo>
                <a:lnTo>
                  <a:pt x="763589" y="1584730"/>
                </a:lnTo>
                <a:lnTo>
                  <a:pt x="762637" y="1587901"/>
                </a:lnTo>
                <a:lnTo>
                  <a:pt x="761369" y="1591389"/>
                </a:lnTo>
                <a:lnTo>
                  <a:pt x="760100" y="1594878"/>
                </a:lnTo>
                <a:lnTo>
                  <a:pt x="758196" y="1598049"/>
                </a:lnTo>
                <a:lnTo>
                  <a:pt x="756610" y="1600903"/>
                </a:lnTo>
                <a:lnTo>
                  <a:pt x="754073" y="1604074"/>
                </a:lnTo>
                <a:lnTo>
                  <a:pt x="751852" y="1606929"/>
                </a:lnTo>
                <a:lnTo>
                  <a:pt x="749631" y="1609783"/>
                </a:lnTo>
                <a:lnTo>
                  <a:pt x="746777" y="1612320"/>
                </a:lnTo>
                <a:lnTo>
                  <a:pt x="740749" y="1617711"/>
                </a:lnTo>
                <a:lnTo>
                  <a:pt x="734405" y="1622468"/>
                </a:lnTo>
                <a:lnTo>
                  <a:pt x="726792" y="1626908"/>
                </a:lnTo>
                <a:lnTo>
                  <a:pt x="718544" y="1631030"/>
                </a:lnTo>
                <a:lnTo>
                  <a:pt x="709979" y="1634836"/>
                </a:lnTo>
                <a:lnTo>
                  <a:pt x="700462" y="1638007"/>
                </a:lnTo>
                <a:lnTo>
                  <a:pt x="690629" y="1641496"/>
                </a:lnTo>
                <a:lnTo>
                  <a:pt x="679843" y="1644350"/>
                </a:lnTo>
                <a:lnTo>
                  <a:pt x="669058" y="1646887"/>
                </a:lnTo>
                <a:lnTo>
                  <a:pt x="657321" y="1649107"/>
                </a:lnTo>
                <a:lnTo>
                  <a:pt x="645266" y="1651327"/>
                </a:lnTo>
                <a:lnTo>
                  <a:pt x="632895" y="1653230"/>
                </a:lnTo>
                <a:lnTo>
                  <a:pt x="619889" y="1654815"/>
                </a:lnTo>
                <a:lnTo>
                  <a:pt x="606566" y="1656084"/>
                </a:lnTo>
                <a:lnTo>
                  <a:pt x="592925" y="1657035"/>
                </a:lnTo>
                <a:lnTo>
                  <a:pt x="578968" y="1657669"/>
                </a:lnTo>
                <a:lnTo>
                  <a:pt x="564693" y="1658304"/>
                </a:lnTo>
                <a:lnTo>
                  <a:pt x="550418" y="1658938"/>
                </a:lnTo>
                <a:lnTo>
                  <a:pt x="535508" y="1658938"/>
                </a:lnTo>
                <a:lnTo>
                  <a:pt x="505690" y="1658938"/>
                </a:lnTo>
                <a:lnTo>
                  <a:pt x="474920" y="1658304"/>
                </a:lnTo>
                <a:lnTo>
                  <a:pt x="444467" y="1657035"/>
                </a:lnTo>
                <a:lnTo>
                  <a:pt x="413379" y="1655132"/>
                </a:lnTo>
                <a:lnTo>
                  <a:pt x="382609" y="1652912"/>
                </a:lnTo>
                <a:lnTo>
                  <a:pt x="352790" y="1650375"/>
                </a:lnTo>
                <a:lnTo>
                  <a:pt x="323289" y="1647204"/>
                </a:lnTo>
                <a:lnTo>
                  <a:pt x="294739" y="1644350"/>
                </a:lnTo>
                <a:lnTo>
                  <a:pt x="267141" y="1641179"/>
                </a:lnTo>
                <a:lnTo>
                  <a:pt x="241446" y="1637690"/>
                </a:lnTo>
                <a:lnTo>
                  <a:pt x="217338" y="1634519"/>
                </a:lnTo>
                <a:lnTo>
                  <a:pt x="174830" y="1628493"/>
                </a:lnTo>
                <a:lnTo>
                  <a:pt x="141839" y="1623102"/>
                </a:lnTo>
                <a:lnTo>
                  <a:pt x="113606" y="1618345"/>
                </a:lnTo>
                <a:lnTo>
                  <a:pt x="106628" y="1616125"/>
                </a:lnTo>
                <a:lnTo>
                  <a:pt x="100600" y="1613271"/>
                </a:lnTo>
                <a:lnTo>
                  <a:pt x="94256" y="1610417"/>
                </a:lnTo>
                <a:lnTo>
                  <a:pt x="89180" y="1607563"/>
                </a:lnTo>
                <a:lnTo>
                  <a:pt x="83788" y="1604709"/>
                </a:lnTo>
                <a:lnTo>
                  <a:pt x="79029" y="1601220"/>
                </a:lnTo>
                <a:lnTo>
                  <a:pt x="74906" y="1597732"/>
                </a:lnTo>
                <a:lnTo>
                  <a:pt x="70782" y="1594243"/>
                </a:lnTo>
                <a:lnTo>
                  <a:pt x="67292" y="1590438"/>
                </a:lnTo>
                <a:lnTo>
                  <a:pt x="64120" y="1586632"/>
                </a:lnTo>
                <a:lnTo>
                  <a:pt x="60948" y="1582827"/>
                </a:lnTo>
                <a:lnTo>
                  <a:pt x="58410" y="1578704"/>
                </a:lnTo>
                <a:lnTo>
                  <a:pt x="56190" y="1574581"/>
                </a:lnTo>
                <a:lnTo>
                  <a:pt x="53969" y="1570776"/>
                </a:lnTo>
                <a:lnTo>
                  <a:pt x="52383" y="1566019"/>
                </a:lnTo>
                <a:lnTo>
                  <a:pt x="51114" y="1561896"/>
                </a:lnTo>
                <a:lnTo>
                  <a:pt x="49528" y="1557456"/>
                </a:lnTo>
                <a:lnTo>
                  <a:pt x="48894" y="1552699"/>
                </a:lnTo>
                <a:lnTo>
                  <a:pt x="48259" y="1548260"/>
                </a:lnTo>
                <a:lnTo>
                  <a:pt x="47625" y="1543503"/>
                </a:lnTo>
                <a:lnTo>
                  <a:pt x="47625" y="1539063"/>
                </a:lnTo>
                <a:lnTo>
                  <a:pt x="47625" y="1534306"/>
                </a:lnTo>
                <a:lnTo>
                  <a:pt x="47942" y="1529549"/>
                </a:lnTo>
                <a:lnTo>
                  <a:pt x="48259" y="1524792"/>
                </a:lnTo>
                <a:lnTo>
                  <a:pt x="49845" y="1515278"/>
                </a:lnTo>
                <a:lnTo>
                  <a:pt x="52383" y="1505447"/>
                </a:lnTo>
                <a:lnTo>
                  <a:pt x="54921" y="1495933"/>
                </a:lnTo>
                <a:lnTo>
                  <a:pt x="58410" y="1486419"/>
                </a:lnTo>
                <a:lnTo>
                  <a:pt x="61900" y="1477223"/>
                </a:lnTo>
                <a:lnTo>
                  <a:pt x="66341" y="1468026"/>
                </a:lnTo>
                <a:lnTo>
                  <a:pt x="70465" y="1459146"/>
                </a:lnTo>
                <a:lnTo>
                  <a:pt x="75223" y="1450584"/>
                </a:lnTo>
                <a:lnTo>
                  <a:pt x="79664" y="1442655"/>
                </a:lnTo>
                <a:lnTo>
                  <a:pt x="84422" y="1434727"/>
                </a:lnTo>
                <a:lnTo>
                  <a:pt x="93622" y="1420773"/>
                </a:lnTo>
                <a:lnTo>
                  <a:pt x="101869" y="1409040"/>
                </a:lnTo>
                <a:lnTo>
                  <a:pt x="108848" y="1400160"/>
                </a:lnTo>
                <a:lnTo>
                  <a:pt x="114875" y="1392232"/>
                </a:lnTo>
                <a:lnTo>
                  <a:pt x="140888" y="1390646"/>
                </a:lnTo>
                <a:lnTo>
                  <a:pt x="166582" y="1389378"/>
                </a:lnTo>
                <a:lnTo>
                  <a:pt x="191326" y="1388426"/>
                </a:lnTo>
                <a:lnTo>
                  <a:pt x="215434" y="1387792"/>
                </a:lnTo>
                <a:lnTo>
                  <a:pt x="238591" y="1387475"/>
                </a:lnTo>
                <a:close/>
                <a:moveTo>
                  <a:pt x="220197" y="1096962"/>
                </a:moveTo>
                <a:lnTo>
                  <a:pt x="246252" y="1096962"/>
                </a:lnTo>
                <a:lnTo>
                  <a:pt x="271989" y="1097280"/>
                </a:lnTo>
                <a:lnTo>
                  <a:pt x="296773" y="1097918"/>
                </a:lnTo>
                <a:lnTo>
                  <a:pt x="320604" y="1098874"/>
                </a:lnTo>
                <a:lnTo>
                  <a:pt x="343799" y="1099829"/>
                </a:lnTo>
                <a:lnTo>
                  <a:pt x="366677" y="1101422"/>
                </a:lnTo>
                <a:lnTo>
                  <a:pt x="388601" y="1103015"/>
                </a:lnTo>
                <a:lnTo>
                  <a:pt x="409890" y="1104927"/>
                </a:lnTo>
                <a:lnTo>
                  <a:pt x="429908" y="1107157"/>
                </a:lnTo>
                <a:lnTo>
                  <a:pt x="449926" y="1109706"/>
                </a:lnTo>
                <a:lnTo>
                  <a:pt x="469308" y="1112255"/>
                </a:lnTo>
                <a:lnTo>
                  <a:pt x="487737" y="1114804"/>
                </a:lnTo>
                <a:lnTo>
                  <a:pt x="505849" y="1117990"/>
                </a:lnTo>
                <a:lnTo>
                  <a:pt x="523007" y="1121176"/>
                </a:lnTo>
                <a:lnTo>
                  <a:pt x="539848" y="1124362"/>
                </a:lnTo>
                <a:lnTo>
                  <a:pt x="555735" y="1127867"/>
                </a:lnTo>
                <a:lnTo>
                  <a:pt x="571622" y="1131691"/>
                </a:lnTo>
                <a:lnTo>
                  <a:pt x="586556" y="1135514"/>
                </a:lnTo>
                <a:lnTo>
                  <a:pt x="600854" y="1139019"/>
                </a:lnTo>
                <a:lnTo>
                  <a:pt x="614517" y="1143479"/>
                </a:lnTo>
                <a:lnTo>
                  <a:pt x="627545" y="1147302"/>
                </a:lnTo>
                <a:lnTo>
                  <a:pt x="640255" y="1151444"/>
                </a:lnTo>
                <a:lnTo>
                  <a:pt x="652964" y="1155905"/>
                </a:lnTo>
                <a:lnTo>
                  <a:pt x="664403" y="1160366"/>
                </a:lnTo>
                <a:lnTo>
                  <a:pt x="675524" y="1164826"/>
                </a:lnTo>
                <a:lnTo>
                  <a:pt x="686010" y="1169287"/>
                </a:lnTo>
                <a:lnTo>
                  <a:pt x="696178" y="1173747"/>
                </a:lnTo>
                <a:lnTo>
                  <a:pt x="706028" y="1178526"/>
                </a:lnTo>
                <a:lnTo>
                  <a:pt x="715242" y="1182987"/>
                </a:lnTo>
                <a:lnTo>
                  <a:pt x="724139" y="1187766"/>
                </a:lnTo>
                <a:lnTo>
                  <a:pt x="732400" y="1192227"/>
                </a:lnTo>
                <a:lnTo>
                  <a:pt x="740344" y="1196687"/>
                </a:lnTo>
                <a:lnTo>
                  <a:pt x="747970" y="1201466"/>
                </a:lnTo>
                <a:lnTo>
                  <a:pt x="761315" y="1210388"/>
                </a:lnTo>
                <a:lnTo>
                  <a:pt x="773707" y="1218990"/>
                </a:lnTo>
                <a:lnTo>
                  <a:pt x="784193" y="1227593"/>
                </a:lnTo>
                <a:lnTo>
                  <a:pt x="793407" y="1235558"/>
                </a:lnTo>
                <a:lnTo>
                  <a:pt x="801033" y="1242886"/>
                </a:lnTo>
                <a:lnTo>
                  <a:pt x="808024" y="1250214"/>
                </a:lnTo>
                <a:lnTo>
                  <a:pt x="813425" y="1256268"/>
                </a:lnTo>
                <a:lnTo>
                  <a:pt x="817874" y="1262003"/>
                </a:lnTo>
                <a:lnTo>
                  <a:pt x="821369" y="1266782"/>
                </a:lnTo>
                <a:lnTo>
                  <a:pt x="823593" y="1270605"/>
                </a:lnTo>
                <a:lnTo>
                  <a:pt x="825817" y="1273473"/>
                </a:lnTo>
                <a:lnTo>
                  <a:pt x="827088" y="1276021"/>
                </a:lnTo>
                <a:lnTo>
                  <a:pt x="827088" y="1280163"/>
                </a:lnTo>
                <a:lnTo>
                  <a:pt x="827088" y="1283987"/>
                </a:lnTo>
                <a:lnTo>
                  <a:pt x="826770" y="1287810"/>
                </a:lnTo>
                <a:lnTo>
                  <a:pt x="826135" y="1291633"/>
                </a:lnTo>
                <a:lnTo>
                  <a:pt x="824864" y="1295138"/>
                </a:lnTo>
                <a:lnTo>
                  <a:pt x="823911" y="1298643"/>
                </a:lnTo>
                <a:lnTo>
                  <a:pt x="822640" y="1301829"/>
                </a:lnTo>
                <a:lnTo>
                  <a:pt x="821051" y="1305334"/>
                </a:lnTo>
                <a:lnTo>
                  <a:pt x="819145" y="1308520"/>
                </a:lnTo>
                <a:lnTo>
                  <a:pt x="816920" y="1311387"/>
                </a:lnTo>
                <a:lnTo>
                  <a:pt x="814696" y="1314892"/>
                </a:lnTo>
                <a:lnTo>
                  <a:pt x="811836" y="1317441"/>
                </a:lnTo>
                <a:lnTo>
                  <a:pt x="808977" y="1320308"/>
                </a:lnTo>
                <a:lnTo>
                  <a:pt x="806117" y="1322857"/>
                </a:lnTo>
                <a:lnTo>
                  <a:pt x="802622" y="1325406"/>
                </a:lnTo>
                <a:lnTo>
                  <a:pt x="799127" y="1328274"/>
                </a:lnTo>
                <a:lnTo>
                  <a:pt x="791501" y="1333053"/>
                </a:lnTo>
                <a:lnTo>
                  <a:pt x="782922" y="1337514"/>
                </a:lnTo>
                <a:lnTo>
                  <a:pt x="773389" y="1341655"/>
                </a:lnTo>
                <a:lnTo>
                  <a:pt x="763222" y="1345479"/>
                </a:lnTo>
                <a:lnTo>
                  <a:pt x="752418" y="1348984"/>
                </a:lnTo>
                <a:lnTo>
                  <a:pt x="740980" y="1352170"/>
                </a:lnTo>
                <a:lnTo>
                  <a:pt x="728905" y="1355037"/>
                </a:lnTo>
                <a:lnTo>
                  <a:pt x="716196" y="1357586"/>
                </a:lnTo>
                <a:lnTo>
                  <a:pt x="702850" y="1359816"/>
                </a:lnTo>
                <a:lnTo>
                  <a:pt x="688870" y="1362365"/>
                </a:lnTo>
                <a:lnTo>
                  <a:pt x="674253" y="1363958"/>
                </a:lnTo>
                <a:lnTo>
                  <a:pt x="659637" y="1365551"/>
                </a:lnTo>
                <a:lnTo>
                  <a:pt x="644385" y="1366826"/>
                </a:lnTo>
                <a:lnTo>
                  <a:pt x="628498" y="1367782"/>
                </a:lnTo>
                <a:lnTo>
                  <a:pt x="612611" y="1368737"/>
                </a:lnTo>
                <a:lnTo>
                  <a:pt x="596088" y="1369056"/>
                </a:lnTo>
                <a:lnTo>
                  <a:pt x="579248" y="1369693"/>
                </a:lnTo>
                <a:lnTo>
                  <a:pt x="562407" y="1370012"/>
                </a:lnTo>
                <a:lnTo>
                  <a:pt x="528091" y="1369693"/>
                </a:lnTo>
                <a:lnTo>
                  <a:pt x="492821" y="1369056"/>
                </a:lnTo>
                <a:lnTo>
                  <a:pt x="457234" y="1367782"/>
                </a:lnTo>
                <a:lnTo>
                  <a:pt x="421964" y="1365870"/>
                </a:lnTo>
                <a:lnTo>
                  <a:pt x="386377" y="1363640"/>
                </a:lnTo>
                <a:lnTo>
                  <a:pt x="351743" y="1360772"/>
                </a:lnTo>
                <a:lnTo>
                  <a:pt x="317744" y="1358223"/>
                </a:lnTo>
                <a:lnTo>
                  <a:pt x="284699" y="1355037"/>
                </a:lnTo>
                <a:lnTo>
                  <a:pt x="253242" y="1351851"/>
                </a:lnTo>
                <a:lnTo>
                  <a:pt x="223057" y="1348346"/>
                </a:lnTo>
                <a:lnTo>
                  <a:pt x="195413" y="1345160"/>
                </a:lnTo>
                <a:lnTo>
                  <a:pt x="146480" y="1339107"/>
                </a:lnTo>
                <a:lnTo>
                  <a:pt x="108986" y="1334009"/>
                </a:lnTo>
                <a:lnTo>
                  <a:pt x="75941" y="1329230"/>
                </a:lnTo>
                <a:lnTo>
                  <a:pt x="67997" y="1326681"/>
                </a:lnTo>
                <a:lnTo>
                  <a:pt x="60689" y="1323813"/>
                </a:lnTo>
                <a:lnTo>
                  <a:pt x="54016" y="1321264"/>
                </a:lnTo>
                <a:lnTo>
                  <a:pt x="47661" y="1318078"/>
                </a:lnTo>
                <a:lnTo>
                  <a:pt x="41942" y="1315211"/>
                </a:lnTo>
                <a:lnTo>
                  <a:pt x="36223" y="1311706"/>
                </a:lnTo>
                <a:lnTo>
                  <a:pt x="31456" y="1308201"/>
                </a:lnTo>
                <a:lnTo>
                  <a:pt x="26690" y="1305015"/>
                </a:lnTo>
                <a:lnTo>
                  <a:pt x="22560" y="1300873"/>
                </a:lnTo>
                <a:lnTo>
                  <a:pt x="18747" y="1297368"/>
                </a:lnTo>
                <a:lnTo>
                  <a:pt x="15251" y="1293545"/>
                </a:lnTo>
                <a:lnTo>
                  <a:pt x="12392" y="1289085"/>
                </a:lnTo>
                <a:lnTo>
                  <a:pt x="9532" y="1285261"/>
                </a:lnTo>
                <a:lnTo>
                  <a:pt x="7308" y="1281119"/>
                </a:lnTo>
                <a:lnTo>
                  <a:pt x="5401" y="1276659"/>
                </a:lnTo>
                <a:lnTo>
                  <a:pt x="3495" y="1272198"/>
                </a:lnTo>
                <a:lnTo>
                  <a:pt x="2224" y="1267738"/>
                </a:lnTo>
                <a:lnTo>
                  <a:pt x="1271" y="1263277"/>
                </a:lnTo>
                <a:lnTo>
                  <a:pt x="635" y="1258816"/>
                </a:lnTo>
                <a:lnTo>
                  <a:pt x="317" y="1253719"/>
                </a:lnTo>
                <a:lnTo>
                  <a:pt x="0" y="1249258"/>
                </a:lnTo>
                <a:lnTo>
                  <a:pt x="0" y="1244479"/>
                </a:lnTo>
                <a:lnTo>
                  <a:pt x="317" y="1239700"/>
                </a:lnTo>
                <a:lnTo>
                  <a:pt x="953" y="1234921"/>
                </a:lnTo>
                <a:lnTo>
                  <a:pt x="1588" y="1230141"/>
                </a:lnTo>
                <a:lnTo>
                  <a:pt x="2542" y="1225362"/>
                </a:lnTo>
                <a:lnTo>
                  <a:pt x="5401" y="1215804"/>
                </a:lnTo>
                <a:lnTo>
                  <a:pt x="8579" y="1205927"/>
                </a:lnTo>
                <a:lnTo>
                  <a:pt x="12074" y="1196369"/>
                </a:lnTo>
                <a:lnTo>
                  <a:pt x="16840" y="1187448"/>
                </a:lnTo>
                <a:lnTo>
                  <a:pt x="21289" y="1178208"/>
                </a:lnTo>
                <a:lnTo>
                  <a:pt x="26373" y="1168968"/>
                </a:lnTo>
                <a:lnTo>
                  <a:pt x="31774" y="1160366"/>
                </a:lnTo>
                <a:lnTo>
                  <a:pt x="36858" y="1152400"/>
                </a:lnTo>
                <a:lnTo>
                  <a:pt x="42577" y="1144435"/>
                </a:lnTo>
                <a:lnTo>
                  <a:pt x="47661" y="1137107"/>
                </a:lnTo>
                <a:lnTo>
                  <a:pt x="53063" y="1130416"/>
                </a:lnTo>
                <a:lnTo>
                  <a:pt x="62595" y="1118627"/>
                </a:lnTo>
                <a:lnTo>
                  <a:pt x="70221" y="1109706"/>
                </a:lnTo>
                <a:lnTo>
                  <a:pt x="77529" y="1101741"/>
                </a:lnTo>
                <a:lnTo>
                  <a:pt x="107397" y="1100148"/>
                </a:lnTo>
                <a:lnTo>
                  <a:pt x="136948" y="1098874"/>
                </a:lnTo>
                <a:lnTo>
                  <a:pt x="165227" y="1097918"/>
                </a:lnTo>
                <a:lnTo>
                  <a:pt x="193189" y="1097280"/>
                </a:lnTo>
                <a:lnTo>
                  <a:pt x="220197" y="1096962"/>
                </a:lnTo>
                <a:close/>
                <a:moveTo>
                  <a:pt x="441326" y="742950"/>
                </a:moveTo>
                <a:lnTo>
                  <a:pt x="460693" y="742950"/>
                </a:lnTo>
                <a:lnTo>
                  <a:pt x="479108" y="743267"/>
                </a:lnTo>
                <a:lnTo>
                  <a:pt x="497206" y="744220"/>
                </a:lnTo>
                <a:lnTo>
                  <a:pt x="514668" y="745490"/>
                </a:lnTo>
                <a:lnTo>
                  <a:pt x="531178" y="747712"/>
                </a:lnTo>
                <a:lnTo>
                  <a:pt x="547688" y="749935"/>
                </a:lnTo>
                <a:lnTo>
                  <a:pt x="563246" y="752475"/>
                </a:lnTo>
                <a:lnTo>
                  <a:pt x="578486" y="755332"/>
                </a:lnTo>
                <a:lnTo>
                  <a:pt x="593408" y="758507"/>
                </a:lnTo>
                <a:lnTo>
                  <a:pt x="607378" y="762635"/>
                </a:lnTo>
                <a:lnTo>
                  <a:pt x="620713" y="766445"/>
                </a:lnTo>
                <a:lnTo>
                  <a:pt x="633731" y="770890"/>
                </a:lnTo>
                <a:lnTo>
                  <a:pt x="646431" y="775335"/>
                </a:lnTo>
                <a:lnTo>
                  <a:pt x="658496" y="780097"/>
                </a:lnTo>
                <a:lnTo>
                  <a:pt x="669926" y="785495"/>
                </a:lnTo>
                <a:lnTo>
                  <a:pt x="681038" y="790575"/>
                </a:lnTo>
                <a:lnTo>
                  <a:pt x="691833" y="796290"/>
                </a:lnTo>
                <a:lnTo>
                  <a:pt x="701993" y="801687"/>
                </a:lnTo>
                <a:lnTo>
                  <a:pt x="711836" y="807720"/>
                </a:lnTo>
                <a:lnTo>
                  <a:pt x="721361" y="813752"/>
                </a:lnTo>
                <a:lnTo>
                  <a:pt x="729933" y="819785"/>
                </a:lnTo>
                <a:lnTo>
                  <a:pt x="738506" y="825817"/>
                </a:lnTo>
                <a:lnTo>
                  <a:pt x="746443" y="832167"/>
                </a:lnTo>
                <a:lnTo>
                  <a:pt x="754063" y="838517"/>
                </a:lnTo>
                <a:lnTo>
                  <a:pt x="761366" y="844867"/>
                </a:lnTo>
                <a:lnTo>
                  <a:pt x="768351" y="851217"/>
                </a:lnTo>
                <a:lnTo>
                  <a:pt x="774383" y="857567"/>
                </a:lnTo>
                <a:lnTo>
                  <a:pt x="780733" y="864235"/>
                </a:lnTo>
                <a:lnTo>
                  <a:pt x="786448" y="870267"/>
                </a:lnTo>
                <a:lnTo>
                  <a:pt x="791846" y="876617"/>
                </a:lnTo>
                <a:lnTo>
                  <a:pt x="796926" y="882650"/>
                </a:lnTo>
                <a:lnTo>
                  <a:pt x="805816" y="894715"/>
                </a:lnTo>
                <a:lnTo>
                  <a:pt x="813753" y="906145"/>
                </a:lnTo>
                <a:lnTo>
                  <a:pt x="820421" y="916622"/>
                </a:lnTo>
                <a:lnTo>
                  <a:pt x="826136" y="926465"/>
                </a:lnTo>
                <a:lnTo>
                  <a:pt x="830581" y="935355"/>
                </a:lnTo>
                <a:lnTo>
                  <a:pt x="833756" y="942657"/>
                </a:lnTo>
                <a:lnTo>
                  <a:pt x="836613" y="949007"/>
                </a:lnTo>
                <a:lnTo>
                  <a:pt x="838518" y="953452"/>
                </a:lnTo>
                <a:lnTo>
                  <a:pt x="839788" y="957262"/>
                </a:lnTo>
                <a:lnTo>
                  <a:pt x="839788" y="962342"/>
                </a:lnTo>
                <a:lnTo>
                  <a:pt x="839788" y="966787"/>
                </a:lnTo>
                <a:lnTo>
                  <a:pt x="839471" y="971867"/>
                </a:lnTo>
                <a:lnTo>
                  <a:pt x="838836" y="976312"/>
                </a:lnTo>
                <a:lnTo>
                  <a:pt x="838201" y="980757"/>
                </a:lnTo>
                <a:lnTo>
                  <a:pt x="837248" y="985202"/>
                </a:lnTo>
                <a:lnTo>
                  <a:pt x="835978" y="989012"/>
                </a:lnTo>
                <a:lnTo>
                  <a:pt x="834073" y="993457"/>
                </a:lnTo>
                <a:lnTo>
                  <a:pt x="832168" y="997267"/>
                </a:lnTo>
                <a:lnTo>
                  <a:pt x="830263" y="1001077"/>
                </a:lnTo>
                <a:lnTo>
                  <a:pt x="828041" y="1004887"/>
                </a:lnTo>
                <a:lnTo>
                  <a:pt x="825818" y="1008380"/>
                </a:lnTo>
                <a:lnTo>
                  <a:pt x="822643" y="1011872"/>
                </a:lnTo>
                <a:lnTo>
                  <a:pt x="819786" y="1015365"/>
                </a:lnTo>
                <a:lnTo>
                  <a:pt x="816928" y="1018540"/>
                </a:lnTo>
                <a:lnTo>
                  <a:pt x="813753" y="1021715"/>
                </a:lnTo>
                <a:lnTo>
                  <a:pt x="809943" y="1024572"/>
                </a:lnTo>
                <a:lnTo>
                  <a:pt x="806133" y="1027747"/>
                </a:lnTo>
                <a:lnTo>
                  <a:pt x="802323" y="1030605"/>
                </a:lnTo>
                <a:lnTo>
                  <a:pt x="798196" y="1033145"/>
                </a:lnTo>
                <a:lnTo>
                  <a:pt x="789306" y="1038542"/>
                </a:lnTo>
                <a:lnTo>
                  <a:pt x="780098" y="1042987"/>
                </a:lnTo>
                <a:lnTo>
                  <a:pt x="769938" y="1047115"/>
                </a:lnTo>
                <a:lnTo>
                  <a:pt x="758826" y="1051242"/>
                </a:lnTo>
                <a:lnTo>
                  <a:pt x="747396" y="1054735"/>
                </a:lnTo>
                <a:lnTo>
                  <a:pt x="735648" y="1057910"/>
                </a:lnTo>
                <a:lnTo>
                  <a:pt x="722948" y="1061085"/>
                </a:lnTo>
                <a:lnTo>
                  <a:pt x="709931" y="1063625"/>
                </a:lnTo>
                <a:lnTo>
                  <a:pt x="696278" y="1065530"/>
                </a:lnTo>
                <a:lnTo>
                  <a:pt x="682308" y="1067435"/>
                </a:lnTo>
                <a:lnTo>
                  <a:pt x="668021" y="1069022"/>
                </a:lnTo>
                <a:lnTo>
                  <a:pt x="653098" y="1070292"/>
                </a:lnTo>
                <a:lnTo>
                  <a:pt x="637858" y="1071245"/>
                </a:lnTo>
                <a:lnTo>
                  <a:pt x="622618" y="1072515"/>
                </a:lnTo>
                <a:lnTo>
                  <a:pt x="607061" y="1072832"/>
                </a:lnTo>
                <a:lnTo>
                  <a:pt x="590868" y="1073150"/>
                </a:lnTo>
                <a:lnTo>
                  <a:pt x="574676" y="1073150"/>
                </a:lnTo>
                <a:lnTo>
                  <a:pt x="558166" y="1073150"/>
                </a:lnTo>
                <a:lnTo>
                  <a:pt x="525463" y="1072197"/>
                </a:lnTo>
                <a:lnTo>
                  <a:pt x="492126" y="1070292"/>
                </a:lnTo>
                <a:lnTo>
                  <a:pt x="458471" y="1068070"/>
                </a:lnTo>
                <a:lnTo>
                  <a:pt x="425451" y="1065530"/>
                </a:lnTo>
                <a:lnTo>
                  <a:pt x="392431" y="1062355"/>
                </a:lnTo>
                <a:lnTo>
                  <a:pt x="360681" y="1058545"/>
                </a:lnTo>
                <a:lnTo>
                  <a:pt x="329883" y="1054735"/>
                </a:lnTo>
                <a:lnTo>
                  <a:pt x="300038" y="1050925"/>
                </a:lnTo>
                <a:lnTo>
                  <a:pt x="272098" y="1046480"/>
                </a:lnTo>
                <a:lnTo>
                  <a:pt x="245746" y="1042670"/>
                </a:lnTo>
                <a:lnTo>
                  <a:pt x="199708" y="1034732"/>
                </a:lnTo>
                <a:lnTo>
                  <a:pt x="164148" y="1028700"/>
                </a:lnTo>
                <a:lnTo>
                  <a:pt x="141288" y="1023937"/>
                </a:lnTo>
                <a:lnTo>
                  <a:pt x="133351" y="1022350"/>
                </a:lnTo>
                <a:lnTo>
                  <a:pt x="126048" y="1019492"/>
                </a:lnTo>
                <a:lnTo>
                  <a:pt x="119380" y="1016635"/>
                </a:lnTo>
                <a:lnTo>
                  <a:pt x="112713" y="1013142"/>
                </a:lnTo>
                <a:lnTo>
                  <a:pt x="106680" y="1009650"/>
                </a:lnTo>
                <a:lnTo>
                  <a:pt x="101283" y="1006475"/>
                </a:lnTo>
                <a:lnTo>
                  <a:pt x="95885" y="1002665"/>
                </a:lnTo>
                <a:lnTo>
                  <a:pt x="91440" y="998855"/>
                </a:lnTo>
                <a:lnTo>
                  <a:pt x="86995" y="995045"/>
                </a:lnTo>
                <a:lnTo>
                  <a:pt x="82868" y="991235"/>
                </a:lnTo>
                <a:lnTo>
                  <a:pt x="79375" y="987107"/>
                </a:lnTo>
                <a:lnTo>
                  <a:pt x="76200" y="982980"/>
                </a:lnTo>
                <a:lnTo>
                  <a:pt x="73660" y="978535"/>
                </a:lnTo>
                <a:lnTo>
                  <a:pt x="70803" y="974407"/>
                </a:lnTo>
                <a:lnTo>
                  <a:pt x="68580" y="970280"/>
                </a:lnTo>
                <a:lnTo>
                  <a:pt x="66993" y="965517"/>
                </a:lnTo>
                <a:lnTo>
                  <a:pt x="65405" y="961390"/>
                </a:lnTo>
                <a:lnTo>
                  <a:pt x="64135" y="956945"/>
                </a:lnTo>
                <a:lnTo>
                  <a:pt x="63183" y="952182"/>
                </a:lnTo>
                <a:lnTo>
                  <a:pt x="62548" y="947737"/>
                </a:lnTo>
                <a:lnTo>
                  <a:pt x="61913" y="942975"/>
                </a:lnTo>
                <a:lnTo>
                  <a:pt x="61913" y="938212"/>
                </a:lnTo>
                <a:lnTo>
                  <a:pt x="61913" y="933767"/>
                </a:lnTo>
                <a:lnTo>
                  <a:pt x="62230" y="929005"/>
                </a:lnTo>
                <a:lnTo>
                  <a:pt x="62548" y="924242"/>
                </a:lnTo>
                <a:lnTo>
                  <a:pt x="63183" y="919480"/>
                </a:lnTo>
                <a:lnTo>
                  <a:pt x="64135" y="915035"/>
                </a:lnTo>
                <a:lnTo>
                  <a:pt x="66358" y="905510"/>
                </a:lnTo>
                <a:lnTo>
                  <a:pt x="69215" y="896302"/>
                </a:lnTo>
                <a:lnTo>
                  <a:pt x="72708" y="887412"/>
                </a:lnTo>
                <a:lnTo>
                  <a:pt x="76835" y="878205"/>
                </a:lnTo>
                <a:lnTo>
                  <a:pt x="81280" y="869315"/>
                </a:lnTo>
                <a:lnTo>
                  <a:pt x="86043" y="860742"/>
                </a:lnTo>
                <a:lnTo>
                  <a:pt x="90805" y="853122"/>
                </a:lnTo>
                <a:lnTo>
                  <a:pt x="95568" y="845185"/>
                </a:lnTo>
                <a:lnTo>
                  <a:pt x="100965" y="837565"/>
                </a:lnTo>
                <a:lnTo>
                  <a:pt x="105728" y="830897"/>
                </a:lnTo>
                <a:lnTo>
                  <a:pt x="110808" y="824547"/>
                </a:lnTo>
                <a:lnTo>
                  <a:pt x="119698" y="813435"/>
                </a:lnTo>
                <a:lnTo>
                  <a:pt x="126683" y="805497"/>
                </a:lnTo>
                <a:lnTo>
                  <a:pt x="133351" y="798195"/>
                </a:lnTo>
                <a:lnTo>
                  <a:pt x="160973" y="789622"/>
                </a:lnTo>
                <a:lnTo>
                  <a:pt x="187961" y="782320"/>
                </a:lnTo>
                <a:lnTo>
                  <a:pt x="214631" y="775335"/>
                </a:lnTo>
                <a:lnTo>
                  <a:pt x="240348" y="768985"/>
                </a:lnTo>
                <a:lnTo>
                  <a:pt x="265113" y="763905"/>
                </a:lnTo>
                <a:lnTo>
                  <a:pt x="289561" y="759142"/>
                </a:lnTo>
                <a:lnTo>
                  <a:pt x="313056" y="754697"/>
                </a:lnTo>
                <a:lnTo>
                  <a:pt x="336233" y="751522"/>
                </a:lnTo>
                <a:lnTo>
                  <a:pt x="358458" y="748665"/>
                </a:lnTo>
                <a:lnTo>
                  <a:pt x="380048" y="746125"/>
                </a:lnTo>
                <a:lnTo>
                  <a:pt x="401321" y="744537"/>
                </a:lnTo>
                <a:lnTo>
                  <a:pt x="421641" y="743585"/>
                </a:lnTo>
                <a:lnTo>
                  <a:pt x="441326" y="742950"/>
                </a:lnTo>
                <a:close/>
                <a:moveTo>
                  <a:pt x="678926" y="0"/>
                </a:moveTo>
                <a:lnTo>
                  <a:pt x="688455" y="0"/>
                </a:lnTo>
                <a:lnTo>
                  <a:pt x="698620" y="0"/>
                </a:lnTo>
                <a:lnTo>
                  <a:pt x="708785" y="635"/>
                </a:lnTo>
                <a:lnTo>
                  <a:pt x="719903" y="1588"/>
                </a:lnTo>
                <a:lnTo>
                  <a:pt x="731020" y="3494"/>
                </a:lnTo>
                <a:lnTo>
                  <a:pt x="742138" y="6035"/>
                </a:lnTo>
                <a:lnTo>
                  <a:pt x="747856" y="7624"/>
                </a:lnTo>
                <a:lnTo>
                  <a:pt x="753573" y="9212"/>
                </a:lnTo>
                <a:lnTo>
                  <a:pt x="759291" y="11118"/>
                </a:lnTo>
                <a:lnTo>
                  <a:pt x="764691" y="13341"/>
                </a:lnTo>
                <a:lnTo>
                  <a:pt x="770409" y="15565"/>
                </a:lnTo>
                <a:lnTo>
                  <a:pt x="775809" y="18424"/>
                </a:lnTo>
                <a:lnTo>
                  <a:pt x="781527" y="21283"/>
                </a:lnTo>
                <a:lnTo>
                  <a:pt x="786927" y="24459"/>
                </a:lnTo>
                <a:lnTo>
                  <a:pt x="792327" y="27636"/>
                </a:lnTo>
                <a:lnTo>
                  <a:pt x="797727" y="31448"/>
                </a:lnTo>
                <a:lnTo>
                  <a:pt x="802809" y="35577"/>
                </a:lnTo>
                <a:lnTo>
                  <a:pt x="807892" y="40025"/>
                </a:lnTo>
                <a:lnTo>
                  <a:pt x="812656" y="44472"/>
                </a:lnTo>
                <a:lnTo>
                  <a:pt x="817739" y="49237"/>
                </a:lnTo>
                <a:lnTo>
                  <a:pt x="822186" y="54637"/>
                </a:lnTo>
                <a:lnTo>
                  <a:pt x="826950" y="60355"/>
                </a:lnTo>
                <a:lnTo>
                  <a:pt x="831080" y="66390"/>
                </a:lnTo>
                <a:lnTo>
                  <a:pt x="835209" y="72426"/>
                </a:lnTo>
                <a:lnTo>
                  <a:pt x="839339" y="79414"/>
                </a:lnTo>
                <a:lnTo>
                  <a:pt x="843151" y="86403"/>
                </a:lnTo>
                <a:lnTo>
                  <a:pt x="846645" y="93709"/>
                </a:lnTo>
                <a:lnTo>
                  <a:pt x="850139" y="101650"/>
                </a:lnTo>
                <a:lnTo>
                  <a:pt x="853315" y="110227"/>
                </a:lnTo>
                <a:lnTo>
                  <a:pt x="855857" y="118486"/>
                </a:lnTo>
                <a:lnTo>
                  <a:pt x="858398" y="127698"/>
                </a:lnTo>
                <a:lnTo>
                  <a:pt x="860939" y="137545"/>
                </a:lnTo>
                <a:lnTo>
                  <a:pt x="863163" y="147393"/>
                </a:lnTo>
                <a:lnTo>
                  <a:pt x="864751" y="158193"/>
                </a:lnTo>
                <a:lnTo>
                  <a:pt x="866021" y="168994"/>
                </a:lnTo>
                <a:lnTo>
                  <a:pt x="867292" y="180429"/>
                </a:lnTo>
                <a:lnTo>
                  <a:pt x="867927" y="192500"/>
                </a:lnTo>
                <a:lnTo>
                  <a:pt x="868563" y="204889"/>
                </a:lnTo>
                <a:lnTo>
                  <a:pt x="868563" y="217595"/>
                </a:lnTo>
                <a:lnTo>
                  <a:pt x="868245" y="230937"/>
                </a:lnTo>
                <a:lnTo>
                  <a:pt x="867610" y="268103"/>
                </a:lnTo>
                <a:lnTo>
                  <a:pt x="867610" y="303998"/>
                </a:lnTo>
                <a:lnTo>
                  <a:pt x="868245" y="337987"/>
                </a:lnTo>
                <a:lnTo>
                  <a:pt x="869516" y="371023"/>
                </a:lnTo>
                <a:lnTo>
                  <a:pt x="871739" y="402472"/>
                </a:lnTo>
                <a:lnTo>
                  <a:pt x="874280" y="432331"/>
                </a:lnTo>
                <a:lnTo>
                  <a:pt x="877457" y="461238"/>
                </a:lnTo>
                <a:lnTo>
                  <a:pt x="880951" y="488557"/>
                </a:lnTo>
                <a:lnTo>
                  <a:pt x="885716" y="514605"/>
                </a:lnTo>
                <a:lnTo>
                  <a:pt x="890163" y="539699"/>
                </a:lnTo>
                <a:lnTo>
                  <a:pt x="895563" y="563206"/>
                </a:lnTo>
                <a:lnTo>
                  <a:pt x="900963" y="586077"/>
                </a:lnTo>
                <a:lnTo>
                  <a:pt x="906998" y="607043"/>
                </a:lnTo>
                <a:lnTo>
                  <a:pt x="913033" y="627690"/>
                </a:lnTo>
                <a:lnTo>
                  <a:pt x="919386" y="647068"/>
                </a:lnTo>
                <a:lnTo>
                  <a:pt x="926057" y="665174"/>
                </a:lnTo>
                <a:lnTo>
                  <a:pt x="933045" y="682645"/>
                </a:lnTo>
                <a:lnTo>
                  <a:pt x="940034" y="698846"/>
                </a:lnTo>
                <a:lnTo>
                  <a:pt x="947022" y="714411"/>
                </a:lnTo>
                <a:lnTo>
                  <a:pt x="954645" y="729023"/>
                </a:lnTo>
                <a:lnTo>
                  <a:pt x="961634" y="742682"/>
                </a:lnTo>
                <a:lnTo>
                  <a:pt x="968940" y="755389"/>
                </a:lnTo>
                <a:lnTo>
                  <a:pt x="976246" y="767460"/>
                </a:lnTo>
                <a:lnTo>
                  <a:pt x="983234" y="778895"/>
                </a:lnTo>
                <a:lnTo>
                  <a:pt x="990540" y="789696"/>
                </a:lnTo>
                <a:lnTo>
                  <a:pt x="997211" y="799861"/>
                </a:lnTo>
                <a:lnTo>
                  <a:pt x="1010869" y="818285"/>
                </a:lnTo>
                <a:lnTo>
                  <a:pt x="1022940" y="833850"/>
                </a:lnTo>
                <a:lnTo>
                  <a:pt x="1033740" y="847827"/>
                </a:lnTo>
                <a:lnTo>
                  <a:pt x="1041999" y="859263"/>
                </a:lnTo>
                <a:lnTo>
                  <a:pt x="1050258" y="871334"/>
                </a:lnTo>
                <a:lnTo>
                  <a:pt x="1058517" y="883722"/>
                </a:lnTo>
                <a:lnTo>
                  <a:pt x="1066141" y="896746"/>
                </a:lnTo>
                <a:lnTo>
                  <a:pt x="1073764" y="911041"/>
                </a:lnTo>
                <a:lnTo>
                  <a:pt x="1080752" y="925653"/>
                </a:lnTo>
                <a:lnTo>
                  <a:pt x="1084247" y="933277"/>
                </a:lnTo>
                <a:lnTo>
                  <a:pt x="1087423" y="940900"/>
                </a:lnTo>
                <a:lnTo>
                  <a:pt x="1090282" y="949160"/>
                </a:lnTo>
                <a:lnTo>
                  <a:pt x="1093458" y="957736"/>
                </a:lnTo>
                <a:lnTo>
                  <a:pt x="1096317" y="966313"/>
                </a:lnTo>
                <a:lnTo>
                  <a:pt x="1098858" y="975207"/>
                </a:lnTo>
                <a:lnTo>
                  <a:pt x="1101400" y="984420"/>
                </a:lnTo>
                <a:lnTo>
                  <a:pt x="1104258" y="993949"/>
                </a:lnTo>
                <a:lnTo>
                  <a:pt x="1106482" y="1003797"/>
                </a:lnTo>
                <a:lnTo>
                  <a:pt x="1108388" y="1013962"/>
                </a:lnTo>
                <a:lnTo>
                  <a:pt x="1110294" y="1024127"/>
                </a:lnTo>
                <a:lnTo>
                  <a:pt x="1111882" y="1034927"/>
                </a:lnTo>
                <a:lnTo>
                  <a:pt x="1113470" y="1046045"/>
                </a:lnTo>
                <a:lnTo>
                  <a:pt x="1115376" y="1057798"/>
                </a:lnTo>
                <a:lnTo>
                  <a:pt x="1116329" y="1069552"/>
                </a:lnTo>
                <a:lnTo>
                  <a:pt x="1117282" y="1081623"/>
                </a:lnTo>
                <a:lnTo>
                  <a:pt x="1118235" y="1094329"/>
                </a:lnTo>
                <a:lnTo>
                  <a:pt x="1118553" y="1107670"/>
                </a:lnTo>
                <a:lnTo>
                  <a:pt x="1118870" y="1121012"/>
                </a:lnTo>
                <a:lnTo>
                  <a:pt x="1119188" y="1134671"/>
                </a:lnTo>
                <a:lnTo>
                  <a:pt x="1118870" y="1144201"/>
                </a:lnTo>
                <a:lnTo>
                  <a:pt x="1118553" y="1153413"/>
                </a:lnTo>
                <a:lnTo>
                  <a:pt x="1117600" y="1162308"/>
                </a:lnTo>
                <a:lnTo>
                  <a:pt x="1116329" y="1171837"/>
                </a:lnTo>
                <a:lnTo>
                  <a:pt x="1114741" y="1181367"/>
                </a:lnTo>
                <a:lnTo>
                  <a:pt x="1112517" y="1190579"/>
                </a:lnTo>
                <a:lnTo>
                  <a:pt x="1110611" y="1200426"/>
                </a:lnTo>
                <a:lnTo>
                  <a:pt x="1108388" y="1209638"/>
                </a:lnTo>
                <a:lnTo>
                  <a:pt x="1103305" y="1229333"/>
                </a:lnTo>
                <a:lnTo>
                  <a:pt x="1097270" y="1249663"/>
                </a:lnTo>
                <a:lnTo>
                  <a:pt x="1091553" y="1270946"/>
                </a:lnTo>
                <a:lnTo>
                  <a:pt x="1084882" y="1293182"/>
                </a:lnTo>
                <a:lnTo>
                  <a:pt x="1078529" y="1316371"/>
                </a:lnTo>
                <a:lnTo>
                  <a:pt x="1072811" y="1340831"/>
                </a:lnTo>
                <a:lnTo>
                  <a:pt x="1070270" y="1353537"/>
                </a:lnTo>
                <a:lnTo>
                  <a:pt x="1067411" y="1366879"/>
                </a:lnTo>
                <a:lnTo>
                  <a:pt x="1064870" y="1380220"/>
                </a:lnTo>
                <a:lnTo>
                  <a:pt x="1062646" y="1394197"/>
                </a:lnTo>
                <a:lnTo>
                  <a:pt x="1060740" y="1409127"/>
                </a:lnTo>
                <a:lnTo>
                  <a:pt x="1059152" y="1423739"/>
                </a:lnTo>
                <a:lnTo>
                  <a:pt x="1057564" y="1438987"/>
                </a:lnTo>
                <a:lnTo>
                  <a:pt x="1056611" y="1455187"/>
                </a:lnTo>
                <a:lnTo>
                  <a:pt x="1055340" y="1471388"/>
                </a:lnTo>
                <a:lnTo>
                  <a:pt x="1055023" y="1488224"/>
                </a:lnTo>
                <a:lnTo>
                  <a:pt x="1055023" y="1506013"/>
                </a:lnTo>
                <a:lnTo>
                  <a:pt x="1055340" y="1524437"/>
                </a:lnTo>
                <a:lnTo>
                  <a:pt x="1055658" y="1538731"/>
                </a:lnTo>
                <a:lnTo>
                  <a:pt x="1055658" y="1552708"/>
                </a:lnTo>
                <a:lnTo>
                  <a:pt x="1055340" y="1566368"/>
                </a:lnTo>
                <a:lnTo>
                  <a:pt x="1054705" y="1579709"/>
                </a:lnTo>
                <a:lnTo>
                  <a:pt x="1054070" y="1592733"/>
                </a:lnTo>
                <a:lnTo>
                  <a:pt x="1053117" y="1605757"/>
                </a:lnTo>
                <a:lnTo>
                  <a:pt x="1051846" y="1618146"/>
                </a:lnTo>
                <a:lnTo>
                  <a:pt x="1050258" y="1630217"/>
                </a:lnTo>
                <a:lnTo>
                  <a:pt x="1048670" y="1641970"/>
                </a:lnTo>
                <a:lnTo>
                  <a:pt x="1046446" y="1653406"/>
                </a:lnTo>
                <a:lnTo>
                  <a:pt x="1044223" y="1664524"/>
                </a:lnTo>
                <a:lnTo>
                  <a:pt x="1041681" y="1675324"/>
                </a:lnTo>
                <a:lnTo>
                  <a:pt x="1039140" y="1686125"/>
                </a:lnTo>
                <a:lnTo>
                  <a:pt x="1036599" y="1695972"/>
                </a:lnTo>
                <a:lnTo>
                  <a:pt x="1033740" y="1705819"/>
                </a:lnTo>
                <a:lnTo>
                  <a:pt x="1030246" y="1715667"/>
                </a:lnTo>
                <a:lnTo>
                  <a:pt x="1027070" y="1724879"/>
                </a:lnTo>
                <a:lnTo>
                  <a:pt x="1023893" y="1734091"/>
                </a:lnTo>
                <a:lnTo>
                  <a:pt x="1020081" y="1742668"/>
                </a:lnTo>
                <a:lnTo>
                  <a:pt x="1016587" y="1751244"/>
                </a:lnTo>
                <a:lnTo>
                  <a:pt x="1012775" y="1759503"/>
                </a:lnTo>
                <a:lnTo>
                  <a:pt x="1008646" y="1767445"/>
                </a:lnTo>
                <a:lnTo>
                  <a:pt x="1004834" y="1775069"/>
                </a:lnTo>
                <a:lnTo>
                  <a:pt x="1000705" y="1782375"/>
                </a:lnTo>
                <a:lnTo>
                  <a:pt x="996258" y="1789363"/>
                </a:lnTo>
                <a:lnTo>
                  <a:pt x="992128" y="1796352"/>
                </a:lnTo>
                <a:lnTo>
                  <a:pt x="983552" y="1809376"/>
                </a:lnTo>
                <a:lnTo>
                  <a:pt x="974657" y="1821447"/>
                </a:lnTo>
                <a:lnTo>
                  <a:pt x="965763" y="1832565"/>
                </a:lnTo>
                <a:lnTo>
                  <a:pt x="956869" y="1843047"/>
                </a:lnTo>
                <a:lnTo>
                  <a:pt x="947657" y="1852259"/>
                </a:lnTo>
                <a:lnTo>
                  <a:pt x="938763" y="1860836"/>
                </a:lnTo>
                <a:lnTo>
                  <a:pt x="930504" y="1868142"/>
                </a:lnTo>
                <a:lnTo>
                  <a:pt x="921928" y="1875448"/>
                </a:lnTo>
                <a:lnTo>
                  <a:pt x="913669" y="1881166"/>
                </a:lnTo>
                <a:lnTo>
                  <a:pt x="906363" y="1886884"/>
                </a:lnTo>
                <a:lnTo>
                  <a:pt x="899057" y="1891331"/>
                </a:lnTo>
                <a:lnTo>
                  <a:pt x="892386" y="1895461"/>
                </a:lnTo>
                <a:lnTo>
                  <a:pt x="886669" y="1898955"/>
                </a:lnTo>
                <a:lnTo>
                  <a:pt x="876821" y="1903720"/>
                </a:lnTo>
                <a:lnTo>
                  <a:pt x="870469" y="1906579"/>
                </a:lnTo>
                <a:lnTo>
                  <a:pt x="868563" y="1907532"/>
                </a:lnTo>
                <a:lnTo>
                  <a:pt x="856492" y="1909755"/>
                </a:lnTo>
                <a:lnTo>
                  <a:pt x="844104" y="1911979"/>
                </a:lnTo>
                <a:lnTo>
                  <a:pt x="818374" y="1915473"/>
                </a:lnTo>
                <a:lnTo>
                  <a:pt x="792962" y="1918967"/>
                </a:lnTo>
                <a:lnTo>
                  <a:pt x="768821" y="1921509"/>
                </a:lnTo>
                <a:lnTo>
                  <a:pt x="747856" y="1923415"/>
                </a:lnTo>
                <a:lnTo>
                  <a:pt x="731020" y="1924685"/>
                </a:lnTo>
                <a:lnTo>
                  <a:pt x="716091" y="1925638"/>
                </a:lnTo>
                <a:lnTo>
                  <a:pt x="725938" y="1918332"/>
                </a:lnTo>
                <a:lnTo>
                  <a:pt x="734832" y="1911026"/>
                </a:lnTo>
                <a:lnTo>
                  <a:pt x="742138" y="1903720"/>
                </a:lnTo>
                <a:lnTo>
                  <a:pt x="749126" y="1896731"/>
                </a:lnTo>
                <a:lnTo>
                  <a:pt x="754844" y="1889743"/>
                </a:lnTo>
                <a:lnTo>
                  <a:pt x="759926" y="1883072"/>
                </a:lnTo>
                <a:lnTo>
                  <a:pt x="764056" y="1876084"/>
                </a:lnTo>
                <a:lnTo>
                  <a:pt x="767868" y="1869413"/>
                </a:lnTo>
                <a:lnTo>
                  <a:pt x="770726" y="1863060"/>
                </a:lnTo>
                <a:lnTo>
                  <a:pt x="772632" y="1856389"/>
                </a:lnTo>
                <a:lnTo>
                  <a:pt x="774221" y="1850353"/>
                </a:lnTo>
                <a:lnTo>
                  <a:pt x="775491" y="1844000"/>
                </a:lnTo>
                <a:lnTo>
                  <a:pt x="776127" y="1837965"/>
                </a:lnTo>
                <a:lnTo>
                  <a:pt x="776444" y="1831612"/>
                </a:lnTo>
                <a:lnTo>
                  <a:pt x="776127" y="1825894"/>
                </a:lnTo>
                <a:lnTo>
                  <a:pt x="775809" y="1819858"/>
                </a:lnTo>
                <a:lnTo>
                  <a:pt x="775491" y="1814141"/>
                </a:lnTo>
                <a:lnTo>
                  <a:pt x="774538" y="1808423"/>
                </a:lnTo>
                <a:lnTo>
                  <a:pt x="772950" y="1796987"/>
                </a:lnTo>
                <a:lnTo>
                  <a:pt x="771044" y="1785869"/>
                </a:lnTo>
                <a:lnTo>
                  <a:pt x="769774" y="1775069"/>
                </a:lnTo>
                <a:lnTo>
                  <a:pt x="769456" y="1769986"/>
                </a:lnTo>
                <a:lnTo>
                  <a:pt x="769456" y="1764268"/>
                </a:lnTo>
                <a:lnTo>
                  <a:pt x="769774" y="1759186"/>
                </a:lnTo>
                <a:lnTo>
                  <a:pt x="770409" y="1753786"/>
                </a:lnTo>
                <a:lnTo>
                  <a:pt x="771362" y="1748385"/>
                </a:lnTo>
                <a:lnTo>
                  <a:pt x="772950" y="1742985"/>
                </a:lnTo>
                <a:lnTo>
                  <a:pt x="774856" y="1737903"/>
                </a:lnTo>
                <a:lnTo>
                  <a:pt x="777715" y="1732820"/>
                </a:lnTo>
                <a:lnTo>
                  <a:pt x="783432" y="1723608"/>
                </a:lnTo>
                <a:lnTo>
                  <a:pt x="789150" y="1715031"/>
                </a:lnTo>
                <a:lnTo>
                  <a:pt x="795503" y="1707090"/>
                </a:lnTo>
                <a:lnTo>
                  <a:pt x="801539" y="1699466"/>
                </a:lnTo>
                <a:lnTo>
                  <a:pt x="814245" y="1684854"/>
                </a:lnTo>
                <a:lnTo>
                  <a:pt x="826315" y="1671512"/>
                </a:lnTo>
                <a:lnTo>
                  <a:pt x="831715" y="1665159"/>
                </a:lnTo>
                <a:lnTo>
                  <a:pt x="837433" y="1658488"/>
                </a:lnTo>
                <a:lnTo>
                  <a:pt x="842198" y="1652135"/>
                </a:lnTo>
                <a:lnTo>
                  <a:pt x="846645" y="1645464"/>
                </a:lnTo>
                <a:lnTo>
                  <a:pt x="851092" y="1638476"/>
                </a:lnTo>
                <a:lnTo>
                  <a:pt x="854268" y="1631805"/>
                </a:lnTo>
                <a:lnTo>
                  <a:pt x="857127" y="1624816"/>
                </a:lnTo>
                <a:lnTo>
                  <a:pt x="858080" y="1621322"/>
                </a:lnTo>
                <a:lnTo>
                  <a:pt x="859033" y="1617510"/>
                </a:lnTo>
                <a:lnTo>
                  <a:pt x="860304" y="1612428"/>
                </a:lnTo>
                <a:lnTo>
                  <a:pt x="860621" y="1607663"/>
                </a:lnTo>
                <a:lnTo>
                  <a:pt x="860621" y="1602580"/>
                </a:lnTo>
                <a:lnTo>
                  <a:pt x="860304" y="1598133"/>
                </a:lnTo>
                <a:lnTo>
                  <a:pt x="859351" y="1593686"/>
                </a:lnTo>
                <a:lnTo>
                  <a:pt x="858080" y="1589239"/>
                </a:lnTo>
                <a:lnTo>
                  <a:pt x="856810" y="1584792"/>
                </a:lnTo>
                <a:lnTo>
                  <a:pt x="855221" y="1580344"/>
                </a:lnTo>
                <a:lnTo>
                  <a:pt x="853315" y="1576533"/>
                </a:lnTo>
                <a:lnTo>
                  <a:pt x="851092" y="1572403"/>
                </a:lnTo>
                <a:lnTo>
                  <a:pt x="846009" y="1564462"/>
                </a:lnTo>
                <a:lnTo>
                  <a:pt x="840292" y="1556520"/>
                </a:lnTo>
                <a:lnTo>
                  <a:pt x="834256" y="1549214"/>
                </a:lnTo>
                <a:lnTo>
                  <a:pt x="822186" y="1534284"/>
                </a:lnTo>
                <a:lnTo>
                  <a:pt x="816786" y="1527296"/>
                </a:lnTo>
                <a:lnTo>
                  <a:pt x="811386" y="1519990"/>
                </a:lnTo>
                <a:lnTo>
                  <a:pt x="808844" y="1516495"/>
                </a:lnTo>
                <a:lnTo>
                  <a:pt x="806939" y="1512683"/>
                </a:lnTo>
                <a:lnTo>
                  <a:pt x="805033" y="1508872"/>
                </a:lnTo>
                <a:lnTo>
                  <a:pt x="803444" y="1505377"/>
                </a:lnTo>
                <a:lnTo>
                  <a:pt x="802174" y="1501565"/>
                </a:lnTo>
                <a:lnTo>
                  <a:pt x="800903" y="1497436"/>
                </a:lnTo>
                <a:lnTo>
                  <a:pt x="800268" y="1493624"/>
                </a:lnTo>
                <a:lnTo>
                  <a:pt x="799950" y="1489812"/>
                </a:lnTo>
                <a:lnTo>
                  <a:pt x="799950" y="1481553"/>
                </a:lnTo>
                <a:lnTo>
                  <a:pt x="800903" y="1473929"/>
                </a:lnTo>
                <a:lnTo>
                  <a:pt x="802491" y="1466623"/>
                </a:lnTo>
                <a:lnTo>
                  <a:pt x="804397" y="1459635"/>
                </a:lnTo>
                <a:lnTo>
                  <a:pt x="806939" y="1452964"/>
                </a:lnTo>
                <a:lnTo>
                  <a:pt x="809797" y="1446928"/>
                </a:lnTo>
                <a:lnTo>
                  <a:pt x="813292" y="1440893"/>
                </a:lnTo>
                <a:lnTo>
                  <a:pt x="817421" y="1435175"/>
                </a:lnTo>
                <a:lnTo>
                  <a:pt x="821550" y="1429775"/>
                </a:lnTo>
                <a:lnTo>
                  <a:pt x="825998" y="1424692"/>
                </a:lnTo>
                <a:lnTo>
                  <a:pt x="830762" y="1419610"/>
                </a:lnTo>
                <a:lnTo>
                  <a:pt x="835527" y="1414845"/>
                </a:lnTo>
                <a:lnTo>
                  <a:pt x="840927" y="1410080"/>
                </a:lnTo>
                <a:lnTo>
                  <a:pt x="846327" y="1405315"/>
                </a:lnTo>
                <a:lnTo>
                  <a:pt x="857127" y="1396739"/>
                </a:lnTo>
                <a:lnTo>
                  <a:pt x="868245" y="1387844"/>
                </a:lnTo>
                <a:lnTo>
                  <a:pt x="879045" y="1378950"/>
                </a:lnTo>
                <a:lnTo>
                  <a:pt x="884445" y="1374820"/>
                </a:lnTo>
                <a:lnTo>
                  <a:pt x="889210" y="1370055"/>
                </a:lnTo>
                <a:lnTo>
                  <a:pt x="893657" y="1365608"/>
                </a:lnTo>
                <a:lnTo>
                  <a:pt x="898422" y="1360526"/>
                </a:lnTo>
                <a:lnTo>
                  <a:pt x="902233" y="1355761"/>
                </a:lnTo>
                <a:lnTo>
                  <a:pt x="906363" y="1350996"/>
                </a:lnTo>
                <a:lnTo>
                  <a:pt x="909539" y="1345596"/>
                </a:lnTo>
                <a:lnTo>
                  <a:pt x="912398" y="1340196"/>
                </a:lnTo>
                <a:lnTo>
                  <a:pt x="914622" y="1334160"/>
                </a:lnTo>
                <a:lnTo>
                  <a:pt x="916527" y="1328442"/>
                </a:lnTo>
                <a:lnTo>
                  <a:pt x="918116" y="1321771"/>
                </a:lnTo>
                <a:lnTo>
                  <a:pt x="918433" y="1315418"/>
                </a:lnTo>
                <a:lnTo>
                  <a:pt x="918751" y="1309700"/>
                </a:lnTo>
                <a:lnTo>
                  <a:pt x="918433" y="1304300"/>
                </a:lnTo>
                <a:lnTo>
                  <a:pt x="918116" y="1298900"/>
                </a:lnTo>
                <a:lnTo>
                  <a:pt x="917163" y="1294135"/>
                </a:lnTo>
                <a:lnTo>
                  <a:pt x="916527" y="1289053"/>
                </a:lnTo>
                <a:lnTo>
                  <a:pt x="915257" y="1284606"/>
                </a:lnTo>
                <a:lnTo>
                  <a:pt x="913986" y="1279841"/>
                </a:lnTo>
                <a:lnTo>
                  <a:pt x="912716" y="1275394"/>
                </a:lnTo>
                <a:lnTo>
                  <a:pt x="911127" y="1271264"/>
                </a:lnTo>
                <a:lnTo>
                  <a:pt x="909222" y="1266817"/>
                </a:lnTo>
                <a:lnTo>
                  <a:pt x="907316" y="1263005"/>
                </a:lnTo>
                <a:lnTo>
                  <a:pt x="904775" y="1259193"/>
                </a:lnTo>
                <a:lnTo>
                  <a:pt x="900328" y="1251887"/>
                </a:lnTo>
                <a:lnTo>
                  <a:pt x="895245" y="1244581"/>
                </a:lnTo>
                <a:lnTo>
                  <a:pt x="889210" y="1238545"/>
                </a:lnTo>
                <a:lnTo>
                  <a:pt x="883492" y="1232192"/>
                </a:lnTo>
                <a:lnTo>
                  <a:pt x="876821" y="1226474"/>
                </a:lnTo>
                <a:lnTo>
                  <a:pt x="870469" y="1220756"/>
                </a:lnTo>
                <a:lnTo>
                  <a:pt x="863798" y="1215674"/>
                </a:lnTo>
                <a:lnTo>
                  <a:pt x="857127" y="1210909"/>
                </a:lnTo>
                <a:lnTo>
                  <a:pt x="844421" y="1201379"/>
                </a:lnTo>
                <a:lnTo>
                  <a:pt x="832351" y="1192167"/>
                </a:lnTo>
                <a:lnTo>
                  <a:pt x="826950" y="1187720"/>
                </a:lnTo>
                <a:lnTo>
                  <a:pt x="821550" y="1182955"/>
                </a:lnTo>
                <a:lnTo>
                  <a:pt x="817421" y="1178508"/>
                </a:lnTo>
                <a:lnTo>
                  <a:pt x="813292" y="1173743"/>
                </a:lnTo>
                <a:lnTo>
                  <a:pt x="810115" y="1168978"/>
                </a:lnTo>
                <a:lnTo>
                  <a:pt x="808844" y="1166437"/>
                </a:lnTo>
                <a:lnTo>
                  <a:pt x="807892" y="1163896"/>
                </a:lnTo>
                <a:lnTo>
                  <a:pt x="806939" y="1161355"/>
                </a:lnTo>
                <a:lnTo>
                  <a:pt x="806303" y="1158813"/>
                </a:lnTo>
                <a:lnTo>
                  <a:pt x="805986" y="1155954"/>
                </a:lnTo>
                <a:lnTo>
                  <a:pt x="805668" y="1153413"/>
                </a:lnTo>
                <a:lnTo>
                  <a:pt x="805986" y="1150237"/>
                </a:lnTo>
                <a:lnTo>
                  <a:pt x="806303" y="1147378"/>
                </a:lnTo>
                <a:lnTo>
                  <a:pt x="806939" y="1144519"/>
                </a:lnTo>
                <a:lnTo>
                  <a:pt x="807574" y="1141660"/>
                </a:lnTo>
                <a:lnTo>
                  <a:pt x="808844" y="1138166"/>
                </a:lnTo>
                <a:lnTo>
                  <a:pt x="810433" y="1134989"/>
                </a:lnTo>
                <a:lnTo>
                  <a:pt x="812021" y="1131495"/>
                </a:lnTo>
                <a:lnTo>
                  <a:pt x="814562" y="1128001"/>
                </a:lnTo>
                <a:lnTo>
                  <a:pt x="817103" y="1124189"/>
                </a:lnTo>
                <a:lnTo>
                  <a:pt x="819962" y="1120694"/>
                </a:lnTo>
                <a:lnTo>
                  <a:pt x="826633" y="1112753"/>
                </a:lnTo>
                <a:lnTo>
                  <a:pt x="839656" y="1098141"/>
                </a:lnTo>
                <a:lnTo>
                  <a:pt x="851727" y="1084164"/>
                </a:lnTo>
                <a:lnTo>
                  <a:pt x="862210" y="1069869"/>
                </a:lnTo>
                <a:lnTo>
                  <a:pt x="866974" y="1063198"/>
                </a:lnTo>
                <a:lnTo>
                  <a:pt x="871739" y="1056210"/>
                </a:lnTo>
                <a:lnTo>
                  <a:pt x="875869" y="1049539"/>
                </a:lnTo>
                <a:lnTo>
                  <a:pt x="879680" y="1042868"/>
                </a:lnTo>
                <a:lnTo>
                  <a:pt x="883810" y="1035880"/>
                </a:lnTo>
                <a:lnTo>
                  <a:pt x="886986" y="1029527"/>
                </a:lnTo>
                <a:lnTo>
                  <a:pt x="890163" y="1023174"/>
                </a:lnTo>
                <a:lnTo>
                  <a:pt x="893022" y="1016821"/>
                </a:lnTo>
                <a:lnTo>
                  <a:pt x="895880" y="1010467"/>
                </a:lnTo>
                <a:lnTo>
                  <a:pt x="898422" y="1004114"/>
                </a:lnTo>
                <a:lnTo>
                  <a:pt x="900328" y="997761"/>
                </a:lnTo>
                <a:lnTo>
                  <a:pt x="902233" y="992043"/>
                </a:lnTo>
                <a:lnTo>
                  <a:pt x="903822" y="985690"/>
                </a:lnTo>
                <a:lnTo>
                  <a:pt x="905092" y="979972"/>
                </a:lnTo>
                <a:lnTo>
                  <a:pt x="906681" y="973937"/>
                </a:lnTo>
                <a:lnTo>
                  <a:pt x="907634" y="968219"/>
                </a:lnTo>
                <a:lnTo>
                  <a:pt x="908269" y="962184"/>
                </a:lnTo>
                <a:lnTo>
                  <a:pt x="908586" y="956466"/>
                </a:lnTo>
                <a:lnTo>
                  <a:pt x="908904" y="950748"/>
                </a:lnTo>
                <a:lnTo>
                  <a:pt x="908904" y="945348"/>
                </a:lnTo>
                <a:lnTo>
                  <a:pt x="908904" y="939630"/>
                </a:lnTo>
                <a:lnTo>
                  <a:pt x="908586" y="934230"/>
                </a:lnTo>
                <a:lnTo>
                  <a:pt x="907951" y="928512"/>
                </a:lnTo>
                <a:lnTo>
                  <a:pt x="906998" y="923429"/>
                </a:lnTo>
                <a:lnTo>
                  <a:pt x="905728" y="917712"/>
                </a:lnTo>
                <a:lnTo>
                  <a:pt x="904775" y="912629"/>
                </a:lnTo>
                <a:lnTo>
                  <a:pt x="901916" y="902146"/>
                </a:lnTo>
                <a:lnTo>
                  <a:pt x="898422" y="891981"/>
                </a:lnTo>
                <a:lnTo>
                  <a:pt x="893657" y="882134"/>
                </a:lnTo>
                <a:lnTo>
                  <a:pt x="888892" y="872287"/>
                </a:lnTo>
                <a:lnTo>
                  <a:pt x="883492" y="863074"/>
                </a:lnTo>
                <a:lnTo>
                  <a:pt x="877139" y="853862"/>
                </a:lnTo>
                <a:lnTo>
                  <a:pt x="870151" y="844650"/>
                </a:lnTo>
                <a:lnTo>
                  <a:pt x="862845" y="835756"/>
                </a:lnTo>
                <a:lnTo>
                  <a:pt x="854904" y="826862"/>
                </a:lnTo>
                <a:lnTo>
                  <a:pt x="846645" y="818602"/>
                </a:lnTo>
                <a:lnTo>
                  <a:pt x="838068" y="810026"/>
                </a:lnTo>
                <a:lnTo>
                  <a:pt x="828856" y="801767"/>
                </a:lnTo>
                <a:lnTo>
                  <a:pt x="819327" y="794143"/>
                </a:lnTo>
                <a:lnTo>
                  <a:pt x="809480" y="786201"/>
                </a:lnTo>
                <a:lnTo>
                  <a:pt x="799315" y="778260"/>
                </a:lnTo>
                <a:lnTo>
                  <a:pt x="788833" y="770954"/>
                </a:lnTo>
                <a:lnTo>
                  <a:pt x="778032" y="763648"/>
                </a:lnTo>
                <a:lnTo>
                  <a:pt x="767550" y="756024"/>
                </a:lnTo>
                <a:lnTo>
                  <a:pt x="756432" y="749353"/>
                </a:lnTo>
                <a:lnTo>
                  <a:pt x="745315" y="742047"/>
                </a:lnTo>
                <a:lnTo>
                  <a:pt x="722444" y="728705"/>
                </a:lnTo>
                <a:lnTo>
                  <a:pt x="699573" y="715682"/>
                </a:lnTo>
                <a:lnTo>
                  <a:pt x="677020" y="703293"/>
                </a:lnTo>
                <a:lnTo>
                  <a:pt x="654467" y="690904"/>
                </a:lnTo>
                <a:lnTo>
                  <a:pt x="611266" y="667715"/>
                </a:lnTo>
                <a:lnTo>
                  <a:pt x="591254" y="656597"/>
                </a:lnTo>
                <a:lnTo>
                  <a:pt x="572831" y="645479"/>
                </a:lnTo>
                <a:lnTo>
                  <a:pt x="563937" y="640079"/>
                </a:lnTo>
                <a:lnTo>
                  <a:pt x="555678" y="634997"/>
                </a:lnTo>
                <a:lnTo>
                  <a:pt x="548054" y="629279"/>
                </a:lnTo>
                <a:lnTo>
                  <a:pt x="540430" y="624196"/>
                </a:lnTo>
                <a:lnTo>
                  <a:pt x="533760" y="618796"/>
                </a:lnTo>
                <a:lnTo>
                  <a:pt x="527724" y="613714"/>
                </a:lnTo>
                <a:lnTo>
                  <a:pt x="521689" y="608949"/>
                </a:lnTo>
                <a:lnTo>
                  <a:pt x="516924" y="603549"/>
                </a:lnTo>
                <a:lnTo>
                  <a:pt x="512477" y="598466"/>
                </a:lnTo>
                <a:lnTo>
                  <a:pt x="508983" y="593066"/>
                </a:lnTo>
                <a:lnTo>
                  <a:pt x="506124" y="588301"/>
                </a:lnTo>
                <a:lnTo>
                  <a:pt x="503901" y="582901"/>
                </a:lnTo>
                <a:lnTo>
                  <a:pt x="495642" y="557806"/>
                </a:lnTo>
                <a:lnTo>
                  <a:pt x="487701" y="533346"/>
                </a:lnTo>
                <a:lnTo>
                  <a:pt x="481030" y="509522"/>
                </a:lnTo>
                <a:lnTo>
                  <a:pt x="474359" y="486333"/>
                </a:lnTo>
                <a:lnTo>
                  <a:pt x="468959" y="464097"/>
                </a:lnTo>
                <a:lnTo>
                  <a:pt x="463559" y="442496"/>
                </a:lnTo>
                <a:lnTo>
                  <a:pt x="459430" y="421531"/>
                </a:lnTo>
                <a:lnTo>
                  <a:pt x="455618" y="401519"/>
                </a:lnTo>
                <a:lnTo>
                  <a:pt x="452441" y="381824"/>
                </a:lnTo>
                <a:lnTo>
                  <a:pt x="449583" y="362764"/>
                </a:lnTo>
                <a:lnTo>
                  <a:pt x="447677" y="344658"/>
                </a:lnTo>
                <a:lnTo>
                  <a:pt x="446088" y="326869"/>
                </a:lnTo>
                <a:lnTo>
                  <a:pt x="445136" y="310033"/>
                </a:lnTo>
                <a:lnTo>
                  <a:pt x="444500" y="293197"/>
                </a:lnTo>
                <a:lnTo>
                  <a:pt x="444500" y="277632"/>
                </a:lnTo>
                <a:lnTo>
                  <a:pt x="444818" y="262385"/>
                </a:lnTo>
                <a:lnTo>
                  <a:pt x="445771" y="247455"/>
                </a:lnTo>
                <a:lnTo>
                  <a:pt x="447041" y="233478"/>
                </a:lnTo>
                <a:lnTo>
                  <a:pt x="448630" y="220136"/>
                </a:lnTo>
                <a:lnTo>
                  <a:pt x="450536" y="207112"/>
                </a:lnTo>
                <a:lnTo>
                  <a:pt x="452759" y="194724"/>
                </a:lnTo>
                <a:lnTo>
                  <a:pt x="455618" y="182970"/>
                </a:lnTo>
                <a:lnTo>
                  <a:pt x="458794" y="171535"/>
                </a:lnTo>
                <a:lnTo>
                  <a:pt x="461971" y="160417"/>
                </a:lnTo>
                <a:lnTo>
                  <a:pt x="465465" y="149934"/>
                </a:lnTo>
                <a:lnTo>
                  <a:pt x="469595" y="140087"/>
                </a:lnTo>
                <a:lnTo>
                  <a:pt x="473724" y="130557"/>
                </a:lnTo>
                <a:lnTo>
                  <a:pt x="477853" y="121663"/>
                </a:lnTo>
                <a:lnTo>
                  <a:pt x="482618" y="113086"/>
                </a:lnTo>
                <a:lnTo>
                  <a:pt x="487383" y="104827"/>
                </a:lnTo>
                <a:lnTo>
                  <a:pt x="492465" y="97203"/>
                </a:lnTo>
                <a:lnTo>
                  <a:pt x="497548" y="89897"/>
                </a:lnTo>
                <a:lnTo>
                  <a:pt x="502948" y="82908"/>
                </a:lnTo>
                <a:lnTo>
                  <a:pt x="508030" y="76555"/>
                </a:lnTo>
                <a:lnTo>
                  <a:pt x="513748" y="70202"/>
                </a:lnTo>
                <a:lnTo>
                  <a:pt x="519148" y="64802"/>
                </a:lnTo>
                <a:lnTo>
                  <a:pt x="524866" y="59084"/>
                </a:lnTo>
                <a:lnTo>
                  <a:pt x="530266" y="54319"/>
                </a:lnTo>
                <a:lnTo>
                  <a:pt x="536301" y="49237"/>
                </a:lnTo>
                <a:lnTo>
                  <a:pt x="541701" y="45107"/>
                </a:lnTo>
                <a:lnTo>
                  <a:pt x="547736" y="40978"/>
                </a:lnTo>
                <a:lnTo>
                  <a:pt x="553136" y="37166"/>
                </a:lnTo>
                <a:lnTo>
                  <a:pt x="558536" y="33672"/>
                </a:lnTo>
                <a:lnTo>
                  <a:pt x="564254" y="30495"/>
                </a:lnTo>
                <a:lnTo>
                  <a:pt x="575054" y="24459"/>
                </a:lnTo>
                <a:lnTo>
                  <a:pt x="585537" y="20012"/>
                </a:lnTo>
                <a:lnTo>
                  <a:pt x="595066" y="15883"/>
                </a:lnTo>
                <a:lnTo>
                  <a:pt x="603643" y="13024"/>
                </a:lnTo>
                <a:lnTo>
                  <a:pt x="611584" y="10800"/>
                </a:lnTo>
                <a:lnTo>
                  <a:pt x="618572" y="9212"/>
                </a:lnTo>
                <a:lnTo>
                  <a:pt x="623972" y="7941"/>
                </a:lnTo>
                <a:lnTo>
                  <a:pt x="628102" y="7306"/>
                </a:lnTo>
                <a:lnTo>
                  <a:pt x="631596" y="6988"/>
                </a:lnTo>
                <a:lnTo>
                  <a:pt x="634455" y="6353"/>
                </a:lnTo>
                <a:lnTo>
                  <a:pt x="642396" y="4447"/>
                </a:lnTo>
                <a:lnTo>
                  <a:pt x="654467" y="2223"/>
                </a:lnTo>
                <a:lnTo>
                  <a:pt x="661455" y="1588"/>
                </a:lnTo>
                <a:lnTo>
                  <a:pt x="670032" y="635"/>
                </a:lnTo>
                <a:lnTo>
                  <a:pt x="678926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8"/>
          <p:cNvSpPr/>
          <p:nvPr/>
        </p:nvSpPr>
        <p:spPr>
          <a:xfrm>
            <a:off x="7116840" y="3471840"/>
            <a:ext cx="14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3e4d"/>
                </a:solidFill>
                <a:latin typeface="微软雅黑"/>
                <a:ea typeface="微软雅黑"/>
              </a:rPr>
              <a:t>这里是详细计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合 11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277" name="矩形 16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计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任意多边形 19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任意多边形 20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9F7-772A-431D-B576-D9B241052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4"/>
          <p:cNvSpPr/>
          <p:nvPr/>
        </p:nvSpPr>
        <p:spPr>
          <a:xfrm>
            <a:off x="-839880" y="-3144960"/>
            <a:ext cx="10831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：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是承上启下的一年，信息中心将继续围绕“为民、务实、清廉”的主题，充分提高业务能力，明确改善工作作风，努力提升服务水平，为进一步推进和建设我局信息化工作做出更加突出的贡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文本框 1" descr=""/>
          <p:cNvPicPr/>
          <p:nvPr/>
        </p:nvPicPr>
        <p:blipFill>
          <a:blip r:embed="rId1"/>
          <a:stretch/>
        </p:blipFill>
        <p:spPr>
          <a:xfrm>
            <a:off x="1920960" y="2127240"/>
            <a:ext cx="5308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组合 1" descr=""/>
          <p:cNvPicPr/>
          <p:nvPr/>
        </p:nvPicPr>
        <p:blipFill>
          <a:blip r:embed="rId1"/>
          <a:stretch/>
        </p:blipFill>
        <p:spPr>
          <a:xfrm>
            <a:off x="2060640" y="2103480"/>
            <a:ext cx="5041800" cy="7491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8"/>
          <p:cNvSpPr/>
          <p:nvPr/>
        </p:nvSpPr>
        <p:spPr>
          <a:xfrm>
            <a:off x="4082400" y="87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d66d"/>
                </a:solidFill>
                <a:latin typeface="Calibri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62" descr=""/>
          <p:cNvPicPr/>
          <p:nvPr/>
        </p:nvPicPr>
        <p:blipFill>
          <a:blip r:embed="rId2"/>
          <a:stretch/>
        </p:blipFill>
        <p:spPr>
          <a:xfrm>
            <a:off x="2060640" y="3054240"/>
            <a:ext cx="5041800" cy="755640"/>
          </a:xfrm>
          <a:prstGeom prst="rect">
            <a:avLst/>
          </a:prstGeom>
          <a:ln w="0">
            <a:noFill/>
          </a:ln>
        </p:spPr>
      </p:pic>
      <p:pic>
        <p:nvPicPr>
          <p:cNvPr id="99" name="组合 68" descr=""/>
          <p:cNvPicPr/>
          <p:nvPr/>
        </p:nvPicPr>
        <p:blipFill>
          <a:blip r:embed="rId3"/>
          <a:stretch/>
        </p:blipFill>
        <p:spPr>
          <a:xfrm>
            <a:off x="2017800" y="4133880"/>
            <a:ext cx="50418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9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101" name="矩形 3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回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任意多边形 7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8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11"/>
          <p:cNvSpPr/>
          <p:nvPr/>
        </p:nvSpPr>
        <p:spPr>
          <a:xfrm>
            <a:off x="585720" y="1236600"/>
            <a:ext cx="5138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工作情况是这样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24"/>
          <p:cNvGrpSpPr/>
          <p:nvPr/>
        </p:nvGrpSpPr>
        <p:grpSpPr>
          <a:xfrm>
            <a:off x="491400" y="2173320"/>
            <a:ext cx="8133480" cy="605520"/>
            <a:chOff x="491400" y="2173320"/>
            <a:chExt cx="8133480" cy="605520"/>
          </a:xfrm>
        </p:grpSpPr>
        <p:sp>
          <p:nvSpPr>
            <p:cNvPr id="106" name="矩形 12"/>
            <p:cNvSpPr/>
            <p:nvPr/>
          </p:nvSpPr>
          <p:spPr>
            <a:xfrm>
              <a:off x="538920" y="2173320"/>
              <a:ext cx="8085960" cy="5857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16"/>
            <p:cNvSpPr/>
            <p:nvPr/>
          </p:nvSpPr>
          <p:spPr>
            <a:xfrm>
              <a:off x="491400" y="21974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9"/>
            <p:cNvSpPr/>
            <p:nvPr/>
          </p:nvSpPr>
          <p:spPr>
            <a:xfrm>
              <a:off x="626040" y="27068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1721520" y="220644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直接连接符 23"/>
            <p:cNvSpPr/>
            <p:nvPr/>
          </p:nvSpPr>
          <p:spPr>
            <a:xfrm>
              <a:off x="626040" y="222300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KSO_Shape"/>
          <p:cNvSpPr/>
          <p:nvPr/>
        </p:nvSpPr>
        <p:spPr>
          <a:xfrm>
            <a:off x="476280" y="3479760"/>
            <a:ext cx="2519280" cy="1905120"/>
          </a:xfrm>
          <a:custGeom>
            <a:avLst/>
            <a:gdLst/>
            <a:ahLst/>
            <a:rect l="l" t="t" r="r" b="b"/>
            <a:pathLst>
              <a:path w="2295525" h="1735138">
                <a:moveTo>
                  <a:pt x="350837" y="1671638"/>
                </a:moveTo>
                <a:lnTo>
                  <a:pt x="438244" y="1671638"/>
                </a:lnTo>
                <a:lnTo>
                  <a:pt x="442634" y="1674019"/>
                </a:lnTo>
                <a:lnTo>
                  <a:pt x="452213" y="1680766"/>
                </a:lnTo>
                <a:lnTo>
                  <a:pt x="458599" y="1685132"/>
                </a:lnTo>
                <a:lnTo>
                  <a:pt x="465384" y="1690291"/>
                </a:lnTo>
                <a:lnTo>
                  <a:pt x="472169" y="1695847"/>
                </a:lnTo>
                <a:lnTo>
                  <a:pt x="478156" y="1701404"/>
                </a:lnTo>
                <a:lnTo>
                  <a:pt x="483743" y="1706960"/>
                </a:lnTo>
                <a:lnTo>
                  <a:pt x="488533" y="1712913"/>
                </a:lnTo>
                <a:lnTo>
                  <a:pt x="490129" y="1715691"/>
                </a:lnTo>
                <a:lnTo>
                  <a:pt x="490928" y="1718072"/>
                </a:lnTo>
                <a:lnTo>
                  <a:pt x="491726" y="1720454"/>
                </a:lnTo>
                <a:lnTo>
                  <a:pt x="492125" y="1723232"/>
                </a:lnTo>
                <a:lnTo>
                  <a:pt x="491726" y="1725216"/>
                </a:lnTo>
                <a:lnTo>
                  <a:pt x="490928" y="1727201"/>
                </a:lnTo>
                <a:lnTo>
                  <a:pt x="489331" y="1729582"/>
                </a:lnTo>
                <a:lnTo>
                  <a:pt x="486537" y="1730772"/>
                </a:lnTo>
                <a:lnTo>
                  <a:pt x="483743" y="1732360"/>
                </a:lnTo>
                <a:lnTo>
                  <a:pt x="479752" y="1733551"/>
                </a:lnTo>
                <a:lnTo>
                  <a:pt x="475362" y="1734344"/>
                </a:lnTo>
                <a:lnTo>
                  <a:pt x="469774" y="1734741"/>
                </a:lnTo>
                <a:lnTo>
                  <a:pt x="462590" y="1735138"/>
                </a:lnTo>
                <a:lnTo>
                  <a:pt x="455805" y="1735138"/>
                </a:lnTo>
                <a:lnTo>
                  <a:pt x="449419" y="1734741"/>
                </a:lnTo>
                <a:lnTo>
                  <a:pt x="443432" y="1733947"/>
                </a:lnTo>
                <a:lnTo>
                  <a:pt x="437446" y="1733154"/>
                </a:lnTo>
                <a:lnTo>
                  <a:pt x="431858" y="1731566"/>
                </a:lnTo>
                <a:lnTo>
                  <a:pt x="427069" y="1730376"/>
                </a:lnTo>
                <a:lnTo>
                  <a:pt x="421481" y="1727994"/>
                </a:lnTo>
                <a:lnTo>
                  <a:pt x="416691" y="1726010"/>
                </a:lnTo>
                <a:lnTo>
                  <a:pt x="411902" y="1724026"/>
                </a:lnTo>
                <a:lnTo>
                  <a:pt x="402722" y="1718866"/>
                </a:lnTo>
                <a:lnTo>
                  <a:pt x="394341" y="1712913"/>
                </a:lnTo>
                <a:lnTo>
                  <a:pt x="385560" y="1706960"/>
                </a:lnTo>
                <a:lnTo>
                  <a:pt x="381968" y="1704579"/>
                </a:lnTo>
                <a:lnTo>
                  <a:pt x="379573" y="1703785"/>
                </a:lnTo>
                <a:lnTo>
                  <a:pt x="377578" y="1703785"/>
                </a:lnTo>
                <a:lnTo>
                  <a:pt x="376780" y="1704182"/>
                </a:lnTo>
                <a:lnTo>
                  <a:pt x="376380" y="1705372"/>
                </a:lnTo>
                <a:lnTo>
                  <a:pt x="375582" y="1706563"/>
                </a:lnTo>
                <a:lnTo>
                  <a:pt x="375183" y="1707357"/>
                </a:lnTo>
                <a:lnTo>
                  <a:pt x="373986" y="1707754"/>
                </a:lnTo>
                <a:lnTo>
                  <a:pt x="364008" y="1707357"/>
                </a:lnTo>
                <a:lnTo>
                  <a:pt x="358420" y="1706563"/>
                </a:lnTo>
                <a:lnTo>
                  <a:pt x="356425" y="1706166"/>
                </a:lnTo>
                <a:lnTo>
                  <a:pt x="355227" y="1705769"/>
                </a:lnTo>
                <a:lnTo>
                  <a:pt x="353232" y="1697435"/>
                </a:lnTo>
                <a:lnTo>
                  <a:pt x="352433" y="1690688"/>
                </a:lnTo>
                <a:lnTo>
                  <a:pt x="351635" y="1685132"/>
                </a:lnTo>
                <a:lnTo>
                  <a:pt x="351236" y="1680766"/>
                </a:lnTo>
                <a:lnTo>
                  <a:pt x="351635" y="1677988"/>
                </a:lnTo>
                <a:lnTo>
                  <a:pt x="351635" y="1676004"/>
                </a:lnTo>
                <a:lnTo>
                  <a:pt x="352433" y="1674019"/>
                </a:lnTo>
                <a:lnTo>
                  <a:pt x="350837" y="1671638"/>
                </a:lnTo>
                <a:close/>
                <a:moveTo>
                  <a:pt x="168275" y="1670050"/>
                </a:moveTo>
                <a:lnTo>
                  <a:pt x="265566" y="1670050"/>
                </a:lnTo>
                <a:lnTo>
                  <a:pt x="269899" y="1672491"/>
                </a:lnTo>
                <a:lnTo>
                  <a:pt x="281322" y="1679406"/>
                </a:lnTo>
                <a:lnTo>
                  <a:pt x="288018" y="1683881"/>
                </a:lnTo>
                <a:lnTo>
                  <a:pt x="295502" y="1689170"/>
                </a:lnTo>
                <a:lnTo>
                  <a:pt x="302986" y="1694458"/>
                </a:lnTo>
                <a:lnTo>
                  <a:pt x="309682" y="1700560"/>
                </a:lnTo>
                <a:lnTo>
                  <a:pt x="315984" y="1706255"/>
                </a:lnTo>
                <a:lnTo>
                  <a:pt x="318742" y="1709510"/>
                </a:lnTo>
                <a:lnTo>
                  <a:pt x="321105" y="1711950"/>
                </a:lnTo>
                <a:lnTo>
                  <a:pt x="322681" y="1714798"/>
                </a:lnTo>
                <a:lnTo>
                  <a:pt x="323862" y="1717646"/>
                </a:lnTo>
                <a:lnTo>
                  <a:pt x="325044" y="1720086"/>
                </a:lnTo>
                <a:lnTo>
                  <a:pt x="325438" y="1722934"/>
                </a:lnTo>
                <a:lnTo>
                  <a:pt x="325044" y="1724968"/>
                </a:lnTo>
                <a:lnTo>
                  <a:pt x="323862" y="1727002"/>
                </a:lnTo>
                <a:lnTo>
                  <a:pt x="321893" y="1728629"/>
                </a:lnTo>
                <a:lnTo>
                  <a:pt x="319529" y="1730663"/>
                </a:lnTo>
                <a:lnTo>
                  <a:pt x="315984" y="1732290"/>
                </a:lnTo>
                <a:lnTo>
                  <a:pt x="312046" y="1733104"/>
                </a:lnTo>
                <a:lnTo>
                  <a:pt x="306531" y="1734324"/>
                </a:lnTo>
                <a:lnTo>
                  <a:pt x="300229" y="1734731"/>
                </a:lnTo>
                <a:lnTo>
                  <a:pt x="292351" y="1735138"/>
                </a:lnTo>
                <a:lnTo>
                  <a:pt x="285261" y="1735138"/>
                </a:lnTo>
                <a:lnTo>
                  <a:pt x="278171" y="1734731"/>
                </a:lnTo>
                <a:lnTo>
                  <a:pt x="271475" y="1733918"/>
                </a:lnTo>
                <a:lnTo>
                  <a:pt x="264778" y="1732697"/>
                </a:lnTo>
                <a:lnTo>
                  <a:pt x="258476" y="1731477"/>
                </a:lnTo>
                <a:lnTo>
                  <a:pt x="252568" y="1729850"/>
                </a:lnTo>
                <a:lnTo>
                  <a:pt x="247053" y="1727816"/>
                </a:lnTo>
                <a:lnTo>
                  <a:pt x="241145" y="1725782"/>
                </a:lnTo>
                <a:lnTo>
                  <a:pt x="236024" y="1723748"/>
                </a:lnTo>
                <a:lnTo>
                  <a:pt x="225783" y="1718052"/>
                </a:lnTo>
                <a:lnTo>
                  <a:pt x="215936" y="1712357"/>
                </a:lnTo>
                <a:lnTo>
                  <a:pt x="206876" y="1706255"/>
                </a:lnTo>
                <a:lnTo>
                  <a:pt x="202543" y="1703814"/>
                </a:lnTo>
                <a:lnTo>
                  <a:pt x="200180" y="1703001"/>
                </a:lnTo>
                <a:lnTo>
                  <a:pt x="198211" y="1703001"/>
                </a:lnTo>
                <a:lnTo>
                  <a:pt x="197423" y="1703408"/>
                </a:lnTo>
                <a:lnTo>
                  <a:pt x="196241" y="1704628"/>
                </a:lnTo>
                <a:lnTo>
                  <a:pt x="195847" y="1705848"/>
                </a:lnTo>
                <a:lnTo>
                  <a:pt x="195060" y="1706662"/>
                </a:lnTo>
                <a:lnTo>
                  <a:pt x="193878" y="1707069"/>
                </a:lnTo>
                <a:lnTo>
                  <a:pt x="182455" y="1706662"/>
                </a:lnTo>
                <a:lnTo>
                  <a:pt x="176941" y="1705848"/>
                </a:lnTo>
                <a:lnTo>
                  <a:pt x="174183" y="1705442"/>
                </a:lnTo>
                <a:lnTo>
                  <a:pt x="173002" y="1705035"/>
                </a:lnTo>
                <a:lnTo>
                  <a:pt x="171032" y="1696492"/>
                </a:lnTo>
                <a:lnTo>
                  <a:pt x="169457" y="1689576"/>
                </a:lnTo>
                <a:lnTo>
                  <a:pt x="169063" y="1683881"/>
                </a:lnTo>
                <a:lnTo>
                  <a:pt x="168669" y="1679406"/>
                </a:lnTo>
                <a:lnTo>
                  <a:pt x="169063" y="1676152"/>
                </a:lnTo>
                <a:lnTo>
                  <a:pt x="169063" y="1674118"/>
                </a:lnTo>
                <a:lnTo>
                  <a:pt x="169457" y="1672491"/>
                </a:lnTo>
                <a:lnTo>
                  <a:pt x="168275" y="1670050"/>
                </a:lnTo>
                <a:close/>
                <a:moveTo>
                  <a:pt x="1942197" y="1444625"/>
                </a:moveTo>
                <a:lnTo>
                  <a:pt x="2238486" y="1444625"/>
                </a:lnTo>
                <a:lnTo>
                  <a:pt x="2244427" y="1445021"/>
                </a:lnTo>
                <a:lnTo>
                  <a:pt x="2249973" y="1445812"/>
                </a:lnTo>
                <a:lnTo>
                  <a:pt x="2255518" y="1447000"/>
                </a:lnTo>
                <a:lnTo>
                  <a:pt x="2260272" y="1448978"/>
                </a:lnTo>
                <a:lnTo>
                  <a:pt x="2265421" y="1451748"/>
                </a:lnTo>
                <a:lnTo>
                  <a:pt x="2270174" y="1454123"/>
                </a:lnTo>
                <a:lnTo>
                  <a:pt x="2274532" y="1457289"/>
                </a:lnTo>
                <a:lnTo>
                  <a:pt x="2278493" y="1461246"/>
                </a:lnTo>
                <a:lnTo>
                  <a:pt x="2282454" y="1465204"/>
                </a:lnTo>
                <a:lnTo>
                  <a:pt x="2285623" y="1469557"/>
                </a:lnTo>
                <a:lnTo>
                  <a:pt x="2287999" y="1474306"/>
                </a:lnTo>
                <a:lnTo>
                  <a:pt x="2290772" y="1479451"/>
                </a:lnTo>
                <a:lnTo>
                  <a:pt x="2292356" y="1484200"/>
                </a:lnTo>
                <a:lnTo>
                  <a:pt x="2293941" y="1489740"/>
                </a:lnTo>
                <a:lnTo>
                  <a:pt x="2294733" y="1495280"/>
                </a:lnTo>
                <a:lnTo>
                  <a:pt x="2295525" y="1501217"/>
                </a:lnTo>
                <a:lnTo>
                  <a:pt x="2295525" y="1665451"/>
                </a:lnTo>
                <a:lnTo>
                  <a:pt x="2294733" y="1671387"/>
                </a:lnTo>
                <a:lnTo>
                  <a:pt x="2293941" y="1676927"/>
                </a:lnTo>
                <a:lnTo>
                  <a:pt x="2292356" y="1682468"/>
                </a:lnTo>
                <a:lnTo>
                  <a:pt x="2290772" y="1688008"/>
                </a:lnTo>
                <a:lnTo>
                  <a:pt x="2287999" y="1692361"/>
                </a:lnTo>
                <a:lnTo>
                  <a:pt x="2285623" y="1697110"/>
                </a:lnTo>
                <a:lnTo>
                  <a:pt x="2282454" y="1701859"/>
                </a:lnTo>
                <a:lnTo>
                  <a:pt x="2278493" y="1705421"/>
                </a:lnTo>
                <a:lnTo>
                  <a:pt x="2274532" y="1709378"/>
                </a:lnTo>
                <a:lnTo>
                  <a:pt x="2270174" y="1712544"/>
                </a:lnTo>
                <a:lnTo>
                  <a:pt x="2265421" y="1715315"/>
                </a:lnTo>
                <a:lnTo>
                  <a:pt x="2260272" y="1717689"/>
                </a:lnTo>
                <a:lnTo>
                  <a:pt x="2255518" y="1719668"/>
                </a:lnTo>
                <a:lnTo>
                  <a:pt x="2249973" y="1720855"/>
                </a:lnTo>
                <a:lnTo>
                  <a:pt x="2244427" y="1722042"/>
                </a:lnTo>
                <a:lnTo>
                  <a:pt x="2238486" y="1722438"/>
                </a:lnTo>
                <a:lnTo>
                  <a:pt x="1942197" y="1722438"/>
                </a:lnTo>
                <a:lnTo>
                  <a:pt x="1936652" y="1722042"/>
                </a:lnTo>
                <a:lnTo>
                  <a:pt x="1931106" y="1720855"/>
                </a:lnTo>
                <a:lnTo>
                  <a:pt x="1925561" y="1719668"/>
                </a:lnTo>
                <a:lnTo>
                  <a:pt x="1920412" y="1717689"/>
                </a:lnTo>
                <a:lnTo>
                  <a:pt x="1915262" y="1715315"/>
                </a:lnTo>
                <a:lnTo>
                  <a:pt x="1910905" y="1712544"/>
                </a:lnTo>
                <a:lnTo>
                  <a:pt x="1906548" y="1709378"/>
                </a:lnTo>
                <a:lnTo>
                  <a:pt x="1902191" y="1705421"/>
                </a:lnTo>
                <a:lnTo>
                  <a:pt x="1899022" y="1701859"/>
                </a:lnTo>
                <a:lnTo>
                  <a:pt x="1895457" y="1697110"/>
                </a:lnTo>
                <a:lnTo>
                  <a:pt x="1892684" y="1692361"/>
                </a:lnTo>
                <a:lnTo>
                  <a:pt x="1890307" y="1688008"/>
                </a:lnTo>
                <a:lnTo>
                  <a:pt x="1888327" y="1682468"/>
                </a:lnTo>
                <a:lnTo>
                  <a:pt x="1887139" y="1676927"/>
                </a:lnTo>
                <a:lnTo>
                  <a:pt x="1886346" y="1671387"/>
                </a:lnTo>
                <a:lnTo>
                  <a:pt x="1885950" y="1665451"/>
                </a:lnTo>
                <a:lnTo>
                  <a:pt x="1885950" y="1501217"/>
                </a:lnTo>
                <a:lnTo>
                  <a:pt x="1886346" y="1495280"/>
                </a:lnTo>
                <a:lnTo>
                  <a:pt x="1887139" y="1489740"/>
                </a:lnTo>
                <a:lnTo>
                  <a:pt x="1888327" y="1484200"/>
                </a:lnTo>
                <a:lnTo>
                  <a:pt x="1890307" y="1479451"/>
                </a:lnTo>
                <a:lnTo>
                  <a:pt x="1892684" y="1474306"/>
                </a:lnTo>
                <a:lnTo>
                  <a:pt x="1895457" y="1469557"/>
                </a:lnTo>
                <a:lnTo>
                  <a:pt x="1899022" y="1465204"/>
                </a:lnTo>
                <a:lnTo>
                  <a:pt x="1902191" y="1461246"/>
                </a:lnTo>
                <a:lnTo>
                  <a:pt x="1906548" y="1457289"/>
                </a:lnTo>
                <a:lnTo>
                  <a:pt x="1910905" y="1454123"/>
                </a:lnTo>
                <a:lnTo>
                  <a:pt x="1915262" y="1451748"/>
                </a:lnTo>
                <a:lnTo>
                  <a:pt x="1920412" y="1448978"/>
                </a:lnTo>
                <a:lnTo>
                  <a:pt x="1925561" y="1447000"/>
                </a:lnTo>
                <a:lnTo>
                  <a:pt x="1931106" y="1445812"/>
                </a:lnTo>
                <a:lnTo>
                  <a:pt x="1936652" y="1445021"/>
                </a:lnTo>
                <a:lnTo>
                  <a:pt x="1942197" y="1444625"/>
                </a:lnTo>
                <a:close/>
                <a:moveTo>
                  <a:pt x="1445637" y="1444625"/>
                </a:moveTo>
                <a:lnTo>
                  <a:pt x="1743650" y="1444625"/>
                </a:lnTo>
                <a:lnTo>
                  <a:pt x="1749627" y="1445021"/>
                </a:lnTo>
                <a:lnTo>
                  <a:pt x="1755204" y="1445812"/>
                </a:lnTo>
                <a:lnTo>
                  <a:pt x="1760384" y="1447000"/>
                </a:lnTo>
                <a:lnTo>
                  <a:pt x="1765563" y="1448978"/>
                </a:lnTo>
                <a:lnTo>
                  <a:pt x="1770743" y="1451748"/>
                </a:lnTo>
                <a:lnTo>
                  <a:pt x="1775524" y="1454123"/>
                </a:lnTo>
                <a:lnTo>
                  <a:pt x="1779508" y="1457289"/>
                </a:lnTo>
                <a:lnTo>
                  <a:pt x="1783890" y="1461246"/>
                </a:lnTo>
                <a:lnTo>
                  <a:pt x="1787476" y="1465204"/>
                </a:lnTo>
                <a:lnTo>
                  <a:pt x="1790663" y="1469557"/>
                </a:lnTo>
                <a:lnTo>
                  <a:pt x="1793452" y="1474306"/>
                </a:lnTo>
                <a:lnTo>
                  <a:pt x="1796241" y="1479451"/>
                </a:lnTo>
                <a:lnTo>
                  <a:pt x="1797835" y="1484200"/>
                </a:lnTo>
                <a:lnTo>
                  <a:pt x="1799428" y="1489740"/>
                </a:lnTo>
                <a:lnTo>
                  <a:pt x="1800225" y="1495280"/>
                </a:lnTo>
                <a:lnTo>
                  <a:pt x="1800225" y="1501217"/>
                </a:lnTo>
                <a:lnTo>
                  <a:pt x="1800225" y="1665451"/>
                </a:lnTo>
                <a:lnTo>
                  <a:pt x="1800225" y="1671387"/>
                </a:lnTo>
                <a:lnTo>
                  <a:pt x="1799428" y="1676927"/>
                </a:lnTo>
                <a:lnTo>
                  <a:pt x="1797835" y="1682468"/>
                </a:lnTo>
                <a:lnTo>
                  <a:pt x="1796241" y="1688008"/>
                </a:lnTo>
                <a:lnTo>
                  <a:pt x="1793452" y="1692361"/>
                </a:lnTo>
                <a:lnTo>
                  <a:pt x="1790663" y="1697110"/>
                </a:lnTo>
                <a:lnTo>
                  <a:pt x="1787476" y="1701859"/>
                </a:lnTo>
                <a:lnTo>
                  <a:pt x="1783890" y="1705421"/>
                </a:lnTo>
                <a:lnTo>
                  <a:pt x="1779508" y="1709378"/>
                </a:lnTo>
                <a:lnTo>
                  <a:pt x="1775524" y="1712544"/>
                </a:lnTo>
                <a:lnTo>
                  <a:pt x="1770743" y="1715315"/>
                </a:lnTo>
                <a:lnTo>
                  <a:pt x="1765563" y="1717689"/>
                </a:lnTo>
                <a:lnTo>
                  <a:pt x="1760384" y="1719668"/>
                </a:lnTo>
                <a:lnTo>
                  <a:pt x="1755204" y="1720855"/>
                </a:lnTo>
                <a:lnTo>
                  <a:pt x="1749627" y="1722042"/>
                </a:lnTo>
                <a:lnTo>
                  <a:pt x="1743650" y="1722438"/>
                </a:lnTo>
                <a:lnTo>
                  <a:pt x="1445637" y="1722438"/>
                </a:lnTo>
                <a:lnTo>
                  <a:pt x="1439661" y="1722042"/>
                </a:lnTo>
                <a:lnTo>
                  <a:pt x="1434083" y="1720855"/>
                </a:lnTo>
                <a:lnTo>
                  <a:pt x="1428904" y="1719668"/>
                </a:lnTo>
                <a:lnTo>
                  <a:pt x="1423724" y="1717689"/>
                </a:lnTo>
                <a:lnTo>
                  <a:pt x="1418545" y="1715315"/>
                </a:lnTo>
                <a:lnTo>
                  <a:pt x="1413764" y="1712544"/>
                </a:lnTo>
                <a:lnTo>
                  <a:pt x="1409780" y="1709378"/>
                </a:lnTo>
                <a:lnTo>
                  <a:pt x="1405397" y="1705421"/>
                </a:lnTo>
                <a:lnTo>
                  <a:pt x="1401811" y="1701859"/>
                </a:lnTo>
                <a:lnTo>
                  <a:pt x="1398624" y="1697110"/>
                </a:lnTo>
                <a:lnTo>
                  <a:pt x="1395835" y="1692361"/>
                </a:lnTo>
                <a:lnTo>
                  <a:pt x="1393046" y="1688008"/>
                </a:lnTo>
                <a:lnTo>
                  <a:pt x="1391453" y="1682468"/>
                </a:lnTo>
                <a:lnTo>
                  <a:pt x="1389859" y="1676927"/>
                </a:lnTo>
                <a:lnTo>
                  <a:pt x="1389062" y="1671387"/>
                </a:lnTo>
                <a:lnTo>
                  <a:pt x="1389062" y="1665451"/>
                </a:lnTo>
                <a:lnTo>
                  <a:pt x="1389062" y="1501217"/>
                </a:lnTo>
                <a:lnTo>
                  <a:pt x="1389062" y="1495280"/>
                </a:lnTo>
                <a:lnTo>
                  <a:pt x="1389859" y="1489740"/>
                </a:lnTo>
                <a:lnTo>
                  <a:pt x="1391453" y="1484200"/>
                </a:lnTo>
                <a:lnTo>
                  <a:pt x="1393046" y="1479451"/>
                </a:lnTo>
                <a:lnTo>
                  <a:pt x="1395835" y="1474306"/>
                </a:lnTo>
                <a:lnTo>
                  <a:pt x="1398624" y="1469557"/>
                </a:lnTo>
                <a:lnTo>
                  <a:pt x="1401811" y="1465204"/>
                </a:lnTo>
                <a:lnTo>
                  <a:pt x="1405397" y="1461246"/>
                </a:lnTo>
                <a:lnTo>
                  <a:pt x="1409780" y="1457289"/>
                </a:lnTo>
                <a:lnTo>
                  <a:pt x="1413764" y="1454123"/>
                </a:lnTo>
                <a:lnTo>
                  <a:pt x="1418545" y="1451748"/>
                </a:lnTo>
                <a:lnTo>
                  <a:pt x="1423724" y="1448978"/>
                </a:lnTo>
                <a:lnTo>
                  <a:pt x="1428904" y="1447000"/>
                </a:lnTo>
                <a:lnTo>
                  <a:pt x="1434083" y="1445812"/>
                </a:lnTo>
                <a:lnTo>
                  <a:pt x="1439661" y="1445021"/>
                </a:lnTo>
                <a:lnTo>
                  <a:pt x="1445637" y="1444625"/>
                </a:lnTo>
                <a:close/>
                <a:moveTo>
                  <a:pt x="971098" y="1444625"/>
                </a:moveTo>
                <a:lnTo>
                  <a:pt x="1267674" y="1444625"/>
                </a:lnTo>
                <a:lnTo>
                  <a:pt x="1273224" y="1445021"/>
                </a:lnTo>
                <a:lnTo>
                  <a:pt x="1278775" y="1445812"/>
                </a:lnTo>
                <a:lnTo>
                  <a:pt x="1284326" y="1447000"/>
                </a:lnTo>
                <a:lnTo>
                  <a:pt x="1289481" y="1448978"/>
                </a:lnTo>
                <a:lnTo>
                  <a:pt x="1294635" y="1451748"/>
                </a:lnTo>
                <a:lnTo>
                  <a:pt x="1298996" y="1454123"/>
                </a:lnTo>
                <a:lnTo>
                  <a:pt x="1303358" y="1457289"/>
                </a:lnTo>
                <a:lnTo>
                  <a:pt x="1307719" y="1461246"/>
                </a:lnTo>
                <a:lnTo>
                  <a:pt x="1311288" y="1465204"/>
                </a:lnTo>
                <a:lnTo>
                  <a:pt x="1314459" y="1469557"/>
                </a:lnTo>
                <a:lnTo>
                  <a:pt x="1317235" y="1474306"/>
                </a:lnTo>
                <a:lnTo>
                  <a:pt x="1319614" y="1479451"/>
                </a:lnTo>
                <a:lnTo>
                  <a:pt x="1321596" y="1484200"/>
                </a:lnTo>
                <a:lnTo>
                  <a:pt x="1323182" y="1489740"/>
                </a:lnTo>
                <a:lnTo>
                  <a:pt x="1323975" y="1495280"/>
                </a:lnTo>
                <a:lnTo>
                  <a:pt x="1323975" y="1501217"/>
                </a:lnTo>
                <a:lnTo>
                  <a:pt x="1323975" y="1665451"/>
                </a:lnTo>
                <a:lnTo>
                  <a:pt x="1323975" y="1671387"/>
                </a:lnTo>
                <a:lnTo>
                  <a:pt x="1323182" y="1676927"/>
                </a:lnTo>
                <a:lnTo>
                  <a:pt x="1321596" y="1682468"/>
                </a:lnTo>
                <a:lnTo>
                  <a:pt x="1319614" y="1688008"/>
                </a:lnTo>
                <a:lnTo>
                  <a:pt x="1317235" y="1692361"/>
                </a:lnTo>
                <a:lnTo>
                  <a:pt x="1314459" y="1697110"/>
                </a:lnTo>
                <a:lnTo>
                  <a:pt x="1311288" y="1701859"/>
                </a:lnTo>
                <a:lnTo>
                  <a:pt x="1307719" y="1705421"/>
                </a:lnTo>
                <a:lnTo>
                  <a:pt x="1303358" y="1709378"/>
                </a:lnTo>
                <a:lnTo>
                  <a:pt x="1298996" y="1712544"/>
                </a:lnTo>
                <a:lnTo>
                  <a:pt x="1294635" y="1715315"/>
                </a:lnTo>
                <a:lnTo>
                  <a:pt x="1289481" y="1717689"/>
                </a:lnTo>
                <a:lnTo>
                  <a:pt x="1284326" y="1719668"/>
                </a:lnTo>
                <a:lnTo>
                  <a:pt x="1278775" y="1720855"/>
                </a:lnTo>
                <a:lnTo>
                  <a:pt x="1273224" y="1722042"/>
                </a:lnTo>
                <a:lnTo>
                  <a:pt x="1267674" y="1722438"/>
                </a:lnTo>
                <a:lnTo>
                  <a:pt x="971098" y="1722438"/>
                </a:lnTo>
                <a:lnTo>
                  <a:pt x="965151" y="1722042"/>
                </a:lnTo>
                <a:lnTo>
                  <a:pt x="959600" y="1720855"/>
                </a:lnTo>
                <a:lnTo>
                  <a:pt x="954049" y="1719668"/>
                </a:lnTo>
                <a:lnTo>
                  <a:pt x="949291" y="1717689"/>
                </a:lnTo>
                <a:lnTo>
                  <a:pt x="944137" y="1715315"/>
                </a:lnTo>
                <a:lnTo>
                  <a:pt x="939379" y="1712544"/>
                </a:lnTo>
                <a:lnTo>
                  <a:pt x="935414" y="1709378"/>
                </a:lnTo>
                <a:lnTo>
                  <a:pt x="931053" y="1705421"/>
                </a:lnTo>
                <a:lnTo>
                  <a:pt x="927088" y="1701859"/>
                </a:lnTo>
                <a:lnTo>
                  <a:pt x="924312" y="1697110"/>
                </a:lnTo>
                <a:lnTo>
                  <a:pt x="921140" y="1692361"/>
                </a:lnTo>
                <a:lnTo>
                  <a:pt x="918762" y="1688008"/>
                </a:lnTo>
                <a:lnTo>
                  <a:pt x="917176" y="1682468"/>
                </a:lnTo>
                <a:lnTo>
                  <a:pt x="915590" y="1676927"/>
                </a:lnTo>
                <a:lnTo>
                  <a:pt x="914400" y="1671387"/>
                </a:lnTo>
                <a:lnTo>
                  <a:pt x="914400" y="1665451"/>
                </a:lnTo>
                <a:lnTo>
                  <a:pt x="914400" y="1501217"/>
                </a:lnTo>
                <a:lnTo>
                  <a:pt x="914400" y="1495280"/>
                </a:lnTo>
                <a:lnTo>
                  <a:pt x="915590" y="1489740"/>
                </a:lnTo>
                <a:lnTo>
                  <a:pt x="917176" y="1484200"/>
                </a:lnTo>
                <a:lnTo>
                  <a:pt x="918762" y="1479451"/>
                </a:lnTo>
                <a:lnTo>
                  <a:pt x="921140" y="1474306"/>
                </a:lnTo>
                <a:lnTo>
                  <a:pt x="924312" y="1469557"/>
                </a:lnTo>
                <a:lnTo>
                  <a:pt x="927088" y="1465204"/>
                </a:lnTo>
                <a:lnTo>
                  <a:pt x="931053" y="1461246"/>
                </a:lnTo>
                <a:lnTo>
                  <a:pt x="935414" y="1457289"/>
                </a:lnTo>
                <a:lnTo>
                  <a:pt x="939379" y="1454123"/>
                </a:lnTo>
                <a:lnTo>
                  <a:pt x="944137" y="1451748"/>
                </a:lnTo>
                <a:lnTo>
                  <a:pt x="949291" y="1448978"/>
                </a:lnTo>
                <a:lnTo>
                  <a:pt x="954049" y="1447000"/>
                </a:lnTo>
                <a:lnTo>
                  <a:pt x="959600" y="1445812"/>
                </a:lnTo>
                <a:lnTo>
                  <a:pt x="965151" y="1445021"/>
                </a:lnTo>
                <a:lnTo>
                  <a:pt x="971098" y="1444625"/>
                </a:lnTo>
                <a:close/>
                <a:moveTo>
                  <a:pt x="1787045" y="1350963"/>
                </a:moveTo>
                <a:lnTo>
                  <a:pt x="1913358" y="1350963"/>
                </a:lnTo>
                <a:lnTo>
                  <a:pt x="1913358" y="1366815"/>
                </a:lnTo>
                <a:lnTo>
                  <a:pt x="1914148" y="1381479"/>
                </a:lnTo>
                <a:lnTo>
                  <a:pt x="1915332" y="1395746"/>
                </a:lnTo>
                <a:lnTo>
                  <a:pt x="1917700" y="1409617"/>
                </a:lnTo>
                <a:lnTo>
                  <a:pt x="1910200" y="1412391"/>
                </a:lnTo>
                <a:lnTo>
                  <a:pt x="1903095" y="1414769"/>
                </a:lnTo>
                <a:lnTo>
                  <a:pt x="1896385" y="1418732"/>
                </a:lnTo>
                <a:lnTo>
                  <a:pt x="1890069" y="1422299"/>
                </a:lnTo>
                <a:lnTo>
                  <a:pt x="1883753" y="1427055"/>
                </a:lnTo>
                <a:lnTo>
                  <a:pt x="1877833" y="1431810"/>
                </a:lnTo>
                <a:lnTo>
                  <a:pt x="1872306" y="1437359"/>
                </a:lnTo>
                <a:lnTo>
                  <a:pt x="1867570" y="1442907"/>
                </a:lnTo>
                <a:lnTo>
                  <a:pt x="1863228" y="1448852"/>
                </a:lnTo>
                <a:lnTo>
                  <a:pt x="1859280" y="1455589"/>
                </a:lnTo>
                <a:lnTo>
                  <a:pt x="1856122" y="1462326"/>
                </a:lnTo>
                <a:lnTo>
                  <a:pt x="1852965" y="1469460"/>
                </a:lnTo>
                <a:lnTo>
                  <a:pt x="1850596" y="1476990"/>
                </a:lnTo>
                <a:lnTo>
                  <a:pt x="1849017" y="1484916"/>
                </a:lnTo>
                <a:lnTo>
                  <a:pt x="1847833" y="1492842"/>
                </a:lnTo>
                <a:lnTo>
                  <a:pt x="1847438" y="1500768"/>
                </a:lnTo>
                <a:lnTo>
                  <a:pt x="1847438" y="1628776"/>
                </a:lnTo>
                <a:lnTo>
                  <a:pt x="1837570" y="1628776"/>
                </a:lnTo>
                <a:lnTo>
                  <a:pt x="1837570" y="1500768"/>
                </a:lnTo>
                <a:lnTo>
                  <a:pt x="1837175" y="1492842"/>
                </a:lnTo>
                <a:lnTo>
                  <a:pt x="1836386" y="1485312"/>
                </a:lnTo>
                <a:lnTo>
                  <a:pt x="1834412" y="1478178"/>
                </a:lnTo>
                <a:lnTo>
                  <a:pt x="1832439" y="1470252"/>
                </a:lnTo>
                <a:lnTo>
                  <a:pt x="1830070" y="1463515"/>
                </a:lnTo>
                <a:lnTo>
                  <a:pt x="1826518" y="1456778"/>
                </a:lnTo>
                <a:lnTo>
                  <a:pt x="1822965" y="1450833"/>
                </a:lnTo>
                <a:lnTo>
                  <a:pt x="1818623" y="1444888"/>
                </a:lnTo>
                <a:lnTo>
                  <a:pt x="1813886" y="1438944"/>
                </a:lnTo>
                <a:lnTo>
                  <a:pt x="1809150" y="1433792"/>
                </a:lnTo>
                <a:lnTo>
                  <a:pt x="1803623" y="1428640"/>
                </a:lnTo>
                <a:lnTo>
                  <a:pt x="1798097" y="1424280"/>
                </a:lnTo>
                <a:lnTo>
                  <a:pt x="1791781" y="1420317"/>
                </a:lnTo>
                <a:lnTo>
                  <a:pt x="1785466" y="1416354"/>
                </a:lnTo>
                <a:lnTo>
                  <a:pt x="1778755" y="1413580"/>
                </a:lnTo>
                <a:lnTo>
                  <a:pt x="1771650" y="1411202"/>
                </a:lnTo>
                <a:lnTo>
                  <a:pt x="1774808" y="1406446"/>
                </a:lnTo>
                <a:lnTo>
                  <a:pt x="1777571" y="1401294"/>
                </a:lnTo>
                <a:lnTo>
                  <a:pt x="1779940" y="1394953"/>
                </a:lnTo>
                <a:lnTo>
                  <a:pt x="1782308" y="1388216"/>
                </a:lnTo>
                <a:lnTo>
                  <a:pt x="1784282" y="1380290"/>
                </a:lnTo>
                <a:lnTo>
                  <a:pt x="1785466" y="1371571"/>
                </a:lnTo>
                <a:lnTo>
                  <a:pt x="1786650" y="1361663"/>
                </a:lnTo>
                <a:lnTo>
                  <a:pt x="1787045" y="1350963"/>
                </a:lnTo>
                <a:close/>
                <a:moveTo>
                  <a:pt x="1316831" y="1350963"/>
                </a:moveTo>
                <a:lnTo>
                  <a:pt x="1412875" y="1350963"/>
                </a:lnTo>
                <a:lnTo>
                  <a:pt x="1413272" y="1360950"/>
                </a:lnTo>
                <a:lnTo>
                  <a:pt x="1414066" y="1370138"/>
                </a:lnTo>
                <a:lnTo>
                  <a:pt x="1415653" y="1378527"/>
                </a:lnTo>
                <a:lnTo>
                  <a:pt x="1416844" y="1386116"/>
                </a:lnTo>
                <a:lnTo>
                  <a:pt x="1418828" y="1392907"/>
                </a:lnTo>
                <a:lnTo>
                  <a:pt x="1420813" y="1398900"/>
                </a:lnTo>
                <a:lnTo>
                  <a:pt x="1423194" y="1404492"/>
                </a:lnTo>
                <a:lnTo>
                  <a:pt x="1425575" y="1408886"/>
                </a:lnTo>
                <a:lnTo>
                  <a:pt x="1419622" y="1410884"/>
                </a:lnTo>
                <a:lnTo>
                  <a:pt x="1413272" y="1412881"/>
                </a:lnTo>
                <a:lnTo>
                  <a:pt x="1407716" y="1414878"/>
                </a:lnTo>
                <a:lnTo>
                  <a:pt x="1402556" y="1418074"/>
                </a:lnTo>
                <a:lnTo>
                  <a:pt x="1397000" y="1420870"/>
                </a:lnTo>
                <a:lnTo>
                  <a:pt x="1391841" y="1424466"/>
                </a:lnTo>
                <a:lnTo>
                  <a:pt x="1386681" y="1427661"/>
                </a:lnTo>
                <a:lnTo>
                  <a:pt x="1382316" y="1432056"/>
                </a:lnTo>
                <a:lnTo>
                  <a:pt x="1377950" y="1436050"/>
                </a:lnTo>
                <a:lnTo>
                  <a:pt x="1374378" y="1440844"/>
                </a:lnTo>
                <a:lnTo>
                  <a:pt x="1370410" y="1445638"/>
                </a:lnTo>
                <a:lnTo>
                  <a:pt x="1366441" y="1450431"/>
                </a:lnTo>
                <a:lnTo>
                  <a:pt x="1363663" y="1456024"/>
                </a:lnTo>
                <a:lnTo>
                  <a:pt x="1360885" y="1461616"/>
                </a:lnTo>
                <a:lnTo>
                  <a:pt x="1358106" y="1467209"/>
                </a:lnTo>
                <a:lnTo>
                  <a:pt x="1356519" y="1473201"/>
                </a:lnTo>
                <a:lnTo>
                  <a:pt x="1352947" y="1464413"/>
                </a:lnTo>
                <a:lnTo>
                  <a:pt x="1348978" y="1456423"/>
                </a:lnTo>
                <a:lnTo>
                  <a:pt x="1344216" y="1448833"/>
                </a:lnTo>
                <a:lnTo>
                  <a:pt x="1339056" y="1441643"/>
                </a:lnTo>
                <a:lnTo>
                  <a:pt x="1332706" y="1434852"/>
                </a:lnTo>
                <a:lnTo>
                  <a:pt x="1325960" y="1428860"/>
                </a:lnTo>
                <a:lnTo>
                  <a:pt x="1318816" y="1423267"/>
                </a:lnTo>
                <a:lnTo>
                  <a:pt x="1311275" y="1418873"/>
                </a:lnTo>
                <a:lnTo>
                  <a:pt x="1314053" y="1401696"/>
                </a:lnTo>
                <a:lnTo>
                  <a:pt x="1316038" y="1384918"/>
                </a:lnTo>
                <a:lnTo>
                  <a:pt x="1316435" y="1376130"/>
                </a:lnTo>
                <a:lnTo>
                  <a:pt x="1316831" y="1367741"/>
                </a:lnTo>
                <a:lnTo>
                  <a:pt x="1317228" y="1359352"/>
                </a:lnTo>
                <a:lnTo>
                  <a:pt x="1316831" y="1350963"/>
                </a:lnTo>
                <a:close/>
                <a:moveTo>
                  <a:pt x="692943" y="1350963"/>
                </a:moveTo>
                <a:lnTo>
                  <a:pt x="941785" y="1350963"/>
                </a:lnTo>
                <a:lnTo>
                  <a:pt x="941785" y="1366815"/>
                </a:lnTo>
                <a:lnTo>
                  <a:pt x="942578" y="1381479"/>
                </a:lnTo>
                <a:lnTo>
                  <a:pt x="944166" y="1395746"/>
                </a:lnTo>
                <a:lnTo>
                  <a:pt x="946150" y="1409617"/>
                </a:lnTo>
                <a:lnTo>
                  <a:pt x="938610" y="1412391"/>
                </a:lnTo>
                <a:lnTo>
                  <a:pt x="931466" y="1414769"/>
                </a:lnTo>
                <a:lnTo>
                  <a:pt x="924719" y="1418732"/>
                </a:lnTo>
                <a:lnTo>
                  <a:pt x="917972" y="1422299"/>
                </a:lnTo>
                <a:lnTo>
                  <a:pt x="912019" y="1427055"/>
                </a:lnTo>
                <a:lnTo>
                  <a:pt x="906066" y="1431810"/>
                </a:lnTo>
                <a:lnTo>
                  <a:pt x="900906" y="1437359"/>
                </a:lnTo>
                <a:lnTo>
                  <a:pt x="896144" y="1442907"/>
                </a:lnTo>
                <a:lnTo>
                  <a:pt x="891381" y="1448852"/>
                </a:lnTo>
                <a:lnTo>
                  <a:pt x="887809" y="1455589"/>
                </a:lnTo>
                <a:lnTo>
                  <a:pt x="883841" y="1462326"/>
                </a:lnTo>
                <a:lnTo>
                  <a:pt x="881459" y="1469460"/>
                </a:lnTo>
                <a:lnTo>
                  <a:pt x="878681" y="1476990"/>
                </a:lnTo>
                <a:lnTo>
                  <a:pt x="877094" y="1484916"/>
                </a:lnTo>
                <a:lnTo>
                  <a:pt x="876300" y="1492842"/>
                </a:lnTo>
                <a:lnTo>
                  <a:pt x="875903" y="1500768"/>
                </a:lnTo>
                <a:lnTo>
                  <a:pt x="875903" y="1628776"/>
                </a:lnTo>
                <a:lnTo>
                  <a:pt x="692943" y="1628776"/>
                </a:lnTo>
                <a:lnTo>
                  <a:pt x="686990" y="1628776"/>
                </a:lnTo>
                <a:lnTo>
                  <a:pt x="681434" y="1627983"/>
                </a:lnTo>
                <a:lnTo>
                  <a:pt x="675878" y="1626002"/>
                </a:lnTo>
                <a:lnTo>
                  <a:pt x="671115" y="1624417"/>
                </a:lnTo>
                <a:lnTo>
                  <a:pt x="665956" y="1622039"/>
                </a:lnTo>
                <a:lnTo>
                  <a:pt x="661193" y="1618868"/>
                </a:lnTo>
                <a:lnTo>
                  <a:pt x="657224" y="1616094"/>
                </a:lnTo>
                <a:lnTo>
                  <a:pt x="652859" y="1612131"/>
                </a:lnTo>
                <a:lnTo>
                  <a:pt x="648890" y="1608168"/>
                </a:lnTo>
                <a:lnTo>
                  <a:pt x="646112" y="1603809"/>
                </a:lnTo>
                <a:lnTo>
                  <a:pt x="643334" y="1599053"/>
                </a:lnTo>
                <a:lnTo>
                  <a:pt x="640556" y="1594297"/>
                </a:lnTo>
                <a:lnTo>
                  <a:pt x="638968" y="1589145"/>
                </a:lnTo>
                <a:lnTo>
                  <a:pt x="637381" y="1583597"/>
                </a:lnTo>
                <a:lnTo>
                  <a:pt x="636587" y="1578048"/>
                </a:lnTo>
                <a:lnTo>
                  <a:pt x="636587" y="1572104"/>
                </a:lnTo>
                <a:lnTo>
                  <a:pt x="636587" y="1407635"/>
                </a:lnTo>
                <a:lnTo>
                  <a:pt x="636587" y="1401691"/>
                </a:lnTo>
                <a:lnTo>
                  <a:pt x="637381" y="1396142"/>
                </a:lnTo>
                <a:lnTo>
                  <a:pt x="638968" y="1390990"/>
                </a:lnTo>
                <a:lnTo>
                  <a:pt x="640556" y="1385442"/>
                </a:lnTo>
                <a:lnTo>
                  <a:pt x="643334" y="1380686"/>
                </a:lnTo>
                <a:lnTo>
                  <a:pt x="646112" y="1375534"/>
                </a:lnTo>
                <a:lnTo>
                  <a:pt x="648890" y="1371571"/>
                </a:lnTo>
                <a:lnTo>
                  <a:pt x="652859" y="1367608"/>
                </a:lnTo>
                <a:lnTo>
                  <a:pt x="657224" y="1364041"/>
                </a:lnTo>
                <a:lnTo>
                  <a:pt x="661193" y="1360474"/>
                </a:lnTo>
                <a:lnTo>
                  <a:pt x="665956" y="1357700"/>
                </a:lnTo>
                <a:lnTo>
                  <a:pt x="671115" y="1355322"/>
                </a:lnTo>
                <a:lnTo>
                  <a:pt x="675878" y="1353341"/>
                </a:lnTo>
                <a:lnTo>
                  <a:pt x="681434" y="1352152"/>
                </a:lnTo>
                <a:lnTo>
                  <a:pt x="686990" y="1351359"/>
                </a:lnTo>
                <a:lnTo>
                  <a:pt x="692943" y="1350963"/>
                </a:lnTo>
                <a:close/>
                <a:moveTo>
                  <a:pt x="2082006" y="1166813"/>
                </a:moveTo>
                <a:lnTo>
                  <a:pt x="2083990" y="1169978"/>
                </a:lnTo>
                <a:lnTo>
                  <a:pt x="2086768" y="1172747"/>
                </a:lnTo>
                <a:lnTo>
                  <a:pt x="2089547" y="1175120"/>
                </a:lnTo>
                <a:lnTo>
                  <a:pt x="2093515" y="1176702"/>
                </a:lnTo>
                <a:lnTo>
                  <a:pt x="2096293" y="1177494"/>
                </a:lnTo>
                <a:lnTo>
                  <a:pt x="2100262" y="1177494"/>
                </a:lnTo>
                <a:lnTo>
                  <a:pt x="2107803" y="1177098"/>
                </a:lnTo>
                <a:lnTo>
                  <a:pt x="2116137" y="1176702"/>
                </a:lnTo>
                <a:lnTo>
                  <a:pt x="2125662" y="1177098"/>
                </a:lnTo>
                <a:lnTo>
                  <a:pt x="2135584" y="1177889"/>
                </a:lnTo>
                <a:lnTo>
                  <a:pt x="2144315" y="1179076"/>
                </a:lnTo>
                <a:lnTo>
                  <a:pt x="2152650" y="1180658"/>
                </a:lnTo>
                <a:lnTo>
                  <a:pt x="2161381" y="1183427"/>
                </a:lnTo>
                <a:lnTo>
                  <a:pt x="2169318" y="1186196"/>
                </a:lnTo>
                <a:lnTo>
                  <a:pt x="2176462" y="1189756"/>
                </a:lnTo>
                <a:lnTo>
                  <a:pt x="2183606" y="1193317"/>
                </a:lnTo>
                <a:lnTo>
                  <a:pt x="2190353" y="1197668"/>
                </a:lnTo>
                <a:lnTo>
                  <a:pt x="2196703" y="1202810"/>
                </a:lnTo>
                <a:lnTo>
                  <a:pt x="2202656" y="1208348"/>
                </a:lnTo>
                <a:lnTo>
                  <a:pt x="2207815" y="1213886"/>
                </a:lnTo>
                <a:lnTo>
                  <a:pt x="2212975" y="1220611"/>
                </a:lnTo>
                <a:lnTo>
                  <a:pt x="2217737" y="1227731"/>
                </a:lnTo>
                <a:lnTo>
                  <a:pt x="2222500" y="1234852"/>
                </a:lnTo>
                <a:lnTo>
                  <a:pt x="2226072" y="1243554"/>
                </a:lnTo>
                <a:lnTo>
                  <a:pt x="2231628" y="1256213"/>
                </a:lnTo>
                <a:lnTo>
                  <a:pt x="2236787" y="1268476"/>
                </a:lnTo>
                <a:lnTo>
                  <a:pt x="2240756" y="1280343"/>
                </a:lnTo>
                <a:lnTo>
                  <a:pt x="2244725" y="1291814"/>
                </a:lnTo>
                <a:lnTo>
                  <a:pt x="2247503" y="1302890"/>
                </a:lnTo>
                <a:lnTo>
                  <a:pt x="2250281" y="1313175"/>
                </a:lnTo>
                <a:lnTo>
                  <a:pt x="2252265" y="1323460"/>
                </a:lnTo>
                <a:lnTo>
                  <a:pt x="2253853" y="1333350"/>
                </a:lnTo>
                <a:lnTo>
                  <a:pt x="2254647" y="1342843"/>
                </a:lnTo>
                <a:lnTo>
                  <a:pt x="2255043" y="1352337"/>
                </a:lnTo>
                <a:lnTo>
                  <a:pt x="2255837" y="1361831"/>
                </a:lnTo>
                <a:lnTo>
                  <a:pt x="2255043" y="1371325"/>
                </a:lnTo>
                <a:lnTo>
                  <a:pt x="2254647" y="1380027"/>
                </a:lnTo>
                <a:lnTo>
                  <a:pt x="2253853" y="1389126"/>
                </a:lnTo>
                <a:lnTo>
                  <a:pt x="2252662" y="1398619"/>
                </a:lnTo>
                <a:lnTo>
                  <a:pt x="2251075" y="1408113"/>
                </a:lnTo>
                <a:lnTo>
                  <a:pt x="2245122" y="1407322"/>
                </a:lnTo>
                <a:lnTo>
                  <a:pt x="2239168" y="1406926"/>
                </a:lnTo>
                <a:lnTo>
                  <a:pt x="2220118" y="1406926"/>
                </a:lnTo>
                <a:lnTo>
                  <a:pt x="2219722" y="1396246"/>
                </a:lnTo>
                <a:lnTo>
                  <a:pt x="2219325" y="1385961"/>
                </a:lnTo>
                <a:lnTo>
                  <a:pt x="2218928" y="1382401"/>
                </a:lnTo>
                <a:lnTo>
                  <a:pt x="2218134" y="1379632"/>
                </a:lnTo>
                <a:lnTo>
                  <a:pt x="2216547" y="1377258"/>
                </a:lnTo>
                <a:lnTo>
                  <a:pt x="2214165" y="1374489"/>
                </a:lnTo>
                <a:lnTo>
                  <a:pt x="2212181" y="1372907"/>
                </a:lnTo>
                <a:lnTo>
                  <a:pt x="2209403" y="1371325"/>
                </a:lnTo>
                <a:lnTo>
                  <a:pt x="2206228" y="1370534"/>
                </a:lnTo>
                <a:lnTo>
                  <a:pt x="2203053" y="1369742"/>
                </a:lnTo>
                <a:lnTo>
                  <a:pt x="2199878" y="1369742"/>
                </a:lnTo>
                <a:lnTo>
                  <a:pt x="2196703" y="1370929"/>
                </a:lnTo>
                <a:lnTo>
                  <a:pt x="2193925" y="1372116"/>
                </a:lnTo>
                <a:lnTo>
                  <a:pt x="2191543" y="1373698"/>
                </a:lnTo>
                <a:lnTo>
                  <a:pt x="2189559" y="1376072"/>
                </a:lnTo>
                <a:lnTo>
                  <a:pt x="2187178" y="1378841"/>
                </a:lnTo>
                <a:lnTo>
                  <a:pt x="2185987" y="1381214"/>
                </a:lnTo>
                <a:lnTo>
                  <a:pt x="2185590" y="1384774"/>
                </a:lnTo>
                <a:lnTo>
                  <a:pt x="2184003" y="1395455"/>
                </a:lnTo>
                <a:lnTo>
                  <a:pt x="2182018" y="1406926"/>
                </a:lnTo>
                <a:lnTo>
                  <a:pt x="2013743" y="1406926"/>
                </a:lnTo>
                <a:lnTo>
                  <a:pt x="2010965" y="1399015"/>
                </a:lnTo>
                <a:lnTo>
                  <a:pt x="2009775" y="1395850"/>
                </a:lnTo>
                <a:lnTo>
                  <a:pt x="2008584" y="1393477"/>
                </a:lnTo>
                <a:lnTo>
                  <a:pt x="2006600" y="1391499"/>
                </a:lnTo>
                <a:lnTo>
                  <a:pt x="2003822" y="1389126"/>
                </a:lnTo>
                <a:lnTo>
                  <a:pt x="2001440" y="1387939"/>
                </a:lnTo>
                <a:lnTo>
                  <a:pt x="1998662" y="1387148"/>
                </a:lnTo>
                <a:lnTo>
                  <a:pt x="1995090" y="1386752"/>
                </a:lnTo>
                <a:lnTo>
                  <a:pt x="1992312" y="1386752"/>
                </a:lnTo>
                <a:lnTo>
                  <a:pt x="1988740" y="1387543"/>
                </a:lnTo>
                <a:lnTo>
                  <a:pt x="1986359" y="1388730"/>
                </a:lnTo>
                <a:lnTo>
                  <a:pt x="1983581" y="1390708"/>
                </a:lnTo>
                <a:lnTo>
                  <a:pt x="1981597" y="1393081"/>
                </a:lnTo>
                <a:lnTo>
                  <a:pt x="1980009" y="1395455"/>
                </a:lnTo>
                <a:lnTo>
                  <a:pt x="1978818" y="1398224"/>
                </a:lnTo>
                <a:lnTo>
                  <a:pt x="1978025" y="1400993"/>
                </a:lnTo>
                <a:lnTo>
                  <a:pt x="1978025" y="1404553"/>
                </a:lnTo>
                <a:lnTo>
                  <a:pt x="1978025" y="1406926"/>
                </a:lnTo>
                <a:lnTo>
                  <a:pt x="1952625" y="1406926"/>
                </a:lnTo>
                <a:lnTo>
                  <a:pt x="1949847" y="1390708"/>
                </a:lnTo>
                <a:lnTo>
                  <a:pt x="1949053" y="1382005"/>
                </a:lnTo>
                <a:lnTo>
                  <a:pt x="1948259" y="1373698"/>
                </a:lnTo>
                <a:lnTo>
                  <a:pt x="1947862" y="1364996"/>
                </a:lnTo>
                <a:lnTo>
                  <a:pt x="1947862" y="1355897"/>
                </a:lnTo>
                <a:lnTo>
                  <a:pt x="1948259" y="1346404"/>
                </a:lnTo>
                <a:lnTo>
                  <a:pt x="1949053" y="1337305"/>
                </a:lnTo>
                <a:lnTo>
                  <a:pt x="1950243" y="1327020"/>
                </a:lnTo>
                <a:lnTo>
                  <a:pt x="1952228" y="1316736"/>
                </a:lnTo>
                <a:lnTo>
                  <a:pt x="1954609" y="1305659"/>
                </a:lnTo>
                <a:lnTo>
                  <a:pt x="1958181" y="1294188"/>
                </a:lnTo>
                <a:lnTo>
                  <a:pt x="1961356" y="1282716"/>
                </a:lnTo>
                <a:lnTo>
                  <a:pt x="1966118" y="1270453"/>
                </a:lnTo>
                <a:lnTo>
                  <a:pt x="1971675" y="1257399"/>
                </a:lnTo>
                <a:lnTo>
                  <a:pt x="1977231" y="1243554"/>
                </a:lnTo>
                <a:lnTo>
                  <a:pt x="1980803" y="1237225"/>
                </a:lnTo>
                <a:lnTo>
                  <a:pt x="1984772" y="1230896"/>
                </a:lnTo>
                <a:lnTo>
                  <a:pt x="1988740" y="1224567"/>
                </a:lnTo>
                <a:lnTo>
                  <a:pt x="1993106" y="1218238"/>
                </a:lnTo>
                <a:lnTo>
                  <a:pt x="1994693" y="1215864"/>
                </a:lnTo>
                <a:lnTo>
                  <a:pt x="1996281" y="1213491"/>
                </a:lnTo>
                <a:lnTo>
                  <a:pt x="2001440" y="1208744"/>
                </a:lnTo>
                <a:lnTo>
                  <a:pt x="2006600" y="1203601"/>
                </a:lnTo>
                <a:lnTo>
                  <a:pt x="2011362" y="1198855"/>
                </a:lnTo>
                <a:lnTo>
                  <a:pt x="2016522" y="1194899"/>
                </a:lnTo>
                <a:lnTo>
                  <a:pt x="2022078" y="1190943"/>
                </a:lnTo>
                <a:lnTo>
                  <a:pt x="2027634" y="1186987"/>
                </a:lnTo>
                <a:lnTo>
                  <a:pt x="2033190" y="1184218"/>
                </a:lnTo>
                <a:lnTo>
                  <a:pt x="2038350" y="1181449"/>
                </a:lnTo>
                <a:lnTo>
                  <a:pt x="2043906" y="1178285"/>
                </a:lnTo>
                <a:lnTo>
                  <a:pt x="2049859" y="1176307"/>
                </a:lnTo>
                <a:lnTo>
                  <a:pt x="2060972" y="1171956"/>
                </a:lnTo>
                <a:lnTo>
                  <a:pt x="2071290" y="1169187"/>
                </a:lnTo>
                <a:lnTo>
                  <a:pt x="2082006" y="1166813"/>
                </a:lnTo>
                <a:close/>
                <a:moveTo>
                  <a:pt x="1110232" y="1166813"/>
                </a:moveTo>
                <a:lnTo>
                  <a:pt x="1112219" y="1169978"/>
                </a:lnTo>
                <a:lnTo>
                  <a:pt x="1115000" y="1172747"/>
                </a:lnTo>
                <a:lnTo>
                  <a:pt x="1118179" y="1175120"/>
                </a:lnTo>
                <a:lnTo>
                  <a:pt x="1121359" y="1176702"/>
                </a:lnTo>
                <a:lnTo>
                  <a:pt x="1124935" y="1177494"/>
                </a:lnTo>
                <a:lnTo>
                  <a:pt x="1128114" y="1177494"/>
                </a:lnTo>
                <a:lnTo>
                  <a:pt x="1136062" y="1177098"/>
                </a:lnTo>
                <a:lnTo>
                  <a:pt x="1144407" y="1176702"/>
                </a:lnTo>
                <a:lnTo>
                  <a:pt x="1154342" y="1177098"/>
                </a:lnTo>
                <a:lnTo>
                  <a:pt x="1163879" y="1177889"/>
                </a:lnTo>
                <a:lnTo>
                  <a:pt x="1173019" y="1179076"/>
                </a:lnTo>
                <a:lnTo>
                  <a:pt x="1181364" y="1180658"/>
                </a:lnTo>
                <a:lnTo>
                  <a:pt x="1189709" y="1183427"/>
                </a:lnTo>
                <a:lnTo>
                  <a:pt x="1197259" y="1186196"/>
                </a:lnTo>
                <a:lnTo>
                  <a:pt x="1204810" y="1189756"/>
                </a:lnTo>
                <a:lnTo>
                  <a:pt x="1211963" y="1193317"/>
                </a:lnTo>
                <a:lnTo>
                  <a:pt x="1218718" y="1197668"/>
                </a:lnTo>
                <a:lnTo>
                  <a:pt x="1225077" y="1202810"/>
                </a:lnTo>
                <a:lnTo>
                  <a:pt x="1231037" y="1208348"/>
                </a:lnTo>
                <a:lnTo>
                  <a:pt x="1236601" y="1213886"/>
                </a:lnTo>
                <a:lnTo>
                  <a:pt x="1241767" y="1220611"/>
                </a:lnTo>
                <a:lnTo>
                  <a:pt x="1246138" y="1227731"/>
                </a:lnTo>
                <a:lnTo>
                  <a:pt x="1250907" y="1234852"/>
                </a:lnTo>
                <a:lnTo>
                  <a:pt x="1254881" y="1243554"/>
                </a:lnTo>
                <a:lnTo>
                  <a:pt x="1260444" y="1256213"/>
                </a:lnTo>
                <a:lnTo>
                  <a:pt x="1265213" y="1268476"/>
                </a:lnTo>
                <a:lnTo>
                  <a:pt x="1269584" y="1280343"/>
                </a:lnTo>
                <a:lnTo>
                  <a:pt x="1273160" y="1291814"/>
                </a:lnTo>
                <a:lnTo>
                  <a:pt x="1276339" y="1302890"/>
                </a:lnTo>
                <a:lnTo>
                  <a:pt x="1278724" y="1313175"/>
                </a:lnTo>
                <a:lnTo>
                  <a:pt x="1281108" y="1323460"/>
                </a:lnTo>
                <a:lnTo>
                  <a:pt x="1282300" y="1333350"/>
                </a:lnTo>
                <a:lnTo>
                  <a:pt x="1283492" y="1342843"/>
                </a:lnTo>
                <a:lnTo>
                  <a:pt x="1283890" y="1352337"/>
                </a:lnTo>
                <a:lnTo>
                  <a:pt x="1284287" y="1361831"/>
                </a:lnTo>
                <a:lnTo>
                  <a:pt x="1283890" y="1371325"/>
                </a:lnTo>
                <a:lnTo>
                  <a:pt x="1283492" y="1380027"/>
                </a:lnTo>
                <a:lnTo>
                  <a:pt x="1282300" y="1389126"/>
                </a:lnTo>
                <a:lnTo>
                  <a:pt x="1281506" y="1398619"/>
                </a:lnTo>
                <a:lnTo>
                  <a:pt x="1279519" y="1408113"/>
                </a:lnTo>
                <a:lnTo>
                  <a:pt x="1273558" y="1407322"/>
                </a:lnTo>
                <a:lnTo>
                  <a:pt x="1267994" y="1406926"/>
                </a:lnTo>
                <a:lnTo>
                  <a:pt x="1248920" y="1406926"/>
                </a:lnTo>
                <a:lnTo>
                  <a:pt x="1248125" y="1385961"/>
                </a:lnTo>
                <a:lnTo>
                  <a:pt x="1247728" y="1382401"/>
                </a:lnTo>
                <a:lnTo>
                  <a:pt x="1246138" y="1379632"/>
                </a:lnTo>
                <a:lnTo>
                  <a:pt x="1244946" y="1377258"/>
                </a:lnTo>
                <a:lnTo>
                  <a:pt x="1242959" y="1374489"/>
                </a:lnTo>
                <a:lnTo>
                  <a:pt x="1240575" y="1372907"/>
                </a:lnTo>
                <a:lnTo>
                  <a:pt x="1237793" y="1371325"/>
                </a:lnTo>
                <a:lnTo>
                  <a:pt x="1235011" y="1370534"/>
                </a:lnTo>
                <a:lnTo>
                  <a:pt x="1231435" y="1369742"/>
                </a:lnTo>
                <a:lnTo>
                  <a:pt x="1228653" y="1369742"/>
                </a:lnTo>
                <a:lnTo>
                  <a:pt x="1225077" y="1370929"/>
                </a:lnTo>
                <a:lnTo>
                  <a:pt x="1222692" y="1372116"/>
                </a:lnTo>
                <a:lnTo>
                  <a:pt x="1220308" y="1373698"/>
                </a:lnTo>
                <a:lnTo>
                  <a:pt x="1217526" y="1376072"/>
                </a:lnTo>
                <a:lnTo>
                  <a:pt x="1215937" y="1378841"/>
                </a:lnTo>
                <a:lnTo>
                  <a:pt x="1214745" y="1381214"/>
                </a:lnTo>
                <a:lnTo>
                  <a:pt x="1214347" y="1384774"/>
                </a:lnTo>
                <a:lnTo>
                  <a:pt x="1211963" y="1395455"/>
                </a:lnTo>
                <a:lnTo>
                  <a:pt x="1209976" y="1406926"/>
                </a:lnTo>
                <a:lnTo>
                  <a:pt x="1041881" y="1406926"/>
                </a:lnTo>
                <a:lnTo>
                  <a:pt x="1039497" y="1399015"/>
                </a:lnTo>
                <a:lnTo>
                  <a:pt x="1038305" y="1395850"/>
                </a:lnTo>
                <a:lnTo>
                  <a:pt x="1036715" y="1393477"/>
                </a:lnTo>
                <a:lnTo>
                  <a:pt x="1034728" y="1391499"/>
                </a:lnTo>
                <a:lnTo>
                  <a:pt x="1032344" y="1389126"/>
                </a:lnTo>
                <a:lnTo>
                  <a:pt x="1029960" y="1387939"/>
                </a:lnTo>
                <a:lnTo>
                  <a:pt x="1026780" y="1387148"/>
                </a:lnTo>
                <a:lnTo>
                  <a:pt x="1023601" y="1386752"/>
                </a:lnTo>
                <a:lnTo>
                  <a:pt x="1020422" y="1386752"/>
                </a:lnTo>
                <a:lnTo>
                  <a:pt x="1017243" y="1387543"/>
                </a:lnTo>
                <a:lnTo>
                  <a:pt x="1014461" y="1388730"/>
                </a:lnTo>
                <a:lnTo>
                  <a:pt x="1012077" y="1390708"/>
                </a:lnTo>
                <a:lnTo>
                  <a:pt x="1010090" y="1393081"/>
                </a:lnTo>
                <a:lnTo>
                  <a:pt x="1008103" y="1395455"/>
                </a:lnTo>
                <a:lnTo>
                  <a:pt x="1006911" y="1398224"/>
                </a:lnTo>
                <a:lnTo>
                  <a:pt x="1006116" y="1400993"/>
                </a:lnTo>
                <a:lnTo>
                  <a:pt x="1006116" y="1404553"/>
                </a:lnTo>
                <a:lnTo>
                  <a:pt x="1006116" y="1406926"/>
                </a:lnTo>
                <a:lnTo>
                  <a:pt x="980684" y="1406926"/>
                </a:lnTo>
                <a:lnTo>
                  <a:pt x="978299" y="1390708"/>
                </a:lnTo>
                <a:lnTo>
                  <a:pt x="977107" y="1382005"/>
                </a:lnTo>
                <a:lnTo>
                  <a:pt x="976710" y="1373698"/>
                </a:lnTo>
                <a:lnTo>
                  <a:pt x="976312" y="1364996"/>
                </a:lnTo>
                <a:lnTo>
                  <a:pt x="976312" y="1355897"/>
                </a:lnTo>
                <a:lnTo>
                  <a:pt x="976710" y="1346404"/>
                </a:lnTo>
                <a:lnTo>
                  <a:pt x="977504" y="1337305"/>
                </a:lnTo>
                <a:lnTo>
                  <a:pt x="978697" y="1327020"/>
                </a:lnTo>
                <a:lnTo>
                  <a:pt x="980286" y="1316736"/>
                </a:lnTo>
                <a:lnTo>
                  <a:pt x="983068" y="1305659"/>
                </a:lnTo>
                <a:lnTo>
                  <a:pt x="985850" y="1294188"/>
                </a:lnTo>
                <a:lnTo>
                  <a:pt x="989823" y="1282716"/>
                </a:lnTo>
                <a:lnTo>
                  <a:pt x="994195" y="1270453"/>
                </a:lnTo>
                <a:lnTo>
                  <a:pt x="999758" y="1257399"/>
                </a:lnTo>
                <a:lnTo>
                  <a:pt x="1005719" y="1243554"/>
                </a:lnTo>
                <a:lnTo>
                  <a:pt x="1008898" y="1237225"/>
                </a:lnTo>
                <a:lnTo>
                  <a:pt x="1012872" y="1230500"/>
                </a:lnTo>
                <a:lnTo>
                  <a:pt x="1016846" y="1224567"/>
                </a:lnTo>
                <a:lnTo>
                  <a:pt x="1021217" y="1218238"/>
                </a:lnTo>
                <a:lnTo>
                  <a:pt x="1023204" y="1215864"/>
                </a:lnTo>
                <a:lnTo>
                  <a:pt x="1024793" y="1213491"/>
                </a:lnTo>
                <a:lnTo>
                  <a:pt x="1029960" y="1208744"/>
                </a:lnTo>
                <a:lnTo>
                  <a:pt x="1034331" y="1203601"/>
                </a:lnTo>
                <a:lnTo>
                  <a:pt x="1039894" y="1198855"/>
                </a:lnTo>
                <a:lnTo>
                  <a:pt x="1045060" y="1194899"/>
                </a:lnTo>
                <a:lnTo>
                  <a:pt x="1050624" y="1190943"/>
                </a:lnTo>
                <a:lnTo>
                  <a:pt x="1055790" y="1186987"/>
                </a:lnTo>
                <a:lnTo>
                  <a:pt x="1061353" y="1184218"/>
                </a:lnTo>
                <a:lnTo>
                  <a:pt x="1066917" y="1181449"/>
                </a:lnTo>
                <a:lnTo>
                  <a:pt x="1072480" y="1178285"/>
                </a:lnTo>
                <a:lnTo>
                  <a:pt x="1078043" y="1176307"/>
                </a:lnTo>
                <a:lnTo>
                  <a:pt x="1089170" y="1171956"/>
                </a:lnTo>
                <a:lnTo>
                  <a:pt x="1099900" y="1169187"/>
                </a:lnTo>
                <a:lnTo>
                  <a:pt x="1110232" y="1166813"/>
                </a:lnTo>
                <a:close/>
                <a:moveTo>
                  <a:pt x="1601784" y="1141413"/>
                </a:moveTo>
                <a:lnTo>
                  <a:pt x="1608513" y="1141413"/>
                </a:lnTo>
                <a:lnTo>
                  <a:pt x="1616826" y="1141413"/>
                </a:lnTo>
                <a:lnTo>
                  <a:pt x="1628701" y="1141809"/>
                </a:lnTo>
                <a:lnTo>
                  <a:pt x="1639785" y="1142996"/>
                </a:lnTo>
                <a:lnTo>
                  <a:pt x="1644139" y="1143392"/>
                </a:lnTo>
                <a:lnTo>
                  <a:pt x="1656410" y="1145766"/>
                </a:lnTo>
                <a:lnTo>
                  <a:pt x="1668285" y="1149327"/>
                </a:lnTo>
                <a:lnTo>
                  <a:pt x="1673431" y="1150910"/>
                </a:lnTo>
                <a:lnTo>
                  <a:pt x="1682140" y="1154075"/>
                </a:lnTo>
                <a:lnTo>
                  <a:pt x="1690453" y="1157241"/>
                </a:lnTo>
                <a:lnTo>
                  <a:pt x="1694807" y="1158823"/>
                </a:lnTo>
                <a:lnTo>
                  <a:pt x="1703516" y="1163572"/>
                </a:lnTo>
                <a:lnTo>
                  <a:pt x="1711828" y="1167924"/>
                </a:lnTo>
                <a:lnTo>
                  <a:pt x="1714995" y="1169903"/>
                </a:lnTo>
                <a:lnTo>
                  <a:pt x="1726079" y="1177421"/>
                </a:lnTo>
                <a:lnTo>
                  <a:pt x="1729245" y="1179399"/>
                </a:lnTo>
                <a:lnTo>
                  <a:pt x="1739142" y="1186918"/>
                </a:lnTo>
                <a:lnTo>
                  <a:pt x="1740329" y="1188105"/>
                </a:lnTo>
                <a:lnTo>
                  <a:pt x="1745475" y="1192853"/>
                </a:lnTo>
                <a:lnTo>
                  <a:pt x="1747058" y="1194436"/>
                </a:lnTo>
                <a:lnTo>
                  <a:pt x="1748642" y="1196018"/>
                </a:lnTo>
                <a:lnTo>
                  <a:pt x="1743100" y="1240732"/>
                </a:lnTo>
                <a:lnTo>
                  <a:pt x="1739142" y="1274761"/>
                </a:lnTo>
                <a:lnTo>
                  <a:pt x="1736766" y="1296128"/>
                </a:lnTo>
                <a:lnTo>
                  <a:pt x="1738746" y="1294150"/>
                </a:lnTo>
                <a:lnTo>
                  <a:pt x="1739537" y="1293358"/>
                </a:lnTo>
                <a:lnTo>
                  <a:pt x="1740725" y="1293358"/>
                </a:lnTo>
                <a:lnTo>
                  <a:pt x="1741912" y="1293754"/>
                </a:lnTo>
                <a:lnTo>
                  <a:pt x="1743100" y="1294150"/>
                </a:lnTo>
                <a:lnTo>
                  <a:pt x="1744288" y="1295733"/>
                </a:lnTo>
                <a:lnTo>
                  <a:pt x="1745079" y="1297315"/>
                </a:lnTo>
                <a:lnTo>
                  <a:pt x="1747454" y="1301668"/>
                </a:lnTo>
                <a:lnTo>
                  <a:pt x="1749038" y="1307603"/>
                </a:lnTo>
                <a:lnTo>
                  <a:pt x="1750621" y="1315121"/>
                </a:lnTo>
                <a:lnTo>
                  <a:pt x="1751809" y="1323827"/>
                </a:lnTo>
                <a:lnTo>
                  <a:pt x="1752204" y="1332928"/>
                </a:lnTo>
                <a:lnTo>
                  <a:pt x="1752600" y="1343216"/>
                </a:lnTo>
                <a:lnTo>
                  <a:pt x="1752204" y="1352712"/>
                </a:lnTo>
                <a:lnTo>
                  <a:pt x="1751809" y="1361813"/>
                </a:lnTo>
                <a:lnTo>
                  <a:pt x="1750621" y="1370518"/>
                </a:lnTo>
                <a:lnTo>
                  <a:pt x="1749038" y="1378036"/>
                </a:lnTo>
                <a:lnTo>
                  <a:pt x="1747454" y="1383972"/>
                </a:lnTo>
                <a:lnTo>
                  <a:pt x="1745079" y="1388324"/>
                </a:lnTo>
                <a:lnTo>
                  <a:pt x="1744288" y="1390303"/>
                </a:lnTo>
                <a:lnTo>
                  <a:pt x="1743100" y="1391490"/>
                </a:lnTo>
                <a:lnTo>
                  <a:pt x="1741912" y="1391886"/>
                </a:lnTo>
                <a:lnTo>
                  <a:pt x="1740725" y="1392281"/>
                </a:lnTo>
                <a:lnTo>
                  <a:pt x="1739142" y="1391886"/>
                </a:lnTo>
                <a:lnTo>
                  <a:pt x="1737954" y="1391094"/>
                </a:lnTo>
                <a:lnTo>
                  <a:pt x="1736766" y="1389511"/>
                </a:lnTo>
                <a:lnTo>
                  <a:pt x="1735975" y="1387929"/>
                </a:lnTo>
                <a:lnTo>
                  <a:pt x="1733996" y="1382785"/>
                </a:lnTo>
                <a:lnTo>
                  <a:pt x="1731620" y="1376849"/>
                </a:lnTo>
                <a:lnTo>
                  <a:pt x="1730829" y="1384367"/>
                </a:lnTo>
                <a:lnTo>
                  <a:pt x="1729641" y="1391886"/>
                </a:lnTo>
                <a:lnTo>
                  <a:pt x="1725683" y="1406526"/>
                </a:lnTo>
                <a:lnTo>
                  <a:pt x="1475905" y="1406526"/>
                </a:lnTo>
                <a:lnTo>
                  <a:pt x="1471551" y="1394260"/>
                </a:lnTo>
                <a:lnTo>
                  <a:pt x="1469968" y="1388324"/>
                </a:lnTo>
                <a:lnTo>
                  <a:pt x="1467592" y="1381993"/>
                </a:lnTo>
                <a:lnTo>
                  <a:pt x="1466009" y="1387137"/>
                </a:lnTo>
                <a:lnTo>
                  <a:pt x="1464426" y="1391490"/>
                </a:lnTo>
                <a:lnTo>
                  <a:pt x="1463238" y="1392677"/>
                </a:lnTo>
                <a:lnTo>
                  <a:pt x="1462051" y="1393864"/>
                </a:lnTo>
                <a:lnTo>
                  <a:pt x="1460863" y="1394260"/>
                </a:lnTo>
                <a:lnTo>
                  <a:pt x="1459676" y="1394655"/>
                </a:lnTo>
                <a:lnTo>
                  <a:pt x="1458884" y="1394260"/>
                </a:lnTo>
                <a:lnTo>
                  <a:pt x="1457696" y="1393468"/>
                </a:lnTo>
                <a:lnTo>
                  <a:pt x="1456509" y="1392281"/>
                </a:lnTo>
                <a:lnTo>
                  <a:pt x="1454925" y="1391094"/>
                </a:lnTo>
                <a:lnTo>
                  <a:pt x="1452946" y="1386346"/>
                </a:lnTo>
                <a:lnTo>
                  <a:pt x="1451363" y="1380015"/>
                </a:lnTo>
                <a:lnTo>
                  <a:pt x="1450175" y="1372892"/>
                </a:lnTo>
                <a:lnTo>
                  <a:pt x="1448592" y="1364583"/>
                </a:lnTo>
                <a:lnTo>
                  <a:pt x="1447800" y="1355086"/>
                </a:lnTo>
                <a:lnTo>
                  <a:pt x="1447800" y="1345194"/>
                </a:lnTo>
                <a:lnTo>
                  <a:pt x="1447800" y="1334906"/>
                </a:lnTo>
                <a:lnTo>
                  <a:pt x="1448592" y="1325805"/>
                </a:lnTo>
                <a:lnTo>
                  <a:pt x="1450175" y="1317496"/>
                </a:lnTo>
                <a:lnTo>
                  <a:pt x="1451363" y="1310373"/>
                </a:lnTo>
                <a:lnTo>
                  <a:pt x="1452946" y="1304438"/>
                </a:lnTo>
                <a:lnTo>
                  <a:pt x="1454925" y="1299689"/>
                </a:lnTo>
                <a:lnTo>
                  <a:pt x="1456509" y="1298107"/>
                </a:lnTo>
                <a:lnTo>
                  <a:pt x="1457696" y="1296920"/>
                </a:lnTo>
                <a:lnTo>
                  <a:pt x="1458884" y="1296128"/>
                </a:lnTo>
                <a:lnTo>
                  <a:pt x="1459676" y="1296128"/>
                </a:lnTo>
                <a:lnTo>
                  <a:pt x="1460467" y="1296128"/>
                </a:lnTo>
                <a:lnTo>
                  <a:pt x="1461259" y="1296524"/>
                </a:lnTo>
                <a:lnTo>
                  <a:pt x="1462051" y="1283466"/>
                </a:lnTo>
                <a:lnTo>
                  <a:pt x="1462446" y="1277531"/>
                </a:lnTo>
                <a:lnTo>
                  <a:pt x="1464030" y="1271991"/>
                </a:lnTo>
                <a:lnTo>
                  <a:pt x="1462051" y="1258142"/>
                </a:lnTo>
                <a:lnTo>
                  <a:pt x="1460071" y="1245480"/>
                </a:lnTo>
                <a:lnTo>
                  <a:pt x="1456905" y="1223717"/>
                </a:lnTo>
                <a:lnTo>
                  <a:pt x="1453738" y="1208681"/>
                </a:lnTo>
                <a:lnTo>
                  <a:pt x="1452550" y="1203537"/>
                </a:lnTo>
                <a:lnTo>
                  <a:pt x="1458488" y="1199975"/>
                </a:lnTo>
                <a:lnTo>
                  <a:pt x="1465217" y="1196018"/>
                </a:lnTo>
                <a:lnTo>
                  <a:pt x="1471551" y="1191270"/>
                </a:lnTo>
                <a:lnTo>
                  <a:pt x="1477884" y="1186522"/>
                </a:lnTo>
                <a:lnTo>
                  <a:pt x="1489760" y="1177421"/>
                </a:lnTo>
                <a:lnTo>
                  <a:pt x="1495302" y="1173464"/>
                </a:lnTo>
                <a:lnTo>
                  <a:pt x="1500843" y="1170299"/>
                </a:lnTo>
                <a:lnTo>
                  <a:pt x="1515490" y="1163176"/>
                </a:lnTo>
                <a:lnTo>
                  <a:pt x="1530136" y="1157241"/>
                </a:lnTo>
                <a:lnTo>
                  <a:pt x="1539636" y="1154075"/>
                </a:lnTo>
                <a:lnTo>
                  <a:pt x="1548741" y="1150910"/>
                </a:lnTo>
                <a:lnTo>
                  <a:pt x="1558241" y="1148536"/>
                </a:lnTo>
                <a:lnTo>
                  <a:pt x="1568533" y="1145766"/>
                </a:lnTo>
                <a:lnTo>
                  <a:pt x="1576450" y="1144183"/>
                </a:lnTo>
                <a:lnTo>
                  <a:pt x="1583971" y="1142996"/>
                </a:lnTo>
                <a:lnTo>
                  <a:pt x="1594658" y="1142204"/>
                </a:lnTo>
                <a:lnTo>
                  <a:pt x="1601784" y="1141413"/>
                </a:lnTo>
                <a:close/>
                <a:moveTo>
                  <a:pt x="1832358" y="1052513"/>
                </a:moveTo>
                <a:lnTo>
                  <a:pt x="1843104" y="1052513"/>
                </a:lnTo>
                <a:lnTo>
                  <a:pt x="1847083" y="1052911"/>
                </a:lnTo>
                <a:lnTo>
                  <a:pt x="1839522" y="1055300"/>
                </a:lnTo>
                <a:lnTo>
                  <a:pt x="1831960" y="1058882"/>
                </a:lnTo>
                <a:lnTo>
                  <a:pt x="1825194" y="1062067"/>
                </a:lnTo>
                <a:lnTo>
                  <a:pt x="1818428" y="1065650"/>
                </a:lnTo>
                <a:lnTo>
                  <a:pt x="1820418" y="1066446"/>
                </a:lnTo>
                <a:lnTo>
                  <a:pt x="1828776" y="1066048"/>
                </a:lnTo>
                <a:lnTo>
                  <a:pt x="1837532" y="1065650"/>
                </a:lnTo>
                <a:lnTo>
                  <a:pt x="1846685" y="1066048"/>
                </a:lnTo>
                <a:lnTo>
                  <a:pt x="1856237" y="1066446"/>
                </a:lnTo>
                <a:lnTo>
                  <a:pt x="1865789" y="1067640"/>
                </a:lnTo>
                <a:lnTo>
                  <a:pt x="1876137" y="1069631"/>
                </a:lnTo>
                <a:lnTo>
                  <a:pt x="1885688" y="1072417"/>
                </a:lnTo>
                <a:lnTo>
                  <a:pt x="1895638" y="1075602"/>
                </a:lnTo>
                <a:lnTo>
                  <a:pt x="1905588" y="1079981"/>
                </a:lnTo>
                <a:lnTo>
                  <a:pt x="1910761" y="1082369"/>
                </a:lnTo>
                <a:lnTo>
                  <a:pt x="1915139" y="1085156"/>
                </a:lnTo>
                <a:lnTo>
                  <a:pt x="1919915" y="1088340"/>
                </a:lnTo>
                <a:lnTo>
                  <a:pt x="1924691" y="1091525"/>
                </a:lnTo>
                <a:lnTo>
                  <a:pt x="1929069" y="1095506"/>
                </a:lnTo>
                <a:lnTo>
                  <a:pt x="1933845" y="1099487"/>
                </a:lnTo>
                <a:lnTo>
                  <a:pt x="1938223" y="1103468"/>
                </a:lnTo>
                <a:lnTo>
                  <a:pt x="1942202" y="1108245"/>
                </a:lnTo>
                <a:lnTo>
                  <a:pt x="1946580" y="1112623"/>
                </a:lnTo>
                <a:lnTo>
                  <a:pt x="1950162" y="1118197"/>
                </a:lnTo>
                <a:lnTo>
                  <a:pt x="1954142" y="1123770"/>
                </a:lnTo>
                <a:lnTo>
                  <a:pt x="1957724" y="1129741"/>
                </a:lnTo>
                <a:lnTo>
                  <a:pt x="1960908" y="1136110"/>
                </a:lnTo>
                <a:lnTo>
                  <a:pt x="1964490" y="1142878"/>
                </a:lnTo>
                <a:lnTo>
                  <a:pt x="1968868" y="1152830"/>
                </a:lnTo>
                <a:lnTo>
                  <a:pt x="1972847" y="1163180"/>
                </a:lnTo>
                <a:lnTo>
                  <a:pt x="1979613" y="1182288"/>
                </a:lnTo>
                <a:lnTo>
                  <a:pt x="1975633" y="1185871"/>
                </a:lnTo>
                <a:lnTo>
                  <a:pt x="1972051" y="1190249"/>
                </a:lnTo>
                <a:lnTo>
                  <a:pt x="1967674" y="1192638"/>
                </a:lnTo>
                <a:lnTo>
                  <a:pt x="1965684" y="1193832"/>
                </a:lnTo>
                <a:lnTo>
                  <a:pt x="1963694" y="1195823"/>
                </a:lnTo>
                <a:lnTo>
                  <a:pt x="1962102" y="1197415"/>
                </a:lnTo>
                <a:lnTo>
                  <a:pt x="1961306" y="1199007"/>
                </a:lnTo>
                <a:lnTo>
                  <a:pt x="1960112" y="1201396"/>
                </a:lnTo>
                <a:lnTo>
                  <a:pt x="1959316" y="1202988"/>
                </a:lnTo>
                <a:lnTo>
                  <a:pt x="1958918" y="1205377"/>
                </a:lnTo>
                <a:lnTo>
                  <a:pt x="1958918" y="1207367"/>
                </a:lnTo>
                <a:lnTo>
                  <a:pt x="1952152" y="1218115"/>
                </a:lnTo>
                <a:lnTo>
                  <a:pt x="1946580" y="1229262"/>
                </a:lnTo>
                <a:lnTo>
                  <a:pt x="1941008" y="1240806"/>
                </a:lnTo>
                <a:lnTo>
                  <a:pt x="1936233" y="1252350"/>
                </a:lnTo>
                <a:lnTo>
                  <a:pt x="1932253" y="1263895"/>
                </a:lnTo>
                <a:lnTo>
                  <a:pt x="1928273" y="1274245"/>
                </a:lnTo>
                <a:lnTo>
                  <a:pt x="1925089" y="1284993"/>
                </a:lnTo>
                <a:lnTo>
                  <a:pt x="1921905" y="1294945"/>
                </a:lnTo>
                <a:lnTo>
                  <a:pt x="1919915" y="1304897"/>
                </a:lnTo>
                <a:lnTo>
                  <a:pt x="1917925" y="1314451"/>
                </a:lnTo>
                <a:lnTo>
                  <a:pt x="1784997" y="1314451"/>
                </a:lnTo>
                <a:lnTo>
                  <a:pt x="1783007" y="1303305"/>
                </a:lnTo>
                <a:lnTo>
                  <a:pt x="1780222" y="1293353"/>
                </a:lnTo>
                <a:lnTo>
                  <a:pt x="1778630" y="1288974"/>
                </a:lnTo>
                <a:lnTo>
                  <a:pt x="1777038" y="1284993"/>
                </a:lnTo>
                <a:lnTo>
                  <a:pt x="1775446" y="1281410"/>
                </a:lnTo>
                <a:lnTo>
                  <a:pt x="1773058" y="1278226"/>
                </a:lnTo>
                <a:lnTo>
                  <a:pt x="1782609" y="1200202"/>
                </a:lnTo>
                <a:lnTo>
                  <a:pt x="1783007" y="1196619"/>
                </a:lnTo>
                <a:lnTo>
                  <a:pt x="1783007" y="1192638"/>
                </a:lnTo>
                <a:lnTo>
                  <a:pt x="1782211" y="1189453"/>
                </a:lnTo>
                <a:lnTo>
                  <a:pt x="1781416" y="1185472"/>
                </a:lnTo>
                <a:lnTo>
                  <a:pt x="1779824" y="1182288"/>
                </a:lnTo>
                <a:lnTo>
                  <a:pt x="1778232" y="1178705"/>
                </a:lnTo>
                <a:lnTo>
                  <a:pt x="1776242" y="1175919"/>
                </a:lnTo>
                <a:lnTo>
                  <a:pt x="1774252" y="1172734"/>
                </a:lnTo>
                <a:lnTo>
                  <a:pt x="1767884" y="1166763"/>
                </a:lnTo>
                <a:lnTo>
                  <a:pt x="1761516" y="1161588"/>
                </a:lnTo>
                <a:lnTo>
                  <a:pt x="1752362" y="1154422"/>
                </a:lnTo>
                <a:lnTo>
                  <a:pt x="1741219" y="1146460"/>
                </a:lnTo>
                <a:lnTo>
                  <a:pt x="1734851" y="1142480"/>
                </a:lnTo>
                <a:lnTo>
                  <a:pt x="1728085" y="1138101"/>
                </a:lnTo>
                <a:lnTo>
                  <a:pt x="1720921" y="1134518"/>
                </a:lnTo>
                <a:lnTo>
                  <a:pt x="1712564" y="1130139"/>
                </a:lnTo>
                <a:lnTo>
                  <a:pt x="1704206" y="1126158"/>
                </a:lnTo>
                <a:lnTo>
                  <a:pt x="1695450" y="1122576"/>
                </a:lnTo>
                <a:lnTo>
                  <a:pt x="1698236" y="1118197"/>
                </a:lnTo>
                <a:lnTo>
                  <a:pt x="1701420" y="1114216"/>
                </a:lnTo>
                <a:lnTo>
                  <a:pt x="1697440" y="1114614"/>
                </a:lnTo>
                <a:lnTo>
                  <a:pt x="1701420" y="1111827"/>
                </a:lnTo>
                <a:lnTo>
                  <a:pt x="1705002" y="1109041"/>
                </a:lnTo>
                <a:lnTo>
                  <a:pt x="1710176" y="1103069"/>
                </a:lnTo>
                <a:lnTo>
                  <a:pt x="1715748" y="1097894"/>
                </a:lnTo>
                <a:lnTo>
                  <a:pt x="1721319" y="1093117"/>
                </a:lnTo>
                <a:lnTo>
                  <a:pt x="1726891" y="1088340"/>
                </a:lnTo>
                <a:lnTo>
                  <a:pt x="1732463" y="1083962"/>
                </a:lnTo>
                <a:lnTo>
                  <a:pt x="1738035" y="1080379"/>
                </a:lnTo>
                <a:lnTo>
                  <a:pt x="1744005" y="1076398"/>
                </a:lnTo>
                <a:lnTo>
                  <a:pt x="1749975" y="1073611"/>
                </a:lnTo>
                <a:lnTo>
                  <a:pt x="1755944" y="1070427"/>
                </a:lnTo>
                <a:lnTo>
                  <a:pt x="1761914" y="1067640"/>
                </a:lnTo>
                <a:lnTo>
                  <a:pt x="1773456" y="1063261"/>
                </a:lnTo>
                <a:lnTo>
                  <a:pt x="1784997" y="1059679"/>
                </a:lnTo>
                <a:lnTo>
                  <a:pt x="1796539" y="1056892"/>
                </a:lnTo>
                <a:lnTo>
                  <a:pt x="1806489" y="1054902"/>
                </a:lnTo>
                <a:lnTo>
                  <a:pt x="1816438" y="1053707"/>
                </a:lnTo>
                <a:lnTo>
                  <a:pt x="1824796" y="1052911"/>
                </a:lnTo>
                <a:lnTo>
                  <a:pt x="1832358" y="1052513"/>
                </a:lnTo>
                <a:close/>
                <a:moveTo>
                  <a:pt x="861259" y="1052513"/>
                </a:moveTo>
                <a:lnTo>
                  <a:pt x="871603" y="1052513"/>
                </a:lnTo>
                <a:lnTo>
                  <a:pt x="875581" y="1052911"/>
                </a:lnTo>
                <a:lnTo>
                  <a:pt x="868022" y="1055295"/>
                </a:lnTo>
                <a:lnTo>
                  <a:pt x="860861" y="1058873"/>
                </a:lnTo>
                <a:lnTo>
                  <a:pt x="854098" y="1062053"/>
                </a:lnTo>
                <a:lnTo>
                  <a:pt x="847335" y="1065630"/>
                </a:lnTo>
                <a:lnTo>
                  <a:pt x="849324" y="1066425"/>
                </a:lnTo>
                <a:lnTo>
                  <a:pt x="857281" y="1066027"/>
                </a:lnTo>
                <a:lnTo>
                  <a:pt x="866033" y="1065630"/>
                </a:lnTo>
                <a:lnTo>
                  <a:pt x="875183" y="1066027"/>
                </a:lnTo>
                <a:lnTo>
                  <a:pt x="884732" y="1066425"/>
                </a:lnTo>
                <a:lnTo>
                  <a:pt x="894678" y="1067617"/>
                </a:lnTo>
                <a:lnTo>
                  <a:pt x="904624" y="1069605"/>
                </a:lnTo>
                <a:lnTo>
                  <a:pt x="914172" y="1072387"/>
                </a:lnTo>
                <a:lnTo>
                  <a:pt x="924516" y="1075567"/>
                </a:lnTo>
                <a:lnTo>
                  <a:pt x="934064" y="1079939"/>
                </a:lnTo>
                <a:lnTo>
                  <a:pt x="939236" y="1082324"/>
                </a:lnTo>
                <a:lnTo>
                  <a:pt x="944010" y="1085106"/>
                </a:lnTo>
                <a:lnTo>
                  <a:pt x="948784" y="1088286"/>
                </a:lnTo>
                <a:lnTo>
                  <a:pt x="953160" y="1091466"/>
                </a:lnTo>
                <a:lnTo>
                  <a:pt x="957934" y="1095441"/>
                </a:lnTo>
                <a:lnTo>
                  <a:pt x="962708" y="1099415"/>
                </a:lnTo>
                <a:lnTo>
                  <a:pt x="966687" y="1103390"/>
                </a:lnTo>
                <a:lnTo>
                  <a:pt x="971063" y="1108160"/>
                </a:lnTo>
                <a:lnTo>
                  <a:pt x="974644" y="1112532"/>
                </a:lnTo>
                <a:lnTo>
                  <a:pt x="979020" y="1118097"/>
                </a:lnTo>
                <a:lnTo>
                  <a:pt x="982998" y="1123662"/>
                </a:lnTo>
                <a:lnTo>
                  <a:pt x="986181" y="1129624"/>
                </a:lnTo>
                <a:lnTo>
                  <a:pt x="989762" y="1135983"/>
                </a:lnTo>
                <a:lnTo>
                  <a:pt x="992944" y="1142741"/>
                </a:lnTo>
                <a:lnTo>
                  <a:pt x="997321" y="1152678"/>
                </a:lnTo>
                <a:lnTo>
                  <a:pt x="1001299" y="1163012"/>
                </a:lnTo>
                <a:lnTo>
                  <a:pt x="1008062" y="1182091"/>
                </a:lnTo>
                <a:lnTo>
                  <a:pt x="1004482" y="1185668"/>
                </a:lnTo>
                <a:lnTo>
                  <a:pt x="1000105" y="1190040"/>
                </a:lnTo>
                <a:lnTo>
                  <a:pt x="996525" y="1192425"/>
                </a:lnTo>
                <a:lnTo>
                  <a:pt x="994138" y="1193618"/>
                </a:lnTo>
                <a:lnTo>
                  <a:pt x="992546" y="1195605"/>
                </a:lnTo>
                <a:lnTo>
                  <a:pt x="990955" y="1197195"/>
                </a:lnTo>
                <a:lnTo>
                  <a:pt x="989762" y="1198785"/>
                </a:lnTo>
                <a:lnTo>
                  <a:pt x="988568" y="1201170"/>
                </a:lnTo>
                <a:lnTo>
                  <a:pt x="987772" y="1202760"/>
                </a:lnTo>
                <a:lnTo>
                  <a:pt x="987375" y="1205145"/>
                </a:lnTo>
                <a:lnTo>
                  <a:pt x="987375" y="1207132"/>
                </a:lnTo>
                <a:lnTo>
                  <a:pt x="980611" y="1217864"/>
                </a:lnTo>
                <a:lnTo>
                  <a:pt x="975041" y="1228993"/>
                </a:lnTo>
                <a:lnTo>
                  <a:pt x="969870" y="1240520"/>
                </a:lnTo>
                <a:lnTo>
                  <a:pt x="965095" y="1252047"/>
                </a:lnTo>
                <a:lnTo>
                  <a:pt x="960321" y="1263574"/>
                </a:lnTo>
                <a:lnTo>
                  <a:pt x="956741" y="1273908"/>
                </a:lnTo>
                <a:lnTo>
                  <a:pt x="953558" y="1284640"/>
                </a:lnTo>
                <a:lnTo>
                  <a:pt x="950773" y="1294577"/>
                </a:lnTo>
                <a:lnTo>
                  <a:pt x="948784" y="1304514"/>
                </a:lnTo>
                <a:lnTo>
                  <a:pt x="946397" y="1314054"/>
                </a:lnTo>
                <a:lnTo>
                  <a:pt x="746283" y="1314054"/>
                </a:lnTo>
                <a:lnTo>
                  <a:pt x="745487" y="1310874"/>
                </a:lnTo>
                <a:lnTo>
                  <a:pt x="745487" y="1314054"/>
                </a:lnTo>
                <a:lnTo>
                  <a:pt x="692972" y="1314054"/>
                </a:lnTo>
                <a:lnTo>
                  <a:pt x="688994" y="1314054"/>
                </a:lnTo>
                <a:lnTo>
                  <a:pt x="685811" y="1314451"/>
                </a:lnTo>
                <a:lnTo>
                  <a:pt x="683026" y="1296565"/>
                </a:lnTo>
                <a:lnTo>
                  <a:pt x="681833" y="1287423"/>
                </a:lnTo>
                <a:lnTo>
                  <a:pt x="681435" y="1278281"/>
                </a:lnTo>
                <a:lnTo>
                  <a:pt x="681037" y="1268344"/>
                </a:lnTo>
                <a:lnTo>
                  <a:pt x="681435" y="1258804"/>
                </a:lnTo>
                <a:lnTo>
                  <a:pt x="681833" y="1249265"/>
                </a:lnTo>
                <a:lnTo>
                  <a:pt x="682628" y="1238930"/>
                </a:lnTo>
                <a:lnTo>
                  <a:pt x="684617" y="1228596"/>
                </a:lnTo>
                <a:lnTo>
                  <a:pt x="686607" y="1217466"/>
                </a:lnTo>
                <a:lnTo>
                  <a:pt x="688994" y="1205940"/>
                </a:lnTo>
                <a:lnTo>
                  <a:pt x="692176" y="1194810"/>
                </a:lnTo>
                <a:lnTo>
                  <a:pt x="696155" y="1182488"/>
                </a:lnTo>
                <a:lnTo>
                  <a:pt x="700929" y="1169769"/>
                </a:lnTo>
                <a:lnTo>
                  <a:pt x="706499" y="1156255"/>
                </a:lnTo>
                <a:lnTo>
                  <a:pt x="712466" y="1142741"/>
                </a:lnTo>
                <a:lnTo>
                  <a:pt x="716445" y="1134791"/>
                </a:lnTo>
                <a:lnTo>
                  <a:pt x="720821" y="1127636"/>
                </a:lnTo>
                <a:lnTo>
                  <a:pt x="725595" y="1120482"/>
                </a:lnTo>
                <a:lnTo>
                  <a:pt x="729971" y="1114122"/>
                </a:lnTo>
                <a:lnTo>
                  <a:pt x="726391" y="1114520"/>
                </a:lnTo>
                <a:lnTo>
                  <a:pt x="729971" y="1111737"/>
                </a:lnTo>
                <a:lnTo>
                  <a:pt x="733950" y="1108955"/>
                </a:lnTo>
                <a:lnTo>
                  <a:pt x="739122" y="1102993"/>
                </a:lnTo>
                <a:lnTo>
                  <a:pt x="744294" y="1097826"/>
                </a:lnTo>
                <a:lnTo>
                  <a:pt x="749863" y="1093056"/>
                </a:lnTo>
                <a:lnTo>
                  <a:pt x="755433" y="1088286"/>
                </a:lnTo>
                <a:lnTo>
                  <a:pt x="761401" y="1083914"/>
                </a:lnTo>
                <a:lnTo>
                  <a:pt x="766970" y="1080337"/>
                </a:lnTo>
                <a:lnTo>
                  <a:pt x="772938" y="1076362"/>
                </a:lnTo>
                <a:lnTo>
                  <a:pt x="778508" y="1073579"/>
                </a:lnTo>
                <a:lnTo>
                  <a:pt x="784475" y="1070400"/>
                </a:lnTo>
                <a:lnTo>
                  <a:pt x="790443" y="1067617"/>
                </a:lnTo>
                <a:lnTo>
                  <a:pt x="802378" y="1063245"/>
                </a:lnTo>
                <a:lnTo>
                  <a:pt x="813916" y="1059668"/>
                </a:lnTo>
                <a:lnTo>
                  <a:pt x="824658" y="1056885"/>
                </a:lnTo>
                <a:lnTo>
                  <a:pt x="835399" y="1054898"/>
                </a:lnTo>
                <a:lnTo>
                  <a:pt x="844947" y="1053705"/>
                </a:lnTo>
                <a:lnTo>
                  <a:pt x="853700" y="1052911"/>
                </a:lnTo>
                <a:lnTo>
                  <a:pt x="861259" y="1052513"/>
                </a:lnTo>
                <a:close/>
                <a:moveTo>
                  <a:pt x="1326357" y="1047750"/>
                </a:moveTo>
                <a:lnTo>
                  <a:pt x="1337469" y="1047750"/>
                </a:lnTo>
                <a:lnTo>
                  <a:pt x="1348582" y="1048148"/>
                </a:lnTo>
                <a:lnTo>
                  <a:pt x="1358901" y="1048942"/>
                </a:lnTo>
                <a:lnTo>
                  <a:pt x="1368822" y="1050532"/>
                </a:lnTo>
                <a:lnTo>
                  <a:pt x="1378347" y="1052520"/>
                </a:lnTo>
                <a:lnTo>
                  <a:pt x="1387476" y="1054904"/>
                </a:lnTo>
                <a:lnTo>
                  <a:pt x="1396604" y="1057289"/>
                </a:lnTo>
                <a:lnTo>
                  <a:pt x="1404541" y="1060469"/>
                </a:lnTo>
                <a:lnTo>
                  <a:pt x="1412479" y="1063251"/>
                </a:lnTo>
                <a:lnTo>
                  <a:pt x="1419623" y="1066828"/>
                </a:lnTo>
                <a:lnTo>
                  <a:pt x="1426766" y="1070008"/>
                </a:lnTo>
                <a:lnTo>
                  <a:pt x="1433116" y="1073983"/>
                </a:lnTo>
                <a:lnTo>
                  <a:pt x="1444626" y="1081137"/>
                </a:lnTo>
                <a:lnTo>
                  <a:pt x="1454151" y="1087894"/>
                </a:lnTo>
                <a:lnTo>
                  <a:pt x="1461691" y="1093856"/>
                </a:lnTo>
                <a:lnTo>
                  <a:pt x="1466851" y="1098228"/>
                </a:lnTo>
                <a:lnTo>
                  <a:pt x="1471613" y="1102600"/>
                </a:lnTo>
                <a:lnTo>
                  <a:pt x="1465660" y="1153079"/>
                </a:lnTo>
                <a:lnTo>
                  <a:pt x="1458913" y="1157848"/>
                </a:lnTo>
                <a:lnTo>
                  <a:pt x="1447404" y="1166195"/>
                </a:lnTo>
                <a:lnTo>
                  <a:pt x="1441848" y="1170170"/>
                </a:lnTo>
                <a:lnTo>
                  <a:pt x="1437482" y="1172555"/>
                </a:lnTo>
                <a:lnTo>
                  <a:pt x="1434704" y="1174542"/>
                </a:lnTo>
                <a:lnTo>
                  <a:pt x="1432323" y="1175734"/>
                </a:lnTo>
                <a:lnTo>
                  <a:pt x="1427560" y="1179311"/>
                </a:lnTo>
                <a:lnTo>
                  <a:pt x="1424385" y="1184081"/>
                </a:lnTo>
                <a:lnTo>
                  <a:pt x="1421210" y="1188851"/>
                </a:lnTo>
                <a:lnTo>
                  <a:pt x="1419226" y="1194018"/>
                </a:lnTo>
                <a:lnTo>
                  <a:pt x="1418035" y="1199582"/>
                </a:lnTo>
                <a:lnTo>
                  <a:pt x="1418035" y="1205544"/>
                </a:lnTo>
                <a:lnTo>
                  <a:pt x="1418432" y="1208724"/>
                </a:lnTo>
                <a:lnTo>
                  <a:pt x="1418829" y="1211506"/>
                </a:lnTo>
                <a:lnTo>
                  <a:pt x="1419623" y="1216673"/>
                </a:lnTo>
                <a:lnTo>
                  <a:pt x="1422401" y="1229392"/>
                </a:lnTo>
                <a:lnTo>
                  <a:pt x="1425576" y="1248073"/>
                </a:lnTo>
                <a:lnTo>
                  <a:pt x="1427163" y="1259202"/>
                </a:lnTo>
                <a:lnTo>
                  <a:pt x="1429148" y="1271524"/>
                </a:lnTo>
                <a:lnTo>
                  <a:pt x="1427560" y="1279076"/>
                </a:lnTo>
                <a:lnTo>
                  <a:pt x="1425973" y="1282255"/>
                </a:lnTo>
                <a:lnTo>
                  <a:pt x="1423988" y="1285832"/>
                </a:lnTo>
                <a:lnTo>
                  <a:pt x="1422401" y="1289807"/>
                </a:lnTo>
                <a:lnTo>
                  <a:pt x="1420416" y="1293782"/>
                </a:lnTo>
                <a:lnTo>
                  <a:pt x="1418035" y="1303718"/>
                </a:lnTo>
                <a:lnTo>
                  <a:pt x="1416051" y="1314450"/>
                </a:lnTo>
                <a:lnTo>
                  <a:pt x="1312863" y="1314450"/>
                </a:lnTo>
                <a:lnTo>
                  <a:pt x="1310879" y="1304911"/>
                </a:lnTo>
                <a:lnTo>
                  <a:pt x="1308894" y="1294974"/>
                </a:lnTo>
                <a:lnTo>
                  <a:pt x="1305719" y="1285038"/>
                </a:lnTo>
                <a:lnTo>
                  <a:pt x="1302544" y="1274306"/>
                </a:lnTo>
                <a:lnTo>
                  <a:pt x="1298972" y="1263972"/>
                </a:lnTo>
                <a:lnTo>
                  <a:pt x="1295004" y="1252843"/>
                </a:lnTo>
                <a:lnTo>
                  <a:pt x="1290241" y="1240919"/>
                </a:lnTo>
                <a:lnTo>
                  <a:pt x="1285082" y="1229392"/>
                </a:lnTo>
                <a:lnTo>
                  <a:pt x="1280319" y="1219456"/>
                </a:lnTo>
                <a:lnTo>
                  <a:pt x="1275160" y="1210711"/>
                </a:lnTo>
                <a:lnTo>
                  <a:pt x="1270000" y="1202365"/>
                </a:lnTo>
                <a:lnTo>
                  <a:pt x="1264047" y="1194813"/>
                </a:lnTo>
                <a:lnTo>
                  <a:pt x="1258094" y="1188056"/>
                </a:lnTo>
                <a:lnTo>
                  <a:pt x="1251744" y="1181696"/>
                </a:lnTo>
                <a:lnTo>
                  <a:pt x="1244997" y="1175734"/>
                </a:lnTo>
                <a:lnTo>
                  <a:pt x="1238250" y="1170567"/>
                </a:lnTo>
                <a:lnTo>
                  <a:pt x="1231503" y="1165400"/>
                </a:lnTo>
                <a:lnTo>
                  <a:pt x="1224757" y="1161823"/>
                </a:lnTo>
                <a:lnTo>
                  <a:pt x="1217613" y="1157848"/>
                </a:lnTo>
                <a:lnTo>
                  <a:pt x="1210469" y="1154669"/>
                </a:lnTo>
                <a:lnTo>
                  <a:pt x="1202928" y="1151886"/>
                </a:lnTo>
                <a:lnTo>
                  <a:pt x="1195785" y="1149501"/>
                </a:lnTo>
                <a:lnTo>
                  <a:pt x="1188641" y="1147912"/>
                </a:lnTo>
                <a:lnTo>
                  <a:pt x="1181497" y="1145924"/>
                </a:lnTo>
                <a:lnTo>
                  <a:pt x="1179116" y="1131218"/>
                </a:lnTo>
                <a:lnTo>
                  <a:pt x="1176735" y="1120486"/>
                </a:lnTo>
                <a:lnTo>
                  <a:pt x="1174750" y="1110152"/>
                </a:lnTo>
                <a:lnTo>
                  <a:pt x="1180703" y="1106973"/>
                </a:lnTo>
                <a:lnTo>
                  <a:pt x="1187053" y="1102998"/>
                </a:lnTo>
                <a:lnTo>
                  <a:pt x="1193800" y="1098228"/>
                </a:lnTo>
                <a:lnTo>
                  <a:pt x="1200150" y="1093856"/>
                </a:lnTo>
                <a:lnTo>
                  <a:pt x="1212453" y="1084317"/>
                </a:lnTo>
                <a:lnTo>
                  <a:pt x="1217613" y="1080342"/>
                </a:lnTo>
                <a:lnTo>
                  <a:pt x="1223169" y="1077163"/>
                </a:lnTo>
                <a:lnTo>
                  <a:pt x="1237060" y="1070406"/>
                </a:lnTo>
                <a:lnTo>
                  <a:pt x="1250950" y="1064444"/>
                </a:lnTo>
                <a:lnTo>
                  <a:pt x="1264444" y="1059674"/>
                </a:lnTo>
                <a:lnTo>
                  <a:pt x="1277541" y="1055699"/>
                </a:lnTo>
                <a:lnTo>
                  <a:pt x="1290241" y="1052520"/>
                </a:lnTo>
                <a:lnTo>
                  <a:pt x="1302941" y="1050135"/>
                </a:lnTo>
                <a:lnTo>
                  <a:pt x="1314847" y="1048545"/>
                </a:lnTo>
                <a:lnTo>
                  <a:pt x="1326357" y="1047750"/>
                </a:lnTo>
                <a:close/>
                <a:moveTo>
                  <a:pt x="525022" y="1035050"/>
                </a:moveTo>
                <a:lnTo>
                  <a:pt x="554037" y="1036676"/>
                </a:lnTo>
                <a:lnTo>
                  <a:pt x="512762" y="1068388"/>
                </a:lnTo>
                <a:lnTo>
                  <a:pt x="525022" y="1035050"/>
                </a:lnTo>
                <a:close/>
                <a:moveTo>
                  <a:pt x="174832" y="915044"/>
                </a:moveTo>
                <a:lnTo>
                  <a:pt x="50860" y="916631"/>
                </a:lnTo>
                <a:lnTo>
                  <a:pt x="57218" y="934484"/>
                </a:lnTo>
                <a:lnTo>
                  <a:pt x="174832" y="915044"/>
                </a:lnTo>
                <a:close/>
                <a:moveTo>
                  <a:pt x="403703" y="711119"/>
                </a:moveTo>
                <a:lnTo>
                  <a:pt x="403703" y="723418"/>
                </a:lnTo>
                <a:lnTo>
                  <a:pt x="512179" y="715086"/>
                </a:lnTo>
                <a:lnTo>
                  <a:pt x="403703" y="711119"/>
                </a:lnTo>
                <a:close/>
                <a:moveTo>
                  <a:pt x="773852" y="677863"/>
                </a:moveTo>
                <a:lnTo>
                  <a:pt x="777038" y="678259"/>
                </a:lnTo>
                <a:lnTo>
                  <a:pt x="778632" y="678259"/>
                </a:lnTo>
                <a:lnTo>
                  <a:pt x="779428" y="679050"/>
                </a:lnTo>
                <a:lnTo>
                  <a:pt x="780225" y="679446"/>
                </a:lnTo>
                <a:lnTo>
                  <a:pt x="780623" y="680632"/>
                </a:lnTo>
                <a:lnTo>
                  <a:pt x="780623" y="681423"/>
                </a:lnTo>
                <a:lnTo>
                  <a:pt x="780225" y="682215"/>
                </a:lnTo>
                <a:lnTo>
                  <a:pt x="779428" y="684588"/>
                </a:lnTo>
                <a:lnTo>
                  <a:pt x="777038" y="687357"/>
                </a:lnTo>
                <a:lnTo>
                  <a:pt x="774648" y="689731"/>
                </a:lnTo>
                <a:lnTo>
                  <a:pt x="771860" y="692500"/>
                </a:lnTo>
                <a:lnTo>
                  <a:pt x="767877" y="695665"/>
                </a:lnTo>
                <a:lnTo>
                  <a:pt x="763894" y="698038"/>
                </a:lnTo>
                <a:lnTo>
                  <a:pt x="760309" y="700808"/>
                </a:lnTo>
                <a:lnTo>
                  <a:pt x="755927" y="702785"/>
                </a:lnTo>
                <a:lnTo>
                  <a:pt x="752342" y="704368"/>
                </a:lnTo>
                <a:lnTo>
                  <a:pt x="748758" y="705555"/>
                </a:lnTo>
                <a:lnTo>
                  <a:pt x="745969" y="705950"/>
                </a:lnTo>
                <a:lnTo>
                  <a:pt x="742783" y="706346"/>
                </a:lnTo>
                <a:lnTo>
                  <a:pt x="740791" y="706741"/>
                </a:lnTo>
                <a:lnTo>
                  <a:pt x="738800" y="707928"/>
                </a:lnTo>
                <a:lnTo>
                  <a:pt x="737605" y="708719"/>
                </a:lnTo>
                <a:lnTo>
                  <a:pt x="736011" y="709906"/>
                </a:lnTo>
                <a:lnTo>
                  <a:pt x="735215" y="711093"/>
                </a:lnTo>
                <a:lnTo>
                  <a:pt x="734816" y="712280"/>
                </a:lnTo>
                <a:lnTo>
                  <a:pt x="734816" y="713467"/>
                </a:lnTo>
                <a:lnTo>
                  <a:pt x="735215" y="715049"/>
                </a:lnTo>
                <a:lnTo>
                  <a:pt x="736011" y="716236"/>
                </a:lnTo>
                <a:lnTo>
                  <a:pt x="738003" y="717027"/>
                </a:lnTo>
                <a:lnTo>
                  <a:pt x="739596" y="717818"/>
                </a:lnTo>
                <a:lnTo>
                  <a:pt x="741986" y="718609"/>
                </a:lnTo>
                <a:lnTo>
                  <a:pt x="745173" y="719005"/>
                </a:lnTo>
                <a:lnTo>
                  <a:pt x="748359" y="719400"/>
                </a:lnTo>
                <a:lnTo>
                  <a:pt x="752342" y="719005"/>
                </a:lnTo>
                <a:lnTo>
                  <a:pt x="760707" y="719005"/>
                </a:lnTo>
                <a:lnTo>
                  <a:pt x="763894" y="719400"/>
                </a:lnTo>
                <a:lnTo>
                  <a:pt x="767877" y="719796"/>
                </a:lnTo>
                <a:lnTo>
                  <a:pt x="770665" y="720983"/>
                </a:lnTo>
                <a:lnTo>
                  <a:pt x="773852" y="722169"/>
                </a:lnTo>
                <a:lnTo>
                  <a:pt x="776640" y="723356"/>
                </a:lnTo>
                <a:lnTo>
                  <a:pt x="779428" y="724939"/>
                </a:lnTo>
                <a:lnTo>
                  <a:pt x="781420" y="726917"/>
                </a:lnTo>
                <a:lnTo>
                  <a:pt x="783411" y="729686"/>
                </a:lnTo>
                <a:lnTo>
                  <a:pt x="785403" y="732455"/>
                </a:lnTo>
                <a:lnTo>
                  <a:pt x="786598" y="736015"/>
                </a:lnTo>
                <a:lnTo>
                  <a:pt x="787793" y="739180"/>
                </a:lnTo>
                <a:lnTo>
                  <a:pt x="788191" y="743531"/>
                </a:lnTo>
                <a:lnTo>
                  <a:pt x="788988" y="747883"/>
                </a:lnTo>
                <a:lnTo>
                  <a:pt x="788988" y="752630"/>
                </a:lnTo>
                <a:lnTo>
                  <a:pt x="788590" y="756982"/>
                </a:lnTo>
                <a:lnTo>
                  <a:pt x="787793" y="760542"/>
                </a:lnTo>
                <a:lnTo>
                  <a:pt x="786200" y="764102"/>
                </a:lnTo>
                <a:lnTo>
                  <a:pt x="783810" y="767267"/>
                </a:lnTo>
                <a:lnTo>
                  <a:pt x="781420" y="770827"/>
                </a:lnTo>
                <a:lnTo>
                  <a:pt x="778632" y="773596"/>
                </a:lnTo>
                <a:lnTo>
                  <a:pt x="775445" y="776761"/>
                </a:lnTo>
                <a:lnTo>
                  <a:pt x="771860" y="779135"/>
                </a:lnTo>
                <a:lnTo>
                  <a:pt x="767479" y="781113"/>
                </a:lnTo>
                <a:lnTo>
                  <a:pt x="763097" y="783486"/>
                </a:lnTo>
                <a:lnTo>
                  <a:pt x="753936" y="787442"/>
                </a:lnTo>
                <a:lnTo>
                  <a:pt x="744376" y="790607"/>
                </a:lnTo>
                <a:lnTo>
                  <a:pt x="734020" y="792980"/>
                </a:lnTo>
                <a:lnTo>
                  <a:pt x="724062" y="795354"/>
                </a:lnTo>
                <a:lnTo>
                  <a:pt x="714104" y="796936"/>
                </a:lnTo>
                <a:lnTo>
                  <a:pt x="704942" y="798123"/>
                </a:lnTo>
                <a:lnTo>
                  <a:pt x="696179" y="798914"/>
                </a:lnTo>
                <a:lnTo>
                  <a:pt x="684230" y="799705"/>
                </a:lnTo>
                <a:lnTo>
                  <a:pt x="679450" y="800101"/>
                </a:lnTo>
                <a:lnTo>
                  <a:pt x="682636" y="698830"/>
                </a:lnTo>
                <a:lnTo>
                  <a:pt x="683433" y="697247"/>
                </a:lnTo>
                <a:lnTo>
                  <a:pt x="683831" y="695665"/>
                </a:lnTo>
                <a:lnTo>
                  <a:pt x="684628" y="694478"/>
                </a:lnTo>
                <a:lnTo>
                  <a:pt x="685425" y="692896"/>
                </a:lnTo>
                <a:lnTo>
                  <a:pt x="688213" y="690522"/>
                </a:lnTo>
                <a:lnTo>
                  <a:pt x="692196" y="688940"/>
                </a:lnTo>
                <a:lnTo>
                  <a:pt x="696976" y="687357"/>
                </a:lnTo>
                <a:lnTo>
                  <a:pt x="701756" y="685775"/>
                </a:lnTo>
                <a:lnTo>
                  <a:pt x="707731" y="684588"/>
                </a:lnTo>
                <a:lnTo>
                  <a:pt x="714104" y="683797"/>
                </a:lnTo>
                <a:lnTo>
                  <a:pt x="727647" y="682610"/>
                </a:lnTo>
                <a:lnTo>
                  <a:pt x="741588" y="681819"/>
                </a:lnTo>
                <a:lnTo>
                  <a:pt x="755529" y="680632"/>
                </a:lnTo>
                <a:lnTo>
                  <a:pt x="762300" y="679446"/>
                </a:lnTo>
                <a:lnTo>
                  <a:pt x="768275" y="678654"/>
                </a:lnTo>
                <a:lnTo>
                  <a:pt x="773852" y="677863"/>
                </a:lnTo>
                <a:close/>
                <a:moveTo>
                  <a:pt x="425557" y="466725"/>
                </a:moveTo>
                <a:lnTo>
                  <a:pt x="429928" y="467122"/>
                </a:lnTo>
                <a:lnTo>
                  <a:pt x="434299" y="467519"/>
                </a:lnTo>
                <a:lnTo>
                  <a:pt x="438272" y="467915"/>
                </a:lnTo>
                <a:lnTo>
                  <a:pt x="442643" y="468709"/>
                </a:lnTo>
                <a:lnTo>
                  <a:pt x="446219" y="470296"/>
                </a:lnTo>
                <a:lnTo>
                  <a:pt x="453769" y="473073"/>
                </a:lnTo>
                <a:lnTo>
                  <a:pt x="461716" y="477040"/>
                </a:lnTo>
                <a:lnTo>
                  <a:pt x="468471" y="481801"/>
                </a:lnTo>
                <a:lnTo>
                  <a:pt x="475225" y="487356"/>
                </a:lnTo>
                <a:lnTo>
                  <a:pt x="481980" y="493307"/>
                </a:lnTo>
                <a:lnTo>
                  <a:pt x="487543" y="500052"/>
                </a:lnTo>
                <a:lnTo>
                  <a:pt x="493503" y="507590"/>
                </a:lnTo>
                <a:lnTo>
                  <a:pt x="499066" y="515524"/>
                </a:lnTo>
                <a:lnTo>
                  <a:pt x="504629" y="524253"/>
                </a:lnTo>
                <a:lnTo>
                  <a:pt x="509795" y="532981"/>
                </a:lnTo>
                <a:lnTo>
                  <a:pt x="514165" y="542106"/>
                </a:lnTo>
                <a:lnTo>
                  <a:pt x="518933" y="552025"/>
                </a:lnTo>
                <a:lnTo>
                  <a:pt x="523304" y="561943"/>
                </a:lnTo>
                <a:lnTo>
                  <a:pt x="526880" y="572259"/>
                </a:lnTo>
                <a:lnTo>
                  <a:pt x="530854" y="582177"/>
                </a:lnTo>
                <a:lnTo>
                  <a:pt x="534033" y="592889"/>
                </a:lnTo>
                <a:lnTo>
                  <a:pt x="540390" y="613520"/>
                </a:lnTo>
                <a:lnTo>
                  <a:pt x="545953" y="634150"/>
                </a:lnTo>
                <a:lnTo>
                  <a:pt x="550721" y="653988"/>
                </a:lnTo>
                <a:lnTo>
                  <a:pt x="554297" y="673031"/>
                </a:lnTo>
                <a:lnTo>
                  <a:pt x="557873" y="690091"/>
                </a:lnTo>
                <a:lnTo>
                  <a:pt x="559860" y="705167"/>
                </a:lnTo>
                <a:lnTo>
                  <a:pt x="592045" y="701597"/>
                </a:lnTo>
                <a:lnTo>
                  <a:pt x="621449" y="697629"/>
                </a:lnTo>
                <a:lnTo>
                  <a:pt x="647673" y="694455"/>
                </a:lnTo>
                <a:lnTo>
                  <a:pt x="669925" y="690488"/>
                </a:lnTo>
                <a:lnTo>
                  <a:pt x="669527" y="696042"/>
                </a:lnTo>
                <a:lnTo>
                  <a:pt x="669130" y="702390"/>
                </a:lnTo>
                <a:lnTo>
                  <a:pt x="668733" y="716276"/>
                </a:lnTo>
                <a:lnTo>
                  <a:pt x="668733" y="750396"/>
                </a:lnTo>
                <a:lnTo>
                  <a:pt x="669130" y="768646"/>
                </a:lnTo>
                <a:lnTo>
                  <a:pt x="668733" y="786103"/>
                </a:lnTo>
                <a:lnTo>
                  <a:pt x="667938" y="803559"/>
                </a:lnTo>
                <a:lnTo>
                  <a:pt x="667143" y="811494"/>
                </a:lnTo>
                <a:lnTo>
                  <a:pt x="666349" y="819032"/>
                </a:lnTo>
                <a:lnTo>
                  <a:pt x="645289" y="825380"/>
                </a:lnTo>
                <a:lnTo>
                  <a:pt x="620654" y="831331"/>
                </a:lnTo>
                <a:lnTo>
                  <a:pt x="593237" y="837679"/>
                </a:lnTo>
                <a:lnTo>
                  <a:pt x="563436" y="844027"/>
                </a:lnTo>
                <a:lnTo>
                  <a:pt x="561052" y="872593"/>
                </a:lnTo>
                <a:lnTo>
                  <a:pt x="558668" y="896000"/>
                </a:lnTo>
                <a:lnTo>
                  <a:pt x="557873" y="905125"/>
                </a:lnTo>
                <a:lnTo>
                  <a:pt x="557079" y="916631"/>
                </a:lnTo>
                <a:lnTo>
                  <a:pt x="556681" y="928930"/>
                </a:lnTo>
                <a:lnTo>
                  <a:pt x="556284" y="942022"/>
                </a:lnTo>
                <a:lnTo>
                  <a:pt x="556284" y="955908"/>
                </a:lnTo>
                <a:lnTo>
                  <a:pt x="556284" y="970588"/>
                </a:lnTo>
                <a:lnTo>
                  <a:pt x="557079" y="984474"/>
                </a:lnTo>
                <a:lnTo>
                  <a:pt x="558271" y="997566"/>
                </a:lnTo>
                <a:lnTo>
                  <a:pt x="558668" y="1004311"/>
                </a:lnTo>
                <a:lnTo>
                  <a:pt x="558668" y="1009469"/>
                </a:lnTo>
                <a:lnTo>
                  <a:pt x="558271" y="1014626"/>
                </a:lnTo>
                <a:lnTo>
                  <a:pt x="557079" y="1018991"/>
                </a:lnTo>
                <a:lnTo>
                  <a:pt x="555489" y="1022164"/>
                </a:lnTo>
                <a:lnTo>
                  <a:pt x="553900" y="1024942"/>
                </a:lnTo>
                <a:lnTo>
                  <a:pt x="552310" y="1026925"/>
                </a:lnTo>
                <a:lnTo>
                  <a:pt x="549926" y="1028512"/>
                </a:lnTo>
                <a:lnTo>
                  <a:pt x="547145" y="1029306"/>
                </a:lnTo>
                <a:lnTo>
                  <a:pt x="544761" y="1030099"/>
                </a:lnTo>
                <a:lnTo>
                  <a:pt x="541582" y="1030496"/>
                </a:lnTo>
                <a:lnTo>
                  <a:pt x="538801" y="1030496"/>
                </a:lnTo>
                <a:lnTo>
                  <a:pt x="532046" y="1030099"/>
                </a:lnTo>
                <a:lnTo>
                  <a:pt x="525688" y="1028909"/>
                </a:lnTo>
                <a:lnTo>
                  <a:pt x="524894" y="1028512"/>
                </a:lnTo>
                <a:lnTo>
                  <a:pt x="524099" y="1027719"/>
                </a:lnTo>
                <a:lnTo>
                  <a:pt x="522510" y="1023751"/>
                </a:lnTo>
                <a:lnTo>
                  <a:pt x="520920" y="1018594"/>
                </a:lnTo>
                <a:lnTo>
                  <a:pt x="520125" y="1011452"/>
                </a:lnTo>
                <a:lnTo>
                  <a:pt x="519331" y="1002327"/>
                </a:lnTo>
                <a:lnTo>
                  <a:pt x="518536" y="992409"/>
                </a:lnTo>
                <a:lnTo>
                  <a:pt x="517741" y="968207"/>
                </a:lnTo>
                <a:lnTo>
                  <a:pt x="517344" y="941229"/>
                </a:lnTo>
                <a:lnTo>
                  <a:pt x="516947" y="911870"/>
                </a:lnTo>
                <a:lnTo>
                  <a:pt x="516549" y="853152"/>
                </a:lnTo>
                <a:lnTo>
                  <a:pt x="513768" y="853549"/>
                </a:lnTo>
                <a:lnTo>
                  <a:pt x="513768" y="976142"/>
                </a:lnTo>
                <a:lnTo>
                  <a:pt x="508602" y="1036050"/>
                </a:lnTo>
                <a:lnTo>
                  <a:pt x="504232" y="1082469"/>
                </a:lnTo>
                <a:lnTo>
                  <a:pt x="500258" y="1124127"/>
                </a:lnTo>
                <a:lnTo>
                  <a:pt x="499861" y="1128095"/>
                </a:lnTo>
                <a:lnTo>
                  <a:pt x="497874" y="1134443"/>
                </a:lnTo>
                <a:lnTo>
                  <a:pt x="495490" y="1141187"/>
                </a:lnTo>
                <a:lnTo>
                  <a:pt x="492311" y="1147535"/>
                </a:lnTo>
                <a:lnTo>
                  <a:pt x="489530" y="1153883"/>
                </a:lnTo>
                <a:lnTo>
                  <a:pt x="485954" y="1160231"/>
                </a:lnTo>
                <a:lnTo>
                  <a:pt x="482378" y="1166579"/>
                </a:lnTo>
                <a:lnTo>
                  <a:pt x="474828" y="1178481"/>
                </a:lnTo>
                <a:lnTo>
                  <a:pt x="438670" y="1654175"/>
                </a:lnTo>
                <a:lnTo>
                  <a:pt x="342512" y="1654175"/>
                </a:lnTo>
                <a:lnTo>
                  <a:pt x="294433" y="1276080"/>
                </a:lnTo>
                <a:lnTo>
                  <a:pt x="288473" y="1276873"/>
                </a:lnTo>
                <a:lnTo>
                  <a:pt x="282115" y="1277270"/>
                </a:lnTo>
                <a:lnTo>
                  <a:pt x="281718" y="1276873"/>
                </a:lnTo>
                <a:lnTo>
                  <a:pt x="281321" y="1276873"/>
                </a:lnTo>
                <a:lnTo>
                  <a:pt x="282115" y="1275683"/>
                </a:lnTo>
                <a:lnTo>
                  <a:pt x="282115" y="1275286"/>
                </a:lnTo>
                <a:lnTo>
                  <a:pt x="281321" y="1275286"/>
                </a:lnTo>
                <a:lnTo>
                  <a:pt x="281321" y="1276873"/>
                </a:lnTo>
                <a:lnTo>
                  <a:pt x="282910" y="1650208"/>
                </a:lnTo>
                <a:lnTo>
                  <a:pt x="170859" y="1653778"/>
                </a:lnTo>
                <a:lnTo>
                  <a:pt x="119998" y="1254655"/>
                </a:lnTo>
                <a:lnTo>
                  <a:pt x="116422" y="1253069"/>
                </a:lnTo>
                <a:lnTo>
                  <a:pt x="112846" y="1251482"/>
                </a:lnTo>
                <a:lnTo>
                  <a:pt x="109667" y="1249498"/>
                </a:lnTo>
                <a:lnTo>
                  <a:pt x="106489" y="1246721"/>
                </a:lnTo>
                <a:lnTo>
                  <a:pt x="103707" y="1243943"/>
                </a:lnTo>
                <a:lnTo>
                  <a:pt x="100528" y="1240373"/>
                </a:lnTo>
                <a:lnTo>
                  <a:pt x="98144" y="1236802"/>
                </a:lnTo>
                <a:lnTo>
                  <a:pt x="96158" y="1232438"/>
                </a:lnTo>
                <a:lnTo>
                  <a:pt x="91389" y="1223710"/>
                </a:lnTo>
                <a:lnTo>
                  <a:pt x="87416" y="1214188"/>
                </a:lnTo>
                <a:lnTo>
                  <a:pt x="84237" y="1203872"/>
                </a:lnTo>
                <a:lnTo>
                  <a:pt x="81853" y="1193557"/>
                </a:lnTo>
                <a:lnTo>
                  <a:pt x="79072" y="1182845"/>
                </a:lnTo>
                <a:lnTo>
                  <a:pt x="77085" y="1172133"/>
                </a:lnTo>
                <a:lnTo>
                  <a:pt x="73906" y="1153486"/>
                </a:lnTo>
                <a:lnTo>
                  <a:pt x="71522" y="1137616"/>
                </a:lnTo>
                <a:lnTo>
                  <a:pt x="70330" y="1132062"/>
                </a:lnTo>
                <a:lnTo>
                  <a:pt x="69535" y="1128491"/>
                </a:lnTo>
                <a:lnTo>
                  <a:pt x="69138" y="1124127"/>
                </a:lnTo>
                <a:lnTo>
                  <a:pt x="63178" y="1061839"/>
                </a:lnTo>
                <a:lnTo>
                  <a:pt x="56820" y="994392"/>
                </a:lnTo>
                <a:lnTo>
                  <a:pt x="50065" y="909490"/>
                </a:lnTo>
                <a:lnTo>
                  <a:pt x="42119" y="909490"/>
                </a:lnTo>
                <a:lnTo>
                  <a:pt x="35364" y="908299"/>
                </a:lnTo>
                <a:lnTo>
                  <a:pt x="29403" y="907506"/>
                </a:lnTo>
                <a:lnTo>
                  <a:pt x="24238" y="906316"/>
                </a:lnTo>
                <a:lnTo>
                  <a:pt x="20662" y="905125"/>
                </a:lnTo>
                <a:lnTo>
                  <a:pt x="17880" y="903935"/>
                </a:lnTo>
                <a:lnTo>
                  <a:pt x="17086" y="902745"/>
                </a:lnTo>
                <a:lnTo>
                  <a:pt x="16688" y="901555"/>
                </a:lnTo>
                <a:lnTo>
                  <a:pt x="16291" y="900761"/>
                </a:lnTo>
                <a:lnTo>
                  <a:pt x="16291" y="899571"/>
                </a:lnTo>
                <a:lnTo>
                  <a:pt x="14702" y="894413"/>
                </a:lnTo>
                <a:lnTo>
                  <a:pt x="12318" y="887669"/>
                </a:lnTo>
                <a:lnTo>
                  <a:pt x="10331" y="879734"/>
                </a:lnTo>
                <a:lnTo>
                  <a:pt x="8344" y="870212"/>
                </a:lnTo>
                <a:lnTo>
                  <a:pt x="6755" y="859103"/>
                </a:lnTo>
                <a:lnTo>
                  <a:pt x="4768" y="847201"/>
                </a:lnTo>
                <a:lnTo>
                  <a:pt x="3179" y="834109"/>
                </a:lnTo>
                <a:lnTo>
                  <a:pt x="1987" y="819826"/>
                </a:lnTo>
                <a:lnTo>
                  <a:pt x="795" y="805146"/>
                </a:lnTo>
                <a:lnTo>
                  <a:pt x="397" y="789277"/>
                </a:lnTo>
                <a:lnTo>
                  <a:pt x="0" y="773010"/>
                </a:lnTo>
                <a:lnTo>
                  <a:pt x="0" y="756347"/>
                </a:lnTo>
                <a:lnTo>
                  <a:pt x="795" y="738494"/>
                </a:lnTo>
                <a:lnTo>
                  <a:pt x="1987" y="721434"/>
                </a:lnTo>
                <a:lnTo>
                  <a:pt x="3576" y="703184"/>
                </a:lnTo>
                <a:lnTo>
                  <a:pt x="5563" y="684934"/>
                </a:lnTo>
                <a:lnTo>
                  <a:pt x="9139" y="667477"/>
                </a:lnTo>
                <a:lnTo>
                  <a:pt x="12715" y="649227"/>
                </a:lnTo>
                <a:lnTo>
                  <a:pt x="17483" y="631770"/>
                </a:lnTo>
                <a:lnTo>
                  <a:pt x="22649" y="614313"/>
                </a:lnTo>
                <a:lnTo>
                  <a:pt x="25430" y="605982"/>
                </a:lnTo>
                <a:lnTo>
                  <a:pt x="29006" y="597253"/>
                </a:lnTo>
                <a:lnTo>
                  <a:pt x="32185" y="588922"/>
                </a:lnTo>
                <a:lnTo>
                  <a:pt x="36158" y="580987"/>
                </a:lnTo>
                <a:lnTo>
                  <a:pt x="40132" y="573052"/>
                </a:lnTo>
                <a:lnTo>
                  <a:pt x="44503" y="565117"/>
                </a:lnTo>
                <a:lnTo>
                  <a:pt x="48873" y="557579"/>
                </a:lnTo>
                <a:lnTo>
                  <a:pt x="53244" y="549644"/>
                </a:lnTo>
                <a:lnTo>
                  <a:pt x="58410" y="542503"/>
                </a:lnTo>
                <a:lnTo>
                  <a:pt x="63973" y="535362"/>
                </a:lnTo>
                <a:lnTo>
                  <a:pt x="69535" y="528617"/>
                </a:lnTo>
                <a:lnTo>
                  <a:pt x="75496" y="522269"/>
                </a:lnTo>
                <a:lnTo>
                  <a:pt x="81456" y="515921"/>
                </a:lnTo>
                <a:lnTo>
                  <a:pt x="87416" y="509970"/>
                </a:lnTo>
                <a:lnTo>
                  <a:pt x="94171" y="504416"/>
                </a:lnTo>
                <a:lnTo>
                  <a:pt x="101720" y="498861"/>
                </a:lnTo>
                <a:lnTo>
                  <a:pt x="108873" y="493704"/>
                </a:lnTo>
                <a:lnTo>
                  <a:pt x="116422" y="488943"/>
                </a:lnTo>
                <a:lnTo>
                  <a:pt x="124369" y="484579"/>
                </a:lnTo>
                <a:lnTo>
                  <a:pt x="132713" y="480611"/>
                </a:lnTo>
                <a:lnTo>
                  <a:pt x="141455" y="477040"/>
                </a:lnTo>
                <a:lnTo>
                  <a:pt x="150594" y="473470"/>
                </a:lnTo>
                <a:lnTo>
                  <a:pt x="159733" y="470693"/>
                </a:lnTo>
                <a:lnTo>
                  <a:pt x="169667" y="467915"/>
                </a:lnTo>
                <a:lnTo>
                  <a:pt x="172845" y="467915"/>
                </a:lnTo>
                <a:lnTo>
                  <a:pt x="179998" y="468312"/>
                </a:lnTo>
                <a:lnTo>
                  <a:pt x="200262" y="469502"/>
                </a:lnTo>
                <a:lnTo>
                  <a:pt x="231652" y="471883"/>
                </a:lnTo>
                <a:lnTo>
                  <a:pt x="312711" y="730162"/>
                </a:lnTo>
                <a:lnTo>
                  <a:pt x="329400" y="728575"/>
                </a:lnTo>
                <a:lnTo>
                  <a:pt x="327413" y="709135"/>
                </a:lnTo>
                <a:lnTo>
                  <a:pt x="322247" y="527427"/>
                </a:lnTo>
                <a:lnTo>
                  <a:pt x="315492" y="509970"/>
                </a:lnTo>
                <a:lnTo>
                  <a:pt x="329002" y="486959"/>
                </a:lnTo>
                <a:lnTo>
                  <a:pt x="359598" y="486562"/>
                </a:lnTo>
                <a:lnTo>
                  <a:pt x="371916" y="509970"/>
                </a:lnTo>
                <a:lnTo>
                  <a:pt x="366353" y="530601"/>
                </a:lnTo>
                <a:lnTo>
                  <a:pt x="393372" y="722624"/>
                </a:lnTo>
                <a:lnTo>
                  <a:pt x="402114" y="721831"/>
                </a:lnTo>
                <a:lnTo>
                  <a:pt x="397346" y="476247"/>
                </a:lnTo>
                <a:lnTo>
                  <a:pt x="403703" y="473073"/>
                </a:lnTo>
                <a:lnTo>
                  <a:pt x="408869" y="470693"/>
                </a:lnTo>
                <a:lnTo>
                  <a:pt x="411253" y="468709"/>
                </a:lnTo>
                <a:lnTo>
                  <a:pt x="412047" y="467915"/>
                </a:lnTo>
                <a:lnTo>
                  <a:pt x="416816" y="467122"/>
                </a:lnTo>
                <a:lnTo>
                  <a:pt x="421584" y="467122"/>
                </a:lnTo>
                <a:lnTo>
                  <a:pt x="425557" y="466725"/>
                </a:lnTo>
                <a:close/>
                <a:moveTo>
                  <a:pt x="2003425" y="196850"/>
                </a:moveTo>
                <a:lnTo>
                  <a:pt x="2003425" y="720725"/>
                </a:lnTo>
                <a:lnTo>
                  <a:pt x="1071562" y="720328"/>
                </a:lnTo>
                <a:lnTo>
                  <a:pt x="1251744" y="585391"/>
                </a:lnTo>
                <a:lnTo>
                  <a:pt x="1404144" y="665163"/>
                </a:lnTo>
                <a:lnTo>
                  <a:pt x="1657350" y="399256"/>
                </a:lnTo>
                <a:lnTo>
                  <a:pt x="1796653" y="458788"/>
                </a:lnTo>
                <a:lnTo>
                  <a:pt x="2003425" y="196850"/>
                </a:lnTo>
                <a:close/>
                <a:moveTo>
                  <a:pt x="140097" y="182563"/>
                </a:moveTo>
                <a:lnTo>
                  <a:pt x="138509" y="201216"/>
                </a:lnTo>
                <a:lnTo>
                  <a:pt x="137319" y="215107"/>
                </a:lnTo>
                <a:lnTo>
                  <a:pt x="137716" y="215504"/>
                </a:lnTo>
                <a:lnTo>
                  <a:pt x="138509" y="201216"/>
                </a:lnTo>
                <a:lnTo>
                  <a:pt x="139303" y="194469"/>
                </a:lnTo>
                <a:lnTo>
                  <a:pt x="140097" y="188516"/>
                </a:lnTo>
                <a:lnTo>
                  <a:pt x="140097" y="182563"/>
                </a:lnTo>
                <a:close/>
                <a:moveTo>
                  <a:pt x="164306" y="111125"/>
                </a:moveTo>
                <a:lnTo>
                  <a:pt x="162719" y="111522"/>
                </a:lnTo>
                <a:lnTo>
                  <a:pt x="161131" y="111919"/>
                </a:lnTo>
                <a:lnTo>
                  <a:pt x="159544" y="112713"/>
                </a:lnTo>
                <a:lnTo>
                  <a:pt x="158353" y="113507"/>
                </a:lnTo>
                <a:lnTo>
                  <a:pt x="155972" y="117078"/>
                </a:lnTo>
                <a:lnTo>
                  <a:pt x="153591" y="120650"/>
                </a:lnTo>
                <a:lnTo>
                  <a:pt x="158353" y="115491"/>
                </a:lnTo>
                <a:lnTo>
                  <a:pt x="161131" y="113110"/>
                </a:lnTo>
                <a:lnTo>
                  <a:pt x="164306" y="111125"/>
                </a:lnTo>
                <a:close/>
                <a:moveTo>
                  <a:pt x="988111" y="91679"/>
                </a:moveTo>
                <a:lnTo>
                  <a:pt x="984541" y="92075"/>
                </a:lnTo>
                <a:lnTo>
                  <a:pt x="980971" y="93266"/>
                </a:lnTo>
                <a:lnTo>
                  <a:pt x="977798" y="94853"/>
                </a:lnTo>
                <a:lnTo>
                  <a:pt x="975022" y="97632"/>
                </a:lnTo>
                <a:lnTo>
                  <a:pt x="972642" y="100013"/>
                </a:lnTo>
                <a:lnTo>
                  <a:pt x="971055" y="103188"/>
                </a:lnTo>
                <a:lnTo>
                  <a:pt x="970262" y="106760"/>
                </a:lnTo>
                <a:lnTo>
                  <a:pt x="969865" y="110332"/>
                </a:lnTo>
                <a:lnTo>
                  <a:pt x="969865" y="578644"/>
                </a:lnTo>
                <a:lnTo>
                  <a:pt x="1457734" y="287338"/>
                </a:lnTo>
                <a:lnTo>
                  <a:pt x="1494622" y="333375"/>
                </a:lnTo>
                <a:lnTo>
                  <a:pt x="969865" y="642938"/>
                </a:lnTo>
                <a:lnTo>
                  <a:pt x="969865" y="758032"/>
                </a:lnTo>
                <a:lnTo>
                  <a:pt x="970262" y="762001"/>
                </a:lnTo>
                <a:lnTo>
                  <a:pt x="971055" y="765176"/>
                </a:lnTo>
                <a:lnTo>
                  <a:pt x="972642" y="768747"/>
                </a:lnTo>
                <a:lnTo>
                  <a:pt x="975022" y="771129"/>
                </a:lnTo>
                <a:lnTo>
                  <a:pt x="977798" y="773510"/>
                </a:lnTo>
                <a:lnTo>
                  <a:pt x="980971" y="775494"/>
                </a:lnTo>
                <a:lnTo>
                  <a:pt x="984541" y="776685"/>
                </a:lnTo>
                <a:lnTo>
                  <a:pt x="988111" y="776685"/>
                </a:lnTo>
                <a:lnTo>
                  <a:pt x="2043178" y="776685"/>
                </a:lnTo>
                <a:lnTo>
                  <a:pt x="2047144" y="776685"/>
                </a:lnTo>
                <a:lnTo>
                  <a:pt x="2050714" y="775494"/>
                </a:lnTo>
                <a:lnTo>
                  <a:pt x="2053887" y="773510"/>
                </a:lnTo>
                <a:lnTo>
                  <a:pt x="2056663" y="771129"/>
                </a:lnTo>
                <a:lnTo>
                  <a:pt x="2059043" y="768747"/>
                </a:lnTo>
                <a:lnTo>
                  <a:pt x="2060630" y="765176"/>
                </a:lnTo>
                <a:lnTo>
                  <a:pt x="2061820" y="762001"/>
                </a:lnTo>
                <a:lnTo>
                  <a:pt x="2062216" y="758032"/>
                </a:lnTo>
                <a:lnTo>
                  <a:pt x="2062216" y="110332"/>
                </a:lnTo>
                <a:lnTo>
                  <a:pt x="2061820" y="106760"/>
                </a:lnTo>
                <a:lnTo>
                  <a:pt x="2060630" y="103188"/>
                </a:lnTo>
                <a:lnTo>
                  <a:pt x="2059043" y="100013"/>
                </a:lnTo>
                <a:lnTo>
                  <a:pt x="2056663" y="97632"/>
                </a:lnTo>
                <a:lnTo>
                  <a:pt x="2053887" y="94853"/>
                </a:lnTo>
                <a:lnTo>
                  <a:pt x="2050714" y="93266"/>
                </a:lnTo>
                <a:lnTo>
                  <a:pt x="2047144" y="92075"/>
                </a:lnTo>
                <a:lnTo>
                  <a:pt x="2043178" y="91679"/>
                </a:lnTo>
                <a:lnTo>
                  <a:pt x="988111" y="91679"/>
                </a:lnTo>
                <a:close/>
                <a:moveTo>
                  <a:pt x="273050" y="38100"/>
                </a:moveTo>
                <a:lnTo>
                  <a:pt x="286544" y="38497"/>
                </a:lnTo>
                <a:lnTo>
                  <a:pt x="299641" y="38894"/>
                </a:lnTo>
                <a:lnTo>
                  <a:pt x="312341" y="40085"/>
                </a:lnTo>
                <a:lnTo>
                  <a:pt x="323850" y="42466"/>
                </a:lnTo>
                <a:lnTo>
                  <a:pt x="335756" y="44847"/>
                </a:lnTo>
                <a:lnTo>
                  <a:pt x="347266" y="47229"/>
                </a:lnTo>
                <a:lnTo>
                  <a:pt x="357981" y="50800"/>
                </a:lnTo>
                <a:lnTo>
                  <a:pt x="368697" y="53975"/>
                </a:lnTo>
                <a:lnTo>
                  <a:pt x="378222" y="57944"/>
                </a:lnTo>
                <a:lnTo>
                  <a:pt x="387747" y="61516"/>
                </a:lnTo>
                <a:lnTo>
                  <a:pt x="396478" y="65881"/>
                </a:lnTo>
                <a:lnTo>
                  <a:pt x="404813" y="70247"/>
                </a:lnTo>
                <a:lnTo>
                  <a:pt x="412750" y="74216"/>
                </a:lnTo>
                <a:lnTo>
                  <a:pt x="419894" y="78582"/>
                </a:lnTo>
                <a:lnTo>
                  <a:pt x="432197" y="86519"/>
                </a:lnTo>
                <a:lnTo>
                  <a:pt x="442516" y="93266"/>
                </a:lnTo>
                <a:lnTo>
                  <a:pt x="449660" y="99219"/>
                </a:lnTo>
                <a:lnTo>
                  <a:pt x="455613" y="104378"/>
                </a:lnTo>
                <a:lnTo>
                  <a:pt x="454025" y="107553"/>
                </a:lnTo>
                <a:lnTo>
                  <a:pt x="451644" y="111522"/>
                </a:lnTo>
                <a:lnTo>
                  <a:pt x="448866" y="116285"/>
                </a:lnTo>
                <a:lnTo>
                  <a:pt x="444897" y="122238"/>
                </a:lnTo>
                <a:lnTo>
                  <a:pt x="440532" y="128588"/>
                </a:lnTo>
                <a:lnTo>
                  <a:pt x="434578" y="134938"/>
                </a:lnTo>
                <a:lnTo>
                  <a:pt x="427832" y="141288"/>
                </a:lnTo>
                <a:lnTo>
                  <a:pt x="423863" y="144066"/>
                </a:lnTo>
                <a:lnTo>
                  <a:pt x="420291" y="146844"/>
                </a:lnTo>
                <a:lnTo>
                  <a:pt x="415925" y="149225"/>
                </a:lnTo>
                <a:lnTo>
                  <a:pt x="411163" y="151607"/>
                </a:lnTo>
                <a:lnTo>
                  <a:pt x="406797" y="153591"/>
                </a:lnTo>
                <a:lnTo>
                  <a:pt x="401638" y="155179"/>
                </a:lnTo>
                <a:lnTo>
                  <a:pt x="396082" y="156369"/>
                </a:lnTo>
                <a:lnTo>
                  <a:pt x="390525" y="157560"/>
                </a:lnTo>
                <a:lnTo>
                  <a:pt x="384572" y="157957"/>
                </a:lnTo>
                <a:lnTo>
                  <a:pt x="379016" y="157957"/>
                </a:lnTo>
                <a:lnTo>
                  <a:pt x="372666" y="157560"/>
                </a:lnTo>
                <a:lnTo>
                  <a:pt x="365919" y="155973"/>
                </a:lnTo>
                <a:lnTo>
                  <a:pt x="358775" y="154385"/>
                </a:lnTo>
                <a:lnTo>
                  <a:pt x="351235" y="152003"/>
                </a:lnTo>
                <a:lnTo>
                  <a:pt x="343694" y="148828"/>
                </a:lnTo>
                <a:lnTo>
                  <a:pt x="335756" y="145257"/>
                </a:lnTo>
                <a:lnTo>
                  <a:pt x="327025" y="140891"/>
                </a:lnTo>
                <a:lnTo>
                  <a:pt x="317103" y="136525"/>
                </a:lnTo>
                <a:lnTo>
                  <a:pt x="355203" y="155179"/>
                </a:lnTo>
                <a:lnTo>
                  <a:pt x="373063" y="163116"/>
                </a:lnTo>
                <a:lnTo>
                  <a:pt x="381397" y="166688"/>
                </a:lnTo>
                <a:lnTo>
                  <a:pt x="389335" y="169466"/>
                </a:lnTo>
                <a:lnTo>
                  <a:pt x="397272" y="172244"/>
                </a:lnTo>
                <a:lnTo>
                  <a:pt x="404813" y="173832"/>
                </a:lnTo>
                <a:lnTo>
                  <a:pt x="411957" y="175023"/>
                </a:lnTo>
                <a:lnTo>
                  <a:pt x="418703" y="175419"/>
                </a:lnTo>
                <a:lnTo>
                  <a:pt x="425053" y="175023"/>
                </a:lnTo>
                <a:lnTo>
                  <a:pt x="428228" y="174625"/>
                </a:lnTo>
                <a:lnTo>
                  <a:pt x="431007" y="173832"/>
                </a:lnTo>
                <a:lnTo>
                  <a:pt x="434182" y="173038"/>
                </a:lnTo>
                <a:lnTo>
                  <a:pt x="436563" y="171847"/>
                </a:lnTo>
                <a:lnTo>
                  <a:pt x="438944" y="169863"/>
                </a:lnTo>
                <a:lnTo>
                  <a:pt x="441722" y="168276"/>
                </a:lnTo>
                <a:lnTo>
                  <a:pt x="442913" y="180976"/>
                </a:lnTo>
                <a:lnTo>
                  <a:pt x="443310" y="192882"/>
                </a:lnTo>
                <a:lnTo>
                  <a:pt x="443310" y="203994"/>
                </a:lnTo>
                <a:lnTo>
                  <a:pt x="442913" y="215107"/>
                </a:lnTo>
                <a:lnTo>
                  <a:pt x="444500" y="213122"/>
                </a:lnTo>
                <a:lnTo>
                  <a:pt x="445691" y="212328"/>
                </a:lnTo>
                <a:lnTo>
                  <a:pt x="446882" y="212328"/>
                </a:lnTo>
                <a:lnTo>
                  <a:pt x="447675" y="212726"/>
                </a:lnTo>
                <a:lnTo>
                  <a:pt x="448072" y="213519"/>
                </a:lnTo>
                <a:lnTo>
                  <a:pt x="448866" y="216297"/>
                </a:lnTo>
                <a:lnTo>
                  <a:pt x="448866" y="221457"/>
                </a:lnTo>
                <a:lnTo>
                  <a:pt x="448866" y="228204"/>
                </a:lnTo>
                <a:lnTo>
                  <a:pt x="447675" y="244079"/>
                </a:lnTo>
                <a:lnTo>
                  <a:pt x="445294" y="262335"/>
                </a:lnTo>
                <a:lnTo>
                  <a:pt x="443310" y="279797"/>
                </a:lnTo>
                <a:lnTo>
                  <a:pt x="440928" y="294482"/>
                </a:lnTo>
                <a:lnTo>
                  <a:pt x="439738" y="300038"/>
                </a:lnTo>
                <a:lnTo>
                  <a:pt x="438547" y="303213"/>
                </a:lnTo>
                <a:lnTo>
                  <a:pt x="437753" y="304800"/>
                </a:lnTo>
                <a:lnTo>
                  <a:pt x="437357" y="304800"/>
                </a:lnTo>
                <a:lnTo>
                  <a:pt x="436960" y="304007"/>
                </a:lnTo>
                <a:lnTo>
                  <a:pt x="435769" y="313929"/>
                </a:lnTo>
                <a:lnTo>
                  <a:pt x="434182" y="323057"/>
                </a:lnTo>
                <a:lnTo>
                  <a:pt x="432197" y="332185"/>
                </a:lnTo>
                <a:lnTo>
                  <a:pt x="429816" y="341313"/>
                </a:lnTo>
                <a:lnTo>
                  <a:pt x="427435" y="349647"/>
                </a:lnTo>
                <a:lnTo>
                  <a:pt x="424260" y="357982"/>
                </a:lnTo>
                <a:lnTo>
                  <a:pt x="421482" y="365919"/>
                </a:lnTo>
                <a:lnTo>
                  <a:pt x="417513" y="373460"/>
                </a:lnTo>
                <a:lnTo>
                  <a:pt x="413941" y="381397"/>
                </a:lnTo>
                <a:lnTo>
                  <a:pt x="409972" y="388938"/>
                </a:lnTo>
                <a:lnTo>
                  <a:pt x="406003" y="395685"/>
                </a:lnTo>
                <a:lnTo>
                  <a:pt x="401241" y="402432"/>
                </a:lnTo>
                <a:lnTo>
                  <a:pt x="396875" y="408782"/>
                </a:lnTo>
                <a:lnTo>
                  <a:pt x="391716" y="415132"/>
                </a:lnTo>
                <a:lnTo>
                  <a:pt x="386953" y="420688"/>
                </a:lnTo>
                <a:lnTo>
                  <a:pt x="381794" y="426244"/>
                </a:lnTo>
                <a:lnTo>
                  <a:pt x="376635" y="431801"/>
                </a:lnTo>
                <a:lnTo>
                  <a:pt x="371078" y="436563"/>
                </a:lnTo>
                <a:lnTo>
                  <a:pt x="365919" y="440929"/>
                </a:lnTo>
                <a:lnTo>
                  <a:pt x="360363" y="445691"/>
                </a:lnTo>
                <a:lnTo>
                  <a:pt x="354806" y="449660"/>
                </a:lnTo>
                <a:lnTo>
                  <a:pt x="349250" y="453232"/>
                </a:lnTo>
                <a:lnTo>
                  <a:pt x="343297" y="456804"/>
                </a:lnTo>
                <a:lnTo>
                  <a:pt x="337741" y="459582"/>
                </a:lnTo>
                <a:lnTo>
                  <a:pt x="332185" y="462757"/>
                </a:lnTo>
                <a:lnTo>
                  <a:pt x="326628" y="464741"/>
                </a:lnTo>
                <a:lnTo>
                  <a:pt x="320675" y="466726"/>
                </a:lnTo>
                <a:lnTo>
                  <a:pt x="315119" y="468313"/>
                </a:lnTo>
                <a:lnTo>
                  <a:pt x="309563" y="469901"/>
                </a:lnTo>
                <a:lnTo>
                  <a:pt x="304403" y="470694"/>
                </a:lnTo>
                <a:lnTo>
                  <a:pt x="298847" y="471091"/>
                </a:lnTo>
                <a:lnTo>
                  <a:pt x="293688" y="471488"/>
                </a:lnTo>
                <a:lnTo>
                  <a:pt x="288925" y="471091"/>
                </a:lnTo>
                <a:lnTo>
                  <a:pt x="284956" y="470694"/>
                </a:lnTo>
                <a:lnTo>
                  <a:pt x="280194" y="469901"/>
                </a:lnTo>
                <a:lnTo>
                  <a:pt x="275034" y="467916"/>
                </a:lnTo>
                <a:lnTo>
                  <a:pt x="270669" y="466329"/>
                </a:lnTo>
                <a:lnTo>
                  <a:pt x="265509" y="464344"/>
                </a:lnTo>
                <a:lnTo>
                  <a:pt x="259953" y="462360"/>
                </a:lnTo>
                <a:lnTo>
                  <a:pt x="254794" y="459185"/>
                </a:lnTo>
                <a:lnTo>
                  <a:pt x="244078" y="452438"/>
                </a:lnTo>
                <a:lnTo>
                  <a:pt x="232966" y="444898"/>
                </a:lnTo>
                <a:lnTo>
                  <a:pt x="221853" y="435769"/>
                </a:lnTo>
                <a:lnTo>
                  <a:pt x="211534" y="425450"/>
                </a:lnTo>
                <a:lnTo>
                  <a:pt x="200819" y="413941"/>
                </a:lnTo>
                <a:lnTo>
                  <a:pt x="190500" y="402035"/>
                </a:lnTo>
                <a:lnTo>
                  <a:pt x="185737" y="395685"/>
                </a:lnTo>
                <a:lnTo>
                  <a:pt x="180578" y="388938"/>
                </a:lnTo>
                <a:lnTo>
                  <a:pt x="176609" y="381794"/>
                </a:lnTo>
                <a:lnTo>
                  <a:pt x="171847" y="374651"/>
                </a:lnTo>
                <a:lnTo>
                  <a:pt x="167481" y="367507"/>
                </a:lnTo>
                <a:lnTo>
                  <a:pt x="163512" y="359569"/>
                </a:lnTo>
                <a:lnTo>
                  <a:pt x="159544" y="351632"/>
                </a:lnTo>
                <a:lnTo>
                  <a:pt x="156369" y="343694"/>
                </a:lnTo>
                <a:lnTo>
                  <a:pt x="152797" y="335757"/>
                </a:lnTo>
                <a:lnTo>
                  <a:pt x="150019" y="327422"/>
                </a:lnTo>
                <a:lnTo>
                  <a:pt x="147241" y="318691"/>
                </a:lnTo>
                <a:lnTo>
                  <a:pt x="144859" y="310357"/>
                </a:lnTo>
                <a:lnTo>
                  <a:pt x="142875" y="316310"/>
                </a:lnTo>
                <a:lnTo>
                  <a:pt x="140494" y="320676"/>
                </a:lnTo>
                <a:lnTo>
                  <a:pt x="139700" y="322263"/>
                </a:lnTo>
                <a:lnTo>
                  <a:pt x="138509" y="323057"/>
                </a:lnTo>
                <a:lnTo>
                  <a:pt x="137319" y="323851"/>
                </a:lnTo>
                <a:lnTo>
                  <a:pt x="136128" y="324247"/>
                </a:lnTo>
                <a:lnTo>
                  <a:pt x="134541" y="323851"/>
                </a:lnTo>
                <a:lnTo>
                  <a:pt x="133350" y="323057"/>
                </a:lnTo>
                <a:lnTo>
                  <a:pt x="132159" y="321866"/>
                </a:lnTo>
                <a:lnTo>
                  <a:pt x="130969" y="319485"/>
                </a:lnTo>
                <a:lnTo>
                  <a:pt x="128587" y="314722"/>
                </a:lnTo>
                <a:lnTo>
                  <a:pt x="126603" y="308372"/>
                </a:lnTo>
                <a:lnTo>
                  <a:pt x="125016" y="300038"/>
                </a:lnTo>
                <a:lnTo>
                  <a:pt x="123825" y="290513"/>
                </a:lnTo>
                <a:lnTo>
                  <a:pt x="123031" y="280591"/>
                </a:lnTo>
                <a:lnTo>
                  <a:pt x="122634" y="269478"/>
                </a:lnTo>
                <a:lnTo>
                  <a:pt x="123031" y="259557"/>
                </a:lnTo>
                <a:lnTo>
                  <a:pt x="123428" y="250032"/>
                </a:lnTo>
                <a:lnTo>
                  <a:pt x="124619" y="241300"/>
                </a:lnTo>
                <a:lnTo>
                  <a:pt x="125809" y="233760"/>
                </a:lnTo>
                <a:lnTo>
                  <a:pt x="127397" y="227013"/>
                </a:lnTo>
                <a:lnTo>
                  <a:pt x="129778" y="221854"/>
                </a:lnTo>
                <a:lnTo>
                  <a:pt x="131762" y="217488"/>
                </a:lnTo>
                <a:lnTo>
                  <a:pt x="132953" y="216297"/>
                </a:lnTo>
                <a:lnTo>
                  <a:pt x="134144" y="215504"/>
                </a:lnTo>
                <a:lnTo>
                  <a:pt x="130572" y="211138"/>
                </a:lnTo>
                <a:lnTo>
                  <a:pt x="127000" y="207169"/>
                </a:lnTo>
                <a:lnTo>
                  <a:pt x="124619" y="202407"/>
                </a:lnTo>
                <a:lnTo>
                  <a:pt x="122634" y="197247"/>
                </a:lnTo>
                <a:lnTo>
                  <a:pt x="120253" y="192485"/>
                </a:lnTo>
                <a:lnTo>
                  <a:pt x="119062" y="186928"/>
                </a:lnTo>
                <a:lnTo>
                  <a:pt x="118269" y="181372"/>
                </a:lnTo>
                <a:lnTo>
                  <a:pt x="117475" y="175816"/>
                </a:lnTo>
                <a:lnTo>
                  <a:pt x="117475" y="170260"/>
                </a:lnTo>
                <a:lnTo>
                  <a:pt x="117475" y="164704"/>
                </a:lnTo>
                <a:lnTo>
                  <a:pt x="117872" y="158751"/>
                </a:lnTo>
                <a:lnTo>
                  <a:pt x="118269" y="152797"/>
                </a:lnTo>
                <a:lnTo>
                  <a:pt x="120253" y="140891"/>
                </a:lnTo>
                <a:lnTo>
                  <a:pt x="123428" y="129381"/>
                </a:lnTo>
                <a:lnTo>
                  <a:pt x="126603" y="118666"/>
                </a:lnTo>
                <a:lnTo>
                  <a:pt x="130969" y="107951"/>
                </a:lnTo>
                <a:lnTo>
                  <a:pt x="135334" y="98426"/>
                </a:lnTo>
                <a:lnTo>
                  <a:pt x="139700" y="90091"/>
                </a:lnTo>
                <a:lnTo>
                  <a:pt x="144066" y="82154"/>
                </a:lnTo>
                <a:lnTo>
                  <a:pt x="148034" y="76597"/>
                </a:lnTo>
                <a:lnTo>
                  <a:pt x="152003" y="72231"/>
                </a:lnTo>
                <a:lnTo>
                  <a:pt x="153194" y="70644"/>
                </a:lnTo>
                <a:lnTo>
                  <a:pt x="154781" y="69850"/>
                </a:lnTo>
                <a:lnTo>
                  <a:pt x="170656" y="61913"/>
                </a:lnTo>
                <a:lnTo>
                  <a:pt x="186134" y="55960"/>
                </a:lnTo>
                <a:lnTo>
                  <a:pt x="201216" y="50403"/>
                </a:lnTo>
                <a:lnTo>
                  <a:pt x="216297" y="46038"/>
                </a:lnTo>
                <a:lnTo>
                  <a:pt x="230981" y="42863"/>
                </a:lnTo>
                <a:lnTo>
                  <a:pt x="245269" y="40482"/>
                </a:lnTo>
                <a:lnTo>
                  <a:pt x="259556" y="38894"/>
                </a:lnTo>
                <a:lnTo>
                  <a:pt x="273050" y="38100"/>
                </a:lnTo>
                <a:close/>
                <a:moveTo>
                  <a:pt x="982954" y="0"/>
                </a:moveTo>
                <a:lnTo>
                  <a:pt x="988111" y="0"/>
                </a:lnTo>
                <a:lnTo>
                  <a:pt x="2043178" y="0"/>
                </a:lnTo>
                <a:lnTo>
                  <a:pt x="2049127" y="0"/>
                </a:lnTo>
                <a:lnTo>
                  <a:pt x="2054680" y="397"/>
                </a:lnTo>
                <a:lnTo>
                  <a:pt x="2060233" y="1191"/>
                </a:lnTo>
                <a:lnTo>
                  <a:pt x="2065786" y="1985"/>
                </a:lnTo>
                <a:lnTo>
                  <a:pt x="2070942" y="3572"/>
                </a:lnTo>
                <a:lnTo>
                  <a:pt x="2076099" y="5160"/>
                </a:lnTo>
                <a:lnTo>
                  <a:pt x="2081255" y="6747"/>
                </a:lnTo>
                <a:lnTo>
                  <a:pt x="2086411" y="8732"/>
                </a:lnTo>
                <a:lnTo>
                  <a:pt x="2091171" y="11113"/>
                </a:lnTo>
                <a:lnTo>
                  <a:pt x="2095931" y="13494"/>
                </a:lnTo>
                <a:lnTo>
                  <a:pt x="2100691" y="16272"/>
                </a:lnTo>
                <a:lnTo>
                  <a:pt x="2105054" y="19050"/>
                </a:lnTo>
                <a:lnTo>
                  <a:pt x="2109417" y="21828"/>
                </a:lnTo>
                <a:lnTo>
                  <a:pt x="2113780" y="25401"/>
                </a:lnTo>
                <a:lnTo>
                  <a:pt x="2121713" y="32544"/>
                </a:lnTo>
                <a:lnTo>
                  <a:pt x="2128852" y="40085"/>
                </a:lnTo>
                <a:lnTo>
                  <a:pt x="2131629" y="44451"/>
                </a:lnTo>
                <a:lnTo>
                  <a:pt x="2135198" y="48816"/>
                </a:lnTo>
                <a:lnTo>
                  <a:pt x="2137578" y="53182"/>
                </a:lnTo>
                <a:lnTo>
                  <a:pt x="2140751" y="57944"/>
                </a:lnTo>
                <a:lnTo>
                  <a:pt x="2143131" y="62707"/>
                </a:lnTo>
                <a:lnTo>
                  <a:pt x="2145114" y="67469"/>
                </a:lnTo>
                <a:lnTo>
                  <a:pt x="2147494" y="72628"/>
                </a:lnTo>
                <a:lnTo>
                  <a:pt x="2149081" y="77788"/>
                </a:lnTo>
                <a:lnTo>
                  <a:pt x="2150271" y="82947"/>
                </a:lnTo>
                <a:lnTo>
                  <a:pt x="2151461" y="88107"/>
                </a:lnTo>
                <a:lnTo>
                  <a:pt x="2152254" y="93663"/>
                </a:lnTo>
                <a:lnTo>
                  <a:pt x="2153444" y="99219"/>
                </a:lnTo>
                <a:lnTo>
                  <a:pt x="2153841" y="105172"/>
                </a:lnTo>
                <a:lnTo>
                  <a:pt x="2154237" y="110332"/>
                </a:lnTo>
                <a:lnTo>
                  <a:pt x="2154237" y="758032"/>
                </a:lnTo>
                <a:lnTo>
                  <a:pt x="2153841" y="763588"/>
                </a:lnTo>
                <a:lnTo>
                  <a:pt x="2153444" y="769144"/>
                </a:lnTo>
                <a:lnTo>
                  <a:pt x="2152254" y="775097"/>
                </a:lnTo>
                <a:lnTo>
                  <a:pt x="2151461" y="779860"/>
                </a:lnTo>
                <a:lnTo>
                  <a:pt x="2150271" y="785416"/>
                </a:lnTo>
                <a:lnTo>
                  <a:pt x="2149081" y="790972"/>
                </a:lnTo>
                <a:lnTo>
                  <a:pt x="2147494" y="796132"/>
                </a:lnTo>
                <a:lnTo>
                  <a:pt x="2145114" y="800894"/>
                </a:lnTo>
                <a:lnTo>
                  <a:pt x="2143131" y="805657"/>
                </a:lnTo>
                <a:lnTo>
                  <a:pt x="2140751" y="810816"/>
                </a:lnTo>
                <a:lnTo>
                  <a:pt x="2137578" y="815579"/>
                </a:lnTo>
                <a:lnTo>
                  <a:pt x="2135198" y="819547"/>
                </a:lnTo>
                <a:lnTo>
                  <a:pt x="2131629" y="824310"/>
                </a:lnTo>
                <a:lnTo>
                  <a:pt x="2128852" y="827882"/>
                </a:lnTo>
                <a:lnTo>
                  <a:pt x="2124886" y="832247"/>
                </a:lnTo>
                <a:lnTo>
                  <a:pt x="2121713" y="836216"/>
                </a:lnTo>
                <a:lnTo>
                  <a:pt x="2117350" y="839788"/>
                </a:lnTo>
                <a:lnTo>
                  <a:pt x="2113780" y="843360"/>
                </a:lnTo>
                <a:lnTo>
                  <a:pt x="2109417" y="846535"/>
                </a:lnTo>
                <a:lnTo>
                  <a:pt x="2105054" y="849710"/>
                </a:lnTo>
                <a:lnTo>
                  <a:pt x="2100691" y="852488"/>
                </a:lnTo>
                <a:lnTo>
                  <a:pt x="2095931" y="854869"/>
                </a:lnTo>
                <a:lnTo>
                  <a:pt x="2091171" y="857647"/>
                </a:lnTo>
                <a:lnTo>
                  <a:pt x="2086411" y="859632"/>
                </a:lnTo>
                <a:lnTo>
                  <a:pt x="2081255" y="861616"/>
                </a:lnTo>
                <a:lnTo>
                  <a:pt x="2076099" y="863601"/>
                </a:lnTo>
                <a:lnTo>
                  <a:pt x="2070942" y="865188"/>
                </a:lnTo>
                <a:lnTo>
                  <a:pt x="2065786" y="866379"/>
                </a:lnTo>
                <a:lnTo>
                  <a:pt x="2060233" y="867172"/>
                </a:lnTo>
                <a:lnTo>
                  <a:pt x="2054680" y="867966"/>
                </a:lnTo>
                <a:lnTo>
                  <a:pt x="2049127" y="868363"/>
                </a:lnTo>
                <a:lnTo>
                  <a:pt x="2043178" y="868363"/>
                </a:lnTo>
                <a:lnTo>
                  <a:pt x="988111" y="868363"/>
                </a:lnTo>
                <a:lnTo>
                  <a:pt x="982954" y="868363"/>
                </a:lnTo>
                <a:lnTo>
                  <a:pt x="977401" y="867966"/>
                </a:lnTo>
                <a:lnTo>
                  <a:pt x="971452" y="867172"/>
                </a:lnTo>
                <a:lnTo>
                  <a:pt x="966295" y="866379"/>
                </a:lnTo>
                <a:lnTo>
                  <a:pt x="960742" y="865188"/>
                </a:lnTo>
                <a:lnTo>
                  <a:pt x="955586" y="863601"/>
                </a:lnTo>
                <a:lnTo>
                  <a:pt x="950430" y="861616"/>
                </a:lnTo>
                <a:lnTo>
                  <a:pt x="945273" y="859632"/>
                </a:lnTo>
                <a:lnTo>
                  <a:pt x="940514" y="857647"/>
                </a:lnTo>
                <a:lnTo>
                  <a:pt x="935754" y="854869"/>
                </a:lnTo>
                <a:lnTo>
                  <a:pt x="930994" y="852488"/>
                </a:lnTo>
                <a:lnTo>
                  <a:pt x="926631" y="849710"/>
                </a:lnTo>
                <a:lnTo>
                  <a:pt x="922268" y="846535"/>
                </a:lnTo>
                <a:lnTo>
                  <a:pt x="918302" y="843360"/>
                </a:lnTo>
                <a:lnTo>
                  <a:pt x="913939" y="839788"/>
                </a:lnTo>
                <a:lnTo>
                  <a:pt x="910369" y="836216"/>
                </a:lnTo>
                <a:lnTo>
                  <a:pt x="906402" y="832247"/>
                </a:lnTo>
                <a:lnTo>
                  <a:pt x="903229" y="827882"/>
                </a:lnTo>
                <a:lnTo>
                  <a:pt x="899659" y="824310"/>
                </a:lnTo>
                <a:lnTo>
                  <a:pt x="896883" y="819547"/>
                </a:lnTo>
                <a:lnTo>
                  <a:pt x="893710" y="815579"/>
                </a:lnTo>
                <a:lnTo>
                  <a:pt x="891330" y="810816"/>
                </a:lnTo>
                <a:lnTo>
                  <a:pt x="888950" y="805657"/>
                </a:lnTo>
                <a:lnTo>
                  <a:pt x="886570" y="800894"/>
                </a:lnTo>
                <a:lnTo>
                  <a:pt x="884587" y="796132"/>
                </a:lnTo>
                <a:lnTo>
                  <a:pt x="883001" y="790972"/>
                </a:lnTo>
                <a:lnTo>
                  <a:pt x="881414" y="785416"/>
                </a:lnTo>
                <a:lnTo>
                  <a:pt x="879827" y="779860"/>
                </a:lnTo>
                <a:lnTo>
                  <a:pt x="879034" y="775097"/>
                </a:lnTo>
                <a:lnTo>
                  <a:pt x="878241" y="769144"/>
                </a:lnTo>
                <a:lnTo>
                  <a:pt x="877844" y="763588"/>
                </a:lnTo>
                <a:lnTo>
                  <a:pt x="877844" y="758032"/>
                </a:lnTo>
                <a:lnTo>
                  <a:pt x="877844" y="696913"/>
                </a:lnTo>
                <a:lnTo>
                  <a:pt x="833420" y="723504"/>
                </a:lnTo>
                <a:lnTo>
                  <a:pt x="804862" y="676672"/>
                </a:lnTo>
                <a:lnTo>
                  <a:pt x="877844" y="633413"/>
                </a:lnTo>
                <a:lnTo>
                  <a:pt x="877844" y="110332"/>
                </a:lnTo>
                <a:lnTo>
                  <a:pt x="877844" y="105172"/>
                </a:lnTo>
                <a:lnTo>
                  <a:pt x="878241" y="99219"/>
                </a:lnTo>
                <a:lnTo>
                  <a:pt x="879034" y="93663"/>
                </a:lnTo>
                <a:lnTo>
                  <a:pt x="879827" y="88107"/>
                </a:lnTo>
                <a:lnTo>
                  <a:pt x="881414" y="82947"/>
                </a:lnTo>
                <a:lnTo>
                  <a:pt x="883001" y="77788"/>
                </a:lnTo>
                <a:lnTo>
                  <a:pt x="884587" y="72628"/>
                </a:lnTo>
                <a:lnTo>
                  <a:pt x="886570" y="67469"/>
                </a:lnTo>
                <a:lnTo>
                  <a:pt x="888950" y="62707"/>
                </a:lnTo>
                <a:lnTo>
                  <a:pt x="891330" y="57944"/>
                </a:lnTo>
                <a:lnTo>
                  <a:pt x="893710" y="53182"/>
                </a:lnTo>
                <a:lnTo>
                  <a:pt x="896883" y="48816"/>
                </a:lnTo>
                <a:lnTo>
                  <a:pt x="899659" y="44451"/>
                </a:lnTo>
                <a:lnTo>
                  <a:pt x="903229" y="40085"/>
                </a:lnTo>
                <a:lnTo>
                  <a:pt x="910369" y="32544"/>
                </a:lnTo>
                <a:lnTo>
                  <a:pt x="918302" y="25401"/>
                </a:lnTo>
                <a:lnTo>
                  <a:pt x="922268" y="21828"/>
                </a:lnTo>
                <a:lnTo>
                  <a:pt x="926631" y="19050"/>
                </a:lnTo>
                <a:lnTo>
                  <a:pt x="930994" y="16272"/>
                </a:lnTo>
                <a:lnTo>
                  <a:pt x="935754" y="13494"/>
                </a:lnTo>
                <a:lnTo>
                  <a:pt x="940514" y="11113"/>
                </a:lnTo>
                <a:lnTo>
                  <a:pt x="945273" y="8732"/>
                </a:lnTo>
                <a:lnTo>
                  <a:pt x="950430" y="6747"/>
                </a:lnTo>
                <a:lnTo>
                  <a:pt x="955586" y="5160"/>
                </a:lnTo>
                <a:lnTo>
                  <a:pt x="960742" y="3572"/>
                </a:lnTo>
                <a:lnTo>
                  <a:pt x="966295" y="1985"/>
                </a:lnTo>
                <a:lnTo>
                  <a:pt x="971452" y="1191"/>
                </a:lnTo>
                <a:lnTo>
                  <a:pt x="977401" y="397"/>
                </a:lnTo>
                <a:lnTo>
                  <a:pt x="982954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3156120" y="3065400"/>
            <a:ext cx="54054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6"/>
          <p:cNvSpPr/>
          <p:nvPr/>
        </p:nvSpPr>
        <p:spPr>
          <a:xfrm>
            <a:off x="1395360" y="2282760"/>
            <a:ext cx="23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54040" y="1662120"/>
            <a:ext cx="3336840" cy="571320"/>
            <a:chOff x="554040" y="1662120"/>
            <a:chExt cx="3336840" cy="571320"/>
          </a:xfrm>
        </p:grpSpPr>
        <p:sp>
          <p:nvSpPr>
            <p:cNvPr id="115" name="椭圆 1"/>
            <p:cNvSpPr/>
            <p:nvPr/>
          </p:nvSpPr>
          <p:spPr>
            <a:xfrm>
              <a:off x="554040" y="181692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组合 14"/>
            <p:cNvGrpSpPr/>
            <p:nvPr/>
          </p:nvGrpSpPr>
          <p:grpSpPr>
            <a:xfrm>
              <a:off x="859680" y="1662120"/>
              <a:ext cx="3031200" cy="571320"/>
              <a:chOff x="859680" y="1662120"/>
              <a:chExt cx="3031200" cy="571320"/>
            </a:xfrm>
          </p:grpSpPr>
          <p:sp>
            <p:nvSpPr>
              <p:cNvPr id="117" name="等腰三角形 2"/>
              <p:cNvSpPr/>
              <p:nvPr/>
            </p:nvSpPr>
            <p:spPr>
              <a:xfrm rot="16200000">
                <a:off x="857880" y="1837800"/>
                <a:ext cx="222840" cy="21924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4"/>
              <p:cNvSpPr/>
              <p:nvPr/>
            </p:nvSpPr>
            <p:spPr>
              <a:xfrm>
                <a:off x="1078920" y="166212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KSO_Shape"/>
          <p:cNvSpPr/>
          <p:nvPr/>
        </p:nvSpPr>
        <p:spPr>
          <a:xfrm>
            <a:off x="5172120" y="1846440"/>
            <a:ext cx="2282760" cy="1957320"/>
          </a:xfrm>
          <a:custGeom>
            <a:avLst/>
            <a:gdLst/>
            <a:ahLst/>
            <a:rect l="l" t="t" r="r" b="b"/>
            <a:pathLst>
              <a:path w="2257425" h="2301876">
                <a:moveTo>
                  <a:pt x="1904187" y="1303338"/>
                </a:moveTo>
                <a:lnTo>
                  <a:pt x="2112963" y="1303338"/>
                </a:lnTo>
                <a:lnTo>
                  <a:pt x="2112963" y="2128424"/>
                </a:lnTo>
                <a:lnTo>
                  <a:pt x="1610695" y="2128424"/>
                </a:lnTo>
                <a:lnTo>
                  <a:pt x="1610695" y="2301876"/>
                </a:lnTo>
                <a:lnTo>
                  <a:pt x="1158875" y="2023782"/>
                </a:lnTo>
                <a:lnTo>
                  <a:pt x="1610695" y="1746005"/>
                </a:lnTo>
                <a:lnTo>
                  <a:pt x="1610695" y="1919457"/>
                </a:lnTo>
                <a:lnTo>
                  <a:pt x="1904187" y="1919457"/>
                </a:lnTo>
                <a:lnTo>
                  <a:pt x="1904187" y="1303338"/>
                </a:lnTo>
                <a:close/>
                <a:moveTo>
                  <a:pt x="477837" y="1195388"/>
                </a:moveTo>
                <a:lnTo>
                  <a:pt x="491490" y="1195705"/>
                </a:lnTo>
                <a:lnTo>
                  <a:pt x="504825" y="1196658"/>
                </a:lnTo>
                <a:lnTo>
                  <a:pt x="518160" y="1198246"/>
                </a:lnTo>
                <a:lnTo>
                  <a:pt x="531177" y="1200787"/>
                </a:lnTo>
                <a:lnTo>
                  <a:pt x="543877" y="1203646"/>
                </a:lnTo>
                <a:lnTo>
                  <a:pt x="556577" y="1207139"/>
                </a:lnTo>
                <a:lnTo>
                  <a:pt x="568642" y="1210951"/>
                </a:lnTo>
                <a:lnTo>
                  <a:pt x="580390" y="1216033"/>
                </a:lnTo>
                <a:lnTo>
                  <a:pt x="592137" y="1221432"/>
                </a:lnTo>
                <a:lnTo>
                  <a:pt x="603567" y="1226831"/>
                </a:lnTo>
                <a:lnTo>
                  <a:pt x="614362" y="1233184"/>
                </a:lnTo>
                <a:lnTo>
                  <a:pt x="625157" y="1240171"/>
                </a:lnTo>
                <a:lnTo>
                  <a:pt x="635317" y="1247476"/>
                </a:lnTo>
                <a:lnTo>
                  <a:pt x="645477" y="1255416"/>
                </a:lnTo>
                <a:lnTo>
                  <a:pt x="655002" y="1263992"/>
                </a:lnTo>
                <a:lnTo>
                  <a:pt x="664210" y="1272250"/>
                </a:lnTo>
                <a:lnTo>
                  <a:pt x="673100" y="1281460"/>
                </a:lnTo>
                <a:lnTo>
                  <a:pt x="681037" y="1291306"/>
                </a:lnTo>
                <a:lnTo>
                  <a:pt x="688975" y="1301152"/>
                </a:lnTo>
                <a:lnTo>
                  <a:pt x="696277" y="1311316"/>
                </a:lnTo>
                <a:lnTo>
                  <a:pt x="703262" y="1322115"/>
                </a:lnTo>
                <a:lnTo>
                  <a:pt x="709612" y="1333231"/>
                </a:lnTo>
                <a:lnTo>
                  <a:pt x="715327" y="1344348"/>
                </a:lnTo>
                <a:lnTo>
                  <a:pt x="720725" y="1356099"/>
                </a:lnTo>
                <a:lnTo>
                  <a:pt x="725487" y="1367851"/>
                </a:lnTo>
                <a:lnTo>
                  <a:pt x="729297" y="1379920"/>
                </a:lnTo>
                <a:lnTo>
                  <a:pt x="732790" y="1392624"/>
                </a:lnTo>
                <a:lnTo>
                  <a:pt x="735647" y="1405646"/>
                </a:lnTo>
                <a:lnTo>
                  <a:pt x="738187" y="1418351"/>
                </a:lnTo>
                <a:lnTo>
                  <a:pt x="739775" y="1431690"/>
                </a:lnTo>
                <a:lnTo>
                  <a:pt x="740727" y="1445030"/>
                </a:lnTo>
                <a:lnTo>
                  <a:pt x="741362" y="1458370"/>
                </a:lnTo>
                <a:lnTo>
                  <a:pt x="740727" y="1471392"/>
                </a:lnTo>
                <a:lnTo>
                  <a:pt x="739775" y="1484414"/>
                </a:lnTo>
                <a:lnTo>
                  <a:pt x="738187" y="1497118"/>
                </a:lnTo>
                <a:lnTo>
                  <a:pt x="735965" y="1509505"/>
                </a:lnTo>
                <a:lnTo>
                  <a:pt x="733425" y="1521574"/>
                </a:lnTo>
                <a:lnTo>
                  <a:pt x="730250" y="1533961"/>
                </a:lnTo>
                <a:lnTo>
                  <a:pt x="726122" y="1545713"/>
                </a:lnTo>
                <a:lnTo>
                  <a:pt x="721677" y="1557147"/>
                </a:lnTo>
                <a:lnTo>
                  <a:pt x="716915" y="1568581"/>
                </a:lnTo>
                <a:lnTo>
                  <a:pt x="711200" y="1579379"/>
                </a:lnTo>
                <a:lnTo>
                  <a:pt x="705485" y="1589861"/>
                </a:lnTo>
                <a:lnTo>
                  <a:pt x="698817" y="1600659"/>
                </a:lnTo>
                <a:lnTo>
                  <a:pt x="692150" y="1610505"/>
                </a:lnTo>
                <a:lnTo>
                  <a:pt x="684847" y="1620034"/>
                </a:lnTo>
                <a:lnTo>
                  <a:pt x="676910" y="1629880"/>
                </a:lnTo>
                <a:lnTo>
                  <a:pt x="668972" y="1638773"/>
                </a:lnTo>
                <a:lnTo>
                  <a:pt x="669290" y="1639090"/>
                </a:lnTo>
                <a:lnTo>
                  <a:pt x="662622" y="1646078"/>
                </a:lnTo>
                <a:lnTo>
                  <a:pt x="656272" y="1653065"/>
                </a:lnTo>
                <a:lnTo>
                  <a:pt x="650240" y="1660688"/>
                </a:lnTo>
                <a:lnTo>
                  <a:pt x="644525" y="1667993"/>
                </a:lnTo>
                <a:lnTo>
                  <a:pt x="639127" y="1676251"/>
                </a:lnTo>
                <a:lnTo>
                  <a:pt x="634047" y="1684509"/>
                </a:lnTo>
                <a:lnTo>
                  <a:pt x="629602" y="1692449"/>
                </a:lnTo>
                <a:lnTo>
                  <a:pt x="625157" y="1700707"/>
                </a:lnTo>
                <a:lnTo>
                  <a:pt x="621030" y="1708647"/>
                </a:lnTo>
                <a:lnTo>
                  <a:pt x="617220" y="1717222"/>
                </a:lnTo>
                <a:lnTo>
                  <a:pt x="614045" y="1725798"/>
                </a:lnTo>
                <a:lnTo>
                  <a:pt x="611505" y="1733738"/>
                </a:lnTo>
                <a:lnTo>
                  <a:pt x="608965" y="1742314"/>
                </a:lnTo>
                <a:lnTo>
                  <a:pt x="607060" y="1750254"/>
                </a:lnTo>
                <a:lnTo>
                  <a:pt x="605155" y="1758512"/>
                </a:lnTo>
                <a:lnTo>
                  <a:pt x="604202" y="1766135"/>
                </a:lnTo>
                <a:lnTo>
                  <a:pt x="603250" y="1774392"/>
                </a:lnTo>
                <a:lnTo>
                  <a:pt x="603250" y="1781697"/>
                </a:lnTo>
                <a:lnTo>
                  <a:pt x="603250" y="1789638"/>
                </a:lnTo>
                <a:lnTo>
                  <a:pt x="604202" y="1796625"/>
                </a:lnTo>
                <a:lnTo>
                  <a:pt x="605155" y="1803613"/>
                </a:lnTo>
                <a:lnTo>
                  <a:pt x="606742" y="1810282"/>
                </a:lnTo>
                <a:lnTo>
                  <a:pt x="608965" y="1816317"/>
                </a:lnTo>
                <a:lnTo>
                  <a:pt x="611505" y="1822352"/>
                </a:lnTo>
                <a:lnTo>
                  <a:pt x="614362" y="1827751"/>
                </a:lnTo>
                <a:lnTo>
                  <a:pt x="618172" y="1833150"/>
                </a:lnTo>
                <a:lnTo>
                  <a:pt x="621982" y="1837915"/>
                </a:lnTo>
                <a:lnTo>
                  <a:pt x="626427" y="1841726"/>
                </a:lnTo>
                <a:lnTo>
                  <a:pt x="631825" y="1845537"/>
                </a:lnTo>
                <a:lnTo>
                  <a:pt x="637540" y="1849031"/>
                </a:lnTo>
                <a:lnTo>
                  <a:pt x="643890" y="1851572"/>
                </a:lnTo>
                <a:lnTo>
                  <a:pt x="650875" y="1853795"/>
                </a:lnTo>
                <a:lnTo>
                  <a:pt x="652780" y="1854430"/>
                </a:lnTo>
                <a:lnTo>
                  <a:pt x="654685" y="1855066"/>
                </a:lnTo>
                <a:lnTo>
                  <a:pt x="666750" y="1857289"/>
                </a:lnTo>
                <a:lnTo>
                  <a:pt x="678815" y="1859194"/>
                </a:lnTo>
                <a:lnTo>
                  <a:pt x="691515" y="1860783"/>
                </a:lnTo>
                <a:lnTo>
                  <a:pt x="703897" y="1861418"/>
                </a:lnTo>
                <a:lnTo>
                  <a:pt x="729297" y="1863006"/>
                </a:lnTo>
                <a:lnTo>
                  <a:pt x="755015" y="1863959"/>
                </a:lnTo>
                <a:lnTo>
                  <a:pt x="780415" y="1865229"/>
                </a:lnTo>
                <a:lnTo>
                  <a:pt x="792797" y="1865864"/>
                </a:lnTo>
                <a:lnTo>
                  <a:pt x="805497" y="1866817"/>
                </a:lnTo>
                <a:lnTo>
                  <a:pt x="817562" y="1868405"/>
                </a:lnTo>
                <a:lnTo>
                  <a:pt x="829310" y="1870311"/>
                </a:lnTo>
                <a:lnTo>
                  <a:pt x="841057" y="1872852"/>
                </a:lnTo>
                <a:lnTo>
                  <a:pt x="852487" y="1875710"/>
                </a:lnTo>
                <a:lnTo>
                  <a:pt x="863600" y="1879522"/>
                </a:lnTo>
                <a:lnTo>
                  <a:pt x="874077" y="1883650"/>
                </a:lnTo>
                <a:lnTo>
                  <a:pt x="879157" y="1886191"/>
                </a:lnTo>
                <a:lnTo>
                  <a:pt x="884237" y="1888732"/>
                </a:lnTo>
                <a:lnTo>
                  <a:pt x="889000" y="1891591"/>
                </a:lnTo>
                <a:lnTo>
                  <a:pt x="893762" y="1894767"/>
                </a:lnTo>
                <a:lnTo>
                  <a:pt x="898207" y="1898261"/>
                </a:lnTo>
                <a:lnTo>
                  <a:pt x="902652" y="1901754"/>
                </a:lnTo>
                <a:lnTo>
                  <a:pt x="907097" y="1905566"/>
                </a:lnTo>
                <a:lnTo>
                  <a:pt x="911225" y="1909695"/>
                </a:lnTo>
                <a:lnTo>
                  <a:pt x="915352" y="1914141"/>
                </a:lnTo>
                <a:lnTo>
                  <a:pt x="919162" y="1918905"/>
                </a:lnTo>
                <a:lnTo>
                  <a:pt x="922972" y="1923669"/>
                </a:lnTo>
                <a:lnTo>
                  <a:pt x="926465" y="1929069"/>
                </a:lnTo>
                <a:lnTo>
                  <a:pt x="929957" y="1934468"/>
                </a:lnTo>
                <a:lnTo>
                  <a:pt x="932815" y="1940503"/>
                </a:lnTo>
                <a:lnTo>
                  <a:pt x="935990" y="1946537"/>
                </a:lnTo>
                <a:lnTo>
                  <a:pt x="938847" y="1953207"/>
                </a:lnTo>
                <a:lnTo>
                  <a:pt x="941387" y="1960195"/>
                </a:lnTo>
                <a:lnTo>
                  <a:pt x="943610" y="1967817"/>
                </a:lnTo>
                <a:lnTo>
                  <a:pt x="945832" y="1975122"/>
                </a:lnTo>
                <a:lnTo>
                  <a:pt x="948055" y="1983063"/>
                </a:lnTo>
                <a:lnTo>
                  <a:pt x="949960" y="1991638"/>
                </a:lnTo>
                <a:lnTo>
                  <a:pt x="951230" y="2000531"/>
                </a:lnTo>
                <a:lnTo>
                  <a:pt x="952817" y="2009742"/>
                </a:lnTo>
                <a:lnTo>
                  <a:pt x="954087" y="2019270"/>
                </a:lnTo>
                <a:lnTo>
                  <a:pt x="954722" y="2029116"/>
                </a:lnTo>
                <a:lnTo>
                  <a:pt x="955357" y="2039915"/>
                </a:lnTo>
                <a:lnTo>
                  <a:pt x="955675" y="2050714"/>
                </a:lnTo>
                <a:lnTo>
                  <a:pt x="955675" y="2062148"/>
                </a:lnTo>
                <a:lnTo>
                  <a:pt x="955675" y="2106613"/>
                </a:lnTo>
                <a:lnTo>
                  <a:pt x="0" y="2106613"/>
                </a:lnTo>
                <a:lnTo>
                  <a:pt x="0" y="2062148"/>
                </a:lnTo>
                <a:lnTo>
                  <a:pt x="635" y="2050078"/>
                </a:lnTo>
                <a:lnTo>
                  <a:pt x="952" y="2038009"/>
                </a:lnTo>
                <a:lnTo>
                  <a:pt x="1587" y="2026575"/>
                </a:lnTo>
                <a:lnTo>
                  <a:pt x="2222" y="2016094"/>
                </a:lnTo>
                <a:lnTo>
                  <a:pt x="3492" y="2005613"/>
                </a:lnTo>
                <a:lnTo>
                  <a:pt x="4762" y="1995767"/>
                </a:lnTo>
                <a:lnTo>
                  <a:pt x="6350" y="1986556"/>
                </a:lnTo>
                <a:lnTo>
                  <a:pt x="8255" y="1977663"/>
                </a:lnTo>
                <a:lnTo>
                  <a:pt x="10160" y="1969088"/>
                </a:lnTo>
                <a:lnTo>
                  <a:pt x="12382" y="1961147"/>
                </a:lnTo>
                <a:lnTo>
                  <a:pt x="14605" y="1953207"/>
                </a:lnTo>
                <a:lnTo>
                  <a:pt x="17462" y="1945902"/>
                </a:lnTo>
                <a:lnTo>
                  <a:pt x="20002" y="1938915"/>
                </a:lnTo>
                <a:lnTo>
                  <a:pt x="22860" y="1932563"/>
                </a:lnTo>
                <a:lnTo>
                  <a:pt x="26352" y="1926210"/>
                </a:lnTo>
                <a:lnTo>
                  <a:pt x="29527" y="1920811"/>
                </a:lnTo>
                <a:lnTo>
                  <a:pt x="33337" y="1915412"/>
                </a:lnTo>
                <a:lnTo>
                  <a:pt x="37147" y="1910012"/>
                </a:lnTo>
                <a:lnTo>
                  <a:pt x="40640" y="1905248"/>
                </a:lnTo>
                <a:lnTo>
                  <a:pt x="44767" y="1900801"/>
                </a:lnTo>
                <a:lnTo>
                  <a:pt x="48895" y="1896990"/>
                </a:lnTo>
                <a:lnTo>
                  <a:pt x="53340" y="1892861"/>
                </a:lnTo>
                <a:lnTo>
                  <a:pt x="57785" y="1889367"/>
                </a:lnTo>
                <a:lnTo>
                  <a:pt x="62547" y="1886191"/>
                </a:lnTo>
                <a:lnTo>
                  <a:pt x="67310" y="1883333"/>
                </a:lnTo>
                <a:lnTo>
                  <a:pt x="72072" y="1880157"/>
                </a:lnTo>
                <a:lnTo>
                  <a:pt x="76835" y="1877616"/>
                </a:lnTo>
                <a:lnTo>
                  <a:pt x="81915" y="1875393"/>
                </a:lnTo>
                <a:lnTo>
                  <a:pt x="87630" y="1873169"/>
                </a:lnTo>
                <a:lnTo>
                  <a:pt x="92710" y="1871264"/>
                </a:lnTo>
                <a:lnTo>
                  <a:pt x="103822" y="1868088"/>
                </a:lnTo>
                <a:lnTo>
                  <a:pt x="115252" y="1865864"/>
                </a:lnTo>
                <a:lnTo>
                  <a:pt x="126682" y="1863959"/>
                </a:lnTo>
                <a:lnTo>
                  <a:pt x="138747" y="1862688"/>
                </a:lnTo>
                <a:lnTo>
                  <a:pt x="150812" y="1861735"/>
                </a:lnTo>
                <a:lnTo>
                  <a:pt x="163195" y="1861418"/>
                </a:lnTo>
                <a:lnTo>
                  <a:pt x="175577" y="1861100"/>
                </a:lnTo>
                <a:lnTo>
                  <a:pt x="200977" y="1861100"/>
                </a:lnTo>
                <a:lnTo>
                  <a:pt x="227012" y="1861100"/>
                </a:lnTo>
                <a:lnTo>
                  <a:pt x="239712" y="1861100"/>
                </a:lnTo>
                <a:lnTo>
                  <a:pt x="252412" y="1860783"/>
                </a:lnTo>
                <a:lnTo>
                  <a:pt x="264795" y="1859830"/>
                </a:lnTo>
                <a:lnTo>
                  <a:pt x="277495" y="1858877"/>
                </a:lnTo>
                <a:lnTo>
                  <a:pt x="289560" y="1857289"/>
                </a:lnTo>
                <a:lnTo>
                  <a:pt x="301307" y="1855066"/>
                </a:lnTo>
                <a:lnTo>
                  <a:pt x="303530" y="1854430"/>
                </a:lnTo>
                <a:lnTo>
                  <a:pt x="305435" y="1853795"/>
                </a:lnTo>
                <a:lnTo>
                  <a:pt x="312420" y="1851572"/>
                </a:lnTo>
                <a:lnTo>
                  <a:pt x="318770" y="1849031"/>
                </a:lnTo>
                <a:lnTo>
                  <a:pt x="324485" y="1845537"/>
                </a:lnTo>
                <a:lnTo>
                  <a:pt x="329882" y="1841726"/>
                </a:lnTo>
                <a:lnTo>
                  <a:pt x="334327" y="1837915"/>
                </a:lnTo>
                <a:lnTo>
                  <a:pt x="338137" y="1833150"/>
                </a:lnTo>
                <a:lnTo>
                  <a:pt x="341947" y="1827751"/>
                </a:lnTo>
                <a:lnTo>
                  <a:pt x="344805" y="1822352"/>
                </a:lnTo>
                <a:lnTo>
                  <a:pt x="347345" y="1816317"/>
                </a:lnTo>
                <a:lnTo>
                  <a:pt x="349567" y="1810282"/>
                </a:lnTo>
                <a:lnTo>
                  <a:pt x="351155" y="1803613"/>
                </a:lnTo>
                <a:lnTo>
                  <a:pt x="352107" y="1796625"/>
                </a:lnTo>
                <a:lnTo>
                  <a:pt x="353060" y="1789638"/>
                </a:lnTo>
                <a:lnTo>
                  <a:pt x="353060" y="1781697"/>
                </a:lnTo>
                <a:lnTo>
                  <a:pt x="353060" y="1774392"/>
                </a:lnTo>
                <a:lnTo>
                  <a:pt x="352107" y="1766135"/>
                </a:lnTo>
                <a:lnTo>
                  <a:pt x="350837" y="1758512"/>
                </a:lnTo>
                <a:lnTo>
                  <a:pt x="349250" y="1750254"/>
                </a:lnTo>
                <a:lnTo>
                  <a:pt x="347345" y="1742314"/>
                </a:lnTo>
                <a:lnTo>
                  <a:pt x="344805" y="1733738"/>
                </a:lnTo>
                <a:lnTo>
                  <a:pt x="341947" y="1725798"/>
                </a:lnTo>
                <a:lnTo>
                  <a:pt x="338455" y="1717222"/>
                </a:lnTo>
                <a:lnTo>
                  <a:pt x="335280" y="1708647"/>
                </a:lnTo>
                <a:lnTo>
                  <a:pt x="331152" y="1700707"/>
                </a:lnTo>
                <a:lnTo>
                  <a:pt x="326707" y="1692449"/>
                </a:lnTo>
                <a:lnTo>
                  <a:pt x="321945" y="1684509"/>
                </a:lnTo>
                <a:lnTo>
                  <a:pt x="317182" y="1676251"/>
                </a:lnTo>
                <a:lnTo>
                  <a:pt x="311785" y="1667993"/>
                </a:lnTo>
                <a:lnTo>
                  <a:pt x="305752" y="1660688"/>
                </a:lnTo>
                <a:lnTo>
                  <a:pt x="300037" y="1653065"/>
                </a:lnTo>
                <a:lnTo>
                  <a:pt x="293687" y="1646078"/>
                </a:lnTo>
                <a:lnTo>
                  <a:pt x="287020" y="1639090"/>
                </a:lnTo>
                <a:lnTo>
                  <a:pt x="287337" y="1638773"/>
                </a:lnTo>
                <a:lnTo>
                  <a:pt x="279082" y="1629880"/>
                </a:lnTo>
                <a:lnTo>
                  <a:pt x="271462" y="1620034"/>
                </a:lnTo>
                <a:lnTo>
                  <a:pt x="264160" y="1610505"/>
                </a:lnTo>
                <a:lnTo>
                  <a:pt x="257175" y="1600659"/>
                </a:lnTo>
                <a:lnTo>
                  <a:pt x="250825" y="1589861"/>
                </a:lnTo>
                <a:lnTo>
                  <a:pt x="244792" y="1579379"/>
                </a:lnTo>
                <a:lnTo>
                  <a:pt x="239395" y="1568581"/>
                </a:lnTo>
                <a:lnTo>
                  <a:pt x="234632" y="1557147"/>
                </a:lnTo>
                <a:lnTo>
                  <a:pt x="230187" y="1545713"/>
                </a:lnTo>
                <a:lnTo>
                  <a:pt x="226060" y="1533961"/>
                </a:lnTo>
                <a:lnTo>
                  <a:pt x="222885" y="1521574"/>
                </a:lnTo>
                <a:lnTo>
                  <a:pt x="220345" y="1509505"/>
                </a:lnTo>
                <a:lnTo>
                  <a:pt x="218122" y="1497118"/>
                </a:lnTo>
                <a:lnTo>
                  <a:pt x="216535" y="1484414"/>
                </a:lnTo>
                <a:lnTo>
                  <a:pt x="215582" y="1471392"/>
                </a:lnTo>
                <a:lnTo>
                  <a:pt x="214947" y="1458370"/>
                </a:lnTo>
                <a:lnTo>
                  <a:pt x="215582" y="1445030"/>
                </a:lnTo>
                <a:lnTo>
                  <a:pt x="216535" y="1431690"/>
                </a:lnTo>
                <a:lnTo>
                  <a:pt x="218122" y="1418351"/>
                </a:lnTo>
                <a:lnTo>
                  <a:pt x="220662" y="1405646"/>
                </a:lnTo>
                <a:lnTo>
                  <a:pt x="223520" y="1392624"/>
                </a:lnTo>
                <a:lnTo>
                  <a:pt x="227012" y="1379920"/>
                </a:lnTo>
                <a:lnTo>
                  <a:pt x="230822" y="1367851"/>
                </a:lnTo>
                <a:lnTo>
                  <a:pt x="235585" y="1356099"/>
                </a:lnTo>
                <a:lnTo>
                  <a:pt x="241300" y="1344348"/>
                </a:lnTo>
                <a:lnTo>
                  <a:pt x="246697" y="1333231"/>
                </a:lnTo>
                <a:lnTo>
                  <a:pt x="253047" y="1322115"/>
                </a:lnTo>
                <a:lnTo>
                  <a:pt x="260032" y="1311316"/>
                </a:lnTo>
                <a:lnTo>
                  <a:pt x="267335" y="1301152"/>
                </a:lnTo>
                <a:lnTo>
                  <a:pt x="275272" y="1291306"/>
                </a:lnTo>
                <a:lnTo>
                  <a:pt x="283210" y="1281460"/>
                </a:lnTo>
                <a:lnTo>
                  <a:pt x="292100" y="1272250"/>
                </a:lnTo>
                <a:lnTo>
                  <a:pt x="301307" y="1263992"/>
                </a:lnTo>
                <a:lnTo>
                  <a:pt x="310832" y="1255416"/>
                </a:lnTo>
                <a:lnTo>
                  <a:pt x="320992" y="1247476"/>
                </a:lnTo>
                <a:lnTo>
                  <a:pt x="331152" y="1240171"/>
                </a:lnTo>
                <a:lnTo>
                  <a:pt x="341947" y="1233184"/>
                </a:lnTo>
                <a:lnTo>
                  <a:pt x="352742" y="1226831"/>
                </a:lnTo>
                <a:lnTo>
                  <a:pt x="364172" y="1221432"/>
                </a:lnTo>
                <a:lnTo>
                  <a:pt x="375920" y="1216033"/>
                </a:lnTo>
                <a:lnTo>
                  <a:pt x="387667" y="1210951"/>
                </a:lnTo>
                <a:lnTo>
                  <a:pt x="399732" y="1207139"/>
                </a:lnTo>
                <a:lnTo>
                  <a:pt x="412432" y="1203646"/>
                </a:lnTo>
                <a:lnTo>
                  <a:pt x="425132" y="1200787"/>
                </a:lnTo>
                <a:lnTo>
                  <a:pt x="438150" y="1198246"/>
                </a:lnTo>
                <a:lnTo>
                  <a:pt x="451167" y="1196658"/>
                </a:lnTo>
                <a:lnTo>
                  <a:pt x="464820" y="1195705"/>
                </a:lnTo>
                <a:lnTo>
                  <a:pt x="477837" y="1195388"/>
                </a:lnTo>
                <a:close/>
                <a:moveTo>
                  <a:pt x="1779747" y="111125"/>
                </a:moveTo>
                <a:lnTo>
                  <a:pt x="1793086" y="111442"/>
                </a:lnTo>
                <a:lnTo>
                  <a:pt x="1806425" y="112394"/>
                </a:lnTo>
                <a:lnTo>
                  <a:pt x="1819447" y="114299"/>
                </a:lnTo>
                <a:lnTo>
                  <a:pt x="1832469" y="116520"/>
                </a:lnTo>
                <a:lnTo>
                  <a:pt x="1845173" y="119694"/>
                </a:lnTo>
                <a:lnTo>
                  <a:pt x="1857877" y="122868"/>
                </a:lnTo>
                <a:lnTo>
                  <a:pt x="1869946" y="127312"/>
                </a:lnTo>
                <a:lnTo>
                  <a:pt x="1881698" y="131755"/>
                </a:lnTo>
                <a:lnTo>
                  <a:pt x="1893767" y="137151"/>
                </a:lnTo>
                <a:lnTo>
                  <a:pt x="1905201" y="142864"/>
                </a:lnTo>
                <a:lnTo>
                  <a:pt x="1915999" y="149529"/>
                </a:lnTo>
                <a:lnTo>
                  <a:pt x="1926798" y="156194"/>
                </a:lnTo>
                <a:lnTo>
                  <a:pt x="1937279" y="163494"/>
                </a:lnTo>
                <a:lnTo>
                  <a:pt x="1947125" y="171111"/>
                </a:lnTo>
                <a:lnTo>
                  <a:pt x="1956335" y="179681"/>
                </a:lnTo>
                <a:lnTo>
                  <a:pt x="1965546" y="188250"/>
                </a:lnTo>
                <a:lnTo>
                  <a:pt x="1974439" y="197455"/>
                </a:lnTo>
                <a:lnTo>
                  <a:pt x="1982379" y="206976"/>
                </a:lnTo>
                <a:lnTo>
                  <a:pt x="1990319" y="216816"/>
                </a:lnTo>
                <a:lnTo>
                  <a:pt x="1997624" y="227289"/>
                </a:lnTo>
                <a:lnTo>
                  <a:pt x="2004611" y="237763"/>
                </a:lnTo>
                <a:lnTo>
                  <a:pt x="2010963" y="248872"/>
                </a:lnTo>
                <a:lnTo>
                  <a:pt x="2016680" y="260298"/>
                </a:lnTo>
                <a:lnTo>
                  <a:pt x="2022080" y="271724"/>
                </a:lnTo>
                <a:lnTo>
                  <a:pt x="2026844" y="284102"/>
                </a:lnTo>
                <a:lnTo>
                  <a:pt x="2030972" y="296163"/>
                </a:lnTo>
                <a:lnTo>
                  <a:pt x="2034466" y="308224"/>
                </a:lnTo>
                <a:lnTo>
                  <a:pt x="2037325" y="321237"/>
                </a:lnTo>
                <a:lnTo>
                  <a:pt x="2039548" y="333932"/>
                </a:lnTo>
                <a:lnTo>
                  <a:pt x="2041136" y="347263"/>
                </a:lnTo>
                <a:lnTo>
                  <a:pt x="2042406" y="360593"/>
                </a:lnTo>
                <a:lnTo>
                  <a:pt x="2042724" y="374241"/>
                </a:lnTo>
                <a:lnTo>
                  <a:pt x="2042406" y="387254"/>
                </a:lnTo>
                <a:lnTo>
                  <a:pt x="2041453" y="399949"/>
                </a:lnTo>
                <a:lnTo>
                  <a:pt x="2039548" y="412645"/>
                </a:lnTo>
                <a:lnTo>
                  <a:pt x="2037325" y="425023"/>
                </a:lnTo>
                <a:lnTo>
                  <a:pt x="2034784" y="437401"/>
                </a:lnTo>
                <a:lnTo>
                  <a:pt x="2031608" y="449462"/>
                </a:lnTo>
                <a:lnTo>
                  <a:pt x="2027479" y="461205"/>
                </a:lnTo>
                <a:lnTo>
                  <a:pt x="2023032" y="472631"/>
                </a:lnTo>
                <a:lnTo>
                  <a:pt x="2018268" y="484057"/>
                </a:lnTo>
                <a:lnTo>
                  <a:pt x="2012869" y="495166"/>
                </a:lnTo>
                <a:lnTo>
                  <a:pt x="2006834" y="505957"/>
                </a:lnTo>
                <a:lnTo>
                  <a:pt x="2000482" y="516114"/>
                </a:lnTo>
                <a:lnTo>
                  <a:pt x="1993495" y="526270"/>
                </a:lnTo>
                <a:lnTo>
                  <a:pt x="1986190" y="535792"/>
                </a:lnTo>
                <a:lnTo>
                  <a:pt x="1978568" y="545314"/>
                </a:lnTo>
                <a:lnTo>
                  <a:pt x="1970310" y="554200"/>
                </a:lnTo>
                <a:lnTo>
                  <a:pt x="1970627" y="554518"/>
                </a:lnTo>
                <a:lnTo>
                  <a:pt x="1963958" y="561500"/>
                </a:lnTo>
                <a:lnTo>
                  <a:pt x="1957923" y="568800"/>
                </a:lnTo>
                <a:lnTo>
                  <a:pt x="1951571" y="576418"/>
                </a:lnTo>
                <a:lnTo>
                  <a:pt x="1945854" y="584035"/>
                </a:lnTo>
                <a:lnTo>
                  <a:pt x="1940455" y="591652"/>
                </a:lnTo>
                <a:lnTo>
                  <a:pt x="1935691" y="599905"/>
                </a:lnTo>
                <a:lnTo>
                  <a:pt x="1930927" y="607839"/>
                </a:lnTo>
                <a:lnTo>
                  <a:pt x="1926480" y="616091"/>
                </a:lnTo>
                <a:lnTo>
                  <a:pt x="1922351" y="624661"/>
                </a:lnTo>
                <a:lnTo>
                  <a:pt x="1918858" y="632596"/>
                </a:lnTo>
                <a:lnTo>
                  <a:pt x="1915682" y="641165"/>
                </a:lnTo>
                <a:lnTo>
                  <a:pt x="1912823" y="649100"/>
                </a:lnTo>
                <a:lnTo>
                  <a:pt x="1910282" y="657669"/>
                </a:lnTo>
                <a:lnTo>
                  <a:pt x="1908377" y="665922"/>
                </a:lnTo>
                <a:lnTo>
                  <a:pt x="1906789" y="673856"/>
                </a:lnTo>
                <a:lnTo>
                  <a:pt x="1905836" y="682108"/>
                </a:lnTo>
                <a:lnTo>
                  <a:pt x="1905201" y="689726"/>
                </a:lnTo>
                <a:lnTo>
                  <a:pt x="1904565" y="697026"/>
                </a:lnTo>
                <a:lnTo>
                  <a:pt x="1904565" y="704960"/>
                </a:lnTo>
                <a:lnTo>
                  <a:pt x="1905518" y="711943"/>
                </a:lnTo>
                <a:lnTo>
                  <a:pt x="1906471" y="718926"/>
                </a:lnTo>
                <a:lnTo>
                  <a:pt x="1908059" y="725591"/>
                </a:lnTo>
                <a:lnTo>
                  <a:pt x="1910282" y="731939"/>
                </a:lnTo>
                <a:lnTo>
                  <a:pt x="1912823" y="737652"/>
                </a:lnTo>
                <a:lnTo>
                  <a:pt x="1915682" y="743365"/>
                </a:lnTo>
                <a:lnTo>
                  <a:pt x="1919493" y="748443"/>
                </a:lnTo>
                <a:lnTo>
                  <a:pt x="1923622" y="753204"/>
                </a:lnTo>
                <a:lnTo>
                  <a:pt x="1928386" y="757330"/>
                </a:lnTo>
                <a:lnTo>
                  <a:pt x="1933468" y="761456"/>
                </a:lnTo>
                <a:lnTo>
                  <a:pt x="1938867" y="764312"/>
                </a:lnTo>
                <a:lnTo>
                  <a:pt x="1945219" y="767169"/>
                </a:lnTo>
                <a:lnTo>
                  <a:pt x="1952206" y="769073"/>
                </a:lnTo>
                <a:lnTo>
                  <a:pt x="1954112" y="769708"/>
                </a:lnTo>
                <a:lnTo>
                  <a:pt x="1956335" y="770977"/>
                </a:lnTo>
                <a:lnTo>
                  <a:pt x="1968087" y="773199"/>
                </a:lnTo>
                <a:lnTo>
                  <a:pt x="1980156" y="774469"/>
                </a:lnTo>
                <a:lnTo>
                  <a:pt x="1992860" y="776056"/>
                </a:lnTo>
                <a:lnTo>
                  <a:pt x="2005246" y="777008"/>
                </a:lnTo>
                <a:lnTo>
                  <a:pt x="2030972" y="778277"/>
                </a:lnTo>
                <a:lnTo>
                  <a:pt x="2056381" y="779230"/>
                </a:lnTo>
                <a:lnTo>
                  <a:pt x="2082107" y="780499"/>
                </a:lnTo>
                <a:lnTo>
                  <a:pt x="2094494" y="781134"/>
                </a:lnTo>
                <a:lnTo>
                  <a:pt x="2106880" y="782403"/>
                </a:lnTo>
                <a:lnTo>
                  <a:pt x="2118949" y="783673"/>
                </a:lnTo>
                <a:lnTo>
                  <a:pt x="2131018" y="785577"/>
                </a:lnTo>
                <a:lnTo>
                  <a:pt x="2142452" y="788116"/>
                </a:lnTo>
                <a:lnTo>
                  <a:pt x="2153886" y="791290"/>
                </a:lnTo>
                <a:lnTo>
                  <a:pt x="2165002" y="794782"/>
                </a:lnTo>
                <a:lnTo>
                  <a:pt x="2175801" y="798908"/>
                </a:lnTo>
                <a:lnTo>
                  <a:pt x="2180565" y="801447"/>
                </a:lnTo>
                <a:lnTo>
                  <a:pt x="2185646" y="803986"/>
                </a:lnTo>
                <a:lnTo>
                  <a:pt x="2190410" y="807160"/>
                </a:lnTo>
                <a:lnTo>
                  <a:pt x="2195175" y="810334"/>
                </a:lnTo>
                <a:lnTo>
                  <a:pt x="2200256" y="813508"/>
                </a:lnTo>
                <a:lnTo>
                  <a:pt x="2204703" y="816999"/>
                </a:lnTo>
                <a:lnTo>
                  <a:pt x="2208514" y="821125"/>
                </a:lnTo>
                <a:lnTo>
                  <a:pt x="2212960" y="824934"/>
                </a:lnTo>
                <a:lnTo>
                  <a:pt x="2217089" y="829377"/>
                </a:lnTo>
                <a:lnTo>
                  <a:pt x="2220901" y="834455"/>
                </a:lnTo>
                <a:lnTo>
                  <a:pt x="2224394" y="839216"/>
                </a:lnTo>
                <a:lnTo>
                  <a:pt x="2228206" y="844294"/>
                </a:lnTo>
                <a:lnTo>
                  <a:pt x="2231382" y="850007"/>
                </a:lnTo>
                <a:lnTo>
                  <a:pt x="2234875" y="856038"/>
                </a:lnTo>
                <a:lnTo>
                  <a:pt x="2237734" y="862386"/>
                </a:lnTo>
                <a:lnTo>
                  <a:pt x="2240275" y="868733"/>
                </a:lnTo>
                <a:lnTo>
                  <a:pt x="2242815" y="875716"/>
                </a:lnTo>
                <a:lnTo>
                  <a:pt x="2245356" y="883016"/>
                </a:lnTo>
                <a:lnTo>
                  <a:pt x="2247579" y="890633"/>
                </a:lnTo>
                <a:lnTo>
                  <a:pt x="2249485" y="898568"/>
                </a:lnTo>
                <a:lnTo>
                  <a:pt x="2251391" y="906820"/>
                </a:lnTo>
                <a:lnTo>
                  <a:pt x="2252979" y="915707"/>
                </a:lnTo>
                <a:lnTo>
                  <a:pt x="2254249" y="924911"/>
                </a:lnTo>
                <a:lnTo>
                  <a:pt x="2255520" y="934433"/>
                </a:lnTo>
                <a:lnTo>
                  <a:pt x="2256155" y="944589"/>
                </a:lnTo>
                <a:lnTo>
                  <a:pt x="2256790" y="955063"/>
                </a:lnTo>
                <a:lnTo>
                  <a:pt x="2257425" y="966172"/>
                </a:lnTo>
                <a:lnTo>
                  <a:pt x="2257425" y="977281"/>
                </a:lnTo>
                <a:lnTo>
                  <a:pt x="2257425" y="1022350"/>
                </a:lnTo>
                <a:lnTo>
                  <a:pt x="1301750" y="1022350"/>
                </a:lnTo>
                <a:lnTo>
                  <a:pt x="1301750" y="977281"/>
                </a:lnTo>
                <a:lnTo>
                  <a:pt x="1301750" y="965220"/>
                </a:lnTo>
                <a:lnTo>
                  <a:pt x="1302068" y="953476"/>
                </a:lnTo>
                <a:lnTo>
                  <a:pt x="1302703" y="942368"/>
                </a:lnTo>
                <a:lnTo>
                  <a:pt x="1303656" y="931259"/>
                </a:lnTo>
                <a:lnTo>
                  <a:pt x="1304609" y="920785"/>
                </a:lnTo>
                <a:lnTo>
                  <a:pt x="1306197" y="911264"/>
                </a:lnTo>
                <a:lnTo>
                  <a:pt x="1307467" y="901742"/>
                </a:lnTo>
                <a:lnTo>
                  <a:pt x="1309373" y="892855"/>
                </a:lnTo>
                <a:lnTo>
                  <a:pt x="1311278" y="884285"/>
                </a:lnTo>
                <a:lnTo>
                  <a:pt x="1313502" y="876351"/>
                </a:lnTo>
                <a:lnTo>
                  <a:pt x="1316042" y="868733"/>
                </a:lnTo>
                <a:lnTo>
                  <a:pt x="1318583" y="861116"/>
                </a:lnTo>
                <a:lnTo>
                  <a:pt x="1321442" y="854451"/>
                </a:lnTo>
                <a:lnTo>
                  <a:pt x="1324618" y="847786"/>
                </a:lnTo>
                <a:lnTo>
                  <a:pt x="1327476" y="841755"/>
                </a:lnTo>
                <a:lnTo>
                  <a:pt x="1330652" y="836042"/>
                </a:lnTo>
                <a:lnTo>
                  <a:pt x="1334464" y="830647"/>
                </a:lnTo>
                <a:lnTo>
                  <a:pt x="1338275" y="825568"/>
                </a:lnTo>
                <a:lnTo>
                  <a:pt x="1342086" y="820808"/>
                </a:lnTo>
                <a:lnTo>
                  <a:pt x="1345897" y="816364"/>
                </a:lnTo>
                <a:lnTo>
                  <a:pt x="1350344" y="812238"/>
                </a:lnTo>
                <a:lnTo>
                  <a:pt x="1354790" y="808429"/>
                </a:lnTo>
                <a:lnTo>
                  <a:pt x="1359237" y="804938"/>
                </a:lnTo>
                <a:lnTo>
                  <a:pt x="1363683" y="801447"/>
                </a:lnTo>
                <a:lnTo>
                  <a:pt x="1368447" y="798590"/>
                </a:lnTo>
                <a:lnTo>
                  <a:pt x="1373211" y="795734"/>
                </a:lnTo>
                <a:lnTo>
                  <a:pt x="1378293" y="792877"/>
                </a:lnTo>
                <a:lnTo>
                  <a:pt x="1383692" y="790656"/>
                </a:lnTo>
                <a:lnTo>
                  <a:pt x="1388774" y="788434"/>
                </a:lnTo>
                <a:lnTo>
                  <a:pt x="1393856" y="786847"/>
                </a:lnTo>
                <a:lnTo>
                  <a:pt x="1404972" y="783673"/>
                </a:lnTo>
                <a:lnTo>
                  <a:pt x="1416406" y="781134"/>
                </a:lnTo>
                <a:lnTo>
                  <a:pt x="1427840" y="779230"/>
                </a:lnTo>
                <a:lnTo>
                  <a:pt x="1439909" y="777960"/>
                </a:lnTo>
                <a:lnTo>
                  <a:pt x="1452295" y="777008"/>
                </a:lnTo>
                <a:lnTo>
                  <a:pt x="1464682" y="776690"/>
                </a:lnTo>
                <a:lnTo>
                  <a:pt x="1477068" y="776373"/>
                </a:lnTo>
                <a:lnTo>
                  <a:pt x="1502795" y="776373"/>
                </a:lnTo>
                <a:lnTo>
                  <a:pt x="1528203" y="776690"/>
                </a:lnTo>
                <a:lnTo>
                  <a:pt x="1540907" y="776373"/>
                </a:lnTo>
                <a:lnTo>
                  <a:pt x="1553611" y="776056"/>
                </a:lnTo>
                <a:lnTo>
                  <a:pt x="1565998" y="775738"/>
                </a:lnTo>
                <a:lnTo>
                  <a:pt x="1578702" y="774469"/>
                </a:lnTo>
                <a:lnTo>
                  <a:pt x="1590771" y="772882"/>
                </a:lnTo>
                <a:lnTo>
                  <a:pt x="1602523" y="770977"/>
                </a:lnTo>
                <a:lnTo>
                  <a:pt x="1604746" y="769708"/>
                </a:lnTo>
                <a:lnTo>
                  <a:pt x="1606969" y="769073"/>
                </a:lnTo>
                <a:lnTo>
                  <a:pt x="1613639" y="767169"/>
                </a:lnTo>
                <a:lnTo>
                  <a:pt x="1619991" y="764312"/>
                </a:lnTo>
                <a:lnTo>
                  <a:pt x="1625708" y="761456"/>
                </a:lnTo>
                <a:lnTo>
                  <a:pt x="1631107" y="757330"/>
                </a:lnTo>
                <a:lnTo>
                  <a:pt x="1635554" y="753204"/>
                </a:lnTo>
                <a:lnTo>
                  <a:pt x="1640000" y="748443"/>
                </a:lnTo>
                <a:lnTo>
                  <a:pt x="1643176" y="743365"/>
                </a:lnTo>
                <a:lnTo>
                  <a:pt x="1646352" y="737652"/>
                </a:lnTo>
                <a:lnTo>
                  <a:pt x="1649211" y="731939"/>
                </a:lnTo>
                <a:lnTo>
                  <a:pt x="1650799" y="725591"/>
                </a:lnTo>
                <a:lnTo>
                  <a:pt x="1652704" y="718926"/>
                </a:lnTo>
                <a:lnTo>
                  <a:pt x="1653975" y="711943"/>
                </a:lnTo>
                <a:lnTo>
                  <a:pt x="1654292" y="704960"/>
                </a:lnTo>
                <a:lnTo>
                  <a:pt x="1654610" y="697026"/>
                </a:lnTo>
                <a:lnTo>
                  <a:pt x="1654292" y="689726"/>
                </a:lnTo>
                <a:lnTo>
                  <a:pt x="1653657" y="682108"/>
                </a:lnTo>
                <a:lnTo>
                  <a:pt x="1652387" y="673856"/>
                </a:lnTo>
                <a:lnTo>
                  <a:pt x="1650481" y="665922"/>
                </a:lnTo>
                <a:lnTo>
                  <a:pt x="1648575" y="657669"/>
                </a:lnTo>
                <a:lnTo>
                  <a:pt x="1646035" y="649100"/>
                </a:lnTo>
                <a:lnTo>
                  <a:pt x="1643494" y="641165"/>
                </a:lnTo>
                <a:lnTo>
                  <a:pt x="1640318" y="632596"/>
                </a:lnTo>
                <a:lnTo>
                  <a:pt x="1636506" y="624661"/>
                </a:lnTo>
                <a:lnTo>
                  <a:pt x="1632378" y="616091"/>
                </a:lnTo>
                <a:lnTo>
                  <a:pt x="1627931" y="607839"/>
                </a:lnTo>
                <a:lnTo>
                  <a:pt x="1623485" y="599905"/>
                </a:lnTo>
                <a:lnTo>
                  <a:pt x="1618403" y="591652"/>
                </a:lnTo>
                <a:lnTo>
                  <a:pt x="1613004" y="584035"/>
                </a:lnTo>
                <a:lnTo>
                  <a:pt x="1607287" y="576418"/>
                </a:lnTo>
                <a:lnTo>
                  <a:pt x="1601252" y="568800"/>
                </a:lnTo>
                <a:lnTo>
                  <a:pt x="1594900" y="561500"/>
                </a:lnTo>
                <a:lnTo>
                  <a:pt x="1588230" y="554518"/>
                </a:lnTo>
                <a:lnTo>
                  <a:pt x="1588548" y="554200"/>
                </a:lnTo>
                <a:lnTo>
                  <a:pt x="1580608" y="545314"/>
                </a:lnTo>
                <a:lnTo>
                  <a:pt x="1572668" y="535792"/>
                </a:lnTo>
                <a:lnTo>
                  <a:pt x="1565363" y="526270"/>
                </a:lnTo>
                <a:lnTo>
                  <a:pt x="1558693" y="516114"/>
                </a:lnTo>
                <a:lnTo>
                  <a:pt x="1552023" y="505957"/>
                </a:lnTo>
                <a:lnTo>
                  <a:pt x="1546306" y="495166"/>
                </a:lnTo>
                <a:lnTo>
                  <a:pt x="1540590" y="484057"/>
                </a:lnTo>
                <a:lnTo>
                  <a:pt x="1535826" y="472631"/>
                </a:lnTo>
                <a:lnTo>
                  <a:pt x="1531379" y="461205"/>
                </a:lnTo>
                <a:lnTo>
                  <a:pt x="1527250" y="449462"/>
                </a:lnTo>
                <a:lnTo>
                  <a:pt x="1524074" y="437401"/>
                </a:lnTo>
                <a:lnTo>
                  <a:pt x="1521533" y="425023"/>
                </a:lnTo>
                <a:lnTo>
                  <a:pt x="1519310" y="412645"/>
                </a:lnTo>
                <a:lnTo>
                  <a:pt x="1517722" y="399949"/>
                </a:lnTo>
                <a:lnTo>
                  <a:pt x="1516769" y="387254"/>
                </a:lnTo>
                <a:lnTo>
                  <a:pt x="1516452" y="374241"/>
                </a:lnTo>
                <a:lnTo>
                  <a:pt x="1516769" y="360593"/>
                </a:lnTo>
                <a:lnTo>
                  <a:pt x="1517722" y="347263"/>
                </a:lnTo>
                <a:lnTo>
                  <a:pt x="1519628" y="333932"/>
                </a:lnTo>
                <a:lnTo>
                  <a:pt x="1521851" y="321237"/>
                </a:lnTo>
                <a:lnTo>
                  <a:pt x="1524709" y="308224"/>
                </a:lnTo>
                <a:lnTo>
                  <a:pt x="1528203" y="296163"/>
                </a:lnTo>
                <a:lnTo>
                  <a:pt x="1532649" y="284102"/>
                </a:lnTo>
                <a:lnTo>
                  <a:pt x="1537096" y="271724"/>
                </a:lnTo>
                <a:lnTo>
                  <a:pt x="1542495" y="260298"/>
                </a:lnTo>
                <a:lnTo>
                  <a:pt x="1547895" y="248872"/>
                </a:lnTo>
                <a:lnTo>
                  <a:pt x="1554564" y="237763"/>
                </a:lnTo>
                <a:lnTo>
                  <a:pt x="1561234" y="227289"/>
                </a:lnTo>
                <a:lnTo>
                  <a:pt x="1568539" y="216816"/>
                </a:lnTo>
                <a:lnTo>
                  <a:pt x="1576479" y="206976"/>
                </a:lnTo>
                <a:lnTo>
                  <a:pt x="1585054" y="197455"/>
                </a:lnTo>
                <a:lnTo>
                  <a:pt x="1593312" y="188250"/>
                </a:lnTo>
                <a:lnTo>
                  <a:pt x="1602523" y="179681"/>
                </a:lnTo>
                <a:lnTo>
                  <a:pt x="1612051" y="171111"/>
                </a:lnTo>
                <a:lnTo>
                  <a:pt x="1622214" y="163494"/>
                </a:lnTo>
                <a:lnTo>
                  <a:pt x="1632378" y="156194"/>
                </a:lnTo>
                <a:lnTo>
                  <a:pt x="1643176" y="149529"/>
                </a:lnTo>
                <a:lnTo>
                  <a:pt x="1654292" y="142864"/>
                </a:lnTo>
                <a:lnTo>
                  <a:pt x="1665409" y="137151"/>
                </a:lnTo>
                <a:lnTo>
                  <a:pt x="1677160" y="131755"/>
                </a:lnTo>
                <a:lnTo>
                  <a:pt x="1688911" y="127312"/>
                </a:lnTo>
                <a:lnTo>
                  <a:pt x="1701616" y="122868"/>
                </a:lnTo>
                <a:lnTo>
                  <a:pt x="1713685" y="119694"/>
                </a:lnTo>
                <a:lnTo>
                  <a:pt x="1726389" y="116520"/>
                </a:lnTo>
                <a:lnTo>
                  <a:pt x="1739411" y="114299"/>
                </a:lnTo>
                <a:lnTo>
                  <a:pt x="1752750" y="112394"/>
                </a:lnTo>
                <a:lnTo>
                  <a:pt x="1766089" y="111442"/>
                </a:lnTo>
                <a:lnTo>
                  <a:pt x="1779747" y="111125"/>
                </a:lnTo>
                <a:close/>
                <a:moveTo>
                  <a:pt x="823110" y="0"/>
                </a:moveTo>
                <a:lnTo>
                  <a:pt x="1274763" y="278447"/>
                </a:lnTo>
                <a:lnTo>
                  <a:pt x="823110" y="556577"/>
                </a:lnTo>
                <a:lnTo>
                  <a:pt x="823110" y="382905"/>
                </a:lnTo>
                <a:lnTo>
                  <a:pt x="529203" y="382905"/>
                </a:lnTo>
                <a:lnTo>
                  <a:pt x="529203" y="1000125"/>
                </a:lnTo>
                <a:lnTo>
                  <a:pt x="320675" y="1000125"/>
                </a:lnTo>
                <a:lnTo>
                  <a:pt x="320675" y="173672"/>
                </a:lnTo>
                <a:lnTo>
                  <a:pt x="823110" y="173672"/>
                </a:lnTo>
                <a:lnTo>
                  <a:pt x="823110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7"/>
          <p:cNvSpPr/>
          <p:nvPr/>
        </p:nvSpPr>
        <p:spPr>
          <a:xfrm>
            <a:off x="466560" y="4160880"/>
            <a:ext cx="8085240" cy="0"/>
          </a:xfrm>
          <a:prstGeom prst="line">
            <a:avLst/>
          </a:prstGeom>
          <a:ln w="648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KSO_Shape"/>
          <p:cNvSpPr/>
          <p:nvPr/>
        </p:nvSpPr>
        <p:spPr>
          <a:xfrm>
            <a:off x="1359000" y="4313160"/>
            <a:ext cx="2531880" cy="1947960"/>
          </a:xfrm>
          <a:custGeom>
            <a:avLst/>
            <a:gdLst/>
            <a:ahLst/>
            <a:rect l="l" t="t" r="r" b="b"/>
            <a:pathLst>
              <a:path w="2144713" h="1652588">
                <a:moveTo>
                  <a:pt x="1712170" y="819150"/>
                </a:moveTo>
                <a:lnTo>
                  <a:pt x="2144713" y="936249"/>
                </a:lnTo>
                <a:lnTo>
                  <a:pt x="1933207" y="1330632"/>
                </a:lnTo>
                <a:lnTo>
                  <a:pt x="1873911" y="1193708"/>
                </a:lnTo>
                <a:lnTo>
                  <a:pt x="842585" y="1652588"/>
                </a:lnTo>
                <a:lnTo>
                  <a:pt x="532869" y="1401473"/>
                </a:lnTo>
                <a:lnTo>
                  <a:pt x="94768" y="1569588"/>
                </a:lnTo>
                <a:lnTo>
                  <a:pt x="0" y="1330104"/>
                </a:lnTo>
                <a:lnTo>
                  <a:pt x="578400" y="1106743"/>
                </a:lnTo>
                <a:lnTo>
                  <a:pt x="882292" y="1353100"/>
                </a:lnTo>
                <a:lnTo>
                  <a:pt x="1771731" y="957396"/>
                </a:lnTo>
                <a:lnTo>
                  <a:pt x="1712170" y="819150"/>
                </a:lnTo>
                <a:close/>
                <a:moveTo>
                  <a:pt x="1071696" y="714375"/>
                </a:moveTo>
                <a:lnTo>
                  <a:pt x="1074354" y="714642"/>
                </a:lnTo>
                <a:lnTo>
                  <a:pt x="1077278" y="714909"/>
                </a:lnTo>
                <a:lnTo>
                  <a:pt x="1079936" y="715711"/>
                </a:lnTo>
                <a:lnTo>
                  <a:pt x="1082594" y="716779"/>
                </a:lnTo>
                <a:lnTo>
                  <a:pt x="1085252" y="717847"/>
                </a:lnTo>
                <a:lnTo>
                  <a:pt x="1087379" y="719449"/>
                </a:lnTo>
                <a:lnTo>
                  <a:pt x="1089505" y="720785"/>
                </a:lnTo>
                <a:lnTo>
                  <a:pt x="1091632" y="722654"/>
                </a:lnTo>
                <a:lnTo>
                  <a:pt x="1093493" y="725057"/>
                </a:lnTo>
                <a:lnTo>
                  <a:pt x="1095088" y="727194"/>
                </a:lnTo>
                <a:lnTo>
                  <a:pt x="1096682" y="729330"/>
                </a:lnTo>
                <a:lnTo>
                  <a:pt x="1098011" y="731734"/>
                </a:lnTo>
                <a:lnTo>
                  <a:pt x="1098809" y="734672"/>
                </a:lnTo>
                <a:lnTo>
                  <a:pt x="1099341" y="737342"/>
                </a:lnTo>
                <a:lnTo>
                  <a:pt x="1099872" y="740280"/>
                </a:lnTo>
                <a:lnTo>
                  <a:pt x="1100138" y="742950"/>
                </a:lnTo>
                <a:lnTo>
                  <a:pt x="1099872" y="746155"/>
                </a:lnTo>
                <a:lnTo>
                  <a:pt x="1099341" y="748825"/>
                </a:lnTo>
                <a:lnTo>
                  <a:pt x="1098809" y="751763"/>
                </a:lnTo>
                <a:lnTo>
                  <a:pt x="1098011" y="754167"/>
                </a:lnTo>
                <a:lnTo>
                  <a:pt x="1096682" y="756570"/>
                </a:lnTo>
                <a:lnTo>
                  <a:pt x="1095088" y="759241"/>
                </a:lnTo>
                <a:lnTo>
                  <a:pt x="1093493" y="761377"/>
                </a:lnTo>
                <a:lnTo>
                  <a:pt x="1091632" y="763247"/>
                </a:lnTo>
                <a:lnTo>
                  <a:pt x="1089505" y="765116"/>
                </a:lnTo>
                <a:lnTo>
                  <a:pt x="1087379" y="766985"/>
                </a:lnTo>
                <a:lnTo>
                  <a:pt x="1085252" y="768321"/>
                </a:lnTo>
                <a:lnTo>
                  <a:pt x="1082594" y="769389"/>
                </a:lnTo>
                <a:lnTo>
                  <a:pt x="1079936" y="770457"/>
                </a:lnTo>
                <a:lnTo>
                  <a:pt x="1077278" y="770991"/>
                </a:lnTo>
                <a:lnTo>
                  <a:pt x="1074354" y="771525"/>
                </a:lnTo>
                <a:lnTo>
                  <a:pt x="1071696" y="771525"/>
                </a:lnTo>
                <a:lnTo>
                  <a:pt x="1068772" y="771525"/>
                </a:lnTo>
                <a:lnTo>
                  <a:pt x="1066114" y="770991"/>
                </a:lnTo>
                <a:lnTo>
                  <a:pt x="1063190" y="770457"/>
                </a:lnTo>
                <a:lnTo>
                  <a:pt x="1060532" y="769389"/>
                </a:lnTo>
                <a:lnTo>
                  <a:pt x="1057874" y="768321"/>
                </a:lnTo>
                <a:lnTo>
                  <a:pt x="1055747" y="766985"/>
                </a:lnTo>
                <a:lnTo>
                  <a:pt x="1053621" y="765116"/>
                </a:lnTo>
                <a:lnTo>
                  <a:pt x="1051494" y="763247"/>
                </a:lnTo>
                <a:lnTo>
                  <a:pt x="1049633" y="761377"/>
                </a:lnTo>
                <a:lnTo>
                  <a:pt x="1048038" y="759241"/>
                </a:lnTo>
                <a:lnTo>
                  <a:pt x="1046444" y="756570"/>
                </a:lnTo>
                <a:lnTo>
                  <a:pt x="1045646" y="754167"/>
                </a:lnTo>
                <a:lnTo>
                  <a:pt x="1044317" y="751763"/>
                </a:lnTo>
                <a:lnTo>
                  <a:pt x="1043785" y="748825"/>
                </a:lnTo>
                <a:lnTo>
                  <a:pt x="1043520" y="746155"/>
                </a:lnTo>
                <a:lnTo>
                  <a:pt x="1042988" y="742950"/>
                </a:lnTo>
                <a:lnTo>
                  <a:pt x="1043520" y="740280"/>
                </a:lnTo>
                <a:lnTo>
                  <a:pt x="1043785" y="737342"/>
                </a:lnTo>
                <a:lnTo>
                  <a:pt x="1044317" y="734672"/>
                </a:lnTo>
                <a:lnTo>
                  <a:pt x="1045646" y="731734"/>
                </a:lnTo>
                <a:lnTo>
                  <a:pt x="1046444" y="729330"/>
                </a:lnTo>
                <a:lnTo>
                  <a:pt x="1048038" y="727194"/>
                </a:lnTo>
                <a:lnTo>
                  <a:pt x="1049633" y="725057"/>
                </a:lnTo>
                <a:lnTo>
                  <a:pt x="1051494" y="722654"/>
                </a:lnTo>
                <a:lnTo>
                  <a:pt x="1053621" y="720785"/>
                </a:lnTo>
                <a:lnTo>
                  <a:pt x="1055747" y="719449"/>
                </a:lnTo>
                <a:lnTo>
                  <a:pt x="1057874" y="717847"/>
                </a:lnTo>
                <a:lnTo>
                  <a:pt x="1060532" y="716779"/>
                </a:lnTo>
                <a:lnTo>
                  <a:pt x="1063190" y="715711"/>
                </a:lnTo>
                <a:lnTo>
                  <a:pt x="1066114" y="714909"/>
                </a:lnTo>
                <a:lnTo>
                  <a:pt x="1068772" y="714642"/>
                </a:lnTo>
                <a:lnTo>
                  <a:pt x="1071696" y="714375"/>
                </a:lnTo>
                <a:close/>
                <a:moveTo>
                  <a:pt x="1154113" y="676275"/>
                </a:moveTo>
                <a:lnTo>
                  <a:pt x="1156784" y="676807"/>
                </a:lnTo>
                <a:lnTo>
                  <a:pt x="1159721" y="677073"/>
                </a:lnTo>
                <a:lnTo>
                  <a:pt x="1162392" y="677604"/>
                </a:lnTo>
                <a:lnTo>
                  <a:pt x="1165062" y="678668"/>
                </a:lnTo>
                <a:lnTo>
                  <a:pt x="1167466" y="679731"/>
                </a:lnTo>
                <a:lnTo>
                  <a:pt x="1169869" y="681326"/>
                </a:lnTo>
                <a:lnTo>
                  <a:pt x="1172006" y="682921"/>
                </a:lnTo>
                <a:lnTo>
                  <a:pt x="1174142" y="684781"/>
                </a:lnTo>
                <a:lnTo>
                  <a:pt x="1176012" y="686908"/>
                </a:lnTo>
                <a:lnTo>
                  <a:pt x="1177614" y="689034"/>
                </a:lnTo>
                <a:lnTo>
                  <a:pt x="1178949" y="691161"/>
                </a:lnTo>
                <a:lnTo>
                  <a:pt x="1180284" y="693819"/>
                </a:lnTo>
                <a:lnTo>
                  <a:pt x="1181086" y="696477"/>
                </a:lnTo>
                <a:lnTo>
                  <a:pt x="1182154" y="698869"/>
                </a:lnTo>
                <a:lnTo>
                  <a:pt x="1182421" y="702059"/>
                </a:lnTo>
                <a:lnTo>
                  <a:pt x="1182688" y="704983"/>
                </a:lnTo>
                <a:lnTo>
                  <a:pt x="1182421" y="707641"/>
                </a:lnTo>
                <a:lnTo>
                  <a:pt x="1182154" y="710565"/>
                </a:lnTo>
                <a:lnTo>
                  <a:pt x="1181086" y="713223"/>
                </a:lnTo>
                <a:lnTo>
                  <a:pt x="1180284" y="715882"/>
                </a:lnTo>
                <a:lnTo>
                  <a:pt x="1178949" y="718540"/>
                </a:lnTo>
                <a:lnTo>
                  <a:pt x="1177614" y="720666"/>
                </a:lnTo>
                <a:lnTo>
                  <a:pt x="1176012" y="722793"/>
                </a:lnTo>
                <a:lnTo>
                  <a:pt x="1174142" y="724919"/>
                </a:lnTo>
                <a:lnTo>
                  <a:pt x="1172006" y="726780"/>
                </a:lnTo>
                <a:lnTo>
                  <a:pt x="1169869" y="728375"/>
                </a:lnTo>
                <a:lnTo>
                  <a:pt x="1167466" y="729970"/>
                </a:lnTo>
                <a:lnTo>
                  <a:pt x="1165062" y="731299"/>
                </a:lnTo>
                <a:lnTo>
                  <a:pt x="1162392" y="732096"/>
                </a:lnTo>
                <a:lnTo>
                  <a:pt x="1159721" y="732628"/>
                </a:lnTo>
                <a:lnTo>
                  <a:pt x="1156784" y="733159"/>
                </a:lnTo>
                <a:lnTo>
                  <a:pt x="1154113" y="733425"/>
                </a:lnTo>
                <a:lnTo>
                  <a:pt x="1150908" y="733159"/>
                </a:lnTo>
                <a:lnTo>
                  <a:pt x="1148238" y="732628"/>
                </a:lnTo>
                <a:lnTo>
                  <a:pt x="1145300" y="732096"/>
                </a:lnTo>
                <a:lnTo>
                  <a:pt x="1142897" y="731299"/>
                </a:lnTo>
                <a:lnTo>
                  <a:pt x="1140226" y="729970"/>
                </a:lnTo>
                <a:lnTo>
                  <a:pt x="1138090" y="728375"/>
                </a:lnTo>
                <a:lnTo>
                  <a:pt x="1135686" y="726780"/>
                </a:lnTo>
                <a:lnTo>
                  <a:pt x="1133817" y="724919"/>
                </a:lnTo>
                <a:lnTo>
                  <a:pt x="1131947" y="722793"/>
                </a:lnTo>
                <a:lnTo>
                  <a:pt x="1130345" y="720666"/>
                </a:lnTo>
                <a:lnTo>
                  <a:pt x="1128743" y="718540"/>
                </a:lnTo>
                <a:lnTo>
                  <a:pt x="1127674" y="715882"/>
                </a:lnTo>
                <a:lnTo>
                  <a:pt x="1126606" y="713223"/>
                </a:lnTo>
                <a:lnTo>
                  <a:pt x="1126072" y="710565"/>
                </a:lnTo>
                <a:lnTo>
                  <a:pt x="1125805" y="707641"/>
                </a:lnTo>
                <a:lnTo>
                  <a:pt x="1125538" y="704983"/>
                </a:lnTo>
                <a:lnTo>
                  <a:pt x="1125805" y="702059"/>
                </a:lnTo>
                <a:lnTo>
                  <a:pt x="1126072" y="698869"/>
                </a:lnTo>
                <a:lnTo>
                  <a:pt x="1126606" y="696477"/>
                </a:lnTo>
                <a:lnTo>
                  <a:pt x="1127674" y="693819"/>
                </a:lnTo>
                <a:lnTo>
                  <a:pt x="1128743" y="691161"/>
                </a:lnTo>
                <a:lnTo>
                  <a:pt x="1130345" y="689034"/>
                </a:lnTo>
                <a:lnTo>
                  <a:pt x="1131947" y="686908"/>
                </a:lnTo>
                <a:lnTo>
                  <a:pt x="1133817" y="684781"/>
                </a:lnTo>
                <a:lnTo>
                  <a:pt x="1135686" y="682921"/>
                </a:lnTo>
                <a:lnTo>
                  <a:pt x="1138090" y="681326"/>
                </a:lnTo>
                <a:lnTo>
                  <a:pt x="1140226" y="679731"/>
                </a:lnTo>
                <a:lnTo>
                  <a:pt x="1142897" y="678668"/>
                </a:lnTo>
                <a:lnTo>
                  <a:pt x="1145300" y="677604"/>
                </a:lnTo>
                <a:lnTo>
                  <a:pt x="1148238" y="677073"/>
                </a:lnTo>
                <a:lnTo>
                  <a:pt x="1150908" y="676807"/>
                </a:lnTo>
                <a:lnTo>
                  <a:pt x="1154113" y="676275"/>
                </a:lnTo>
                <a:close/>
                <a:moveTo>
                  <a:pt x="989547" y="676275"/>
                </a:moveTo>
                <a:lnTo>
                  <a:pt x="992663" y="676807"/>
                </a:lnTo>
                <a:lnTo>
                  <a:pt x="995519" y="677073"/>
                </a:lnTo>
                <a:lnTo>
                  <a:pt x="998115" y="677604"/>
                </a:lnTo>
                <a:lnTo>
                  <a:pt x="1000452" y="678668"/>
                </a:lnTo>
                <a:lnTo>
                  <a:pt x="1003048" y="679731"/>
                </a:lnTo>
                <a:lnTo>
                  <a:pt x="1005385" y="681326"/>
                </a:lnTo>
                <a:lnTo>
                  <a:pt x="1007462" y="682921"/>
                </a:lnTo>
                <a:lnTo>
                  <a:pt x="1009280" y="684781"/>
                </a:lnTo>
                <a:lnTo>
                  <a:pt x="1011097" y="686908"/>
                </a:lnTo>
                <a:lnTo>
                  <a:pt x="1012914" y="689034"/>
                </a:lnTo>
                <a:lnTo>
                  <a:pt x="1014213" y="691161"/>
                </a:lnTo>
                <a:lnTo>
                  <a:pt x="1015251" y="693819"/>
                </a:lnTo>
                <a:lnTo>
                  <a:pt x="1016290" y="696477"/>
                </a:lnTo>
                <a:lnTo>
                  <a:pt x="1017069" y="698869"/>
                </a:lnTo>
                <a:lnTo>
                  <a:pt x="1017588" y="702059"/>
                </a:lnTo>
                <a:lnTo>
                  <a:pt x="1017588" y="704983"/>
                </a:lnTo>
                <a:lnTo>
                  <a:pt x="1017588" y="707641"/>
                </a:lnTo>
                <a:lnTo>
                  <a:pt x="1017069" y="710565"/>
                </a:lnTo>
                <a:lnTo>
                  <a:pt x="1016290" y="713223"/>
                </a:lnTo>
                <a:lnTo>
                  <a:pt x="1015251" y="715882"/>
                </a:lnTo>
                <a:lnTo>
                  <a:pt x="1014213" y="718540"/>
                </a:lnTo>
                <a:lnTo>
                  <a:pt x="1012914" y="720666"/>
                </a:lnTo>
                <a:lnTo>
                  <a:pt x="1011097" y="722793"/>
                </a:lnTo>
                <a:lnTo>
                  <a:pt x="1009280" y="724919"/>
                </a:lnTo>
                <a:lnTo>
                  <a:pt x="1007462" y="726780"/>
                </a:lnTo>
                <a:lnTo>
                  <a:pt x="1005385" y="728375"/>
                </a:lnTo>
                <a:lnTo>
                  <a:pt x="1003048" y="729970"/>
                </a:lnTo>
                <a:lnTo>
                  <a:pt x="1000452" y="731299"/>
                </a:lnTo>
                <a:lnTo>
                  <a:pt x="998115" y="732096"/>
                </a:lnTo>
                <a:lnTo>
                  <a:pt x="995519" y="732628"/>
                </a:lnTo>
                <a:lnTo>
                  <a:pt x="992663" y="733159"/>
                </a:lnTo>
                <a:lnTo>
                  <a:pt x="989547" y="733425"/>
                </a:lnTo>
                <a:lnTo>
                  <a:pt x="986950" y="733159"/>
                </a:lnTo>
                <a:lnTo>
                  <a:pt x="984094" y="732628"/>
                </a:lnTo>
                <a:lnTo>
                  <a:pt x="981498" y="732096"/>
                </a:lnTo>
                <a:lnTo>
                  <a:pt x="979161" y="731299"/>
                </a:lnTo>
                <a:lnTo>
                  <a:pt x="976565" y="729970"/>
                </a:lnTo>
                <a:lnTo>
                  <a:pt x="974228" y="728375"/>
                </a:lnTo>
                <a:lnTo>
                  <a:pt x="972151" y="726780"/>
                </a:lnTo>
                <a:lnTo>
                  <a:pt x="970333" y="724919"/>
                </a:lnTo>
                <a:lnTo>
                  <a:pt x="968516" y="722793"/>
                </a:lnTo>
                <a:lnTo>
                  <a:pt x="966958" y="720666"/>
                </a:lnTo>
                <a:lnTo>
                  <a:pt x="965400" y="718540"/>
                </a:lnTo>
                <a:lnTo>
                  <a:pt x="964362" y="715882"/>
                </a:lnTo>
                <a:lnTo>
                  <a:pt x="963323" y="713223"/>
                </a:lnTo>
                <a:lnTo>
                  <a:pt x="962804" y="710565"/>
                </a:lnTo>
                <a:lnTo>
                  <a:pt x="962025" y="707641"/>
                </a:lnTo>
                <a:lnTo>
                  <a:pt x="962025" y="704983"/>
                </a:lnTo>
                <a:lnTo>
                  <a:pt x="962025" y="702059"/>
                </a:lnTo>
                <a:lnTo>
                  <a:pt x="962804" y="698869"/>
                </a:lnTo>
                <a:lnTo>
                  <a:pt x="963323" y="696477"/>
                </a:lnTo>
                <a:lnTo>
                  <a:pt x="964362" y="693819"/>
                </a:lnTo>
                <a:lnTo>
                  <a:pt x="965400" y="691161"/>
                </a:lnTo>
                <a:lnTo>
                  <a:pt x="966958" y="689034"/>
                </a:lnTo>
                <a:lnTo>
                  <a:pt x="968516" y="686908"/>
                </a:lnTo>
                <a:lnTo>
                  <a:pt x="970333" y="684781"/>
                </a:lnTo>
                <a:lnTo>
                  <a:pt x="972151" y="682921"/>
                </a:lnTo>
                <a:lnTo>
                  <a:pt x="974228" y="681326"/>
                </a:lnTo>
                <a:lnTo>
                  <a:pt x="976565" y="679731"/>
                </a:lnTo>
                <a:lnTo>
                  <a:pt x="979161" y="678668"/>
                </a:lnTo>
                <a:lnTo>
                  <a:pt x="981498" y="677604"/>
                </a:lnTo>
                <a:lnTo>
                  <a:pt x="984094" y="677073"/>
                </a:lnTo>
                <a:lnTo>
                  <a:pt x="986950" y="676807"/>
                </a:lnTo>
                <a:lnTo>
                  <a:pt x="989547" y="676275"/>
                </a:lnTo>
                <a:close/>
                <a:moveTo>
                  <a:pt x="817709" y="663575"/>
                </a:moveTo>
                <a:lnTo>
                  <a:pt x="819563" y="663575"/>
                </a:lnTo>
                <a:lnTo>
                  <a:pt x="821682" y="664105"/>
                </a:lnTo>
                <a:lnTo>
                  <a:pt x="823536" y="664634"/>
                </a:lnTo>
                <a:lnTo>
                  <a:pt x="825920" y="665164"/>
                </a:lnTo>
                <a:lnTo>
                  <a:pt x="830687" y="667811"/>
                </a:lnTo>
                <a:lnTo>
                  <a:pt x="835719" y="670723"/>
                </a:lnTo>
                <a:lnTo>
                  <a:pt x="841016" y="674428"/>
                </a:lnTo>
                <a:lnTo>
                  <a:pt x="846842" y="679193"/>
                </a:lnTo>
                <a:lnTo>
                  <a:pt x="853463" y="684223"/>
                </a:lnTo>
                <a:lnTo>
                  <a:pt x="866705" y="696664"/>
                </a:lnTo>
                <a:lnTo>
                  <a:pt x="881537" y="710694"/>
                </a:lnTo>
                <a:lnTo>
                  <a:pt x="897427" y="726048"/>
                </a:lnTo>
                <a:lnTo>
                  <a:pt x="914377" y="741666"/>
                </a:lnTo>
                <a:lnTo>
                  <a:pt x="923382" y="749607"/>
                </a:lnTo>
                <a:lnTo>
                  <a:pt x="932651" y="757813"/>
                </a:lnTo>
                <a:lnTo>
                  <a:pt x="941921" y="765755"/>
                </a:lnTo>
                <a:lnTo>
                  <a:pt x="951455" y="773431"/>
                </a:lnTo>
                <a:lnTo>
                  <a:pt x="960989" y="781108"/>
                </a:lnTo>
                <a:lnTo>
                  <a:pt x="971054" y="788255"/>
                </a:lnTo>
                <a:lnTo>
                  <a:pt x="981118" y="795138"/>
                </a:lnTo>
                <a:lnTo>
                  <a:pt x="991446" y="801491"/>
                </a:lnTo>
                <a:lnTo>
                  <a:pt x="1001510" y="807314"/>
                </a:lnTo>
                <a:lnTo>
                  <a:pt x="1012104" y="812873"/>
                </a:lnTo>
                <a:lnTo>
                  <a:pt x="1022433" y="817638"/>
                </a:lnTo>
                <a:lnTo>
                  <a:pt x="1033292" y="821609"/>
                </a:lnTo>
                <a:lnTo>
                  <a:pt x="1038589" y="823462"/>
                </a:lnTo>
                <a:lnTo>
                  <a:pt x="1043885" y="824786"/>
                </a:lnTo>
                <a:lnTo>
                  <a:pt x="1049447" y="826109"/>
                </a:lnTo>
                <a:lnTo>
                  <a:pt x="1054479" y="827168"/>
                </a:lnTo>
                <a:lnTo>
                  <a:pt x="1060041" y="827962"/>
                </a:lnTo>
                <a:lnTo>
                  <a:pt x="1065338" y="828756"/>
                </a:lnTo>
                <a:lnTo>
                  <a:pt x="1070899" y="829021"/>
                </a:lnTo>
                <a:lnTo>
                  <a:pt x="1076461" y="829286"/>
                </a:lnTo>
                <a:lnTo>
                  <a:pt x="1081758" y="829021"/>
                </a:lnTo>
                <a:lnTo>
                  <a:pt x="1087320" y="828756"/>
                </a:lnTo>
                <a:lnTo>
                  <a:pt x="1092881" y="827962"/>
                </a:lnTo>
                <a:lnTo>
                  <a:pt x="1098178" y="827168"/>
                </a:lnTo>
                <a:lnTo>
                  <a:pt x="1103740" y="826109"/>
                </a:lnTo>
                <a:lnTo>
                  <a:pt x="1109302" y="825050"/>
                </a:lnTo>
                <a:lnTo>
                  <a:pt x="1114598" y="823462"/>
                </a:lnTo>
                <a:lnTo>
                  <a:pt x="1119895" y="821874"/>
                </a:lnTo>
                <a:lnTo>
                  <a:pt x="1130754" y="817903"/>
                </a:lnTo>
                <a:lnTo>
                  <a:pt x="1141877" y="813138"/>
                </a:lnTo>
                <a:lnTo>
                  <a:pt x="1152471" y="808373"/>
                </a:lnTo>
                <a:lnTo>
                  <a:pt x="1163065" y="802550"/>
                </a:lnTo>
                <a:lnTo>
                  <a:pt x="1173658" y="796197"/>
                </a:lnTo>
                <a:lnTo>
                  <a:pt x="1184252" y="789843"/>
                </a:lnTo>
                <a:lnTo>
                  <a:pt x="1194581" y="782696"/>
                </a:lnTo>
                <a:lnTo>
                  <a:pt x="1204910" y="775284"/>
                </a:lnTo>
                <a:lnTo>
                  <a:pt x="1214709" y="767872"/>
                </a:lnTo>
                <a:lnTo>
                  <a:pt x="1224508" y="760196"/>
                </a:lnTo>
                <a:lnTo>
                  <a:pt x="1243312" y="744842"/>
                </a:lnTo>
                <a:lnTo>
                  <a:pt x="1261586" y="729754"/>
                </a:lnTo>
                <a:lnTo>
                  <a:pt x="1278536" y="714930"/>
                </a:lnTo>
                <a:lnTo>
                  <a:pt x="1294162" y="701694"/>
                </a:lnTo>
                <a:lnTo>
                  <a:pt x="1308728" y="689782"/>
                </a:lnTo>
                <a:lnTo>
                  <a:pt x="1315349" y="685017"/>
                </a:lnTo>
                <a:lnTo>
                  <a:pt x="1321706" y="680782"/>
                </a:lnTo>
                <a:lnTo>
                  <a:pt x="1327532" y="677076"/>
                </a:lnTo>
                <a:lnTo>
                  <a:pt x="1332829" y="674164"/>
                </a:lnTo>
                <a:lnTo>
                  <a:pt x="1337861" y="672046"/>
                </a:lnTo>
                <a:lnTo>
                  <a:pt x="1340245" y="671517"/>
                </a:lnTo>
                <a:lnTo>
                  <a:pt x="1342363" y="670723"/>
                </a:lnTo>
                <a:lnTo>
                  <a:pt x="1344482" y="670723"/>
                </a:lnTo>
                <a:lnTo>
                  <a:pt x="1346336" y="670723"/>
                </a:lnTo>
                <a:lnTo>
                  <a:pt x="1348190" y="670987"/>
                </a:lnTo>
                <a:lnTo>
                  <a:pt x="1350044" y="671781"/>
                </a:lnTo>
                <a:lnTo>
                  <a:pt x="1364345" y="677605"/>
                </a:lnTo>
                <a:lnTo>
                  <a:pt x="1377852" y="683693"/>
                </a:lnTo>
                <a:lnTo>
                  <a:pt x="1390830" y="689782"/>
                </a:lnTo>
                <a:lnTo>
                  <a:pt x="1403277" y="695870"/>
                </a:lnTo>
                <a:lnTo>
                  <a:pt x="1424730" y="706988"/>
                </a:lnTo>
                <a:lnTo>
                  <a:pt x="1443269" y="717047"/>
                </a:lnTo>
                <a:lnTo>
                  <a:pt x="1458100" y="725253"/>
                </a:lnTo>
                <a:lnTo>
                  <a:pt x="1468958" y="732136"/>
                </a:lnTo>
                <a:lnTo>
                  <a:pt x="1477963" y="737960"/>
                </a:lnTo>
                <a:lnTo>
                  <a:pt x="1477963" y="781373"/>
                </a:lnTo>
                <a:lnTo>
                  <a:pt x="1477963" y="920347"/>
                </a:lnTo>
                <a:lnTo>
                  <a:pt x="1477963" y="947083"/>
                </a:lnTo>
                <a:lnTo>
                  <a:pt x="901930" y="1203325"/>
                </a:lnTo>
                <a:lnTo>
                  <a:pt x="668338" y="1014055"/>
                </a:lnTo>
                <a:lnTo>
                  <a:pt x="668338" y="975672"/>
                </a:lnTo>
                <a:lnTo>
                  <a:pt x="668338" y="781373"/>
                </a:lnTo>
                <a:lnTo>
                  <a:pt x="668338" y="737960"/>
                </a:lnTo>
                <a:lnTo>
                  <a:pt x="678667" y="731342"/>
                </a:lnTo>
                <a:lnTo>
                  <a:pt x="691114" y="723930"/>
                </a:lnTo>
                <a:lnTo>
                  <a:pt x="708064" y="714135"/>
                </a:lnTo>
                <a:lnTo>
                  <a:pt x="728987" y="702753"/>
                </a:lnTo>
                <a:lnTo>
                  <a:pt x="741170" y="696664"/>
                </a:lnTo>
                <a:lnTo>
                  <a:pt x="754147" y="690576"/>
                </a:lnTo>
                <a:lnTo>
                  <a:pt x="767919" y="683958"/>
                </a:lnTo>
                <a:lnTo>
                  <a:pt x="782485" y="677605"/>
                </a:lnTo>
                <a:lnTo>
                  <a:pt x="797846" y="670987"/>
                </a:lnTo>
                <a:lnTo>
                  <a:pt x="814266" y="664369"/>
                </a:lnTo>
                <a:lnTo>
                  <a:pt x="815856" y="664105"/>
                </a:lnTo>
                <a:lnTo>
                  <a:pt x="817709" y="663575"/>
                </a:lnTo>
                <a:close/>
                <a:moveTo>
                  <a:pt x="1233725" y="638175"/>
                </a:moveTo>
                <a:lnTo>
                  <a:pt x="1236663" y="638175"/>
                </a:lnTo>
                <a:lnTo>
                  <a:pt x="1239334" y="638175"/>
                </a:lnTo>
                <a:lnTo>
                  <a:pt x="1242538" y="638709"/>
                </a:lnTo>
                <a:lnTo>
                  <a:pt x="1244942" y="639243"/>
                </a:lnTo>
                <a:lnTo>
                  <a:pt x="1247879" y="640312"/>
                </a:lnTo>
                <a:lnTo>
                  <a:pt x="1250283" y="641647"/>
                </a:lnTo>
                <a:lnTo>
                  <a:pt x="1252419" y="642982"/>
                </a:lnTo>
                <a:lnTo>
                  <a:pt x="1255090" y="644585"/>
                </a:lnTo>
                <a:lnTo>
                  <a:pt x="1256692" y="646454"/>
                </a:lnTo>
                <a:lnTo>
                  <a:pt x="1258562" y="648323"/>
                </a:lnTo>
                <a:lnTo>
                  <a:pt x="1260164" y="650994"/>
                </a:lnTo>
                <a:lnTo>
                  <a:pt x="1261766" y="653130"/>
                </a:lnTo>
                <a:lnTo>
                  <a:pt x="1263102" y="655534"/>
                </a:lnTo>
                <a:lnTo>
                  <a:pt x="1263903" y="658204"/>
                </a:lnTo>
                <a:lnTo>
                  <a:pt x="1264704" y="660875"/>
                </a:lnTo>
                <a:lnTo>
                  <a:pt x="1265238" y="663813"/>
                </a:lnTo>
                <a:lnTo>
                  <a:pt x="1265238" y="666750"/>
                </a:lnTo>
                <a:lnTo>
                  <a:pt x="1265238" y="669421"/>
                </a:lnTo>
                <a:lnTo>
                  <a:pt x="1264704" y="672358"/>
                </a:lnTo>
                <a:lnTo>
                  <a:pt x="1263903" y="675029"/>
                </a:lnTo>
                <a:lnTo>
                  <a:pt x="1263102" y="677967"/>
                </a:lnTo>
                <a:lnTo>
                  <a:pt x="1261766" y="680370"/>
                </a:lnTo>
                <a:lnTo>
                  <a:pt x="1260164" y="682507"/>
                </a:lnTo>
                <a:lnTo>
                  <a:pt x="1258562" y="684643"/>
                </a:lnTo>
                <a:lnTo>
                  <a:pt x="1256692" y="687047"/>
                </a:lnTo>
                <a:lnTo>
                  <a:pt x="1255090" y="688916"/>
                </a:lnTo>
                <a:lnTo>
                  <a:pt x="1252419" y="690251"/>
                </a:lnTo>
                <a:lnTo>
                  <a:pt x="1250283" y="691586"/>
                </a:lnTo>
                <a:lnTo>
                  <a:pt x="1247879" y="692922"/>
                </a:lnTo>
                <a:lnTo>
                  <a:pt x="1244942" y="693723"/>
                </a:lnTo>
                <a:lnTo>
                  <a:pt x="1242538" y="694791"/>
                </a:lnTo>
                <a:lnTo>
                  <a:pt x="1239334" y="695058"/>
                </a:lnTo>
                <a:lnTo>
                  <a:pt x="1236663" y="695325"/>
                </a:lnTo>
                <a:lnTo>
                  <a:pt x="1233725" y="695058"/>
                </a:lnTo>
                <a:lnTo>
                  <a:pt x="1231055" y="694791"/>
                </a:lnTo>
                <a:lnTo>
                  <a:pt x="1228117" y="693723"/>
                </a:lnTo>
                <a:lnTo>
                  <a:pt x="1225447" y="692922"/>
                </a:lnTo>
                <a:lnTo>
                  <a:pt x="1223043" y="691586"/>
                </a:lnTo>
                <a:lnTo>
                  <a:pt x="1220640" y="690251"/>
                </a:lnTo>
                <a:lnTo>
                  <a:pt x="1218503" y="688916"/>
                </a:lnTo>
                <a:lnTo>
                  <a:pt x="1216367" y="687047"/>
                </a:lnTo>
                <a:lnTo>
                  <a:pt x="1214497" y="684643"/>
                </a:lnTo>
                <a:lnTo>
                  <a:pt x="1212895" y="682507"/>
                </a:lnTo>
                <a:lnTo>
                  <a:pt x="1211827" y="680370"/>
                </a:lnTo>
                <a:lnTo>
                  <a:pt x="1210492" y="677967"/>
                </a:lnTo>
                <a:lnTo>
                  <a:pt x="1209423" y="675029"/>
                </a:lnTo>
                <a:lnTo>
                  <a:pt x="1208622" y="672358"/>
                </a:lnTo>
                <a:lnTo>
                  <a:pt x="1208355" y="669421"/>
                </a:lnTo>
                <a:lnTo>
                  <a:pt x="1208088" y="666750"/>
                </a:lnTo>
                <a:lnTo>
                  <a:pt x="1208355" y="663813"/>
                </a:lnTo>
                <a:lnTo>
                  <a:pt x="1208622" y="660875"/>
                </a:lnTo>
                <a:lnTo>
                  <a:pt x="1209423" y="658204"/>
                </a:lnTo>
                <a:lnTo>
                  <a:pt x="1210492" y="655534"/>
                </a:lnTo>
                <a:lnTo>
                  <a:pt x="1211827" y="653130"/>
                </a:lnTo>
                <a:lnTo>
                  <a:pt x="1212895" y="650994"/>
                </a:lnTo>
                <a:lnTo>
                  <a:pt x="1214497" y="648323"/>
                </a:lnTo>
                <a:lnTo>
                  <a:pt x="1216367" y="646454"/>
                </a:lnTo>
                <a:lnTo>
                  <a:pt x="1218503" y="644585"/>
                </a:lnTo>
                <a:lnTo>
                  <a:pt x="1220640" y="642982"/>
                </a:lnTo>
                <a:lnTo>
                  <a:pt x="1223043" y="641647"/>
                </a:lnTo>
                <a:lnTo>
                  <a:pt x="1225447" y="640312"/>
                </a:lnTo>
                <a:lnTo>
                  <a:pt x="1228117" y="639243"/>
                </a:lnTo>
                <a:lnTo>
                  <a:pt x="1231055" y="638709"/>
                </a:lnTo>
                <a:lnTo>
                  <a:pt x="1233725" y="638175"/>
                </a:lnTo>
                <a:close/>
                <a:moveTo>
                  <a:pt x="904285" y="638175"/>
                </a:moveTo>
                <a:lnTo>
                  <a:pt x="907127" y="638175"/>
                </a:lnTo>
                <a:lnTo>
                  <a:pt x="909970" y="638175"/>
                </a:lnTo>
                <a:lnTo>
                  <a:pt x="912554" y="638709"/>
                </a:lnTo>
                <a:lnTo>
                  <a:pt x="915397" y="639243"/>
                </a:lnTo>
                <a:lnTo>
                  <a:pt x="917981" y="640312"/>
                </a:lnTo>
                <a:lnTo>
                  <a:pt x="920566" y="641647"/>
                </a:lnTo>
                <a:lnTo>
                  <a:pt x="922633" y="642982"/>
                </a:lnTo>
                <a:lnTo>
                  <a:pt x="924701" y="644585"/>
                </a:lnTo>
                <a:lnTo>
                  <a:pt x="926768" y="646454"/>
                </a:lnTo>
                <a:lnTo>
                  <a:pt x="928577" y="648323"/>
                </a:lnTo>
                <a:lnTo>
                  <a:pt x="930128" y="650994"/>
                </a:lnTo>
                <a:lnTo>
                  <a:pt x="931678" y="653130"/>
                </a:lnTo>
                <a:lnTo>
                  <a:pt x="932454" y="655534"/>
                </a:lnTo>
                <a:lnTo>
                  <a:pt x="933746" y="658204"/>
                </a:lnTo>
                <a:lnTo>
                  <a:pt x="934263" y="660875"/>
                </a:lnTo>
                <a:lnTo>
                  <a:pt x="934521" y="663813"/>
                </a:lnTo>
                <a:lnTo>
                  <a:pt x="935038" y="666750"/>
                </a:lnTo>
                <a:lnTo>
                  <a:pt x="934521" y="669421"/>
                </a:lnTo>
                <a:lnTo>
                  <a:pt x="934263" y="672358"/>
                </a:lnTo>
                <a:lnTo>
                  <a:pt x="933746" y="675029"/>
                </a:lnTo>
                <a:lnTo>
                  <a:pt x="932454" y="677967"/>
                </a:lnTo>
                <a:lnTo>
                  <a:pt x="931678" y="680370"/>
                </a:lnTo>
                <a:lnTo>
                  <a:pt x="930128" y="682507"/>
                </a:lnTo>
                <a:lnTo>
                  <a:pt x="928577" y="684643"/>
                </a:lnTo>
                <a:lnTo>
                  <a:pt x="926768" y="687047"/>
                </a:lnTo>
                <a:lnTo>
                  <a:pt x="924701" y="688916"/>
                </a:lnTo>
                <a:lnTo>
                  <a:pt x="922633" y="690251"/>
                </a:lnTo>
                <a:lnTo>
                  <a:pt x="920566" y="691586"/>
                </a:lnTo>
                <a:lnTo>
                  <a:pt x="917981" y="692922"/>
                </a:lnTo>
                <a:lnTo>
                  <a:pt x="915397" y="693723"/>
                </a:lnTo>
                <a:lnTo>
                  <a:pt x="912554" y="694791"/>
                </a:lnTo>
                <a:lnTo>
                  <a:pt x="909970" y="695058"/>
                </a:lnTo>
                <a:lnTo>
                  <a:pt x="907127" y="695325"/>
                </a:lnTo>
                <a:lnTo>
                  <a:pt x="904285" y="695058"/>
                </a:lnTo>
                <a:lnTo>
                  <a:pt x="901442" y="694791"/>
                </a:lnTo>
                <a:lnTo>
                  <a:pt x="899116" y="693723"/>
                </a:lnTo>
                <a:lnTo>
                  <a:pt x="896273" y="692922"/>
                </a:lnTo>
                <a:lnTo>
                  <a:pt x="893947" y="691586"/>
                </a:lnTo>
                <a:lnTo>
                  <a:pt x="891880" y="690251"/>
                </a:lnTo>
                <a:lnTo>
                  <a:pt x="889812" y="688916"/>
                </a:lnTo>
                <a:lnTo>
                  <a:pt x="887745" y="687047"/>
                </a:lnTo>
                <a:lnTo>
                  <a:pt x="885936" y="684643"/>
                </a:lnTo>
                <a:lnTo>
                  <a:pt x="884385" y="682507"/>
                </a:lnTo>
                <a:lnTo>
                  <a:pt x="882835" y="680370"/>
                </a:lnTo>
                <a:lnTo>
                  <a:pt x="881542" y="677967"/>
                </a:lnTo>
                <a:lnTo>
                  <a:pt x="880767" y="675029"/>
                </a:lnTo>
                <a:lnTo>
                  <a:pt x="880250" y="672358"/>
                </a:lnTo>
                <a:lnTo>
                  <a:pt x="879733" y="669421"/>
                </a:lnTo>
                <a:lnTo>
                  <a:pt x="879475" y="666750"/>
                </a:lnTo>
                <a:lnTo>
                  <a:pt x="879733" y="663813"/>
                </a:lnTo>
                <a:lnTo>
                  <a:pt x="880250" y="660875"/>
                </a:lnTo>
                <a:lnTo>
                  <a:pt x="880767" y="658204"/>
                </a:lnTo>
                <a:lnTo>
                  <a:pt x="881542" y="655534"/>
                </a:lnTo>
                <a:lnTo>
                  <a:pt x="882835" y="653130"/>
                </a:lnTo>
                <a:lnTo>
                  <a:pt x="884385" y="650994"/>
                </a:lnTo>
                <a:lnTo>
                  <a:pt x="885936" y="648323"/>
                </a:lnTo>
                <a:lnTo>
                  <a:pt x="887745" y="646454"/>
                </a:lnTo>
                <a:lnTo>
                  <a:pt x="889812" y="644585"/>
                </a:lnTo>
                <a:lnTo>
                  <a:pt x="891880" y="642982"/>
                </a:lnTo>
                <a:lnTo>
                  <a:pt x="893947" y="641647"/>
                </a:lnTo>
                <a:lnTo>
                  <a:pt x="896273" y="640312"/>
                </a:lnTo>
                <a:lnTo>
                  <a:pt x="899116" y="639243"/>
                </a:lnTo>
                <a:lnTo>
                  <a:pt x="901442" y="638709"/>
                </a:lnTo>
                <a:lnTo>
                  <a:pt x="904285" y="638175"/>
                </a:lnTo>
                <a:close/>
                <a:moveTo>
                  <a:pt x="1572419" y="401638"/>
                </a:moveTo>
                <a:lnTo>
                  <a:pt x="1583267" y="423614"/>
                </a:lnTo>
                <a:lnTo>
                  <a:pt x="1599935" y="456711"/>
                </a:lnTo>
                <a:lnTo>
                  <a:pt x="1641475" y="537731"/>
                </a:lnTo>
                <a:lnTo>
                  <a:pt x="1695979" y="643375"/>
                </a:lnTo>
                <a:lnTo>
                  <a:pt x="1698625" y="639933"/>
                </a:lnTo>
                <a:lnTo>
                  <a:pt x="1701271" y="635961"/>
                </a:lnTo>
                <a:lnTo>
                  <a:pt x="1708150" y="625900"/>
                </a:lnTo>
                <a:lnTo>
                  <a:pt x="1715559" y="613456"/>
                </a:lnTo>
                <a:lnTo>
                  <a:pt x="1723761" y="598893"/>
                </a:lnTo>
                <a:lnTo>
                  <a:pt x="1733021" y="582477"/>
                </a:lnTo>
                <a:lnTo>
                  <a:pt x="1742546" y="565267"/>
                </a:lnTo>
                <a:lnTo>
                  <a:pt x="1762390" y="527934"/>
                </a:lnTo>
                <a:lnTo>
                  <a:pt x="1781704" y="490072"/>
                </a:lnTo>
                <a:lnTo>
                  <a:pt x="1799696" y="454857"/>
                </a:lnTo>
                <a:lnTo>
                  <a:pt x="1813984" y="424938"/>
                </a:lnTo>
                <a:lnTo>
                  <a:pt x="1824567" y="404021"/>
                </a:lnTo>
                <a:lnTo>
                  <a:pt x="1835944" y="406934"/>
                </a:lnTo>
                <a:lnTo>
                  <a:pt x="1847057" y="410376"/>
                </a:lnTo>
                <a:lnTo>
                  <a:pt x="1858169" y="413818"/>
                </a:lnTo>
                <a:lnTo>
                  <a:pt x="1869017" y="417525"/>
                </a:lnTo>
                <a:lnTo>
                  <a:pt x="1879336" y="421231"/>
                </a:lnTo>
                <a:lnTo>
                  <a:pt x="1889655" y="424938"/>
                </a:lnTo>
                <a:lnTo>
                  <a:pt x="1909763" y="432881"/>
                </a:lnTo>
                <a:lnTo>
                  <a:pt x="1928019" y="440824"/>
                </a:lnTo>
                <a:lnTo>
                  <a:pt x="1945746" y="449032"/>
                </a:lnTo>
                <a:lnTo>
                  <a:pt x="1961621" y="456976"/>
                </a:lnTo>
                <a:lnTo>
                  <a:pt x="1976438" y="464919"/>
                </a:lnTo>
                <a:lnTo>
                  <a:pt x="1990196" y="472332"/>
                </a:lnTo>
                <a:lnTo>
                  <a:pt x="2001838" y="479216"/>
                </a:lnTo>
                <a:lnTo>
                  <a:pt x="2011892" y="485306"/>
                </a:lnTo>
                <a:lnTo>
                  <a:pt x="2020623" y="490866"/>
                </a:lnTo>
                <a:lnTo>
                  <a:pt x="2032265" y="498545"/>
                </a:lnTo>
                <a:lnTo>
                  <a:pt x="2036763" y="501457"/>
                </a:lnTo>
                <a:lnTo>
                  <a:pt x="2036763" y="541173"/>
                </a:lnTo>
                <a:lnTo>
                  <a:pt x="2036763" y="692887"/>
                </a:lnTo>
                <a:lnTo>
                  <a:pt x="2036763" y="773113"/>
                </a:lnTo>
                <a:lnTo>
                  <a:pt x="1745721" y="694476"/>
                </a:lnTo>
                <a:lnTo>
                  <a:pt x="1611842" y="657937"/>
                </a:lnTo>
                <a:lnTo>
                  <a:pt x="1611842" y="649994"/>
                </a:lnTo>
                <a:lnTo>
                  <a:pt x="1611842" y="604718"/>
                </a:lnTo>
                <a:lnTo>
                  <a:pt x="1575329" y="577976"/>
                </a:lnTo>
                <a:lnTo>
                  <a:pt x="1573742" y="575593"/>
                </a:lnTo>
                <a:lnTo>
                  <a:pt x="1570567" y="570033"/>
                </a:lnTo>
                <a:lnTo>
                  <a:pt x="1566598" y="562090"/>
                </a:lnTo>
                <a:lnTo>
                  <a:pt x="1562100" y="552029"/>
                </a:lnTo>
                <a:lnTo>
                  <a:pt x="1556808" y="539584"/>
                </a:lnTo>
                <a:lnTo>
                  <a:pt x="1551517" y="526081"/>
                </a:lnTo>
                <a:lnTo>
                  <a:pt x="1549135" y="518667"/>
                </a:lnTo>
                <a:lnTo>
                  <a:pt x="1546490" y="511254"/>
                </a:lnTo>
                <a:lnTo>
                  <a:pt x="1544373" y="503840"/>
                </a:lnTo>
                <a:lnTo>
                  <a:pt x="1542256" y="496162"/>
                </a:lnTo>
                <a:lnTo>
                  <a:pt x="1540404" y="488483"/>
                </a:lnTo>
                <a:lnTo>
                  <a:pt x="1538817" y="480276"/>
                </a:lnTo>
                <a:lnTo>
                  <a:pt x="1537758" y="473127"/>
                </a:lnTo>
                <a:lnTo>
                  <a:pt x="1536965" y="465184"/>
                </a:lnTo>
                <a:lnTo>
                  <a:pt x="1536700" y="457770"/>
                </a:lnTo>
                <a:lnTo>
                  <a:pt x="1536700" y="450621"/>
                </a:lnTo>
                <a:lnTo>
                  <a:pt x="1537229" y="443737"/>
                </a:lnTo>
                <a:lnTo>
                  <a:pt x="1538552" y="436853"/>
                </a:lnTo>
                <a:lnTo>
                  <a:pt x="1540140" y="430763"/>
                </a:lnTo>
                <a:lnTo>
                  <a:pt x="1541463" y="427586"/>
                </a:lnTo>
                <a:lnTo>
                  <a:pt x="1542521" y="424938"/>
                </a:lnTo>
                <a:lnTo>
                  <a:pt x="1543844" y="422026"/>
                </a:lnTo>
                <a:lnTo>
                  <a:pt x="1545696" y="419643"/>
                </a:lnTo>
                <a:lnTo>
                  <a:pt x="1547283" y="417260"/>
                </a:lnTo>
                <a:lnTo>
                  <a:pt x="1549400" y="414612"/>
                </a:lnTo>
                <a:lnTo>
                  <a:pt x="1551517" y="412494"/>
                </a:lnTo>
                <a:lnTo>
                  <a:pt x="1553898" y="410376"/>
                </a:lnTo>
                <a:lnTo>
                  <a:pt x="1556544" y="408522"/>
                </a:lnTo>
                <a:lnTo>
                  <a:pt x="1559190" y="406669"/>
                </a:lnTo>
                <a:lnTo>
                  <a:pt x="1562100" y="405080"/>
                </a:lnTo>
                <a:lnTo>
                  <a:pt x="1565275" y="404021"/>
                </a:lnTo>
                <a:lnTo>
                  <a:pt x="1568715" y="402697"/>
                </a:lnTo>
                <a:lnTo>
                  <a:pt x="1572419" y="401638"/>
                </a:lnTo>
                <a:close/>
                <a:moveTo>
                  <a:pt x="317121" y="401638"/>
                </a:moveTo>
                <a:lnTo>
                  <a:pt x="328227" y="423614"/>
                </a:lnTo>
                <a:lnTo>
                  <a:pt x="344887" y="456710"/>
                </a:lnTo>
                <a:lnTo>
                  <a:pt x="386406" y="537729"/>
                </a:lnTo>
                <a:lnTo>
                  <a:pt x="440617" y="643372"/>
                </a:lnTo>
                <a:lnTo>
                  <a:pt x="443262" y="639930"/>
                </a:lnTo>
                <a:lnTo>
                  <a:pt x="446170" y="635958"/>
                </a:lnTo>
                <a:lnTo>
                  <a:pt x="452517" y="625897"/>
                </a:lnTo>
                <a:lnTo>
                  <a:pt x="460186" y="613453"/>
                </a:lnTo>
                <a:lnTo>
                  <a:pt x="468648" y="598891"/>
                </a:lnTo>
                <a:lnTo>
                  <a:pt x="477640" y="582475"/>
                </a:lnTo>
                <a:lnTo>
                  <a:pt x="487160" y="565265"/>
                </a:lnTo>
                <a:lnTo>
                  <a:pt x="506729" y="527933"/>
                </a:lnTo>
                <a:lnTo>
                  <a:pt x="526298" y="490071"/>
                </a:lnTo>
                <a:lnTo>
                  <a:pt x="544016" y="454857"/>
                </a:lnTo>
                <a:lnTo>
                  <a:pt x="558825" y="424938"/>
                </a:lnTo>
                <a:lnTo>
                  <a:pt x="569138" y="404021"/>
                </a:lnTo>
                <a:lnTo>
                  <a:pt x="572840" y="405080"/>
                </a:lnTo>
                <a:lnTo>
                  <a:pt x="576014" y="406404"/>
                </a:lnTo>
                <a:lnTo>
                  <a:pt x="579451" y="407993"/>
                </a:lnTo>
                <a:lnTo>
                  <a:pt x="582625" y="409581"/>
                </a:lnTo>
                <a:lnTo>
                  <a:pt x="585269" y="411435"/>
                </a:lnTo>
                <a:lnTo>
                  <a:pt x="587914" y="413288"/>
                </a:lnTo>
                <a:lnTo>
                  <a:pt x="590294" y="415406"/>
                </a:lnTo>
                <a:lnTo>
                  <a:pt x="592409" y="417524"/>
                </a:lnTo>
                <a:lnTo>
                  <a:pt x="594525" y="419907"/>
                </a:lnTo>
                <a:lnTo>
                  <a:pt x="596376" y="422290"/>
                </a:lnTo>
                <a:lnTo>
                  <a:pt x="597963" y="424938"/>
                </a:lnTo>
                <a:lnTo>
                  <a:pt x="599549" y="427586"/>
                </a:lnTo>
                <a:lnTo>
                  <a:pt x="601136" y="430498"/>
                </a:lnTo>
                <a:lnTo>
                  <a:pt x="601929" y="433410"/>
                </a:lnTo>
                <a:lnTo>
                  <a:pt x="604045" y="439765"/>
                </a:lnTo>
                <a:lnTo>
                  <a:pt x="605367" y="446119"/>
                </a:lnTo>
                <a:lnTo>
                  <a:pt x="605896" y="453268"/>
                </a:lnTo>
                <a:lnTo>
                  <a:pt x="606425" y="460417"/>
                </a:lnTo>
                <a:lnTo>
                  <a:pt x="606425" y="467566"/>
                </a:lnTo>
                <a:lnTo>
                  <a:pt x="605632" y="475244"/>
                </a:lnTo>
                <a:lnTo>
                  <a:pt x="604838" y="482657"/>
                </a:lnTo>
                <a:lnTo>
                  <a:pt x="603516" y="490336"/>
                </a:lnTo>
                <a:lnTo>
                  <a:pt x="601929" y="497749"/>
                </a:lnTo>
                <a:lnTo>
                  <a:pt x="600078" y="505428"/>
                </a:lnTo>
                <a:lnTo>
                  <a:pt x="597963" y="512841"/>
                </a:lnTo>
                <a:lnTo>
                  <a:pt x="595847" y="520255"/>
                </a:lnTo>
                <a:lnTo>
                  <a:pt x="593732" y="527403"/>
                </a:lnTo>
                <a:lnTo>
                  <a:pt x="588707" y="540642"/>
                </a:lnTo>
                <a:lnTo>
                  <a:pt x="583947" y="552292"/>
                </a:lnTo>
                <a:lnTo>
                  <a:pt x="579451" y="562353"/>
                </a:lnTo>
                <a:lnTo>
                  <a:pt x="575749" y="570561"/>
                </a:lnTo>
                <a:lnTo>
                  <a:pt x="572840" y="575591"/>
                </a:lnTo>
                <a:lnTo>
                  <a:pt x="571518" y="577974"/>
                </a:lnTo>
                <a:lnTo>
                  <a:pt x="534496" y="604451"/>
                </a:lnTo>
                <a:lnTo>
                  <a:pt x="534496" y="649991"/>
                </a:lnTo>
                <a:lnTo>
                  <a:pt x="534496" y="696590"/>
                </a:lnTo>
                <a:lnTo>
                  <a:pt x="534496" y="875574"/>
                </a:lnTo>
                <a:lnTo>
                  <a:pt x="534496" y="985188"/>
                </a:lnTo>
                <a:lnTo>
                  <a:pt x="530793" y="986777"/>
                </a:lnTo>
                <a:lnTo>
                  <a:pt x="95250" y="1158876"/>
                </a:lnTo>
                <a:lnTo>
                  <a:pt x="95250" y="692884"/>
                </a:lnTo>
                <a:lnTo>
                  <a:pt x="95250" y="541171"/>
                </a:lnTo>
                <a:lnTo>
                  <a:pt x="95250" y="501456"/>
                </a:lnTo>
                <a:lnTo>
                  <a:pt x="99481" y="498279"/>
                </a:lnTo>
                <a:lnTo>
                  <a:pt x="111910" y="490336"/>
                </a:lnTo>
                <a:lnTo>
                  <a:pt x="120901" y="484776"/>
                </a:lnTo>
                <a:lnTo>
                  <a:pt x="131479" y="478156"/>
                </a:lnTo>
                <a:lnTo>
                  <a:pt x="144173" y="470743"/>
                </a:lnTo>
                <a:lnTo>
                  <a:pt x="158188" y="463065"/>
                </a:lnTo>
                <a:lnTo>
                  <a:pt x="173791" y="455121"/>
                </a:lnTo>
                <a:lnTo>
                  <a:pt x="190715" y="447178"/>
                </a:lnTo>
                <a:lnTo>
                  <a:pt x="208962" y="438706"/>
                </a:lnTo>
                <a:lnTo>
                  <a:pt x="228267" y="430498"/>
                </a:lnTo>
                <a:lnTo>
                  <a:pt x="248893" y="422290"/>
                </a:lnTo>
                <a:lnTo>
                  <a:pt x="259736" y="418848"/>
                </a:lnTo>
                <a:lnTo>
                  <a:pt x="270842" y="415141"/>
                </a:lnTo>
                <a:lnTo>
                  <a:pt x="281949" y="411435"/>
                </a:lnTo>
                <a:lnTo>
                  <a:pt x="293585" y="407993"/>
                </a:lnTo>
                <a:lnTo>
                  <a:pt x="304956" y="404551"/>
                </a:lnTo>
                <a:lnTo>
                  <a:pt x="317121" y="401638"/>
                </a:lnTo>
                <a:close/>
                <a:moveTo>
                  <a:pt x="967581" y="240070"/>
                </a:moveTo>
                <a:lnTo>
                  <a:pt x="964671" y="240335"/>
                </a:lnTo>
                <a:lnTo>
                  <a:pt x="962290" y="240863"/>
                </a:lnTo>
                <a:lnTo>
                  <a:pt x="959908" y="241921"/>
                </a:lnTo>
                <a:lnTo>
                  <a:pt x="957263" y="242978"/>
                </a:lnTo>
                <a:lnTo>
                  <a:pt x="954881" y="244564"/>
                </a:lnTo>
                <a:lnTo>
                  <a:pt x="952765" y="246414"/>
                </a:lnTo>
                <a:lnTo>
                  <a:pt x="949060" y="258574"/>
                </a:lnTo>
                <a:lnTo>
                  <a:pt x="945621" y="270997"/>
                </a:lnTo>
                <a:lnTo>
                  <a:pt x="942446" y="283685"/>
                </a:lnTo>
                <a:lnTo>
                  <a:pt x="940329" y="297166"/>
                </a:lnTo>
                <a:lnTo>
                  <a:pt x="938477" y="310911"/>
                </a:lnTo>
                <a:lnTo>
                  <a:pt x="937154" y="324657"/>
                </a:lnTo>
                <a:lnTo>
                  <a:pt x="936360" y="339195"/>
                </a:lnTo>
                <a:lnTo>
                  <a:pt x="936096" y="353733"/>
                </a:lnTo>
                <a:lnTo>
                  <a:pt x="936360" y="364307"/>
                </a:lnTo>
                <a:lnTo>
                  <a:pt x="937154" y="375144"/>
                </a:lnTo>
                <a:lnTo>
                  <a:pt x="937948" y="385718"/>
                </a:lnTo>
                <a:lnTo>
                  <a:pt x="939535" y="396027"/>
                </a:lnTo>
                <a:lnTo>
                  <a:pt x="941652" y="406336"/>
                </a:lnTo>
                <a:lnTo>
                  <a:pt x="943769" y="416116"/>
                </a:lnTo>
                <a:lnTo>
                  <a:pt x="946679" y="425896"/>
                </a:lnTo>
                <a:lnTo>
                  <a:pt x="949325" y="435941"/>
                </a:lnTo>
                <a:lnTo>
                  <a:pt x="952765" y="445192"/>
                </a:lnTo>
                <a:lnTo>
                  <a:pt x="956469" y="454180"/>
                </a:lnTo>
                <a:lnTo>
                  <a:pt x="960437" y="463167"/>
                </a:lnTo>
                <a:lnTo>
                  <a:pt x="964406" y="471890"/>
                </a:lnTo>
                <a:lnTo>
                  <a:pt x="969169" y="480349"/>
                </a:lnTo>
                <a:lnTo>
                  <a:pt x="973667" y="488543"/>
                </a:lnTo>
                <a:lnTo>
                  <a:pt x="978694" y="496209"/>
                </a:lnTo>
                <a:lnTo>
                  <a:pt x="983985" y="503874"/>
                </a:lnTo>
                <a:lnTo>
                  <a:pt x="989542" y="511011"/>
                </a:lnTo>
                <a:lnTo>
                  <a:pt x="994569" y="517620"/>
                </a:lnTo>
                <a:lnTo>
                  <a:pt x="1000390" y="523964"/>
                </a:lnTo>
                <a:lnTo>
                  <a:pt x="1006475" y="530043"/>
                </a:lnTo>
                <a:lnTo>
                  <a:pt x="1012296" y="535594"/>
                </a:lnTo>
                <a:lnTo>
                  <a:pt x="1018381" y="540881"/>
                </a:lnTo>
                <a:lnTo>
                  <a:pt x="1024467" y="545639"/>
                </a:lnTo>
                <a:lnTo>
                  <a:pt x="1030817" y="550132"/>
                </a:lnTo>
                <a:lnTo>
                  <a:pt x="1036902" y="553833"/>
                </a:lnTo>
                <a:lnTo>
                  <a:pt x="1043252" y="557269"/>
                </a:lnTo>
                <a:lnTo>
                  <a:pt x="1049602" y="560177"/>
                </a:lnTo>
                <a:lnTo>
                  <a:pt x="1055952" y="562820"/>
                </a:lnTo>
                <a:lnTo>
                  <a:pt x="1062567" y="564671"/>
                </a:lnTo>
                <a:lnTo>
                  <a:pt x="1068652" y="565992"/>
                </a:lnTo>
                <a:lnTo>
                  <a:pt x="1074737" y="566785"/>
                </a:lnTo>
                <a:lnTo>
                  <a:pt x="1081352" y="567050"/>
                </a:lnTo>
                <a:lnTo>
                  <a:pt x="1087437" y="566785"/>
                </a:lnTo>
                <a:lnTo>
                  <a:pt x="1093523" y="565992"/>
                </a:lnTo>
                <a:lnTo>
                  <a:pt x="1099873" y="564671"/>
                </a:lnTo>
                <a:lnTo>
                  <a:pt x="1106223" y="562820"/>
                </a:lnTo>
                <a:lnTo>
                  <a:pt x="1112573" y="560177"/>
                </a:lnTo>
                <a:lnTo>
                  <a:pt x="1118923" y="557269"/>
                </a:lnTo>
                <a:lnTo>
                  <a:pt x="1125273" y="553833"/>
                </a:lnTo>
                <a:lnTo>
                  <a:pt x="1131623" y="550132"/>
                </a:lnTo>
                <a:lnTo>
                  <a:pt x="1137708" y="545639"/>
                </a:lnTo>
                <a:lnTo>
                  <a:pt x="1143794" y="540881"/>
                </a:lnTo>
                <a:lnTo>
                  <a:pt x="1149879" y="535594"/>
                </a:lnTo>
                <a:lnTo>
                  <a:pt x="1155965" y="530043"/>
                </a:lnTo>
                <a:lnTo>
                  <a:pt x="1161785" y="523964"/>
                </a:lnTo>
                <a:lnTo>
                  <a:pt x="1167342" y="517620"/>
                </a:lnTo>
                <a:lnTo>
                  <a:pt x="1172898" y="511011"/>
                </a:lnTo>
                <a:lnTo>
                  <a:pt x="1178454" y="503874"/>
                </a:lnTo>
                <a:lnTo>
                  <a:pt x="1183217" y="496209"/>
                </a:lnTo>
                <a:lnTo>
                  <a:pt x="1188244" y="488543"/>
                </a:lnTo>
                <a:lnTo>
                  <a:pt x="1193271" y="480349"/>
                </a:lnTo>
                <a:lnTo>
                  <a:pt x="1197504" y="471890"/>
                </a:lnTo>
                <a:lnTo>
                  <a:pt x="1201737" y="463167"/>
                </a:lnTo>
                <a:lnTo>
                  <a:pt x="1205442" y="454180"/>
                </a:lnTo>
                <a:lnTo>
                  <a:pt x="1209146" y="445192"/>
                </a:lnTo>
                <a:lnTo>
                  <a:pt x="1212585" y="435941"/>
                </a:lnTo>
                <a:lnTo>
                  <a:pt x="1215760" y="425896"/>
                </a:lnTo>
                <a:lnTo>
                  <a:pt x="1218142" y="416116"/>
                </a:lnTo>
                <a:lnTo>
                  <a:pt x="1220523" y="406336"/>
                </a:lnTo>
                <a:lnTo>
                  <a:pt x="1222375" y="396027"/>
                </a:lnTo>
                <a:lnTo>
                  <a:pt x="1223963" y="385718"/>
                </a:lnTo>
                <a:lnTo>
                  <a:pt x="1225285" y="375144"/>
                </a:lnTo>
                <a:lnTo>
                  <a:pt x="1225815" y="364307"/>
                </a:lnTo>
                <a:lnTo>
                  <a:pt x="1226079" y="353733"/>
                </a:lnTo>
                <a:lnTo>
                  <a:pt x="1225815" y="346332"/>
                </a:lnTo>
                <a:lnTo>
                  <a:pt x="1225550" y="339195"/>
                </a:lnTo>
                <a:lnTo>
                  <a:pt x="1209146" y="337609"/>
                </a:lnTo>
                <a:lnTo>
                  <a:pt x="1192477" y="335759"/>
                </a:lnTo>
                <a:lnTo>
                  <a:pt x="1175544" y="333644"/>
                </a:lnTo>
                <a:lnTo>
                  <a:pt x="1158610" y="330736"/>
                </a:lnTo>
                <a:lnTo>
                  <a:pt x="1141677" y="328093"/>
                </a:lnTo>
                <a:lnTo>
                  <a:pt x="1125273" y="324392"/>
                </a:lnTo>
                <a:lnTo>
                  <a:pt x="1109133" y="320692"/>
                </a:lnTo>
                <a:lnTo>
                  <a:pt x="1093258" y="316462"/>
                </a:lnTo>
                <a:lnTo>
                  <a:pt x="1078177" y="311440"/>
                </a:lnTo>
                <a:lnTo>
                  <a:pt x="1063625" y="306418"/>
                </a:lnTo>
                <a:lnTo>
                  <a:pt x="1057010" y="303775"/>
                </a:lnTo>
                <a:lnTo>
                  <a:pt x="1050396" y="300867"/>
                </a:lnTo>
                <a:lnTo>
                  <a:pt x="1044046" y="298224"/>
                </a:lnTo>
                <a:lnTo>
                  <a:pt x="1038225" y="295052"/>
                </a:lnTo>
                <a:lnTo>
                  <a:pt x="1032140" y="292144"/>
                </a:lnTo>
                <a:lnTo>
                  <a:pt x="1027113" y="288972"/>
                </a:lnTo>
                <a:lnTo>
                  <a:pt x="1021821" y="285536"/>
                </a:lnTo>
                <a:lnTo>
                  <a:pt x="1017058" y="282099"/>
                </a:lnTo>
                <a:lnTo>
                  <a:pt x="1012825" y="278663"/>
                </a:lnTo>
                <a:lnTo>
                  <a:pt x="1009121" y="275227"/>
                </a:lnTo>
                <a:lnTo>
                  <a:pt x="1005417" y="271526"/>
                </a:lnTo>
                <a:lnTo>
                  <a:pt x="1002242" y="267825"/>
                </a:lnTo>
                <a:lnTo>
                  <a:pt x="998008" y="262274"/>
                </a:lnTo>
                <a:lnTo>
                  <a:pt x="994040" y="257252"/>
                </a:lnTo>
                <a:lnTo>
                  <a:pt x="990071" y="253023"/>
                </a:lnTo>
                <a:lnTo>
                  <a:pt x="986367" y="249586"/>
                </a:lnTo>
                <a:lnTo>
                  <a:pt x="982927" y="246414"/>
                </a:lnTo>
                <a:lnTo>
                  <a:pt x="979487" y="244300"/>
                </a:lnTo>
                <a:lnTo>
                  <a:pt x="976048" y="242449"/>
                </a:lnTo>
                <a:lnTo>
                  <a:pt x="973137" y="241128"/>
                </a:lnTo>
                <a:lnTo>
                  <a:pt x="970227" y="240335"/>
                </a:lnTo>
                <a:lnTo>
                  <a:pt x="967581" y="240070"/>
                </a:lnTo>
                <a:close/>
                <a:moveTo>
                  <a:pt x="1072885" y="58738"/>
                </a:moveTo>
                <a:lnTo>
                  <a:pt x="1085850" y="58738"/>
                </a:lnTo>
                <a:lnTo>
                  <a:pt x="1098815" y="58738"/>
                </a:lnTo>
                <a:lnTo>
                  <a:pt x="1113102" y="59003"/>
                </a:lnTo>
                <a:lnTo>
                  <a:pt x="1127919" y="60060"/>
                </a:lnTo>
                <a:lnTo>
                  <a:pt x="1135592" y="61117"/>
                </a:lnTo>
                <a:lnTo>
                  <a:pt x="1143265" y="61910"/>
                </a:lnTo>
                <a:lnTo>
                  <a:pt x="1150937" y="63232"/>
                </a:lnTo>
                <a:lnTo>
                  <a:pt x="1158875" y="65082"/>
                </a:lnTo>
                <a:lnTo>
                  <a:pt x="1167077" y="66933"/>
                </a:lnTo>
                <a:lnTo>
                  <a:pt x="1175015" y="69312"/>
                </a:lnTo>
                <a:lnTo>
                  <a:pt x="1182952" y="71955"/>
                </a:lnTo>
                <a:lnTo>
                  <a:pt x="1190890" y="75127"/>
                </a:lnTo>
                <a:lnTo>
                  <a:pt x="1199092" y="78563"/>
                </a:lnTo>
                <a:lnTo>
                  <a:pt x="1207029" y="82528"/>
                </a:lnTo>
                <a:lnTo>
                  <a:pt x="1214967" y="87286"/>
                </a:lnTo>
                <a:lnTo>
                  <a:pt x="1222640" y="92308"/>
                </a:lnTo>
                <a:lnTo>
                  <a:pt x="1230313" y="98124"/>
                </a:lnTo>
                <a:lnTo>
                  <a:pt x="1238250" y="104203"/>
                </a:lnTo>
                <a:lnTo>
                  <a:pt x="1245658" y="111076"/>
                </a:lnTo>
                <a:lnTo>
                  <a:pt x="1253067" y="118477"/>
                </a:lnTo>
                <a:lnTo>
                  <a:pt x="1259946" y="126672"/>
                </a:lnTo>
                <a:lnTo>
                  <a:pt x="1266825" y="135659"/>
                </a:lnTo>
                <a:lnTo>
                  <a:pt x="1273704" y="145175"/>
                </a:lnTo>
                <a:lnTo>
                  <a:pt x="1279790" y="155748"/>
                </a:lnTo>
                <a:lnTo>
                  <a:pt x="1285875" y="166586"/>
                </a:lnTo>
                <a:lnTo>
                  <a:pt x="1291696" y="178745"/>
                </a:lnTo>
                <a:lnTo>
                  <a:pt x="1297252" y="191698"/>
                </a:lnTo>
                <a:lnTo>
                  <a:pt x="1302279" y="205178"/>
                </a:lnTo>
                <a:lnTo>
                  <a:pt x="1307306" y="219981"/>
                </a:lnTo>
                <a:lnTo>
                  <a:pt x="1311540" y="235577"/>
                </a:lnTo>
                <a:lnTo>
                  <a:pt x="1315508" y="251437"/>
                </a:lnTo>
                <a:lnTo>
                  <a:pt x="1319742" y="266239"/>
                </a:lnTo>
                <a:lnTo>
                  <a:pt x="1323710" y="280249"/>
                </a:lnTo>
                <a:lnTo>
                  <a:pt x="1328208" y="293466"/>
                </a:lnTo>
                <a:lnTo>
                  <a:pt x="1336146" y="318577"/>
                </a:lnTo>
                <a:lnTo>
                  <a:pt x="1344083" y="340781"/>
                </a:lnTo>
                <a:lnTo>
                  <a:pt x="1351492" y="360606"/>
                </a:lnTo>
                <a:lnTo>
                  <a:pt x="1358900" y="378581"/>
                </a:lnTo>
                <a:lnTo>
                  <a:pt x="1366044" y="394441"/>
                </a:lnTo>
                <a:lnTo>
                  <a:pt x="1372394" y="408979"/>
                </a:lnTo>
                <a:lnTo>
                  <a:pt x="1384035" y="434355"/>
                </a:lnTo>
                <a:lnTo>
                  <a:pt x="1388533" y="445457"/>
                </a:lnTo>
                <a:lnTo>
                  <a:pt x="1392502" y="456030"/>
                </a:lnTo>
                <a:lnTo>
                  <a:pt x="1395942" y="466603"/>
                </a:lnTo>
                <a:lnTo>
                  <a:pt x="1397265" y="471626"/>
                </a:lnTo>
                <a:lnTo>
                  <a:pt x="1398058" y="476912"/>
                </a:lnTo>
                <a:lnTo>
                  <a:pt x="1399117" y="481935"/>
                </a:lnTo>
                <a:lnTo>
                  <a:pt x="1399646" y="487221"/>
                </a:lnTo>
                <a:lnTo>
                  <a:pt x="1400175" y="492508"/>
                </a:lnTo>
                <a:lnTo>
                  <a:pt x="1400175" y="498059"/>
                </a:lnTo>
                <a:lnTo>
                  <a:pt x="1399910" y="503346"/>
                </a:lnTo>
                <a:lnTo>
                  <a:pt x="1399646" y="508104"/>
                </a:lnTo>
                <a:lnTo>
                  <a:pt x="1398852" y="512862"/>
                </a:lnTo>
                <a:lnTo>
                  <a:pt x="1397529" y="517355"/>
                </a:lnTo>
                <a:lnTo>
                  <a:pt x="1395677" y="521849"/>
                </a:lnTo>
                <a:lnTo>
                  <a:pt x="1393825" y="525814"/>
                </a:lnTo>
                <a:lnTo>
                  <a:pt x="1391444" y="529514"/>
                </a:lnTo>
                <a:lnTo>
                  <a:pt x="1388533" y="532951"/>
                </a:lnTo>
                <a:lnTo>
                  <a:pt x="1385358" y="536123"/>
                </a:lnTo>
                <a:lnTo>
                  <a:pt x="1382183" y="539295"/>
                </a:lnTo>
                <a:lnTo>
                  <a:pt x="1378479" y="541938"/>
                </a:lnTo>
                <a:lnTo>
                  <a:pt x="1373981" y="544581"/>
                </a:lnTo>
                <a:lnTo>
                  <a:pt x="1369483" y="546960"/>
                </a:lnTo>
                <a:lnTo>
                  <a:pt x="1364456" y="548811"/>
                </a:lnTo>
                <a:lnTo>
                  <a:pt x="1359165" y="550661"/>
                </a:lnTo>
                <a:lnTo>
                  <a:pt x="1353344" y="552247"/>
                </a:lnTo>
                <a:lnTo>
                  <a:pt x="1347258" y="553569"/>
                </a:lnTo>
                <a:lnTo>
                  <a:pt x="1340908" y="554362"/>
                </a:lnTo>
                <a:lnTo>
                  <a:pt x="1334029" y="555419"/>
                </a:lnTo>
                <a:lnTo>
                  <a:pt x="1326885" y="555948"/>
                </a:lnTo>
                <a:lnTo>
                  <a:pt x="1319213" y="555948"/>
                </a:lnTo>
                <a:lnTo>
                  <a:pt x="1311275" y="555948"/>
                </a:lnTo>
                <a:lnTo>
                  <a:pt x="1302808" y="555683"/>
                </a:lnTo>
                <a:lnTo>
                  <a:pt x="1293813" y="555419"/>
                </a:lnTo>
                <a:lnTo>
                  <a:pt x="1285081" y="554362"/>
                </a:lnTo>
                <a:lnTo>
                  <a:pt x="1275556" y="553040"/>
                </a:lnTo>
                <a:lnTo>
                  <a:pt x="1265237" y="551983"/>
                </a:lnTo>
                <a:lnTo>
                  <a:pt x="1255183" y="550397"/>
                </a:lnTo>
                <a:lnTo>
                  <a:pt x="1244335" y="548546"/>
                </a:lnTo>
                <a:lnTo>
                  <a:pt x="1233223" y="546432"/>
                </a:lnTo>
                <a:lnTo>
                  <a:pt x="1209675" y="541145"/>
                </a:lnTo>
                <a:lnTo>
                  <a:pt x="1202796" y="549868"/>
                </a:lnTo>
                <a:lnTo>
                  <a:pt x="1195387" y="557798"/>
                </a:lnTo>
                <a:lnTo>
                  <a:pt x="1187715" y="565464"/>
                </a:lnTo>
                <a:lnTo>
                  <a:pt x="1179777" y="572601"/>
                </a:lnTo>
                <a:lnTo>
                  <a:pt x="1171840" y="578945"/>
                </a:lnTo>
                <a:lnTo>
                  <a:pt x="1163902" y="585289"/>
                </a:lnTo>
                <a:lnTo>
                  <a:pt x="1155965" y="591104"/>
                </a:lnTo>
                <a:lnTo>
                  <a:pt x="1147498" y="595862"/>
                </a:lnTo>
                <a:lnTo>
                  <a:pt x="1139296" y="600620"/>
                </a:lnTo>
                <a:lnTo>
                  <a:pt x="1130829" y="604585"/>
                </a:lnTo>
                <a:lnTo>
                  <a:pt x="1122363" y="608021"/>
                </a:lnTo>
                <a:lnTo>
                  <a:pt x="1113896" y="610665"/>
                </a:lnTo>
                <a:lnTo>
                  <a:pt x="1105694" y="612779"/>
                </a:lnTo>
                <a:lnTo>
                  <a:pt x="1097227" y="614365"/>
                </a:lnTo>
                <a:lnTo>
                  <a:pt x="1089290" y="615687"/>
                </a:lnTo>
                <a:lnTo>
                  <a:pt x="1081352" y="615951"/>
                </a:lnTo>
                <a:lnTo>
                  <a:pt x="1073150" y="615687"/>
                </a:lnTo>
                <a:lnTo>
                  <a:pt x="1064948" y="614365"/>
                </a:lnTo>
                <a:lnTo>
                  <a:pt x="1057010" y="612779"/>
                </a:lnTo>
                <a:lnTo>
                  <a:pt x="1048544" y="610665"/>
                </a:lnTo>
                <a:lnTo>
                  <a:pt x="1040342" y="608021"/>
                </a:lnTo>
                <a:lnTo>
                  <a:pt x="1032140" y="604849"/>
                </a:lnTo>
                <a:lnTo>
                  <a:pt x="1023937" y="600884"/>
                </a:lnTo>
                <a:lnTo>
                  <a:pt x="1015735" y="596655"/>
                </a:lnTo>
                <a:lnTo>
                  <a:pt x="1007533" y="591633"/>
                </a:lnTo>
                <a:lnTo>
                  <a:pt x="999331" y="586082"/>
                </a:lnTo>
                <a:lnTo>
                  <a:pt x="991658" y="580002"/>
                </a:lnTo>
                <a:lnTo>
                  <a:pt x="983456" y="573394"/>
                </a:lnTo>
                <a:lnTo>
                  <a:pt x="975783" y="566785"/>
                </a:lnTo>
                <a:lnTo>
                  <a:pt x="968375" y="559384"/>
                </a:lnTo>
                <a:lnTo>
                  <a:pt x="960967" y="551190"/>
                </a:lnTo>
                <a:lnTo>
                  <a:pt x="954087" y="542995"/>
                </a:lnTo>
                <a:lnTo>
                  <a:pt x="931598" y="547489"/>
                </a:lnTo>
                <a:lnTo>
                  <a:pt x="920750" y="549868"/>
                </a:lnTo>
                <a:lnTo>
                  <a:pt x="910431" y="551190"/>
                </a:lnTo>
                <a:lnTo>
                  <a:pt x="900642" y="552776"/>
                </a:lnTo>
                <a:lnTo>
                  <a:pt x="891117" y="554097"/>
                </a:lnTo>
                <a:lnTo>
                  <a:pt x="882121" y="554890"/>
                </a:lnTo>
                <a:lnTo>
                  <a:pt x="873125" y="555683"/>
                </a:lnTo>
                <a:lnTo>
                  <a:pt x="864923" y="555948"/>
                </a:lnTo>
                <a:lnTo>
                  <a:pt x="856985" y="556212"/>
                </a:lnTo>
                <a:lnTo>
                  <a:pt x="849313" y="555948"/>
                </a:lnTo>
                <a:lnTo>
                  <a:pt x="841904" y="555683"/>
                </a:lnTo>
                <a:lnTo>
                  <a:pt x="835025" y="554890"/>
                </a:lnTo>
                <a:lnTo>
                  <a:pt x="828410" y="554362"/>
                </a:lnTo>
                <a:lnTo>
                  <a:pt x="822060" y="553040"/>
                </a:lnTo>
                <a:lnTo>
                  <a:pt x="816504" y="551983"/>
                </a:lnTo>
                <a:lnTo>
                  <a:pt x="810948" y="550397"/>
                </a:lnTo>
                <a:lnTo>
                  <a:pt x="805656" y="548546"/>
                </a:lnTo>
                <a:lnTo>
                  <a:pt x="801158" y="546432"/>
                </a:lnTo>
                <a:lnTo>
                  <a:pt x="796660" y="543788"/>
                </a:lnTo>
                <a:lnTo>
                  <a:pt x="792692" y="541409"/>
                </a:lnTo>
                <a:lnTo>
                  <a:pt x="788987" y="538766"/>
                </a:lnTo>
                <a:lnTo>
                  <a:pt x="785813" y="535594"/>
                </a:lnTo>
                <a:lnTo>
                  <a:pt x="782637" y="532422"/>
                </a:lnTo>
                <a:lnTo>
                  <a:pt x="780256" y="528721"/>
                </a:lnTo>
                <a:lnTo>
                  <a:pt x="777610" y="525021"/>
                </a:lnTo>
                <a:lnTo>
                  <a:pt x="775758" y="521056"/>
                </a:lnTo>
                <a:lnTo>
                  <a:pt x="774171" y="517091"/>
                </a:lnTo>
                <a:lnTo>
                  <a:pt x="773113" y="512597"/>
                </a:lnTo>
                <a:lnTo>
                  <a:pt x="772054" y="507839"/>
                </a:lnTo>
                <a:lnTo>
                  <a:pt x="771790" y="503081"/>
                </a:lnTo>
                <a:lnTo>
                  <a:pt x="771525" y="498059"/>
                </a:lnTo>
                <a:lnTo>
                  <a:pt x="771790" y="492508"/>
                </a:lnTo>
                <a:lnTo>
                  <a:pt x="772054" y="487221"/>
                </a:lnTo>
                <a:lnTo>
                  <a:pt x="772848" y="481935"/>
                </a:lnTo>
                <a:lnTo>
                  <a:pt x="773642" y="476912"/>
                </a:lnTo>
                <a:lnTo>
                  <a:pt x="774700" y="471626"/>
                </a:lnTo>
                <a:lnTo>
                  <a:pt x="775758" y="466603"/>
                </a:lnTo>
                <a:lnTo>
                  <a:pt x="779198" y="456030"/>
                </a:lnTo>
                <a:lnTo>
                  <a:pt x="783167" y="445457"/>
                </a:lnTo>
                <a:lnTo>
                  <a:pt x="787929" y="434355"/>
                </a:lnTo>
                <a:lnTo>
                  <a:pt x="799306" y="408979"/>
                </a:lnTo>
                <a:lnTo>
                  <a:pt x="805656" y="394441"/>
                </a:lnTo>
                <a:lnTo>
                  <a:pt x="812800" y="378581"/>
                </a:lnTo>
                <a:lnTo>
                  <a:pt x="819944" y="360606"/>
                </a:lnTo>
                <a:lnTo>
                  <a:pt x="827617" y="340781"/>
                </a:lnTo>
                <a:lnTo>
                  <a:pt x="835554" y="318577"/>
                </a:lnTo>
                <a:lnTo>
                  <a:pt x="843756" y="293466"/>
                </a:lnTo>
                <a:lnTo>
                  <a:pt x="847990" y="280249"/>
                </a:lnTo>
                <a:lnTo>
                  <a:pt x="851958" y="266239"/>
                </a:lnTo>
                <a:lnTo>
                  <a:pt x="856192" y="251437"/>
                </a:lnTo>
                <a:lnTo>
                  <a:pt x="860160" y="235577"/>
                </a:lnTo>
                <a:lnTo>
                  <a:pt x="864658" y="219981"/>
                </a:lnTo>
                <a:lnTo>
                  <a:pt x="869421" y="205178"/>
                </a:lnTo>
                <a:lnTo>
                  <a:pt x="874448" y="191698"/>
                </a:lnTo>
                <a:lnTo>
                  <a:pt x="880004" y="178745"/>
                </a:lnTo>
                <a:lnTo>
                  <a:pt x="885825" y="166586"/>
                </a:lnTo>
                <a:lnTo>
                  <a:pt x="891910" y="155748"/>
                </a:lnTo>
                <a:lnTo>
                  <a:pt x="898260" y="145175"/>
                </a:lnTo>
                <a:lnTo>
                  <a:pt x="904875" y="135659"/>
                </a:lnTo>
                <a:lnTo>
                  <a:pt x="911754" y="126672"/>
                </a:lnTo>
                <a:lnTo>
                  <a:pt x="918898" y="118477"/>
                </a:lnTo>
                <a:lnTo>
                  <a:pt x="926306" y="111076"/>
                </a:lnTo>
                <a:lnTo>
                  <a:pt x="933715" y="104203"/>
                </a:lnTo>
                <a:lnTo>
                  <a:pt x="941387" y="98124"/>
                </a:lnTo>
                <a:lnTo>
                  <a:pt x="949060" y="92308"/>
                </a:lnTo>
                <a:lnTo>
                  <a:pt x="956733" y="87286"/>
                </a:lnTo>
                <a:lnTo>
                  <a:pt x="964671" y="82528"/>
                </a:lnTo>
                <a:lnTo>
                  <a:pt x="972873" y="78563"/>
                </a:lnTo>
                <a:lnTo>
                  <a:pt x="980810" y="75127"/>
                </a:lnTo>
                <a:lnTo>
                  <a:pt x="988748" y="71955"/>
                </a:lnTo>
                <a:lnTo>
                  <a:pt x="996685" y="69312"/>
                </a:lnTo>
                <a:lnTo>
                  <a:pt x="1004887" y="66933"/>
                </a:lnTo>
                <a:lnTo>
                  <a:pt x="1012825" y="65082"/>
                </a:lnTo>
                <a:lnTo>
                  <a:pt x="1020763" y="63232"/>
                </a:lnTo>
                <a:lnTo>
                  <a:pt x="1028435" y="61910"/>
                </a:lnTo>
                <a:lnTo>
                  <a:pt x="1036373" y="61117"/>
                </a:lnTo>
                <a:lnTo>
                  <a:pt x="1044046" y="60060"/>
                </a:lnTo>
                <a:lnTo>
                  <a:pt x="1058863" y="59003"/>
                </a:lnTo>
                <a:lnTo>
                  <a:pt x="1072885" y="58738"/>
                </a:lnTo>
                <a:close/>
                <a:moveTo>
                  <a:pt x="1693732" y="0"/>
                </a:moveTo>
                <a:lnTo>
                  <a:pt x="1700606" y="265"/>
                </a:lnTo>
                <a:lnTo>
                  <a:pt x="1707216" y="795"/>
                </a:lnTo>
                <a:lnTo>
                  <a:pt x="1714090" y="1589"/>
                </a:lnTo>
                <a:lnTo>
                  <a:pt x="1720700" y="2914"/>
                </a:lnTo>
                <a:lnTo>
                  <a:pt x="1727574" y="4504"/>
                </a:lnTo>
                <a:lnTo>
                  <a:pt x="1734448" y="6358"/>
                </a:lnTo>
                <a:lnTo>
                  <a:pt x="1740793" y="8477"/>
                </a:lnTo>
                <a:lnTo>
                  <a:pt x="1747403" y="10862"/>
                </a:lnTo>
                <a:lnTo>
                  <a:pt x="1753748" y="14041"/>
                </a:lnTo>
                <a:lnTo>
                  <a:pt x="1760358" y="16955"/>
                </a:lnTo>
                <a:lnTo>
                  <a:pt x="1766439" y="20399"/>
                </a:lnTo>
                <a:lnTo>
                  <a:pt x="1772256" y="24373"/>
                </a:lnTo>
                <a:lnTo>
                  <a:pt x="1778072" y="28347"/>
                </a:lnTo>
                <a:lnTo>
                  <a:pt x="1783889" y="33116"/>
                </a:lnTo>
                <a:lnTo>
                  <a:pt x="1789441" y="38149"/>
                </a:lnTo>
                <a:lnTo>
                  <a:pt x="1794728" y="43183"/>
                </a:lnTo>
                <a:lnTo>
                  <a:pt x="1800016" y="48482"/>
                </a:lnTo>
                <a:lnTo>
                  <a:pt x="1805040" y="54310"/>
                </a:lnTo>
                <a:lnTo>
                  <a:pt x="1809534" y="60669"/>
                </a:lnTo>
                <a:lnTo>
                  <a:pt x="1813764" y="67027"/>
                </a:lnTo>
                <a:lnTo>
                  <a:pt x="1818259" y="73915"/>
                </a:lnTo>
                <a:lnTo>
                  <a:pt x="1821960" y="81333"/>
                </a:lnTo>
                <a:lnTo>
                  <a:pt x="1825662" y="88751"/>
                </a:lnTo>
                <a:lnTo>
                  <a:pt x="1828570" y="96434"/>
                </a:lnTo>
                <a:lnTo>
                  <a:pt x="1831743" y="104382"/>
                </a:lnTo>
                <a:lnTo>
                  <a:pt x="1834122" y="113125"/>
                </a:lnTo>
                <a:lnTo>
                  <a:pt x="1836237" y="121602"/>
                </a:lnTo>
                <a:lnTo>
                  <a:pt x="1838088" y="130875"/>
                </a:lnTo>
                <a:lnTo>
                  <a:pt x="1839674" y="140147"/>
                </a:lnTo>
                <a:lnTo>
                  <a:pt x="1840732" y="149950"/>
                </a:lnTo>
                <a:lnTo>
                  <a:pt x="1841261" y="160017"/>
                </a:lnTo>
                <a:lnTo>
                  <a:pt x="1841525" y="170349"/>
                </a:lnTo>
                <a:lnTo>
                  <a:pt x="1841261" y="177502"/>
                </a:lnTo>
                <a:lnTo>
                  <a:pt x="1841525" y="177502"/>
                </a:lnTo>
                <a:lnTo>
                  <a:pt x="1844962" y="177767"/>
                </a:lnTo>
                <a:lnTo>
                  <a:pt x="1848399" y="178562"/>
                </a:lnTo>
                <a:lnTo>
                  <a:pt x="1851307" y="179622"/>
                </a:lnTo>
                <a:lnTo>
                  <a:pt x="1854480" y="181211"/>
                </a:lnTo>
                <a:lnTo>
                  <a:pt x="1857653" y="183066"/>
                </a:lnTo>
                <a:lnTo>
                  <a:pt x="1860032" y="185185"/>
                </a:lnTo>
                <a:lnTo>
                  <a:pt x="1862941" y="187834"/>
                </a:lnTo>
                <a:lnTo>
                  <a:pt x="1865056" y="190484"/>
                </a:lnTo>
                <a:lnTo>
                  <a:pt x="1867171" y="193928"/>
                </a:lnTo>
                <a:lnTo>
                  <a:pt x="1869286" y="197372"/>
                </a:lnTo>
                <a:lnTo>
                  <a:pt x="1870872" y="201081"/>
                </a:lnTo>
                <a:lnTo>
                  <a:pt x="1871930" y="204790"/>
                </a:lnTo>
                <a:lnTo>
                  <a:pt x="1873252" y="208764"/>
                </a:lnTo>
                <a:lnTo>
                  <a:pt x="1874309" y="213003"/>
                </a:lnTo>
                <a:lnTo>
                  <a:pt x="1874574" y="217241"/>
                </a:lnTo>
                <a:lnTo>
                  <a:pt x="1874838" y="222010"/>
                </a:lnTo>
                <a:lnTo>
                  <a:pt x="1874574" y="226514"/>
                </a:lnTo>
                <a:lnTo>
                  <a:pt x="1873252" y="231018"/>
                </a:lnTo>
                <a:lnTo>
                  <a:pt x="1871665" y="235257"/>
                </a:lnTo>
                <a:lnTo>
                  <a:pt x="1869550" y="239230"/>
                </a:lnTo>
                <a:lnTo>
                  <a:pt x="1866906" y="243204"/>
                </a:lnTo>
                <a:lnTo>
                  <a:pt x="1863998" y="246648"/>
                </a:lnTo>
                <a:lnTo>
                  <a:pt x="1860561" y="250357"/>
                </a:lnTo>
                <a:lnTo>
                  <a:pt x="1856860" y="253537"/>
                </a:lnTo>
                <a:lnTo>
                  <a:pt x="1852894" y="256186"/>
                </a:lnTo>
                <a:lnTo>
                  <a:pt x="1848928" y="258570"/>
                </a:lnTo>
                <a:lnTo>
                  <a:pt x="1844698" y="261220"/>
                </a:lnTo>
                <a:lnTo>
                  <a:pt x="1840732" y="263074"/>
                </a:lnTo>
                <a:lnTo>
                  <a:pt x="1836502" y="264134"/>
                </a:lnTo>
                <a:lnTo>
                  <a:pt x="1832536" y="265458"/>
                </a:lnTo>
                <a:lnTo>
                  <a:pt x="1828570" y="265988"/>
                </a:lnTo>
                <a:lnTo>
                  <a:pt x="1824869" y="266518"/>
                </a:lnTo>
                <a:lnTo>
                  <a:pt x="1824604" y="266518"/>
                </a:lnTo>
                <a:lnTo>
                  <a:pt x="1819317" y="280559"/>
                </a:lnTo>
                <a:lnTo>
                  <a:pt x="1813500" y="294600"/>
                </a:lnTo>
                <a:lnTo>
                  <a:pt x="1807419" y="307847"/>
                </a:lnTo>
                <a:lnTo>
                  <a:pt x="1800281" y="320828"/>
                </a:lnTo>
                <a:lnTo>
                  <a:pt x="1793142" y="333015"/>
                </a:lnTo>
                <a:lnTo>
                  <a:pt x="1785211" y="344407"/>
                </a:lnTo>
                <a:lnTo>
                  <a:pt x="1781245" y="349971"/>
                </a:lnTo>
                <a:lnTo>
                  <a:pt x="1777279" y="355269"/>
                </a:lnTo>
                <a:lnTo>
                  <a:pt x="1772784" y="360303"/>
                </a:lnTo>
                <a:lnTo>
                  <a:pt x="1768554" y="365071"/>
                </a:lnTo>
                <a:lnTo>
                  <a:pt x="1764324" y="369840"/>
                </a:lnTo>
                <a:lnTo>
                  <a:pt x="1759829" y="374344"/>
                </a:lnTo>
                <a:lnTo>
                  <a:pt x="1755335" y="378318"/>
                </a:lnTo>
                <a:lnTo>
                  <a:pt x="1751104" y="382557"/>
                </a:lnTo>
                <a:lnTo>
                  <a:pt x="1746345" y="386266"/>
                </a:lnTo>
                <a:lnTo>
                  <a:pt x="1741851" y="389445"/>
                </a:lnTo>
                <a:lnTo>
                  <a:pt x="1736828" y="392624"/>
                </a:lnTo>
                <a:lnTo>
                  <a:pt x="1732333" y="395273"/>
                </a:lnTo>
                <a:lnTo>
                  <a:pt x="1727310" y="397923"/>
                </a:lnTo>
                <a:lnTo>
                  <a:pt x="1722551" y="400042"/>
                </a:lnTo>
                <a:lnTo>
                  <a:pt x="1717792" y="401896"/>
                </a:lnTo>
                <a:lnTo>
                  <a:pt x="1713033" y="403486"/>
                </a:lnTo>
                <a:lnTo>
                  <a:pt x="1708274" y="404546"/>
                </a:lnTo>
                <a:lnTo>
                  <a:pt x="1703250" y="405605"/>
                </a:lnTo>
                <a:lnTo>
                  <a:pt x="1698227" y="406135"/>
                </a:lnTo>
                <a:lnTo>
                  <a:pt x="1693732" y="406400"/>
                </a:lnTo>
                <a:lnTo>
                  <a:pt x="1688709" y="406135"/>
                </a:lnTo>
                <a:lnTo>
                  <a:pt x="1683950" y="405605"/>
                </a:lnTo>
                <a:lnTo>
                  <a:pt x="1678927" y="404546"/>
                </a:lnTo>
                <a:lnTo>
                  <a:pt x="1673903" y="403486"/>
                </a:lnTo>
                <a:lnTo>
                  <a:pt x="1669409" y="401896"/>
                </a:lnTo>
                <a:lnTo>
                  <a:pt x="1664385" y="400042"/>
                </a:lnTo>
                <a:lnTo>
                  <a:pt x="1659626" y="397923"/>
                </a:lnTo>
                <a:lnTo>
                  <a:pt x="1654867" y="395273"/>
                </a:lnTo>
                <a:lnTo>
                  <a:pt x="1650108" y="392359"/>
                </a:lnTo>
                <a:lnTo>
                  <a:pt x="1645349" y="389180"/>
                </a:lnTo>
                <a:lnTo>
                  <a:pt x="1640855" y="385736"/>
                </a:lnTo>
                <a:lnTo>
                  <a:pt x="1636096" y="382027"/>
                </a:lnTo>
                <a:lnTo>
                  <a:pt x="1631601" y="378318"/>
                </a:lnTo>
                <a:lnTo>
                  <a:pt x="1627107" y="374079"/>
                </a:lnTo>
                <a:lnTo>
                  <a:pt x="1622612" y="369840"/>
                </a:lnTo>
                <a:lnTo>
                  <a:pt x="1618382" y="365071"/>
                </a:lnTo>
                <a:lnTo>
                  <a:pt x="1613887" y="360303"/>
                </a:lnTo>
                <a:lnTo>
                  <a:pt x="1609921" y="355004"/>
                </a:lnTo>
                <a:lnTo>
                  <a:pt x="1605691" y="349706"/>
                </a:lnTo>
                <a:lnTo>
                  <a:pt x="1601725" y="344142"/>
                </a:lnTo>
                <a:lnTo>
                  <a:pt x="1594058" y="332750"/>
                </a:lnTo>
                <a:lnTo>
                  <a:pt x="1586655" y="320299"/>
                </a:lnTo>
                <a:lnTo>
                  <a:pt x="1579781" y="307317"/>
                </a:lnTo>
                <a:lnTo>
                  <a:pt x="1573436" y="294071"/>
                </a:lnTo>
                <a:lnTo>
                  <a:pt x="1567355" y="280294"/>
                </a:lnTo>
                <a:lnTo>
                  <a:pt x="1562332" y="265723"/>
                </a:lnTo>
                <a:lnTo>
                  <a:pt x="1558895" y="265193"/>
                </a:lnTo>
                <a:lnTo>
                  <a:pt x="1555193" y="263869"/>
                </a:lnTo>
                <a:lnTo>
                  <a:pt x="1551492" y="262809"/>
                </a:lnTo>
                <a:lnTo>
                  <a:pt x="1547526" y="260955"/>
                </a:lnTo>
                <a:lnTo>
                  <a:pt x="1543824" y="259100"/>
                </a:lnTo>
                <a:lnTo>
                  <a:pt x="1540123" y="256451"/>
                </a:lnTo>
                <a:lnTo>
                  <a:pt x="1536422" y="254066"/>
                </a:lnTo>
                <a:lnTo>
                  <a:pt x="1532984" y="251152"/>
                </a:lnTo>
                <a:lnTo>
                  <a:pt x="1529812" y="248238"/>
                </a:lnTo>
                <a:lnTo>
                  <a:pt x="1526904" y="245059"/>
                </a:lnTo>
                <a:lnTo>
                  <a:pt x="1523995" y="241350"/>
                </a:lnTo>
                <a:lnTo>
                  <a:pt x="1521880" y="237906"/>
                </a:lnTo>
                <a:lnTo>
                  <a:pt x="1520029" y="233932"/>
                </a:lnTo>
                <a:lnTo>
                  <a:pt x="1518708" y="230223"/>
                </a:lnTo>
                <a:lnTo>
                  <a:pt x="1517914" y="225984"/>
                </a:lnTo>
                <a:lnTo>
                  <a:pt x="1517650" y="222010"/>
                </a:lnTo>
                <a:lnTo>
                  <a:pt x="1517650" y="218036"/>
                </a:lnTo>
                <a:lnTo>
                  <a:pt x="1518179" y="214062"/>
                </a:lnTo>
                <a:lnTo>
                  <a:pt x="1518708" y="209823"/>
                </a:lnTo>
                <a:lnTo>
                  <a:pt x="1519765" y="206114"/>
                </a:lnTo>
                <a:lnTo>
                  <a:pt x="1520823" y="202405"/>
                </a:lnTo>
                <a:lnTo>
                  <a:pt x="1522145" y="199226"/>
                </a:lnTo>
                <a:lnTo>
                  <a:pt x="1523995" y="196047"/>
                </a:lnTo>
                <a:lnTo>
                  <a:pt x="1525846" y="192868"/>
                </a:lnTo>
                <a:lnTo>
                  <a:pt x="1527697" y="190219"/>
                </a:lnTo>
                <a:lnTo>
                  <a:pt x="1529812" y="187834"/>
                </a:lnTo>
                <a:lnTo>
                  <a:pt x="1532456" y="185185"/>
                </a:lnTo>
                <a:lnTo>
                  <a:pt x="1534835" y="183331"/>
                </a:lnTo>
                <a:lnTo>
                  <a:pt x="1537215" y="181476"/>
                </a:lnTo>
                <a:lnTo>
                  <a:pt x="1540123" y="179887"/>
                </a:lnTo>
                <a:lnTo>
                  <a:pt x="1542767" y="179092"/>
                </a:lnTo>
                <a:lnTo>
                  <a:pt x="1545940" y="178032"/>
                </a:lnTo>
                <a:lnTo>
                  <a:pt x="1545675" y="170349"/>
                </a:lnTo>
                <a:lnTo>
                  <a:pt x="1545940" y="160017"/>
                </a:lnTo>
                <a:lnTo>
                  <a:pt x="1546468" y="149950"/>
                </a:lnTo>
                <a:lnTo>
                  <a:pt x="1547526" y="140147"/>
                </a:lnTo>
                <a:lnTo>
                  <a:pt x="1548848" y="130875"/>
                </a:lnTo>
                <a:lnTo>
                  <a:pt x="1550698" y="121602"/>
                </a:lnTo>
                <a:lnTo>
                  <a:pt x="1553078" y="113125"/>
                </a:lnTo>
                <a:lnTo>
                  <a:pt x="1555722" y="104382"/>
                </a:lnTo>
                <a:lnTo>
                  <a:pt x="1558630" y="96434"/>
                </a:lnTo>
                <a:lnTo>
                  <a:pt x="1561803" y="88751"/>
                </a:lnTo>
                <a:lnTo>
                  <a:pt x="1565240" y="81333"/>
                </a:lnTo>
                <a:lnTo>
                  <a:pt x="1569206" y="73915"/>
                </a:lnTo>
                <a:lnTo>
                  <a:pt x="1573436" y="67027"/>
                </a:lnTo>
                <a:lnTo>
                  <a:pt x="1577666" y="60669"/>
                </a:lnTo>
                <a:lnTo>
                  <a:pt x="1582161" y="54310"/>
                </a:lnTo>
                <a:lnTo>
                  <a:pt x="1587184" y="48482"/>
                </a:lnTo>
                <a:lnTo>
                  <a:pt x="1592472" y="43183"/>
                </a:lnTo>
                <a:lnTo>
                  <a:pt x="1597760" y="38149"/>
                </a:lnTo>
                <a:lnTo>
                  <a:pt x="1603312" y="33116"/>
                </a:lnTo>
                <a:lnTo>
                  <a:pt x="1609128" y="28347"/>
                </a:lnTo>
                <a:lnTo>
                  <a:pt x="1614945" y="24373"/>
                </a:lnTo>
                <a:lnTo>
                  <a:pt x="1620761" y="20399"/>
                </a:lnTo>
                <a:lnTo>
                  <a:pt x="1627107" y="16955"/>
                </a:lnTo>
                <a:lnTo>
                  <a:pt x="1633452" y="14041"/>
                </a:lnTo>
                <a:lnTo>
                  <a:pt x="1639797" y="10862"/>
                </a:lnTo>
                <a:lnTo>
                  <a:pt x="1646407" y="8477"/>
                </a:lnTo>
                <a:lnTo>
                  <a:pt x="1653017" y="6358"/>
                </a:lnTo>
                <a:lnTo>
                  <a:pt x="1659626" y="4504"/>
                </a:lnTo>
                <a:lnTo>
                  <a:pt x="1666236" y="2914"/>
                </a:lnTo>
                <a:lnTo>
                  <a:pt x="1673110" y="1589"/>
                </a:lnTo>
                <a:lnTo>
                  <a:pt x="1679984" y="795"/>
                </a:lnTo>
                <a:lnTo>
                  <a:pt x="1686594" y="265"/>
                </a:lnTo>
                <a:lnTo>
                  <a:pt x="1693732" y="0"/>
                </a:lnTo>
                <a:close/>
                <a:moveTo>
                  <a:pt x="438151" y="0"/>
                </a:moveTo>
                <a:lnTo>
                  <a:pt x="444765" y="265"/>
                </a:lnTo>
                <a:lnTo>
                  <a:pt x="451645" y="795"/>
                </a:lnTo>
                <a:lnTo>
                  <a:pt x="458259" y="1589"/>
                </a:lnTo>
                <a:lnTo>
                  <a:pt x="465138" y="2914"/>
                </a:lnTo>
                <a:lnTo>
                  <a:pt x="472017" y="4504"/>
                </a:lnTo>
                <a:lnTo>
                  <a:pt x="478632" y="6358"/>
                </a:lnTo>
                <a:lnTo>
                  <a:pt x="485247" y="8477"/>
                </a:lnTo>
                <a:lnTo>
                  <a:pt x="491861" y="10862"/>
                </a:lnTo>
                <a:lnTo>
                  <a:pt x="498211" y="14041"/>
                </a:lnTo>
                <a:lnTo>
                  <a:pt x="504561" y="16955"/>
                </a:lnTo>
                <a:lnTo>
                  <a:pt x="510647" y="20399"/>
                </a:lnTo>
                <a:lnTo>
                  <a:pt x="516997" y="24373"/>
                </a:lnTo>
                <a:lnTo>
                  <a:pt x="522818" y="28347"/>
                </a:lnTo>
                <a:lnTo>
                  <a:pt x="528374" y="33116"/>
                </a:lnTo>
                <a:lnTo>
                  <a:pt x="533930" y="38149"/>
                </a:lnTo>
                <a:lnTo>
                  <a:pt x="539486" y="43183"/>
                </a:lnTo>
                <a:lnTo>
                  <a:pt x="544249" y="48482"/>
                </a:lnTo>
                <a:lnTo>
                  <a:pt x="549276" y="54310"/>
                </a:lnTo>
                <a:lnTo>
                  <a:pt x="554038" y="60669"/>
                </a:lnTo>
                <a:lnTo>
                  <a:pt x="558536" y="67027"/>
                </a:lnTo>
                <a:lnTo>
                  <a:pt x="562505" y="73915"/>
                </a:lnTo>
                <a:lnTo>
                  <a:pt x="566474" y="81333"/>
                </a:lnTo>
                <a:lnTo>
                  <a:pt x="569913" y="88751"/>
                </a:lnTo>
                <a:lnTo>
                  <a:pt x="573353" y="96434"/>
                </a:lnTo>
                <a:lnTo>
                  <a:pt x="575999" y="104382"/>
                </a:lnTo>
                <a:lnTo>
                  <a:pt x="578909" y="113125"/>
                </a:lnTo>
                <a:lnTo>
                  <a:pt x="581026" y="121602"/>
                </a:lnTo>
                <a:lnTo>
                  <a:pt x="582878" y="130875"/>
                </a:lnTo>
                <a:lnTo>
                  <a:pt x="584201" y="140147"/>
                </a:lnTo>
                <a:lnTo>
                  <a:pt x="585259" y="149950"/>
                </a:lnTo>
                <a:lnTo>
                  <a:pt x="586053" y="160017"/>
                </a:lnTo>
                <a:lnTo>
                  <a:pt x="586318" y="170349"/>
                </a:lnTo>
                <a:lnTo>
                  <a:pt x="586053" y="177502"/>
                </a:lnTo>
                <a:lnTo>
                  <a:pt x="586318" y="177502"/>
                </a:lnTo>
                <a:lnTo>
                  <a:pt x="589757" y="177767"/>
                </a:lnTo>
                <a:lnTo>
                  <a:pt x="592668" y="178562"/>
                </a:lnTo>
                <a:lnTo>
                  <a:pt x="596107" y="179622"/>
                </a:lnTo>
                <a:lnTo>
                  <a:pt x="599282" y="181211"/>
                </a:lnTo>
                <a:lnTo>
                  <a:pt x="601928" y="183066"/>
                </a:lnTo>
                <a:lnTo>
                  <a:pt x="604838" y="185185"/>
                </a:lnTo>
                <a:lnTo>
                  <a:pt x="607220" y="187834"/>
                </a:lnTo>
                <a:lnTo>
                  <a:pt x="609601" y="190484"/>
                </a:lnTo>
                <a:lnTo>
                  <a:pt x="611982" y="193928"/>
                </a:lnTo>
                <a:lnTo>
                  <a:pt x="613834" y="197372"/>
                </a:lnTo>
                <a:lnTo>
                  <a:pt x="615157" y="201081"/>
                </a:lnTo>
                <a:lnTo>
                  <a:pt x="616745" y="204790"/>
                </a:lnTo>
                <a:lnTo>
                  <a:pt x="617803" y="208764"/>
                </a:lnTo>
                <a:lnTo>
                  <a:pt x="618597" y="213003"/>
                </a:lnTo>
                <a:lnTo>
                  <a:pt x="619126" y="217241"/>
                </a:lnTo>
                <a:lnTo>
                  <a:pt x="619126" y="222010"/>
                </a:lnTo>
                <a:lnTo>
                  <a:pt x="618861" y="226514"/>
                </a:lnTo>
                <a:lnTo>
                  <a:pt x="618068" y="231018"/>
                </a:lnTo>
                <a:lnTo>
                  <a:pt x="616216" y="235257"/>
                </a:lnTo>
                <a:lnTo>
                  <a:pt x="614099" y="239230"/>
                </a:lnTo>
                <a:lnTo>
                  <a:pt x="611453" y="243204"/>
                </a:lnTo>
                <a:lnTo>
                  <a:pt x="608543" y="246648"/>
                </a:lnTo>
                <a:lnTo>
                  <a:pt x="605103" y="250357"/>
                </a:lnTo>
                <a:lnTo>
                  <a:pt x="601399" y="253537"/>
                </a:lnTo>
                <a:lnTo>
                  <a:pt x="597430" y="256186"/>
                </a:lnTo>
                <a:lnTo>
                  <a:pt x="593461" y="258570"/>
                </a:lnTo>
                <a:lnTo>
                  <a:pt x="589493" y="261220"/>
                </a:lnTo>
                <a:lnTo>
                  <a:pt x="584995" y="263074"/>
                </a:lnTo>
                <a:lnTo>
                  <a:pt x="581026" y="264134"/>
                </a:lnTo>
                <a:lnTo>
                  <a:pt x="577057" y="265458"/>
                </a:lnTo>
                <a:lnTo>
                  <a:pt x="573353" y="265988"/>
                </a:lnTo>
                <a:lnTo>
                  <a:pt x="569649" y="266518"/>
                </a:lnTo>
                <a:lnTo>
                  <a:pt x="569384" y="266518"/>
                </a:lnTo>
                <a:lnTo>
                  <a:pt x="564093" y="280559"/>
                </a:lnTo>
                <a:lnTo>
                  <a:pt x="558272" y="294600"/>
                </a:lnTo>
                <a:lnTo>
                  <a:pt x="551657" y="307847"/>
                </a:lnTo>
                <a:lnTo>
                  <a:pt x="545043" y="320828"/>
                </a:lnTo>
                <a:lnTo>
                  <a:pt x="537634" y="333015"/>
                </a:lnTo>
                <a:lnTo>
                  <a:pt x="529961" y="344407"/>
                </a:lnTo>
                <a:lnTo>
                  <a:pt x="525993" y="349971"/>
                </a:lnTo>
                <a:lnTo>
                  <a:pt x="521759" y="355269"/>
                </a:lnTo>
                <a:lnTo>
                  <a:pt x="517526" y="360303"/>
                </a:lnTo>
                <a:lnTo>
                  <a:pt x="513293" y="365071"/>
                </a:lnTo>
                <a:lnTo>
                  <a:pt x="508795" y="369840"/>
                </a:lnTo>
                <a:lnTo>
                  <a:pt x="504561" y="374344"/>
                </a:lnTo>
                <a:lnTo>
                  <a:pt x="500063" y="378318"/>
                </a:lnTo>
                <a:lnTo>
                  <a:pt x="495301" y="382557"/>
                </a:lnTo>
                <a:lnTo>
                  <a:pt x="490803" y="386266"/>
                </a:lnTo>
                <a:lnTo>
                  <a:pt x="486040" y="389445"/>
                </a:lnTo>
                <a:lnTo>
                  <a:pt x="481542" y="392624"/>
                </a:lnTo>
                <a:lnTo>
                  <a:pt x="476515" y="395273"/>
                </a:lnTo>
                <a:lnTo>
                  <a:pt x="472017" y="397923"/>
                </a:lnTo>
                <a:lnTo>
                  <a:pt x="466990" y="400042"/>
                </a:lnTo>
                <a:lnTo>
                  <a:pt x="462492" y="401896"/>
                </a:lnTo>
                <a:lnTo>
                  <a:pt x="457465" y="403486"/>
                </a:lnTo>
                <a:lnTo>
                  <a:pt x="452438" y="404546"/>
                </a:lnTo>
                <a:lnTo>
                  <a:pt x="447676" y="405605"/>
                </a:lnTo>
                <a:lnTo>
                  <a:pt x="442913" y="406135"/>
                </a:lnTo>
                <a:lnTo>
                  <a:pt x="438151" y="406400"/>
                </a:lnTo>
                <a:lnTo>
                  <a:pt x="433124" y="406135"/>
                </a:lnTo>
                <a:lnTo>
                  <a:pt x="428097" y="405605"/>
                </a:lnTo>
                <a:lnTo>
                  <a:pt x="423334" y="404546"/>
                </a:lnTo>
                <a:lnTo>
                  <a:pt x="418572" y="403486"/>
                </a:lnTo>
                <a:lnTo>
                  <a:pt x="413809" y="401896"/>
                </a:lnTo>
                <a:lnTo>
                  <a:pt x="408782" y="400042"/>
                </a:lnTo>
                <a:lnTo>
                  <a:pt x="404019" y="397923"/>
                </a:lnTo>
                <a:lnTo>
                  <a:pt x="399257" y="395273"/>
                </a:lnTo>
                <a:lnTo>
                  <a:pt x="394494" y="392359"/>
                </a:lnTo>
                <a:lnTo>
                  <a:pt x="389997" y="389180"/>
                </a:lnTo>
                <a:lnTo>
                  <a:pt x="384969" y="385736"/>
                </a:lnTo>
                <a:lnTo>
                  <a:pt x="380471" y="382027"/>
                </a:lnTo>
                <a:lnTo>
                  <a:pt x="375974" y="378318"/>
                </a:lnTo>
                <a:lnTo>
                  <a:pt x="371476" y="374079"/>
                </a:lnTo>
                <a:lnTo>
                  <a:pt x="367242" y="369840"/>
                </a:lnTo>
                <a:lnTo>
                  <a:pt x="362744" y="365071"/>
                </a:lnTo>
                <a:lnTo>
                  <a:pt x="358511" y="360303"/>
                </a:lnTo>
                <a:lnTo>
                  <a:pt x="354278" y="355004"/>
                </a:lnTo>
                <a:lnTo>
                  <a:pt x="350309" y="349706"/>
                </a:lnTo>
                <a:lnTo>
                  <a:pt x="346076" y="344142"/>
                </a:lnTo>
                <a:lnTo>
                  <a:pt x="338138" y="332750"/>
                </a:lnTo>
                <a:lnTo>
                  <a:pt x="330730" y="320299"/>
                </a:lnTo>
                <a:lnTo>
                  <a:pt x="324115" y="307317"/>
                </a:lnTo>
                <a:lnTo>
                  <a:pt x="317765" y="294071"/>
                </a:lnTo>
                <a:lnTo>
                  <a:pt x="311944" y="280294"/>
                </a:lnTo>
                <a:lnTo>
                  <a:pt x="306653" y="265723"/>
                </a:lnTo>
                <a:lnTo>
                  <a:pt x="302948" y="265193"/>
                </a:lnTo>
                <a:lnTo>
                  <a:pt x="299244" y="263869"/>
                </a:lnTo>
                <a:lnTo>
                  <a:pt x="295540" y="262809"/>
                </a:lnTo>
                <a:lnTo>
                  <a:pt x="291836" y="260955"/>
                </a:lnTo>
                <a:lnTo>
                  <a:pt x="288132" y="259100"/>
                </a:lnTo>
                <a:lnTo>
                  <a:pt x="284428" y="256451"/>
                </a:lnTo>
                <a:lnTo>
                  <a:pt x="280723" y="254066"/>
                </a:lnTo>
                <a:lnTo>
                  <a:pt x="277548" y="251152"/>
                </a:lnTo>
                <a:lnTo>
                  <a:pt x="274109" y="248238"/>
                </a:lnTo>
                <a:lnTo>
                  <a:pt x="271198" y="245059"/>
                </a:lnTo>
                <a:lnTo>
                  <a:pt x="268553" y="241350"/>
                </a:lnTo>
                <a:lnTo>
                  <a:pt x="266436" y="237906"/>
                </a:lnTo>
                <a:lnTo>
                  <a:pt x="264584" y="233932"/>
                </a:lnTo>
                <a:lnTo>
                  <a:pt x="263261" y="230223"/>
                </a:lnTo>
                <a:lnTo>
                  <a:pt x="262467" y="225984"/>
                </a:lnTo>
                <a:lnTo>
                  <a:pt x="261938" y="222010"/>
                </a:lnTo>
                <a:lnTo>
                  <a:pt x="261938" y="218036"/>
                </a:lnTo>
                <a:lnTo>
                  <a:pt x="262732" y="214062"/>
                </a:lnTo>
                <a:lnTo>
                  <a:pt x="263261" y="209823"/>
                </a:lnTo>
                <a:lnTo>
                  <a:pt x="264319" y="206114"/>
                </a:lnTo>
                <a:lnTo>
                  <a:pt x="265378" y="202405"/>
                </a:lnTo>
                <a:lnTo>
                  <a:pt x="266701" y="199226"/>
                </a:lnTo>
                <a:lnTo>
                  <a:pt x="268553" y="196047"/>
                </a:lnTo>
                <a:lnTo>
                  <a:pt x="270140" y="192868"/>
                </a:lnTo>
                <a:lnTo>
                  <a:pt x="272257" y="190219"/>
                </a:lnTo>
                <a:lnTo>
                  <a:pt x="274373" y="187834"/>
                </a:lnTo>
                <a:lnTo>
                  <a:pt x="276490" y="185185"/>
                </a:lnTo>
                <a:lnTo>
                  <a:pt x="278871" y="183331"/>
                </a:lnTo>
                <a:lnTo>
                  <a:pt x="281782" y="181476"/>
                </a:lnTo>
                <a:lnTo>
                  <a:pt x="284428" y="179887"/>
                </a:lnTo>
                <a:lnTo>
                  <a:pt x="287338" y="179092"/>
                </a:lnTo>
                <a:lnTo>
                  <a:pt x="290513" y="178032"/>
                </a:lnTo>
                <a:lnTo>
                  <a:pt x="289984" y="170349"/>
                </a:lnTo>
                <a:lnTo>
                  <a:pt x="289984" y="160017"/>
                </a:lnTo>
                <a:lnTo>
                  <a:pt x="291042" y="149950"/>
                </a:lnTo>
                <a:lnTo>
                  <a:pt x="291836" y="140147"/>
                </a:lnTo>
                <a:lnTo>
                  <a:pt x="293423" y="130875"/>
                </a:lnTo>
                <a:lnTo>
                  <a:pt x="295276" y="121602"/>
                </a:lnTo>
                <a:lnTo>
                  <a:pt x="297392" y="113125"/>
                </a:lnTo>
                <a:lnTo>
                  <a:pt x="300038" y="104382"/>
                </a:lnTo>
                <a:lnTo>
                  <a:pt x="302948" y="96434"/>
                </a:lnTo>
                <a:lnTo>
                  <a:pt x="306123" y="88751"/>
                </a:lnTo>
                <a:lnTo>
                  <a:pt x="309828" y="81333"/>
                </a:lnTo>
                <a:lnTo>
                  <a:pt x="313532" y="73915"/>
                </a:lnTo>
                <a:lnTo>
                  <a:pt x="317765" y="67027"/>
                </a:lnTo>
                <a:lnTo>
                  <a:pt x="322263" y="60669"/>
                </a:lnTo>
                <a:lnTo>
                  <a:pt x="326761" y="54310"/>
                </a:lnTo>
                <a:lnTo>
                  <a:pt x="331788" y="48482"/>
                </a:lnTo>
                <a:lnTo>
                  <a:pt x="336551" y="43183"/>
                </a:lnTo>
                <a:lnTo>
                  <a:pt x="342107" y="38149"/>
                </a:lnTo>
                <a:lnTo>
                  <a:pt x="347663" y="33116"/>
                </a:lnTo>
                <a:lnTo>
                  <a:pt x="353219" y="28347"/>
                </a:lnTo>
                <a:lnTo>
                  <a:pt x="359040" y="24373"/>
                </a:lnTo>
                <a:lnTo>
                  <a:pt x="365390" y="20399"/>
                </a:lnTo>
                <a:lnTo>
                  <a:pt x="371476" y="16955"/>
                </a:lnTo>
                <a:lnTo>
                  <a:pt x="377826" y="14041"/>
                </a:lnTo>
                <a:lnTo>
                  <a:pt x="384176" y="10862"/>
                </a:lnTo>
                <a:lnTo>
                  <a:pt x="390790" y="8477"/>
                </a:lnTo>
                <a:lnTo>
                  <a:pt x="397405" y="6358"/>
                </a:lnTo>
                <a:lnTo>
                  <a:pt x="404019" y="4504"/>
                </a:lnTo>
                <a:lnTo>
                  <a:pt x="410899" y="2914"/>
                </a:lnTo>
                <a:lnTo>
                  <a:pt x="417778" y="1589"/>
                </a:lnTo>
                <a:lnTo>
                  <a:pt x="424392" y="795"/>
                </a:lnTo>
                <a:lnTo>
                  <a:pt x="431272" y="265"/>
                </a:lnTo>
                <a:lnTo>
                  <a:pt x="438151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25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23" name="矩形 27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0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32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33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34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文本框 35"/>
          <p:cNvSpPr/>
          <p:nvPr/>
        </p:nvSpPr>
        <p:spPr>
          <a:xfrm>
            <a:off x="5172120" y="4351320"/>
            <a:ext cx="24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825480" y="11365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9"/>
          <p:cNvSpPr/>
          <p:nvPr/>
        </p:nvSpPr>
        <p:spPr>
          <a:xfrm>
            <a:off x="2340000" y="2000160"/>
            <a:ext cx="2036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"/>
          <p:cNvGrpSpPr/>
          <p:nvPr/>
        </p:nvGrpSpPr>
        <p:grpSpPr>
          <a:xfrm>
            <a:off x="4210200" y="2184480"/>
            <a:ext cx="4682880" cy="2044800"/>
            <a:chOff x="4210200" y="2184480"/>
            <a:chExt cx="4682880" cy="2044800"/>
          </a:xfrm>
        </p:grpSpPr>
        <p:grpSp>
          <p:nvGrpSpPr>
            <p:cNvPr id="132" name="组合 15"/>
            <p:cNvGrpSpPr/>
            <p:nvPr/>
          </p:nvGrpSpPr>
          <p:grpSpPr>
            <a:xfrm>
              <a:off x="4210200" y="2184480"/>
              <a:ext cx="97920" cy="2044800"/>
              <a:chOff x="4210200" y="2184480"/>
              <a:chExt cx="97920" cy="2044800"/>
            </a:xfrm>
          </p:grpSpPr>
          <p:sp>
            <p:nvSpPr>
              <p:cNvPr id="133" name="直接连接符 11"/>
              <p:cNvSpPr/>
              <p:nvPr/>
            </p:nvSpPr>
            <p:spPr>
              <a:xfrm>
                <a:off x="421020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12"/>
              <p:cNvSpPr/>
              <p:nvPr/>
            </p:nvSpPr>
            <p:spPr>
              <a:xfrm>
                <a:off x="430812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>
                    <a:alpha val="3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14"/>
            <p:cNvSpPr/>
            <p:nvPr/>
          </p:nvSpPr>
          <p:spPr>
            <a:xfrm>
              <a:off x="4529520" y="2184480"/>
              <a:ext cx="131220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>
              <a:off x="4529520" y="2752200"/>
              <a:ext cx="211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18"/>
            <p:cNvSpPr/>
            <p:nvPr/>
          </p:nvSpPr>
          <p:spPr>
            <a:xfrm>
              <a:off x="4529520" y="3319920"/>
              <a:ext cx="3051000" cy="34380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>
              <a:off x="4529520" y="3888000"/>
              <a:ext cx="436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文本框 20"/>
          <p:cNvSpPr/>
          <p:nvPr/>
        </p:nvSpPr>
        <p:spPr>
          <a:xfrm>
            <a:off x="2340000" y="26146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21"/>
          <p:cNvSpPr/>
          <p:nvPr/>
        </p:nvSpPr>
        <p:spPr>
          <a:xfrm>
            <a:off x="2338560" y="32068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2"/>
          <p:cNvSpPr/>
          <p:nvPr/>
        </p:nvSpPr>
        <p:spPr>
          <a:xfrm>
            <a:off x="2338560" y="382104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23"/>
          <p:cNvSpPr/>
          <p:nvPr/>
        </p:nvSpPr>
        <p:spPr>
          <a:xfrm>
            <a:off x="-576360" y="2502000"/>
            <a:ext cx="39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bccf"/>
                </a:solidFill>
                <a:latin typeface="隶书"/>
                <a:ea typeface="隶书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bccf"/>
                </a:solidFill>
                <a:latin typeface="隶书"/>
                <a:ea typeface="隶书"/>
              </a:rPr>
              <a:t>全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25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44" name="椭圆 28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5" name="组合 2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46" name="等腰三角形 30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矩形 31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7"/>
          <p:cNvGrpSpPr/>
          <p:nvPr/>
        </p:nvGrpSpPr>
        <p:grpSpPr>
          <a:xfrm>
            <a:off x="4956120" y="1203480"/>
            <a:ext cx="3849480" cy="3288240"/>
            <a:chOff x="4956120" y="1203480"/>
            <a:chExt cx="3849480" cy="3288240"/>
          </a:xfrm>
        </p:grpSpPr>
        <p:grpSp>
          <p:nvGrpSpPr>
            <p:cNvPr id="149" name="组合 5"/>
            <p:cNvGrpSpPr/>
            <p:nvPr/>
          </p:nvGrpSpPr>
          <p:grpSpPr>
            <a:xfrm>
              <a:off x="4956120" y="1203480"/>
              <a:ext cx="3849480" cy="3288240"/>
              <a:chOff x="4956120" y="1203480"/>
              <a:chExt cx="3849480" cy="3288240"/>
            </a:xfrm>
          </p:grpSpPr>
          <p:grpSp>
            <p:nvGrpSpPr>
              <p:cNvPr id="150" name="组合 3"/>
              <p:cNvGrpSpPr/>
              <p:nvPr/>
            </p:nvGrpSpPr>
            <p:grpSpPr>
              <a:xfrm>
                <a:off x="4956120" y="1717560"/>
                <a:ext cx="2544840" cy="2544840"/>
                <a:chOff x="4956120" y="1717560"/>
                <a:chExt cx="2544840" cy="2544840"/>
              </a:xfrm>
            </p:grpSpPr>
            <p:sp>
              <p:nvSpPr>
                <p:cNvPr id="151" name="椭圆 2"/>
                <p:cNvSpPr/>
                <p:nvPr/>
              </p:nvSpPr>
              <p:spPr>
                <a:xfrm>
                  <a:off x="4956120" y="1717560"/>
                  <a:ext cx="2544840" cy="2544840"/>
                </a:xfrm>
                <a:prstGeom prst="ellipse">
                  <a:avLst/>
                </a:prstGeom>
                <a:solidFill>
                  <a:srgbClr val="96c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1"/>
                <p:cNvSpPr/>
                <p:nvPr/>
              </p:nvSpPr>
              <p:spPr>
                <a:xfrm>
                  <a:off x="5293800" y="2055240"/>
                  <a:ext cx="1869480" cy="1869480"/>
                </a:xfrm>
                <a:prstGeom prst="ellipse">
                  <a:avLst/>
                </a:prstGeom>
                <a:solidFill>
                  <a:srgbClr val="2b3e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3" name="等腰三角形 4"/>
              <p:cNvSpPr/>
              <p:nvPr/>
            </p:nvSpPr>
            <p:spPr>
              <a:xfrm rot="13500000">
                <a:off x="5664600" y="2019240"/>
                <a:ext cx="2993760" cy="1656360"/>
              </a:xfrm>
              <a:custGeom>
                <a:avLst/>
                <a:gdLst/>
                <a:ahLst/>
                <a:rect l="l" t="t" r="r" b="b"/>
                <a:pathLst>
                  <a:path w="1413994" h="782407">
                    <a:moveTo>
                      <a:pt x="0" y="243768"/>
                    </a:moveTo>
                    <a:lnTo>
                      <a:pt x="942459" y="0"/>
                    </a:lnTo>
                    <a:lnTo>
                      <a:pt x="1413449" y="701762"/>
                    </a:lnTo>
                    <a:cubicBezTo>
                      <a:pt x="1426180" y="796899"/>
                      <a:pt x="1214008" y="808801"/>
                      <a:pt x="978433" y="732469"/>
                    </a:cubicBezTo>
                    <a:cubicBezTo>
                      <a:pt x="742858" y="656137"/>
                      <a:pt x="12731" y="338905"/>
                      <a:pt x="0" y="243768"/>
                    </a:cubicBezTo>
                    <a:close/>
                  </a:path>
                </a:pathLst>
              </a:cu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文本框 6"/>
            <p:cNvSpPr/>
            <p:nvPr/>
          </p:nvSpPr>
          <p:spPr>
            <a:xfrm>
              <a:off x="5531760" y="2163240"/>
              <a:ext cx="16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n</a:t>
              </a:r>
              <a:r>
                <a:rPr b="0" lang="zh-CN" sz="42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个月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文本框 33"/>
          <p:cNvSpPr/>
          <p:nvPr/>
        </p:nvSpPr>
        <p:spPr>
          <a:xfrm>
            <a:off x="992160" y="1940040"/>
            <a:ext cx="35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2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57" name="椭圆 23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组合 24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59" name="等腰三角形 25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矩形 26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2"/>
          <p:cNvSpPr/>
          <p:nvPr/>
        </p:nvSpPr>
        <p:spPr>
          <a:xfrm>
            <a:off x="843120" y="23922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3"/>
          <p:cNvSpPr/>
          <p:nvPr/>
        </p:nvSpPr>
        <p:spPr>
          <a:xfrm>
            <a:off x="798480" y="40734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4"/>
          <p:cNvSpPr/>
          <p:nvPr/>
        </p:nvSpPr>
        <p:spPr>
          <a:xfrm>
            <a:off x="809640" y="51325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5"/>
          <p:cNvSpPr/>
          <p:nvPr/>
        </p:nvSpPr>
        <p:spPr>
          <a:xfrm>
            <a:off x="520560" y="351468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851040" y="296532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27"/>
          <p:cNvSpPr/>
          <p:nvPr/>
        </p:nvSpPr>
        <p:spPr>
          <a:xfrm>
            <a:off x="828720" y="457524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9"/>
          <p:cNvSpPr/>
          <p:nvPr/>
        </p:nvSpPr>
        <p:spPr>
          <a:xfrm>
            <a:off x="1452600" y="2249640"/>
            <a:ext cx="0" cy="3976560"/>
          </a:xfrm>
          <a:prstGeom prst="line">
            <a:avLst/>
          </a:prstGeom>
          <a:ln w="12600">
            <a:solidFill>
              <a:srgbClr val="fdd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2"/>
          <p:cNvGrpSpPr/>
          <p:nvPr/>
        </p:nvGrpSpPr>
        <p:grpSpPr>
          <a:xfrm>
            <a:off x="1322280" y="2532240"/>
            <a:ext cx="276480" cy="276120"/>
            <a:chOff x="1322280" y="2532240"/>
            <a:chExt cx="276480" cy="276120"/>
          </a:xfrm>
        </p:grpSpPr>
        <p:sp>
          <p:nvSpPr>
            <p:cNvPr id="169" name="椭圆 10"/>
            <p:cNvSpPr/>
            <p:nvPr/>
          </p:nvSpPr>
          <p:spPr>
            <a:xfrm>
              <a:off x="1405080" y="261576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椭圆 11"/>
            <p:cNvSpPr/>
            <p:nvPr/>
          </p:nvSpPr>
          <p:spPr>
            <a:xfrm>
              <a:off x="1322280" y="253224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29"/>
          <p:cNvGrpSpPr/>
          <p:nvPr/>
        </p:nvGrpSpPr>
        <p:grpSpPr>
          <a:xfrm>
            <a:off x="1322280" y="3071880"/>
            <a:ext cx="276480" cy="274680"/>
            <a:chOff x="1322280" y="3071880"/>
            <a:chExt cx="276480" cy="274680"/>
          </a:xfrm>
        </p:grpSpPr>
        <p:sp>
          <p:nvSpPr>
            <p:cNvPr id="172" name="椭圆 30"/>
            <p:cNvSpPr/>
            <p:nvPr/>
          </p:nvSpPr>
          <p:spPr>
            <a:xfrm>
              <a:off x="1405080" y="3155040"/>
              <a:ext cx="10908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椭圆 31"/>
            <p:cNvSpPr/>
            <p:nvPr/>
          </p:nvSpPr>
          <p:spPr>
            <a:xfrm>
              <a:off x="1322280" y="3071880"/>
              <a:ext cx="2764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合 33"/>
          <p:cNvGrpSpPr/>
          <p:nvPr/>
        </p:nvGrpSpPr>
        <p:grpSpPr>
          <a:xfrm>
            <a:off x="1322280" y="3649680"/>
            <a:ext cx="276480" cy="276120"/>
            <a:chOff x="1322280" y="3649680"/>
            <a:chExt cx="276480" cy="276120"/>
          </a:xfrm>
        </p:grpSpPr>
        <p:sp>
          <p:nvSpPr>
            <p:cNvPr id="175" name="椭圆 34"/>
            <p:cNvSpPr/>
            <p:nvPr/>
          </p:nvSpPr>
          <p:spPr>
            <a:xfrm>
              <a:off x="1405080" y="373320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5"/>
            <p:cNvSpPr/>
            <p:nvPr/>
          </p:nvSpPr>
          <p:spPr>
            <a:xfrm>
              <a:off x="1322280" y="364968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6"/>
          <p:cNvGrpSpPr/>
          <p:nvPr/>
        </p:nvGrpSpPr>
        <p:grpSpPr>
          <a:xfrm>
            <a:off x="1328760" y="4214880"/>
            <a:ext cx="276120" cy="274680"/>
            <a:chOff x="1328760" y="4214880"/>
            <a:chExt cx="276120" cy="274680"/>
          </a:xfrm>
        </p:grpSpPr>
        <p:sp>
          <p:nvSpPr>
            <p:cNvPr id="178" name="椭圆 37"/>
            <p:cNvSpPr/>
            <p:nvPr/>
          </p:nvSpPr>
          <p:spPr>
            <a:xfrm>
              <a:off x="1411560" y="4298040"/>
              <a:ext cx="10872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椭圆 38"/>
            <p:cNvSpPr/>
            <p:nvPr/>
          </p:nvSpPr>
          <p:spPr>
            <a:xfrm>
              <a:off x="1328760" y="4214880"/>
              <a:ext cx="2761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1303200" y="4707000"/>
            <a:ext cx="274680" cy="274680"/>
            <a:chOff x="1303200" y="4707000"/>
            <a:chExt cx="274680" cy="274680"/>
          </a:xfrm>
        </p:grpSpPr>
        <p:sp>
          <p:nvSpPr>
            <p:cNvPr id="181" name="椭圆 40"/>
            <p:cNvSpPr/>
            <p:nvPr/>
          </p:nvSpPr>
          <p:spPr>
            <a:xfrm>
              <a:off x="1385640" y="479016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椭圆 41"/>
            <p:cNvSpPr/>
            <p:nvPr/>
          </p:nvSpPr>
          <p:spPr>
            <a:xfrm>
              <a:off x="1303200" y="4707000"/>
              <a:ext cx="2746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42"/>
          <p:cNvGrpSpPr/>
          <p:nvPr/>
        </p:nvGrpSpPr>
        <p:grpSpPr>
          <a:xfrm>
            <a:off x="1327320" y="5268960"/>
            <a:ext cx="274320" cy="274680"/>
            <a:chOff x="1327320" y="5268960"/>
            <a:chExt cx="274320" cy="274680"/>
          </a:xfrm>
        </p:grpSpPr>
        <p:sp>
          <p:nvSpPr>
            <p:cNvPr id="184" name="椭圆 43"/>
            <p:cNvSpPr/>
            <p:nvPr/>
          </p:nvSpPr>
          <p:spPr>
            <a:xfrm>
              <a:off x="1409760" y="535212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椭圆 44"/>
            <p:cNvSpPr/>
            <p:nvPr/>
          </p:nvSpPr>
          <p:spPr>
            <a:xfrm>
              <a:off x="1327320" y="5268960"/>
              <a:ext cx="2743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KSO_Shape"/>
          <p:cNvSpPr/>
          <p:nvPr/>
        </p:nvSpPr>
        <p:spPr>
          <a:xfrm>
            <a:off x="5745240" y="2616120"/>
            <a:ext cx="2160360" cy="2739960"/>
          </a:xfrm>
          <a:custGeom>
            <a:avLst/>
            <a:gdLst/>
            <a:ahLst/>
            <a:rect l="l" t="t" r="r" b="b"/>
            <a:pathLst>
              <a:path w="2665412" h="3382963">
                <a:moveTo>
                  <a:pt x="506574" y="2643989"/>
                </a:moveTo>
                <a:lnTo>
                  <a:pt x="493243" y="2644624"/>
                </a:lnTo>
                <a:lnTo>
                  <a:pt x="480230" y="2646210"/>
                </a:lnTo>
                <a:lnTo>
                  <a:pt x="467217" y="2648431"/>
                </a:lnTo>
                <a:lnTo>
                  <a:pt x="454521" y="2650970"/>
                </a:lnTo>
                <a:lnTo>
                  <a:pt x="442460" y="2654460"/>
                </a:lnTo>
                <a:lnTo>
                  <a:pt x="430399" y="2658585"/>
                </a:lnTo>
                <a:lnTo>
                  <a:pt x="418655" y="2663027"/>
                </a:lnTo>
                <a:lnTo>
                  <a:pt x="407229" y="2667786"/>
                </a:lnTo>
                <a:lnTo>
                  <a:pt x="396120" y="2673180"/>
                </a:lnTo>
                <a:lnTo>
                  <a:pt x="385328" y="2679526"/>
                </a:lnTo>
                <a:lnTo>
                  <a:pt x="374854" y="2685872"/>
                </a:lnTo>
                <a:lnTo>
                  <a:pt x="364380" y="2692852"/>
                </a:lnTo>
                <a:lnTo>
                  <a:pt x="354858" y="2700784"/>
                </a:lnTo>
                <a:lnTo>
                  <a:pt x="345336" y="2708717"/>
                </a:lnTo>
                <a:lnTo>
                  <a:pt x="336449" y="2717284"/>
                </a:lnTo>
                <a:lnTo>
                  <a:pt x="327562" y="2725533"/>
                </a:lnTo>
                <a:lnTo>
                  <a:pt x="319310" y="2735052"/>
                </a:lnTo>
                <a:lnTo>
                  <a:pt x="312010" y="2744571"/>
                </a:lnTo>
                <a:lnTo>
                  <a:pt x="304710" y="2754724"/>
                </a:lnTo>
                <a:lnTo>
                  <a:pt x="298044" y="2764878"/>
                </a:lnTo>
                <a:lnTo>
                  <a:pt x="291696" y="2775348"/>
                </a:lnTo>
                <a:lnTo>
                  <a:pt x="285983" y="2786136"/>
                </a:lnTo>
                <a:lnTo>
                  <a:pt x="280905" y="2797241"/>
                </a:lnTo>
                <a:lnTo>
                  <a:pt x="276144" y="2808981"/>
                </a:lnTo>
                <a:lnTo>
                  <a:pt x="272018" y="2820721"/>
                </a:lnTo>
                <a:lnTo>
                  <a:pt x="268209" y="2832461"/>
                </a:lnTo>
                <a:lnTo>
                  <a:pt x="265353" y="2844835"/>
                </a:lnTo>
                <a:lnTo>
                  <a:pt x="263131" y="2857210"/>
                </a:lnTo>
                <a:lnTo>
                  <a:pt x="261226" y="2869584"/>
                </a:lnTo>
                <a:lnTo>
                  <a:pt x="259957" y="2882276"/>
                </a:lnTo>
                <a:lnTo>
                  <a:pt x="259322" y="2895285"/>
                </a:lnTo>
                <a:lnTo>
                  <a:pt x="259639" y="2908294"/>
                </a:lnTo>
                <a:lnTo>
                  <a:pt x="260274" y="2921620"/>
                </a:lnTo>
                <a:lnTo>
                  <a:pt x="261861" y="2934629"/>
                </a:lnTo>
                <a:lnTo>
                  <a:pt x="264083" y="2947638"/>
                </a:lnTo>
                <a:lnTo>
                  <a:pt x="266622" y="2960330"/>
                </a:lnTo>
                <a:lnTo>
                  <a:pt x="270113" y="2972704"/>
                </a:lnTo>
                <a:lnTo>
                  <a:pt x="273922" y="2984444"/>
                </a:lnTo>
                <a:lnTo>
                  <a:pt x="278366" y="2996501"/>
                </a:lnTo>
                <a:lnTo>
                  <a:pt x="283444" y="3007924"/>
                </a:lnTo>
                <a:lnTo>
                  <a:pt x="288840" y="3019029"/>
                </a:lnTo>
                <a:lnTo>
                  <a:pt x="294870" y="3029817"/>
                </a:lnTo>
                <a:lnTo>
                  <a:pt x="301536" y="3040605"/>
                </a:lnTo>
                <a:lnTo>
                  <a:pt x="308836" y="3050441"/>
                </a:lnTo>
                <a:lnTo>
                  <a:pt x="316136" y="3060277"/>
                </a:lnTo>
                <a:lnTo>
                  <a:pt x="323753" y="3069478"/>
                </a:lnTo>
                <a:lnTo>
                  <a:pt x="332323" y="3078680"/>
                </a:lnTo>
                <a:lnTo>
                  <a:pt x="341210" y="3087247"/>
                </a:lnTo>
                <a:lnTo>
                  <a:pt x="350732" y="3095496"/>
                </a:lnTo>
                <a:lnTo>
                  <a:pt x="360254" y="3103429"/>
                </a:lnTo>
                <a:lnTo>
                  <a:pt x="370411" y="3110409"/>
                </a:lnTo>
                <a:lnTo>
                  <a:pt x="380250" y="3117072"/>
                </a:lnTo>
                <a:lnTo>
                  <a:pt x="391041" y="3123418"/>
                </a:lnTo>
                <a:lnTo>
                  <a:pt x="401833" y="3128812"/>
                </a:lnTo>
                <a:lnTo>
                  <a:pt x="412942" y="3134206"/>
                </a:lnTo>
                <a:lnTo>
                  <a:pt x="424685" y="3138965"/>
                </a:lnTo>
                <a:lnTo>
                  <a:pt x="436429" y="3143090"/>
                </a:lnTo>
                <a:lnTo>
                  <a:pt x="448173" y="3146580"/>
                </a:lnTo>
                <a:lnTo>
                  <a:pt x="460551" y="3149753"/>
                </a:lnTo>
                <a:lnTo>
                  <a:pt x="472930" y="3151974"/>
                </a:lnTo>
                <a:lnTo>
                  <a:pt x="485626" y="3153878"/>
                </a:lnTo>
                <a:lnTo>
                  <a:pt x="498004" y="3154830"/>
                </a:lnTo>
                <a:lnTo>
                  <a:pt x="511017" y="3155147"/>
                </a:lnTo>
                <a:lnTo>
                  <a:pt x="524030" y="3155147"/>
                </a:lnTo>
                <a:lnTo>
                  <a:pt x="537044" y="3154513"/>
                </a:lnTo>
                <a:lnTo>
                  <a:pt x="550374" y="3152926"/>
                </a:lnTo>
                <a:lnTo>
                  <a:pt x="563070" y="3150705"/>
                </a:lnTo>
                <a:lnTo>
                  <a:pt x="575766" y="3148167"/>
                </a:lnTo>
                <a:lnTo>
                  <a:pt x="588462" y="3144994"/>
                </a:lnTo>
                <a:lnTo>
                  <a:pt x="600206" y="3141186"/>
                </a:lnTo>
                <a:lnTo>
                  <a:pt x="612267" y="3136744"/>
                </a:lnTo>
                <a:lnTo>
                  <a:pt x="623693" y="3131668"/>
                </a:lnTo>
                <a:lnTo>
                  <a:pt x="634802" y="3125956"/>
                </a:lnTo>
                <a:lnTo>
                  <a:pt x="645593" y="3119928"/>
                </a:lnTo>
                <a:lnTo>
                  <a:pt x="656067" y="3113265"/>
                </a:lnTo>
                <a:lnTo>
                  <a:pt x="665907" y="3106284"/>
                </a:lnTo>
                <a:lnTo>
                  <a:pt x="676063" y="3098986"/>
                </a:lnTo>
                <a:lnTo>
                  <a:pt x="685268" y="3090737"/>
                </a:lnTo>
                <a:lnTo>
                  <a:pt x="694155" y="3082487"/>
                </a:lnTo>
                <a:lnTo>
                  <a:pt x="702725" y="3073603"/>
                </a:lnTo>
                <a:lnTo>
                  <a:pt x="710977" y="3064402"/>
                </a:lnTo>
                <a:lnTo>
                  <a:pt x="718594" y="3054566"/>
                </a:lnTo>
                <a:lnTo>
                  <a:pt x="725894" y="3045047"/>
                </a:lnTo>
                <a:lnTo>
                  <a:pt x="732560" y="3034576"/>
                </a:lnTo>
                <a:lnTo>
                  <a:pt x="738908" y="3023788"/>
                </a:lnTo>
                <a:lnTo>
                  <a:pt x="744621" y="3013000"/>
                </a:lnTo>
                <a:lnTo>
                  <a:pt x="750017" y="3001895"/>
                </a:lnTo>
                <a:lnTo>
                  <a:pt x="754460" y="2990472"/>
                </a:lnTo>
                <a:lnTo>
                  <a:pt x="758586" y="2979050"/>
                </a:lnTo>
                <a:lnTo>
                  <a:pt x="762078" y="2966676"/>
                </a:lnTo>
                <a:lnTo>
                  <a:pt x="765252" y="2954618"/>
                </a:lnTo>
                <a:lnTo>
                  <a:pt x="767473" y="2942244"/>
                </a:lnTo>
                <a:lnTo>
                  <a:pt x="769378" y="2929870"/>
                </a:lnTo>
                <a:lnTo>
                  <a:pt x="770330" y="2916861"/>
                </a:lnTo>
                <a:lnTo>
                  <a:pt x="770965" y="2903852"/>
                </a:lnTo>
                <a:lnTo>
                  <a:pt x="770647" y="2890843"/>
                </a:lnTo>
                <a:lnTo>
                  <a:pt x="770013" y="2877834"/>
                </a:lnTo>
                <a:lnTo>
                  <a:pt x="768426" y="2864507"/>
                </a:lnTo>
                <a:lnTo>
                  <a:pt x="766521" y="2851816"/>
                </a:lnTo>
                <a:lnTo>
                  <a:pt x="763982" y="2839441"/>
                </a:lnTo>
                <a:lnTo>
                  <a:pt x="760808" y="2827067"/>
                </a:lnTo>
                <a:lnTo>
                  <a:pt x="756682" y="2814692"/>
                </a:lnTo>
                <a:lnTo>
                  <a:pt x="752238" y="2802953"/>
                </a:lnTo>
                <a:lnTo>
                  <a:pt x="747160" y="2791530"/>
                </a:lnTo>
                <a:lnTo>
                  <a:pt x="741764" y="2780108"/>
                </a:lnTo>
                <a:lnTo>
                  <a:pt x="735416" y="2769637"/>
                </a:lnTo>
                <a:lnTo>
                  <a:pt x="729068" y="2759166"/>
                </a:lnTo>
                <a:lnTo>
                  <a:pt x="722086" y="2749013"/>
                </a:lnTo>
                <a:lnTo>
                  <a:pt x="714468" y="2739177"/>
                </a:lnTo>
                <a:lnTo>
                  <a:pt x="706533" y="2729658"/>
                </a:lnTo>
                <a:lnTo>
                  <a:pt x="697964" y="2720774"/>
                </a:lnTo>
                <a:lnTo>
                  <a:pt x="689394" y="2712207"/>
                </a:lnTo>
                <a:lnTo>
                  <a:pt x="680189" y="2704275"/>
                </a:lnTo>
                <a:lnTo>
                  <a:pt x="670350" y="2696342"/>
                </a:lnTo>
                <a:lnTo>
                  <a:pt x="660511" y="2689362"/>
                </a:lnTo>
                <a:lnTo>
                  <a:pt x="650037" y="2682382"/>
                </a:lnTo>
                <a:lnTo>
                  <a:pt x="639563" y="2676353"/>
                </a:lnTo>
                <a:lnTo>
                  <a:pt x="628771" y="2670324"/>
                </a:lnTo>
                <a:lnTo>
                  <a:pt x="617662" y="2665248"/>
                </a:lnTo>
                <a:lnTo>
                  <a:pt x="606236" y="2660171"/>
                </a:lnTo>
                <a:lnTo>
                  <a:pt x="594175" y="2656364"/>
                </a:lnTo>
                <a:lnTo>
                  <a:pt x="582431" y="2652873"/>
                </a:lnTo>
                <a:lnTo>
                  <a:pt x="570053" y="2650018"/>
                </a:lnTo>
                <a:lnTo>
                  <a:pt x="557992" y="2647479"/>
                </a:lnTo>
                <a:lnTo>
                  <a:pt x="545296" y="2645576"/>
                </a:lnTo>
                <a:lnTo>
                  <a:pt x="532600" y="2644306"/>
                </a:lnTo>
                <a:lnTo>
                  <a:pt x="519587" y="2643989"/>
                </a:lnTo>
                <a:lnTo>
                  <a:pt x="506574" y="2643989"/>
                </a:lnTo>
                <a:close/>
                <a:moveTo>
                  <a:pt x="552279" y="2413000"/>
                </a:moveTo>
                <a:lnTo>
                  <a:pt x="560214" y="2505650"/>
                </a:lnTo>
                <a:lnTo>
                  <a:pt x="569736" y="2506602"/>
                </a:lnTo>
                <a:lnTo>
                  <a:pt x="578940" y="2508188"/>
                </a:lnTo>
                <a:lnTo>
                  <a:pt x="588779" y="2510092"/>
                </a:lnTo>
                <a:lnTo>
                  <a:pt x="597984" y="2511678"/>
                </a:lnTo>
                <a:lnTo>
                  <a:pt x="607506" y="2513582"/>
                </a:lnTo>
                <a:lnTo>
                  <a:pt x="617028" y="2516120"/>
                </a:lnTo>
                <a:lnTo>
                  <a:pt x="626232" y="2518976"/>
                </a:lnTo>
                <a:lnTo>
                  <a:pt x="635119" y="2521514"/>
                </a:lnTo>
                <a:lnTo>
                  <a:pt x="644006" y="2524370"/>
                </a:lnTo>
                <a:lnTo>
                  <a:pt x="653211" y="2527860"/>
                </a:lnTo>
                <a:lnTo>
                  <a:pt x="661780" y="2531033"/>
                </a:lnTo>
                <a:lnTo>
                  <a:pt x="670668" y="2534841"/>
                </a:lnTo>
                <a:lnTo>
                  <a:pt x="679237" y="2538648"/>
                </a:lnTo>
                <a:lnTo>
                  <a:pt x="687807" y="2542773"/>
                </a:lnTo>
                <a:lnTo>
                  <a:pt x="696377" y="2547215"/>
                </a:lnTo>
                <a:lnTo>
                  <a:pt x="704629" y="2551657"/>
                </a:lnTo>
                <a:lnTo>
                  <a:pt x="764299" y="2480266"/>
                </a:lnTo>
                <a:lnTo>
                  <a:pt x="884275" y="2581165"/>
                </a:lnTo>
                <a:lnTo>
                  <a:pt x="824922" y="2651921"/>
                </a:lnTo>
                <a:lnTo>
                  <a:pt x="830953" y="2659219"/>
                </a:lnTo>
                <a:lnTo>
                  <a:pt x="836348" y="2666517"/>
                </a:lnTo>
                <a:lnTo>
                  <a:pt x="842062" y="2674449"/>
                </a:lnTo>
                <a:lnTo>
                  <a:pt x="847140" y="2682382"/>
                </a:lnTo>
                <a:lnTo>
                  <a:pt x="852536" y="2690314"/>
                </a:lnTo>
                <a:lnTo>
                  <a:pt x="857297" y="2698563"/>
                </a:lnTo>
                <a:lnTo>
                  <a:pt x="862057" y="2706813"/>
                </a:lnTo>
                <a:lnTo>
                  <a:pt x="866501" y="2715380"/>
                </a:lnTo>
                <a:lnTo>
                  <a:pt x="870945" y="2723947"/>
                </a:lnTo>
                <a:lnTo>
                  <a:pt x="875071" y="2732514"/>
                </a:lnTo>
                <a:lnTo>
                  <a:pt x="879197" y="2741398"/>
                </a:lnTo>
                <a:lnTo>
                  <a:pt x="883006" y="2750282"/>
                </a:lnTo>
                <a:lnTo>
                  <a:pt x="886497" y="2759166"/>
                </a:lnTo>
                <a:lnTo>
                  <a:pt x="889671" y="2768050"/>
                </a:lnTo>
                <a:lnTo>
                  <a:pt x="892845" y="2777252"/>
                </a:lnTo>
                <a:lnTo>
                  <a:pt x="896019" y="2786453"/>
                </a:lnTo>
                <a:lnTo>
                  <a:pt x="986794" y="2779156"/>
                </a:lnTo>
                <a:lnTo>
                  <a:pt x="1000125" y="2934629"/>
                </a:lnTo>
                <a:lnTo>
                  <a:pt x="909667" y="2942879"/>
                </a:lnTo>
                <a:lnTo>
                  <a:pt x="908397" y="2952397"/>
                </a:lnTo>
                <a:lnTo>
                  <a:pt x="907128" y="2962233"/>
                </a:lnTo>
                <a:lnTo>
                  <a:pt x="905541" y="2971752"/>
                </a:lnTo>
                <a:lnTo>
                  <a:pt x="903636" y="2981588"/>
                </a:lnTo>
                <a:lnTo>
                  <a:pt x="901415" y="2990790"/>
                </a:lnTo>
                <a:lnTo>
                  <a:pt x="899193" y="3000309"/>
                </a:lnTo>
                <a:lnTo>
                  <a:pt x="896654" y="3009827"/>
                </a:lnTo>
                <a:lnTo>
                  <a:pt x="893797" y="3019029"/>
                </a:lnTo>
                <a:lnTo>
                  <a:pt x="890623" y="3027913"/>
                </a:lnTo>
                <a:lnTo>
                  <a:pt x="887449" y="3036797"/>
                </a:lnTo>
                <a:lnTo>
                  <a:pt x="883958" y="3045999"/>
                </a:lnTo>
                <a:lnTo>
                  <a:pt x="880149" y="3054566"/>
                </a:lnTo>
                <a:lnTo>
                  <a:pt x="876658" y="3063450"/>
                </a:lnTo>
                <a:lnTo>
                  <a:pt x="872532" y="3072017"/>
                </a:lnTo>
                <a:lnTo>
                  <a:pt x="868088" y="3080584"/>
                </a:lnTo>
                <a:lnTo>
                  <a:pt x="863644" y="3089150"/>
                </a:lnTo>
                <a:lnTo>
                  <a:pt x="933154" y="3147532"/>
                </a:lnTo>
                <a:lnTo>
                  <a:pt x="831905" y="3267151"/>
                </a:lnTo>
                <a:lnTo>
                  <a:pt x="763347" y="3209404"/>
                </a:lnTo>
                <a:lnTo>
                  <a:pt x="755730" y="3215433"/>
                </a:lnTo>
                <a:lnTo>
                  <a:pt x="748112" y="3221144"/>
                </a:lnTo>
                <a:lnTo>
                  <a:pt x="740177" y="3226538"/>
                </a:lnTo>
                <a:lnTo>
                  <a:pt x="732560" y="3231615"/>
                </a:lnTo>
                <a:lnTo>
                  <a:pt x="724307" y="3237009"/>
                </a:lnTo>
                <a:lnTo>
                  <a:pt x="716055" y="3242085"/>
                </a:lnTo>
                <a:lnTo>
                  <a:pt x="707485" y="3246527"/>
                </a:lnTo>
                <a:lnTo>
                  <a:pt x="698916" y="3251287"/>
                </a:lnTo>
                <a:lnTo>
                  <a:pt x="690346" y="3256046"/>
                </a:lnTo>
                <a:lnTo>
                  <a:pt x="681459" y="3259854"/>
                </a:lnTo>
                <a:lnTo>
                  <a:pt x="672572" y="3263979"/>
                </a:lnTo>
                <a:lnTo>
                  <a:pt x="663685" y="3267786"/>
                </a:lnTo>
                <a:lnTo>
                  <a:pt x="654480" y="3271276"/>
                </a:lnTo>
                <a:lnTo>
                  <a:pt x="645593" y="3274449"/>
                </a:lnTo>
                <a:lnTo>
                  <a:pt x="635754" y="3277305"/>
                </a:lnTo>
                <a:lnTo>
                  <a:pt x="626549" y="3280478"/>
                </a:lnTo>
                <a:lnTo>
                  <a:pt x="634484" y="3369637"/>
                </a:lnTo>
                <a:lnTo>
                  <a:pt x="478008" y="3382963"/>
                </a:lnTo>
                <a:lnTo>
                  <a:pt x="470390" y="3293804"/>
                </a:lnTo>
                <a:lnTo>
                  <a:pt x="460551" y="3292535"/>
                </a:lnTo>
                <a:lnTo>
                  <a:pt x="451029" y="3291266"/>
                </a:lnTo>
                <a:lnTo>
                  <a:pt x="441190" y="3289362"/>
                </a:lnTo>
                <a:lnTo>
                  <a:pt x="431668" y="3287458"/>
                </a:lnTo>
                <a:lnTo>
                  <a:pt x="421829" y="3285237"/>
                </a:lnTo>
                <a:lnTo>
                  <a:pt x="412624" y="3283016"/>
                </a:lnTo>
                <a:lnTo>
                  <a:pt x="403420" y="3280478"/>
                </a:lnTo>
                <a:lnTo>
                  <a:pt x="394215" y="3277305"/>
                </a:lnTo>
                <a:lnTo>
                  <a:pt x="384693" y="3274449"/>
                </a:lnTo>
                <a:lnTo>
                  <a:pt x="375806" y="3271276"/>
                </a:lnTo>
                <a:lnTo>
                  <a:pt x="366919" y="3267786"/>
                </a:lnTo>
                <a:lnTo>
                  <a:pt x="358032" y="3263979"/>
                </a:lnTo>
                <a:lnTo>
                  <a:pt x="349145" y="3259854"/>
                </a:lnTo>
                <a:lnTo>
                  <a:pt x="340575" y="3256046"/>
                </a:lnTo>
                <a:lnTo>
                  <a:pt x="332006" y="3251921"/>
                </a:lnTo>
                <a:lnTo>
                  <a:pt x="323436" y="3246845"/>
                </a:lnTo>
                <a:lnTo>
                  <a:pt x="265987" y="3315697"/>
                </a:lnTo>
                <a:lnTo>
                  <a:pt x="146012" y="3214798"/>
                </a:lnTo>
                <a:lnTo>
                  <a:pt x="204412" y="3145628"/>
                </a:lnTo>
                <a:lnTo>
                  <a:pt x="198382" y="3138331"/>
                </a:lnTo>
                <a:lnTo>
                  <a:pt x="192669" y="3130398"/>
                </a:lnTo>
                <a:lnTo>
                  <a:pt x="187273" y="3122466"/>
                </a:lnTo>
                <a:lnTo>
                  <a:pt x="181877" y="3114851"/>
                </a:lnTo>
                <a:lnTo>
                  <a:pt x="176799" y="3106602"/>
                </a:lnTo>
                <a:lnTo>
                  <a:pt x="172038" y="3098352"/>
                </a:lnTo>
                <a:lnTo>
                  <a:pt x="167277" y="3089785"/>
                </a:lnTo>
                <a:lnTo>
                  <a:pt x="162834" y="3081853"/>
                </a:lnTo>
                <a:lnTo>
                  <a:pt x="158390" y="3072969"/>
                </a:lnTo>
                <a:lnTo>
                  <a:pt x="154264" y="3064402"/>
                </a:lnTo>
                <a:lnTo>
                  <a:pt x="150455" y="3055517"/>
                </a:lnTo>
                <a:lnTo>
                  <a:pt x="146646" y="3046633"/>
                </a:lnTo>
                <a:lnTo>
                  <a:pt x="143155" y="3037114"/>
                </a:lnTo>
                <a:lnTo>
                  <a:pt x="139664" y="3028230"/>
                </a:lnTo>
                <a:lnTo>
                  <a:pt x="136807" y="3018711"/>
                </a:lnTo>
                <a:lnTo>
                  <a:pt x="133633" y="3009193"/>
                </a:lnTo>
                <a:lnTo>
                  <a:pt x="43175" y="3017125"/>
                </a:lnTo>
                <a:lnTo>
                  <a:pt x="30162" y="2861334"/>
                </a:lnTo>
                <a:lnTo>
                  <a:pt x="121255" y="2853402"/>
                </a:lnTo>
                <a:lnTo>
                  <a:pt x="122207" y="2843249"/>
                </a:lnTo>
                <a:lnTo>
                  <a:pt x="123794" y="2833730"/>
                </a:lnTo>
                <a:lnTo>
                  <a:pt x="125698" y="2824529"/>
                </a:lnTo>
                <a:lnTo>
                  <a:pt x="127285" y="2814692"/>
                </a:lnTo>
                <a:lnTo>
                  <a:pt x="129824" y="2805491"/>
                </a:lnTo>
                <a:lnTo>
                  <a:pt x="132046" y="2796290"/>
                </a:lnTo>
                <a:lnTo>
                  <a:pt x="134903" y="2787088"/>
                </a:lnTo>
                <a:lnTo>
                  <a:pt x="137442" y="2777569"/>
                </a:lnTo>
                <a:lnTo>
                  <a:pt x="140298" y="2768685"/>
                </a:lnTo>
                <a:lnTo>
                  <a:pt x="143790" y="2759801"/>
                </a:lnTo>
                <a:lnTo>
                  <a:pt x="147598" y="2750917"/>
                </a:lnTo>
                <a:lnTo>
                  <a:pt x="151090" y="2742032"/>
                </a:lnTo>
                <a:lnTo>
                  <a:pt x="154899" y="2733466"/>
                </a:lnTo>
                <a:lnTo>
                  <a:pt x="159025" y="2724899"/>
                </a:lnTo>
                <a:lnTo>
                  <a:pt x="167912" y="2707765"/>
                </a:lnTo>
                <a:lnTo>
                  <a:pt x="97450" y="2648749"/>
                </a:lnTo>
                <a:lnTo>
                  <a:pt x="198382" y="2528812"/>
                </a:lnTo>
                <a:lnTo>
                  <a:pt x="269161" y="2588780"/>
                </a:lnTo>
                <a:lnTo>
                  <a:pt x="284079" y="2577675"/>
                </a:lnTo>
                <a:lnTo>
                  <a:pt x="299631" y="2566887"/>
                </a:lnTo>
                <a:lnTo>
                  <a:pt x="307884" y="2561493"/>
                </a:lnTo>
                <a:lnTo>
                  <a:pt x="315819" y="2556734"/>
                </a:lnTo>
                <a:lnTo>
                  <a:pt x="324388" y="2552292"/>
                </a:lnTo>
                <a:lnTo>
                  <a:pt x="332323" y="2547532"/>
                </a:lnTo>
                <a:lnTo>
                  <a:pt x="340893" y="2543407"/>
                </a:lnTo>
                <a:lnTo>
                  <a:pt x="349463" y="2539283"/>
                </a:lnTo>
                <a:lnTo>
                  <a:pt x="358350" y="2535158"/>
                </a:lnTo>
                <a:lnTo>
                  <a:pt x="367237" y="2531350"/>
                </a:lnTo>
                <a:lnTo>
                  <a:pt x="376124" y="2528177"/>
                </a:lnTo>
                <a:lnTo>
                  <a:pt x="385646" y="2524687"/>
                </a:lnTo>
                <a:lnTo>
                  <a:pt x="394533" y="2521832"/>
                </a:lnTo>
                <a:lnTo>
                  <a:pt x="403737" y="2518976"/>
                </a:lnTo>
                <a:lnTo>
                  <a:pt x="396120" y="2426327"/>
                </a:lnTo>
                <a:lnTo>
                  <a:pt x="552279" y="2413000"/>
                </a:lnTo>
                <a:close/>
                <a:moveTo>
                  <a:pt x="1753153" y="2246313"/>
                </a:moveTo>
                <a:lnTo>
                  <a:pt x="1813988" y="2246313"/>
                </a:lnTo>
                <a:lnTo>
                  <a:pt x="1817474" y="2246631"/>
                </a:lnTo>
                <a:lnTo>
                  <a:pt x="1820959" y="2247583"/>
                </a:lnTo>
                <a:lnTo>
                  <a:pt x="1823811" y="2248536"/>
                </a:lnTo>
                <a:lnTo>
                  <a:pt x="1826346" y="2250441"/>
                </a:lnTo>
                <a:lnTo>
                  <a:pt x="1828564" y="2252346"/>
                </a:lnTo>
                <a:lnTo>
                  <a:pt x="1830148" y="2254886"/>
                </a:lnTo>
                <a:lnTo>
                  <a:pt x="1831415" y="2257426"/>
                </a:lnTo>
                <a:lnTo>
                  <a:pt x="1831732" y="2259966"/>
                </a:lnTo>
                <a:lnTo>
                  <a:pt x="1831732" y="2310766"/>
                </a:lnTo>
                <a:lnTo>
                  <a:pt x="1842188" y="2312036"/>
                </a:lnTo>
                <a:lnTo>
                  <a:pt x="1852011" y="2313623"/>
                </a:lnTo>
                <a:lnTo>
                  <a:pt x="1862467" y="2315528"/>
                </a:lnTo>
                <a:lnTo>
                  <a:pt x="1871973" y="2317751"/>
                </a:lnTo>
                <a:lnTo>
                  <a:pt x="1880528" y="2319973"/>
                </a:lnTo>
                <a:lnTo>
                  <a:pt x="1889400" y="2322513"/>
                </a:lnTo>
                <a:lnTo>
                  <a:pt x="1897955" y="2325371"/>
                </a:lnTo>
                <a:lnTo>
                  <a:pt x="1907460" y="2328863"/>
                </a:lnTo>
                <a:lnTo>
                  <a:pt x="1916332" y="2332673"/>
                </a:lnTo>
                <a:lnTo>
                  <a:pt x="1925204" y="2336801"/>
                </a:lnTo>
                <a:lnTo>
                  <a:pt x="1934393" y="2341246"/>
                </a:lnTo>
                <a:lnTo>
                  <a:pt x="1942948" y="2345691"/>
                </a:lnTo>
                <a:lnTo>
                  <a:pt x="1951503" y="2350771"/>
                </a:lnTo>
                <a:lnTo>
                  <a:pt x="1960058" y="2355851"/>
                </a:lnTo>
                <a:lnTo>
                  <a:pt x="1967662" y="2361566"/>
                </a:lnTo>
                <a:lnTo>
                  <a:pt x="1975267" y="2367281"/>
                </a:lnTo>
                <a:lnTo>
                  <a:pt x="1982238" y="2372996"/>
                </a:lnTo>
                <a:lnTo>
                  <a:pt x="1988575" y="2379346"/>
                </a:lnTo>
                <a:lnTo>
                  <a:pt x="1994278" y="2385378"/>
                </a:lnTo>
                <a:lnTo>
                  <a:pt x="1999665" y="2392046"/>
                </a:lnTo>
                <a:lnTo>
                  <a:pt x="2002199" y="2396491"/>
                </a:lnTo>
                <a:lnTo>
                  <a:pt x="2004100" y="2401253"/>
                </a:lnTo>
                <a:lnTo>
                  <a:pt x="2005051" y="2406016"/>
                </a:lnTo>
                <a:lnTo>
                  <a:pt x="2005685" y="2411413"/>
                </a:lnTo>
                <a:lnTo>
                  <a:pt x="2005051" y="2416493"/>
                </a:lnTo>
                <a:lnTo>
                  <a:pt x="2003784" y="2421891"/>
                </a:lnTo>
                <a:lnTo>
                  <a:pt x="2001566" y="2427288"/>
                </a:lnTo>
                <a:lnTo>
                  <a:pt x="1998397" y="2432368"/>
                </a:lnTo>
                <a:lnTo>
                  <a:pt x="1996179" y="2435543"/>
                </a:lnTo>
                <a:lnTo>
                  <a:pt x="1993961" y="2438401"/>
                </a:lnTo>
                <a:lnTo>
                  <a:pt x="1991426" y="2441576"/>
                </a:lnTo>
                <a:lnTo>
                  <a:pt x="1988575" y="2444433"/>
                </a:lnTo>
                <a:lnTo>
                  <a:pt x="1985406" y="2447291"/>
                </a:lnTo>
                <a:lnTo>
                  <a:pt x="1982238" y="2449831"/>
                </a:lnTo>
                <a:lnTo>
                  <a:pt x="1978435" y="2452688"/>
                </a:lnTo>
                <a:lnTo>
                  <a:pt x="1974633" y="2454911"/>
                </a:lnTo>
                <a:lnTo>
                  <a:pt x="1971148" y="2457133"/>
                </a:lnTo>
                <a:lnTo>
                  <a:pt x="1967029" y="2459038"/>
                </a:lnTo>
                <a:lnTo>
                  <a:pt x="1962910" y="2460626"/>
                </a:lnTo>
                <a:lnTo>
                  <a:pt x="1958790" y="2462213"/>
                </a:lnTo>
                <a:lnTo>
                  <a:pt x="1954671" y="2463483"/>
                </a:lnTo>
                <a:lnTo>
                  <a:pt x="1950235" y="2464118"/>
                </a:lnTo>
                <a:lnTo>
                  <a:pt x="1945799" y="2464753"/>
                </a:lnTo>
                <a:lnTo>
                  <a:pt x="1941364" y="2464753"/>
                </a:lnTo>
                <a:lnTo>
                  <a:pt x="1936294" y="2464753"/>
                </a:lnTo>
                <a:lnTo>
                  <a:pt x="1931541" y="2464118"/>
                </a:lnTo>
                <a:lnTo>
                  <a:pt x="1926471" y="2462531"/>
                </a:lnTo>
                <a:lnTo>
                  <a:pt x="1922035" y="2460626"/>
                </a:lnTo>
                <a:lnTo>
                  <a:pt x="1917916" y="2458403"/>
                </a:lnTo>
                <a:lnTo>
                  <a:pt x="1914431" y="2455546"/>
                </a:lnTo>
                <a:lnTo>
                  <a:pt x="1910946" y="2452688"/>
                </a:lnTo>
                <a:lnTo>
                  <a:pt x="1908094" y="2448878"/>
                </a:lnTo>
                <a:lnTo>
                  <a:pt x="1904925" y="2445068"/>
                </a:lnTo>
                <a:lnTo>
                  <a:pt x="1903341" y="2443798"/>
                </a:lnTo>
                <a:lnTo>
                  <a:pt x="1897004" y="2438401"/>
                </a:lnTo>
                <a:lnTo>
                  <a:pt x="1890667" y="2433638"/>
                </a:lnTo>
                <a:lnTo>
                  <a:pt x="1883696" y="2429193"/>
                </a:lnTo>
                <a:lnTo>
                  <a:pt x="1876092" y="2424431"/>
                </a:lnTo>
                <a:lnTo>
                  <a:pt x="1868804" y="2419986"/>
                </a:lnTo>
                <a:lnTo>
                  <a:pt x="1861200" y="2415858"/>
                </a:lnTo>
                <a:lnTo>
                  <a:pt x="1853912" y="2412366"/>
                </a:lnTo>
                <a:lnTo>
                  <a:pt x="1847258" y="2409508"/>
                </a:lnTo>
                <a:lnTo>
                  <a:pt x="1840921" y="2407286"/>
                </a:lnTo>
                <a:lnTo>
                  <a:pt x="1834267" y="2405381"/>
                </a:lnTo>
                <a:lnTo>
                  <a:pt x="1827296" y="2403793"/>
                </a:lnTo>
                <a:lnTo>
                  <a:pt x="1820642" y="2402523"/>
                </a:lnTo>
                <a:lnTo>
                  <a:pt x="1813355" y="2401253"/>
                </a:lnTo>
                <a:lnTo>
                  <a:pt x="1806384" y="2400301"/>
                </a:lnTo>
                <a:lnTo>
                  <a:pt x="1799730" y="2399666"/>
                </a:lnTo>
                <a:lnTo>
                  <a:pt x="1792759" y="2399348"/>
                </a:lnTo>
                <a:lnTo>
                  <a:pt x="1786105" y="2399031"/>
                </a:lnTo>
                <a:lnTo>
                  <a:pt x="1776917" y="2399348"/>
                </a:lnTo>
                <a:lnTo>
                  <a:pt x="1767094" y="2400301"/>
                </a:lnTo>
                <a:lnTo>
                  <a:pt x="1756321" y="2401571"/>
                </a:lnTo>
                <a:lnTo>
                  <a:pt x="1745548" y="2404428"/>
                </a:lnTo>
                <a:lnTo>
                  <a:pt x="1740162" y="2405698"/>
                </a:lnTo>
                <a:lnTo>
                  <a:pt x="1734458" y="2407603"/>
                </a:lnTo>
                <a:lnTo>
                  <a:pt x="1729072" y="2409826"/>
                </a:lnTo>
                <a:lnTo>
                  <a:pt x="1723368" y="2412048"/>
                </a:lnTo>
                <a:lnTo>
                  <a:pt x="1717982" y="2414906"/>
                </a:lnTo>
                <a:lnTo>
                  <a:pt x="1712279" y="2418081"/>
                </a:lnTo>
                <a:lnTo>
                  <a:pt x="1706575" y="2421256"/>
                </a:lnTo>
                <a:lnTo>
                  <a:pt x="1701506" y="2425383"/>
                </a:lnTo>
                <a:lnTo>
                  <a:pt x="1698337" y="2427923"/>
                </a:lnTo>
                <a:lnTo>
                  <a:pt x="1695168" y="2431416"/>
                </a:lnTo>
                <a:lnTo>
                  <a:pt x="1692634" y="2434908"/>
                </a:lnTo>
                <a:lnTo>
                  <a:pt x="1690415" y="2438401"/>
                </a:lnTo>
                <a:lnTo>
                  <a:pt x="1688514" y="2442211"/>
                </a:lnTo>
                <a:lnTo>
                  <a:pt x="1686930" y="2446338"/>
                </a:lnTo>
                <a:lnTo>
                  <a:pt x="1686296" y="2450783"/>
                </a:lnTo>
                <a:lnTo>
                  <a:pt x="1685662" y="2455228"/>
                </a:lnTo>
                <a:lnTo>
                  <a:pt x="1685346" y="2459673"/>
                </a:lnTo>
                <a:lnTo>
                  <a:pt x="1685346" y="2464118"/>
                </a:lnTo>
                <a:lnTo>
                  <a:pt x="1685662" y="2468563"/>
                </a:lnTo>
                <a:lnTo>
                  <a:pt x="1686296" y="2473008"/>
                </a:lnTo>
                <a:lnTo>
                  <a:pt x="1687880" y="2477136"/>
                </a:lnTo>
                <a:lnTo>
                  <a:pt x="1689148" y="2481581"/>
                </a:lnTo>
                <a:lnTo>
                  <a:pt x="1691366" y="2485708"/>
                </a:lnTo>
                <a:lnTo>
                  <a:pt x="1693584" y="2489518"/>
                </a:lnTo>
                <a:lnTo>
                  <a:pt x="1698654" y="2495233"/>
                </a:lnTo>
                <a:lnTo>
                  <a:pt x="1703723" y="2500631"/>
                </a:lnTo>
                <a:lnTo>
                  <a:pt x="1709427" y="2505076"/>
                </a:lnTo>
                <a:lnTo>
                  <a:pt x="1715130" y="2508568"/>
                </a:lnTo>
                <a:lnTo>
                  <a:pt x="1721784" y="2512378"/>
                </a:lnTo>
                <a:lnTo>
                  <a:pt x="1729389" y="2515871"/>
                </a:lnTo>
                <a:lnTo>
                  <a:pt x="1745865" y="2522538"/>
                </a:lnTo>
                <a:lnTo>
                  <a:pt x="1750618" y="2524443"/>
                </a:lnTo>
                <a:lnTo>
                  <a:pt x="1778501" y="2534603"/>
                </a:lnTo>
                <a:lnTo>
                  <a:pt x="1797829" y="2542223"/>
                </a:lnTo>
                <a:lnTo>
                  <a:pt x="1816523" y="2549208"/>
                </a:lnTo>
                <a:lnTo>
                  <a:pt x="1827613" y="2553336"/>
                </a:lnTo>
                <a:lnTo>
                  <a:pt x="1854546" y="2562861"/>
                </a:lnTo>
                <a:lnTo>
                  <a:pt x="1868804" y="2568258"/>
                </a:lnTo>
                <a:lnTo>
                  <a:pt x="1882746" y="2573656"/>
                </a:lnTo>
                <a:lnTo>
                  <a:pt x="1897004" y="2579688"/>
                </a:lnTo>
                <a:lnTo>
                  <a:pt x="1911262" y="2585721"/>
                </a:lnTo>
                <a:lnTo>
                  <a:pt x="1925204" y="2592388"/>
                </a:lnTo>
                <a:lnTo>
                  <a:pt x="1938512" y="2599373"/>
                </a:lnTo>
                <a:lnTo>
                  <a:pt x="1951503" y="2606676"/>
                </a:lnTo>
                <a:lnTo>
                  <a:pt x="1964177" y="2614613"/>
                </a:lnTo>
                <a:lnTo>
                  <a:pt x="1969563" y="2618741"/>
                </a:lnTo>
                <a:lnTo>
                  <a:pt x="1975584" y="2622868"/>
                </a:lnTo>
                <a:lnTo>
                  <a:pt x="1980653" y="2627313"/>
                </a:lnTo>
                <a:lnTo>
                  <a:pt x="1986040" y="2631758"/>
                </a:lnTo>
                <a:lnTo>
                  <a:pt x="1990793" y="2636203"/>
                </a:lnTo>
                <a:lnTo>
                  <a:pt x="1995229" y="2640966"/>
                </a:lnTo>
                <a:lnTo>
                  <a:pt x="1999665" y="2645728"/>
                </a:lnTo>
                <a:lnTo>
                  <a:pt x="2003467" y="2651126"/>
                </a:lnTo>
                <a:lnTo>
                  <a:pt x="2006952" y="2656206"/>
                </a:lnTo>
                <a:lnTo>
                  <a:pt x="2010438" y="2661286"/>
                </a:lnTo>
                <a:lnTo>
                  <a:pt x="2012972" y="2667001"/>
                </a:lnTo>
                <a:lnTo>
                  <a:pt x="2015507" y="2672398"/>
                </a:lnTo>
                <a:lnTo>
                  <a:pt x="2017408" y="2677796"/>
                </a:lnTo>
                <a:lnTo>
                  <a:pt x="2019309" y="2682876"/>
                </a:lnTo>
                <a:lnTo>
                  <a:pt x="2020260" y="2688273"/>
                </a:lnTo>
                <a:lnTo>
                  <a:pt x="2021844" y="2693671"/>
                </a:lnTo>
                <a:lnTo>
                  <a:pt x="2022478" y="2699068"/>
                </a:lnTo>
                <a:lnTo>
                  <a:pt x="2023429" y="2704148"/>
                </a:lnTo>
                <a:lnTo>
                  <a:pt x="2023745" y="2709546"/>
                </a:lnTo>
                <a:lnTo>
                  <a:pt x="2024062" y="2714943"/>
                </a:lnTo>
                <a:lnTo>
                  <a:pt x="2024062" y="2720023"/>
                </a:lnTo>
                <a:lnTo>
                  <a:pt x="2024062" y="2725738"/>
                </a:lnTo>
                <a:lnTo>
                  <a:pt x="2023429" y="2730818"/>
                </a:lnTo>
                <a:lnTo>
                  <a:pt x="2022478" y="2736216"/>
                </a:lnTo>
                <a:lnTo>
                  <a:pt x="2021844" y="2741296"/>
                </a:lnTo>
                <a:lnTo>
                  <a:pt x="2020894" y="2746376"/>
                </a:lnTo>
                <a:lnTo>
                  <a:pt x="2019309" y="2751773"/>
                </a:lnTo>
                <a:lnTo>
                  <a:pt x="2017725" y="2756853"/>
                </a:lnTo>
                <a:lnTo>
                  <a:pt x="2014240" y="2767331"/>
                </a:lnTo>
                <a:lnTo>
                  <a:pt x="2009170" y="2777173"/>
                </a:lnTo>
                <a:lnTo>
                  <a:pt x="2004100" y="2787016"/>
                </a:lnTo>
                <a:lnTo>
                  <a:pt x="1997763" y="2796223"/>
                </a:lnTo>
                <a:lnTo>
                  <a:pt x="1990476" y="2805431"/>
                </a:lnTo>
                <a:lnTo>
                  <a:pt x="1982554" y="2814003"/>
                </a:lnTo>
                <a:lnTo>
                  <a:pt x="1973683" y="2822576"/>
                </a:lnTo>
                <a:lnTo>
                  <a:pt x="1964177" y="2830513"/>
                </a:lnTo>
                <a:lnTo>
                  <a:pt x="1958474" y="2834641"/>
                </a:lnTo>
                <a:lnTo>
                  <a:pt x="1952137" y="2838768"/>
                </a:lnTo>
                <a:lnTo>
                  <a:pt x="1945799" y="2842261"/>
                </a:lnTo>
                <a:lnTo>
                  <a:pt x="1938829" y="2845753"/>
                </a:lnTo>
                <a:lnTo>
                  <a:pt x="1931541" y="2848928"/>
                </a:lnTo>
                <a:lnTo>
                  <a:pt x="1923937" y="2852421"/>
                </a:lnTo>
                <a:lnTo>
                  <a:pt x="1915698" y="2854961"/>
                </a:lnTo>
                <a:lnTo>
                  <a:pt x="1907777" y="2857818"/>
                </a:lnTo>
                <a:lnTo>
                  <a:pt x="1899222" y="2860041"/>
                </a:lnTo>
                <a:lnTo>
                  <a:pt x="1890350" y="2862263"/>
                </a:lnTo>
                <a:lnTo>
                  <a:pt x="1880845" y="2864486"/>
                </a:lnTo>
                <a:lnTo>
                  <a:pt x="1871656" y="2866391"/>
                </a:lnTo>
                <a:lnTo>
                  <a:pt x="1862150" y="2867978"/>
                </a:lnTo>
                <a:lnTo>
                  <a:pt x="1852011" y="2869566"/>
                </a:lnTo>
                <a:lnTo>
                  <a:pt x="1842188" y="2870201"/>
                </a:lnTo>
                <a:lnTo>
                  <a:pt x="1831732" y="2871471"/>
                </a:lnTo>
                <a:lnTo>
                  <a:pt x="1831732" y="2918143"/>
                </a:lnTo>
                <a:lnTo>
                  <a:pt x="1831415" y="2921001"/>
                </a:lnTo>
                <a:lnTo>
                  <a:pt x="1830148" y="2923858"/>
                </a:lnTo>
                <a:lnTo>
                  <a:pt x="1828564" y="2926081"/>
                </a:lnTo>
                <a:lnTo>
                  <a:pt x="1826346" y="2928303"/>
                </a:lnTo>
                <a:lnTo>
                  <a:pt x="1823811" y="2929573"/>
                </a:lnTo>
                <a:lnTo>
                  <a:pt x="1820959" y="2931161"/>
                </a:lnTo>
                <a:lnTo>
                  <a:pt x="1817474" y="2931796"/>
                </a:lnTo>
                <a:lnTo>
                  <a:pt x="1813988" y="2932113"/>
                </a:lnTo>
                <a:lnTo>
                  <a:pt x="1753153" y="2932113"/>
                </a:lnTo>
                <a:lnTo>
                  <a:pt x="1749350" y="2931796"/>
                </a:lnTo>
                <a:lnTo>
                  <a:pt x="1745865" y="2931161"/>
                </a:lnTo>
                <a:lnTo>
                  <a:pt x="1743013" y="2929573"/>
                </a:lnTo>
                <a:lnTo>
                  <a:pt x="1740478" y="2928303"/>
                </a:lnTo>
                <a:lnTo>
                  <a:pt x="1738261" y="2926081"/>
                </a:lnTo>
                <a:lnTo>
                  <a:pt x="1736676" y="2923858"/>
                </a:lnTo>
                <a:lnTo>
                  <a:pt x="1735726" y="2921001"/>
                </a:lnTo>
                <a:lnTo>
                  <a:pt x="1735409" y="2918143"/>
                </a:lnTo>
                <a:lnTo>
                  <a:pt x="1735409" y="2867661"/>
                </a:lnTo>
                <a:lnTo>
                  <a:pt x="1722418" y="2865438"/>
                </a:lnTo>
                <a:lnTo>
                  <a:pt x="1708793" y="2863216"/>
                </a:lnTo>
                <a:lnTo>
                  <a:pt x="1696436" y="2860041"/>
                </a:lnTo>
                <a:lnTo>
                  <a:pt x="1683444" y="2857183"/>
                </a:lnTo>
                <a:lnTo>
                  <a:pt x="1670770" y="2853373"/>
                </a:lnTo>
                <a:lnTo>
                  <a:pt x="1658413" y="2849246"/>
                </a:lnTo>
                <a:lnTo>
                  <a:pt x="1646689" y="2844801"/>
                </a:lnTo>
                <a:lnTo>
                  <a:pt x="1635283" y="2840038"/>
                </a:lnTo>
                <a:lnTo>
                  <a:pt x="1624193" y="2834958"/>
                </a:lnTo>
                <a:lnTo>
                  <a:pt x="1613420" y="2829243"/>
                </a:lnTo>
                <a:lnTo>
                  <a:pt x="1603280" y="2823528"/>
                </a:lnTo>
                <a:lnTo>
                  <a:pt x="1594092" y="2816543"/>
                </a:lnTo>
                <a:lnTo>
                  <a:pt x="1585220" y="2809876"/>
                </a:lnTo>
                <a:lnTo>
                  <a:pt x="1576982" y="2802573"/>
                </a:lnTo>
                <a:lnTo>
                  <a:pt x="1569377" y="2794636"/>
                </a:lnTo>
                <a:lnTo>
                  <a:pt x="1566209" y="2790826"/>
                </a:lnTo>
                <a:lnTo>
                  <a:pt x="1563357" y="2786698"/>
                </a:lnTo>
                <a:lnTo>
                  <a:pt x="1560188" y="2782253"/>
                </a:lnTo>
                <a:lnTo>
                  <a:pt x="1558287" y="2777173"/>
                </a:lnTo>
                <a:lnTo>
                  <a:pt x="1557337" y="2772411"/>
                </a:lnTo>
                <a:lnTo>
                  <a:pt x="1557337" y="2767331"/>
                </a:lnTo>
                <a:lnTo>
                  <a:pt x="1557654" y="2761933"/>
                </a:lnTo>
                <a:lnTo>
                  <a:pt x="1559238" y="2756853"/>
                </a:lnTo>
                <a:lnTo>
                  <a:pt x="1561456" y="2751456"/>
                </a:lnTo>
                <a:lnTo>
                  <a:pt x="1564308" y="2746058"/>
                </a:lnTo>
                <a:lnTo>
                  <a:pt x="1566209" y="2743201"/>
                </a:lnTo>
                <a:lnTo>
                  <a:pt x="1568743" y="2740026"/>
                </a:lnTo>
                <a:lnTo>
                  <a:pt x="1571278" y="2737168"/>
                </a:lnTo>
                <a:lnTo>
                  <a:pt x="1574447" y="2734311"/>
                </a:lnTo>
                <a:lnTo>
                  <a:pt x="1577299" y="2731136"/>
                </a:lnTo>
                <a:lnTo>
                  <a:pt x="1580784" y="2728596"/>
                </a:lnTo>
                <a:lnTo>
                  <a:pt x="1583952" y="2726056"/>
                </a:lnTo>
                <a:lnTo>
                  <a:pt x="1587755" y="2723833"/>
                </a:lnTo>
                <a:lnTo>
                  <a:pt x="1591874" y="2721611"/>
                </a:lnTo>
                <a:lnTo>
                  <a:pt x="1595359" y="2719706"/>
                </a:lnTo>
                <a:lnTo>
                  <a:pt x="1599478" y="2717801"/>
                </a:lnTo>
                <a:lnTo>
                  <a:pt x="1603914" y="2716531"/>
                </a:lnTo>
                <a:lnTo>
                  <a:pt x="1608033" y="2715261"/>
                </a:lnTo>
                <a:lnTo>
                  <a:pt x="1612469" y="2714626"/>
                </a:lnTo>
                <a:lnTo>
                  <a:pt x="1616905" y="2713673"/>
                </a:lnTo>
                <a:lnTo>
                  <a:pt x="1621341" y="2713673"/>
                </a:lnTo>
                <a:lnTo>
                  <a:pt x="1626411" y="2713673"/>
                </a:lnTo>
                <a:lnTo>
                  <a:pt x="1631480" y="2714943"/>
                </a:lnTo>
                <a:lnTo>
                  <a:pt x="1635916" y="2715896"/>
                </a:lnTo>
                <a:lnTo>
                  <a:pt x="1640352" y="2717801"/>
                </a:lnTo>
                <a:lnTo>
                  <a:pt x="1644471" y="2720023"/>
                </a:lnTo>
                <a:lnTo>
                  <a:pt x="1648274" y="2723198"/>
                </a:lnTo>
                <a:lnTo>
                  <a:pt x="1651759" y="2726056"/>
                </a:lnTo>
                <a:lnTo>
                  <a:pt x="1654928" y="2729866"/>
                </a:lnTo>
                <a:lnTo>
                  <a:pt x="1657462" y="2733041"/>
                </a:lnTo>
                <a:lnTo>
                  <a:pt x="1658096" y="2733993"/>
                </a:lnTo>
                <a:lnTo>
                  <a:pt x="1659364" y="2734946"/>
                </a:lnTo>
                <a:lnTo>
                  <a:pt x="1665701" y="2740026"/>
                </a:lnTo>
                <a:lnTo>
                  <a:pt x="1671721" y="2744471"/>
                </a:lnTo>
                <a:lnTo>
                  <a:pt x="1678692" y="2748598"/>
                </a:lnTo>
                <a:lnTo>
                  <a:pt x="1685662" y="2752726"/>
                </a:lnTo>
                <a:lnTo>
                  <a:pt x="1692634" y="2756853"/>
                </a:lnTo>
                <a:lnTo>
                  <a:pt x="1699921" y="2760346"/>
                </a:lnTo>
                <a:lnTo>
                  <a:pt x="1707526" y="2763521"/>
                </a:lnTo>
                <a:lnTo>
                  <a:pt x="1714497" y="2766061"/>
                </a:lnTo>
                <a:lnTo>
                  <a:pt x="1720834" y="2768283"/>
                </a:lnTo>
                <a:lnTo>
                  <a:pt x="1731607" y="2771458"/>
                </a:lnTo>
                <a:lnTo>
                  <a:pt x="1742380" y="2773998"/>
                </a:lnTo>
                <a:lnTo>
                  <a:pt x="1753153" y="2776221"/>
                </a:lnTo>
                <a:lnTo>
                  <a:pt x="1764242" y="2778126"/>
                </a:lnTo>
                <a:lnTo>
                  <a:pt x="1775016" y="2779396"/>
                </a:lnTo>
                <a:lnTo>
                  <a:pt x="1785789" y="2780666"/>
                </a:lnTo>
                <a:lnTo>
                  <a:pt x="1795928" y="2780983"/>
                </a:lnTo>
                <a:lnTo>
                  <a:pt x="1806067" y="2781301"/>
                </a:lnTo>
                <a:lnTo>
                  <a:pt x="1817157" y="2780983"/>
                </a:lnTo>
                <a:lnTo>
                  <a:pt x="1827613" y="2780348"/>
                </a:lnTo>
                <a:lnTo>
                  <a:pt x="1837119" y="2778761"/>
                </a:lnTo>
                <a:lnTo>
                  <a:pt x="1845991" y="2776856"/>
                </a:lnTo>
                <a:lnTo>
                  <a:pt x="1854546" y="2774633"/>
                </a:lnTo>
                <a:lnTo>
                  <a:pt x="1862467" y="2771776"/>
                </a:lnTo>
                <a:lnTo>
                  <a:pt x="1869121" y="2768283"/>
                </a:lnTo>
                <a:lnTo>
                  <a:pt x="1875458" y="2764791"/>
                </a:lnTo>
                <a:lnTo>
                  <a:pt x="1879260" y="2761616"/>
                </a:lnTo>
                <a:lnTo>
                  <a:pt x="1882429" y="2758441"/>
                </a:lnTo>
                <a:lnTo>
                  <a:pt x="1885280" y="2754948"/>
                </a:lnTo>
                <a:lnTo>
                  <a:pt x="1888132" y="2751456"/>
                </a:lnTo>
                <a:lnTo>
                  <a:pt x="1890350" y="2747646"/>
                </a:lnTo>
                <a:lnTo>
                  <a:pt x="1892251" y="2743518"/>
                </a:lnTo>
                <a:lnTo>
                  <a:pt x="1893519" y="2739391"/>
                </a:lnTo>
                <a:lnTo>
                  <a:pt x="1894786" y="2734946"/>
                </a:lnTo>
                <a:lnTo>
                  <a:pt x="1895420" y="2730818"/>
                </a:lnTo>
                <a:lnTo>
                  <a:pt x="1895737" y="2726373"/>
                </a:lnTo>
                <a:lnTo>
                  <a:pt x="1895420" y="2721928"/>
                </a:lnTo>
                <a:lnTo>
                  <a:pt x="1895103" y="2717483"/>
                </a:lnTo>
                <a:lnTo>
                  <a:pt x="1893836" y="2713038"/>
                </a:lnTo>
                <a:lnTo>
                  <a:pt x="1892885" y="2708911"/>
                </a:lnTo>
                <a:lnTo>
                  <a:pt x="1890984" y="2704783"/>
                </a:lnTo>
                <a:lnTo>
                  <a:pt x="1888766" y="2700656"/>
                </a:lnTo>
                <a:lnTo>
                  <a:pt x="1885280" y="2696211"/>
                </a:lnTo>
                <a:lnTo>
                  <a:pt x="1881478" y="2691766"/>
                </a:lnTo>
                <a:lnTo>
                  <a:pt x="1876092" y="2687321"/>
                </a:lnTo>
                <a:lnTo>
                  <a:pt x="1870705" y="2682876"/>
                </a:lnTo>
                <a:lnTo>
                  <a:pt x="1864368" y="2678748"/>
                </a:lnTo>
                <a:lnTo>
                  <a:pt x="1857714" y="2674621"/>
                </a:lnTo>
                <a:lnTo>
                  <a:pt x="1850110" y="2671128"/>
                </a:lnTo>
                <a:lnTo>
                  <a:pt x="1842188" y="2667318"/>
                </a:lnTo>
                <a:lnTo>
                  <a:pt x="1817474" y="2657158"/>
                </a:lnTo>
                <a:lnTo>
                  <a:pt x="1720517" y="2617471"/>
                </a:lnTo>
                <a:lnTo>
                  <a:pt x="1673305" y="2597786"/>
                </a:lnTo>
                <a:lnTo>
                  <a:pt x="1644471" y="2585086"/>
                </a:lnTo>
                <a:lnTo>
                  <a:pt x="1639085" y="2582546"/>
                </a:lnTo>
                <a:lnTo>
                  <a:pt x="1634015" y="2580006"/>
                </a:lnTo>
                <a:lnTo>
                  <a:pt x="1624827" y="2574608"/>
                </a:lnTo>
                <a:lnTo>
                  <a:pt x="1615638" y="2567623"/>
                </a:lnTo>
                <a:lnTo>
                  <a:pt x="1607083" y="2560638"/>
                </a:lnTo>
                <a:lnTo>
                  <a:pt x="1598845" y="2552383"/>
                </a:lnTo>
                <a:lnTo>
                  <a:pt x="1591874" y="2544446"/>
                </a:lnTo>
                <a:lnTo>
                  <a:pt x="1588072" y="2540001"/>
                </a:lnTo>
                <a:lnTo>
                  <a:pt x="1585220" y="2534921"/>
                </a:lnTo>
                <a:lnTo>
                  <a:pt x="1581734" y="2530476"/>
                </a:lnTo>
                <a:lnTo>
                  <a:pt x="1579200" y="2525713"/>
                </a:lnTo>
                <a:lnTo>
                  <a:pt x="1576348" y="2520633"/>
                </a:lnTo>
                <a:lnTo>
                  <a:pt x="1574130" y="2515236"/>
                </a:lnTo>
                <a:lnTo>
                  <a:pt x="1571912" y="2510156"/>
                </a:lnTo>
                <a:lnTo>
                  <a:pt x="1570011" y="2505076"/>
                </a:lnTo>
                <a:lnTo>
                  <a:pt x="1568110" y="2499678"/>
                </a:lnTo>
                <a:lnTo>
                  <a:pt x="1566525" y="2494598"/>
                </a:lnTo>
                <a:lnTo>
                  <a:pt x="1565575" y="2488883"/>
                </a:lnTo>
                <a:lnTo>
                  <a:pt x="1564624" y="2483803"/>
                </a:lnTo>
                <a:lnTo>
                  <a:pt x="1563991" y="2478088"/>
                </a:lnTo>
                <a:lnTo>
                  <a:pt x="1563674" y="2473008"/>
                </a:lnTo>
                <a:lnTo>
                  <a:pt x="1563357" y="2467293"/>
                </a:lnTo>
                <a:lnTo>
                  <a:pt x="1563674" y="2461896"/>
                </a:lnTo>
                <a:lnTo>
                  <a:pt x="1563991" y="2456816"/>
                </a:lnTo>
                <a:lnTo>
                  <a:pt x="1564308" y="2451101"/>
                </a:lnTo>
                <a:lnTo>
                  <a:pt x="1565575" y="2446021"/>
                </a:lnTo>
                <a:lnTo>
                  <a:pt x="1566525" y="2440306"/>
                </a:lnTo>
                <a:lnTo>
                  <a:pt x="1567793" y="2435226"/>
                </a:lnTo>
                <a:lnTo>
                  <a:pt x="1569060" y="2429828"/>
                </a:lnTo>
                <a:lnTo>
                  <a:pt x="1570961" y="2424748"/>
                </a:lnTo>
                <a:lnTo>
                  <a:pt x="1573179" y="2419668"/>
                </a:lnTo>
                <a:lnTo>
                  <a:pt x="1575397" y="2414271"/>
                </a:lnTo>
                <a:lnTo>
                  <a:pt x="1577932" y="2409191"/>
                </a:lnTo>
                <a:lnTo>
                  <a:pt x="1580784" y="2404428"/>
                </a:lnTo>
                <a:lnTo>
                  <a:pt x="1583636" y="2399031"/>
                </a:lnTo>
                <a:lnTo>
                  <a:pt x="1586804" y="2394268"/>
                </a:lnTo>
                <a:lnTo>
                  <a:pt x="1590290" y="2389506"/>
                </a:lnTo>
                <a:lnTo>
                  <a:pt x="1594092" y="2385061"/>
                </a:lnTo>
                <a:lnTo>
                  <a:pt x="1598211" y="2379981"/>
                </a:lnTo>
                <a:lnTo>
                  <a:pt x="1602013" y="2375536"/>
                </a:lnTo>
                <a:lnTo>
                  <a:pt x="1606766" y="2371091"/>
                </a:lnTo>
                <a:lnTo>
                  <a:pt x="1611202" y="2367281"/>
                </a:lnTo>
                <a:lnTo>
                  <a:pt x="1615955" y="2363153"/>
                </a:lnTo>
                <a:lnTo>
                  <a:pt x="1621658" y="2358073"/>
                </a:lnTo>
                <a:lnTo>
                  <a:pt x="1627678" y="2353628"/>
                </a:lnTo>
                <a:lnTo>
                  <a:pt x="1634015" y="2349818"/>
                </a:lnTo>
                <a:lnTo>
                  <a:pt x="1640669" y="2345691"/>
                </a:lnTo>
                <a:lnTo>
                  <a:pt x="1647323" y="2341881"/>
                </a:lnTo>
                <a:lnTo>
                  <a:pt x="1654294" y="2338071"/>
                </a:lnTo>
                <a:lnTo>
                  <a:pt x="1661898" y="2334896"/>
                </a:lnTo>
                <a:lnTo>
                  <a:pt x="1669186" y="2331403"/>
                </a:lnTo>
                <a:lnTo>
                  <a:pt x="1676790" y="2328546"/>
                </a:lnTo>
                <a:lnTo>
                  <a:pt x="1684395" y="2325371"/>
                </a:lnTo>
                <a:lnTo>
                  <a:pt x="1692634" y="2322831"/>
                </a:lnTo>
                <a:lnTo>
                  <a:pt x="1700872" y="2320608"/>
                </a:lnTo>
                <a:lnTo>
                  <a:pt x="1709427" y="2318386"/>
                </a:lnTo>
                <a:lnTo>
                  <a:pt x="1717982" y="2316163"/>
                </a:lnTo>
                <a:lnTo>
                  <a:pt x="1726220" y="2314893"/>
                </a:lnTo>
                <a:lnTo>
                  <a:pt x="1735409" y="2312988"/>
                </a:lnTo>
                <a:lnTo>
                  <a:pt x="1735409" y="2259966"/>
                </a:lnTo>
                <a:lnTo>
                  <a:pt x="1735726" y="2257426"/>
                </a:lnTo>
                <a:lnTo>
                  <a:pt x="1736676" y="2254886"/>
                </a:lnTo>
                <a:lnTo>
                  <a:pt x="1738261" y="2252346"/>
                </a:lnTo>
                <a:lnTo>
                  <a:pt x="1740478" y="2250441"/>
                </a:lnTo>
                <a:lnTo>
                  <a:pt x="1743013" y="2248536"/>
                </a:lnTo>
                <a:lnTo>
                  <a:pt x="1745865" y="2247583"/>
                </a:lnTo>
                <a:lnTo>
                  <a:pt x="1749350" y="2246631"/>
                </a:lnTo>
                <a:lnTo>
                  <a:pt x="1753153" y="2246313"/>
                </a:lnTo>
                <a:close/>
                <a:moveTo>
                  <a:pt x="1796891" y="2159710"/>
                </a:moveTo>
                <a:lnTo>
                  <a:pt x="1786093" y="2160028"/>
                </a:lnTo>
                <a:lnTo>
                  <a:pt x="1775296" y="2160663"/>
                </a:lnTo>
                <a:lnTo>
                  <a:pt x="1764817" y="2161298"/>
                </a:lnTo>
                <a:lnTo>
                  <a:pt x="1754337" y="2162251"/>
                </a:lnTo>
                <a:lnTo>
                  <a:pt x="1743540" y="2163839"/>
                </a:lnTo>
                <a:lnTo>
                  <a:pt x="1733695" y="2165427"/>
                </a:lnTo>
                <a:lnTo>
                  <a:pt x="1723216" y="2167332"/>
                </a:lnTo>
                <a:lnTo>
                  <a:pt x="1712736" y="2169555"/>
                </a:lnTo>
                <a:lnTo>
                  <a:pt x="1702892" y="2171778"/>
                </a:lnTo>
                <a:lnTo>
                  <a:pt x="1692730" y="2174318"/>
                </a:lnTo>
                <a:lnTo>
                  <a:pt x="1683202" y="2177177"/>
                </a:lnTo>
                <a:lnTo>
                  <a:pt x="1673040" y="2180352"/>
                </a:lnTo>
                <a:lnTo>
                  <a:pt x="1663513" y="2183528"/>
                </a:lnTo>
                <a:lnTo>
                  <a:pt x="1653669" y="2187021"/>
                </a:lnTo>
                <a:lnTo>
                  <a:pt x="1644460" y="2190514"/>
                </a:lnTo>
                <a:lnTo>
                  <a:pt x="1635250" y="2194643"/>
                </a:lnTo>
                <a:lnTo>
                  <a:pt x="1625723" y="2198771"/>
                </a:lnTo>
                <a:lnTo>
                  <a:pt x="1616514" y="2203217"/>
                </a:lnTo>
                <a:lnTo>
                  <a:pt x="1607622" y="2207663"/>
                </a:lnTo>
                <a:lnTo>
                  <a:pt x="1598730" y="2213061"/>
                </a:lnTo>
                <a:lnTo>
                  <a:pt x="1589839" y="2217825"/>
                </a:lnTo>
                <a:lnTo>
                  <a:pt x="1581264" y="2222906"/>
                </a:lnTo>
                <a:lnTo>
                  <a:pt x="1572690" y="2228622"/>
                </a:lnTo>
                <a:lnTo>
                  <a:pt x="1564116" y="2234020"/>
                </a:lnTo>
                <a:lnTo>
                  <a:pt x="1555859" y="2240054"/>
                </a:lnTo>
                <a:lnTo>
                  <a:pt x="1547920" y="2246088"/>
                </a:lnTo>
                <a:lnTo>
                  <a:pt x="1539981" y="2252439"/>
                </a:lnTo>
                <a:lnTo>
                  <a:pt x="1532042" y="2258473"/>
                </a:lnTo>
                <a:lnTo>
                  <a:pt x="1524420" y="2265459"/>
                </a:lnTo>
                <a:lnTo>
                  <a:pt x="1517117" y="2272128"/>
                </a:lnTo>
                <a:lnTo>
                  <a:pt x="1509495" y="2279114"/>
                </a:lnTo>
                <a:lnTo>
                  <a:pt x="1502509" y="2286101"/>
                </a:lnTo>
                <a:lnTo>
                  <a:pt x="1495522" y="2293405"/>
                </a:lnTo>
                <a:lnTo>
                  <a:pt x="1488853" y="2301026"/>
                </a:lnTo>
                <a:lnTo>
                  <a:pt x="1482185" y="2308648"/>
                </a:lnTo>
                <a:lnTo>
                  <a:pt x="1475833" y="2316269"/>
                </a:lnTo>
                <a:lnTo>
                  <a:pt x="1469482" y="2324526"/>
                </a:lnTo>
                <a:lnTo>
                  <a:pt x="1463131" y="2332465"/>
                </a:lnTo>
                <a:lnTo>
                  <a:pt x="1457415" y="2340722"/>
                </a:lnTo>
                <a:lnTo>
                  <a:pt x="1451698" y="2348978"/>
                </a:lnTo>
                <a:lnTo>
                  <a:pt x="1446300" y="2357553"/>
                </a:lnTo>
                <a:lnTo>
                  <a:pt x="1440901" y="2366444"/>
                </a:lnTo>
                <a:lnTo>
                  <a:pt x="1435820" y="2375019"/>
                </a:lnTo>
                <a:lnTo>
                  <a:pt x="1431057" y="2383910"/>
                </a:lnTo>
                <a:lnTo>
                  <a:pt x="1426293" y="2393120"/>
                </a:lnTo>
                <a:lnTo>
                  <a:pt x="1421847" y="2402012"/>
                </a:lnTo>
                <a:lnTo>
                  <a:pt x="1417719" y="2411221"/>
                </a:lnTo>
                <a:lnTo>
                  <a:pt x="1413591" y="2421065"/>
                </a:lnTo>
                <a:lnTo>
                  <a:pt x="1410098" y="2430592"/>
                </a:lnTo>
                <a:lnTo>
                  <a:pt x="1406287" y="2440437"/>
                </a:lnTo>
                <a:lnTo>
                  <a:pt x="1403111" y="2449964"/>
                </a:lnTo>
                <a:lnTo>
                  <a:pt x="1399936" y="2460126"/>
                </a:lnTo>
                <a:lnTo>
                  <a:pt x="1397395" y="2469653"/>
                </a:lnTo>
                <a:lnTo>
                  <a:pt x="1394855" y="2480132"/>
                </a:lnTo>
                <a:lnTo>
                  <a:pt x="1391996" y="2490294"/>
                </a:lnTo>
                <a:lnTo>
                  <a:pt x="1390091" y="2500456"/>
                </a:lnTo>
                <a:lnTo>
                  <a:pt x="1388503" y="2510936"/>
                </a:lnTo>
                <a:lnTo>
                  <a:pt x="1386598" y="2521416"/>
                </a:lnTo>
                <a:lnTo>
                  <a:pt x="1385328" y="2532213"/>
                </a:lnTo>
                <a:lnTo>
                  <a:pt x="1384375" y="2542692"/>
                </a:lnTo>
                <a:lnTo>
                  <a:pt x="1383422" y="2553172"/>
                </a:lnTo>
                <a:lnTo>
                  <a:pt x="1382787" y="2564604"/>
                </a:lnTo>
                <a:lnTo>
                  <a:pt x="1382787" y="2575401"/>
                </a:lnTo>
                <a:lnTo>
                  <a:pt x="1382787" y="2585881"/>
                </a:lnTo>
                <a:lnTo>
                  <a:pt x="1382787" y="2596678"/>
                </a:lnTo>
                <a:lnTo>
                  <a:pt x="1383422" y="2607475"/>
                </a:lnTo>
                <a:lnTo>
                  <a:pt x="1384375" y="2617955"/>
                </a:lnTo>
                <a:lnTo>
                  <a:pt x="1385328" y="2628434"/>
                </a:lnTo>
                <a:lnTo>
                  <a:pt x="1386598" y="2638914"/>
                </a:lnTo>
                <a:lnTo>
                  <a:pt x="1388503" y="2649076"/>
                </a:lnTo>
                <a:lnTo>
                  <a:pt x="1390091" y="2659556"/>
                </a:lnTo>
                <a:lnTo>
                  <a:pt x="1391996" y="2669718"/>
                </a:lnTo>
                <a:lnTo>
                  <a:pt x="1394855" y="2680197"/>
                </a:lnTo>
                <a:lnTo>
                  <a:pt x="1397077" y="2690042"/>
                </a:lnTo>
                <a:lnTo>
                  <a:pt x="1399936" y="2699886"/>
                </a:lnTo>
                <a:lnTo>
                  <a:pt x="1402794" y="2709731"/>
                </a:lnTo>
                <a:lnTo>
                  <a:pt x="1406287" y="2719575"/>
                </a:lnTo>
                <a:lnTo>
                  <a:pt x="1409462" y="2729102"/>
                </a:lnTo>
                <a:lnTo>
                  <a:pt x="1413591" y="2738312"/>
                </a:lnTo>
                <a:lnTo>
                  <a:pt x="1417402" y="2748156"/>
                </a:lnTo>
                <a:lnTo>
                  <a:pt x="1421847" y="2757048"/>
                </a:lnTo>
                <a:lnTo>
                  <a:pt x="1425976" y="2766257"/>
                </a:lnTo>
                <a:lnTo>
                  <a:pt x="1430739" y="2775149"/>
                </a:lnTo>
                <a:lnTo>
                  <a:pt x="1435503" y="2784041"/>
                </a:lnTo>
                <a:lnTo>
                  <a:pt x="1440266" y="2792932"/>
                </a:lnTo>
                <a:lnTo>
                  <a:pt x="1445982" y="2801507"/>
                </a:lnTo>
                <a:lnTo>
                  <a:pt x="1451063" y="2810081"/>
                </a:lnTo>
                <a:lnTo>
                  <a:pt x="1456779" y="2818655"/>
                </a:lnTo>
                <a:lnTo>
                  <a:pt x="1462813" y="2826912"/>
                </a:lnTo>
                <a:lnTo>
                  <a:pt x="1468529" y="2834851"/>
                </a:lnTo>
                <a:lnTo>
                  <a:pt x="1474881" y="2842790"/>
                </a:lnTo>
                <a:lnTo>
                  <a:pt x="1481549" y="2850729"/>
                </a:lnTo>
                <a:lnTo>
                  <a:pt x="1487901" y="2858351"/>
                </a:lnTo>
                <a:lnTo>
                  <a:pt x="1494887" y="2865972"/>
                </a:lnTo>
                <a:lnTo>
                  <a:pt x="1501873" y="2873276"/>
                </a:lnTo>
                <a:lnTo>
                  <a:pt x="1509177" y="2880262"/>
                </a:lnTo>
                <a:lnTo>
                  <a:pt x="1516164" y="2887249"/>
                </a:lnTo>
                <a:lnTo>
                  <a:pt x="1524103" y="2894235"/>
                </a:lnTo>
                <a:lnTo>
                  <a:pt x="1531407" y="2900904"/>
                </a:lnTo>
                <a:lnTo>
                  <a:pt x="1539346" y="2907255"/>
                </a:lnTo>
                <a:lnTo>
                  <a:pt x="1546968" y="2913289"/>
                </a:lnTo>
                <a:lnTo>
                  <a:pt x="1555224" y="2919323"/>
                </a:lnTo>
                <a:lnTo>
                  <a:pt x="1563481" y="2925356"/>
                </a:lnTo>
                <a:lnTo>
                  <a:pt x="1572055" y="2930755"/>
                </a:lnTo>
                <a:lnTo>
                  <a:pt x="1580629" y="2936471"/>
                </a:lnTo>
                <a:lnTo>
                  <a:pt x="1589203" y="2941552"/>
                </a:lnTo>
                <a:lnTo>
                  <a:pt x="1598095" y="2946951"/>
                </a:lnTo>
                <a:lnTo>
                  <a:pt x="1606987" y="2951714"/>
                </a:lnTo>
                <a:lnTo>
                  <a:pt x="1615879" y="2956478"/>
                </a:lnTo>
                <a:lnTo>
                  <a:pt x="1625088" y="2960606"/>
                </a:lnTo>
                <a:lnTo>
                  <a:pt x="1634298" y="2965052"/>
                </a:lnTo>
                <a:lnTo>
                  <a:pt x="1643824" y="2969180"/>
                </a:lnTo>
                <a:lnTo>
                  <a:pt x="1653351" y="2972991"/>
                </a:lnTo>
                <a:lnTo>
                  <a:pt x="1662878" y="2976167"/>
                </a:lnTo>
                <a:lnTo>
                  <a:pt x="1672723" y="2979660"/>
                </a:lnTo>
                <a:lnTo>
                  <a:pt x="1682567" y="2982518"/>
                </a:lnTo>
                <a:lnTo>
                  <a:pt x="1692730" y="2985376"/>
                </a:lnTo>
                <a:lnTo>
                  <a:pt x="1702892" y="2988234"/>
                </a:lnTo>
                <a:lnTo>
                  <a:pt x="1713054" y="2990457"/>
                </a:lnTo>
                <a:lnTo>
                  <a:pt x="1723216" y="2992680"/>
                </a:lnTo>
                <a:lnTo>
                  <a:pt x="1733695" y="2994585"/>
                </a:lnTo>
                <a:lnTo>
                  <a:pt x="1744493" y="2995856"/>
                </a:lnTo>
                <a:lnTo>
                  <a:pt x="1754655" y="2997443"/>
                </a:lnTo>
                <a:lnTo>
                  <a:pt x="1765452" y="2998396"/>
                </a:lnTo>
                <a:lnTo>
                  <a:pt x="1776249" y="2999349"/>
                </a:lnTo>
                <a:lnTo>
                  <a:pt x="1787046" y="2999666"/>
                </a:lnTo>
                <a:lnTo>
                  <a:pt x="1797843" y="2999984"/>
                </a:lnTo>
                <a:lnTo>
                  <a:pt x="1808958" y="2999984"/>
                </a:lnTo>
                <a:lnTo>
                  <a:pt x="1819438" y="2999666"/>
                </a:lnTo>
                <a:lnTo>
                  <a:pt x="1830235" y="2999349"/>
                </a:lnTo>
                <a:lnTo>
                  <a:pt x="1841032" y="2998396"/>
                </a:lnTo>
                <a:lnTo>
                  <a:pt x="1851512" y="2997443"/>
                </a:lnTo>
                <a:lnTo>
                  <a:pt x="1861674" y="2995856"/>
                </a:lnTo>
                <a:lnTo>
                  <a:pt x="1872153" y="2994585"/>
                </a:lnTo>
                <a:lnTo>
                  <a:pt x="1882633" y="2992680"/>
                </a:lnTo>
                <a:lnTo>
                  <a:pt x="1892795" y="2990457"/>
                </a:lnTo>
                <a:lnTo>
                  <a:pt x="1902639" y="2988234"/>
                </a:lnTo>
                <a:lnTo>
                  <a:pt x="1912801" y="2985376"/>
                </a:lnTo>
                <a:lnTo>
                  <a:pt x="1922646" y="2982836"/>
                </a:lnTo>
                <a:lnTo>
                  <a:pt x="1932490" y="2979660"/>
                </a:lnTo>
                <a:lnTo>
                  <a:pt x="1942017" y="2976484"/>
                </a:lnTo>
                <a:lnTo>
                  <a:pt x="1951862" y="2972991"/>
                </a:lnTo>
                <a:lnTo>
                  <a:pt x="1961389" y="2969180"/>
                </a:lnTo>
                <a:lnTo>
                  <a:pt x="1970598" y="2965052"/>
                </a:lnTo>
                <a:lnTo>
                  <a:pt x="1980125" y="2960924"/>
                </a:lnTo>
                <a:lnTo>
                  <a:pt x="1989334" y="2956478"/>
                </a:lnTo>
                <a:lnTo>
                  <a:pt x="1998226" y="2952032"/>
                </a:lnTo>
                <a:lnTo>
                  <a:pt x="2007118" y="2947268"/>
                </a:lnTo>
                <a:lnTo>
                  <a:pt x="2016010" y="2942187"/>
                </a:lnTo>
                <a:lnTo>
                  <a:pt x="2024584" y="2936789"/>
                </a:lnTo>
                <a:lnTo>
                  <a:pt x="2033158" y="2931390"/>
                </a:lnTo>
                <a:lnTo>
                  <a:pt x="2041415" y="2925674"/>
                </a:lnTo>
                <a:lnTo>
                  <a:pt x="2049354" y="2919640"/>
                </a:lnTo>
                <a:lnTo>
                  <a:pt x="2057610" y="2913924"/>
                </a:lnTo>
                <a:lnTo>
                  <a:pt x="2065867" y="2907573"/>
                </a:lnTo>
                <a:lnTo>
                  <a:pt x="2073489" y="2901222"/>
                </a:lnTo>
                <a:lnTo>
                  <a:pt x="2081110" y="2894553"/>
                </a:lnTo>
                <a:lnTo>
                  <a:pt x="2088414" y="2887884"/>
                </a:lnTo>
                <a:lnTo>
                  <a:pt x="2096036" y="2880580"/>
                </a:lnTo>
                <a:lnTo>
                  <a:pt x="2103022" y="2873594"/>
                </a:lnTo>
                <a:lnTo>
                  <a:pt x="2110008" y="2866290"/>
                </a:lnTo>
                <a:lnTo>
                  <a:pt x="2116677" y="2858668"/>
                </a:lnTo>
                <a:lnTo>
                  <a:pt x="2123346" y="2851364"/>
                </a:lnTo>
                <a:lnTo>
                  <a:pt x="2130015" y="2843425"/>
                </a:lnTo>
                <a:lnTo>
                  <a:pt x="2136049" y="2835804"/>
                </a:lnTo>
                <a:lnTo>
                  <a:pt x="2142400" y="2827547"/>
                </a:lnTo>
                <a:lnTo>
                  <a:pt x="2148434" y="2819290"/>
                </a:lnTo>
                <a:lnTo>
                  <a:pt x="2153832" y="2810716"/>
                </a:lnTo>
                <a:lnTo>
                  <a:pt x="2159548" y="2802459"/>
                </a:lnTo>
                <a:lnTo>
                  <a:pt x="2164629" y="2793885"/>
                </a:lnTo>
                <a:lnTo>
                  <a:pt x="2169393" y="2784993"/>
                </a:lnTo>
                <a:lnTo>
                  <a:pt x="2174474" y="2775784"/>
                </a:lnTo>
                <a:lnTo>
                  <a:pt x="2179237" y="2766892"/>
                </a:lnTo>
                <a:lnTo>
                  <a:pt x="2183683" y="2757683"/>
                </a:lnTo>
                <a:lnTo>
                  <a:pt x="2187811" y="2748474"/>
                </a:lnTo>
                <a:lnTo>
                  <a:pt x="2191622" y="2739264"/>
                </a:lnTo>
                <a:lnTo>
                  <a:pt x="2195433" y="2729420"/>
                </a:lnTo>
                <a:lnTo>
                  <a:pt x="2199244" y="2719893"/>
                </a:lnTo>
                <a:lnTo>
                  <a:pt x="2202102" y="2710048"/>
                </a:lnTo>
                <a:lnTo>
                  <a:pt x="2205595" y="2700204"/>
                </a:lnTo>
                <a:lnTo>
                  <a:pt x="2208136" y="2690042"/>
                </a:lnTo>
                <a:lnTo>
                  <a:pt x="2210676" y="2680197"/>
                </a:lnTo>
                <a:lnTo>
                  <a:pt x="2213217" y="2669718"/>
                </a:lnTo>
                <a:lnTo>
                  <a:pt x="2215122" y="2659556"/>
                </a:lnTo>
                <a:lnTo>
                  <a:pt x="2217027" y="2649076"/>
                </a:lnTo>
                <a:lnTo>
                  <a:pt x="2218615" y="2638279"/>
                </a:lnTo>
                <a:lnTo>
                  <a:pt x="2219885" y="2628117"/>
                </a:lnTo>
                <a:lnTo>
                  <a:pt x="2221156" y="2617320"/>
                </a:lnTo>
                <a:lnTo>
                  <a:pt x="2221791" y="2606523"/>
                </a:lnTo>
                <a:lnTo>
                  <a:pt x="2222743" y="2595725"/>
                </a:lnTo>
                <a:lnTo>
                  <a:pt x="2222743" y="2584611"/>
                </a:lnTo>
                <a:lnTo>
                  <a:pt x="2222743" y="2573814"/>
                </a:lnTo>
                <a:lnTo>
                  <a:pt x="2222743" y="2563016"/>
                </a:lnTo>
                <a:lnTo>
                  <a:pt x="2221791" y="2552537"/>
                </a:lnTo>
                <a:lnTo>
                  <a:pt x="2221156" y="2541740"/>
                </a:lnTo>
                <a:lnTo>
                  <a:pt x="2219885" y="2531260"/>
                </a:lnTo>
                <a:lnTo>
                  <a:pt x="2218933" y="2521098"/>
                </a:lnTo>
                <a:lnTo>
                  <a:pt x="2217027" y="2510618"/>
                </a:lnTo>
                <a:lnTo>
                  <a:pt x="2215122" y="2500139"/>
                </a:lnTo>
                <a:lnTo>
                  <a:pt x="2213217" y="2490294"/>
                </a:lnTo>
                <a:lnTo>
                  <a:pt x="2210994" y="2479815"/>
                </a:lnTo>
                <a:lnTo>
                  <a:pt x="2208453" y="2469970"/>
                </a:lnTo>
                <a:lnTo>
                  <a:pt x="2205595" y="2460126"/>
                </a:lnTo>
                <a:lnTo>
                  <a:pt x="2202419" y="2449964"/>
                </a:lnTo>
                <a:lnTo>
                  <a:pt x="2199244" y="2440437"/>
                </a:lnTo>
                <a:lnTo>
                  <a:pt x="2195751" y="2430910"/>
                </a:lnTo>
                <a:lnTo>
                  <a:pt x="2192257" y="2421383"/>
                </a:lnTo>
                <a:lnTo>
                  <a:pt x="2188129" y="2412174"/>
                </a:lnTo>
                <a:lnTo>
                  <a:pt x="2184001" y="2402964"/>
                </a:lnTo>
                <a:lnTo>
                  <a:pt x="2179555" y="2393437"/>
                </a:lnTo>
                <a:lnTo>
                  <a:pt x="2174791" y="2384546"/>
                </a:lnTo>
                <a:lnTo>
                  <a:pt x="2169710" y="2375654"/>
                </a:lnTo>
                <a:lnTo>
                  <a:pt x="2164947" y="2366762"/>
                </a:lnTo>
                <a:lnTo>
                  <a:pt x="2159866" y="2358188"/>
                </a:lnTo>
                <a:lnTo>
                  <a:pt x="2154150" y="2349614"/>
                </a:lnTo>
                <a:lnTo>
                  <a:pt x="2148751" y="2341357"/>
                </a:lnTo>
                <a:lnTo>
                  <a:pt x="2142717" y="2333418"/>
                </a:lnTo>
                <a:lnTo>
                  <a:pt x="2136684" y="2325161"/>
                </a:lnTo>
                <a:lnTo>
                  <a:pt x="2130332" y="2316905"/>
                </a:lnTo>
                <a:lnTo>
                  <a:pt x="2124299" y="2309283"/>
                </a:lnTo>
                <a:lnTo>
                  <a:pt x="2117312" y="2301661"/>
                </a:lnTo>
                <a:lnTo>
                  <a:pt x="2110643" y="2294357"/>
                </a:lnTo>
                <a:lnTo>
                  <a:pt x="2103657" y="2286736"/>
                </a:lnTo>
                <a:lnTo>
                  <a:pt x="2096671" y="2279750"/>
                </a:lnTo>
                <a:lnTo>
                  <a:pt x="2089367" y="2272763"/>
                </a:lnTo>
                <a:lnTo>
                  <a:pt x="2081745" y="2265777"/>
                </a:lnTo>
                <a:lnTo>
                  <a:pt x="2074124" y="2259425"/>
                </a:lnTo>
                <a:lnTo>
                  <a:pt x="2066185" y="2252757"/>
                </a:lnTo>
                <a:lnTo>
                  <a:pt x="2058245" y="2246405"/>
                </a:lnTo>
                <a:lnTo>
                  <a:pt x="2050306" y="2240372"/>
                </a:lnTo>
                <a:lnTo>
                  <a:pt x="2042050" y="2234338"/>
                </a:lnTo>
                <a:lnTo>
                  <a:pt x="2033793" y="2228939"/>
                </a:lnTo>
                <a:lnTo>
                  <a:pt x="2025219" y="2223223"/>
                </a:lnTo>
                <a:lnTo>
                  <a:pt x="2016327" y="2218142"/>
                </a:lnTo>
                <a:lnTo>
                  <a:pt x="2007753" y="2213061"/>
                </a:lnTo>
                <a:lnTo>
                  <a:pt x="1998861" y="2207980"/>
                </a:lnTo>
                <a:lnTo>
                  <a:pt x="1989652" y="2203534"/>
                </a:lnTo>
                <a:lnTo>
                  <a:pt x="1980760" y="2199088"/>
                </a:lnTo>
                <a:lnTo>
                  <a:pt x="1971551" y="2194643"/>
                </a:lnTo>
                <a:lnTo>
                  <a:pt x="1961706" y="2190832"/>
                </a:lnTo>
                <a:lnTo>
                  <a:pt x="1952179" y="2187021"/>
                </a:lnTo>
                <a:lnTo>
                  <a:pt x="1942335" y="2183528"/>
                </a:lnTo>
                <a:lnTo>
                  <a:pt x="1932808" y="2180352"/>
                </a:lnTo>
                <a:lnTo>
                  <a:pt x="1922963" y="2177177"/>
                </a:lnTo>
                <a:lnTo>
                  <a:pt x="1913119" y="2174318"/>
                </a:lnTo>
                <a:lnTo>
                  <a:pt x="1902639" y="2171778"/>
                </a:lnTo>
                <a:lnTo>
                  <a:pt x="1892795" y="2169555"/>
                </a:lnTo>
                <a:lnTo>
                  <a:pt x="1882315" y="2167332"/>
                </a:lnTo>
                <a:lnTo>
                  <a:pt x="1871836" y="2165427"/>
                </a:lnTo>
                <a:lnTo>
                  <a:pt x="1861356" y="2163839"/>
                </a:lnTo>
                <a:lnTo>
                  <a:pt x="1850559" y="2162251"/>
                </a:lnTo>
                <a:lnTo>
                  <a:pt x="1840397" y="2161298"/>
                </a:lnTo>
                <a:lnTo>
                  <a:pt x="1829600" y="2160663"/>
                </a:lnTo>
                <a:lnTo>
                  <a:pt x="1818167" y="2160028"/>
                </a:lnTo>
                <a:lnTo>
                  <a:pt x="1807688" y="2159710"/>
                </a:lnTo>
                <a:lnTo>
                  <a:pt x="1796891" y="2159710"/>
                </a:lnTo>
                <a:close/>
                <a:moveTo>
                  <a:pt x="1703527" y="1784350"/>
                </a:moveTo>
                <a:lnTo>
                  <a:pt x="1960753" y="1793877"/>
                </a:lnTo>
                <a:lnTo>
                  <a:pt x="1955037" y="1945990"/>
                </a:lnTo>
                <a:lnTo>
                  <a:pt x="1970280" y="1950118"/>
                </a:lnTo>
                <a:lnTo>
                  <a:pt x="1985841" y="1954247"/>
                </a:lnTo>
                <a:lnTo>
                  <a:pt x="2000766" y="1959010"/>
                </a:lnTo>
                <a:lnTo>
                  <a:pt x="2016010" y="1963774"/>
                </a:lnTo>
                <a:lnTo>
                  <a:pt x="2030935" y="1969172"/>
                </a:lnTo>
                <a:lnTo>
                  <a:pt x="2045225" y="1975206"/>
                </a:lnTo>
                <a:lnTo>
                  <a:pt x="2059833" y="1980922"/>
                </a:lnTo>
                <a:lnTo>
                  <a:pt x="2074441" y="1987273"/>
                </a:lnTo>
                <a:lnTo>
                  <a:pt x="2088414" y="1993942"/>
                </a:lnTo>
                <a:lnTo>
                  <a:pt x="2102069" y="2001246"/>
                </a:lnTo>
                <a:lnTo>
                  <a:pt x="2116042" y="2008550"/>
                </a:lnTo>
                <a:lnTo>
                  <a:pt x="2129697" y="2016172"/>
                </a:lnTo>
                <a:lnTo>
                  <a:pt x="2143035" y="2024111"/>
                </a:lnTo>
                <a:lnTo>
                  <a:pt x="2156055" y="2032367"/>
                </a:lnTo>
                <a:lnTo>
                  <a:pt x="2169075" y="2041259"/>
                </a:lnTo>
                <a:lnTo>
                  <a:pt x="2181778" y="2050151"/>
                </a:lnTo>
                <a:lnTo>
                  <a:pt x="2293243" y="1945990"/>
                </a:lnTo>
                <a:lnTo>
                  <a:pt x="2468220" y="2134941"/>
                </a:lnTo>
                <a:lnTo>
                  <a:pt x="2357390" y="2237831"/>
                </a:lnTo>
                <a:lnTo>
                  <a:pt x="2365330" y="2251169"/>
                </a:lnTo>
                <a:lnTo>
                  <a:pt x="2373269" y="2264507"/>
                </a:lnTo>
                <a:lnTo>
                  <a:pt x="2380573" y="2278162"/>
                </a:lnTo>
                <a:lnTo>
                  <a:pt x="2387559" y="2292135"/>
                </a:lnTo>
                <a:lnTo>
                  <a:pt x="2394228" y="2306107"/>
                </a:lnTo>
                <a:lnTo>
                  <a:pt x="2400897" y="2320715"/>
                </a:lnTo>
                <a:lnTo>
                  <a:pt x="2406930" y="2335323"/>
                </a:lnTo>
                <a:lnTo>
                  <a:pt x="2412647" y="2349614"/>
                </a:lnTo>
                <a:lnTo>
                  <a:pt x="2418045" y="2364539"/>
                </a:lnTo>
                <a:lnTo>
                  <a:pt x="2423444" y="2379465"/>
                </a:lnTo>
                <a:lnTo>
                  <a:pt x="2427890" y="2394708"/>
                </a:lnTo>
                <a:lnTo>
                  <a:pt x="2432335" y="2409951"/>
                </a:lnTo>
                <a:lnTo>
                  <a:pt x="2435829" y="2425194"/>
                </a:lnTo>
                <a:lnTo>
                  <a:pt x="2439639" y="2440754"/>
                </a:lnTo>
                <a:lnTo>
                  <a:pt x="2443133" y="2456315"/>
                </a:lnTo>
                <a:lnTo>
                  <a:pt x="2445673" y="2472193"/>
                </a:lnTo>
                <a:lnTo>
                  <a:pt x="2595563" y="2477909"/>
                </a:lnTo>
                <a:lnTo>
                  <a:pt x="2586354" y="2735136"/>
                </a:lnTo>
                <a:lnTo>
                  <a:pt x="2437099" y="2729420"/>
                </a:lnTo>
                <a:lnTo>
                  <a:pt x="2432971" y="2744980"/>
                </a:lnTo>
                <a:lnTo>
                  <a:pt x="2428842" y="2760541"/>
                </a:lnTo>
                <a:lnTo>
                  <a:pt x="2424079" y="2776419"/>
                </a:lnTo>
                <a:lnTo>
                  <a:pt x="2419315" y="2791027"/>
                </a:lnTo>
                <a:lnTo>
                  <a:pt x="2413599" y="2806270"/>
                </a:lnTo>
                <a:lnTo>
                  <a:pt x="2408201" y="2821196"/>
                </a:lnTo>
                <a:lnTo>
                  <a:pt x="2402167" y="2835804"/>
                </a:lnTo>
                <a:lnTo>
                  <a:pt x="2395816" y="2850094"/>
                </a:lnTo>
                <a:lnTo>
                  <a:pt x="2388829" y="2864702"/>
                </a:lnTo>
                <a:lnTo>
                  <a:pt x="2381525" y="2878992"/>
                </a:lnTo>
                <a:lnTo>
                  <a:pt x="2374221" y="2892647"/>
                </a:lnTo>
                <a:lnTo>
                  <a:pt x="2366917" y="2906303"/>
                </a:lnTo>
                <a:lnTo>
                  <a:pt x="2358661" y="2919640"/>
                </a:lnTo>
                <a:lnTo>
                  <a:pt x="2350404" y="2932978"/>
                </a:lnTo>
                <a:lnTo>
                  <a:pt x="2341512" y="2945998"/>
                </a:lnTo>
                <a:lnTo>
                  <a:pt x="2332620" y="2958701"/>
                </a:lnTo>
                <a:lnTo>
                  <a:pt x="2433606" y="3067625"/>
                </a:lnTo>
                <a:lnTo>
                  <a:pt x="2245290" y="3242603"/>
                </a:lnTo>
                <a:lnTo>
                  <a:pt x="2144940" y="3134949"/>
                </a:lnTo>
                <a:lnTo>
                  <a:pt x="2131285" y="3143205"/>
                </a:lnTo>
                <a:lnTo>
                  <a:pt x="2117947" y="3150509"/>
                </a:lnTo>
                <a:lnTo>
                  <a:pt x="2103657" y="3157813"/>
                </a:lnTo>
                <a:lnTo>
                  <a:pt x="2089684" y="3165117"/>
                </a:lnTo>
                <a:lnTo>
                  <a:pt x="2075394" y="3172103"/>
                </a:lnTo>
                <a:lnTo>
                  <a:pt x="2061104" y="3178455"/>
                </a:lnTo>
                <a:lnTo>
                  <a:pt x="2046496" y="3184488"/>
                </a:lnTo>
                <a:lnTo>
                  <a:pt x="2031570" y="3190205"/>
                </a:lnTo>
                <a:lnTo>
                  <a:pt x="2016645" y="3195603"/>
                </a:lnTo>
                <a:lnTo>
                  <a:pt x="2001402" y="3200684"/>
                </a:lnTo>
                <a:lnTo>
                  <a:pt x="1986159" y="3205448"/>
                </a:lnTo>
                <a:lnTo>
                  <a:pt x="1970598" y="3209576"/>
                </a:lnTo>
                <a:lnTo>
                  <a:pt x="1955037" y="3213704"/>
                </a:lnTo>
                <a:lnTo>
                  <a:pt x="1939477" y="3217515"/>
                </a:lnTo>
                <a:lnTo>
                  <a:pt x="1923916" y="3220373"/>
                </a:lnTo>
                <a:lnTo>
                  <a:pt x="1908038" y="3223231"/>
                </a:lnTo>
                <a:lnTo>
                  <a:pt x="1902322" y="3370263"/>
                </a:lnTo>
                <a:lnTo>
                  <a:pt x="1645095" y="3360736"/>
                </a:lnTo>
                <a:lnTo>
                  <a:pt x="1650493" y="3213704"/>
                </a:lnTo>
                <a:lnTo>
                  <a:pt x="1634615" y="3209576"/>
                </a:lnTo>
                <a:lnTo>
                  <a:pt x="1619054" y="3205130"/>
                </a:lnTo>
                <a:lnTo>
                  <a:pt x="1603494" y="3200684"/>
                </a:lnTo>
                <a:lnTo>
                  <a:pt x="1588251" y="3195603"/>
                </a:lnTo>
                <a:lnTo>
                  <a:pt x="1573325" y="3189887"/>
                </a:lnTo>
                <a:lnTo>
                  <a:pt x="1558717" y="3184488"/>
                </a:lnTo>
                <a:lnTo>
                  <a:pt x="1543792" y="3178137"/>
                </a:lnTo>
                <a:lnTo>
                  <a:pt x="1529184" y="3171786"/>
                </a:lnTo>
                <a:lnTo>
                  <a:pt x="1515211" y="3164482"/>
                </a:lnTo>
                <a:lnTo>
                  <a:pt x="1500921" y="3157496"/>
                </a:lnTo>
                <a:lnTo>
                  <a:pt x="1486948" y="3150192"/>
                </a:lnTo>
                <a:lnTo>
                  <a:pt x="1472975" y="3142252"/>
                </a:lnTo>
                <a:lnTo>
                  <a:pt x="1459637" y="3134313"/>
                </a:lnTo>
                <a:lnTo>
                  <a:pt x="1446300" y="3125739"/>
                </a:lnTo>
                <a:lnTo>
                  <a:pt x="1433280" y="3117165"/>
                </a:lnTo>
                <a:lnTo>
                  <a:pt x="1420577" y="3107638"/>
                </a:lnTo>
                <a:lnTo>
                  <a:pt x="1312606" y="3207988"/>
                </a:lnTo>
                <a:lnTo>
                  <a:pt x="1137310" y="3019673"/>
                </a:lnTo>
                <a:lnTo>
                  <a:pt x="1245917" y="2918688"/>
                </a:lnTo>
                <a:lnTo>
                  <a:pt x="1238296" y="2905350"/>
                </a:lnTo>
                <a:lnTo>
                  <a:pt x="1230357" y="2891377"/>
                </a:lnTo>
                <a:lnTo>
                  <a:pt x="1223053" y="2877722"/>
                </a:lnTo>
                <a:lnTo>
                  <a:pt x="1216066" y="2863749"/>
                </a:lnTo>
                <a:lnTo>
                  <a:pt x="1209397" y="2849459"/>
                </a:lnTo>
                <a:lnTo>
                  <a:pt x="1203046" y="2834851"/>
                </a:lnTo>
                <a:lnTo>
                  <a:pt x="1197012" y="2820560"/>
                </a:lnTo>
                <a:lnTo>
                  <a:pt x="1191296" y="2805635"/>
                </a:lnTo>
                <a:lnTo>
                  <a:pt x="1186215" y="2790710"/>
                </a:lnTo>
                <a:lnTo>
                  <a:pt x="1181134" y="2775466"/>
                </a:lnTo>
                <a:lnTo>
                  <a:pt x="1176688" y="2760223"/>
                </a:lnTo>
                <a:lnTo>
                  <a:pt x="1172560" y="2744980"/>
                </a:lnTo>
                <a:lnTo>
                  <a:pt x="1168432" y="2729420"/>
                </a:lnTo>
                <a:lnTo>
                  <a:pt x="1164938" y="2713859"/>
                </a:lnTo>
                <a:lnTo>
                  <a:pt x="1161763" y="2697981"/>
                </a:lnTo>
                <a:lnTo>
                  <a:pt x="1159222" y="2682420"/>
                </a:lnTo>
                <a:lnTo>
                  <a:pt x="1009650" y="2676704"/>
                </a:lnTo>
                <a:lnTo>
                  <a:pt x="1019494" y="2419478"/>
                </a:lnTo>
                <a:lnTo>
                  <a:pt x="1169384" y="2425194"/>
                </a:lnTo>
                <a:lnTo>
                  <a:pt x="1173513" y="2409633"/>
                </a:lnTo>
                <a:lnTo>
                  <a:pt x="1177641" y="2393755"/>
                </a:lnTo>
                <a:lnTo>
                  <a:pt x="1182404" y="2378512"/>
                </a:lnTo>
                <a:lnTo>
                  <a:pt x="1187803" y="2363904"/>
                </a:lnTo>
                <a:lnTo>
                  <a:pt x="1193202" y="2348978"/>
                </a:lnTo>
                <a:lnTo>
                  <a:pt x="1198918" y="2334053"/>
                </a:lnTo>
                <a:lnTo>
                  <a:pt x="1205269" y="2319445"/>
                </a:lnTo>
                <a:lnTo>
                  <a:pt x="1211620" y="2305155"/>
                </a:lnTo>
                <a:lnTo>
                  <a:pt x="1218607" y="2290864"/>
                </a:lnTo>
                <a:lnTo>
                  <a:pt x="1225593" y="2277209"/>
                </a:lnTo>
                <a:lnTo>
                  <a:pt x="1233215" y="2263554"/>
                </a:lnTo>
                <a:lnTo>
                  <a:pt x="1240836" y="2249581"/>
                </a:lnTo>
                <a:lnTo>
                  <a:pt x="1248775" y="2236243"/>
                </a:lnTo>
                <a:lnTo>
                  <a:pt x="1257349" y="2223223"/>
                </a:lnTo>
                <a:lnTo>
                  <a:pt x="1265606" y="2210203"/>
                </a:lnTo>
                <a:lnTo>
                  <a:pt x="1274815" y="2197818"/>
                </a:lnTo>
                <a:lnTo>
                  <a:pt x="1171607" y="2086988"/>
                </a:lnTo>
                <a:lnTo>
                  <a:pt x="1360558" y="1912011"/>
                </a:lnTo>
                <a:lnTo>
                  <a:pt x="1464083" y="2023476"/>
                </a:lnTo>
                <a:lnTo>
                  <a:pt x="1477421" y="2015537"/>
                </a:lnTo>
                <a:lnTo>
                  <a:pt x="1491076" y="2007915"/>
                </a:lnTo>
                <a:lnTo>
                  <a:pt x="1504732" y="2000611"/>
                </a:lnTo>
                <a:lnTo>
                  <a:pt x="1518387" y="1993625"/>
                </a:lnTo>
                <a:lnTo>
                  <a:pt x="1532677" y="1986956"/>
                </a:lnTo>
                <a:lnTo>
                  <a:pt x="1546650" y="1980605"/>
                </a:lnTo>
                <a:lnTo>
                  <a:pt x="1561258" y="1974571"/>
                </a:lnTo>
                <a:lnTo>
                  <a:pt x="1575548" y="1969172"/>
                </a:lnTo>
                <a:lnTo>
                  <a:pt x="1590474" y="1963774"/>
                </a:lnTo>
                <a:lnTo>
                  <a:pt x="1605399" y="1958693"/>
                </a:lnTo>
                <a:lnTo>
                  <a:pt x="1620325" y="1954247"/>
                </a:lnTo>
                <a:lnTo>
                  <a:pt x="1635568" y="1950118"/>
                </a:lnTo>
                <a:lnTo>
                  <a:pt x="1650811" y="1945990"/>
                </a:lnTo>
                <a:lnTo>
                  <a:pt x="1666371" y="1942815"/>
                </a:lnTo>
                <a:lnTo>
                  <a:pt x="1681932" y="1939321"/>
                </a:lnTo>
                <a:lnTo>
                  <a:pt x="1697493" y="1936781"/>
                </a:lnTo>
                <a:lnTo>
                  <a:pt x="1703527" y="1784350"/>
                </a:lnTo>
                <a:close/>
                <a:moveTo>
                  <a:pt x="499967" y="1495425"/>
                </a:moveTo>
                <a:lnTo>
                  <a:pt x="512673" y="1507816"/>
                </a:lnTo>
                <a:lnTo>
                  <a:pt x="526015" y="1520207"/>
                </a:lnTo>
                <a:lnTo>
                  <a:pt x="540309" y="1532916"/>
                </a:lnTo>
                <a:lnTo>
                  <a:pt x="555557" y="1545307"/>
                </a:lnTo>
                <a:lnTo>
                  <a:pt x="571122" y="1557381"/>
                </a:lnTo>
                <a:lnTo>
                  <a:pt x="587958" y="1569136"/>
                </a:lnTo>
                <a:lnTo>
                  <a:pt x="596217" y="1574220"/>
                </a:lnTo>
                <a:lnTo>
                  <a:pt x="604794" y="1579939"/>
                </a:lnTo>
                <a:lnTo>
                  <a:pt x="613371" y="1584705"/>
                </a:lnTo>
                <a:lnTo>
                  <a:pt x="622265" y="1589788"/>
                </a:lnTo>
                <a:lnTo>
                  <a:pt x="639736" y="1608851"/>
                </a:lnTo>
                <a:lnTo>
                  <a:pt x="657525" y="1628868"/>
                </a:lnTo>
                <a:lnTo>
                  <a:pt x="692150" y="1668583"/>
                </a:lnTo>
                <a:lnTo>
                  <a:pt x="641960" y="1916723"/>
                </a:lnTo>
                <a:lnTo>
                  <a:pt x="640054" y="1924030"/>
                </a:lnTo>
                <a:lnTo>
                  <a:pt x="637830" y="1931338"/>
                </a:lnTo>
                <a:lnTo>
                  <a:pt x="635289" y="1938328"/>
                </a:lnTo>
                <a:lnTo>
                  <a:pt x="631795" y="1945000"/>
                </a:lnTo>
                <a:lnTo>
                  <a:pt x="628618" y="1951672"/>
                </a:lnTo>
                <a:lnTo>
                  <a:pt x="624489" y="1958026"/>
                </a:lnTo>
                <a:lnTo>
                  <a:pt x="620041" y="1963745"/>
                </a:lnTo>
                <a:lnTo>
                  <a:pt x="615277" y="1969464"/>
                </a:lnTo>
                <a:lnTo>
                  <a:pt x="247746" y="2374875"/>
                </a:lnTo>
                <a:lnTo>
                  <a:pt x="244252" y="2379323"/>
                </a:lnTo>
                <a:lnTo>
                  <a:pt x="240122" y="2382818"/>
                </a:lnTo>
                <a:lnTo>
                  <a:pt x="235675" y="2386631"/>
                </a:lnTo>
                <a:lnTo>
                  <a:pt x="231228" y="2390126"/>
                </a:lnTo>
                <a:lnTo>
                  <a:pt x="226781" y="2393303"/>
                </a:lnTo>
                <a:lnTo>
                  <a:pt x="222334" y="2395845"/>
                </a:lnTo>
                <a:lnTo>
                  <a:pt x="217251" y="2399022"/>
                </a:lnTo>
                <a:lnTo>
                  <a:pt x="212486" y="2401246"/>
                </a:lnTo>
                <a:lnTo>
                  <a:pt x="207404" y="2403470"/>
                </a:lnTo>
                <a:lnTo>
                  <a:pt x="202639" y="2405377"/>
                </a:lnTo>
                <a:lnTo>
                  <a:pt x="197239" y="2406965"/>
                </a:lnTo>
                <a:lnTo>
                  <a:pt x="192156" y="2408236"/>
                </a:lnTo>
                <a:lnTo>
                  <a:pt x="187074" y="2409189"/>
                </a:lnTo>
                <a:lnTo>
                  <a:pt x="181673" y="2410460"/>
                </a:lnTo>
                <a:lnTo>
                  <a:pt x="176273" y="2411095"/>
                </a:lnTo>
                <a:lnTo>
                  <a:pt x="170873" y="2411413"/>
                </a:lnTo>
                <a:lnTo>
                  <a:pt x="165473" y="2411413"/>
                </a:lnTo>
                <a:lnTo>
                  <a:pt x="160073" y="2411413"/>
                </a:lnTo>
                <a:lnTo>
                  <a:pt x="154990" y="2411095"/>
                </a:lnTo>
                <a:lnTo>
                  <a:pt x="149272" y="2410460"/>
                </a:lnTo>
                <a:lnTo>
                  <a:pt x="144190" y="2409825"/>
                </a:lnTo>
                <a:lnTo>
                  <a:pt x="139107" y="2408554"/>
                </a:lnTo>
                <a:lnTo>
                  <a:pt x="133707" y="2406965"/>
                </a:lnTo>
                <a:lnTo>
                  <a:pt x="128625" y="2405377"/>
                </a:lnTo>
                <a:lnTo>
                  <a:pt x="123224" y="2403470"/>
                </a:lnTo>
                <a:lnTo>
                  <a:pt x="118459" y="2401246"/>
                </a:lnTo>
                <a:lnTo>
                  <a:pt x="113377" y="2399022"/>
                </a:lnTo>
                <a:lnTo>
                  <a:pt x="108612" y="2395845"/>
                </a:lnTo>
                <a:lnTo>
                  <a:pt x="104165" y="2392985"/>
                </a:lnTo>
                <a:lnTo>
                  <a:pt x="99082" y="2390126"/>
                </a:lnTo>
                <a:lnTo>
                  <a:pt x="94635" y="2386313"/>
                </a:lnTo>
                <a:lnTo>
                  <a:pt x="90506" y="2382501"/>
                </a:lnTo>
                <a:lnTo>
                  <a:pt x="86058" y="2378688"/>
                </a:lnTo>
                <a:lnTo>
                  <a:pt x="82564" y="2374875"/>
                </a:lnTo>
                <a:lnTo>
                  <a:pt x="78752" y="2370427"/>
                </a:lnTo>
                <a:lnTo>
                  <a:pt x="75258" y="2365661"/>
                </a:lnTo>
                <a:lnTo>
                  <a:pt x="72081" y="2361213"/>
                </a:lnTo>
                <a:lnTo>
                  <a:pt x="69222" y="2356448"/>
                </a:lnTo>
                <a:lnTo>
                  <a:pt x="66364" y="2351999"/>
                </a:lnTo>
                <a:lnTo>
                  <a:pt x="64140" y="2346916"/>
                </a:lnTo>
                <a:lnTo>
                  <a:pt x="61916" y="2342150"/>
                </a:lnTo>
                <a:lnTo>
                  <a:pt x="60328" y="2336749"/>
                </a:lnTo>
                <a:lnTo>
                  <a:pt x="58422" y="2331983"/>
                </a:lnTo>
                <a:lnTo>
                  <a:pt x="57151" y="2326900"/>
                </a:lnTo>
                <a:lnTo>
                  <a:pt x="55563" y="2321498"/>
                </a:lnTo>
                <a:lnTo>
                  <a:pt x="54928" y="2316097"/>
                </a:lnTo>
                <a:lnTo>
                  <a:pt x="54293" y="2310696"/>
                </a:lnTo>
                <a:lnTo>
                  <a:pt x="53975" y="2305612"/>
                </a:lnTo>
                <a:lnTo>
                  <a:pt x="53975" y="2299893"/>
                </a:lnTo>
                <a:lnTo>
                  <a:pt x="53975" y="2294810"/>
                </a:lnTo>
                <a:lnTo>
                  <a:pt x="54293" y="2289726"/>
                </a:lnTo>
                <a:lnTo>
                  <a:pt x="54928" y="2284007"/>
                </a:lnTo>
                <a:lnTo>
                  <a:pt x="55563" y="2278924"/>
                </a:lnTo>
                <a:lnTo>
                  <a:pt x="56834" y="2273523"/>
                </a:lnTo>
                <a:lnTo>
                  <a:pt x="58422" y="2268439"/>
                </a:lnTo>
                <a:lnTo>
                  <a:pt x="60328" y="2263355"/>
                </a:lnTo>
                <a:lnTo>
                  <a:pt x="61916" y="2257954"/>
                </a:lnTo>
                <a:lnTo>
                  <a:pt x="64140" y="2253188"/>
                </a:lnTo>
                <a:lnTo>
                  <a:pt x="66364" y="2248105"/>
                </a:lnTo>
                <a:lnTo>
                  <a:pt x="69222" y="2243021"/>
                </a:lnTo>
                <a:lnTo>
                  <a:pt x="72081" y="2238573"/>
                </a:lnTo>
                <a:lnTo>
                  <a:pt x="75258" y="2233807"/>
                </a:lnTo>
                <a:lnTo>
                  <a:pt x="78752" y="2229359"/>
                </a:lnTo>
                <a:lnTo>
                  <a:pt x="82882" y="2224911"/>
                </a:lnTo>
                <a:lnTo>
                  <a:pt x="429129" y="1842376"/>
                </a:lnTo>
                <a:lnTo>
                  <a:pt x="499967" y="1495425"/>
                </a:lnTo>
                <a:close/>
                <a:moveTo>
                  <a:pt x="2178844" y="1055220"/>
                </a:moveTo>
                <a:lnTo>
                  <a:pt x="2166450" y="1055537"/>
                </a:lnTo>
                <a:lnTo>
                  <a:pt x="2154055" y="1056172"/>
                </a:lnTo>
                <a:lnTo>
                  <a:pt x="2141978" y="1058076"/>
                </a:lnTo>
                <a:lnTo>
                  <a:pt x="2129584" y="1059979"/>
                </a:lnTo>
                <a:lnTo>
                  <a:pt x="2117507" y="1062518"/>
                </a:lnTo>
                <a:lnTo>
                  <a:pt x="2105430" y="1066008"/>
                </a:lnTo>
                <a:lnTo>
                  <a:pt x="2093671" y="1070133"/>
                </a:lnTo>
                <a:lnTo>
                  <a:pt x="2081594" y="1074575"/>
                </a:lnTo>
                <a:lnTo>
                  <a:pt x="2070153" y="1079334"/>
                </a:lnTo>
                <a:lnTo>
                  <a:pt x="2058712" y="1085363"/>
                </a:lnTo>
                <a:lnTo>
                  <a:pt x="2047588" y="1091709"/>
                </a:lnTo>
                <a:lnTo>
                  <a:pt x="2036783" y="1098372"/>
                </a:lnTo>
                <a:lnTo>
                  <a:pt x="2025977" y="1105987"/>
                </a:lnTo>
                <a:lnTo>
                  <a:pt x="2015490" y="1114236"/>
                </a:lnTo>
                <a:lnTo>
                  <a:pt x="2005320" y="1122803"/>
                </a:lnTo>
                <a:lnTo>
                  <a:pt x="1996103" y="1132005"/>
                </a:lnTo>
                <a:lnTo>
                  <a:pt x="1987204" y="1141206"/>
                </a:lnTo>
                <a:lnTo>
                  <a:pt x="1978941" y="1151042"/>
                </a:lnTo>
                <a:lnTo>
                  <a:pt x="1971314" y="1161513"/>
                </a:lnTo>
                <a:lnTo>
                  <a:pt x="1964322" y="1171666"/>
                </a:lnTo>
                <a:lnTo>
                  <a:pt x="1957330" y="1182454"/>
                </a:lnTo>
                <a:lnTo>
                  <a:pt x="1951610" y="1193242"/>
                </a:lnTo>
                <a:lnTo>
                  <a:pt x="1945889" y="1204348"/>
                </a:lnTo>
                <a:lnTo>
                  <a:pt x="1941122" y="1216088"/>
                </a:lnTo>
                <a:lnTo>
                  <a:pt x="1936673" y="1227510"/>
                </a:lnTo>
                <a:lnTo>
                  <a:pt x="1932859" y="1239250"/>
                </a:lnTo>
                <a:lnTo>
                  <a:pt x="1929999" y="1251307"/>
                </a:lnTo>
                <a:lnTo>
                  <a:pt x="1927456" y="1263047"/>
                </a:lnTo>
                <a:lnTo>
                  <a:pt x="1925231" y="1275421"/>
                </a:lnTo>
                <a:lnTo>
                  <a:pt x="1923642" y="1287796"/>
                </a:lnTo>
                <a:lnTo>
                  <a:pt x="1923007" y="1299853"/>
                </a:lnTo>
                <a:lnTo>
                  <a:pt x="1922371" y="1312545"/>
                </a:lnTo>
                <a:lnTo>
                  <a:pt x="1923007" y="1324919"/>
                </a:lnTo>
                <a:lnTo>
                  <a:pt x="1923642" y="1336976"/>
                </a:lnTo>
                <a:lnTo>
                  <a:pt x="1925231" y="1349351"/>
                </a:lnTo>
                <a:lnTo>
                  <a:pt x="1927456" y="1361408"/>
                </a:lnTo>
                <a:lnTo>
                  <a:pt x="1929999" y="1373465"/>
                </a:lnTo>
                <a:lnTo>
                  <a:pt x="1933177" y="1385522"/>
                </a:lnTo>
                <a:lnTo>
                  <a:pt x="1936990" y="1397579"/>
                </a:lnTo>
                <a:lnTo>
                  <a:pt x="1941440" y="1409002"/>
                </a:lnTo>
                <a:lnTo>
                  <a:pt x="1946843" y="1420424"/>
                </a:lnTo>
                <a:lnTo>
                  <a:pt x="1952563" y="1432164"/>
                </a:lnTo>
                <a:lnTo>
                  <a:pt x="1958919" y="1443269"/>
                </a:lnTo>
                <a:lnTo>
                  <a:pt x="1965593" y="1454375"/>
                </a:lnTo>
                <a:lnTo>
                  <a:pt x="1973539" y="1465163"/>
                </a:lnTo>
                <a:lnTo>
                  <a:pt x="1981802" y="1475633"/>
                </a:lnTo>
                <a:lnTo>
                  <a:pt x="1990065" y="1485152"/>
                </a:lnTo>
                <a:lnTo>
                  <a:pt x="1999281" y="1494671"/>
                </a:lnTo>
                <a:lnTo>
                  <a:pt x="2008816" y="1503872"/>
                </a:lnTo>
                <a:lnTo>
                  <a:pt x="2018350" y="1511805"/>
                </a:lnTo>
                <a:lnTo>
                  <a:pt x="2028838" y="1519737"/>
                </a:lnTo>
                <a:lnTo>
                  <a:pt x="2039325" y="1526717"/>
                </a:lnTo>
                <a:lnTo>
                  <a:pt x="2049813" y="1533381"/>
                </a:lnTo>
                <a:lnTo>
                  <a:pt x="2060937" y="1539409"/>
                </a:lnTo>
                <a:lnTo>
                  <a:pt x="2072060" y="1544803"/>
                </a:lnTo>
                <a:lnTo>
                  <a:pt x="2083501" y="1549880"/>
                </a:lnTo>
                <a:lnTo>
                  <a:pt x="2094942" y="1554005"/>
                </a:lnTo>
                <a:lnTo>
                  <a:pt x="2107019" y="1557812"/>
                </a:lnTo>
                <a:lnTo>
                  <a:pt x="2118778" y="1560985"/>
                </a:lnTo>
                <a:lnTo>
                  <a:pt x="2130855" y="1563523"/>
                </a:lnTo>
                <a:lnTo>
                  <a:pt x="2142932" y="1565745"/>
                </a:lnTo>
                <a:lnTo>
                  <a:pt x="2155326" y="1567331"/>
                </a:lnTo>
                <a:lnTo>
                  <a:pt x="2167721" y="1567966"/>
                </a:lnTo>
                <a:lnTo>
                  <a:pt x="2179798" y="1568283"/>
                </a:lnTo>
                <a:lnTo>
                  <a:pt x="2192510" y="1567966"/>
                </a:lnTo>
                <a:lnTo>
                  <a:pt x="2204905" y="1567014"/>
                </a:lnTo>
                <a:lnTo>
                  <a:pt x="2216982" y="1565427"/>
                </a:lnTo>
                <a:lnTo>
                  <a:pt x="2229058" y="1563206"/>
                </a:lnTo>
                <a:lnTo>
                  <a:pt x="2241135" y="1560668"/>
                </a:lnTo>
                <a:lnTo>
                  <a:pt x="2253212" y="1557178"/>
                </a:lnTo>
                <a:lnTo>
                  <a:pt x="2264971" y="1553370"/>
                </a:lnTo>
                <a:lnTo>
                  <a:pt x="2277048" y="1548928"/>
                </a:lnTo>
                <a:lnTo>
                  <a:pt x="2288489" y="1543851"/>
                </a:lnTo>
                <a:lnTo>
                  <a:pt x="2299930" y="1538140"/>
                </a:lnTo>
                <a:lnTo>
                  <a:pt x="2311053" y="1532111"/>
                </a:lnTo>
                <a:lnTo>
                  <a:pt x="2321859" y="1524814"/>
                </a:lnTo>
                <a:lnTo>
                  <a:pt x="2332665" y="1517516"/>
                </a:lnTo>
                <a:lnTo>
                  <a:pt x="2343152" y="1509266"/>
                </a:lnTo>
                <a:lnTo>
                  <a:pt x="2353322" y="1500382"/>
                </a:lnTo>
                <a:lnTo>
                  <a:pt x="2362539" y="1491498"/>
                </a:lnTo>
                <a:lnTo>
                  <a:pt x="2371437" y="1482296"/>
                </a:lnTo>
                <a:lnTo>
                  <a:pt x="2379701" y="1472143"/>
                </a:lnTo>
                <a:lnTo>
                  <a:pt x="2387328" y="1462307"/>
                </a:lnTo>
                <a:lnTo>
                  <a:pt x="2394955" y="1451836"/>
                </a:lnTo>
                <a:lnTo>
                  <a:pt x="2400994" y="1441048"/>
                </a:lnTo>
                <a:lnTo>
                  <a:pt x="2407350" y="1430260"/>
                </a:lnTo>
                <a:lnTo>
                  <a:pt x="2412753" y="1419155"/>
                </a:lnTo>
                <a:lnTo>
                  <a:pt x="2417520" y="1407415"/>
                </a:lnTo>
                <a:lnTo>
                  <a:pt x="2421969" y="1395993"/>
                </a:lnTo>
                <a:lnTo>
                  <a:pt x="2425783" y="1384253"/>
                </a:lnTo>
                <a:lnTo>
                  <a:pt x="2428961" y="1372196"/>
                </a:lnTo>
                <a:lnTo>
                  <a:pt x="2431504" y="1360139"/>
                </a:lnTo>
                <a:lnTo>
                  <a:pt x="2433411" y="1348081"/>
                </a:lnTo>
                <a:lnTo>
                  <a:pt x="2435000" y="1336024"/>
                </a:lnTo>
                <a:lnTo>
                  <a:pt x="2435635" y="1323333"/>
                </a:lnTo>
                <a:lnTo>
                  <a:pt x="2435953" y="1310958"/>
                </a:lnTo>
                <a:lnTo>
                  <a:pt x="2435635" y="1298901"/>
                </a:lnTo>
                <a:lnTo>
                  <a:pt x="2435000" y="1286527"/>
                </a:lnTo>
                <a:lnTo>
                  <a:pt x="2433411" y="1274152"/>
                </a:lnTo>
                <a:lnTo>
                  <a:pt x="2431186" y="1262095"/>
                </a:lnTo>
                <a:lnTo>
                  <a:pt x="2428643" y="1250038"/>
                </a:lnTo>
                <a:lnTo>
                  <a:pt x="2425465" y="1237981"/>
                </a:lnTo>
                <a:lnTo>
                  <a:pt x="2421652" y="1225924"/>
                </a:lnTo>
                <a:lnTo>
                  <a:pt x="2416884" y="1214501"/>
                </a:lnTo>
                <a:lnTo>
                  <a:pt x="2411799" y="1203079"/>
                </a:lnTo>
                <a:lnTo>
                  <a:pt x="2406079" y="1191339"/>
                </a:lnTo>
                <a:lnTo>
                  <a:pt x="2399723" y="1180233"/>
                </a:lnTo>
                <a:lnTo>
                  <a:pt x="2393049" y="1169128"/>
                </a:lnTo>
                <a:lnTo>
                  <a:pt x="2385103" y="1158657"/>
                </a:lnTo>
                <a:lnTo>
                  <a:pt x="2376840" y="1148187"/>
                </a:lnTo>
                <a:lnTo>
                  <a:pt x="2368259" y="1138351"/>
                </a:lnTo>
                <a:lnTo>
                  <a:pt x="2359043" y="1128832"/>
                </a:lnTo>
                <a:lnTo>
                  <a:pt x="2349826" y="1120265"/>
                </a:lnTo>
                <a:lnTo>
                  <a:pt x="2340292" y="1111698"/>
                </a:lnTo>
                <a:lnTo>
                  <a:pt x="2329804" y="1103766"/>
                </a:lnTo>
                <a:lnTo>
                  <a:pt x="2319317" y="1096785"/>
                </a:lnTo>
                <a:lnTo>
                  <a:pt x="2308829" y="1090122"/>
                </a:lnTo>
                <a:lnTo>
                  <a:pt x="2297705" y="1084094"/>
                </a:lnTo>
                <a:lnTo>
                  <a:pt x="2286582" y="1078700"/>
                </a:lnTo>
                <a:lnTo>
                  <a:pt x="2275141" y="1073623"/>
                </a:lnTo>
                <a:lnTo>
                  <a:pt x="2263700" y="1069181"/>
                </a:lnTo>
                <a:lnTo>
                  <a:pt x="2251623" y="1065691"/>
                </a:lnTo>
                <a:lnTo>
                  <a:pt x="2239864" y="1062518"/>
                </a:lnTo>
                <a:lnTo>
                  <a:pt x="2227787" y="1059979"/>
                </a:lnTo>
                <a:lnTo>
                  <a:pt x="2215710" y="1057758"/>
                </a:lnTo>
                <a:lnTo>
                  <a:pt x="2203316" y="1056172"/>
                </a:lnTo>
                <a:lnTo>
                  <a:pt x="2190921" y="1055537"/>
                </a:lnTo>
                <a:lnTo>
                  <a:pt x="2178844" y="1055220"/>
                </a:lnTo>
                <a:close/>
                <a:moveTo>
                  <a:pt x="2144839" y="823913"/>
                </a:moveTo>
                <a:lnTo>
                  <a:pt x="2301519" y="838826"/>
                </a:lnTo>
                <a:lnTo>
                  <a:pt x="2292938" y="930841"/>
                </a:lnTo>
                <a:lnTo>
                  <a:pt x="2302155" y="933379"/>
                </a:lnTo>
                <a:lnTo>
                  <a:pt x="2311053" y="936235"/>
                </a:lnTo>
                <a:lnTo>
                  <a:pt x="2319952" y="939725"/>
                </a:lnTo>
                <a:lnTo>
                  <a:pt x="2328851" y="943215"/>
                </a:lnTo>
                <a:lnTo>
                  <a:pt x="2338067" y="946706"/>
                </a:lnTo>
                <a:lnTo>
                  <a:pt x="2346330" y="950513"/>
                </a:lnTo>
                <a:lnTo>
                  <a:pt x="2354911" y="954638"/>
                </a:lnTo>
                <a:lnTo>
                  <a:pt x="2363492" y="959080"/>
                </a:lnTo>
                <a:lnTo>
                  <a:pt x="2372073" y="963522"/>
                </a:lnTo>
                <a:lnTo>
                  <a:pt x="2380654" y="968282"/>
                </a:lnTo>
                <a:lnTo>
                  <a:pt x="2388917" y="973358"/>
                </a:lnTo>
                <a:lnTo>
                  <a:pt x="2397180" y="978752"/>
                </a:lnTo>
                <a:lnTo>
                  <a:pt x="2405125" y="983829"/>
                </a:lnTo>
                <a:lnTo>
                  <a:pt x="2413071" y="989540"/>
                </a:lnTo>
                <a:lnTo>
                  <a:pt x="2420698" y="995569"/>
                </a:lnTo>
                <a:lnTo>
                  <a:pt x="2428643" y="1001280"/>
                </a:lnTo>
                <a:lnTo>
                  <a:pt x="2499197" y="943215"/>
                </a:lnTo>
                <a:lnTo>
                  <a:pt x="2599625" y="1063787"/>
                </a:lnTo>
                <a:lnTo>
                  <a:pt x="2529389" y="1122169"/>
                </a:lnTo>
                <a:lnTo>
                  <a:pt x="2533839" y="1130736"/>
                </a:lnTo>
                <a:lnTo>
                  <a:pt x="2538288" y="1139620"/>
                </a:lnTo>
                <a:lnTo>
                  <a:pt x="2542420" y="1148504"/>
                </a:lnTo>
                <a:lnTo>
                  <a:pt x="2546551" y="1157388"/>
                </a:lnTo>
                <a:lnTo>
                  <a:pt x="2550365" y="1166590"/>
                </a:lnTo>
                <a:lnTo>
                  <a:pt x="2553543" y="1175474"/>
                </a:lnTo>
                <a:lnTo>
                  <a:pt x="2557039" y="1184676"/>
                </a:lnTo>
                <a:lnTo>
                  <a:pt x="2559899" y="1193560"/>
                </a:lnTo>
                <a:lnTo>
                  <a:pt x="2562442" y="1203079"/>
                </a:lnTo>
                <a:lnTo>
                  <a:pt x="2564984" y="1212280"/>
                </a:lnTo>
                <a:lnTo>
                  <a:pt x="2567527" y="1221799"/>
                </a:lnTo>
                <a:lnTo>
                  <a:pt x="2569116" y="1231318"/>
                </a:lnTo>
                <a:lnTo>
                  <a:pt x="2571022" y="1240519"/>
                </a:lnTo>
                <a:lnTo>
                  <a:pt x="2572612" y="1249721"/>
                </a:lnTo>
                <a:lnTo>
                  <a:pt x="2574201" y="1259557"/>
                </a:lnTo>
                <a:lnTo>
                  <a:pt x="2575154" y="1269075"/>
                </a:lnTo>
                <a:lnTo>
                  <a:pt x="2665412" y="1277325"/>
                </a:lnTo>
                <a:lnTo>
                  <a:pt x="2650793" y="1433433"/>
                </a:lnTo>
                <a:lnTo>
                  <a:pt x="2561170" y="1425501"/>
                </a:lnTo>
                <a:lnTo>
                  <a:pt x="2558310" y="1434385"/>
                </a:lnTo>
                <a:lnTo>
                  <a:pt x="2555132" y="1443587"/>
                </a:lnTo>
                <a:lnTo>
                  <a:pt x="2552272" y="1452471"/>
                </a:lnTo>
                <a:lnTo>
                  <a:pt x="2548458" y="1461355"/>
                </a:lnTo>
                <a:lnTo>
                  <a:pt x="2544644" y="1470239"/>
                </a:lnTo>
                <a:lnTo>
                  <a:pt x="2540513" y="1479124"/>
                </a:lnTo>
                <a:lnTo>
                  <a:pt x="2536381" y="1488008"/>
                </a:lnTo>
                <a:lnTo>
                  <a:pt x="2531932" y="1496575"/>
                </a:lnTo>
                <a:lnTo>
                  <a:pt x="2527482" y="1505142"/>
                </a:lnTo>
                <a:lnTo>
                  <a:pt x="2522715" y="1513708"/>
                </a:lnTo>
                <a:lnTo>
                  <a:pt x="2517630" y="1521958"/>
                </a:lnTo>
                <a:lnTo>
                  <a:pt x="2512228" y="1530208"/>
                </a:lnTo>
                <a:lnTo>
                  <a:pt x="2506825" y="1538140"/>
                </a:lnTo>
                <a:lnTo>
                  <a:pt x="2501104" y="1546390"/>
                </a:lnTo>
                <a:lnTo>
                  <a:pt x="2495384" y="1554322"/>
                </a:lnTo>
                <a:lnTo>
                  <a:pt x="2489027" y="1561937"/>
                </a:lnTo>
                <a:lnTo>
                  <a:pt x="2546233" y="1631107"/>
                </a:lnTo>
                <a:lnTo>
                  <a:pt x="2425465" y="1731372"/>
                </a:lnTo>
                <a:lnTo>
                  <a:pt x="2367624" y="1662202"/>
                </a:lnTo>
                <a:lnTo>
                  <a:pt x="2359043" y="1666644"/>
                </a:lnTo>
                <a:lnTo>
                  <a:pt x="2350144" y="1671086"/>
                </a:lnTo>
                <a:lnTo>
                  <a:pt x="2341245" y="1675211"/>
                </a:lnTo>
                <a:lnTo>
                  <a:pt x="2332029" y="1679018"/>
                </a:lnTo>
                <a:lnTo>
                  <a:pt x="2323130" y="1682826"/>
                </a:lnTo>
                <a:lnTo>
                  <a:pt x="2313596" y="1685999"/>
                </a:lnTo>
                <a:lnTo>
                  <a:pt x="2304697" y="1689489"/>
                </a:lnTo>
                <a:lnTo>
                  <a:pt x="2295481" y="1692344"/>
                </a:lnTo>
                <a:lnTo>
                  <a:pt x="2286264" y="1694883"/>
                </a:lnTo>
                <a:lnTo>
                  <a:pt x="2277048" y="1697421"/>
                </a:lnTo>
                <a:lnTo>
                  <a:pt x="2267196" y="1699642"/>
                </a:lnTo>
                <a:lnTo>
                  <a:pt x="2257979" y="1701546"/>
                </a:lnTo>
                <a:lnTo>
                  <a:pt x="2248763" y="1703450"/>
                </a:lnTo>
                <a:lnTo>
                  <a:pt x="2238910" y="1705036"/>
                </a:lnTo>
                <a:lnTo>
                  <a:pt x="2229376" y="1706623"/>
                </a:lnTo>
                <a:lnTo>
                  <a:pt x="2220160" y="1707575"/>
                </a:lnTo>
                <a:lnTo>
                  <a:pt x="2211579" y="1797051"/>
                </a:lnTo>
                <a:lnTo>
                  <a:pt x="2054898" y="1782138"/>
                </a:lnTo>
                <a:lnTo>
                  <a:pt x="2063161" y="1692027"/>
                </a:lnTo>
                <a:lnTo>
                  <a:pt x="2054263" y="1689172"/>
                </a:lnTo>
                <a:lnTo>
                  <a:pt x="2045364" y="1685999"/>
                </a:lnTo>
                <a:lnTo>
                  <a:pt x="2035830" y="1682826"/>
                </a:lnTo>
                <a:lnTo>
                  <a:pt x="2027249" y="1679335"/>
                </a:lnTo>
                <a:lnTo>
                  <a:pt x="2018350" y="1675528"/>
                </a:lnTo>
                <a:lnTo>
                  <a:pt x="2009451" y="1671720"/>
                </a:lnTo>
                <a:lnTo>
                  <a:pt x="2000870" y="1667596"/>
                </a:lnTo>
                <a:lnTo>
                  <a:pt x="1992289" y="1663154"/>
                </a:lnTo>
                <a:lnTo>
                  <a:pt x="1984026" y="1658077"/>
                </a:lnTo>
                <a:lnTo>
                  <a:pt x="1975445" y="1653317"/>
                </a:lnTo>
                <a:lnTo>
                  <a:pt x="1967182" y="1648241"/>
                </a:lnTo>
                <a:lnTo>
                  <a:pt x="1958919" y="1642847"/>
                </a:lnTo>
                <a:lnTo>
                  <a:pt x="1950656" y="1637453"/>
                </a:lnTo>
                <a:lnTo>
                  <a:pt x="1943029" y="1631742"/>
                </a:lnTo>
                <a:lnTo>
                  <a:pt x="1935084" y="1626030"/>
                </a:lnTo>
                <a:lnTo>
                  <a:pt x="1927456" y="1620002"/>
                </a:lnTo>
                <a:lnTo>
                  <a:pt x="1857220" y="1678384"/>
                </a:lnTo>
                <a:lnTo>
                  <a:pt x="1756792" y="1556860"/>
                </a:lnTo>
                <a:lnTo>
                  <a:pt x="1827346" y="1498478"/>
                </a:lnTo>
                <a:lnTo>
                  <a:pt x="1822896" y="1489594"/>
                </a:lnTo>
                <a:lnTo>
                  <a:pt x="1818765" y="1481027"/>
                </a:lnTo>
                <a:lnTo>
                  <a:pt x="1814633" y="1472143"/>
                </a:lnTo>
                <a:lnTo>
                  <a:pt x="1810820" y="1463259"/>
                </a:lnTo>
                <a:lnTo>
                  <a:pt x="1807324" y="1454057"/>
                </a:lnTo>
                <a:lnTo>
                  <a:pt x="1803828" y="1445173"/>
                </a:lnTo>
                <a:lnTo>
                  <a:pt x="1800968" y="1436289"/>
                </a:lnTo>
                <a:lnTo>
                  <a:pt x="1797789" y="1426770"/>
                </a:lnTo>
                <a:lnTo>
                  <a:pt x="1795247" y="1417569"/>
                </a:lnTo>
                <a:lnTo>
                  <a:pt x="1792704" y="1408367"/>
                </a:lnTo>
                <a:lnTo>
                  <a:pt x="1790480" y="1399166"/>
                </a:lnTo>
                <a:lnTo>
                  <a:pt x="1788573" y="1389647"/>
                </a:lnTo>
                <a:lnTo>
                  <a:pt x="1786666" y="1380445"/>
                </a:lnTo>
                <a:lnTo>
                  <a:pt x="1785395" y="1371244"/>
                </a:lnTo>
                <a:lnTo>
                  <a:pt x="1783170" y="1352206"/>
                </a:lnTo>
                <a:lnTo>
                  <a:pt x="1690687" y="1343639"/>
                </a:lnTo>
                <a:lnTo>
                  <a:pt x="1705624" y="1186897"/>
                </a:lnTo>
                <a:lnTo>
                  <a:pt x="1798425" y="1195781"/>
                </a:lnTo>
                <a:lnTo>
                  <a:pt x="1801285" y="1186897"/>
                </a:lnTo>
                <a:lnTo>
                  <a:pt x="1804146" y="1178012"/>
                </a:lnTo>
                <a:lnTo>
                  <a:pt x="1807642" y="1169128"/>
                </a:lnTo>
                <a:lnTo>
                  <a:pt x="1810820" y="1160244"/>
                </a:lnTo>
                <a:lnTo>
                  <a:pt x="1814633" y="1151677"/>
                </a:lnTo>
                <a:lnTo>
                  <a:pt x="1818765" y="1142793"/>
                </a:lnTo>
                <a:lnTo>
                  <a:pt x="1822896" y="1134226"/>
                </a:lnTo>
                <a:lnTo>
                  <a:pt x="1827346" y="1125659"/>
                </a:lnTo>
                <a:lnTo>
                  <a:pt x="1831795" y="1117727"/>
                </a:lnTo>
                <a:lnTo>
                  <a:pt x="1836562" y="1109160"/>
                </a:lnTo>
                <a:lnTo>
                  <a:pt x="1841329" y="1100910"/>
                </a:lnTo>
                <a:lnTo>
                  <a:pt x="1846732" y="1092661"/>
                </a:lnTo>
                <a:lnTo>
                  <a:pt x="1852135" y="1085045"/>
                </a:lnTo>
                <a:lnTo>
                  <a:pt x="1857856" y="1077113"/>
                </a:lnTo>
                <a:lnTo>
                  <a:pt x="1863894" y="1069181"/>
                </a:lnTo>
                <a:lnTo>
                  <a:pt x="1869615" y="1061566"/>
                </a:lnTo>
                <a:lnTo>
                  <a:pt x="1810184" y="989858"/>
                </a:lnTo>
                <a:lnTo>
                  <a:pt x="1931588" y="889593"/>
                </a:lnTo>
                <a:lnTo>
                  <a:pt x="1990700" y="961301"/>
                </a:lnTo>
                <a:lnTo>
                  <a:pt x="1999599" y="956859"/>
                </a:lnTo>
                <a:lnTo>
                  <a:pt x="2008180" y="952734"/>
                </a:lnTo>
                <a:lnTo>
                  <a:pt x="2017079" y="948609"/>
                </a:lnTo>
                <a:lnTo>
                  <a:pt x="2025977" y="944485"/>
                </a:lnTo>
                <a:lnTo>
                  <a:pt x="2034876" y="941312"/>
                </a:lnTo>
                <a:lnTo>
                  <a:pt x="2043775" y="937504"/>
                </a:lnTo>
                <a:lnTo>
                  <a:pt x="2052673" y="934649"/>
                </a:lnTo>
                <a:lnTo>
                  <a:pt x="2061890" y="931476"/>
                </a:lnTo>
                <a:lnTo>
                  <a:pt x="2071424" y="928937"/>
                </a:lnTo>
                <a:lnTo>
                  <a:pt x="2080641" y="926399"/>
                </a:lnTo>
                <a:lnTo>
                  <a:pt x="2089539" y="924178"/>
                </a:lnTo>
                <a:lnTo>
                  <a:pt x="2099074" y="922274"/>
                </a:lnTo>
                <a:lnTo>
                  <a:pt x="2108608" y="920370"/>
                </a:lnTo>
                <a:lnTo>
                  <a:pt x="2117825" y="918784"/>
                </a:lnTo>
                <a:lnTo>
                  <a:pt x="2127041" y="917515"/>
                </a:lnTo>
                <a:lnTo>
                  <a:pt x="2136258" y="916246"/>
                </a:lnTo>
                <a:lnTo>
                  <a:pt x="2144839" y="823913"/>
                </a:lnTo>
                <a:close/>
                <a:moveTo>
                  <a:pt x="1509345" y="590550"/>
                </a:moveTo>
                <a:lnTo>
                  <a:pt x="1518239" y="590550"/>
                </a:lnTo>
                <a:lnTo>
                  <a:pt x="1526817" y="591817"/>
                </a:lnTo>
                <a:lnTo>
                  <a:pt x="1535394" y="593400"/>
                </a:lnTo>
                <a:lnTo>
                  <a:pt x="1543971" y="596250"/>
                </a:lnTo>
                <a:lnTo>
                  <a:pt x="1551912" y="599417"/>
                </a:lnTo>
                <a:lnTo>
                  <a:pt x="1559854" y="603534"/>
                </a:lnTo>
                <a:lnTo>
                  <a:pt x="1566843" y="608601"/>
                </a:lnTo>
                <a:lnTo>
                  <a:pt x="1570655" y="611452"/>
                </a:lnTo>
                <a:lnTo>
                  <a:pt x="1574149" y="614302"/>
                </a:lnTo>
                <a:lnTo>
                  <a:pt x="1577326" y="617469"/>
                </a:lnTo>
                <a:lnTo>
                  <a:pt x="1580185" y="620953"/>
                </a:lnTo>
                <a:lnTo>
                  <a:pt x="1583362" y="624753"/>
                </a:lnTo>
                <a:lnTo>
                  <a:pt x="1586221" y="628237"/>
                </a:lnTo>
                <a:lnTo>
                  <a:pt x="1588762" y="632037"/>
                </a:lnTo>
                <a:lnTo>
                  <a:pt x="1591621" y="636154"/>
                </a:lnTo>
                <a:lnTo>
                  <a:pt x="1593845" y="640271"/>
                </a:lnTo>
                <a:lnTo>
                  <a:pt x="1595433" y="644388"/>
                </a:lnTo>
                <a:lnTo>
                  <a:pt x="1597339" y="648505"/>
                </a:lnTo>
                <a:lnTo>
                  <a:pt x="1598927" y="652305"/>
                </a:lnTo>
                <a:lnTo>
                  <a:pt x="1601151" y="660856"/>
                </a:lnTo>
                <a:lnTo>
                  <a:pt x="1603057" y="669724"/>
                </a:lnTo>
                <a:lnTo>
                  <a:pt x="1603375" y="678274"/>
                </a:lnTo>
                <a:lnTo>
                  <a:pt x="1603375" y="687142"/>
                </a:lnTo>
                <a:lnTo>
                  <a:pt x="1602104" y="696326"/>
                </a:lnTo>
                <a:lnTo>
                  <a:pt x="1600516" y="704560"/>
                </a:lnTo>
                <a:lnTo>
                  <a:pt x="1597657" y="712794"/>
                </a:lnTo>
                <a:lnTo>
                  <a:pt x="1594480" y="721028"/>
                </a:lnTo>
                <a:lnTo>
                  <a:pt x="1590350" y="728629"/>
                </a:lnTo>
                <a:lnTo>
                  <a:pt x="1585268" y="736229"/>
                </a:lnTo>
                <a:lnTo>
                  <a:pt x="1582409" y="739396"/>
                </a:lnTo>
                <a:lnTo>
                  <a:pt x="1579550" y="742880"/>
                </a:lnTo>
                <a:lnTo>
                  <a:pt x="1576373" y="746047"/>
                </a:lnTo>
                <a:lnTo>
                  <a:pt x="1572879" y="749531"/>
                </a:lnTo>
                <a:lnTo>
                  <a:pt x="1569384" y="752381"/>
                </a:lnTo>
                <a:lnTo>
                  <a:pt x="1565572" y="755231"/>
                </a:lnTo>
                <a:lnTo>
                  <a:pt x="1297460" y="948099"/>
                </a:lnTo>
                <a:lnTo>
                  <a:pt x="1293012" y="951266"/>
                </a:lnTo>
                <a:lnTo>
                  <a:pt x="1288247" y="953799"/>
                </a:lnTo>
                <a:lnTo>
                  <a:pt x="1283164" y="956333"/>
                </a:lnTo>
                <a:lnTo>
                  <a:pt x="1278399" y="958550"/>
                </a:lnTo>
                <a:lnTo>
                  <a:pt x="1273634" y="960450"/>
                </a:lnTo>
                <a:lnTo>
                  <a:pt x="1268869" y="962033"/>
                </a:lnTo>
                <a:lnTo>
                  <a:pt x="1263469" y="962983"/>
                </a:lnTo>
                <a:lnTo>
                  <a:pt x="1258386" y="964250"/>
                </a:lnTo>
                <a:lnTo>
                  <a:pt x="1253304" y="964884"/>
                </a:lnTo>
                <a:lnTo>
                  <a:pt x="1247903" y="965200"/>
                </a:lnTo>
                <a:lnTo>
                  <a:pt x="1242820" y="965200"/>
                </a:lnTo>
                <a:lnTo>
                  <a:pt x="1237102" y="964884"/>
                </a:lnTo>
                <a:lnTo>
                  <a:pt x="1232020" y="964567"/>
                </a:lnTo>
                <a:lnTo>
                  <a:pt x="1226937" y="963617"/>
                </a:lnTo>
                <a:lnTo>
                  <a:pt x="1221537" y="962667"/>
                </a:lnTo>
                <a:lnTo>
                  <a:pt x="1216454" y="961083"/>
                </a:lnTo>
                <a:lnTo>
                  <a:pt x="1006475" y="894894"/>
                </a:lnTo>
                <a:lnTo>
                  <a:pt x="1009652" y="885393"/>
                </a:lnTo>
                <a:lnTo>
                  <a:pt x="1013464" y="875259"/>
                </a:lnTo>
                <a:lnTo>
                  <a:pt x="1017911" y="862591"/>
                </a:lnTo>
                <a:lnTo>
                  <a:pt x="1022676" y="847706"/>
                </a:lnTo>
                <a:lnTo>
                  <a:pt x="1027123" y="832188"/>
                </a:lnTo>
                <a:lnTo>
                  <a:pt x="1029029" y="824271"/>
                </a:lnTo>
                <a:lnTo>
                  <a:pt x="1030935" y="816353"/>
                </a:lnTo>
                <a:lnTo>
                  <a:pt x="1031888" y="808753"/>
                </a:lnTo>
                <a:lnTo>
                  <a:pt x="1033159" y="801469"/>
                </a:lnTo>
                <a:lnTo>
                  <a:pt x="1033794" y="793868"/>
                </a:lnTo>
                <a:lnTo>
                  <a:pt x="1033794" y="786584"/>
                </a:lnTo>
                <a:lnTo>
                  <a:pt x="1033794" y="778666"/>
                </a:lnTo>
                <a:lnTo>
                  <a:pt x="1033477" y="770749"/>
                </a:lnTo>
                <a:lnTo>
                  <a:pt x="1032841" y="762832"/>
                </a:lnTo>
                <a:lnTo>
                  <a:pt x="1031888" y="755548"/>
                </a:lnTo>
                <a:lnTo>
                  <a:pt x="1029665" y="740980"/>
                </a:lnTo>
                <a:lnTo>
                  <a:pt x="1027441" y="727995"/>
                </a:lnTo>
                <a:lnTo>
                  <a:pt x="1025217" y="718178"/>
                </a:lnTo>
                <a:lnTo>
                  <a:pt x="1022994" y="708994"/>
                </a:lnTo>
                <a:lnTo>
                  <a:pt x="1227572" y="773599"/>
                </a:lnTo>
                <a:lnTo>
                  <a:pt x="1458835" y="607651"/>
                </a:lnTo>
                <a:lnTo>
                  <a:pt x="1462965" y="605118"/>
                </a:lnTo>
                <a:lnTo>
                  <a:pt x="1467095" y="602268"/>
                </a:lnTo>
                <a:lnTo>
                  <a:pt x="1470589" y="600051"/>
                </a:lnTo>
                <a:lnTo>
                  <a:pt x="1474719" y="598467"/>
                </a:lnTo>
                <a:lnTo>
                  <a:pt x="1479166" y="596567"/>
                </a:lnTo>
                <a:lnTo>
                  <a:pt x="1483296" y="594984"/>
                </a:lnTo>
                <a:lnTo>
                  <a:pt x="1491873" y="592767"/>
                </a:lnTo>
                <a:lnTo>
                  <a:pt x="1500768" y="591183"/>
                </a:lnTo>
                <a:lnTo>
                  <a:pt x="1509345" y="590550"/>
                </a:lnTo>
                <a:close/>
                <a:moveTo>
                  <a:pt x="690596" y="539750"/>
                </a:moveTo>
                <a:lnTo>
                  <a:pt x="691548" y="539750"/>
                </a:lnTo>
                <a:lnTo>
                  <a:pt x="693769" y="540067"/>
                </a:lnTo>
                <a:lnTo>
                  <a:pt x="702016" y="540702"/>
                </a:lnTo>
                <a:lnTo>
                  <a:pt x="727394" y="541020"/>
                </a:lnTo>
                <a:lnTo>
                  <a:pt x="757531" y="541655"/>
                </a:lnTo>
                <a:lnTo>
                  <a:pt x="770854" y="541972"/>
                </a:lnTo>
                <a:lnTo>
                  <a:pt x="781640" y="543242"/>
                </a:lnTo>
                <a:lnTo>
                  <a:pt x="781957" y="543242"/>
                </a:lnTo>
                <a:lnTo>
                  <a:pt x="785763" y="546734"/>
                </a:lnTo>
                <a:lnTo>
                  <a:pt x="789887" y="552130"/>
                </a:lnTo>
                <a:lnTo>
                  <a:pt x="794646" y="558479"/>
                </a:lnTo>
                <a:lnTo>
                  <a:pt x="799404" y="566415"/>
                </a:lnTo>
                <a:lnTo>
                  <a:pt x="804797" y="576573"/>
                </a:lnTo>
                <a:lnTo>
                  <a:pt x="809872" y="588001"/>
                </a:lnTo>
                <a:lnTo>
                  <a:pt x="812093" y="594668"/>
                </a:lnTo>
                <a:lnTo>
                  <a:pt x="814631" y="602286"/>
                </a:lnTo>
                <a:lnTo>
                  <a:pt x="817169" y="609905"/>
                </a:lnTo>
                <a:lnTo>
                  <a:pt x="820024" y="618476"/>
                </a:lnTo>
                <a:lnTo>
                  <a:pt x="822244" y="627364"/>
                </a:lnTo>
                <a:lnTo>
                  <a:pt x="824465" y="637205"/>
                </a:lnTo>
                <a:lnTo>
                  <a:pt x="826685" y="647681"/>
                </a:lnTo>
                <a:lnTo>
                  <a:pt x="828906" y="658791"/>
                </a:lnTo>
                <a:lnTo>
                  <a:pt x="830809" y="670537"/>
                </a:lnTo>
                <a:lnTo>
                  <a:pt x="832395" y="683235"/>
                </a:lnTo>
                <a:lnTo>
                  <a:pt x="834299" y="696567"/>
                </a:lnTo>
                <a:lnTo>
                  <a:pt x="835885" y="710535"/>
                </a:lnTo>
                <a:lnTo>
                  <a:pt x="836836" y="725454"/>
                </a:lnTo>
                <a:lnTo>
                  <a:pt x="838105" y="741644"/>
                </a:lnTo>
                <a:lnTo>
                  <a:pt x="839057" y="757834"/>
                </a:lnTo>
                <a:lnTo>
                  <a:pt x="840009" y="775611"/>
                </a:lnTo>
                <a:lnTo>
                  <a:pt x="840326" y="794022"/>
                </a:lnTo>
                <a:lnTo>
                  <a:pt x="840643" y="813069"/>
                </a:lnTo>
                <a:lnTo>
                  <a:pt x="840326" y="833703"/>
                </a:lnTo>
                <a:lnTo>
                  <a:pt x="840326" y="854972"/>
                </a:lnTo>
                <a:lnTo>
                  <a:pt x="844767" y="839735"/>
                </a:lnTo>
                <a:lnTo>
                  <a:pt x="849208" y="824497"/>
                </a:lnTo>
                <a:lnTo>
                  <a:pt x="857456" y="794975"/>
                </a:lnTo>
                <a:lnTo>
                  <a:pt x="864435" y="767992"/>
                </a:lnTo>
                <a:lnTo>
                  <a:pt x="870145" y="742914"/>
                </a:lnTo>
                <a:lnTo>
                  <a:pt x="878710" y="705456"/>
                </a:lnTo>
                <a:lnTo>
                  <a:pt x="881248" y="694028"/>
                </a:lnTo>
                <a:lnTo>
                  <a:pt x="882517" y="688314"/>
                </a:lnTo>
                <a:lnTo>
                  <a:pt x="878076" y="679425"/>
                </a:lnTo>
                <a:lnTo>
                  <a:pt x="874586" y="670854"/>
                </a:lnTo>
                <a:lnTo>
                  <a:pt x="871097" y="663236"/>
                </a:lnTo>
                <a:lnTo>
                  <a:pt x="868559" y="655617"/>
                </a:lnTo>
                <a:lnTo>
                  <a:pt x="864752" y="644506"/>
                </a:lnTo>
                <a:lnTo>
                  <a:pt x="863801" y="640380"/>
                </a:lnTo>
                <a:lnTo>
                  <a:pt x="867290" y="637205"/>
                </a:lnTo>
                <a:lnTo>
                  <a:pt x="876489" y="629269"/>
                </a:lnTo>
                <a:lnTo>
                  <a:pt x="881882" y="624507"/>
                </a:lnTo>
                <a:lnTo>
                  <a:pt x="888227" y="619746"/>
                </a:lnTo>
                <a:lnTo>
                  <a:pt x="894571" y="615619"/>
                </a:lnTo>
                <a:lnTo>
                  <a:pt x="900598" y="611810"/>
                </a:lnTo>
                <a:lnTo>
                  <a:pt x="921535" y="619746"/>
                </a:lnTo>
                <a:lnTo>
                  <a:pt x="939300" y="659426"/>
                </a:lnTo>
                <a:lnTo>
                  <a:pt x="934224" y="671172"/>
                </a:lnTo>
                <a:lnTo>
                  <a:pt x="928514" y="683235"/>
                </a:lnTo>
                <a:lnTo>
                  <a:pt x="922487" y="695932"/>
                </a:lnTo>
                <a:lnTo>
                  <a:pt x="923439" y="707043"/>
                </a:lnTo>
                <a:lnTo>
                  <a:pt x="924073" y="720693"/>
                </a:lnTo>
                <a:lnTo>
                  <a:pt x="924708" y="736248"/>
                </a:lnTo>
                <a:lnTo>
                  <a:pt x="924073" y="753390"/>
                </a:lnTo>
                <a:lnTo>
                  <a:pt x="923439" y="790213"/>
                </a:lnTo>
                <a:lnTo>
                  <a:pt x="921852" y="827354"/>
                </a:lnTo>
                <a:lnTo>
                  <a:pt x="920266" y="862273"/>
                </a:lnTo>
                <a:lnTo>
                  <a:pt x="918680" y="891161"/>
                </a:lnTo>
                <a:lnTo>
                  <a:pt x="916777" y="918461"/>
                </a:lnTo>
                <a:lnTo>
                  <a:pt x="918680" y="913382"/>
                </a:lnTo>
                <a:lnTo>
                  <a:pt x="923756" y="899097"/>
                </a:lnTo>
                <a:lnTo>
                  <a:pt x="927245" y="888621"/>
                </a:lnTo>
                <a:lnTo>
                  <a:pt x="931369" y="876241"/>
                </a:lnTo>
                <a:lnTo>
                  <a:pt x="935493" y="862273"/>
                </a:lnTo>
                <a:lnTo>
                  <a:pt x="939934" y="846401"/>
                </a:lnTo>
                <a:lnTo>
                  <a:pt x="943741" y="828307"/>
                </a:lnTo>
                <a:lnTo>
                  <a:pt x="947865" y="809260"/>
                </a:lnTo>
                <a:lnTo>
                  <a:pt x="951672" y="788626"/>
                </a:lnTo>
                <a:lnTo>
                  <a:pt x="955161" y="766722"/>
                </a:lnTo>
                <a:lnTo>
                  <a:pt x="957699" y="743866"/>
                </a:lnTo>
                <a:lnTo>
                  <a:pt x="958650" y="731486"/>
                </a:lnTo>
                <a:lnTo>
                  <a:pt x="959919" y="719106"/>
                </a:lnTo>
                <a:lnTo>
                  <a:pt x="960554" y="707043"/>
                </a:lnTo>
                <a:lnTo>
                  <a:pt x="960871" y="694345"/>
                </a:lnTo>
                <a:lnTo>
                  <a:pt x="961188" y="681330"/>
                </a:lnTo>
                <a:lnTo>
                  <a:pt x="961188" y="668315"/>
                </a:lnTo>
                <a:lnTo>
                  <a:pt x="969119" y="649268"/>
                </a:lnTo>
                <a:lnTo>
                  <a:pt x="970705" y="651173"/>
                </a:lnTo>
                <a:lnTo>
                  <a:pt x="973877" y="656887"/>
                </a:lnTo>
                <a:lnTo>
                  <a:pt x="976098" y="661331"/>
                </a:lnTo>
                <a:lnTo>
                  <a:pt x="978636" y="666727"/>
                </a:lnTo>
                <a:lnTo>
                  <a:pt x="981808" y="673076"/>
                </a:lnTo>
                <a:lnTo>
                  <a:pt x="984663" y="681012"/>
                </a:lnTo>
                <a:lnTo>
                  <a:pt x="988152" y="690218"/>
                </a:lnTo>
                <a:lnTo>
                  <a:pt x="991007" y="700377"/>
                </a:lnTo>
                <a:lnTo>
                  <a:pt x="993862" y="712122"/>
                </a:lnTo>
                <a:lnTo>
                  <a:pt x="997035" y="724820"/>
                </a:lnTo>
                <a:lnTo>
                  <a:pt x="999572" y="739422"/>
                </a:lnTo>
                <a:lnTo>
                  <a:pt x="1002110" y="754977"/>
                </a:lnTo>
                <a:lnTo>
                  <a:pt x="1004013" y="772436"/>
                </a:lnTo>
                <a:lnTo>
                  <a:pt x="1005600" y="790848"/>
                </a:lnTo>
                <a:lnTo>
                  <a:pt x="1005282" y="796244"/>
                </a:lnTo>
                <a:lnTo>
                  <a:pt x="1004331" y="801958"/>
                </a:lnTo>
                <a:lnTo>
                  <a:pt x="1003062" y="809260"/>
                </a:lnTo>
                <a:lnTo>
                  <a:pt x="1000841" y="817196"/>
                </a:lnTo>
                <a:lnTo>
                  <a:pt x="997669" y="826085"/>
                </a:lnTo>
                <a:lnTo>
                  <a:pt x="994497" y="836243"/>
                </a:lnTo>
                <a:lnTo>
                  <a:pt x="985932" y="858781"/>
                </a:lnTo>
                <a:lnTo>
                  <a:pt x="964043" y="914969"/>
                </a:lnTo>
                <a:lnTo>
                  <a:pt x="951037" y="948301"/>
                </a:lnTo>
                <a:lnTo>
                  <a:pt x="937079" y="985442"/>
                </a:lnTo>
                <a:lnTo>
                  <a:pt x="922804" y="1025757"/>
                </a:lnTo>
                <a:lnTo>
                  <a:pt x="915825" y="1047026"/>
                </a:lnTo>
                <a:lnTo>
                  <a:pt x="908212" y="1068929"/>
                </a:lnTo>
                <a:lnTo>
                  <a:pt x="901233" y="1091785"/>
                </a:lnTo>
                <a:lnTo>
                  <a:pt x="894254" y="1115594"/>
                </a:lnTo>
                <a:lnTo>
                  <a:pt x="886958" y="1139719"/>
                </a:lnTo>
                <a:lnTo>
                  <a:pt x="880296" y="1165115"/>
                </a:lnTo>
                <a:lnTo>
                  <a:pt x="873634" y="1190510"/>
                </a:lnTo>
                <a:lnTo>
                  <a:pt x="867290" y="1217493"/>
                </a:lnTo>
                <a:lnTo>
                  <a:pt x="861580" y="1244476"/>
                </a:lnTo>
                <a:lnTo>
                  <a:pt x="855553" y="1272728"/>
                </a:lnTo>
                <a:lnTo>
                  <a:pt x="850477" y="1301298"/>
                </a:lnTo>
                <a:lnTo>
                  <a:pt x="845402" y="1330821"/>
                </a:lnTo>
                <a:lnTo>
                  <a:pt x="840960" y="1360343"/>
                </a:lnTo>
                <a:lnTo>
                  <a:pt x="836836" y="1391135"/>
                </a:lnTo>
                <a:lnTo>
                  <a:pt x="874586" y="1434307"/>
                </a:lnTo>
                <a:lnTo>
                  <a:pt x="949768" y="1522239"/>
                </a:lnTo>
                <a:lnTo>
                  <a:pt x="990373" y="1569856"/>
                </a:lnTo>
                <a:lnTo>
                  <a:pt x="1026219" y="1613028"/>
                </a:lnTo>
                <a:lnTo>
                  <a:pt x="1041129" y="1631122"/>
                </a:lnTo>
                <a:lnTo>
                  <a:pt x="1053500" y="1646042"/>
                </a:lnTo>
                <a:lnTo>
                  <a:pt x="1062065" y="1657470"/>
                </a:lnTo>
                <a:lnTo>
                  <a:pt x="1066824" y="1664137"/>
                </a:lnTo>
                <a:lnTo>
                  <a:pt x="1071582" y="1671755"/>
                </a:lnTo>
                <a:lnTo>
                  <a:pt x="1077292" y="1680326"/>
                </a:lnTo>
                <a:lnTo>
                  <a:pt x="1080147" y="1685088"/>
                </a:lnTo>
                <a:lnTo>
                  <a:pt x="1083002" y="1689850"/>
                </a:lnTo>
                <a:lnTo>
                  <a:pt x="1085540" y="1695564"/>
                </a:lnTo>
                <a:lnTo>
                  <a:pt x="1088395" y="1701913"/>
                </a:lnTo>
                <a:lnTo>
                  <a:pt x="1090616" y="1708579"/>
                </a:lnTo>
                <a:lnTo>
                  <a:pt x="1091884" y="1715880"/>
                </a:lnTo>
                <a:lnTo>
                  <a:pt x="1093471" y="1724134"/>
                </a:lnTo>
                <a:lnTo>
                  <a:pt x="1093788" y="1733022"/>
                </a:lnTo>
                <a:lnTo>
                  <a:pt x="1093788" y="1742545"/>
                </a:lnTo>
                <a:lnTo>
                  <a:pt x="1092836" y="1753021"/>
                </a:lnTo>
                <a:lnTo>
                  <a:pt x="1090933" y="1765084"/>
                </a:lnTo>
                <a:lnTo>
                  <a:pt x="1087761" y="1777147"/>
                </a:lnTo>
                <a:lnTo>
                  <a:pt x="1086809" y="1785083"/>
                </a:lnTo>
                <a:lnTo>
                  <a:pt x="1084271" y="1801272"/>
                </a:lnTo>
                <a:lnTo>
                  <a:pt x="1076340" y="1854920"/>
                </a:lnTo>
                <a:lnTo>
                  <a:pt x="1054452" y="2009516"/>
                </a:lnTo>
                <a:lnTo>
                  <a:pt x="1023681" y="2230139"/>
                </a:lnTo>
                <a:lnTo>
                  <a:pt x="1022730" y="2236488"/>
                </a:lnTo>
                <a:lnTo>
                  <a:pt x="1021461" y="2242520"/>
                </a:lnTo>
                <a:lnTo>
                  <a:pt x="1019875" y="2248551"/>
                </a:lnTo>
                <a:lnTo>
                  <a:pt x="1018289" y="2254582"/>
                </a:lnTo>
                <a:lnTo>
                  <a:pt x="1015751" y="2259979"/>
                </a:lnTo>
                <a:lnTo>
                  <a:pt x="1013530" y="2265693"/>
                </a:lnTo>
                <a:lnTo>
                  <a:pt x="1011310" y="2271407"/>
                </a:lnTo>
                <a:lnTo>
                  <a:pt x="1008455" y="2276486"/>
                </a:lnTo>
                <a:lnTo>
                  <a:pt x="1005917" y="2281248"/>
                </a:lnTo>
                <a:lnTo>
                  <a:pt x="1002427" y="2286009"/>
                </a:lnTo>
                <a:lnTo>
                  <a:pt x="999255" y="2291088"/>
                </a:lnTo>
                <a:lnTo>
                  <a:pt x="995766" y="2295533"/>
                </a:lnTo>
                <a:lnTo>
                  <a:pt x="992276" y="2299659"/>
                </a:lnTo>
                <a:lnTo>
                  <a:pt x="988470" y="2303469"/>
                </a:lnTo>
                <a:lnTo>
                  <a:pt x="984346" y="2307278"/>
                </a:lnTo>
                <a:lnTo>
                  <a:pt x="980222" y="2311087"/>
                </a:lnTo>
                <a:lnTo>
                  <a:pt x="975781" y="2314262"/>
                </a:lnTo>
                <a:lnTo>
                  <a:pt x="971339" y="2317436"/>
                </a:lnTo>
                <a:lnTo>
                  <a:pt x="966581" y="2320293"/>
                </a:lnTo>
                <a:lnTo>
                  <a:pt x="961823" y="2322833"/>
                </a:lnTo>
                <a:lnTo>
                  <a:pt x="956747" y="2325372"/>
                </a:lnTo>
                <a:lnTo>
                  <a:pt x="951989" y="2327277"/>
                </a:lnTo>
                <a:lnTo>
                  <a:pt x="946913" y="2329182"/>
                </a:lnTo>
                <a:lnTo>
                  <a:pt x="941203" y="2331086"/>
                </a:lnTo>
                <a:lnTo>
                  <a:pt x="936128" y="2332674"/>
                </a:lnTo>
                <a:lnTo>
                  <a:pt x="930418" y="2333309"/>
                </a:lnTo>
                <a:lnTo>
                  <a:pt x="925025" y="2334578"/>
                </a:lnTo>
                <a:lnTo>
                  <a:pt x="919315" y="2334896"/>
                </a:lnTo>
                <a:lnTo>
                  <a:pt x="913605" y="2335213"/>
                </a:lnTo>
                <a:lnTo>
                  <a:pt x="907577" y="2335213"/>
                </a:lnTo>
                <a:lnTo>
                  <a:pt x="901550" y="2334896"/>
                </a:lnTo>
                <a:lnTo>
                  <a:pt x="895523" y="2333943"/>
                </a:lnTo>
                <a:lnTo>
                  <a:pt x="889813" y="2333309"/>
                </a:lnTo>
                <a:lnTo>
                  <a:pt x="883786" y="2332356"/>
                </a:lnTo>
                <a:lnTo>
                  <a:pt x="878076" y="2330769"/>
                </a:lnTo>
                <a:lnTo>
                  <a:pt x="872683" y="2328864"/>
                </a:lnTo>
                <a:lnTo>
                  <a:pt x="867290" y="2326642"/>
                </a:lnTo>
                <a:lnTo>
                  <a:pt x="862214" y="2324420"/>
                </a:lnTo>
                <a:lnTo>
                  <a:pt x="857456" y="2321881"/>
                </a:lnTo>
                <a:lnTo>
                  <a:pt x="852698" y="2319341"/>
                </a:lnTo>
                <a:lnTo>
                  <a:pt x="848257" y="2316167"/>
                </a:lnTo>
                <a:lnTo>
                  <a:pt x="843815" y="2312992"/>
                </a:lnTo>
                <a:lnTo>
                  <a:pt x="839692" y="2309183"/>
                </a:lnTo>
                <a:lnTo>
                  <a:pt x="835568" y="2305373"/>
                </a:lnTo>
                <a:lnTo>
                  <a:pt x="831761" y="2301882"/>
                </a:lnTo>
                <a:lnTo>
                  <a:pt x="827954" y="2297755"/>
                </a:lnTo>
                <a:lnTo>
                  <a:pt x="824782" y="2293311"/>
                </a:lnTo>
                <a:lnTo>
                  <a:pt x="821293" y="2288866"/>
                </a:lnTo>
                <a:lnTo>
                  <a:pt x="818755" y="2283787"/>
                </a:lnTo>
                <a:lnTo>
                  <a:pt x="815900" y="2279026"/>
                </a:lnTo>
                <a:lnTo>
                  <a:pt x="813362" y="2274264"/>
                </a:lnTo>
                <a:lnTo>
                  <a:pt x="811141" y="2269185"/>
                </a:lnTo>
                <a:lnTo>
                  <a:pt x="809238" y="2263471"/>
                </a:lnTo>
                <a:lnTo>
                  <a:pt x="807335" y="2258392"/>
                </a:lnTo>
                <a:lnTo>
                  <a:pt x="805749" y="2252678"/>
                </a:lnTo>
                <a:lnTo>
                  <a:pt x="804162" y="2246646"/>
                </a:lnTo>
                <a:lnTo>
                  <a:pt x="803211" y="2241250"/>
                </a:lnTo>
                <a:lnTo>
                  <a:pt x="802576" y="2234901"/>
                </a:lnTo>
                <a:lnTo>
                  <a:pt x="801942" y="2228869"/>
                </a:lnTo>
                <a:lnTo>
                  <a:pt x="801625" y="2222838"/>
                </a:lnTo>
                <a:lnTo>
                  <a:pt x="801625" y="2216807"/>
                </a:lnTo>
                <a:lnTo>
                  <a:pt x="801942" y="2210458"/>
                </a:lnTo>
                <a:lnTo>
                  <a:pt x="802576" y="2204109"/>
                </a:lnTo>
                <a:lnTo>
                  <a:pt x="803211" y="2197443"/>
                </a:lnTo>
                <a:lnTo>
                  <a:pt x="833981" y="1990152"/>
                </a:lnTo>
                <a:lnTo>
                  <a:pt x="855235" y="1846032"/>
                </a:lnTo>
                <a:lnTo>
                  <a:pt x="861897" y="1797146"/>
                </a:lnTo>
                <a:lnTo>
                  <a:pt x="863801" y="1783178"/>
                </a:lnTo>
                <a:lnTo>
                  <a:pt x="864435" y="1777147"/>
                </a:lnTo>
                <a:lnTo>
                  <a:pt x="861897" y="1774290"/>
                </a:lnTo>
                <a:lnTo>
                  <a:pt x="855553" y="1767623"/>
                </a:lnTo>
                <a:lnTo>
                  <a:pt x="833030" y="1744133"/>
                </a:lnTo>
                <a:lnTo>
                  <a:pt x="763558" y="1673343"/>
                </a:lnTo>
                <a:lnTo>
                  <a:pt x="687424" y="1595886"/>
                </a:lnTo>
                <a:lnTo>
                  <a:pt x="657288" y="1564777"/>
                </a:lnTo>
                <a:lnTo>
                  <a:pt x="637620" y="1543825"/>
                </a:lnTo>
                <a:lnTo>
                  <a:pt x="624931" y="1537159"/>
                </a:lnTo>
                <a:lnTo>
                  <a:pt x="612876" y="1530175"/>
                </a:lnTo>
                <a:lnTo>
                  <a:pt x="600822" y="1523192"/>
                </a:lnTo>
                <a:lnTo>
                  <a:pt x="589719" y="1516208"/>
                </a:lnTo>
                <a:lnTo>
                  <a:pt x="578933" y="1508907"/>
                </a:lnTo>
                <a:lnTo>
                  <a:pt x="569100" y="1501605"/>
                </a:lnTo>
                <a:lnTo>
                  <a:pt x="559266" y="1494622"/>
                </a:lnTo>
                <a:lnTo>
                  <a:pt x="550383" y="1487003"/>
                </a:lnTo>
                <a:lnTo>
                  <a:pt x="541818" y="1480019"/>
                </a:lnTo>
                <a:lnTo>
                  <a:pt x="533570" y="1472718"/>
                </a:lnTo>
                <a:lnTo>
                  <a:pt x="525957" y="1465099"/>
                </a:lnTo>
                <a:lnTo>
                  <a:pt x="518978" y="1458116"/>
                </a:lnTo>
                <a:lnTo>
                  <a:pt x="511682" y="1451132"/>
                </a:lnTo>
                <a:lnTo>
                  <a:pt x="505655" y="1444148"/>
                </a:lnTo>
                <a:lnTo>
                  <a:pt x="499945" y="1436847"/>
                </a:lnTo>
                <a:lnTo>
                  <a:pt x="494235" y="1430181"/>
                </a:lnTo>
                <a:lnTo>
                  <a:pt x="489159" y="1423514"/>
                </a:lnTo>
                <a:lnTo>
                  <a:pt x="484718" y="1416848"/>
                </a:lnTo>
                <a:lnTo>
                  <a:pt x="480277" y="1410499"/>
                </a:lnTo>
                <a:lnTo>
                  <a:pt x="476470" y="1404150"/>
                </a:lnTo>
                <a:lnTo>
                  <a:pt x="473298" y="1397801"/>
                </a:lnTo>
                <a:lnTo>
                  <a:pt x="469808" y="1392405"/>
                </a:lnTo>
                <a:lnTo>
                  <a:pt x="464733" y="1381294"/>
                </a:lnTo>
                <a:lnTo>
                  <a:pt x="460926" y="1371453"/>
                </a:lnTo>
                <a:lnTo>
                  <a:pt x="458706" y="1362565"/>
                </a:lnTo>
                <a:lnTo>
                  <a:pt x="457754" y="1359073"/>
                </a:lnTo>
                <a:lnTo>
                  <a:pt x="457119" y="1355264"/>
                </a:lnTo>
                <a:lnTo>
                  <a:pt x="457119" y="1352089"/>
                </a:lnTo>
                <a:lnTo>
                  <a:pt x="457119" y="1349550"/>
                </a:lnTo>
                <a:lnTo>
                  <a:pt x="456802" y="1347010"/>
                </a:lnTo>
                <a:lnTo>
                  <a:pt x="456168" y="1344788"/>
                </a:lnTo>
                <a:lnTo>
                  <a:pt x="454264" y="1342566"/>
                </a:lnTo>
                <a:lnTo>
                  <a:pt x="452361" y="1340344"/>
                </a:lnTo>
                <a:lnTo>
                  <a:pt x="449823" y="1338439"/>
                </a:lnTo>
                <a:lnTo>
                  <a:pt x="446968" y="1336217"/>
                </a:lnTo>
                <a:lnTo>
                  <a:pt x="440624" y="1332408"/>
                </a:lnTo>
                <a:lnTo>
                  <a:pt x="434279" y="1328598"/>
                </a:lnTo>
                <a:lnTo>
                  <a:pt x="431107" y="1326376"/>
                </a:lnTo>
                <a:lnTo>
                  <a:pt x="428887" y="1324472"/>
                </a:lnTo>
                <a:lnTo>
                  <a:pt x="426666" y="1322250"/>
                </a:lnTo>
                <a:lnTo>
                  <a:pt x="425397" y="1319393"/>
                </a:lnTo>
                <a:lnTo>
                  <a:pt x="424128" y="1317170"/>
                </a:lnTo>
                <a:lnTo>
                  <a:pt x="424128" y="1314631"/>
                </a:lnTo>
                <a:lnTo>
                  <a:pt x="425714" y="1302568"/>
                </a:lnTo>
                <a:lnTo>
                  <a:pt x="427618" y="1289553"/>
                </a:lnTo>
                <a:lnTo>
                  <a:pt x="429521" y="1275268"/>
                </a:lnTo>
                <a:lnTo>
                  <a:pt x="432059" y="1260983"/>
                </a:lnTo>
                <a:lnTo>
                  <a:pt x="438086" y="1229873"/>
                </a:lnTo>
                <a:lnTo>
                  <a:pt x="445382" y="1196542"/>
                </a:lnTo>
                <a:lnTo>
                  <a:pt x="453313" y="1161623"/>
                </a:lnTo>
                <a:lnTo>
                  <a:pt x="462195" y="1125117"/>
                </a:lnTo>
                <a:lnTo>
                  <a:pt x="471712" y="1087658"/>
                </a:lnTo>
                <a:lnTo>
                  <a:pt x="481229" y="1049883"/>
                </a:lnTo>
                <a:lnTo>
                  <a:pt x="501531" y="974014"/>
                </a:lnTo>
                <a:lnTo>
                  <a:pt x="521199" y="901001"/>
                </a:lnTo>
                <a:lnTo>
                  <a:pt x="538963" y="833386"/>
                </a:lnTo>
                <a:lnTo>
                  <a:pt x="546577" y="803228"/>
                </a:lnTo>
                <a:lnTo>
                  <a:pt x="553238" y="775293"/>
                </a:lnTo>
                <a:lnTo>
                  <a:pt x="622710" y="754659"/>
                </a:lnTo>
                <a:lnTo>
                  <a:pt x="591305" y="753072"/>
                </a:lnTo>
                <a:lnTo>
                  <a:pt x="520881" y="750215"/>
                </a:lnTo>
                <a:lnTo>
                  <a:pt x="482497" y="748628"/>
                </a:lnTo>
                <a:lnTo>
                  <a:pt x="448554" y="747358"/>
                </a:lnTo>
                <a:lnTo>
                  <a:pt x="423494" y="747041"/>
                </a:lnTo>
                <a:lnTo>
                  <a:pt x="415563" y="747358"/>
                </a:lnTo>
                <a:lnTo>
                  <a:pt x="411439" y="747993"/>
                </a:lnTo>
                <a:lnTo>
                  <a:pt x="409853" y="748628"/>
                </a:lnTo>
                <a:lnTo>
                  <a:pt x="406364" y="750850"/>
                </a:lnTo>
                <a:lnTo>
                  <a:pt x="396847" y="757516"/>
                </a:lnTo>
                <a:lnTo>
                  <a:pt x="382889" y="767992"/>
                </a:lnTo>
                <a:lnTo>
                  <a:pt x="366393" y="781007"/>
                </a:lnTo>
                <a:lnTo>
                  <a:pt x="325472" y="812752"/>
                </a:lnTo>
                <a:lnTo>
                  <a:pt x="279791" y="849258"/>
                </a:lnTo>
                <a:lnTo>
                  <a:pt x="195093" y="917826"/>
                </a:lnTo>
                <a:lnTo>
                  <a:pt x="154805" y="951158"/>
                </a:lnTo>
                <a:lnTo>
                  <a:pt x="154488" y="951475"/>
                </a:lnTo>
                <a:lnTo>
                  <a:pt x="150681" y="954332"/>
                </a:lnTo>
                <a:lnTo>
                  <a:pt x="146875" y="957506"/>
                </a:lnTo>
                <a:lnTo>
                  <a:pt x="143068" y="960046"/>
                </a:lnTo>
                <a:lnTo>
                  <a:pt x="139261" y="962586"/>
                </a:lnTo>
                <a:lnTo>
                  <a:pt x="135454" y="964808"/>
                </a:lnTo>
                <a:lnTo>
                  <a:pt x="131013" y="966712"/>
                </a:lnTo>
                <a:lnTo>
                  <a:pt x="126889" y="968617"/>
                </a:lnTo>
                <a:lnTo>
                  <a:pt x="122766" y="969887"/>
                </a:lnTo>
                <a:lnTo>
                  <a:pt x="113883" y="972426"/>
                </a:lnTo>
                <a:lnTo>
                  <a:pt x="105318" y="974014"/>
                </a:lnTo>
                <a:lnTo>
                  <a:pt x="96436" y="975283"/>
                </a:lnTo>
                <a:lnTo>
                  <a:pt x="87554" y="974966"/>
                </a:lnTo>
                <a:lnTo>
                  <a:pt x="78671" y="974014"/>
                </a:lnTo>
                <a:lnTo>
                  <a:pt x="70106" y="972109"/>
                </a:lnTo>
                <a:lnTo>
                  <a:pt x="61541" y="969569"/>
                </a:lnTo>
                <a:lnTo>
                  <a:pt x="52976" y="966395"/>
                </a:lnTo>
                <a:lnTo>
                  <a:pt x="48852" y="964490"/>
                </a:lnTo>
                <a:lnTo>
                  <a:pt x="45363" y="962268"/>
                </a:lnTo>
                <a:lnTo>
                  <a:pt x="41239" y="959729"/>
                </a:lnTo>
                <a:lnTo>
                  <a:pt x="37432" y="956872"/>
                </a:lnTo>
                <a:lnTo>
                  <a:pt x="33626" y="954015"/>
                </a:lnTo>
                <a:lnTo>
                  <a:pt x="30453" y="951158"/>
                </a:lnTo>
                <a:lnTo>
                  <a:pt x="26647" y="947666"/>
                </a:lnTo>
                <a:lnTo>
                  <a:pt x="23792" y="944491"/>
                </a:lnTo>
                <a:lnTo>
                  <a:pt x="20302" y="940682"/>
                </a:lnTo>
                <a:lnTo>
                  <a:pt x="17764" y="936873"/>
                </a:lnTo>
                <a:lnTo>
                  <a:pt x="14909" y="933063"/>
                </a:lnTo>
                <a:lnTo>
                  <a:pt x="12689" y="929254"/>
                </a:lnTo>
                <a:lnTo>
                  <a:pt x="10468" y="925127"/>
                </a:lnTo>
                <a:lnTo>
                  <a:pt x="8248" y="921000"/>
                </a:lnTo>
                <a:lnTo>
                  <a:pt x="6662" y="916874"/>
                </a:lnTo>
                <a:lnTo>
                  <a:pt x="4758" y="912429"/>
                </a:lnTo>
                <a:lnTo>
                  <a:pt x="2538" y="903858"/>
                </a:lnTo>
                <a:lnTo>
                  <a:pt x="634" y="894970"/>
                </a:lnTo>
                <a:lnTo>
                  <a:pt x="0" y="886399"/>
                </a:lnTo>
                <a:lnTo>
                  <a:pt x="0" y="877511"/>
                </a:lnTo>
                <a:lnTo>
                  <a:pt x="952" y="868622"/>
                </a:lnTo>
                <a:lnTo>
                  <a:pt x="2538" y="859734"/>
                </a:lnTo>
                <a:lnTo>
                  <a:pt x="5075" y="851163"/>
                </a:lnTo>
                <a:lnTo>
                  <a:pt x="8882" y="842909"/>
                </a:lnTo>
                <a:lnTo>
                  <a:pt x="10785" y="838782"/>
                </a:lnTo>
                <a:lnTo>
                  <a:pt x="13006" y="834656"/>
                </a:lnTo>
                <a:lnTo>
                  <a:pt x="15544" y="831164"/>
                </a:lnTo>
                <a:lnTo>
                  <a:pt x="18082" y="827354"/>
                </a:lnTo>
                <a:lnTo>
                  <a:pt x="20937" y="823545"/>
                </a:lnTo>
                <a:lnTo>
                  <a:pt x="24109" y="820053"/>
                </a:lnTo>
                <a:lnTo>
                  <a:pt x="27281" y="816561"/>
                </a:lnTo>
                <a:lnTo>
                  <a:pt x="30771" y="813069"/>
                </a:lnTo>
                <a:lnTo>
                  <a:pt x="80575" y="775611"/>
                </a:lnTo>
                <a:lnTo>
                  <a:pt x="189700" y="694028"/>
                </a:lnTo>
                <a:lnTo>
                  <a:pt x="248386" y="650220"/>
                </a:lnTo>
                <a:lnTo>
                  <a:pt x="300094" y="612127"/>
                </a:lnTo>
                <a:lnTo>
                  <a:pt x="321348" y="596572"/>
                </a:lnTo>
                <a:lnTo>
                  <a:pt x="337843" y="585144"/>
                </a:lnTo>
                <a:lnTo>
                  <a:pt x="349263" y="577208"/>
                </a:lnTo>
                <a:lnTo>
                  <a:pt x="352436" y="574986"/>
                </a:lnTo>
                <a:lnTo>
                  <a:pt x="354022" y="574351"/>
                </a:lnTo>
                <a:lnTo>
                  <a:pt x="460926" y="562606"/>
                </a:lnTo>
                <a:lnTo>
                  <a:pt x="554190" y="552448"/>
                </a:lnTo>
                <a:lnTo>
                  <a:pt x="595112" y="548003"/>
                </a:lnTo>
                <a:lnTo>
                  <a:pt x="631275" y="544512"/>
                </a:lnTo>
                <a:lnTo>
                  <a:pt x="663315" y="541655"/>
                </a:lnTo>
                <a:lnTo>
                  <a:pt x="690596" y="539750"/>
                </a:lnTo>
                <a:close/>
                <a:moveTo>
                  <a:pt x="912333" y="0"/>
                </a:moveTo>
                <a:lnTo>
                  <a:pt x="923772" y="0"/>
                </a:lnTo>
                <a:lnTo>
                  <a:pt x="935529" y="0"/>
                </a:lnTo>
                <a:lnTo>
                  <a:pt x="943791" y="636"/>
                </a:lnTo>
                <a:lnTo>
                  <a:pt x="952052" y="1908"/>
                </a:lnTo>
                <a:lnTo>
                  <a:pt x="960632" y="3817"/>
                </a:lnTo>
                <a:lnTo>
                  <a:pt x="969211" y="5407"/>
                </a:lnTo>
                <a:lnTo>
                  <a:pt x="977473" y="8270"/>
                </a:lnTo>
                <a:lnTo>
                  <a:pt x="986052" y="11451"/>
                </a:lnTo>
                <a:lnTo>
                  <a:pt x="993996" y="14949"/>
                </a:lnTo>
                <a:lnTo>
                  <a:pt x="1001940" y="19084"/>
                </a:lnTo>
                <a:lnTo>
                  <a:pt x="1010202" y="22901"/>
                </a:lnTo>
                <a:lnTo>
                  <a:pt x="1017828" y="27990"/>
                </a:lnTo>
                <a:lnTo>
                  <a:pt x="1025454" y="33080"/>
                </a:lnTo>
                <a:lnTo>
                  <a:pt x="1032762" y="39123"/>
                </a:lnTo>
                <a:lnTo>
                  <a:pt x="1039753" y="44848"/>
                </a:lnTo>
                <a:lnTo>
                  <a:pt x="1047061" y="51210"/>
                </a:lnTo>
                <a:lnTo>
                  <a:pt x="1053734" y="57889"/>
                </a:lnTo>
                <a:lnTo>
                  <a:pt x="1060407" y="65523"/>
                </a:lnTo>
                <a:lnTo>
                  <a:pt x="1066127" y="72839"/>
                </a:lnTo>
                <a:lnTo>
                  <a:pt x="1072164" y="80791"/>
                </a:lnTo>
                <a:lnTo>
                  <a:pt x="1077884" y="89061"/>
                </a:lnTo>
                <a:lnTo>
                  <a:pt x="1082968" y="97331"/>
                </a:lnTo>
                <a:lnTo>
                  <a:pt x="1087734" y="106555"/>
                </a:lnTo>
                <a:lnTo>
                  <a:pt x="1092183" y="115779"/>
                </a:lnTo>
                <a:lnTo>
                  <a:pt x="1096313" y="125003"/>
                </a:lnTo>
                <a:lnTo>
                  <a:pt x="1100127" y="134546"/>
                </a:lnTo>
                <a:lnTo>
                  <a:pt x="1103304" y="145042"/>
                </a:lnTo>
                <a:lnTo>
                  <a:pt x="1106164" y="155220"/>
                </a:lnTo>
                <a:lnTo>
                  <a:pt x="1108706" y="166035"/>
                </a:lnTo>
                <a:lnTo>
                  <a:pt x="1110612" y="176849"/>
                </a:lnTo>
                <a:lnTo>
                  <a:pt x="1111566" y="187982"/>
                </a:lnTo>
                <a:lnTo>
                  <a:pt x="1112519" y="199433"/>
                </a:lnTo>
                <a:lnTo>
                  <a:pt x="1112837" y="210883"/>
                </a:lnTo>
                <a:lnTo>
                  <a:pt x="1112519" y="222970"/>
                </a:lnTo>
                <a:lnTo>
                  <a:pt x="1110930" y="247144"/>
                </a:lnTo>
                <a:lnTo>
                  <a:pt x="1109024" y="271636"/>
                </a:lnTo>
                <a:lnTo>
                  <a:pt x="1106164" y="296764"/>
                </a:lnTo>
                <a:lnTo>
                  <a:pt x="1104575" y="308851"/>
                </a:lnTo>
                <a:lnTo>
                  <a:pt x="1102351" y="321574"/>
                </a:lnTo>
                <a:lnTo>
                  <a:pt x="1100444" y="333978"/>
                </a:lnTo>
                <a:lnTo>
                  <a:pt x="1097902" y="345747"/>
                </a:lnTo>
                <a:lnTo>
                  <a:pt x="1095360" y="358152"/>
                </a:lnTo>
                <a:lnTo>
                  <a:pt x="1092183" y="369921"/>
                </a:lnTo>
                <a:lnTo>
                  <a:pt x="1089323" y="381372"/>
                </a:lnTo>
                <a:lnTo>
                  <a:pt x="1085510" y="393140"/>
                </a:lnTo>
                <a:lnTo>
                  <a:pt x="1082014" y="404273"/>
                </a:lnTo>
                <a:lnTo>
                  <a:pt x="1077884" y="415406"/>
                </a:lnTo>
                <a:lnTo>
                  <a:pt x="1073753" y="425902"/>
                </a:lnTo>
                <a:lnTo>
                  <a:pt x="1068986" y="436080"/>
                </a:lnTo>
                <a:lnTo>
                  <a:pt x="1063585" y="445941"/>
                </a:lnTo>
                <a:lnTo>
                  <a:pt x="1058501" y="455483"/>
                </a:lnTo>
                <a:lnTo>
                  <a:pt x="1052463" y="464389"/>
                </a:lnTo>
                <a:lnTo>
                  <a:pt x="1046108" y="472977"/>
                </a:lnTo>
                <a:lnTo>
                  <a:pt x="1039753" y="481247"/>
                </a:lnTo>
                <a:lnTo>
                  <a:pt x="1032762" y="488563"/>
                </a:lnTo>
                <a:lnTo>
                  <a:pt x="1025454" y="495242"/>
                </a:lnTo>
                <a:lnTo>
                  <a:pt x="1017510" y="501922"/>
                </a:lnTo>
                <a:lnTo>
                  <a:pt x="1009248" y="507647"/>
                </a:lnTo>
                <a:lnTo>
                  <a:pt x="1000351" y="512736"/>
                </a:lnTo>
                <a:lnTo>
                  <a:pt x="991454" y="516871"/>
                </a:lnTo>
                <a:lnTo>
                  <a:pt x="981921" y="520688"/>
                </a:lnTo>
                <a:lnTo>
                  <a:pt x="971435" y="523551"/>
                </a:lnTo>
                <a:lnTo>
                  <a:pt x="960949" y="525778"/>
                </a:lnTo>
                <a:lnTo>
                  <a:pt x="953005" y="526732"/>
                </a:lnTo>
                <a:lnTo>
                  <a:pt x="944426" y="527050"/>
                </a:lnTo>
                <a:lnTo>
                  <a:pt x="935847" y="526414"/>
                </a:lnTo>
                <a:lnTo>
                  <a:pt x="926314" y="525141"/>
                </a:lnTo>
                <a:lnTo>
                  <a:pt x="917099" y="523233"/>
                </a:lnTo>
                <a:lnTo>
                  <a:pt x="907884" y="520688"/>
                </a:lnTo>
                <a:lnTo>
                  <a:pt x="898669" y="517190"/>
                </a:lnTo>
                <a:lnTo>
                  <a:pt x="888819" y="513373"/>
                </a:lnTo>
                <a:lnTo>
                  <a:pt x="879286" y="508283"/>
                </a:lnTo>
                <a:lnTo>
                  <a:pt x="869118" y="503194"/>
                </a:lnTo>
                <a:lnTo>
                  <a:pt x="859585" y="496833"/>
                </a:lnTo>
                <a:lnTo>
                  <a:pt x="849735" y="490153"/>
                </a:lnTo>
                <a:lnTo>
                  <a:pt x="840202" y="482837"/>
                </a:lnTo>
                <a:lnTo>
                  <a:pt x="830987" y="474886"/>
                </a:lnTo>
                <a:lnTo>
                  <a:pt x="821454" y="465979"/>
                </a:lnTo>
                <a:lnTo>
                  <a:pt x="812239" y="456755"/>
                </a:lnTo>
                <a:lnTo>
                  <a:pt x="803342" y="446577"/>
                </a:lnTo>
                <a:lnTo>
                  <a:pt x="794445" y="435762"/>
                </a:lnTo>
                <a:lnTo>
                  <a:pt x="786183" y="424630"/>
                </a:lnTo>
                <a:lnTo>
                  <a:pt x="778240" y="412225"/>
                </a:lnTo>
                <a:lnTo>
                  <a:pt x="770296" y="400138"/>
                </a:lnTo>
                <a:lnTo>
                  <a:pt x="762987" y="386779"/>
                </a:lnTo>
                <a:lnTo>
                  <a:pt x="756314" y="372784"/>
                </a:lnTo>
                <a:lnTo>
                  <a:pt x="749324" y="358470"/>
                </a:lnTo>
                <a:lnTo>
                  <a:pt x="743604" y="343203"/>
                </a:lnTo>
                <a:lnTo>
                  <a:pt x="738202" y="327617"/>
                </a:lnTo>
                <a:lnTo>
                  <a:pt x="733436" y="311077"/>
                </a:lnTo>
                <a:lnTo>
                  <a:pt x="728987" y="294219"/>
                </a:lnTo>
                <a:lnTo>
                  <a:pt x="725810" y="276725"/>
                </a:lnTo>
                <a:lnTo>
                  <a:pt x="722632" y="258595"/>
                </a:lnTo>
                <a:lnTo>
                  <a:pt x="720408" y="240146"/>
                </a:lnTo>
                <a:lnTo>
                  <a:pt x="719137" y="221062"/>
                </a:lnTo>
                <a:lnTo>
                  <a:pt x="719772" y="209293"/>
                </a:lnTo>
                <a:lnTo>
                  <a:pt x="721361" y="197206"/>
                </a:lnTo>
                <a:lnTo>
                  <a:pt x="722632" y="185756"/>
                </a:lnTo>
                <a:lnTo>
                  <a:pt x="724856" y="174623"/>
                </a:lnTo>
                <a:lnTo>
                  <a:pt x="727399" y="163490"/>
                </a:lnTo>
                <a:lnTo>
                  <a:pt x="730576" y="152676"/>
                </a:lnTo>
                <a:lnTo>
                  <a:pt x="734389" y="142179"/>
                </a:lnTo>
                <a:lnTo>
                  <a:pt x="737884" y="131683"/>
                </a:lnTo>
                <a:lnTo>
                  <a:pt x="742333" y="121823"/>
                </a:lnTo>
                <a:lnTo>
                  <a:pt x="746782" y="111962"/>
                </a:lnTo>
                <a:lnTo>
                  <a:pt x="752184" y="102420"/>
                </a:lnTo>
                <a:lnTo>
                  <a:pt x="757268" y="93514"/>
                </a:lnTo>
                <a:lnTo>
                  <a:pt x="763305" y="84290"/>
                </a:lnTo>
                <a:lnTo>
                  <a:pt x="769660" y="76338"/>
                </a:lnTo>
                <a:lnTo>
                  <a:pt x="776015" y="68068"/>
                </a:lnTo>
                <a:lnTo>
                  <a:pt x="783006" y="60116"/>
                </a:lnTo>
                <a:lnTo>
                  <a:pt x="790314" y="53118"/>
                </a:lnTo>
                <a:lnTo>
                  <a:pt x="797940" y="46121"/>
                </a:lnTo>
                <a:lnTo>
                  <a:pt x="805567" y="39759"/>
                </a:lnTo>
                <a:lnTo>
                  <a:pt x="813828" y="33398"/>
                </a:lnTo>
                <a:lnTo>
                  <a:pt x="822725" y="27990"/>
                </a:lnTo>
                <a:lnTo>
                  <a:pt x="831305" y="22901"/>
                </a:lnTo>
                <a:lnTo>
                  <a:pt x="840520" y="18130"/>
                </a:lnTo>
                <a:lnTo>
                  <a:pt x="849735" y="13995"/>
                </a:lnTo>
                <a:lnTo>
                  <a:pt x="859903" y="10496"/>
                </a:lnTo>
                <a:lnTo>
                  <a:pt x="870071" y="7316"/>
                </a:lnTo>
                <a:lnTo>
                  <a:pt x="879922" y="4771"/>
                </a:lnTo>
                <a:lnTo>
                  <a:pt x="890725" y="2544"/>
                </a:lnTo>
                <a:lnTo>
                  <a:pt x="901529" y="954"/>
                </a:lnTo>
                <a:lnTo>
                  <a:pt x="912333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47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88" name="矩形 53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54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55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文本框 56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直接连接符 58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59"/>
          <p:cNvGrpSpPr/>
          <p:nvPr/>
        </p:nvGrpSpPr>
        <p:grpSpPr>
          <a:xfrm>
            <a:off x="466560" y="1521000"/>
            <a:ext cx="3337200" cy="571320"/>
            <a:chOff x="466560" y="1521000"/>
            <a:chExt cx="3337200" cy="571320"/>
          </a:xfrm>
        </p:grpSpPr>
        <p:sp>
          <p:nvSpPr>
            <p:cNvPr id="194" name="椭圆 71"/>
            <p:cNvSpPr/>
            <p:nvPr/>
          </p:nvSpPr>
          <p:spPr>
            <a:xfrm>
              <a:off x="466560" y="167580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组合 72"/>
            <p:cNvGrpSpPr/>
            <p:nvPr/>
          </p:nvGrpSpPr>
          <p:grpSpPr>
            <a:xfrm>
              <a:off x="772200" y="1521000"/>
              <a:ext cx="3031560" cy="571320"/>
              <a:chOff x="772200" y="1521000"/>
              <a:chExt cx="3031560" cy="571320"/>
            </a:xfrm>
          </p:grpSpPr>
          <p:sp>
            <p:nvSpPr>
              <p:cNvPr id="196" name="等腰三角形 73"/>
              <p:cNvSpPr/>
              <p:nvPr/>
            </p:nvSpPr>
            <p:spPr>
              <a:xfrm rot="16200000">
                <a:off x="770400" y="1696320"/>
                <a:ext cx="22284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矩形 74"/>
              <p:cNvSpPr/>
              <p:nvPr/>
            </p:nvSpPr>
            <p:spPr>
              <a:xfrm>
                <a:off x="991800" y="152100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KSO_Shape"/>
          <p:cNvSpPr/>
          <p:nvPr/>
        </p:nvSpPr>
        <p:spPr>
          <a:xfrm>
            <a:off x="2673360" y="1289160"/>
            <a:ext cx="1989000" cy="1968480"/>
          </a:xfrm>
          <a:custGeom>
            <a:avLst/>
            <a:gdLst/>
            <a:ahLst/>
            <a:rect l="l" t="t" r="r" b="b"/>
            <a:pathLst>
              <a:path w="2390775" h="2365376">
                <a:moveTo>
                  <a:pt x="761351" y="1739900"/>
                </a:moveTo>
                <a:lnTo>
                  <a:pt x="791690" y="1805294"/>
                </a:lnTo>
                <a:lnTo>
                  <a:pt x="794883" y="1808051"/>
                </a:lnTo>
                <a:lnTo>
                  <a:pt x="797278" y="1811991"/>
                </a:lnTo>
                <a:lnTo>
                  <a:pt x="800871" y="1817112"/>
                </a:lnTo>
                <a:lnTo>
                  <a:pt x="803266" y="1822233"/>
                </a:lnTo>
                <a:lnTo>
                  <a:pt x="804065" y="1825384"/>
                </a:lnTo>
                <a:lnTo>
                  <a:pt x="804863" y="1828536"/>
                </a:lnTo>
                <a:lnTo>
                  <a:pt x="804863" y="1831687"/>
                </a:lnTo>
                <a:lnTo>
                  <a:pt x="804863" y="1834839"/>
                </a:lnTo>
                <a:lnTo>
                  <a:pt x="804065" y="1837990"/>
                </a:lnTo>
                <a:lnTo>
                  <a:pt x="802867" y="1841142"/>
                </a:lnTo>
                <a:lnTo>
                  <a:pt x="801670" y="1842718"/>
                </a:lnTo>
                <a:lnTo>
                  <a:pt x="799674" y="1844687"/>
                </a:lnTo>
                <a:lnTo>
                  <a:pt x="797278" y="1845475"/>
                </a:lnTo>
                <a:lnTo>
                  <a:pt x="794484" y="1845869"/>
                </a:lnTo>
                <a:lnTo>
                  <a:pt x="790891" y="1846263"/>
                </a:lnTo>
                <a:lnTo>
                  <a:pt x="787698" y="1845869"/>
                </a:lnTo>
                <a:lnTo>
                  <a:pt x="784105" y="1845475"/>
                </a:lnTo>
                <a:lnTo>
                  <a:pt x="780512" y="1844293"/>
                </a:lnTo>
                <a:lnTo>
                  <a:pt x="776520" y="1842718"/>
                </a:lnTo>
                <a:lnTo>
                  <a:pt x="772927" y="1841142"/>
                </a:lnTo>
                <a:lnTo>
                  <a:pt x="768935" y="1839172"/>
                </a:lnTo>
                <a:lnTo>
                  <a:pt x="765343" y="1836809"/>
                </a:lnTo>
                <a:lnTo>
                  <a:pt x="761750" y="1834051"/>
                </a:lnTo>
                <a:lnTo>
                  <a:pt x="758955" y="1831294"/>
                </a:lnTo>
                <a:lnTo>
                  <a:pt x="756161" y="1827748"/>
                </a:lnTo>
                <a:lnTo>
                  <a:pt x="754165" y="1824597"/>
                </a:lnTo>
                <a:lnTo>
                  <a:pt x="748975" y="1815536"/>
                </a:lnTo>
                <a:lnTo>
                  <a:pt x="745782" y="1808839"/>
                </a:lnTo>
                <a:lnTo>
                  <a:pt x="743387" y="1803718"/>
                </a:lnTo>
                <a:lnTo>
                  <a:pt x="742588" y="1799385"/>
                </a:lnTo>
                <a:lnTo>
                  <a:pt x="742588" y="1795051"/>
                </a:lnTo>
                <a:lnTo>
                  <a:pt x="743387" y="1790718"/>
                </a:lnTo>
                <a:lnTo>
                  <a:pt x="746181" y="1778112"/>
                </a:lnTo>
                <a:lnTo>
                  <a:pt x="746979" y="1774173"/>
                </a:lnTo>
                <a:lnTo>
                  <a:pt x="746979" y="1772203"/>
                </a:lnTo>
                <a:lnTo>
                  <a:pt x="746181" y="1771021"/>
                </a:lnTo>
                <a:lnTo>
                  <a:pt x="745383" y="1770627"/>
                </a:lnTo>
                <a:lnTo>
                  <a:pt x="742987" y="1770627"/>
                </a:lnTo>
                <a:lnTo>
                  <a:pt x="742189" y="1770233"/>
                </a:lnTo>
                <a:lnTo>
                  <a:pt x="741790" y="1769839"/>
                </a:lnTo>
                <a:lnTo>
                  <a:pt x="738596" y="1761961"/>
                </a:lnTo>
                <a:lnTo>
                  <a:pt x="736999" y="1758021"/>
                </a:lnTo>
                <a:lnTo>
                  <a:pt x="736600" y="1756052"/>
                </a:lnTo>
                <a:lnTo>
                  <a:pt x="736600" y="1754476"/>
                </a:lnTo>
                <a:lnTo>
                  <a:pt x="742189" y="1750536"/>
                </a:lnTo>
                <a:lnTo>
                  <a:pt x="747379" y="1747385"/>
                </a:lnTo>
                <a:lnTo>
                  <a:pt x="750971" y="1745021"/>
                </a:lnTo>
                <a:lnTo>
                  <a:pt x="754165" y="1743839"/>
                </a:lnTo>
                <a:lnTo>
                  <a:pt x="758556" y="1741870"/>
                </a:lnTo>
                <a:lnTo>
                  <a:pt x="759754" y="1741870"/>
                </a:lnTo>
                <a:lnTo>
                  <a:pt x="761351" y="1739900"/>
                </a:lnTo>
                <a:close/>
                <a:moveTo>
                  <a:pt x="1554438" y="1730375"/>
                </a:moveTo>
                <a:lnTo>
                  <a:pt x="1565575" y="1730375"/>
                </a:lnTo>
                <a:lnTo>
                  <a:pt x="1575916" y="1730375"/>
                </a:lnTo>
                <a:lnTo>
                  <a:pt x="1586258" y="1731163"/>
                </a:lnTo>
                <a:lnTo>
                  <a:pt x="1591031" y="1731951"/>
                </a:lnTo>
                <a:lnTo>
                  <a:pt x="1595008" y="1733133"/>
                </a:lnTo>
                <a:lnTo>
                  <a:pt x="1598986" y="1734314"/>
                </a:lnTo>
                <a:lnTo>
                  <a:pt x="1602168" y="1735890"/>
                </a:lnTo>
                <a:lnTo>
                  <a:pt x="1605350" y="1737860"/>
                </a:lnTo>
                <a:lnTo>
                  <a:pt x="1607339" y="1739830"/>
                </a:lnTo>
                <a:lnTo>
                  <a:pt x="1608929" y="1741799"/>
                </a:lnTo>
                <a:lnTo>
                  <a:pt x="1609725" y="1744951"/>
                </a:lnTo>
                <a:lnTo>
                  <a:pt x="1609725" y="1747708"/>
                </a:lnTo>
                <a:lnTo>
                  <a:pt x="1608929" y="1751648"/>
                </a:lnTo>
                <a:lnTo>
                  <a:pt x="1607339" y="1755193"/>
                </a:lnTo>
                <a:lnTo>
                  <a:pt x="1604554" y="1759920"/>
                </a:lnTo>
                <a:lnTo>
                  <a:pt x="1600577" y="1764648"/>
                </a:lnTo>
                <a:lnTo>
                  <a:pt x="1595804" y="1769769"/>
                </a:lnTo>
                <a:lnTo>
                  <a:pt x="1589042" y="1776072"/>
                </a:lnTo>
                <a:lnTo>
                  <a:pt x="1582678" y="1781193"/>
                </a:lnTo>
                <a:lnTo>
                  <a:pt x="1576314" y="1786314"/>
                </a:lnTo>
                <a:lnTo>
                  <a:pt x="1570348" y="1790647"/>
                </a:lnTo>
                <a:lnTo>
                  <a:pt x="1563586" y="1794193"/>
                </a:lnTo>
                <a:lnTo>
                  <a:pt x="1557222" y="1797738"/>
                </a:lnTo>
                <a:lnTo>
                  <a:pt x="1550461" y="1800496"/>
                </a:lnTo>
                <a:lnTo>
                  <a:pt x="1544097" y="1802466"/>
                </a:lnTo>
                <a:lnTo>
                  <a:pt x="1537733" y="1804829"/>
                </a:lnTo>
                <a:lnTo>
                  <a:pt x="1530971" y="1806799"/>
                </a:lnTo>
                <a:lnTo>
                  <a:pt x="1524607" y="1807981"/>
                </a:lnTo>
                <a:lnTo>
                  <a:pt x="1518243" y="1809163"/>
                </a:lnTo>
                <a:lnTo>
                  <a:pt x="1505117" y="1811132"/>
                </a:lnTo>
                <a:lnTo>
                  <a:pt x="1491992" y="1812314"/>
                </a:lnTo>
                <a:lnTo>
                  <a:pt x="1486026" y="1813102"/>
                </a:lnTo>
                <a:lnTo>
                  <a:pt x="1483241" y="1813890"/>
                </a:lnTo>
                <a:lnTo>
                  <a:pt x="1482048" y="1814678"/>
                </a:lnTo>
                <a:lnTo>
                  <a:pt x="1481253" y="1815072"/>
                </a:lnTo>
                <a:lnTo>
                  <a:pt x="1480855" y="1815859"/>
                </a:lnTo>
                <a:lnTo>
                  <a:pt x="1480855" y="1817041"/>
                </a:lnTo>
                <a:lnTo>
                  <a:pt x="1481253" y="1818617"/>
                </a:lnTo>
                <a:lnTo>
                  <a:pt x="1482048" y="1819799"/>
                </a:lnTo>
                <a:lnTo>
                  <a:pt x="1482048" y="1821375"/>
                </a:lnTo>
                <a:lnTo>
                  <a:pt x="1482048" y="1821769"/>
                </a:lnTo>
                <a:lnTo>
                  <a:pt x="1480855" y="1822556"/>
                </a:lnTo>
                <a:lnTo>
                  <a:pt x="1471309" y="1830829"/>
                </a:lnTo>
                <a:lnTo>
                  <a:pt x="1465343" y="1834375"/>
                </a:lnTo>
                <a:lnTo>
                  <a:pt x="1463354" y="1835556"/>
                </a:lnTo>
                <a:lnTo>
                  <a:pt x="1461365" y="1836738"/>
                </a:lnTo>
                <a:lnTo>
                  <a:pt x="1452615" y="1830041"/>
                </a:lnTo>
                <a:lnTo>
                  <a:pt x="1445853" y="1824132"/>
                </a:lnTo>
                <a:lnTo>
                  <a:pt x="1440285" y="1819405"/>
                </a:lnTo>
                <a:lnTo>
                  <a:pt x="1437103" y="1815072"/>
                </a:lnTo>
                <a:lnTo>
                  <a:pt x="1434716" y="1812314"/>
                </a:lnTo>
                <a:lnTo>
                  <a:pt x="1433125" y="1810344"/>
                </a:lnTo>
                <a:lnTo>
                  <a:pt x="1432330" y="1808375"/>
                </a:lnTo>
                <a:lnTo>
                  <a:pt x="1428750" y="1806799"/>
                </a:lnTo>
                <a:lnTo>
                  <a:pt x="1512675" y="1734314"/>
                </a:lnTo>
                <a:lnTo>
                  <a:pt x="1518641" y="1733527"/>
                </a:lnTo>
                <a:lnTo>
                  <a:pt x="1533755" y="1731951"/>
                </a:lnTo>
                <a:lnTo>
                  <a:pt x="1543699" y="1731163"/>
                </a:lnTo>
                <a:lnTo>
                  <a:pt x="1554438" y="1730375"/>
                </a:lnTo>
                <a:close/>
                <a:moveTo>
                  <a:pt x="588962" y="1535113"/>
                </a:moveTo>
                <a:lnTo>
                  <a:pt x="694496" y="1535113"/>
                </a:lnTo>
                <a:lnTo>
                  <a:pt x="694496" y="1557872"/>
                </a:lnTo>
                <a:lnTo>
                  <a:pt x="694894" y="1558271"/>
                </a:lnTo>
                <a:lnTo>
                  <a:pt x="696885" y="1560268"/>
                </a:lnTo>
                <a:lnTo>
                  <a:pt x="698478" y="1560667"/>
                </a:lnTo>
                <a:lnTo>
                  <a:pt x="700469" y="1561466"/>
                </a:lnTo>
                <a:lnTo>
                  <a:pt x="704053" y="1561865"/>
                </a:lnTo>
                <a:lnTo>
                  <a:pt x="707239" y="1561865"/>
                </a:lnTo>
                <a:lnTo>
                  <a:pt x="711222" y="1561865"/>
                </a:lnTo>
                <a:lnTo>
                  <a:pt x="714407" y="1561466"/>
                </a:lnTo>
                <a:lnTo>
                  <a:pt x="716797" y="1560667"/>
                </a:lnTo>
                <a:lnTo>
                  <a:pt x="718390" y="1560268"/>
                </a:lnTo>
                <a:lnTo>
                  <a:pt x="720381" y="1558271"/>
                </a:lnTo>
                <a:lnTo>
                  <a:pt x="720779" y="1557872"/>
                </a:lnTo>
                <a:lnTo>
                  <a:pt x="720779" y="1535113"/>
                </a:lnTo>
                <a:lnTo>
                  <a:pt x="820737" y="1535113"/>
                </a:lnTo>
                <a:lnTo>
                  <a:pt x="820737" y="1644117"/>
                </a:lnTo>
                <a:lnTo>
                  <a:pt x="820339" y="1648908"/>
                </a:lnTo>
                <a:lnTo>
                  <a:pt x="819144" y="1652901"/>
                </a:lnTo>
                <a:lnTo>
                  <a:pt x="816755" y="1656894"/>
                </a:lnTo>
                <a:lnTo>
                  <a:pt x="814365" y="1660088"/>
                </a:lnTo>
                <a:lnTo>
                  <a:pt x="810781" y="1663283"/>
                </a:lnTo>
                <a:lnTo>
                  <a:pt x="806799" y="1665279"/>
                </a:lnTo>
                <a:lnTo>
                  <a:pt x="802418" y="1666477"/>
                </a:lnTo>
                <a:lnTo>
                  <a:pt x="797639" y="1666876"/>
                </a:lnTo>
                <a:lnTo>
                  <a:pt x="612060" y="1666876"/>
                </a:lnTo>
                <a:lnTo>
                  <a:pt x="607281" y="1666477"/>
                </a:lnTo>
                <a:lnTo>
                  <a:pt x="602901" y="1665279"/>
                </a:lnTo>
                <a:lnTo>
                  <a:pt x="598918" y="1663283"/>
                </a:lnTo>
                <a:lnTo>
                  <a:pt x="595732" y="1660088"/>
                </a:lnTo>
                <a:lnTo>
                  <a:pt x="592546" y="1656894"/>
                </a:lnTo>
                <a:lnTo>
                  <a:pt x="590555" y="1652901"/>
                </a:lnTo>
                <a:lnTo>
                  <a:pt x="589360" y="1648908"/>
                </a:lnTo>
                <a:lnTo>
                  <a:pt x="588962" y="1644117"/>
                </a:lnTo>
                <a:lnTo>
                  <a:pt x="588962" y="1535113"/>
                </a:lnTo>
                <a:close/>
                <a:moveTo>
                  <a:pt x="612060" y="1476375"/>
                </a:moveTo>
                <a:lnTo>
                  <a:pt x="797639" y="1476375"/>
                </a:lnTo>
                <a:lnTo>
                  <a:pt x="802418" y="1476769"/>
                </a:lnTo>
                <a:lnTo>
                  <a:pt x="806799" y="1477950"/>
                </a:lnTo>
                <a:lnTo>
                  <a:pt x="810781" y="1480312"/>
                </a:lnTo>
                <a:lnTo>
                  <a:pt x="814365" y="1483068"/>
                </a:lnTo>
                <a:lnTo>
                  <a:pt x="816755" y="1486611"/>
                </a:lnTo>
                <a:lnTo>
                  <a:pt x="819144" y="1490155"/>
                </a:lnTo>
                <a:lnTo>
                  <a:pt x="820339" y="1494485"/>
                </a:lnTo>
                <a:lnTo>
                  <a:pt x="820737" y="1498816"/>
                </a:lnTo>
                <a:lnTo>
                  <a:pt x="820737" y="1525588"/>
                </a:lnTo>
                <a:lnTo>
                  <a:pt x="588962" y="1525588"/>
                </a:lnTo>
                <a:lnTo>
                  <a:pt x="588962" y="1498816"/>
                </a:lnTo>
                <a:lnTo>
                  <a:pt x="589360" y="1494485"/>
                </a:lnTo>
                <a:lnTo>
                  <a:pt x="590555" y="1490155"/>
                </a:lnTo>
                <a:lnTo>
                  <a:pt x="592546" y="1486611"/>
                </a:lnTo>
                <a:lnTo>
                  <a:pt x="595732" y="1483068"/>
                </a:lnTo>
                <a:lnTo>
                  <a:pt x="598918" y="1480312"/>
                </a:lnTo>
                <a:lnTo>
                  <a:pt x="602901" y="1477950"/>
                </a:lnTo>
                <a:lnTo>
                  <a:pt x="607281" y="1476769"/>
                </a:lnTo>
                <a:lnTo>
                  <a:pt x="612060" y="1476375"/>
                </a:lnTo>
                <a:close/>
                <a:moveTo>
                  <a:pt x="725449" y="1381125"/>
                </a:moveTo>
                <a:lnTo>
                  <a:pt x="730525" y="1381524"/>
                </a:lnTo>
                <a:lnTo>
                  <a:pt x="732087" y="1381524"/>
                </a:lnTo>
                <a:lnTo>
                  <a:pt x="734430" y="1382322"/>
                </a:lnTo>
                <a:lnTo>
                  <a:pt x="737554" y="1384317"/>
                </a:lnTo>
                <a:lnTo>
                  <a:pt x="740287" y="1386312"/>
                </a:lnTo>
                <a:lnTo>
                  <a:pt x="743411" y="1389505"/>
                </a:lnTo>
                <a:lnTo>
                  <a:pt x="746535" y="1393096"/>
                </a:lnTo>
                <a:lnTo>
                  <a:pt x="749659" y="1397486"/>
                </a:lnTo>
                <a:lnTo>
                  <a:pt x="755906" y="1407063"/>
                </a:lnTo>
                <a:lnTo>
                  <a:pt x="761373" y="1417837"/>
                </a:lnTo>
                <a:lnTo>
                  <a:pt x="766059" y="1427813"/>
                </a:lnTo>
                <a:lnTo>
                  <a:pt x="769182" y="1437390"/>
                </a:lnTo>
                <a:lnTo>
                  <a:pt x="770744" y="1441780"/>
                </a:lnTo>
                <a:lnTo>
                  <a:pt x="771525" y="1445770"/>
                </a:lnTo>
                <a:lnTo>
                  <a:pt x="771525" y="1448164"/>
                </a:lnTo>
                <a:lnTo>
                  <a:pt x="771525" y="1450159"/>
                </a:lnTo>
                <a:lnTo>
                  <a:pt x="770744" y="1451357"/>
                </a:lnTo>
                <a:lnTo>
                  <a:pt x="769182" y="1452155"/>
                </a:lnTo>
                <a:lnTo>
                  <a:pt x="768011" y="1452155"/>
                </a:lnTo>
                <a:lnTo>
                  <a:pt x="766449" y="1450958"/>
                </a:lnTo>
                <a:lnTo>
                  <a:pt x="764887" y="1449760"/>
                </a:lnTo>
                <a:lnTo>
                  <a:pt x="762544" y="1448563"/>
                </a:lnTo>
                <a:lnTo>
                  <a:pt x="759030" y="1444174"/>
                </a:lnTo>
                <a:lnTo>
                  <a:pt x="755516" y="1439784"/>
                </a:lnTo>
                <a:lnTo>
                  <a:pt x="753173" y="1434996"/>
                </a:lnTo>
                <a:lnTo>
                  <a:pt x="752392" y="1433400"/>
                </a:lnTo>
                <a:lnTo>
                  <a:pt x="752392" y="1431404"/>
                </a:lnTo>
                <a:lnTo>
                  <a:pt x="752001" y="1428611"/>
                </a:lnTo>
                <a:lnTo>
                  <a:pt x="750830" y="1426616"/>
                </a:lnTo>
                <a:lnTo>
                  <a:pt x="748878" y="1425419"/>
                </a:lnTo>
                <a:lnTo>
                  <a:pt x="746925" y="1425020"/>
                </a:lnTo>
                <a:lnTo>
                  <a:pt x="746144" y="1425419"/>
                </a:lnTo>
                <a:lnTo>
                  <a:pt x="745363" y="1425818"/>
                </a:lnTo>
                <a:lnTo>
                  <a:pt x="744582" y="1426616"/>
                </a:lnTo>
                <a:lnTo>
                  <a:pt x="743411" y="1427414"/>
                </a:lnTo>
                <a:lnTo>
                  <a:pt x="742630" y="1428611"/>
                </a:lnTo>
                <a:lnTo>
                  <a:pt x="742240" y="1430207"/>
                </a:lnTo>
                <a:lnTo>
                  <a:pt x="741849" y="1432602"/>
                </a:lnTo>
                <a:lnTo>
                  <a:pt x="741849" y="1434597"/>
                </a:lnTo>
                <a:lnTo>
                  <a:pt x="741459" y="1439385"/>
                </a:lnTo>
                <a:lnTo>
                  <a:pt x="740678" y="1443376"/>
                </a:lnTo>
                <a:lnTo>
                  <a:pt x="739897" y="1445371"/>
                </a:lnTo>
                <a:lnTo>
                  <a:pt x="739116" y="1446967"/>
                </a:lnTo>
                <a:lnTo>
                  <a:pt x="737944" y="1448164"/>
                </a:lnTo>
                <a:lnTo>
                  <a:pt x="735992" y="1449361"/>
                </a:lnTo>
                <a:lnTo>
                  <a:pt x="734430" y="1450558"/>
                </a:lnTo>
                <a:lnTo>
                  <a:pt x="732868" y="1452155"/>
                </a:lnTo>
                <a:lnTo>
                  <a:pt x="730525" y="1452953"/>
                </a:lnTo>
                <a:lnTo>
                  <a:pt x="727792" y="1453352"/>
                </a:lnTo>
                <a:lnTo>
                  <a:pt x="721935" y="1454150"/>
                </a:lnTo>
                <a:lnTo>
                  <a:pt x="715297" y="1454150"/>
                </a:lnTo>
                <a:lnTo>
                  <a:pt x="712173" y="1453751"/>
                </a:lnTo>
                <a:lnTo>
                  <a:pt x="709049" y="1452953"/>
                </a:lnTo>
                <a:lnTo>
                  <a:pt x="706706" y="1452155"/>
                </a:lnTo>
                <a:lnTo>
                  <a:pt x="703973" y="1450558"/>
                </a:lnTo>
                <a:lnTo>
                  <a:pt x="701240" y="1448962"/>
                </a:lnTo>
                <a:lnTo>
                  <a:pt x="699287" y="1447366"/>
                </a:lnTo>
                <a:lnTo>
                  <a:pt x="694992" y="1442977"/>
                </a:lnTo>
                <a:lnTo>
                  <a:pt x="691478" y="1438188"/>
                </a:lnTo>
                <a:lnTo>
                  <a:pt x="687963" y="1432602"/>
                </a:lnTo>
                <a:lnTo>
                  <a:pt x="685230" y="1427015"/>
                </a:lnTo>
                <a:lnTo>
                  <a:pt x="682497" y="1421029"/>
                </a:lnTo>
                <a:lnTo>
                  <a:pt x="680544" y="1415044"/>
                </a:lnTo>
                <a:lnTo>
                  <a:pt x="678982" y="1409058"/>
                </a:lnTo>
                <a:lnTo>
                  <a:pt x="676249" y="1399082"/>
                </a:lnTo>
                <a:lnTo>
                  <a:pt x="675078" y="1392298"/>
                </a:lnTo>
                <a:lnTo>
                  <a:pt x="674687" y="1389106"/>
                </a:lnTo>
                <a:lnTo>
                  <a:pt x="674687" y="1388707"/>
                </a:lnTo>
                <a:lnTo>
                  <a:pt x="675078" y="1388308"/>
                </a:lnTo>
                <a:lnTo>
                  <a:pt x="676249" y="1387909"/>
                </a:lnTo>
                <a:lnTo>
                  <a:pt x="679373" y="1387111"/>
                </a:lnTo>
                <a:lnTo>
                  <a:pt x="683278" y="1385913"/>
                </a:lnTo>
                <a:lnTo>
                  <a:pt x="689525" y="1384716"/>
                </a:lnTo>
                <a:lnTo>
                  <a:pt x="698897" y="1383120"/>
                </a:lnTo>
                <a:lnTo>
                  <a:pt x="715297" y="1381524"/>
                </a:lnTo>
                <a:lnTo>
                  <a:pt x="725449" y="1381125"/>
                </a:lnTo>
                <a:close/>
                <a:moveTo>
                  <a:pt x="1433588" y="1247775"/>
                </a:moveTo>
                <a:lnTo>
                  <a:pt x="1439124" y="1247775"/>
                </a:lnTo>
                <a:lnTo>
                  <a:pt x="1444264" y="1248175"/>
                </a:lnTo>
                <a:lnTo>
                  <a:pt x="1448614" y="1248976"/>
                </a:lnTo>
                <a:lnTo>
                  <a:pt x="1451382" y="1249776"/>
                </a:lnTo>
                <a:lnTo>
                  <a:pt x="1453359" y="1250977"/>
                </a:lnTo>
                <a:lnTo>
                  <a:pt x="1454150" y="1252178"/>
                </a:lnTo>
                <a:lnTo>
                  <a:pt x="1454150" y="1253779"/>
                </a:lnTo>
                <a:lnTo>
                  <a:pt x="1453359" y="1255380"/>
                </a:lnTo>
                <a:lnTo>
                  <a:pt x="1452173" y="1256981"/>
                </a:lnTo>
                <a:lnTo>
                  <a:pt x="1450196" y="1258582"/>
                </a:lnTo>
                <a:lnTo>
                  <a:pt x="1447428" y="1260183"/>
                </a:lnTo>
                <a:lnTo>
                  <a:pt x="1441892" y="1262985"/>
                </a:lnTo>
                <a:lnTo>
                  <a:pt x="1435565" y="1264986"/>
                </a:lnTo>
                <a:lnTo>
                  <a:pt x="1432402" y="1265387"/>
                </a:lnTo>
                <a:lnTo>
                  <a:pt x="1429634" y="1265787"/>
                </a:lnTo>
                <a:lnTo>
                  <a:pt x="1427261" y="1265787"/>
                </a:lnTo>
                <a:lnTo>
                  <a:pt x="1425284" y="1265387"/>
                </a:lnTo>
                <a:lnTo>
                  <a:pt x="1423703" y="1264986"/>
                </a:lnTo>
                <a:lnTo>
                  <a:pt x="1422516" y="1264586"/>
                </a:lnTo>
                <a:lnTo>
                  <a:pt x="1420539" y="1264586"/>
                </a:lnTo>
                <a:lnTo>
                  <a:pt x="1419353" y="1264986"/>
                </a:lnTo>
                <a:lnTo>
                  <a:pt x="1418562" y="1265787"/>
                </a:lnTo>
                <a:lnTo>
                  <a:pt x="1417376" y="1266588"/>
                </a:lnTo>
                <a:lnTo>
                  <a:pt x="1416980" y="1267388"/>
                </a:lnTo>
                <a:lnTo>
                  <a:pt x="1416585" y="1268589"/>
                </a:lnTo>
                <a:lnTo>
                  <a:pt x="1416190" y="1269790"/>
                </a:lnTo>
                <a:lnTo>
                  <a:pt x="1416585" y="1270990"/>
                </a:lnTo>
                <a:lnTo>
                  <a:pt x="1416585" y="1272191"/>
                </a:lnTo>
                <a:lnTo>
                  <a:pt x="1417376" y="1273392"/>
                </a:lnTo>
                <a:lnTo>
                  <a:pt x="1418562" y="1274993"/>
                </a:lnTo>
                <a:lnTo>
                  <a:pt x="1419748" y="1276194"/>
                </a:lnTo>
                <a:lnTo>
                  <a:pt x="1422121" y="1277395"/>
                </a:lnTo>
                <a:lnTo>
                  <a:pt x="1424098" y="1278596"/>
                </a:lnTo>
                <a:lnTo>
                  <a:pt x="1428843" y="1280597"/>
                </a:lnTo>
                <a:lnTo>
                  <a:pt x="1430820" y="1282198"/>
                </a:lnTo>
                <a:lnTo>
                  <a:pt x="1432402" y="1283799"/>
                </a:lnTo>
                <a:lnTo>
                  <a:pt x="1433588" y="1285000"/>
                </a:lnTo>
                <a:lnTo>
                  <a:pt x="1435170" y="1287001"/>
                </a:lnTo>
                <a:lnTo>
                  <a:pt x="1436356" y="1289003"/>
                </a:lnTo>
                <a:lnTo>
                  <a:pt x="1436751" y="1291404"/>
                </a:lnTo>
                <a:lnTo>
                  <a:pt x="1437542" y="1293406"/>
                </a:lnTo>
                <a:lnTo>
                  <a:pt x="1437542" y="1296608"/>
                </a:lnTo>
                <a:lnTo>
                  <a:pt x="1437542" y="1299009"/>
                </a:lnTo>
                <a:lnTo>
                  <a:pt x="1437147" y="1302612"/>
                </a:lnTo>
                <a:lnTo>
                  <a:pt x="1436356" y="1305414"/>
                </a:lnTo>
                <a:lnTo>
                  <a:pt x="1435170" y="1309416"/>
                </a:lnTo>
                <a:lnTo>
                  <a:pt x="1431611" y="1317422"/>
                </a:lnTo>
                <a:lnTo>
                  <a:pt x="1430029" y="1320624"/>
                </a:lnTo>
                <a:lnTo>
                  <a:pt x="1428052" y="1323826"/>
                </a:lnTo>
                <a:lnTo>
                  <a:pt x="1425680" y="1326628"/>
                </a:lnTo>
                <a:lnTo>
                  <a:pt x="1423307" y="1328629"/>
                </a:lnTo>
                <a:lnTo>
                  <a:pt x="1420539" y="1331431"/>
                </a:lnTo>
                <a:lnTo>
                  <a:pt x="1417771" y="1333032"/>
                </a:lnTo>
                <a:lnTo>
                  <a:pt x="1414608" y="1334633"/>
                </a:lnTo>
                <a:lnTo>
                  <a:pt x="1411445" y="1336635"/>
                </a:lnTo>
                <a:lnTo>
                  <a:pt x="1404722" y="1338636"/>
                </a:lnTo>
                <a:lnTo>
                  <a:pt x="1397605" y="1340237"/>
                </a:lnTo>
                <a:lnTo>
                  <a:pt x="1390487" y="1341038"/>
                </a:lnTo>
                <a:lnTo>
                  <a:pt x="1383370" y="1341438"/>
                </a:lnTo>
                <a:lnTo>
                  <a:pt x="1376252" y="1341438"/>
                </a:lnTo>
                <a:lnTo>
                  <a:pt x="1369530" y="1341038"/>
                </a:lnTo>
                <a:lnTo>
                  <a:pt x="1358063" y="1339437"/>
                </a:lnTo>
                <a:lnTo>
                  <a:pt x="1350154" y="1338236"/>
                </a:lnTo>
                <a:lnTo>
                  <a:pt x="1347386" y="1337435"/>
                </a:lnTo>
                <a:lnTo>
                  <a:pt x="1347386" y="1337835"/>
                </a:lnTo>
                <a:lnTo>
                  <a:pt x="1346991" y="1337435"/>
                </a:lnTo>
                <a:lnTo>
                  <a:pt x="1346200" y="1337035"/>
                </a:lnTo>
                <a:lnTo>
                  <a:pt x="1346200" y="1334633"/>
                </a:lnTo>
                <a:lnTo>
                  <a:pt x="1346991" y="1331831"/>
                </a:lnTo>
                <a:lnTo>
                  <a:pt x="1347782" y="1326228"/>
                </a:lnTo>
                <a:lnTo>
                  <a:pt x="1349363" y="1318623"/>
                </a:lnTo>
                <a:lnTo>
                  <a:pt x="1351736" y="1307415"/>
                </a:lnTo>
                <a:lnTo>
                  <a:pt x="1355295" y="1296608"/>
                </a:lnTo>
                <a:lnTo>
                  <a:pt x="1357667" y="1287402"/>
                </a:lnTo>
                <a:lnTo>
                  <a:pt x="1361621" y="1275794"/>
                </a:lnTo>
                <a:lnTo>
                  <a:pt x="1363994" y="1270190"/>
                </a:lnTo>
                <a:lnTo>
                  <a:pt x="1364785" y="1268589"/>
                </a:lnTo>
                <a:lnTo>
                  <a:pt x="1366762" y="1265787"/>
                </a:lnTo>
                <a:lnTo>
                  <a:pt x="1369925" y="1262985"/>
                </a:lnTo>
                <a:lnTo>
                  <a:pt x="1373484" y="1260183"/>
                </a:lnTo>
                <a:lnTo>
                  <a:pt x="1378229" y="1258182"/>
                </a:lnTo>
                <a:lnTo>
                  <a:pt x="1383765" y="1256181"/>
                </a:lnTo>
                <a:lnTo>
                  <a:pt x="1389301" y="1253779"/>
                </a:lnTo>
                <a:lnTo>
                  <a:pt x="1395628" y="1252578"/>
                </a:lnTo>
                <a:lnTo>
                  <a:pt x="1401954" y="1250977"/>
                </a:lnTo>
                <a:lnTo>
                  <a:pt x="1415399" y="1248976"/>
                </a:lnTo>
                <a:lnTo>
                  <a:pt x="1428052" y="1248175"/>
                </a:lnTo>
                <a:lnTo>
                  <a:pt x="1433588" y="1247775"/>
                </a:lnTo>
                <a:close/>
                <a:moveTo>
                  <a:pt x="1155700" y="965200"/>
                </a:moveTo>
                <a:lnTo>
                  <a:pt x="1161653" y="965597"/>
                </a:lnTo>
                <a:lnTo>
                  <a:pt x="1167209" y="966787"/>
                </a:lnTo>
                <a:lnTo>
                  <a:pt x="1172766" y="968770"/>
                </a:lnTo>
                <a:lnTo>
                  <a:pt x="1177925" y="971944"/>
                </a:lnTo>
                <a:lnTo>
                  <a:pt x="1182687" y="975514"/>
                </a:lnTo>
                <a:lnTo>
                  <a:pt x="1187450" y="980274"/>
                </a:lnTo>
                <a:lnTo>
                  <a:pt x="1192213" y="985431"/>
                </a:lnTo>
                <a:lnTo>
                  <a:pt x="1196181" y="991381"/>
                </a:lnTo>
                <a:lnTo>
                  <a:pt x="1200150" y="998125"/>
                </a:lnTo>
                <a:lnTo>
                  <a:pt x="1204119" y="1005265"/>
                </a:lnTo>
                <a:lnTo>
                  <a:pt x="1207691" y="1012802"/>
                </a:lnTo>
                <a:lnTo>
                  <a:pt x="1211659" y="1021133"/>
                </a:lnTo>
                <a:lnTo>
                  <a:pt x="1214437" y="1029860"/>
                </a:lnTo>
                <a:lnTo>
                  <a:pt x="1217613" y="1038984"/>
                </a:lnTo>
                <a:lnTo>
                  <a:pt x="1220787" y="1048504"/>
                </a:lnTo>
                <a:lnTo>
                  <a:pt x="1225947" y="1068338"/>
                </a:lnTo>
                <a:lnTo>
                  <a:pt x="1230313" y="1089363"/>
                </a:lnTo>
                <a:lnTo>
                  <a:pt x="1234678" y="1111180"/>
                </a:lnTo>
                <a:lnTo>
                  <a:pt x="1237853" y="1133792"/>
                </a:lnTo>
                <a:lnTo>
                  <a:pt x="1241028" y="1155609"/>
                </a:lnTo>
                <a:lnTo>
                  <a:pt x="1243013" y="1177824"/>
                </a:lnTo>
                <a:lnTo>
                  <a:pt x="1245394" y="1198848"/>
                </a:lnTo>
                <a:lnTo>
                  <a:pt x="1246981" y="1219476"/>
                </a:lnTo>
                <a:lnTo>
                  <a:pt x="1246187" y="1186551"/>
                </a:lnTo>
                <a:lnTo>
                  <a:pt x="1342231" y="1244467"/>
                </a:lnTo>
                <a:lnTo>
                  <a:pt x="1323181" y="1340465"/>
                </a:lnTo>
                <a:lnTo>
                  <a:pt x="1248966" y="1309524"/>
                </a:lnTo>
                <a:lnTo>
                  <a:pt x="1245394" y="1284929"/>
                </a:lnTo>
                <a:lnTo>
                  <a:pt x="1239441" y="1242087"/>
                </a:lnTo>
                <a:lnTo>
                  <a:pt x="1231106" y="1373787"/>
                </a:lnTo>
                <a:lnTo>
                  <a:pt x="1230709" y="1379737"/>
                </a:lnTo>
                <a:lnTo>
                  <a:pt x="1230313" y="1386084"/>
                </a:lnTo>
                <a:lnTo>
                  <a:pt x="1230709" y="1392431"/>
                </a:lnTo>
                <a:lnTo>
                  <a:pt x="1232297" y="1399968"/>
                </a:lnTo>
                <a:lnTo>
                  <a:pt x="1234281" y="1407902"/>
                </a:lnTo>
                <a:lnTo>
                  <a:pt x="1237059" y="1417422"/>
                </a:lnTo>
                <a:lnTo>
                  <a:pt x="1241822" y="1428133"/>
                </a:lnTo>
                <a:lnTo>
                  <a:pt x="1247775" y="1440430"/>
                </a:lnTo>
                <a:lnTo>
                  <a:pt x="1231106" y="1440430"/>
                </a:lnTo>
                <a:lnTo>
                  <a:pt x="1242219" y="1446380"/>
                </a:lnTo>
                <a:lnTo>
                  <a:pt x="1256109" y="1453124"/>
                </a:lnTo>
                <a:lnTo>
                  <a:pt x="1287066" y="1467405"/>
                </a:lnTo>
                <a:lnTo>
                  <a:pt x="1313259" y="1479305"/>
                </a:lnTo>
                <a:lnTo>
                  <a:pt x="1323975" y="1483669"/>
                </a:lnTo>
                <a:lnTo>
                  <a:pt x="1501775" y="1720491"/>
                </a:lnTo>
                <a:lnTo>
                  <a:pt x="1401763" y="1798638"/>
                </a:lnTo>
                <a:lnTo>
                  <a:pt x="1210469" y="1576494"/>
                </a:lnTo>
                <a:lnTo>
                  <a:pt x="1080294" y="1561816"/>
                </a:lnTo>
                <a:lnTo>
                  <a:pt x="1080294" y="1563800"/>
                </a:lnTo>
                <a:lnTo>
                  <a:pt x="1080294" y="1567370"/>
                </a:lnTo>
                <a:lnTo>
                  <a:pt x="1079500" y="1575700"/>
                </a:lnTo>
                <a:lnTo>
                  <a:pt x="1077516" y="1587601"/>
                </a:lnTo>
                <a:lnTo>
                  <a:pt x="1074341" y="1601088"/>
                </a:lnTo>
                <a:lnTo>
                  <a:pt x="1066403" y="1633220"/>
                </a:lnTo>
                <a:lnTo>
                  <a:pt x="1056878" y="1669318"/>
                </a:lnTo>
                <a:lnTo>
                  <a:pt x="1046956" y="1703830"/>
                </a:lnTo>
                <a:lnTo>
                  <a:pt x="1038622" y="1733582"/>
                </a:lnTo>
                <a:lnTo>
                  <a:pt x="1030288" y="1762540"/>
                </a:lnTo>
                <a:lnTo>
                  <a:pt x="802481" y="1785548"/>
                </a:lnTo>
                <a:lnTo>
                  <a:pt x="770731" y="1731201"/>
                </a:lnTo>
                <a:lnTo>
                  <a:pt x="904081" y="1706210"/>
                </a:lnTo>
                <a:lnTo>
                  <a:pt x="903685" y="1489619"/>
                </a:lnTo>
                <a:lnTo>
                  <a:pt x="871935" y="1482479"/>
                </a:lnTo>
                <a:lnTo>
                  <a:pt x="869950" y="1471768"/>
                </a:lnTo>
                <a:lnTo>
                  <a:pt x="867966" y="1461851"/>
                </a:lnTo>
                <a:lnTo>
                  <a:pt x="866378" y="1453124"/>
                </a:lnTo>
                <a:lnTo>
                  <a:pt x="864791" y="1445190"/>
                </a:lnTo>
                <a:lnTo>
                  <a:pt x="863600" y="1428926"/>
                </a:lnTo>
                <a:lnTo>
                  <a:pt x="862806" y="1413455"/>
                </a:lnTo>
                <a:lnTo>
                  <a:pt x="862013" y="1373787"/>
                </a:lnTo>
                <a:lnTo>
                  <a:pt x="860822" y="1346812"/>
                </a:lnTo>
                <a:lnTo>
                  <a:pt x="858044" y="1312697"/>
                </a:lnTo>
                <a:lnTo>
                  <a:pt x="854472" y="1175444"/>
                </a:lnTo>
                <a:lnTo>
                  <a:pt x="843756" y="1181791"/>
                </a:lnTo>
                <a:lnTo>
                  <a:pt x="818753" y="1197658"/>
                </a:lnTo>
                <a:lnTo>
                  <a:pt x="802878" y="1208369"/>
                </a:lnTo>
                <a:lnTo>
                  <a:pt x="786606" y="1219476"/>
                </a:lnTo>
                <a:lnTo>
                  <a:pt x="770731" y="1230980"/>
                </a:lnTo>
                <a:lnTo>
                  <a:pt x="756841" y="1242087"/>
                </a:lnTo>
                <a:lnTo>
                  <a:pt x="754460" y="1250021"/>
                </a:lnTo>
                <a:lnTo>
                  <a:pt x="752872" y="1258351"/>
                </a:lnTo>
                <a:lnTo>
                  <a:pt x="752078" y="1266681"/>
                </a:lnTo>
                <a:lnTo>
                  <a:pt x="751285" y="1275805"/>
                </a:lnTo>
                <a:lnTo>
                  <a:pt x="751285" y="1284532"/>
                </a:lnTo>
                <a:lnTo>
                  <a:pt x="751681" y="1292863"/>
                </a:lnTo>
                <a:lnTo>
                  <a:pt x="752078" y="1301590"/>
                </a:lnTo>
                <a:lnTo>
                  <a:pt x="752872" y="1310317"/>
                </a:lnTo>
                <a:lnTo>
                  <a:pt x="754856" y="1325788"/>
                </a:lnTo>
                <a:lnTo>
                  <a:pt x="756444" y="1339275"/>
                </a:lnTo>
                <a:lnTo>
                  <a:pt x="758031" y="1350382"/>
                </a:lnTo>
                <a:lnTo>
                  <a:pt x="758031" y="1354349"/>
                </a:lnTo>
                <a:lnTo>
                  <a:pt x="756841" y="1357523"/>
                </a:lnTo>
                <a:lnTo>
                  <a:pt x="727869" y="1355539"/>
                </a:lnTo>
                <a:lnTo>
                  <a:pt x="715566" y="1354746"/>
                </a:lnTo>
                <a:lnTo>
                  <a:pt x="709613" y="1354746"/>
                </a:lnTo>
                <a:lnTo>
                  <a:pt x="704453" y="1355143"/>
                </a:lnTo>
                <a:lnTo>
                  <a:pt x="698897" y="1355539"/>
                </a:lnTo>
                <a:lnTo>
                  <a:pt x="693341" y="1356729"/>
                </a:lnTo>
                <a:lnTo>
                  <a:pt x="687785" y="1357919"/>
                </a:lnTo>
                <a:lnTo>
                  <a:pt x="682228" y="1359903"/>
                </a:lnTo>
                <a:lnTo>
                  <a:pt x="677069" y="1361886"/>
                </a:lnTo>
                <a:lnTo>
                  <a:pt x="671116" y="1364663"/>
                </a:lnTo>
                <a:lnTo>
                  <a:pt x="664766" y="1367836"/>
                </a:lnTo>
                <a:lnTo>
                  <a:pt x="658416" y="1372200"/>
                </a:lnTo>
                <a:lnTo>
                  <a:pt x="657225" y="1367043"/>
                </a:lnTo>
                <a:lnTo>
                  <a:pt x="655241" y="1361093"/>
                </a:lnTo>
                <a:lnTo>
                  <a:pt x="654050" y="1355143"/>
                </a:lnTo>
                <a:lnTo>
                  <a:pt x="653256" y="1348399"/>
                </a:lnTo>
                <a:lnTo>
                  <a:pt x="651669" y="1333325"/>
                </a:lnTo>
                <a:lnTo>
                  <a:pt x="650875" y="1316267"/>
                </a:lnTo>
                <a:lnTo>
                  <a:pt x="650875" y="1296830"/>
                </a:lnTo>
                <a:lnTo>
                  <a:pt x="651272" y="1274615"/>
                </a:lnTo>
                <a:lnTo>
                  <a:pt x="652066" y="1251211"/>
                </a:lnTo>
                <a:lnTo>
                  <a:pt x="653653" y="1225029"/>
                </a:lnTo>
                <a:lnTo>
                  <a:pt x="660797" y="1208369"/>
                </a:lnTo>
                <a:lnTo>
                  <a:pt x="667147" y="1194881"/>
                </a:lnTo>
                <a:lnTo>
                  <a:pt x="670322" y="1188931"/>
                </a:lnTo>
                <a:lnTo>
                  <a:pt x="673497" y="1183774"/>
                </a:lnTo>
                <a:lnTo>
                  <a:pt x="680244" y="1174254"/>
                </a:lnTo>
                <a:lnTo>
                  <a:pt x="687388" y="1164733"/>
                </a:lnTo>
                <a:lnTo>
                  <a:pt x="696119" y="1155213"/>
                </a:lnTo>
                <a:lnTo>
                  <a:pt x="706438" y="1143312"/>
                </a:lnTo>
                <a:lnTo>
                  <a:pt x="718741" y="1129031"/>
                </a:lnTo>
                <a:lnTo>
                  <a:pt x="738585" y="1108007"/>
                </a:lnTo>
                <a:lnTo>
                  <a:pt x="756047" y="1088966"/>
                </a:lnTo>
                <a:lnTo>
                  <a:pt x="785416" y="1057231"/>
                </a:lnTo>
                <a:lnTo>
                  <a:pt x="797719" y="1043744"/>
                </a:lnTo>
                <a:lnTo>
                  <a:pt x="809228" y="1032240"/>
                </a:lnTo>
                <a:lnTo>
                  <a:pt x="820738" y="1021926"/>
                </a:lnTo>
                <a:lnTo>
                  <a:pt x="831056" y="1012802"/>
                </a:lnTo>
                <a:lnTo>
                  <a:pt x="836613" y="1008439"/>
                </a:lnTo>
                <a:lnTo>
                  <a:pt x="842169" y="1004869"/>
                </a:lnTo>
                <a:lnTo>
                  <a:pt x="848122" y="1000902"/>
                </a:lnTo>
                <a:lnTo>
                  <a:pt x="854075" y="997331"/>
                </a:lnTo>
                <a:lnTo>
                  <a:pt x="860028" y="994555"/>
                </a:lnTo>
                <a:lnTo>
                  <a:pt x="866378" y="991381"/>
                </a:lnTo>
                <a:lnTo>
                  <a:pt x="873125" y="988208"/>
                </a:lnTo>
                <a:lnTo>
                  <a:pt x="880269" y="985828"/>
                </a:lnTo>
                <a:lnTo>
                  <a:pt x="895350" y="980274"/>
                </a:lnTo>
                <a:lnTo>
                  <a:pt x="912416" y="975117"/>
                </a:lnTo>
                <a:lnTo>
                  <a:pt x="932260" y="970753"/>
                </a:lnTo>
                <a:lnTo>
                  <a:pt x="954881" y="965597"/>
                </a:lnTo>
                <a:lnTo>
                  <a:pt x="963613" y="965993"/>
                </a:lnTo>
                <a:lnTo>
                  <a:pt x="979488" y="966787"/>
                </a:lnTo>
                <a:lnTo>
                  <a:pt x="1004491" y="968373"/>
                </a:lnTo>
                <a:lnTo>
                  <a:pt x="1089819" y="1240103"/>
                </a:lnTo>
                <a:lnTo>
                  <a:pt x="1081484" y="1159179"/>
                </a:lnTo>
                <a:lnTo>
                  <a:pt x="1077516" y="1013199"/>
                </a:lnTo>
                <a:lnTo>
                  <a:pt x="1071959" y="999315"/>
                </a:lnTo>
                <a:lnTo>
                  <a:pt x="1083072" y="980671"/>
                </a:lnTo>
                <a:lnTo>
                  <a:pt x="1107281" y="980671"/>
                </a:lnTo>
                <a:lnTo>
                  <a:pt x="1117600" y="999315"/>
                </a:lnTo>
                <a:lnTo>
                  <a:pt x="1112837" y="1015579"/>
                </a:lnTo>
                <a:lnTo>
                  <a:pt x="1142206" y="1228203"/>
                </a:lnTo>
                <a:lnTo>
                  <a:pt x="1137841" y="971944"/>
                </a:lnTo>
                <a:lnTo>
                  <a:pt x="1146572" y="967580"/>
                </a:lnTo>
                <a:lnTo>
                  <a:pt x="1148953" y="966390"/>
                </a:lnTo>
                <a:lnTo>
                  <a:pt x="1149350" y="965597"/>
                </a:lnTo>
                <a:lnTo>
                  <a:pt x="1155700" y="965200"/>
                </a:lnTo>
                <a:close/>
                <a:moveTo>
                  <a:pt x="931148" y="736601"/>
                </a:moveTo>
                <a:lnTo>
                  <a:pt x="929554" y="751285"/>
                </a:lnTo>
                <a:lnTo>
                  <a:pt x="928757" y="762794"/>
                </a:lnTo>
                <a:lnTo>
                  <a:pt x="929155" y="762794"/>
                </a:lnTo>
                <a:lnTo>
                  <a:pt x="929554" y="751285"/>
                </a:lnTo>
                <a:lnTo>
                  <a:pt x="930351" y="746126"/>
                </a:lnTo>
                <a:lnTo>
                  <a:pt x="931148" y="741363"/>
                </a:lnTo>
                <a:lnTo>
                  <a:pt x="931148" y="736601"/>
                </a:lnTo>
                <a:close/>
                <a:moveTo>
                  <a:pt x="949086" y="679054"/>
                </a:moveTo>
                <a:lnTo>
                  <a:pt x="948289" y="679847"/>
                </a:lnTo>
                <a:lnTo>
                  <a:pt x="945499" y="681435"/>
                </a:lnTo>
                <a:lnTo>
                  <a:pt x="943904" y="683419"/>
                </a:lnTo>
                <a:lnTo>
                  <a:pt x="941911" y="686991"/>
                </a:lnTo>
                <a:lnTo>
                  <a:pt x="945897" y="682625"/>
                </a:lnTo>
                <a:lnTo>
                  <a:pt x="948289" y="681038"/>
                </a:lnTo>
                <a:lnTo>
                  <a:pt x="950282" y="679054"/>
                </a:lnTo>
                <a:lnTo>
                  <a:pt x="949086" y="679054"/>
                </a:lnTo>
                <a:close/>
                <a:moveTo>
                  <a:pt x="1038375" y="620713"/>
                </a:moveTo>
                <a:lnTo>
                  <a:pt x="1049138" y="620713"/>
                </a:lnTo>
                <a:lnTo>
                  <a:pt x="1059502" y="621110"/>
                </a:lnTo>
                <a:lnTo>
                  <a:pt x="1069866" y="622300"/>
                </a:lnTo>
                <a:lnTo>
                  <a:pt x="1079432" y="623491"/>
                </a:lnTo>
                <a:lnTo>
                  <a:pt x="1088999" y="625872"/>
                </a:lnTo>
                <a:lnTo>
                  <a:pt x="1098167" y="627857"/>
                </a:lnTo>
                <a:lnTo>
                  <a:pt x="1106937" y="630238"/>
                </a:lnTo>
                <a:lnTo>
                  <a:pt x="1115307" y="633413"/>
                </a:lnTo>
                <a:lnTo>
                  <a:pt x="1123678" y="636191"/>
                </a:lnTo>
                <a:lnTo>
                  <a:pt x="1130853" y="639763"/>
                </a:lnTo>
                <a:lnTo>
                  <a:pt x="1138028" y="642938"/>
                </a:lnTo>
                <a:lnTo>
                  <a:pt x="1144805" y="646510"/>
                </a:lnTo>
                <a:lnTo>
                  <a:pt x="1156365" y="652860"/>
                </a:lnTo>
                <a:lnTo>
                  <a:pt x="1166729" y="659607"/>
                </a:lnTo>
                <a:lnTo>
                  <a:pt x="1174701" y="664766"/>
                </a:lnTo>
                <a:lnTo>
                  <a:pt x="1180680" y="669529"/>
                </a:lnTo>
                <a:lnTo>
                  <a:pt x="1185862" y="673497"/>
                </a:lnTo>
                <a:lnTo>
                  <a:pt x="1185862" y="676275"/>
                </a:lnTo>
                <a:lnTo>
                  <a:pt x="1185862" y="684213"/>
                </a:lnTo>
                <a:lnTo>
                  <a:pt x="1185065" y="688975"/>
                </a:lnTo>
                <a:lnTo>
                  <a:pt x="1183869" y="694532"/>
                </a:lnTo>
                <a:lnTo>
                  <a:pt x="1182274" y="700088"/>
                </a:lnTo>
                <a:lnTo>
                  <a:pt x="1180281" y="704850"/>
                </a:lnTo>
                <a:lnTo>
                  <a:pt x="1179086" y="707629"/>
                </a:lnTo>
                <a:lnTo>
                  <a:pt x="1177093" y="710010"/>
                </a:lnTo>
                <a:lnTo>
                  <a:pt x="1175498" y="711994"/>
                </a:lnTo>
                <a:lnTo>
                  <a:pt x="1173505" y="713979"/>
                </a:lnTo>
                <a:lnTo>
                  <a:pt x="1170715" y="715963"/>
                </a:lnTo>
                <a:lnTo>
                  <a:pt x="1168323" y="717154"/>
                </a:lnTo>
                <a:lnTo>
                  <a:pt x="1165533" y="718344"/>
                </a:lnTo>
                <a:lnTo>
                  <a:pt x="1161945" y="719138"/>
                </a:lnTo>
                <a:lnTo>
                  <a:pt x="1158756" y="719535"/>
                </a:lnTo>
                <a:lnTo>
                  <a:pt x="1154770" y="719535"/>
                </a:lnTo>
                <a:lnTo>
                  <a:pt x="1150784" y="719138"/>
                </a:lnTo>
                <a:lnTo>
                  <a:pt x="1146001" y="718344"/>
                </a:lnTo>
                <a:lnTo>
                  <a:pt x="1140819" y="717154"/>
                </a:lnTo>
                <a:lnTo>
                  <a:pt x="1135238" y="715566"/>
                </a:lnTo>
                <a:lnTo>
                  <a:pt x="1129259" y="712788"/>
                </a:lnTo>
                <a:lnTo>
                  <a:pt x="1123678" y="710010"/>
                </a:lnTo>
                <a:lnTo>
                  <a:pt x="1120091" y="708819"/>
                </a:lnTo>
                <a:lnTo>
                  <a:pt x="1114112" y="707629"/>
                </a:lnTo>
                <a:lnTo>
                  <a:pt x="1098964" y="704850"/>
                </a:lnTo>
                <a:lnTo>
                  <a:pt x="1083418" y="702072"/>
                </a:lnTo>
                <a:lnTo>
                  <a:pt x="1077439" y="700882"/>
                </a:lnTo>
                <a:lnTo>
                  <a:pt x="1073852" y="700088"/>
                </a:lnTo>
                <a:lnTo>
                  <a:pt x="1104545" y="714772"/>
                </a:lnTo>
                <a:lnTo>
                  <a:pt x="1118895" y="721122"/>
                </a:lnTo>
                <a:lnTo>
                  <a:pt x="1125671" y="723504"/>
                </a:lnTo>
                <a:lnTo>
                  <a:pt x="1132448" y="725885"/>
                </a:lnTo>
                <a:lnTo>
                  <a:pt x="1138826" y="728266"/>
                </a:lnTo>
                <a:lnTo>
                  <a:pt x="1144805" y="729457"/>
                </a:lnTo>
                <a:lnTo>
                  <a:pt x="1150784" y="730647"/>
                </a:lnTo>
                <a:lnTo>
                  <a:pt x="1155966" y="731044"/>
                </a:lnTo>
                <a:lnTo>
                  <a:pt x="1161148" y="730647"/>
                </a:lnTo>
                <a:lnTo>
                  <a:pt x="1165931" y="729457"/>
                </a:lnTo>
                <a:lnTo>
                  <a:pt x="1170316" y="727869"/>
                </a:lnTo>
                <a:lnTo>
                  <a:pt x="1174302" y="725091"/>
                </a:lnTo>
                <a:lnTo>
                  <a:pt x="1175498" y="735410"/>
                </a:lnTo>
                <a:lnTo>
                  <a:pt x="1175897" y="744935"/>
                </a:lnTo>
                <a:lnTo>
                  <a:pt x="1175498" y="753666"/>
                </a:lnTo>
                <a:lnTo>
                  <a:pt x="1175099" y="762397"/>
                </a:lnTo>
                <a:lnTo>
                  <a:pt x="1176694" y="761207"/>
                </a:lnTo>
                <a:lnTo>
                  <a:pt x="1177491" y="760413"/>
                </a:lnTo>
                <a:lnTo>
                  <a:pt x="1178687" y="760016"/>
                </a:lnTo>
                <a:lnTo>
                  <a:pt x="1179086" y="760413"/>
                </a:lnTo>
                <a:lnTo>
                  <a:pt x="1179484" y="761207"/>
                </a:lnTo>
                <a:lnTo>
                  <a:pt x="1179883" y="763985"/>
                </a:lnTo>
                <a:lnTo>
                  <a:pt x="1180281" y="767954"/>
                </a:lnTo>
                <a:lnTo>
                  <a:pt x="1180281" y="773113"/>
                </a:lnTo>
                <a:lnTo>
                  <a:pt x="1179086" y="785813"/>
                </a:lnTo>
                <a:lnTo>
                  <a:pt x="1177491" y="800498"/>
                </a:lnTo>
                <a:lnTo>
                  <a:pt x="1175498" y="814388"/>
                </a:lnTo>
                <a:lnTo>
                  <a:pt x="1173505" y="826294"/>
                </a:lnTo>
                <a:lnTo>
                  <a:pt x="1171911" y="833438"/>
                </a:lnTo>
                <a:lnTo>
                  <a:pt x="1170715" y="834629"/>
                </a:lnTo>
                <a:lnTo>
                  <a:pt x="1170316" y="834232"/>
                </a:lnTo>
                <a:lnTo>
                  <a:pt x="1169519" y="842169"/>
                </a:lnTo>
                <a:lnTo>
                  <a:pt x="1168323" y="849710"/>
                </a:lnTo>
                <a:lnTo>
                  <a:pt x="1166729" y="856854"/>
                </a:lnTo>
                <a:lnTo>
                  <a:pt x="1165134" y="863998"/>
                </a:lnTo>
                <a:lnTo>
                  <a:pt x="1162742" y="870744"/>
                </a:lnTo>
                <a:lnTo>
                  <a:pt x="1160351" y="877491"/>
                </a:lnTo>
                <a:lnTo>
                  <a:pt x="1157959" y="883841"/>
                </a:lnTo>
                <a:lnTo>
                  <a:pt x="1154770" y="890191"/>
                </a:lnTo>
                <a:lnTo>
                  <a:pt x="1151980" y="896541"/>
                </a:lnTo>
                <a:lnTo>
                  <a:pt x="1148791" y="902098"/>
                </a:lnTo>
                <a:lnTo>
                  <a:pt x="1145602" y="907654"/>
                </a:lnTo>
                <a:lnTo>
                  <a:pt x="1141616" y="913210"/>
                </a:lnTo>
                <a:lnTo>
                  <a:pt x="1138028" y="918370"/>
                </a:lnTo>
                <a:lnTo>
                  <a:pt x="1134042" y="923529"/>
                </a:lnTo>
                <a:lnTo>
                  <a:pt x="1126070" y="932260"/>
                </a:lnTo>
                <a:lnTo>
                  <a:pt x="1117699" y="940595"/>
                </a:lnTo>
                <a:lnTo>
                  <a:pt x="1108531" y="947738"/>
                </a:lnTo>
                <a:lnTo>
                  <a:pt x="1099762" y="954088"/>
                </a:lnTo>
                <a:lnTo>
                  <a:pt x="1090593" y="959248"/>
                </a:lnTo>
                <a:lnTo>
                  <a:pt x="1081027" y="963216"/>
                </a:lnTo>
                <a:lnTo>
                  <a:pt x="1077041" y="964804"/>
                </a:lnTo>
                <a:lnTo>
                  <a:pt x="1072257" y="966391"/>
                </a:lnTo>
                <a:lnTo>
                  <a:pt x="1067474" y="967185"/>
                </a:lnTo>
                <a:lnTo>
                  <a:pt x="1063488" y="967979"/>
                </a:lnTo>
                <a:lnTo>
                  <a:pt x="1059103" y="968376"/>
                </a:lnTo>
                <a:lnTo>
                  <a:pt x="1054719" y="968376"/>
                </a:lnTo>
                <a:lnTo>
                  <a:pt x="1051530" y="968376"/>
                </a:lnTo>
                <a:lnTo>
                  <a:pt x="1047543" y="967979"/>
                </a:lnTo>
                <a:lnTo>
                  <a:pt x="1043956" y="967185"/>
                </a:lnTo>
                <a:lnTo>
                  <a:pt x="1039970" y="965995"/>
                </a:lnTo>
                <a:lnTo>
                  <a:pt x="1031998" y="962820"/>
                </a:lnTo>
                <a:lnTo>
                  <a:pt x="1023627" y="958851"/>
                </a:lnTo>
                <a:lnTo>
                  <a:pt x="1014857" y="953295"/>
                </a:lnTo>
                <a:lnTo>
                  <a:pt x="1006088" y="947341"/>
                </a:lnTo>
                <a:lnTo>
                  <a:pt x="997318" y="939801"/>
                </a:lnTo>
                <a:lnTo>
                  <a:pt x="988549" y="931863"/>
                </a:lnTo>
                <a:lnTo>
                  <a:pt x="979779" y="922338"/>
                </a:lnTo>
                <a:lnTo>
                  <a:pt x="971807" y="912813"/>
                </a:lnTo>
                <a:lnTo>
                  <a:pt x="963835" y="902098"/>
                </a:lnTo>
                <a:lnTo>
                  <a:pt x="956660" y="890985"/>
                </a:lnTo>
                <a:lnTo>
                  <a:pt x="949883" y="878682"/>
                </a:lnTo>
                <a:lnTo>
                  <a:pt x="943904" y="865982"/>
                </a:lnTo>
                <a:lnTo>
                  <a:pt x="941512" y="859632"/>
                </a:lnTo>
                <a:lnTo>
                  <a:pt x="938722" y="852885"/>
                </a:lnTo>
                <a:lnTo>
                  <a:pt x="936729" y="846138"/>
                </a:lnTo>
                <a:lnTo>
                  <a:pt x="934736" y="839391"/>
                </a:lnTo>
                <a:lnTo>
                  <a:pt x="933540" y="843757"/>
                </a:lnTo>
                <a:lnTo>
                  <a:pt x="931547" y="847329"/>
                </a:lnTo>
                <a:lnTo>
                  <a:pt x="929554" y="849710"/>
                </a:lnTo>
                <a:lnTo>
                  <a:pt x="928757" y="850107"/>
                </a:lnTo>
                <a:lnTo>
                  <a:pt x="927960" y="850504"/>
                </a:lnTo>
                <a:lnTo>
                  <a:pt x="926764" y="850107"/>
                </a:lnTo>
                <a:lnTo>
                  <a:pt x="925568" y="849710"/>
                </a:lnTo>
                <a:lnTo>
                  <a:pt x="924372" y="848123"/>
                </a:lnTo>
                <a:lnTo>
                  <a:pt x="923575" y="846535"/>
                </a:lnTo>
                <a:lnTo>
                  <a:pt x="921582" y="842963"/>
                </a:lnTo>
                <a:lnTo>
                  <a:pt x="920386" y="837407"/>
                </a:lnTo>
                <a:lnTo>
                  <a:pt x="918791" y="831057"/>
                </a:lnTo>
                <a:lnTo>
                  <a:pt x="917596" y="823516"/>
                </a:lnTo>
                <a:lnTo>
                  <a:pt x="917197" y="815182"/>
                </a:lnTo>
                <a:lnTo>
                  <a:pt x="916798" y="806054"/>
                </a:lnTo>
                <a:lnTo>
                  <a:pt x="917197" y="798116"/>
                </a:lnTo>
                <a:lnTo>
                  <a:pt x="917596" y="790576"/>
                </a:lnTo>
                <a:lnTo>
                  <a:pt x="918393" y="783829"/>
                </a:lnTo>
                <a:lnTo>
                  <a:pt x="919987" y="777479"/>
                </a:lnTo>
                <a:lnTo>
                  <a:pt x="921183" y="772319"/>
                </a:lnTo>
                <a:lnTo>
                  <a:pt x="922379" y="767954"/>
                </a:lnTo>
                <a:lnTo>
                  <a:pt x="924372" y="764779"/>
                </a:lnTo>
                <a:lnTo>
                  <a:pt x="925169" y="763588"/>
                </a:lnTo>
                <a:lnTo>
                  <a:pt x="926365" y="763191"/>
                </a:lnTo>
                <a:lnTo>
                  <a:pt x="923176" y="759619"/>
                </a:lnTo>
                <a:lnTo>
                  <a:pt x="920785" y="756444"/>
                </a:lnTo>
                <a:lnTo>
                  <a:pt x="918393" y="752476"/>
                </a:lnTo>
                <a:lnTo>
                  <a:pt x="916798" y="748507"/>
                </a:lnTo>
                <a:lnTo>
                  <a:pt x="915204" y="744538"/>
                </a:lnTo>
                <a:lnTo>
                  <a:pt x="914407" y="739776"/>
                </a:lnTo>
                <a:lnTo>
                  <a:pt x="913609" y="735807"/>
                </a:lnTo>
                <a:lnTo>
                  <a:pt x="913211" y="731044"/>
                </a:lnTo>
                <a:lnTo>
                  <a:pt x="912812" y="727076"/>
                </a:lnTo>
                <a:lnTo>
                  <a:pt x="912812" y="721916"/>
                </a:lnTo>
                <a:lnTo>
                  <a:pt x="913609" y="712391"/>
                </a:lnTo>
                <a:lnTo>
                  <a:pt x="915204" y="703263"/>
                </a:lnTo>
                <a:lnTo>
                  <a:pt x="917197" y="694135"/>
                </a:lnTo>
                <a:lnTo>
                  <a:pt x="920386" y="685007"/>
                </a:lnTo>
                <a:lnTo>
                  <a:pt x="923575" y="676672"/>
                </a:lnTo>
                <a:lnTo>
                  <a:pt x="927162" y="668735"/>
                </a:lnTo>
                <a:lnTo>
                  <a:pt x="930750" y="661988"/>
                </a:lnTo>
                <a:lnTo>
                  <a:pt x="934337" y="656035"/>
                </a:lnTo>
                <a:lnTo>
                  <a:pt x="937526" y="651272"/>
                </a:lnTo>
                <a:lnTo>
                  <a:pt x="940715" y="647700"/>
                </a:lnTo>
                <a:lnTo>
                  <a:pt x="943107" y="646113"/>
                </a:lnTo>
                <a:lnTo>
                  <a:pt x="955862" y="639763"/>
                </a:lnTo>
                <a:lnTo>
                  <a:pt x="968219" y="634604"/>
                </a:lnTo>
                <a:lnTo>
                  <a:pt x="980178" y="630238"/>
                </a:lnTo>
                <a:lnTo>
                  <a:pt x="992535" y="627063"/>
                </a:lnTo>
                <a:lnTo>
                  <a:pt x="1004493" y="624285"/>
                </a:lnTo>
                <a:lnTo>
                  <a:pt x="1016053" y="622300"/>
                </a:lnTo>
                <a:lnTo>
                  <a:pt x="1027214" y="621110"/>
                </a:lnTo>
                <a:lnTo>
                  <a:pt x="1038375" y="620713"/>
                </a:lnTo>
                <a:close/>
                <a:moveTo>
                  <a:pt x="1043186" y="515586"/>
                </a:moveTo>
                <a:lnTo>
                  <a:pt x="1022934" y="515983"/>
                </a:lnTo>
                <a:lnTo>
                  <a:pt x="1002682" y="516777"/>
                </a:lnTo>
                <a:lnTo>
                  <a:pt x="982827" y="518364"/>
                </a:lnTo>
                <a:lnTo>
                  <a:pt x="962972" y="519952"/>
                </a:lnTo>
                <a:lnTo>
                  <a:pt x="943514" y="521937"/>
                </a:lnTo>
                <a:lnTo>
                  <a:pt x="924056" y="525113"/>
                </a:lnTo>
                <a:lnTo>
                  <a:pt x="904598" y="527891"/>
                </a:lnTo>
                <a:lnTo>
                  <a:pt x="885140" y="531861"/>
                </a:lnTo>
                <a:lnTo>
                  <a:pt x="866476" y="535830"/>
                </a:lnTo>
                <a:lnTo>
                  <a:pt x="847812" y="540594"/>
                </a:lnTo>
                <a:lnTo>
                  <a:pt x="829148" y="545754"/>
                </a:lnTo>
                <a:lnTo>
                  <a:pt x="810485" y="550914"/>
                </a:lnTo>
                <a:lnTo>
                  <a:pt x="792218" y="556869"/>
                </a:lnTo>
                <a:lnTo>
                  <a:pt x="774348" y="563220"/>
                </a:lnTo>
                <a:lnTo>
                  <a:pt x="756082" y="569968"/>
                </a:lnTo>
                <a:lnTo>
                  <a:pt x="738609" y="577113"/>
                </a:lnTo>
                <a:lnTo>
                  <a:pt x="721137" y="585449"/>
                </a:lnTo>
                <a:lnTo>
                  <a:pt x="704061" y="593388"/>
                </a:lnTo>
                <a:lnTo>
                  <a:pt x="686986" y="601724"/>
                </a:lnTo>
                <a:lnTo>
                  <a:pt x="670308" y="610457"/>
                </a:lnTo>
                <a:lnTo>
                  <a:pt x="653630" y="619587"/>
                </a:lnTo>
                <a:lnTo>
                  <a:pt x="637745" y="629114"/>
                </a:lnTo>
                <a:lnTo>
                  <a:pt x="621861" y="639037"/>
                </a:lnTo>
                <a:lnTo>
                  <a:pt x="605977" y="649755"/>
                </a:lnTo>
                <a:lnTo>
                  <a:pt x="590490" y="660473"/>
                </a:lnTo>
                <a:lnTo>
                  <a:pt x="575400" y="671190"/>
                </a:lnTo>
                <a:lnTo>
                  <a:pt x="559913" y="682702"/>
                </a:lnTo>
                <a:lnTo>
                  <a:pt x="545617" y="694610"/>
                </a:lnTo>
                <a:lnTo>
                  <a:pt x="531322" y="706519"/>
                </a:lnTo>
                <a:lnTo>
                  <a:pt x="517026" y="719221"/>
                </a:lnTo>
                <a:lnTo>
                  <a:pt x="503525" y="731924"/>
                </a:lnTo>
                <a:lnTo>
                  <a:pt x="490023" y="745023"/>
                </a:lnTo>
                <a:lnTo>
                  <a:pt x="476919" y="758520"/>
                </a:lnTo>
                <a:lnTo>
                  <a:pt x="464212" y="772413"/>
                </a:lnTo>
                <a:lnTo>
                  <a:pt x="451504" y="786306"/>
                </a:lnTo>
                <a:lnTo>
                  <a:pt x="439591" y="800596"/>
                </a:lnTo>
                <a:lnTo>
                  <a:pt x="427678" y="815680"/>
                </a:lnTo>
                <a:lnTo>
                  <a:pt x="416162" y="830368"/>
                </a:lnTo>
                <a:lnTo>
                  <a:pt x="405441" y="845452"/>
                </a:lnTo>
                <a:lnTo>
                  <a:pt x="394322" y="860933"/>
                </a:lnTo>
                <a:lnTo>
                  <a:pt x="383997" y="876811"/>
                </a:lnTo>
                <a:lnTo>
                  <a:pt x="374070" y="892689"/>
                </a:lnTo>
                <a:lnTo>
                  <a:pt x="364539" y="908964"/>
                </a:lnTo>
                <a:lnTo>
                  <a:pt x="355009" y="925636"/>
                </a:lnTo>
                <a:lnTo>
                  <a:pt x="346272" y="941911"/>
                </a:lnTo>
                <a:lnTo>
                  <a:pt x="337933" y="959377"/>
                </a:lnTo>
                <a:lnTo>
                  <a:pt x="329594" y="976048"/>
                </a:lnTo>
                <a:lnTo>
                  <a:pt x="322049" y="993911"/>
                </a:lnTo>
                <a:lnTo>
                  <a:pt x="314901" y="1011377"/>
                </a:lnTo>
                <a:lnTo>
                  <a:pt x="308151" y="1029240"/>
                </a:lnTo>
                <a:lnTo>
                  <a:pt x="301797" y="1047500"/>
                </a:lnTo>
                <a:lnTo>
                  <a:pt x="295840" y="1065362"/>
                </a:lnTo>
                <a:lnTo>
                  <a:pt x="290678" y="1084019"/>
                </a:lnTo>
                <a:lnTo>
                  <a:pt x="285516" y="1102676"/>
                </a:lnTo>
                <a:lnTo>
                  <a:pt x="280751" y="1121729"/>
                </a:lnTo>
                <a:lnTo>
                  <a:pt x="276780" y="1140783"/>
                </a:lnTo>
                <a:lnTo>
                  <a:pt x="272809" y="1159440"/>
                </a:lnTo>
                <a:lnTo>
                  <a:pt x="270029" y="1178890"/>
                </a:lnTo>
                <a:lnTo>
                  <a:pt x="266852" y="1198341"/>
                </a:lnTo>
                <a:lnTo>
                  <a:pt x="264867" y="1218188"/>
                </a:lnTo>
                <a:lnTo>
                  <a:pt x="263278" y="1237639"/>
                </a:lnTo>
                <a:lnTo>
                  <a:pt x="261690" y="1257883"/>
                </a:lnTo>
                <a:lnTo>
                  <a:pt x="260896" y="1277731"/>
                </a:lnTo>
                <a:lnTo>
                  <a:pt x="260498" y="1297975"/>
                </a:lnTo>
                <a:lnTo>
                  <a:pt x="260896" y="1318220"/>
                </a:lnTo>
                <a:lnTo>
                  <a:pt x="261690" y="1338067"/>
                </a:lnTo>
                <a:lnTo>
                  <a:pt x="263278" y="1357915"/>
                </a:lnTo>
                <a:lnTo>
                  <a:pt x="264867" y="1377763"/>
                </a:lnTo>
                <a:lnTo>
                  <a:pt x="266852" y="1397213"/>
                </a:lnTo>
                <a:lnTo>
                  <a:pt x="270029" y="1416664"/>
                </a:lnTo>
                <a:lnTo>
                  <a:pt x="272809" y="1436114"/>
                </a:lnTo>
                <a:lnTo>
                  <a:pt x="276780" y="1455168"/>
                </a:lnTo>
                <a:lnTo>
                  <a:pt x="280751" y="1474222"/>
                </a:lnTo>
                <a:lnTo>
                  <a:pt x="285516" y="1493275"/>
                </a:lnTo>
                <a:lnTo>
                  <a:pt x="290678" y="1511535"/>
                </a:lnTo>
                <a:lnTo>
                  <a:pt x="295840" y="1530192"/>
                </a:lnTo>
                <a:lnTo>
                  <a:pt x="301797" y="1548452"/>
                </a:lnTo>
                <a:lnTo>
                  <a:pt x="308151" y="1566314"/>
                </a:lnTo>
                <a:lnTo>
                  <a:pt x="314901" y="1584177"/>
                </a:lnTo>
                <a:lnTo>
                  <a:pt x="322049" y="1602040"/>
                </a:lnTo>
                <a:lnTo>
                  <a:pt x="329594" y="1619109"/>
                </a:lnTo>
                <a:lnTo>
                  <a:pt x="337933" y="1636575"/>
                </a:lnTo>
                <a:lnTo>
                  <a:pt x="346272" y="1653247"/>
                </a:lnTo>
                <a:lnTo>
                  <a:pt x="355009" y="1670316"/>
                </a:lnTo>
                <a:lnTo>
                  <a:pt x="364539" y="1686591"/>
                </a:lnTo>
                <a:lnTo>
                  <a:pt x="374070" y="1703262"/>
                </a:lnTo>
                <a:lnTo>
                  <a:pt x="383997" y="1719140"/>
                </a:lnTo>
                <a:lnTo>
                  <a:pt x="394322" y="1734622"/>
                </a:lnTo>
                <a:lnTo>
                  <a:pt x="405441" y="1750500"/>
                </a:lnTo>
                <a:lnTo>
                  <a:pt x="416162" y="1765584"/>
                </a:lnTo>
                <a:lnTo>
                  <a:pt x="427678" y="1780271"/>
                </a:lnTo>
                <a:lnTo>
                  <a:pt x="439591" y="1794958"/>
                </a:lnTo>
                <a:lnTo>
                  <a:pt x="451504" y="1809248"/>
                </a:lnTo>
                <a:lnTo>
                  <a:pt x="464212" y="1823142"/>
                </a:lnTo>
                <a:lnTo>
                  <a:pt x="476919" y="1837035"/>
                </a:lnTo>
                <a:lnTo>
                  <a:pt x="490023" y="1850531"/>
                </a:lnTo>
                <a:lnTo>
                  <a:pt x="503525" y="1863631"/>
                </a:lnTo>
                <a:lnTo>
                  <a:pt x="517026" y="1876333"/>
                </a:lnTo>
                <a:lnTo>
                  <a:pt x="531322" y="1889035"/>
                </a:lnTo>
                <a:lnTo>
                  <a:pt x="545617" y="1900944"/>
                </a:lnTo>
                <a:lnTo>
                  <a:pt x="559913" y="1912852"/>
                </a:lnTo>
                <a:lnTo>
                  <a:pt x="575400" y="1923967"/>
                </a:lnTo>
                <a:lnTo>
                  <a:pt x="590490" y="1935479"/>
                </a:lnTo>
                <a:lnTo>
                  <a:pt x="605977" y="1945799"/>
                </a:lnTo>
                <a:lnTo>
                  <a:pt x="621861" y="1956517"/>
                </a:lnTo>
                <a:lnTo>
                  <a:pt x="637745" y="1966044"/>
                </a:lnTo>
                <a:lnTo>
                  <a:pt x="653630" y="1975968"/>
                </a:lnTo>
                <a:lnTo>
                  <a:pt x="670308" y="1985097"/>
                </a:lnTo>
                <a:lnTo>
                  <a:pt x="686986" y="1994227"/>
                </a:lnTo>
                <a:lnTo>
                  <a:pt x="704061" y="2002563"/>
                </a:lnTo>
                <a:lnTo>
                  <a:pt x="721137" y="2010502"/>
                </a:lnTo>
                <a:lnTo>
                  <a:pt x="738609" y="2018044"/>
                </a:lnTo>
                <a:lnTo>
                  <a:pt x="756082" y="2025189"/>
                </a:lnTo>
                <a:lnTo>
                  <a:pt x="774348" y="2032335"/>
                </a:lnTo>
                <a:lnTo>
                  <a:pt x="792218" y="2038686"/>
                </a:lnTo>
                <a:lnTo>
                  <a:pt x="810485" y="2044640"/>
                </a:lnTo>
                <a:lnTo>
                  <a:pt x="829148" y="2050197"/>
                </a:lnTo>
                <a:lnTo>
                  <a:pt x="847812" y="2055358"/>
                </a:lnTo>
                <a:lnTo>
                  <a:pt x="866476" y="2059724"/>
                </a:lnTo>
                <a:lnTo>
                  <a:pt x="885140" y="2064091"/>
                </a:lnTo>
                <a:lnTo>
                  <a:pt x="904598" y="2067266"/>
                </a:lnTo>
                <a:lnTo>
                  <a:pt x="924056" y="2070839"/>
                </a:lnTo>
                <a:lnTo>
                  <a:pt x="943514" y="2073220"/>
                </a:lnTo>
                <a:lnTo>
                  <a:pt x="962972" y="2075999"/>
                </a:lnTo>
                <a:lnTo>
                  <a:pt x="982827" y="2077587"/>
                </a:lnTo>
                <a:lnTo>
                  <a:pt x="1002682" y="2078778"/>
                </a:lnTo>
                <a:lnTo>
                  <a:pt x="1022934" y="2079572"/>
                </a:lnTo>
                <a:lnTo>
                  <a:pt x="1043186" y="2079572"/>
                </a:lnTo>
                <a:lnTo>
                  <a:pt x="1063041" y="2079572"/>
                </a:lnTo>
                <a:lnTo>
                  <a:pt x="1083293" y="2078778"/>
                </a:lnTo>
                <a:lnTo>
                  <a:pt x="1103148" y="2077587"/>
                </a:lnTo>
                <a:lnTo>
                  <a:pt x="1122606" y="2075999"/>
                </a:lnTo>
                <a:lnTo>
                  <a:pt x="1142064" y="2073220"/>
                </a:lnTo>
                <a:lnTo>
                  <a:pt x="1161919" y="2070839"/>
                </a:lnTo>
                <a:lnTo>
                  <a:pt x="1180980" y="2067266"/>
                </a:lnTo>
                <a:lnTo>
                  <a:pt x="1200438" y="2064091"/>
                </a:lnTo>
                <a:lnTo>
                  <a:pt x="1219499" y="2059724"/>
                </a:lnTo>
                <a:lnTo>
                  <a:pt x="1237766" y="2055358"/>
                </a:lnTo>
                <a:lnTo>
                  <a:pt x="1256827" y="2050197"/>
                </a:lnTo>
                <a:lnTo>
                  <a:pt x="1275093" y="2044640"/>
                </a:lnTo>
                <a:lnTo>
                  <a:pt x="1293757" y="2038686"/>
                </a:lnTo>
                <a:lnTo>
                  <a:pt x="1311627" y="2032335"/>
                </a:lnTo>
                <a:lnTo>
                  <a:pt x="1329496" y="2025189"/>
                </a:lnTo>
                <a:lnTo>
                  <a:pt x="1347366" y="2018044"/>
                </a:lnTo>
                <a:lnTo>
                  <a:pt x="1364441" y="2010502"/>
                </a:lnTo>
                <a:lnTo>
                  <a:pt x="1381914" y="2002563"/>
                </a:lnTo>
                <a:lnTo>
                  <a:pt x="1398592" y="1994227"/>
                </a:lnTo>
                <a:lnTo>
                  <a:pt x="1415667" y="1985097"/>
                </a:lnTo>
                <a:lnTo>
                  <a:pt x="1431949" y="1975968"/>
                </a:lnTo>
                <a:lnTo>
                  <a:pt x="1447833" y="1966044"/>
                </a:lnTo>
                <a:lnTo>
                  <a:pt x="1464114" y="1956517"/>
                </a:lnTo>
                <a:lnTo>
                  <a:pt x="1479998" y="1945799"/>
                </a:lnTo>
                <a:lnTo>
                  <a:pt x="1495088" y="1935479"/>
                </a:lnTo>
                <a:lnTo>
                  <a:pt x="1510575" y="1923967"/>
                </a:lnTo>
                <a:lnTo>
                  <a:pt x="1525665" y="1912852"/>
                </a:lnTo>
                <a:lnTo>
                  <a:pt x="1539960" y="1900944"/>
                </a:lnTo>
                <a:lnTo>
                  <a:pt x="1554256" y="1889035"/>
                </a:lnTo>
                <a:lnTo>
                  <a:pt x="1568551" y="1876333"/>
                </a:lnTo>
                <a:lnTo>
                  <a:pt x="1582053" y="1863631"/>
                </a:lnTo>
                <a:lnTo>
                  <a:pt x="1595555" y="1850531"/>
                </a:lnTo>
                <a:lnTo>
                  <a:pt x="1608659" y="1837035"/>
                </a:lnTo>
                <a:lnTo>
                  <a:pt x="1621763" y="1823142"/>
                </a:lnTo>
                <a:lnTo>
                  <a:pt x="1634073" y="1809248"/>
                </a:lnTo>
                <a:lnTo>
                  <a:pt x="1646383" y="1794958"/>
                </a:lnTo>
                <a:lnTo>
                  <a:pt x="1657899" y="1780271"/>
                </a:lnTo>
                <a:lnTo>
                  <a:pt x="1669415" y="1765584"/>
                </a:lnTo>
                <a:lnTo>
                  <a:pt x="1680534" y="1750500"/>
                </a:lnTo>
                <a:lnTo>
                  <a:pt x="1691256" y="1734622"/>
                </a:lnTo>
                <a:lnTo>
                  <a:pt x="1701581" y="1719140"/>
                </a:lnTo>
                <a:lnTo>
                  <a:pt x="1711508" y="1703262"/>
                </a:lnTo>
                <a:lnTo>
                  <a:pt x="1721436" y="1686591"/>
                </a:lnTo>
                <a:lnTo>
                  <a:pt x="1730569" y="1670316"/>
                </a:lnTo>
                <a:lnTo>
                  <a:pt x="1739305" y="1653247"/>
                </a:lnTo>
                <a:lnTo>
                  <a:pt x="1748041" y="1636575"/>
                </a:lnTo>
                <a:lnTo>
                  <a:pt x="1755983" y="1619109"/>
                </a:lnTo>
                <a:lnTo>
                  <a:pt x="1763529" y="1602040"/>
                </a:lnTo>
                <a:lnTo>
                  <a:pt x="1770676" y="1584177"/>
                </a:lnTo>
                <a:lnTo>
                  <a:pt x="1777427" y="1566314"/>
                </a:lnTo>
                <a:lnTo>
                  <a:pt x="1783781" y="1548452"/>
                </a:lnTo>
                <a:lnTo>
                  <a:pt x="1789737" y="1530192"/>
                </a:lnTo>
                <a:lnTo>
                  <a:pt x="1795694" y="1511535"/>
                </a:lnTo>
                <a:lnTo>
                  <a:pt x="1800459" y="1493275"/>
                </a:lnTo>
                <a:lnTo>
                  <a:pt x="1804827" y="1474222"/>
                </a:lnTo>
                <a:lnTo>
                  <a:pt x="1809195" y="1455168"/>
                </a:lnTo>
                <a:lnTo>
                  <a:pt x="1812769" y="1436114"/>
                </a:lnTo>
                <a:lnTo>
                  <a:pt x="1816343" y="1416664"/>
                </a:lnTo>
                <a:lnTo>
                  <a:pt x="1818726" y="1397213"/>
                </a:lnTo>
                <a:lnTo>
                  <a:pt x="1820711" y="1377763"/>
                </a:lnTo>
                <a:lnTo>
                  <a:pt x="1823094" y="1357915"/>
                </a:lnTo>
                <a:lnTo>
                  <a:pt x="1824285" y="1338067"/>
                </a:lnTo>
                <a:lnTo>
                  <a:pt x="1824682" y="1318220"/>
                </a:lnTo>
                <a:lnTo>
                  <a:pt x="1825079" y="1297975"/>
                </a:lnTo>
                <a:lnTo>
                  <a:pt x="1824682" y="1277731"/>
                </a:lnTo>
                <a:lnTo>
                  <a:pt x="1824285" y="1257883"/>
                </a:lnTo>
                <a:lnTo>
                  <a:pt x="1823094" y="1237639"/>
                </a:lnTo>
                <a:lnTo>
                  <a:pt x="1820711" y="1218188"/>
                </a:lnTo>
                <a:lnTo>
                  <a:pt x="1818726" y="1198341"/>
                </a:lnTo>
                <a:lnTo>
                  <a:pt x="1816343" y="1178890"/>
                </a:lnTo>
                <a:lnTo>
                  <a:pt x="1812769" y="1159440"/>
                </a:lnTo>
                <a:lnTo>
                  <a:pt x="1809195" y="1140783"/>
                </a:lnTo>
                <a:lnTo>
                  <a:pt x="1804827" y="1121729"/>
                </a:lnTo>
                <a:lnTo>
                  <a:pt x="1800459" y="1102676"/>
                </a:lnTo>
                <a:lnTo>
                  <a:pt x="1795694" y="1084019"/>
                </a:lnTo>
                <a:lnTo>
                  <a:pt x="1789737" y="1065362"/>
                </a:lnTo>
                <a:lnTo>
                  <a:pt x="1783781" y="1047500"/>
                </a:lnTo>
                <a:lnTo>
                  <a:pt x="1777427" y="1029240"/>
                </a:lnTo>
                <a:lnTo>
                  <a:pt x="1770676" y="1011377"/>
                </a:lnTo>
                <a:lnTo>
                  <a:pt x="1763529" y="993911"/>
                </a:lnTo>
                <a:lnTo>
                  <a:pt x="1755983" y="976048"/>
                </a:lnTo>
                <a:lnTo>
                  <a:pt x="1748041" y="959377"/>
                </a:lnTo>
                <a:lnTo>
                  <a:pt x="1739305" y="941911"/>
                </a:lnTo>
                <a:lnTo>
                  <a:pt x="1730569" y="925636"/>
                </a:lnTo>
                <a:lnTo>
                  <a:pt x="1721436" y="908964"/>
                </a:lnTo>
                <a:lnTo>
                  <a:pt x="1711508" y="892689"/>
                </a:lnTo>
                <a:lnTo>
                  <a:pt x="1701581" y="876811"/>
                </a:lnTo>
                <a:lnTo>
                  <a:pt x="1691256" y="860933"/>
                </a:lnTo>
                <a:lnTo>
                  <a:pt x="1680534" y="845452"/>
                </a:lnTo>
                <a:lnTo>
                  <a:pt x="1669415" y="830368"/>
                </a:lnTo>
                <a:lnTo>
                  <a:pt x="1657899" y="815680"/>
                </a:lnTo>
                <a:lnTo>
                  <a:pt x="1646383" y="800596"/>
                </a:lnTo>
                <a:lnTo>
                  <a:pt x="1634073" y="786306"/>
                </a:lnTo>
                <a:lnTo>
                  <a:pt x="1621763" y="772413"/>
                </a:lnTo>
                <a:lnTo>
                  <a:pt x="1608659" y="758520"/>
                </a:lnTo>
                <a:lnTo>
                  <a:pt x="1595555" y="745023"/>
                </a:lnTo>
                <a:lnTo>
                  <a:pt x="1582053" y="731924"/>
                </a:lnTo>
                <a:lnTo>
                  <a:pt x="1568551" y="719221"/>
                </a:lnTo>
                <a:lnTo>
                  <a:pt x="1554256" y="706519"/>
                </a:lnTo>
                <a:lnTo>
                  <a:pt x="1539960" y="694610"/>
                </a:lnTo>
                <a:lnTo>
                  <a:pt x="1525665" y="682702"/>
                </a:lnTo>
                <a:lnTo>
                  <a:pt x="1510575" y="671190"/>
                </a:lnTo>
                <a:lnTo>
                  <a:pt x="1495088" y="660473"/>
                </a:lnTo>
                <a:lnTo>
                  <a:pt x="1479998" y="649755"/>
                </a:lnTo>
                <a:lnTo>
                  <a:pt x="1464114" y="639037"/>
                </a:lnTo>
                <a:lnTo>
                  <a:pt x="1447833" y="629114"/>
                </a:lnTo>
                <a:lnTo>
                  <a:pt x="1431949" y="619587"/>
                </a:lnTo>
                <a:lnTo>
                  <a:pt x="1415667" y="610457"/>
                </a:lnTo>
                <a:lnTo>
                  <a:pt x="1398592" y="601724"/>
                </a:lnTo>
                <a:lnTo>
                  <a:pt x="1381914" y="593388"/>
                </a:lnTo>
                <a:lnTo>
                  <a:pt x="1364441" y="585449"/>
                </a:lnTo>
                <a:lnTo>
                  <a:pt x="1347366" y="577113"/>
                </a:lnTo>
                <a:lnTo>
                  <a:pt x="1329496" y="569968"/>
                </a:lnTo>
                <a:lnTo>
                  <a:pt x="1311627" y="563220"/>
                </a:lnTo>
                <a:lnTo>
                  <a:pt x="1293757" y="556869"/>
                </a:lnTo>
                <a:lnTo>
                  <a:pt x="1275093" y="550914"/>
                </a:lnTo>
                <a:lnTo>
                  <a:pt x="1256827" y="545754"/>
                </a:lnTo>
                <a:lnTo>
                  <a:pt x="1237766" y="540594"/>
                </a:lnTo>
                <a:lnTo>
                  <a:pt x="1219499" y="535830"/>
                </a:lnTo>
                <a:lnTo>
                  <a:pt x="1200438" y="531861"/>
                </a:lnTo>
                <a:lnTo>
                  <a:pt x="1180980" y="527891"/>
                </a:lnTo>
                <a:lnTo>
                  <a:pt x="1161919" y="525113"/>
                </a:lnTo>
                <a:lnTo>
                  <a:pt x="1142064" y="521937"/>
                </a:lnTo>
                <a:lnTo>
                  <a:pt x="1122606" y="519952"/>
                </a:lnTo>
                <a:lnTo>
                  <a:pt x="1103148" y="518364"/>
                </a:lnTo>
                <a:lnTo>
                  <a:pt x="1083293" y="516777"/>
                </a:lnTo>
                <a:lnTo>
                  <a:pt x="1063041" y="515983"/>
                </a:lnTo>
                <a:lnTo>
                  <a:pt x="1043186" y="515586"/>
                </a:lnTo>
                <a:close/>
                <a:moveTo>
                  <a:pt x="803734" y="280988"/>
                </a:moveTo>
                <a:lnTo>
                  <a:pt x="862902" y="391340"/>
                </a:lnTo>
                <a:lnTo>
                  <a:pt x="884743" y="387371"/>
                </a:lnTo>
                <a:lnTo>
                  <a:pt x="906980" y="383798"/>
                </a:lnTo>
                <a:lnTo>
                  <a:pt x="929218" y="380622"/>
                </a:lnTo>
                <a:lnTo>
                  <a:pt x="951456" y="378241"/>
                </a:lnTo>
                <a:lnTo>
                  <a:pt x="974488" y="376256"/>
                </a:lnTo>
                <a:lnTo>
                  <a:pt x="997122" y="374668"/>
                </a:lnTo>
                <a:lnTo>
                  <a:pt x="1019757" y="373874"/>
                </a:lnTo>
                <a:lnTo>
                  <a:pt x="1043186" y="373477"/>
                </a:lnTo>
                <a:lnTo>
                  <a:pt x="1059865" y="373874"/>
                </a:lnTo>
                <a:lnTo>
                  <a:pt x="1076940" y="374271"/>
                </a:lnTo>
                <a:lnTo>
                  <a:pt x="1093618" y="375462"/>
                </a:lnTo>
                <a:lnTo>
                  <a:pt x="1110693" y="376256"/>
                </a:lnTo>
                <a:lnTo>
                  <a:pt x="1127372" y="377844"/>
                </a:lnTo>
                <a:lnTo>
                  <a:pt x="1144050" y="379432"/>
                </a:lnTo>
                <a:lnTo>
                  <a:pt x="1160331" y="381019"/>
                </a:lnTo>
                <a:lnTo>
                  <a:pt x="1176612" y="383798"/>
                </a:lnTo>
                <a:lnTo>
                  <a:pt x="1193291" y="386180"/>
                </a:lnTo>
                <a:lnTo>
                  <a:pt x="1209572" y="388958"/>
                </a:lnTo>
                <a:lnTo>
                  <a:pt x="1225853" y="392134"/>
                </a:lnTo>
                <a:lnTo>
                  <a:pt x="1241737" y="395310"/>
                </a:lnTo>
                <a:lnTo>
                  <a:pt x="1257621" y="399279"/>
                </a:lnTo>
                <a:lnTo>
                  <a:pt x="1273505" y="403249"/>
                </a:lnTo>
                <a:lnTo>
                  <a:pt x="1289389" y="407218"/>
                </a:lnTo>
                <a:lnTo>
                  <a:pt x="1304876" y="411982"/>
                </a:lnTo>
                <a:lnTo>
                  <a:pt x="1370398" y="304805"/>
                </a:lnTo>
                <a:lnTo>
                  <a:pt x="1611439" y="417142"/>
                </a:lnTo>
                <a:lnTo>
                  <a:pt x="1570140" y="539800"/>
                </a:lnTo>
                <a:lnTo>
                  <a:pt x="1592775" y="555678"/>
                </a:lnTo>
                <a:lnTo>
                  <a:pt x="1614615" y="572747"/>
                </a:lnTo>
                <a:lnTo>
                  <a:pt x="1636059" y="589815"/>
                </a:lnTo>
                <a:lnTo>
                  <a:pt x="1656708" y="608075"/>
                </a:lnTo>
                <a:lnTo>
                  <a:pt x="1676960" y="626732"/>
                </a:lnTo>
                <a:lnTo>
                  <a:pt x="1696815" y="645389"/>
                </a:lnTo>
                <a:lnTo>
                  <a:pt x="1715876" y="665236"/>
                </a:lnTo>
                <a:lnTo>
                  <a:pt x="1734540" y="685481"/>
                </a:lnTo>
                <a:lnTo>
                  <a:pt x="1752410" y="706519"/>
                </a:lnTo>
                <a:lnTo>
                  <a:pt x="1769882" y="728351"/>
                </a:lnTo>
                <a:lnTo>
                  <a:pt x="1786560" y="750184"/>
                </a:lnTo>
                <a:lnTo>
                  <a:pt x="1802841" y="772413"/>
                </a:lnTo>
                <a:lnTo>
                  <a:pt x="1818329" y="795436"/>
                </a:lnTo>
                <a:lnTo>
                  <a:pt x="1832624" y="818856"/>
                </a:lnTo>
                <a:lnTo>
                  <a:pt x="1846920" y="842673"/>
                </a:lnTo>
                <a:lnTo>
                  <a:pt x="1860024" y="866887"/>
                </a:lnTo>
                <a:lnTo>
                  <a:pt x="1994642" y="834337"/>
                </a:lnTo>
                <a:lnTo>
                  <a:pt x="2085975" y="1084019"/>
                </a:lnTo>
                <a:lnTo>
                  <a:pt x="1954931" y="1149516"/>
                </a:lnTo>
                <a:lnTo>
                  <a:pt x="1958108" y="1167776"/>
                </a:lnTo>
                <a:lnTo>
                  <a:pt x="1960491" y="1185638"/>
                </a:lnTo>
                <a:lnTo>
                  <a:pt x="1962476" y="1204295"/>
                </a:lnTo>
                <a:lnTo>
                  <a:pt x="1964462" y="1222952"/>
                </a:lnTo>
                <a:lnTo>
                  <a:pt x="1965653" y="1241212"/>
                </a:lnTo>
                <a:lnTo>
                  <a:pt x="1966447" y="1259868"/>
                </a:lnTo>
                <a:lnTo>
                  <a:pt x="1967242" y="1278922"/>
                </a:lnTo>
                <a:lnTo>
                  <a:pt x="1967242" y="1297975"/>
                </a:lnTo>
                <a:lnTo>
                  <a:pt x="1967242" y="1315441"/>
                </a:lnTo>
                <a:lnTo>
                  <a:pt x="1966845" y="1332907"/>
                </a:lnTo>
                <a:lnTo>
                  <a:pt x="1966050" y="1349976"/>
                </a:lnTo>
                <a:lnTo>
                  <a:pt x="1964859" y="1367839"/>
                </a:lnTo>
                <a:lnTo>
                  <a:pt x="1962873" y="1385305"/>
                </a:lnTo>
                <a:lnTo>
                  <a:pt x="1961285" y="1401977"/>
                </a:lnTo>
                <a:lnTo>
                  <a:pt x="1959300" y="1419442"/>
                </a:lnTo>
                <a:lnTo>
                  <a:pt x="1957314" y="1436114"/>
                </a:lnTo>
                <a:lnTo>
                  <a:pt x="1954137" y="1453183"/>
                </a:lnTo>
                <a:lnTo>
                  <a:pt x="1951357" y="1469855"/>
                </a:lnTo>
                <a:lnTo>
                  <a:pt x="1947784" y="1486527"/>
                </a:lnTo>
                <a:lnTo>
                  <a:pt x="1944210" y="1503199"/>
                </a:lnTo>
                <a:lnTo>
                  <a:pt x="1940239" y="1519871"/>
                </a:lnTo>
                <a:lnTo>
                  <a:pt x="1935871" y="1535749"/>
                </a:lnTo>
                <a:lnTo>
                  <a:pt x="1931899" y="1552024"/>
                </a:lnTo>
                <a:lnTo>
                  <a:pt x="1926737" y="1568299"/>
                </a:lnTo>
                <a:lnTo>
                  <a:pt x="2061355" y="1650468"/>
                </a:lnTo>
                <a:lnTo>
                  <a:pt x="1949372" y="1891020"/>
                </a:lnTo>
                <a:lnTo>
                  <a:pt x="1791723" y="1838623"/>
                </a:lnTo>
                <a:lnTo>
                  <a:pt x="1776633" y="1859264"/>
                </a:lnTo>
                <a:lnTo>
                  <a:pt x="1761146" y="1879112"/>
                </a:lnTo>
                <a:lnTo>
                  <a:pt x="1744468" y="1898165"/>
                </a:lnTo>
                <a:lnTo>
                  <a:pt x="1728186" y="1917219"/>
                </a:lnTo>
                <a:lnTo>
                  <a:pt x="1710714" y="1935876"/>
                </a:lnTo>
                <a:lnTo>
                  <a:pt x="1693241" y="1954135"/>
                </a:lnTo>
                <a:lnTo>
                  <a:pt x="1674975" y="1971204"/>
                </a:lnTo>
                <a:lnTo>
                  <a:pt x="1655914" y="1988670"/>
                </a:lnTo>
                <a:lnTo>
                  <a:pt x="1636853" y="2004945"/>
                </a:lnTo>
                <a:lnTo>
                  <a:pt x="1616998" y="2021220"/>
                </a:lnTo>
                <a:lnTo>
                  <a:pt x="1597143" y="2036701"/>
                </a:lnTo>
                <a:lnTo>
                  <a:pt x="1576494" y="2051388"/>
                </a:lnTo>
                <a:lnTo>
                  <a:pt x="1555844" y="2066075"/>
                </a:lnTo>
                <a:lnTo>
                  <a:pt x="1534401" y="2079572"/>
                </a:lnTo>
                <a:lnTo>
                  <a:pt x="1512957" y="2093068"/>
                </a:lnTo>
                <a:lnTo>
                  <a:pt x="1491117" y="2105770"/>
                </a:lnTo>
                <a:lnTo>
                  <a:pt x="1531621" y="2274474"/>
                </a:lnTo>
                <a:lnTo>
                  <a:pt x="1281844" y="2365376"/>
                </a:lnTo>
                <a:lnTo>
                  <a:pt x="1202821" y="2207787"/>
                </a:lnTo>
                <a:lnTo>
                  <a:pt x="1183363" y="2210962"/>
                </a:lnTo>
                <a:lnTo>
                  <a:pt x="1163508" y="2213741"/>
                </a:lnTo>
                <a:lnTo>
                  <a:pt x="1144050" y="2216123"/>
                </a:lnTo>
                <a:lnTo>
                  <a:pt x="1124195" y="2218504"/>
                </a:lnTo>
                <a:lnTo>
                  <a:pt x="1103943" y="2219695"/>
                </a:lnTo>
                <a:lnTo>
                  <a:pt x="1083690" y="2220886"/>
                </a:lnTo>
                <a:lnTo>
                  <a:pt x="1063438" y="2221680"/>
                </a:lnTo>
                <a:lnTo>
                  <a:pt x="1043186" y="2221680"/>
                </a:lnTo>
                <a:lnTo>
                  <a:pt x="1013007" y="2221283"/>
                </a:lnTo>
                <a:lnTo>
                  <a:pt x="983224" y="2220092"/>
                </a:lnTo>
                <a:lnTo>
                  <a:pt x="954235" y="2217711"/>
                </a:lnTo>
                <a:lnTo>
                  <a:pt x="924850" y="2214535"/>
                </a:lnTo>
                <a:lnTo>
                  <a:pt x="895862" y="2210565"/>
                </a:lnTo>
                <a:lnTo>
                  <a:pt x="867270" y="2205405"/>
                </a:lnTo>
                <a:lnTo>
                  <a:pt x="839076" y="2199451"/>
                </a:lnTo>
                <a:lnTo>
                  <a:pt x="810882" y="2192703"/>
                </a:lnTo>
                <a:lnTo>
                  <a:pt x="715180" y="2341162"/>
                </a:lnTo>
                <a:lnTo>
                  <a:pt x="474536" y="2229222"/>
                </a:lnTo>
                <a:lnTo>
                  <a:pt x="524968" y="2062900"/>
                </a:lnTo>
                <a:lnTo>
                  <a:pt x="504716" y="2049006"/>
                </a:lnTo>
                <a:lnTo>
                  <a:pt x="484464" y="2033525"/>
                </a:lnTo>
                <a:lnTo>
                  <a:pt x="465006" y="2018441"/>
                </a:lnTo>
                <a:lnTo>
                  <a:pt x="445945" y="2002960"/>
                </a:lnTo>
                <a:lnTo>
                  <a:pt x="427281" y="1986288"/>
                </a:lnTo>
                <a:lnTo>
                  <a:pt x="408617" y="1969616"/>
                </a:lnTo>
                <a:lnTo>
                  <a:pt x="390748" y="1952151"/>
                </a:lnTo>
                <a:lnTo>
                  <a:pt x="373672" y="1934685"/>
                </a:lnTo>
                <a:lnTo>
                  <a:pt x="356597" y="1916028"/>
                </a:lnTo>
                <a:lnTo>
                  <a:pt x="340316" y="1897371"/>
                </a:lnTo>
                <a:lnTo>
                  <a:pt x="324432" y="1878715"/>
                </a:lnTo>
                <a:lnTo>
                  <a:pt x="308548" y="1858867"/>
                </a:lnTo>
                <a:lnTo>
                  <a:pt x="293855" y="1839020"/>
                </a:lnTo>
                <a:lnTo>
                  <a:pt x="279559" y="1818775"/>
                </a:lnTo>
                <a:lnTo>
                  <a:pt x="265661" y="1797737"/>
                </a:lnTo>
                <a:lnTo>
                  <a:pt x="252556" y="1776301"/>
                </a:lnTo>
                <a:lnTo>
                  <a:pt x="91333" y="1811630"/>
                </a:lnTo>
                <a:lnTo>
                  <a:pt x="0" y="1562345"/>
                </a:lnTo>
                <a:lnTo>
                  <a:pt x="138191" y="1488512"/>
                </a:lnTo>
                <a:lnTo>
                  <a:pt x="133426" y="1465092"/>
                </a:lnTo>
                <a:lnTo>
                  <a:pt x="129852" y="1441672"/>
                </a:lnTo>
                <a:lnTo>
                  <a:pt x="126278" y="1418251"/>
                </a:lnTo>
                <a:lnTo>
                  <a:pt x="123498" y="1394434"/>
                </a:lnTo>
                <a:lnTo>
                  <a:pt x="121513" y="1370220"/>
                </a:lnTo>
                <a:lnTo>
                  <a:pt x="119527" y="1346403"/>
                </a:lnTo>
                <a:lnTo>
                  <a:pt x="118733" y="1322189"/>
                </a:lnTo>
                <a:lnTo>
                  <a:pt x="118336" y="1297975"/>
                </a:lnTo>
                <a:lnTo>
                  <a:pt x="118733" y="1269395"/>
                </a:lnTo>
                <a:lnTo>
                  <a:pt x="119924" y="1240418"/>
                </a:lnTo>
                <a:lnTo>
                  <a:pt x="122704" y="1211837"/>
                </a:lnTo>
                <a:lnTo>
                  <a:pt x="125484" y="1184051"/>
                </a:lnTo>
                <a:lnTo>
                  <a:pt x="129455" y="1155867"/>
                </a:lnTo>
                <a:lnTo>
                  <a:pt x="134220" y="1128478"/>
                </a:lnTo>
                <a:lnTo>
                  <a:pt x="139780" y="1101088"/>
                </a:lnTo>
                <a:lnTo>
                  <a:pt x="146133" y="1074095"/>
                </a:lnTo>
                <a:lnTo>
                  <a:pt x="24223" y="995896"/>
                </a:lnTo>
                <a:lnTo>
                  <a:pt x="136603" y="755344"/>
                </a:lnTo>
                <a:lnTo>
                  <a:pt x="268043" y="794642"/>
                </a:lnTo>
                <a:lnTo>
                  <a:pt x="283530" y="772016"/>
                </a:lnTo>
                <a:lnTo>
                  <a:pt x="299017" y="750184"/>
                </a:lnTo>
                <a:lnTo>
                  <a:pt x="315696" y="728351"/>
                </a:lnTo>
                <a:lnTo>
                  <a:pt x="332771" y="707313"/>
                </a:lnTo>
                <a:lnTo>
                  <a:pt x="350243" y="686274"/>
                </a:lnTo>
                <a:lnTo>
                  <a:pt x="368907" y="666824"/>
                </a:lnTo>
                <a:lnTo>
                  <a:pt x="387571" y="646976"/>
                </a:lnTo>
                <a:lnTo>
                  <a:pt x="407426" y="627923"/>
                </a:lnTo>
                <a:lnTo>
                  <a:pt x="427281" y="609266"/>
                </a:lnTo>
                <a:lnTo>
                  <a:pt x="447930" y="591403"/>
                </a:lnTo>
                <a:lnTo>
                  <a:pt x="468977" y="574334"/>
                </a:lnTo>
                <a:lnTo>
                  <a:pt x="490420" y="557662"/>
                </a:lnTo>
                <a:lnTo>
                  <a:pt x="512261" y="541784"/>
                </a:lnTo>
                <a:lnTo>
                  <a:pt x="535293" y="526303"/>
                </a:lnTo>
                <a:lnTo>
                  <a:pt x="557928" y="511616"/>
                </a:lnTo>
                <a:lnTo>
                  <a:pt x="581754" y="497723"/>
                </a:lnTo>
                <a:lnTo>
                  <a:pt x="554354" y="371890"/>
                </a:lnTo>
                <a:lnTo>
                  <a:pt x="803734" y="280988"/>
                </a:lnTo>
                <a:close/>
                <a:moveTo>
                  <a:pt x="2013752" y="186531"/>
                </a:moveTo>
                <a:lnTo>
                  <a:pt x="2001871" y="186928"/>
                </a:lnTo>
                <a:lnTo>
                  <a:pt x="1989594" y="188119"/>
                </a:lnTo>
                <a:lnTo>
                  <a:pt x="1978109" y="190103"/>
                </a:lnTo>
                <a:lnTo>
                  <a:pt x="1966624" y="192881"/>
                </a:lnTo>
                <a:lnTo>
                  <a:pt x="1955139" y="196453"/>
                </a:lnTo>
                <a:lnTo>
                  <a:pt x="1944050" y="200819"/>
                </a:lnTo>
                <a:lnTo>
                  <a:pt x="1932962" y="205978"/>
                </a:lnTo>
                <a:lnTo>
                  <a:pt x="1922269" y="211534"/>
                </a:lnTo>
                <a:lnTo>
                  <a:pt x="1914348" y="216297"/>
                </a:lnTo>
                <a:lnTo>
                  <a:pt x="1906823" y="221853"/>
                </a:lnTo>
                <a:lnTo>
                  <a:pt x="1899695" y="227409"/>
                </a:lnTo>
                <a:lnTo>
                  <a:pt x="1892962" y="233363"/>
                </a:lnTo>
                <a:lnTo>
                  <a:pt x="1886230" y="239713"/>
                </a:lnTo>
                <a:lnTo>
                  <a:pt x="1880289" y="246063"/>
                </a:lnTo>
                <a:lnTo>
                  <a:pt x="1874349" y="252809"/>
                </a:lnTo>
                <a:lnTo>
                  <a:pt x="1869200" y="259953"/>
                </a:lnTo>
                <a:lnTo>
                  <a:pt x="1864052" y="267097"/>
                </a:lnTo>
                <a:lnTo>
                  <a:pt x="1859300" y="274241"/>
                </a:lnTo>
                <a:lnTo>
                  <a:pt x="1855339" y="281781"/>
                </a:lnTo>
                <a:lnTo>
                  <a:pt x="1850983" y="289719"/>
                </a:lnTo>
                <a:lnTo>
                  <a:pt x="1847419" y="297656"/>
                </a:lnTo>
                <a:lnTo>
                  <a:pt x="1844646" y="305594"/>
                </a:lnTo>
                <a:lnTo>
                  <a:pt x="1841874" y="313928"/>
                </a:lnTo>
                <a:lnTo>
                  <a:pt x="1839102" y="322263"/>
                </a:lnTo>
                <a:lnTo>
                  <a:pt x="1837518" y="330597"/>
                </a:lnTo>
                <a:lnTo>
                  <a:pt x="1835934" y="339328"/>
                </a:lnTo>
                <a:lnTo>
                  <a:pt x="1834350" y="348059"/>
                </a:lnTo>
                <a:lnTo>
                  <a:pt x="1833557" y="356791"/>
                </a:lnTo>
                <a:lnTo>
                  <a:pt x="1833557" y="365125"/>
                </a:lnTo>
                <a:lnTo>
                  <a:pt x="1833557" y="373856"/>
                </a:lnTo>
                <a:lnTo>
                  <a:pt x="1833953" y="382984"/>
                </a:lnTo>
                <a:lnTo>
                  <a:pt x="1835142" y="391716"/>
                </a:lnTo>
                <a:lnTo>
                  <a:pt x="1836726" y="400050"/>
                </a:lnTo>
                <a:lnTo>
                  <a:pt x="1838310" y="409178"/>
                </a:lnTo>
                <a:lnTo>
                  <a:pt x="1840290" y="417513"/>
                </a:lnTo>
                <a:lnTo>
                  <a:pt x="1843458" y="426244"/>
                </a:lnTo>
                <a:lnTo>
                  <a:pt x="1846230" y="434578"/>
                </a:lnTo>
                <a:lnTo>
                  <a:pt x="1850191" y="443310"/>
                </a:lnTo>
                <a:lnTo>
                  <a:pt x="1853755" y="451247"/>
                </a:lnTo>
                <a:lnTo>
                  <a:pt x="1858507" y="459581"/>
                </a:lnTo>
                <a:lnTo>
                  <a:pt x="1864844" y="469503"/>
                </a:lnTo>
                <a:lnTo>
                  <a:pt x="1871973" y="479028"/>
                </a:lnTo>
                <a:lnTo>
                  <a:pt x="1879497" y="488156"/>
                </a:lnTo>
                <a:lnTo>
                  <a:pt x="1887418" y="496888"/>
                </a:lnTo>
                <a:lnTo>
                  <a:pt x="1896527" y="504428"/>
                </a:lnTo>
                <a:lnTo>
                  <a:pt x="1905239" y="511969"/>
                </a:lnTo>
                <a:lnTo>
                  <a:pt x="1914744" y="518716"/>
                </a:lnTo>
                <a:lnTo>
                  <a:pt x="1924645" y="524669"/>
                </a:lnTo>
                <a:lnTo>
                  <a:pt x="1934942" y="529828"/>
                </a:lnTo>
                <a:lnTo>
                  <a:pt x="1945635" y="534988"/>
                </a:lnTo>
                <a:lnTo>
                  <a:pt x="1956723" y="538956"/>
                </a:lnTo>
                <a:lnTo>
                  <a:pt x="1967812" y="542131"/>
                </a:lnTo>
                <a:lnTo>
                  <a:pt x="1979297" y="545306"/>
                </a:lnTo>
                <a:lnTo>
                  <a:pt x="1990782" y="546894"/>
                </a:lnTo>
                <a:lnTo>
                  <a:pt x="2002267" y="548085"/>
                </a:lnTo>
                <a:lnTo>
                  <a:pt x="2014544" y="548481"/>
                </a:lnTo>
                <a:lnTo>
                  <a:pt x="2026425" y="548085"/>
                </a:lnTo>
                <a:lnTo>
                  <a:pt x="2038306" y="546894"/>
                </a:lnTo>
                <a:lnTo>
                  <a:pt x="2049791" y="544910"/>
                </a:lnTo>
                <a:lnTo>
                  <a:pt x="2061672" y="542131"/>
                </a:lnTo>
                <a:lnTo>
                  <a:pt x="2073157" y="538560"/>
                </a:lnTo>
                <a:lnTo>
                  <a:pt x="2084246" y="534194"/>
                </a:lnTo>
                <a:lnTo>
                  <a:pt x="2095335" y="529035"/>
                </a:lnTo>
                <a:lnTo>
                  <a:pt x="2106028" y="523081"/>
                </a:lnTo>
                <a:lnTo>
                  <a:pt x="2113552" y="518716"/>
                </a:lnTo>
                <a:lnTo>
                  <a:pt x="2121077" y="513556"/>
                </a:lnTo>
                <a:lnTo>
                  <a:pt x="2128206" y="508000"/>
                </a:lnTo>
                <a:lnTo>
                  <a:pt x="2134938" y="502047"/>
                </a:lnTo>
                <a:lnTo>
                  <a:pt x="2141275" y="496491"/>
                </a:lnTo>
                <a:lnTo>
                  <a:pt x="2147215" y="490141"/>
                </a:lnTo>
                <a:lnTo>
                  <a:pt x="2153156" y="483394"/>
                </a:lnTo>
                <a:lnTo>
                  <a:pt x="2158304" y="476647"/>
                </a:lnTo>
                <a:lnTo>
                  <a:pt x="2163452" y="469503"/>
                </a:lnTo>
                <a:lnTo>
                  <a:pt x="2168601" y="461566"/>
                </a:lnTo>
                <a:lnTo>
                  <a:pt x="2172957" y="454025"/>
                </a:lnTo>
                <a:lnTo>
                  <a:pt x="2176917" y="446485"/>
                </a:lnTo>
                <a:lnTo>
                  <a:pt x="2180482" y="438150"/>
                </a:lnTo>
                <a:lnTo>
                  <a:pt x="2183650" y="430213"/>
                </a:lnTo>
                <a:lnTo>
                  <a:pt x="2186818" y="421481"/>
                </a:lnTo>
                <a:lnTo>
                  <a:pt x="2189195" y="412750"/>
                </a:lnTo>
                <a:lnTo>
                  <a:pt x="2191175" y="404019"/>
                </a:lnTo>
                <a:lnTo>
                  <a:pt x="2192363" y="395288"/>
                </a:lnTo>
                <a:lnTo>
                  <a:pt x="2193947" y="386159"/>
                </a:lnTo>
                <a:lnTo>
                  <a:pt x="2194739" y="377428"/>
                </a:lnTo>
                <a:lnTo>
                  <a:pt x="2194739" y="368697"/>
                </a:lnTo>
                <a:lnTo>
                  <a:pt x="2194739" y="359569"/>
                </a:lnTo>
                <a:lnTo>
                  <a:pt x="2194343" y="351234"/>
                </a:lnTo>
                <a:lnTo>
                  <a:pt x="2192759" y="342503"/>
                </a:lnTo>
                <a:lnTo>
                  <a:pt x="2191571" y="333375"/>
                </a:lnTo>
                <a:lnTo>
                  <a:pt x="2189591" y="325041"/>
                </a:lnTo>
                <a:lnTo>
                  <a:pt x="2187610" y="316706"/>
                </a:lnTo>
                <a:lnTo>
                  <a:pt x="2184838" y="308372"/>
                </a:lnTo>
                <a:lnTo>
                  <a:pt x="2181670" y="299641"/>
                </a:lnTo>
                <a:lnTo>
                  <a:pt x="2178106" y="291703"/>
                </a:lnTo>
                <a:lnTo>
                  <a:pt x="2174145" y="283766"/>
                </a:lnTo>
                <a:lnTo>
                  <a:pt x="2169789" y="275828"/>
                </a:lnTo>
                <a:lnTo>
                  <a:pt x="2163452" y="265509"/>
                </a:lnTo>
                <a:lnTo>
                  <a:pt x="2156324" y="255984"/>
                </a:lnTo>
                <a:lnTo>
                  <a:pt x="2148799" y="247253"/>
                </a:lnTo>
                <a:lnTo>
                  <a:pt x="2140879" y="238522"/>
                </a:lnTo>
                <a:lnTo>
                  <a:pt x="2131770" y="230584"/>
                </a:lnTo>
                <a:lnTo>
                  <a:pt x="2123057" y="223441"/>
                </a:lnTo>
                <a:lnTo>
                  <a:pt x="2113552" y="216694"/>
                </a:lnTo>
                <a:lnTo>
                  <a:pt x="2103255" y="210344"/>
                </a:lnTo>
                <a:lnTo>
                  <a:pt x="2093355" y="204788"/>
                </a:lnTo>
                <a:lnTo>
                  <a:pt x="2082662" y="200422"/>
                </a:lnTo>
                <a:lnTo>
                  <a:pt x="2071969" y="196056"/>
                </a:lnTo>
                <a:lnTo>
                  <a:pt x="2060484" y="192881"/>
                </a:lnTo>
                <a:lnTo>
                  <a:pt x="2048999" y="190103"/>
                </a:lnTo>
                <a:lnTo>
                  <a:pt x="2037118" y="188119"/>
                </a:lnTo>
                <a:lnTo>
                  <a:pt x="2025633" y="186928"/>
                </a:lnTo>
                <a:lnTo>
                  <a:pt x="2013752" y="186531"/>
                </a:lnTo>
                <a:close/>
                <a:moveTo>
                  <a:pt x="2066028" y="0"/>
                </a:moveTo>
                <a:lnTo>
                  <a:pt x="2156324" y="23812"/>
                </a:lnTo>
                <a:lnTo>
                  <a:pt x="2146027" y="100013"/>
                </a:lnTo>
                <a:lnTo>
                  <a:pt x="2140916" y="118533"/>
                </a:lnTo>
                <a:lnTo>
                  <a:pt x="2134542" y="115094"/>
                </a:lnTo>
                <a:lnTo>
                  <a:pt x="2132671" y="114357"/>
                </a:lnTo>
                <a:lnTo>
                  <a:pt x="2132562" y="114300"/>
                </a:lnTo>
                <a:lnTo>
                  <a:pt x="2123453" y="110728"/>
                </a:lnTo>
                <a:lnTo>
                  <a:pt x="2132671" y="114357"/>
                </a:lnTo>
                <a:lnTo>
                  <a:pt x="2140879" y="118666"/>
                </a:lnTo>
                <a:lnTo>
                  <a:pt x="2140916" y="118533"/>
                </a:lnTo>
                <a:lnTo>
                  <a:pt x="2144839" y="120650"/>
                </a:lnTo>
                <a:lnTo>
                  <a:pt x="2153552" y="125413"/>
                </a:lnTo>
                <a:lnTo>
                  <a:pt x="2167413" y="133747"/>
                </a:lnTo>
                <a:lnTo>
                  <a:pt x="2174145" y="138113"/>
                </a:lnTo>
                <a:lnTo>
                  <a:pt x="2180878" y="142875"/>
                </a:lnTo>
                <a:lnTo>
                  <a:pt x="2181274" y="143272"/>
                </a:lnTo>
                <a:lnTo>
                  <a:pt x="2187610" y="148034"/>
                </a:lnTo>
                <a:lnTo>
                  <a:pt x="2193947" y="153194"/>
                </a:lnTo>
                <a:lnTo>
                  <a:pt x="2205432" y="163909"/>
                </a:lnTo>
                <a:lnTo>
                  <a:pt x="2212560" y="170656"/>
                </a:lnTo>
                <a:lnTo>
                  <a:pt x="2221273" y="180181"/>
                </a:lnTo>
                <a:lnTo>
                  <a:pt x="2226433" y="186128"/>
                </a:lnTo>
                <a:lnTo>
                  <a:pt x="2226422" y="186134"/>
                </a:lnTo>
                <a:lnTo>
                  <a:pt x="2229194" y="189309"/>
                </a:lnTo>
                <a:lnTo>
                  <a:pt x="2226433" y="186128"/>
                </a:lnTo>
                <a:lnTo>
                  <a:pt x="2244639" y="175419"/>
                </a:lnTo>
                <a:lnTo>
                  <a:pt x="2315925" y="143669"/>
                </a:lnTo>
                <a:lnTo>
                  <a:pt x="2363053" y="224234"/>
                </a:lnTo>
                <a:lnTo>
                  <a:pt x="2302064" y="270669"/>
                </a:lnTo>
                <a:lnTo>
                  <a:pt x="2280282" y="283369"/>
                </a:lnTo>
                <a:lnTo>
                  <a:pt x="2284242" y="296466"/>
                </a:lnTo>
                <a:lnTo>
                  <a:pt x="2287015" y="309166"/>
                </a:lnTo>
                <a:lnTo>
                  <a:pt x="2289787" y="322263"/>
                </a:lnTo>
                <a:lnTo>
                  <a:pt x="2291371" y="335359"/>
                </a:lnTo>
                <a:lnTo>
                  <a:pt x="2292559" y="348456"/>
                </a:lnTo>
                <a:lnTo>
                  <a:pt x="2293351" y="361553"/>
                </a:lnTo>
                <a:lnTo>
                  <a:pt x="2293351" y="374650"/>
                </a:lnTo>
                <a:lnTo>
                  <a:pt x="2292559" y="387350"/>
                </a:lnTo>
                <a:lnTo>
                  <a:pt x="2318301" y="394097"/>
                </a:lnTo>
                <a:lnTo>
                  <a:pt x="2390775" y="422275"/>
                </a:lnTo>
                <a:lnTo>
                  <a:pt x="2367409" y="512763"/>
                </a:lnTo>
                <a:lnTo>
                  <a:pt x="2291371" y="502047"/>
                </a:lnTo>
                <a:lnTo>
                  <a:pt x="2262857" y="494506"/>
                </a:lnTo>
                <a:lnTo>
                  <a:pt x="2256916" y="506016"/>
                </a:lnTo>
                <a:lnTo>
                  <a:pt x="2250183" y="517128"/>
                </a:lnTo>
                <a:lnTo>
                  <a:pt x="2243451" y="527447"/>
                </a:lnTo>
                <a:lnTo>
                  <a:pt x="2235926" y="537766"/>
                </a:lnTo>
                <a:lnTo>
                  <a:pt x="2228006" y="547688"/>
                </a:lnTo>
                <a:lnTo>
                  <a:pt x="2219293" y="557610"/>
                </a:lnTo>
                <a:lnTo>
                  <a:pt x="2210580" y="566738"/>
                </a:lnTo>
                <a:lnTo>
                  <a:pt x="2201075" y="575469"/>
                </a:lnTo>
                <a:lnTo>
                  <a:pt x="2216125" y="601266"/>
                </a:lnTo>
                <a:lnTo>
                  <a:pt x="2247807" y="671910"/>
                </a:lnTo>
                <a:lnTo>
                  <a:pt x="2167413" y="719932"/>
                </a:lnTo>
                <a:lnTo>
                  <a:pt x="2121077" y="658416"/>
                </a:lnTo>
                <a:lnTo>
                  <a:pt x="2105632" y="632222"/>
                </a:lnTo>
                <a:lnTo>
                  <a:pt x="2110780" y="629841"/>
                </a:lnTo>
                <a:lnTo>
                  <a:pt x="2115929" y="627857"/>
                </a:lnTo>
                <a:lnTo>
                  <a:pt x="2104048" y="632222"/>
                </a:lnTo>
                <a:lnTo>
                  <a:pt x="2092563" y="635794"/>
                </a:lnTo>
                <a:lnTo>
                  <a:pt x="2083058" y="638969"/>
                </a:lnTo>
                <a:lnTo>
                  <a:pt x="2067217" y="642541"/>
                </a:lnTo>
                <a:lnTo>
                  <a:pt x="2059296" y="643732"/>
                </a:lnTo>
                <a:lnTo>
                  <a:pt x="2050583" y="644922"/>
                </a:lnTo>
                <a:lnTo>
                  <a:pt x="2048999" y="644922"/>
                </a:lnTo>
                <a:lnTo>
                  <a:pt x="2033554" y="646907"/>
                </a:lnTo>
                <a:lnTo>
                  <a:pt x="2018505" y="647303"/>
                </a:lnTo>
                <a:lnTo>
                  <a:pt x="2014544" y="647700"/>
                </a:lnTo>
                <a:lnTo>
                  <a:pt x="2008208" y="647303"/>
                </a:lnTo>
                <a:lnTo>
                  <a:pt x="2002617" y="647117"/>
                </a:lnTo>
                <a:lnTo>
                  <a:pt x="1994743" y="646510"/>
                </a:lnTo>
                <a:lnTo>
                  <a:pt x="1984842" y="645716"/>
                </a:lnTo>
                <a:lnTo>
                  <a:pt x="1996327" y="646907"/>
                </a:lnTo>
                <a:lnTo>
                  <a:pt x="2002617" y="647117"/>
                </a:lnTo>
                <a:lnTo>
                  <a:pt x="2005039" y="647303"/>
                </a:lnTo>
                <a:lnTo>
                  <a:pt x="1994347" y="687785"/>
                </a:lnTo>
                <a:lnTo>
                  <a:pt x="1970189" y="747713"/>
                </a:lnTo>
                <a:lnTo>
                  <a:pt x="1879497" y="724297"/>
                </a:lnTo>
                <a:lnTo>
                  <a:pt x="1886230" y="662385"/>
                </a:lnTo>
                <a:lnTo>
                  <a:pt x="1896923" y="621507"/>
                </a:lnTo>
                <a:lnTo>
                  <a:pt x="1904447" y="625078"/>
                </a:lnTo>
                <a:lnTo>
                  <a:pt x="1893754" y="619919"/>
                </a:lnTo>
                <a:lnTo>
                  <a:pt x="1883061" y="614363"/>
                </a:lnTo>
                <a:lnTo>
                  <a:pt x="1874745" y="609997"/>
                </a:lnTo>
                <a:lnTo>
                  <a:pt x="1860884" y="601663"/>
                </a:lnTo>
                <a:lnTo>
                  <a:pt x="1854151" y="596900"/>
                </a:lnTo>
                <a:lnTo>
                  <a:pt x="1847419" y="592535"/>
                </a:lnTo>
                <a:lnTo>
                  <a:pt x="1846627" y="592138"/>
                </a:lnTo>
                <a:lnTo>
                  <a:pt x="1840290" y="586978"/>
                </a:lnTo>
                <a:lnTo>
                  <a:pt x="1834350" y="581819"/>
                </a:lnTo>
                <a:lnTo>
                  <a:pt x="1822469" y="571103"/>
                </a:lnTo>
                <a:lnTo>
                  <a:pt x="1815736" y="564356"/>
                </a:lnTo>
                <a:lnTo>
                  <a:pt x="1809516" y="557841"/>
                </a:lnTo>
                <a:lnTo>
                  <a:pt x="1805439" y="553244"/>
                </a:lnTo>
                <a:lnTo>
                  <a:pt x="1799103" y="545703"/>
                </a:lnTo>
                <a:lnTo>
                  <a:pt x="1807023" y="555228"/>
                </a:lnTo>
                <a:lnTo>
                  <a:pt x="1809516" y="557841"/>
                </a:lnTo>
                <a:lnTo>
                  <a:pt x="1811776" y="560388"/>
                </a:lnTo>
                <a:lnTo>
                  <a:pt x="1779697" y="579438"/>
                </a:lnTo>
                <a:lnTo>
                  <a:pt x="1720292" y="604044"/>
                </a:lnTo>
                <a:lnTo>
                  <a:pt x="1673164" y="523875"/>
                </a:lnTo>
                <a:lnTo>
                  <a:pt x="1721480" y="484585"/>
                </a:lnTo>
                <a:lnTo>
                  <a:pt x="1752767" y="465931"/>
                </a:lnTo>
                <a:lnTo>
                  <a:pt x="1748410" y="452835"/>
                </a:lnTo>
                <a:lnTo>
                  <a:pt x="1744450" y="439341"/>
                </a:lnTo>
                <a:lnTo>
                  <a:pt x="1741282" y="425847"/>
                </a:lnTo>
                <a:lnTo>
                  <a:pt x="1738510" y="412353"/>
                </a:lnTo>
                <a:lnTo>
                  <a:pt x="1736530" y="398860"/>
                </a:lnTo>
                <a:lnTo>
                  <a:pt x="1735737" y="385366"/>
                </a:lnTo>
                <a:lnTo>
                  <a:pt x="1734945" y="371475"/>
                </a:lnTo>
                <a:lnTo>
                  <a:pt x="1735341" y="357981"/>
                </a:lnTo>
                <a:lnTo>
                  <a:pt x="1704451" y="350441"/>
                </a:lnTo>
                <a:lnTo>
                  <a:pt x="1644650" y="325438"/>
                </a:lnTo>
                <a:lnTo>
                  <a:pt x="1668412" y="235347"/>
                </a:lnTo>
                <a:lnTo>
                  <a:pt x="1730193" y="242094"/>
                </a:lnTo>
                <a:lnTo>
                  <a:pt x="1760687" y="250031"/>
                </a:lnTo>
                <a:lnTo>
                  <a:pt x="1766628" y="237331"/>
                </a:lnTo>
                <a:lnTo>
                  <a:pt x="1773361" y="225028"/>
                </a:lnTo>
                <a:lnTo>
                  <a:pt x="1781281" y="213519"/>
                </a:lnTo>
                <a:lnTo>
                  <a:pt x="1789202" y="201613"/>
                </a:lnTo>
                <a:lnTo>
                  <a:pt x="1797915" y="190500"/>
                </a:lnTo>
                <a:lnTo>
                  <a:pt x="1807023" y="179784"/>
                </a:lnTo>
                <a:lnTo>
                  <a:pt x="1816924" y="169069"/>
                </a:lnTo>
                <a:lnTo>
                  <a:pt x="1827221" y="159544"/>
                </a:lnTo>
                <a:lnTo>
                  <a:pt x="1812964" y="135334"/>
                </a:lnTo>
                <a:lnTo>
                  <a:pt x="1788410" y="75406"/>
                </a:lnTo>
                <a:lnTo>
                  <a:pt x="1868804" y="27781"/>
                </a:lnTo>
                <a:lnTo>
                  <a:pt x="1907219" y="76994"/>
                </a:lnTo>
                <a:lnTo>
                  <a:pt x="1923061" y="102791"/>
                </a:lnTo>
                <a:lnTo>
                  <a:pt x="1917516" y="105172"/>
                </a:lnTo>
                <a:lnTo>
                  <a:pt x="1912368" y="107156"/>
                </a:lnTo>
                <a:lnTo>
                  <a:pt x="1924249" y="102791"/>
                </a:lnTo>
                <a:lnTo>
                  <a:pt x="1935734" y="99219"/>
                </a:lnTo>
                <a:lnTo>
                  <a:pt x="1945239" y="96044"/>
                </a:lnTo>
                <a:lnTo>
                  <a:pt x="1961080" y="92869"/>
                </a:lnTo>
                <a:lnTo>
                  <a:pt x="1969001" y="91281"/>
                </a:lnTo>
                <a:lnTo>
                  <a:pt x="1977317" y="89694"/>
                </a:lnTo>
                <a:lnTo>
                  <a:pt x="1979297" y="89694"/>
                </a:lnTo>
                <a:lnTo>
                  <a:pt x="1994347" y="88106"/>
                </a:lnTo>
                <a:lnTo>
                  <a:pt x="2009792" y="87709"/>
                </a:lnTo>
                <a:lnTo>
                  <a:pt x="2013752" y="87709"/>
                </a:lnTo>
                <a:lnTo>
                  <a:pt x="2019693" y="87709"/>
                </a:lnTo>
                <a:lnTo>
                  <a:pt x="2031970" y="88503"/>
                </a:lnTo>
                <a:lnTo>
                  <a:pt x="2043455" y="89297"/>
                </a:lnTo>
                <a:lnTo>
                  <a:pt x="2034346" y="88503"/>
                </a:lnTo>
                <a:lnTo>
                  <a:pt x="2038306" y="72628"/>
                </a:lnTo>
                <a:lnTo>
                  <a:pt x="2066028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1"/>
          <p:cNvSpPr/>
          <p:nvPr/>
        </p:nvSpPr>
        <p:spPr>
          <a:xfrm rot="16200000">
            <a:off x="6191280" y="1018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2"/>
          <p:cNvSpPr/>
          <p:nvPr/>
        </p:nvSpPr>
        <p:spPr>
          <a:xfrm rot="16200000">
            <a:off x="6180120" y="17251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6012720" y="100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16"/>
          <p:cNvSpPr/>
          <p:nvPr/>
        </p:nvSpPr>
        <p:spPr>
          <a:xfrm flipV="1">
            <a:off x="5489640" y="1241280"/>
            <a:ext cx="312840" cy="2304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18"/>
          <p:cNvSpPr/>
          <p:nvPr/>
        </p:nvSpPr>
        <p:spPr>
          <a:xfrm>
            <a:off x="4727520" y="1960560"/>
            <a:ext cx="371520" cy="6588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0"/>
          <p:cNvSpPr/>
          <p:nvPr/>
        </p:nvSpPr>
        <p:spPr>
          <a:xfrm flipV="1">
            <a:off x="5099040" y="2620440"/>
            <a:ext cx="547560" cy="1116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22"/>
          <p:cNvSpPr/>
          <p:nvPr/>
        </p:nvSpPr>
        <p:spPr>
          <a:xfrm>
            <a:off x="4746600" y="1692360"/>
            <a:ext cx="255600" cy="2682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5"/>
          <p:cNvSpPr/>
          <p:nvPr/>
        </p:nvSpPr>
        <p:spPr>
          <a:xfrm>
            <a:off x="5035680" y="1960560"/>
            <a:ext cx="6109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26"/>
          <p:cNvSpPr/>
          <p:nvPr/>
        </p:nvSpPr>
        <p:spPr>
          <a:xfrm rot="16200000">
            <a:off x="5825880" y="265320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2408040" y="35496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3"/>
          <p:cNvSpPr/>
          <p:nvPr/>
        </p:nvSpPr>
        <p:spPr>
          <a:xfrm>
            <a:off x="4788720" y="412920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2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4"/>
          <p:cNvSpPr/>
          <p:nvPr/>
        </p:nvSpPr>
        <p:spPr>
          <a:xfrm>
            <a:off x="2361960" y="48052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5"/>
          <p:cNvSpPr/>
          <p:nvPr/>
        </p:nvSpPr>
        <p:spPr>
          <a:xfrm>
            <a:off x="4735440" y="53942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4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6"/>
          <p:cNvSpPr/>
          <p:nvPr/>
        </p:nvSpPr>
        <p:spPr>
          <a:xfrm>
            <a:off x="2396160" y="60310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1"/>
          <p:cNvGrpSpPr/>
          <p:nvPr/>
        </p:nvGrpSpPr>
        <p:grpSpPr>
          <a:xfrm>
            <a:off x="4154040" y="2773440"/>
            <a:ext cx="672120" cy="3843360"/>
            <a:chOff x="4154040" y="2773440"/>
            <a:chExt cx="672120" cy="3843360"/>
          </a:xfrm>
        </p:grpSpPr>
        <p:sp>
          <p:nvSpPr>
            <p:cNvPr id="214" name="直接连接符 38"/>
            <p:cNvSpPr/>
            <p:nvPr/>
          </p:nvSpPr>
          <p:spPr>
            <a:xfrm flipH="1">
              <a:off x="4154040" y="2773440"/>
              <a:ext cx="4680" cy="63180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直接连接符 40"/>
            <p:cNvSpPr/>
            <p:nvPr/>
          </p:nvSpPr>
          <p:spPr>
            <a:xfrm>
              <a:off x="4159080" y="340524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42"/>
            <p:cNvSpPr/>
            <p:nvPr/>
          </p:nvSpPr>
          <p:spPr>
            <a:xfrm>
              <a:off x="4823280" y="340524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7"/>
            <p:cNvSpPr/>
            <p:nvPr/>
          </p:nvSpPr>
          <p:spPr>
            <a:xfrm>
              <a:off x="4159080" y="404748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8"/>
            <p:cNvSpPr/>
            <p:nvPr/>
          </p:nvSpPr>
          <p:spPr>
            <a:xfrm>
              <a:off x="4161960" y="404748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69"/>
            <p:cNvSpPr/>
            <p:nvPr/>
          </p:nvSpPr>
          <p:spPr>
            <a:xfrm>
              <a:off x="4161960" y="46897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0"/>
            <p:cNvSpPr/>
            <p:nvPr/>
          </p:nvSpPr>
          <p:spPr>
            <a:xfrm>
              <a:off x="4823280" y="46897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1"/>
            <p:cNvSpPr/>
            <p:nvPr/>
          </p:nvSpPr>
          <p:spPr>
            <a:xfrm>
              <a:off x="4161960" y="53323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2"/>
            <p:cNvSpPr/>
            <p:nvPr/>
          </p:nvSpPr>
          <p:spPr>
            <a:xfrm>
              <a:off x="4171320" y="53323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3"/>
            <p:cNvSpPr/>
            <p:nvPr/>
          </p:nvSpPr>
          <p:spPr>
            <a:xfrm>
              <a:off x="4154400" y="597456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74"/>
            <p:cNvSpPr/>
            <p:nvPr/>
          </p:nvSpPr>
          <p:spPr>
            <a:xfrm>
              <a:off x="4818600" y="597456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75"/>
            <p:cNvSpPr/>
            <p:nvPr/>
          </p:nvSpPr>
          <p:spPr>
            <a:xfrm>
              <a:off x="4154400" y="661680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3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27" name="椭圆 37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组合 3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29" name="等腰三角形 41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矩形 43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1" name="直接连接符 44"/>
          <p:cNvSpPr/>
          <p:nvPr/>
        </p:nvSpPr>
        <p:spPr>
          <a:xfrm>
            <a:off x="4759200" y="1484280"/>
            <a:ext cx="7081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1"/>
          <p:cNvGrpSpPr/>
          <p:nvPr/>
        </p:nvGrpSpPr>
        <p:grpSpPr>
          <a:xfrm>
            <a:off x="1195560" y="1585800"/>
            <a:ext cx="1963440" cy="1965600"/>
            <a:chOff x="1195560" y="1585800"/>
            <a:chExt cx="1963440" cy="1965600"/>
          </a:xfrm>
        </p:grpSpPr>
        <p:grpSp>
          <p:nvGrpSpPr>
            <p:cNvPr id="233" name="组合 34"/>
            <p:cNvGrpSpPr/>
            <p:nvPr/>
          </p:nvGrpSpPr>
          <p:grpSpPr>
            <a:xfrm>
              <a:off x="1195560" y="1585800"/>
              <a:ext cx="1963440" cy="1965600"/>
              <a:chOff x="1195560" y="1585800"/>
              <a:chExt cx="1963440" cy="1965600"/>
            </a:xfrm>
          </p:grpSpPr>
          <p:sp>
            <p:nvSpPr>
              <p:cNvPr id="234" name="椭圆 36"/>
              <p:cNvSpPr/>
              <p:nvPr/>
            </p:nvSpPr>
            <p:spPr>
              <a:xfrm>
                <a:off x="1195560" y="1585800"/>
                <a:ext cx="196344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椭圆 37"/>
              <p:cNvSpPr/>
              <p:nvPr/>
            </p:nvSpPr>
            <p:spPr>
              <a:xfrm>
                <a:off x="1456200" y="1846440"/>
                <a:ext cx="144216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文本框 33"/>
            <p:cNvSpPr/>
            <p:nvPr/>
          </p:nvSpPr>
          <p:spPr>
            <a:xfrm>
              <a:off x="161532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44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38" name="椭圆 75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组合 76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40" name="等腰三角形 77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78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2" name="组合 80"/>
          <p:cNvGrpSpPr/>
          <p:nvPr/>
        </p:nvGrpSpPr>
        <p:grpSpPr>
          <a:xfrm>
            <a:off x="3639960" y="1571760"/>
            <a:ext cx="1963800" cy="1963440"/>
            <a:chOff x="3639960" y="1571760"/>
            <a:chExt cx="1963800" cy="1963440"/>
          </a:xfrm>
        </p:grpSpPr>
        <p:grpSp>
          <p:nvGrpSpPr>
            <p:cNvPr id="243" name="组合 81"/>
            <p:cNvGrpSpPr/>
            <p:nvPr/>
          </p:nvGrpSpPr>
          <p:grpSpPr>
            <a:xfrm>
              <a:off x="3639960" y="1571760"/>
              <a:ext cx="1963800" cy="1963440"/>
              <a:chOff x="3639960" y="1571760"/>
              <a:chExt cx="1963800" cy="1963440"/>
            </a:xfrm>
          </p:grpSpPr>
          <p:sp>
            <p:nvSpPr>
              <p:cNvPr id="244" name="椭圆 83"/>
              <p:cNvSpPr/>
              <p:nvPr/>
            </p:nvSpPr>
            <p:spPr>
              <a:xfrm>
                <a:off x="3639960" y="1571760"/>
                <a:ext cx="1963800" cy="196344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椭圆 84"/>
              <p:cNvSpPr/>
              <p:nvPr/>
            </p:nvSpPr>
            <p:spPr>
              <a:xfrm>
                <a:off x="3900600" y="1832400"/>
                <a:ext cx="1442520" cy="14421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文本框 82"/>
            <p:cNvSpPr/>
            <p:nvPr/>
          </p:nvSpPr>
          <p:spPr>
            <a:xfrm>
              <a:off x="4059720" y="2375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85"/>
          <p:cNvGrpSpPr/>
          <p:nvPr/>
        </p:nvGrpSpPr>
        <p:grpSpPr>
          <a:xfrm>
            <a:off x="6084720" y="1585800"/>
            <a:ext cx="1963800" cy="1965600"/>
            <a:chOff x="6084720" y="1585800"/>
            <a:chExt cx="1963800" cy="1965600"/>
          </a:xfrm>
        </p:grpSpPr>
        <p:grpSp>
          <p:nvGrpSpPr>
            <p:cNvPr id="248" name="组合 86"/>
            <p:cNvGrpSpPr/>
            <p:nvPr/>
          </p:nvGrpSpPr>
          <p:grpSpPr>
            <a:xfrm>
              <a:off x="6084720" y="1585800"/>
              <a:ext cx="1963800" cy="1965600"/>
              <a:chOff x="6084720" y="1585800"/>
              <a:chExt cx="1963800" cy="1965600"/>
            </a:xfrm>
          </p:grpSpPr>
          <p:sp>
            <p:nvSpPr>
              <p:cNvPr id="249" name="椭圆 88"/>
              <p:cNvSpPr/>
              <p:nvPr/>
            </p:nvSpPr>
            <p:spPr>
              <a:xfrm>
                <a:off x="6084720" y="1585800"/>
                <a:ext cx="196380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椭圆 89"/>
              <p:cNvSpPr/>
              <p:nvPr/>
            </p:nvSpPr>
            <p:spPr>
              <a:xfrm>
                <a:off x="6345360" y="1846440"/>
                <a:ext cx="144252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1" name="文本框 87"/>
            <p:cNvSpPr/>
            <p:nvPr/>
          </p:nvSpPr>
          <p:spPr>
            <a:xfrm>
              <a:off x="650448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90"/>
          <p:cNvGrpSpPr/>
          <p:nvPr/>
        </p:nvGrpSpPr>
        <p:grpSpPr>
          <a:xfrm>
            <a:off x="1195560" y="4300560"/>
            <a:ext cx="1963440" cy="1963800"/>
            <a:chOff x="1195560" y="4300560"/>
            <a:chExt cx="1963440" cy="1963800"/>
          </a:xfrm>
        </p:grpSpPr>
        <p:grpSp>
          <p:nvGrpSpPr>
            <p:cNvPr id="253" name="组合 91"/>
            <p:cNvGrpSpPr/>
            <p:nvPr/>
          </p:nvGrpSpPr>
          <p:grpSpPr>
            <a:xfrm>
              <a:off x="1195560" y="4300560"/>
              <a:ext cx="1963440" cy="1963800"/>
              <a:chOff x="1195560" y="4300560"/>
              <a:chExt cx="1963440" cy="1963800"/>
            </a:xfrm>
          </p:grpSpPr>
          <p:sp>
            <p:nvSpPr>
              <p:cNvPr id="254" name="椭圆 93"/>
              <p:cNvSpPr/>
              <p:nvPr/>
            </p:nvSpPr>
            <p:spPr>
              <a:xfrm>
                <a:off x="1195560" y="4300560"/>
                <a:ext cx="196344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椭圆 94"/>
              <p:cNvSpPr/>
              <p:nvPr/>
            </p:nvSpPr>
            <p:spPr>
              <a:xfrm>
                <a:off x="1456200" y="4561200"/>
                <a:ext cx="144216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文本框 92"/>
            <p:cNvSpPr/>
            <p:nvPr/>
          </p:nvSpPr>
          <p:spPr>
            <a:xfrm>
              <a:off x="161532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95"/>
          <p:cNvGrpSpPr/>
          <p:nvPr/>
        </p:nvGrpSpPr>
        <p:grpSpPr>
          <a:xfrm>
            <a:off x="3639960" y="4286160"/>
            <a:ext cx="1963800" cy="1963800"/>
            <a:chOff x="3639960" y="4286160"/>
            <a:chExt cx="1963800" cy="1963800"/>
          </a:xfrm>
        </p:grpSpPr>
        <p:grpSp>
          <p:nvGrpSpPr>
            <p:cNvPr id="258" name="组合 96"/>
            <p:cNvGrpSpPr/>
            <p:nvPr/>
          </p:nvGrpSpPr>
          <p:grpSpPr>
            <a:xfrm>
              <a:off x="3639960" y="4286160"/>
              <a:ext cx="1963800" cy="1963800"/>
              <a:chOff x="3639960" y="4286160"/>
              <a:chExt cx="1963800" cy="1963800"/>
            </a:xfrm>
          </p:grpSpPr>
          <p:sp>
            <p:nvSpPr>
              <p:cNvPr id="259" name="椭圆 98"/>
              <p:cNvSpPr/>
              <p:nvPr/>
            </p:nvSpPr>
            <p:spPr>
              <a:xfrm>
                <a:off x="3639960" y="42861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椭圆 99"/>
              <p:cNvSpPr/>
              <p:nvPr/>
            </p:nvSpPr>
            <p:spPr>
              <a:xfrm>
                <a:off x="3900600" y="45468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97"/>
            <p:cNvSpPr/>
            <p:nvPr/>
          </p:nvSpPr>
          <p:spPr>
            <a:xfrm>
              <a:off x="4059720" y="5090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00"/>
          <p:cNvGrpSpPr/>
          <p:nvPr/>
        </p:nvGrpSpPr>
        <p:grpSpPr>
          <a:xfrm>
            <a:off x="6084720" y="4300560"/>
            <a:ext cx="1963800" cy="1963800"/>
            <a:chOff x="6084720" y="4300560"/>
            <a:chExt cx="1963800" cy="1963800"/>
          </a:xfrm>
        </p:grpSpPr>
        <p:grpSp>
          <p:nvGrpSpPr>
            <p:cNvPr id="263" name="组合 101"/>
            <p:cNvGrpSpPr/>
            <p:nvPr/>
          </p:nvGrpSpPr>
          <p:grpSpPr>
            <a:xfrm>
              <a:off x="6084720" y="4300560"/>
              <a:ext cx="1963800" cy="1963800"/>
              <a:chOff x="6084720" y="4300560"/>
              <a:chExt cx="1963800" cy="1963800"/>
            </a:xfrm>
          </p:grpSpPr>
          <p:sp>
            <p:nvSpPr>
              <p:cNvPr id="264" name="椭圆 103"/>
              <p:cNvSpPr/>
              <p:nvPr/>
            </p:nvSpPr>
            <p:spPr>
              <a:xfrm>
                <a:off x="6084720" y="43005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椭圆 104"/>
              <p:cNvSpPr/>
              <p:nvPr/>
            </p:nvSpPr>
            <p:spPr>
              <a:xfrm>
                <a:off x="6345360" y="45612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6" name="文本框 102"/>
            <p:cNvSpPr/>
            <p:nvPr/>
          </p:nvSpPr>
          <p:spPr>
            <a:xfrm>
              <a:off x="650448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105"/>
          <p:cNvSpPr/>
          <p:nvPr/>
        </p:nvSpPr>
        <p:spPr>
          <a:xfrm>
            <a:off x="3696480" y="362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d66d"/>
                </a:solidFill>
                <a:latin typeface="微软雅黑"/>
                <a:ea typeface="微软雅黑"/>
              </a:rPr>
              <a:t>请在这里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6:54:06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5:27Z</dcterms:modified>
  <cp:revision>5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