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4DE8-BAB5-46FA-A1AE-11D183F9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1B12-A37A-466F-B789-DE27F647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14B-F10B-4A7B-8931-99BA3BA1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EC6-8C7E-4F22-BAE1-D92FE5DD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A39-C667-42F1-90D7-63E7329D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5B58-9117-4A44-8384-FA2FA971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57A-44B8-4D35-81D9-8A2AD30E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6223-E4F4-4E58-ADA4-EEBD2EFB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9AD-AB92-43B9-895A-54BB6720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35DE-CEA0-404A-AA55-EFEB8A89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DB4-B4F1-41E4-B9AB-4D16D049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7CD4-F94F-4817-92F7-5BA7875E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2EDD-0E8A-4F03-9B12-0C0AECA3658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3DBA-1EA5-4C5B-A7AE-1E7A9AA1FA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3"/>
          <p:cNvSpPr/>
          <p:nvPr/>
        </p:nvSpPr>
        <p:spPr>
          <a:xfrm>
            <a:off x="3778560" y="1689120"/>
            <a:ext cx="332028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600" spc="-1" strike="noStrike">
                <a:solidFill>
                  <a:srgbClr val="000000"/>
                </a:solidFill>
                <a:latin typeface="隶书"/>
                <a:ea typeface="隶书"/>
              </a:rPr>
              <a:t>简历</a:t>
            </a:r>
            <a:endParaRPr b="0" lang="en-US" sz="2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5"/>
          <p:cNvSpPr/>
          <p:nvPr/>
        </p:nvSpPr>
        <p:spPr>
          <a:xfrm>
            <a:off x="1187280" y="-601560"/>
            <a:ext cx="0" cy="7846920"/>
          </a:xfrm>
          <a:prstGeom prst="line">
            <a:avLst/>
          </a:prstGeom>
          <a:ln w="2540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54000" y="728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黑白个人简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4"/>
          <p:cNvSpPr/>
          <p:nvPr/>
        </p:nvSpPr>
        <p:spPr>
          <a:xfrm>
            <a:off x="0" y="5300640"/>
            <a:ext cx="9144000" cy="1557360"/>
          </a:xfrm>
          <a:prstGeom prst="rect">
            <a:avLst/>
          </a:prstGeom>
          <a:solidFill>
            <a:srgbClr val="ffffff">
              <a:alpha val="16000"/>
            </a:srgbClr>
          </a:solidFill>
          <a:ln w="9360">
            <a:solidFill>
              <a:srgbClr val="ffffff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9"/>
          <p:cNvSpPr/>
          <p:nvPr/>
        </p:nvSpPr>
        <p:spPr>
          <a:xfrm>
            <a:off x="6732720" y="5300640"/>
            <a:ext cx="2447640" cy="155088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28"/>
          <p:cNvSpPr/>
          <p:nvPr/>
        </p:nvSpPr>
        <p:spPr>
          <a:xfrm>
            <a:off x="4282920" y="5300640"/>
            <a:ext cx="2449800" cy="155088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4"/>
          <p:cNvSpPr/>
          <p:nvPr/>
        </p:nvSpPr>
        <p:spPr>
          <a:xfrm>
            <a:off x="1403280" y="-601560"/>
            <a:ext cx="0" cy="745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6"/>
          <p:cNvSpPr/>
          <p:nvPr/>
        </p:nvSpPr>
        <p:spPr>
          <a:xfrm>
            <a:off x="-538200" y="874800"/>
            <a:ext cx="10152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9"/>
          <p:cNvSpPr/>
          <p:nvPr/>
        </p:nvSpPr>
        <p:spPr>
          <a:xfrm>
            <a:off x="-538200" y="1370160"/>
            <a:ext cx="10152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0"/>
          <p:cNvSpPr/>
          <p:nvPr/>
        </p:nvSpPr>
        <p:spPr>
          <a:xfrm>
            <a:off x="1835280" y="-744480"/>
            <a:ext cx="1440" cy="760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7"/>
          <p:cNvSpPr/>
          <p:nvPr/>
        </p:nvSpPr>
        <p:spPr>
          <a:xfrm>
            <a:off x="1835280" y="5300640"/>
            <a:ext cx="2449440" cy="155088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5"/>
          <p:cNvSpPr/>
          <p:nvPr/>
        </p:nvSpPr>
        <p:spPr>
          <a:xfrm>
            <a:off x="2585880" y="5894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个人资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9"/>
          <p:cNvSpPr/>
          <p:nvPr/>
        </p:nvSpPr>
        <p:spPr>
          <a:xfrm>
            <a:off x="4962600" y="5894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基本技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7338960" y="5894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求职趋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21"/>
          <p:cNvSpPr/>
          <p:nvPr/>
        </p:nvSpPr>
        <p:spPr>
          <a:xfrm>
            <a:off x="4282920" y="5300640"/>
            <a:ext cx="1800" cy="1557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23"/>
          <p:cNvSpPr/>
          <p:nvPr/>
        </p:nvSpPr>
        <p:spPr>
          <a:xfrm>
            <a:off x="6732720" y="530064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843200" y="5310360"/>
            <a:ext cx="2449440" cy="1549080"/>
            <a:chOff x="1843200" y="5310360"/>
            <a:chExt cx="2449440" cy="1549080"/>
          </a:xfrm>
        </p:grpSpPr>
        <p:sp>
          <p:nvSpPr>
            <p:cNvPr id="59" name="矩形 33"/>
            <p:cNvSpPr/>
            <p:nvPr/>
          </p:nvSpPr>
          <p:spPr>
            <a:xfrm>
              <a:off x="1843200" y="5310360"/>
              <a:ext cx="2449440" cy="1549080"/>
            </a:xfrm>
            <a:prstGeom prst="rect">
              <a:avLst/>
            </a:prstGeom>
            <a:solidFill>
              <a:srgbClr val="00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34"/>
            <p:cNvSpPr/>
            <p:nvPr/>
          </p:nvSpPr>
          <p:spPr>
            <a:xfrm>
              <a:off x="2594520" y="5903640"/>
              <a:ext cx="109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个人资料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图片 37" descr=""/>
          <p:cNvPicPr/>
          <p:nvPr/>
        </p:nvPicPr>
        <p:blipFill>
          <a:blip r:embed="rId2"/>
          <a:srcRect l="0" t="0" r="0" b="7979"/>
          <a:stretch/>
        </p:blipFill>
        <p:spPr>
          <a:xfrm>
            <a:off x="3009960" y="1557360"/>
            <a:ext cx="4441680" cy="36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100"/>
                            </p:stCondLst>
                            <p:childTnLst>
                              <p:par>
                                <p:cTn id="8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50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15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28440" y="1049400"/>
            <a:ext cx="1504800" cy="574560"/>
            <a:chOff x="-28440" y="1049400"/>
            <a:chExt cx="1504800" cy="574560"/>
          </a:xfrm>
        </p:grpSpPr>
        <p:sp>
          <p:nvSpPr>
            <p:cNvPr id="63" name="矩形 27"/>
            <p:cNvSpPr/>
            <p:nvPr/>
          </p:nvSpPr>
          <p:spPr>
            <a:xfrm>
              <a:off x="-28440" y="1069560"/>
              <a:ext cx="1504800" cy="554400"/>
            </a:xfrm>
            <a:prstGeom prst="rect">
              <a:avLst/>
            </a:prstGeom>
            <a:solidFill>
              <a:srgbClr val="00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15"/>
            <p:cNvSpPr/>
            <p:nvPr/>
          </p:nvSpPr>
          <p:spPr>
            <a:xfrm>
              <a:off x="218520" y="1049400"/>
              <a:ext cx="109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个人资料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直接连接符 17"/>
          <p:cNvSpPr/>
          <p:nvPr/>
        </p:nvSpPr>
        <p:spPr>
          <a:xfrm>
            <a:off x="1560600" y="-1700280"/>
            <a:ext cx="0" cy="332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22"/>
          <p:cNvSpPr/>
          <p:nvPr/>
        </p:nvSpPr>
        <p:spPr>
          <a:xfrm>
            <a:off x="3060720" y="1627200"/>
            <a:ext cx="0" cy="574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30"/>
          <p:cNvSpPr/>
          <p:nvPr/>
        </p:nvSpPr>
        <p:spPr>
          <a:xfrm flipH="1">
            <a:off x="1186560" y="3427560"/>
            <a:ext cx="235080" cy="72720"/>
          </a:xfrm>
          <a:custGeom>
            <a:avLst/>
            <a:gdLst>
              <a:gd name="textAreaLeft" fmla="*/ -360 w 235080"/>
              <a:gd name="textAreaRight" fmla="*/ 235080 w 235080"/>
              <a:gd name="textAreaTop" fmla="*/ 0 h 72720"/>
              <a:gd name="textAreaBottom" fmla="*/ 72720 h 72720"/>
            </a:gdLst>
            <a:ahLst/>
            <a:rect l="textAreaLeft" t="textAreaTop" r="textAreaRight" b="textAreaBottom"/>
            <a:pathLst>
              <a:path w="129" h="46">
                <a:moveTo>
                  <a:pt x="14" y="3"/>
                </a:moveTo>
                <a:lnTo>
                  <a:pt x="2" y="0"/>
                </a:lnTo>
                <a:lnTo>
                  <a:pt x="0" y="3"/>
                </a:lnTo>
                <a:lnTo>
                  <a:pt x="2" y="11"/>
                </a:lnTo>
                <a:lnTo>
                  <a:pt x="7" y="16"/>
                </a:lnTo>
                <a:lnTo>
                  <a:pt x="33" y="35"/>
                </a:lnTo>
                <a:lnTo>
                  <a:pt x="56" y="44"/>
                </a:lnTo>
                <a:lnTo>
                  <a:pt x="77" y="46"/>
                </a:lnTo>
                <a:lnTo>
                  <a:pt x="95" y="41"/>
                </a:lnTo>
                <a:lnTo>
                  <a:pt x="110" y="35"/>
                </a:lnTo>
                <a:lnTo>
                  <a:pt x="120" y="27"/>
                </a:lnTo>
                <a:lnTo>
                  <a:pt x="127" y="20"/>
                </a:lnTo>
                <a:lnTo>
                  <a:pt x="129" y="17"/>
                </a:lnTo>
                <a:lnTo>
                  <a:pt x="126" y="17"/>
                </a:lnTo>
                <a:lnTo>
                  <a:pt x="117" y="17"/>
                </a:lnTo>
                <a:lnTo>
                  <a:pt x="103" y="17"/>
                </a:lnTo>
                <a:lnTo>
                  <a:pt x="86" y="17"/>
                </a:lnTo>
                <a:lnTo>
                  <a:pt x="67" y="16"/>
                </a:lnTo>
                <a:lnTo>
                  <a:pt x="48" y="12"/>
                </a:lnTo>
                <a:lnTo>
                  <a:pt x="29" y="9"/>
                </a:lnTo>
                <a:lnTo>
                  <a:pt x="1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31"/>
          <p:cNvSpPr/>
          <p:nvPr/>
        </p:nvSpPr>
        <p:spPr>
          <a:xfrm flipH="1">
            <a:off x="781200" y="3200400"/>
            <a:ext cx="336240" cy="804960"/>
          </a:xfrm>
          <a:custGeom>
            <a:avLst/>
            <a:gdLst>
              <a:gd name="textAreaLeft" fmla="*/ 360 w 336240"/>
              <a:gd name="textAreaRight" fmla="*/ 336960 w 33624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145" h="416">
                <a:moveTo>
                  <a:pt x="128" y="137"/>
                </a:moveTo>
                <a:lnTo>
                  <a:pt x="124" y="150"/>
                </a:lnTo>
                <a:lnTo>
                  <a:pt x="117" y="163"/>
                </a:lnTo>
                <a:lnTo>
                  <a:pt x="111" y="175"/>
                </a:lnTo>
                <a:lnTo>
                  <a:pt x="104" y="187"/>
                </a:lnTo>
                <a:lnTo>
                  <a:pt x="96" y="198"/>
                </a:lnTo>
                <a:lnTo>
                  <a:pt x="89" y="209"/>
                </a:lnTo>
                <a:lnTo>
                  <a:pt x="81" y="220"/>
                </a:lnTo>
                <a:lnTo>
                  <a:pt x="74" y="230"/>
                </a:lnTo>
                <a:lnTo>
                  <a:pt x="67" y="241"/>
                </a:lnTo>
                <a:lnTo>
                  <a:pt x="60" y="252"/>
                </a:lnTo>
                <a:lnTo>
                  <a:pt x="53" y="262"/>
                </a:lnTo>
                <a:lnTo>
                  <a:pt x="46" y="273"/>
                </a:lnTo>
                <a:lnTo>
                  <a:pt x="39" y="284"/>
                </a:lnTo>
                <a:lnTo>
                  <a:pt x="33" y="297"/>
                </a:lnTo>
                <a:lnTo>
                  <a:pt x="27" y="308"/>
                </a:lnTo>
                <a:lnTo>
                  <a:pt x="21" y="321"/>
                </a:lnTo>
                <a:lnTo>
                  <a:pt x="13" y="348"/>
                </a:lnTo>
                <a:lnTo>
                  <a:pt x="6" y="380"/>
                </a:lnTo>
                <a:lnTo>
                  <a:pt x="1" y="407"/>
                </a:lnTo>
                <a:lnTo>
                  <a:pt x="0" y="416"/>
                </a:lnTo>
                <a:lnTo>
                  <a:pt x="5" y="402"/>
                </a:lnTo>
                <a:lnTo>
                  <a:pt x="9" y="386"/>
                </a:lnTo>
                <a:lnTo>
                  <a:pt x="14" y="372"/>
                </a:lnTo>
                <a:lnTo>
                  <a:pt x="20" y="357"/>
                </a:lnTo>
                <a:lnTo>
                  <a:pt x="25" y="345"/>
                </a:lnTo>
                <a:lnTo>
                  <a:pt x="32" y="330"/>
                </a:lnTo>
                <a:lnTo>
                  <a:pt x="39" y="316"/>
                </a:lnTo>
                <a:lnTo>
                  <a:pt x="46" y="303"/>
                </a:lnTo>
                <a:lnTo>
                  <a:pt x="54" y="290"/>
                </a:lnTo>
                <a:lnTo>
                  <a:pt x="62" y="278"/>
                </a:lnTo>
                <a:lnTo>
                  <a:pt x="70" y="265"/>
                </a:lnTo>
                <a:lnTo>
                  <a:pt x="78" y="252"/>
                </a:lnTo>
                <a:lnTo>
                  <a:pt x="85" y="241"/>
                </a:lnTo>
                <a:lnTo>
                  <a:pt x="93" y="228"/>
                </a:lnTo>
                <a:lnTo>
                  <a:pt x="101" y="215"/>
                </a:lnTo>
                <a:lnTo>
                  <a:pt x="110" y="202"/>
                </a:lnTo>
                <a:lnTo>
                  <a:pt x="121" y="182"/>
                </a:lnTo>
                <a:lnTo>
                  <a:pt x="131" y="159"/>
                </a:lnTo>
                <a:lnTo>
                  <a:pt x="138" y="135"/>
                </a:lnTo>
                <a:lnTo>
                  <a:pt x="143" y="111"/>
                </a:lnTo>
                <a:lnTo>
                  <a:pt x="145" y="80"/>
                </a:lnTo>
                <a:lnTo>
                  <a:pt x="143" y="43"/>
                </a:lnTo>
                <a:lnTo>
                  <a:pt x="140" y="12"/>
                </a:lnTo>
                <a:lnTo>
                  <a:pt x="139" y="0"/>
                </a:lnTo>
                <a:lnTo>
                  <a:pt x="140" y="14"/>
                </a:lnTo>
                <a:lnTo>
                  <a:pt x="140" y="51"/>
                </a:lnTo>
                <a:lnTo>
                  <a:pt x="138" y="97"/>
                </a:lnTo>
                <a:lnTo>
                  <a:pt x="128" y="1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32"/>
          <p:cNvSpPr/>
          <p:nvPr/>
        </p:nvSpPr>
        <p:spPr>
          <a:xfrm flipH="1">
            <a:off x="826920" y="3441600"/>
            <a:ext cx="120960" cy="60480"/>
          </a:xfrm>
          <a:custGeom>
            <a:avLst/>
            <a:gdLst>
              <a:gd name="textAreaLeft" fmla="*/ 360 w 120960"/>
              <a:gd name="textAreaRight" fmla="*/ 121680 w 12096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66" h="37">
                <a:moveTo>
                  <a:pt x="32" y="14"/>
                </a:moveTo>
                <a:lnTo>
                  <a:pt x="25" y="13"/>
                </a:lnTo>
                <a:lnTo>
                  <a:pt x="18" y="11"/>
                </a:lnTo>
                <a:lnTo>
                  <a:pt x="10" y="13"/>
                </a:lnTo>
                <a:lnTo>
                  <a:pt x="3" y="14"/>
                </a:lnTo>
                <a:lnTo>
                  <a:pt x="2" y="16"/>
                </a:lnTo>
                <a:lnTo>
                  <a:pt x="0" y="18"/>
                </a:lnTo>
                <a:lnTo>
                  <a:pt x="0" y="21"/>
                </a:lnTo>
                <a:lnTo>
                  <a:pt x="0" y="22"/>
                </a:lnTo>
                <a:lnTo>
                  <a:pt x="3" y="27"/>
                </a:lnTo>
                <a:lnTo>
                  <a:pt x="5" y="30"/>
                </a:lnTo>
                <a:lnTo>
                  <a:pt x="9" y="34"/>
                </a:lnTo>
                <a:lnTo>
                  <a:pt x="12" y="35"/>
                </a:lnTo>
                <a:lnTo>
                  <a:pt x="18" y="37"/>
                </a:lnTo>
                <a:lnTo>
                  <a:pt x="24" y="35"/>
                </a:lnTo>
                <a:lnTo>
                  <a:pt x="31" y="35"/>
                </a:lnTo>
                <a:lnTo>
                  <a:pt x="35" y="32"/>
                </a:lnTo>
                <a:lnTo>
                  <a:pt x="45" y="24"/>
                </a:lnTo>
                <a:lnTo>
                  <a:pt x="55" y="13"/>
                </a:lnTo>
                <a:lnTo>
                  <a:pt x="62" y="5"/>
                </a:lnTo>
                <a:lnTo>
                  <a:pt x="66" y="0"/>
                </a:lnTo>
                <a:lnTo>
                  <a:pt x="62" y="3"/>
                </a:lnTo>
                <a:lnTo>
                  <a:pt x="54" y="8"/>
                </a:lnTo>
                <a:lnTo>
                  <a:pt x="42" y="13"/>
                </a:lnTo>
                <a:lnTo>
                  <a:pt x="32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33"/>
          <p:cNvSpPr/>
          <p:nvPr/>
        </p:nvSpPr>
        <p:spPr>
          <a:xfrm flipH="1">
            <a:off x="1042200" y="3718080"/>
            <a:ext cx="190440" cy="31680"/>
          </a:xfrm>
          <a:custGeom>
            <a:avLst/>
            <a:gdLst>
              <a:gd name="textAreaLeft" fmla="*/ -360 w 190440"/>
              <a:gd name="textAreaRight" fmla="*/ 190440 w 1904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05" h="20">
                <a:moveTo>
                  <a:pt x="60" y="1"/>
                </a:moveTo>
                <a:lnTo>
                  <a:pt x="52" y="0"/>
                </a:lnTo>
                <a:lnTo>
                  <a:pt x="44" y="3"/>
                </a:lnTo>
                <a:lnTo>
                  <a:pt x="35" y="8"/>
                </a:lnTo>
                <a:lnTo>
                  <a:pt x="27" y="9"/>
                </a:lnTo>
                <a:lnTo>
                  <a:pt x="21" y="8"/>
                </a:lnTo>
                <a:lnTo>
                  <a:pt x="14" y="6"/>
                </a:lnTo>
                <a:lnTo>
                  <a:pt x="7" y="6"/>
                </a:lnTo>
                <a:lnTo>
                  <a:pt x="2" y="4"/>
                </a:lnTo>
                <a:lnTo>
                  <a:pt x="0" y="4"/>
                </a:lnTo>
                <a:lnTo>
                  <a:pt x="0" y="6"/>
                </a:lnTo>
                <a:lnTo>
                  <a:pt x="0" y="9"/>
                </a:lnTo>
                <a:lnTo>
                  <a:pt x="0" y="9"/>
                </a:lnTo>
                <a:lnTo>
                  <a:pt x="9" y="14"/>
                </a:lnTo>
                <a:lnTo>
                  <a:pt x="16" y="17"/>
                </a:lnTo>
                <a:lnTo>
                  <a:pt x="23" y="19"/>
                </a:lnTo>
                <a:lnTo>
                  <a:pt x="31" y="20"/>
                </a:lnTo>
                <a:lnTo>
                  <a:pt x="38" y="20"/>
                </a:lnTo>
                <a:lnTo>
                  <a:pt x="44" y="19"/>
                </a:lnTo>
                <a:lnTo>
                  <a:pt x="49" y="17"/>
                </a:lnTo>
                <a:lnTo>
                  <a:pt x="55" y="14"/>
                </a:lnTo>
                <a:lnTo>
                  <a:pt x="60" y="12"/>
                </a:lnTo>
                <a:lnTo>
                  <a:pt x="66" y="12"/>
                </a:lnTo>
                <a:lnTo>
                  <a:pt x="71" y="14"/>
                </a:lnTo>
                <a:lnTo>
                  <a:pt x="78" y="17"/>
                </a:lnTo>
                <a:lnTo>
                  <a:pt x="88" y="17"/>
                </a:lnTo>
                <a:lnTo>
                  <a:pt x="96" y="11"/>
                </a:lnTo>
                <a:lnTo>
                  <a:pt x="103" y="3"/>
                </a:lnTo>
                <a:lnTo>
                  <a:pt x="105" y="0"/>
                </a:lnTo>
                <a:lnTo>
                  <a:pt x="104" y="0"/>
                </a:lnTo>
                <a:lnTo>
                  <a:pt x="102" y="3"/>
                </a:lnTo>
                <a:lnTo>
                  <a:pt x="98" y="4"/>
                </a:lnTo>
                <a:lnTo>
                  <a:pt x="94" y="6"/>
                </a:lnTo>
                <a:lnTo>
                  <a:pt x="87" y="8"/>
                </a:lnTo>
                <a:lnTo>
                  <a:pt x="78" y="8"/>
                </a:lnTo>
                <a:lnTo>
                  <a:pt x="70" y="6"/>
                </a:lnTo>
                <a:lnTo>
                  <a:pt x="6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34"/>
          <p:cNvSpPr/>
          <p:nvPr/>
        </p:nvSpPr>
        <p:spPr>
          <a:xfrm flipH="1">
            <a:off x="1098720" y="3789360"/>
            <a:ext cx="88560" cy="33480"/>
          </a:xfrm>
          <a:custGeom>
            <a:avLst/>
            <a:gdLst>
              <a:gd name="textAreaLeft" fmla="*/ 0 w 88560"/>
              <a:gd name="textAreaRight" fmla="*/ 88560 w 885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49" h="21">
                <a:moveTo>
                  <a:pt x="26" y="8"/>
                </a:moveTo>
                <a:lnTo>
                  <a:pt x="20" y="7"/>
                </a:lnTo>
                <a:lnTo>
                  <a:pt x="14" y="5"/>
                </a:lnTo>
                <a:lnTo>
                  <a:pt x="8" y="3"/>
                </a:lnTo>
                <a:lnTo>
                  <a:pt x="2" y="2"/>
                </a:lnTo>
                <a:lnTo>
                  <a:pt x="1" y="2"/>
                </a:lnTo>
                <a:lnTo>
                  <a:pt x="0" y="5"/>
                </a:lnTo>
                <a:lnTo>
                  <a:pt x="0" y="7"/>
                </a:lnTo>
                <a:lnTo>
                  <a:pt x="1" y="8"/>
                </a:lnTo>
                <a:lnTo>
                  <a:pt x="14" y="16"/>
                </a:lnTo>
                <a:lnTo>
                  <a:pt x="24" y="19"/>
                </a:lnTo>
                <a:lnTo>
                  <a:pt x="33" y="21"/>
                </a:lnTo>
                <a:lnTo>
                  <a:pt x="40" y="18"/>
                </a:lnTo>
                <a:lnTo>
                  <a:pt x="43" y="15"/>
                </a:lnTo>
                <a:lnTo>
                  <a:pt x="47" y="10"/>
                </a:lnTo>
                <a:lnTo>
                  <a:pt x="48" y="5"/>
                </a:lnTo>
                <a:lnTo>
                  <a:pt x="49" y="0"/>
                </a:lnTo>
                <a:lnTo>
                  <a:pt x="47" y="2"/>
                </a:lnTo>
                <a:lnTo>
                  <a:pt x="41" y="3"/>
                </a:lnTo>
                <a:lnTo>
                  <a:pt x="33" y="7"/>
                </a:lnTo>
                <a:lnTo>
                  <a:pt x="26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35"/>
          <p:cNvSpPr/>
          <p:nvPr/>
        </p:nvSpPr>
        <p:spPr>
          <a:xfrm flipH="1">
            <a:off x="786600" y="3357720"/>
            <a:ext cx="241560" cy="449280"/>
          </a:xfrm>
          <a:custGeom>
            <a:avLst/>
            <a:gdLst>
              <a:gd name="textAreaLeft" fmla="*/ -360 w 241560"/>
              <a:gd name="textAreaRight" fmla="*/ 241560 w 2415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43" h="326">
                <a:moveTo>
                  <a:pt x="81" y="5"/>
                </a:moveTo>
                <a:lnTo>
                  <a:pt x="73" y="11"/>
                </a:lnTo>
                <a:lnTo>
                  <a:pt x="66" y="18"/>
                </a:lnTo>
                <a:lnTo>
                  <a:pt x="59" y="27"/>
                </a:lnTo>
                <a:lnTo>
                  <a:pt x="53" y="37"/>
                </a:lnTo>
                <a:lnTo>
                  <a:pt x="47" y="46"/>
                </a:lnTo>
                <a:lnTo>
                  <a:pt x="43" y="58"/>
                </a:lnTo>
                <a:lnTo>
                  <a:pt x="38" y="69"/>
                </a:lnTo>
                <a:lnTo>
                  <a:pt x="33" y="80"/>
                </a:lnTo>
                <a:lnTo>
                  <a:pt x="28" y="107"/>
                </a:lnTo>
                <a:lnTo>
                  <a:pt x="25" y="134"/>
                </a:lnTo>
                <a:lnTo>
                  <a:pt x="25" y="163"/>
                </a:lnTo>
                <a:lnTo>
                  <a:pt x="23" y="192"/>
                </a:lnTo>
                <a:lnTo>
                  <a:pt x="20" y="224"/>
                </a:lnTo>
                <a:lnTo>
                  <a:pt x="15" y="257"/>
                </a:lnTo>
                <a:lnTo>
                  <a:pt x="8" y="291"/>
                </a:lnTo>
                <a:lnTo>
                  <a:pt x="0" y="323"/>
                </a:lnTo>
                <a:lnTo>
                  <a:pt x="0" y="326"/>
                </a:lnTo>
                <a:lnTo>
                  <a:pt x="2" y="326"/>
                </a:lnTo>
                <a:lnTo>
                  <a:pt x="4" y="326"/>
                </a:lnTo>
                <a:lnTo>
                  <a:pt x="6" y="324"/>
                </a:lnTo>
                <a:lnTo>
                  <a:pt x="17" y="286"/>
                </a:lnTo>
                <a:lnTo>
                  <a:pt x="27" y="248"/>
                </a:lnTo>
                <a:lnTo>
                  <a:pt x="33" y="206"/>
                </a:lnTo>
                <a:lnTo>
                  <a:pt x="37" y="166"/>
                </a:lnTo>
                <a:lnTo>
                  <a:pt x="37" y="155"/>
                </a:lnTo>
                <a:lnTo>
                  <a:pt x="37" y="142"/>
                </a:lnTo>
                <a:lnTo>
                  <a:pt x="36" y="131"/>
                </a:lnTo>
                <a:lnTo>
                  <a:pt x="36" y="120"/>
                </a:lnTo>
                <a:lnTo>
                  <a:pt x="38" y="99"/>
                </a:lnTo>
                <a:lnTo>
                  <a:pt x="43" y="80"/>
                </a:lnTo>
                <a:lnTo>
                  <a:pt x="50" y="61"/>
                </a:lnTo>
                <a:lnTo>
                  <a:pt x="58" y="45"/>
                </a:lnTo>
                <a:lnTo>
                  <a:pt x="66" y="34"/>
                </a:lnTo>
                <a:lnTo>
                  <a:pt x="78" y="24"/>
                </a:lnTo>
                <a:lnTo>
                  <a:pt x="92" y="18"/>
                </a:lnTo>
                <a:lnTo>
                  <a:pt x="107" y="11"/>
                </a:lnTo>
                <a:lnTo>
                  <a:pt x="121" y="8"/>
                </a:lnTo>
                <a:lnTo>
                  <a:pt x="133" y="5"/>
                </a:lnTo>
                <a:lnTo>
                  <a:pt x="140" y="3"/>
                </a:lnTo>
                <a:lnTo>
                  <a:pt x="143" y="3"/>
                </a:lnTo>
                <a:lnTo>
                  <a:pt x="141" y="3"/>
                </a:lnTo>
                <a:lnTo>
                  <a:pt x="136" y="2"/>
                </a:lnTo>
                <a:lnTo>
                  <a:pt x="128" y="2"/>
                </a:lnTo>
                <a:lnTo>
                  <a:pt x="120" y="0"/>
                </a:lnTo>
                <a:lnTo>
                  <a:pt x="109" y="0"/>
                </a:lnTo>
                <a:lnTo>
                  <a:pt x="99" y="0"/>
                </a:lnTo>
                <a:lnTo>
                  <a:pt x="89" y="2"/>
                </a:lnTo>
                <a:lnTo>
                  <a:pt x="8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36"/>
          <p:cNvSpPr/>
          <p:nvPr/>
        </p:nvSpPr>
        <p:spPr>
          <a:xfrm flipH="1">
            <a:off x="1042200" y="3268800"/>
            <a:ext cx="398520" cy="88920"/>
          </a:xfrm>
          <a:custGeom>
            <a:avLst/>
            <a:gdLst>
              <a:gd name="textAreaLeft" fmla="*/ -360 w 398520"/>
              <a:gd name="textAreaRight" fmla="*/ 398520 w 3985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19" h="56">
                <a:moveTo>
                  <a:pt x="152" y="29"/>
                </a:moveTo>
                <a:lnTo>
                  <a:pt x="148" y="24"/>
                </a:lnTo>
                <a:lnTo>
                  <a:pt x="142" y="19"/>
                </a:lnTo>
                <a:lnTo>
                  <a:pt x="136" y="16"/>
                </a:lnTo>
                <a:lnTo>
                  <a:pt x="130" y="13"/>
                </a:lnTo>
                <a:lnTo>
                  <a:pt x="125" y="11"/>
                </a:lnTo>
                <a:lnTo>
                  <a:pt x="119" y="9"/>
                </a:lnTo>
                <a:lnTo>
                  <a:pt x="112" y="8"/>
                </a:lnTo>
                <a:lnTo>
                  <a:pt x="106" y="6"/>
                </a:lnTo>
                <a:lnTo>
                  <a:pt x="92" y="3"/>
                </a:lnTo>
                <a:lnTo>
                  <a:pt x="79" y="0"/>
                </a:lnTo>
                <a:lnTo>
                  <a:pt x="66" y="0"/>
                </a:lnTo>
                <a:lnTo>
                  <a:pt x="53" y="0"/>
                </a:lnTo>
                <a:lnTo>
                  <a:pt x="41" y="2"/>
                </a:lnTo>
                <a:lnTo>
                  <a:pt x="28" y="5"/>
                </a:lnTo>
                <a:lnTo>
                  <a:pt x="16" y="11"/>
                </a:lnTo>
                <a:lnTo>
                  <a:pt x="3" y="17"/>
                </a:lnTo>
                <a:lnTo>
                  <a:pt x="1" y="21"/>
                </a:lnTo>
                <a:lnTo>
                  <a:pt x="0" y="25"/>
                </a:lnTo>
                <a:lnTo>
                  <a:pt x="1" y="29"/>
                </a:lnTo>
                <a:lnTo>
                  <a:pt x="5" y="30"/>
                </a:lnTo>
                <a:lnTo>
                  <a:pt x="21" y="29"/>
                </a:lnTo>
                <a:lnTo>
                  <a:pt x="36" y="27"/>
                </a:lnTo>
                <a:lnTo>
                  <a:pt x="52" y="29"/>
                </a:lnTo>
                <a:lnTo>
                  <a:pt x="67" y="29"/>
                </a:lnTo>
                <a:lnTo>
                  <a:pt x="84" y="32"/>
                </a:lnTo>
                <a:lnTo>
                  <a:pt x="99" y="35"/>
                </a:lnTo>
                <a:lnTo>
                  <a:pt x="115" y="40"/>
                </a:lnTo>
                <a:lnTo>
                  <a:pt x="130" y="46"/>
                </a:lnTo>
                <a:lnTo>
                  <a:pt x="151" y="54"/>
                </a:lnTo>
                <a:lnTo>
                  <a:pt x="169" y="56"/>
                </a:lnTo>
                <a:lnTo>
                  <a:pt x="184" y="56"/>
                </a:lnTo>
                <a:lnTo>
                  <a:pt x="197" y="53"/>
                </a:lnTo>
                <a:lnTo>
                  <a:pt x="206" y="48"/>
                </a:lnTo>
                <a:lnTo>
                  <a:pt x="213" y="45"/>
                </a:lnTo>
                <a:lnTo>
                  <a:pt x="218" y="41"/>
                </a:lnTo>
                <a:lnTo>
                  <a:pt x="219" y="40"/>
                </a:lnTo>
                <a:lnTo>
                  <a:pt x="217" y="40"/>
                </a:lnTo>
                <a:lnTo>
                  <a:pt x="212" y="41"/>
                </a:lnTo>
                <a:lnTo>
                  <a:pt x="205" y="45"/>
                </a:lnTo>
                <a:lnTo>
                  <a:pt x="196" y="45"/>
                </a:lnTo>
                <a:lnTo>
                  <a:pt x="185" y="45"/>
                </a:lnTo>
                <a:lnTo>
                  <a:pt x="175" y="43"/>
                </a:lnTo>
                <a:lnTo>
                  <a:pt x="163" y="37"/>
                </a:lnTo>
                <a:lnTo>
                  <a:pt x="152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37"/>
          <p:cNvSpPr/>
          <p:nvPr/>
        </p:nvSpPr>
        <p:spPr>
          <a:xfrm flipH="1">
            <a:off x="1176480" y="3365640"/>
            <a:ext cx="396720" cy="614160"/>
          </a:xfrm>
          <a:custGeom>
            <a:avLst/>
            <a:gdLst>
              <a:gd name="textAreaLeft" fmla="*/ 360 w 396720"/>
              <a:gd name="textAreaRight" fmla="*/ 397440 w 396720"/>
              <a:gd name="textAreaTop" fmla="*/ 0 h 614160"/>
              <a:gd name="textAreaBottom" fmla="*/ 614520 h 614160"/>
            </a:gdLst>
            <a:ahLst/>
            <a:rect l="textAreaLeft" t="textAreaTop" r="textAreaRight" b="textAreaBottom"/>
            <a:pathLst>
              <a:path w="212" h="391">
                <a:moveTo>
                  <a:pt x="8" y="153"/>
                </a:moveTo>
                <a:lnTo>
                  <a:pt x="14" y="182"/>
                </a:lnTo>
                <a:lnTo>
                  <a:pt x="21" y="209"/>
                </a:lnTo>
                <a:lnTo>
                  <a:pt x="30" y="236"/>
                </a:lnTo>
                <a:lnTo>
                  <a:pt x="42" y="260"/>
                </a:lnTo>
                <a:lnTo>
                  <a:pt x="58" y="284"/>
                </a:lnTo>
                <a:lnTo>
                  <a:pt x="76" y="308"/>
                </a:lnTo>
                <a:lnTo>
                  <a:pt x="94" y="331"/>
                </a:lnTo>
                <a:lnTo>
                  <a:pt x="115" y="351"/>
                </a:lnTo>
                <a:lnTo>
                  <a:pt x="136" y="369"/>
                </a:lnTo>
                <a:lnTo>
                  <a:pt x="159" y="382"/>
                </a:lnTo>
                <a:lnTo>
                  <a:pt x="183" y="390"/>
                </a:lnTo>
                <a:lnTo>
                  <a:pt x="207" y="391"/>
                </a:lnTo>
                <a:lnTo>
                  <a:pt x="210" y="390"/>
                </a:lnTo>
                <a:lnTo>
                  <a:pt x="212" y="386"/>
                </a:lnTo>
                <a:lnTo>
                  <a:pt x="212" y="383"/>
                </a:lnTo>
                <a:lnTo>
                  <a:pt x="211" y="382"/>
                </a:lnTo>
                <a:lnTo>
                  <a:pt x="189" y="372"/>
                </a:lnTo>
                <a:lnTo>
                  <a:pt x="168" y="359"/>
                </a:lnTo>
                <a:lnTo>
                  <a:pt x="147" y="347"/>
                </a:lnTo>
                <a:lnTo>
                  <a:pt x="128" y="329"/>
                </a:lnTo>
                <a:lnTo>
                  <a:pt x="109" y="311"/>
                </a:lnTo>
                <a:lnTo>
                  <a:pt x="91" y="292"/>
                </a:lnTo>
                <a:lnTo>
                  <a:pt x="73" y="271"/>
                </a:lnTo>
                <a:lnTo>
                  <a:pt x="57" y="249"/>
                </a:lnTo>
                <a:lnTo>
                  <a:pt x="49" y="238"/>
                </a:lnTo>
                <a:lnTo>
                  <a:pt x="42" y="225"/>
                </a:lnTo>
                <a:lnTo>
                  <a:pt x="36" y="212"/>
                </a:lnTo>
                <a:lnTo>
                  <a:pt x="30" y="198"/>
                </a:lnTo>
                <a:lnTo>
                  <a:pt x="25" y="185"/>
                </a:lnTo>
                <a:lnTo>
                  <a:pt x="21" y="169"/>
                </a:lnTo>
                <a:lnTo>
                  <a:pt x="16" y="155"/>
                </a:lnTo>
                <a:lnTo>
                  <a:pt x="13" y="139"/>
                </a:lnTo>
                <a:lnTo>
                  <a:pt x="7" y="99"/>
                </a:lnTo>
                <a:lnTo>
                  <a:pt x="4" y="53"/>
                </a:lnTo>
                <a:lnTo>
                  <a:pt x="2" y="16"/>
                </a:lnTo>
                <a:lnTo>
                  <a:pt x="2" y="0"/>
                </a:lnTo>
                <a:lnTo>
                  <a:pt x="1" y="14"/>
                </a:lnTo>
                <a:lnTo>
                  <a:pt x="0" y="49"/>
                </a:lnTo>
                <a:lnTo>
                  <a:pt x="1" y="99"/>
                </a:lnTo>
                <a:lnTo>
                  <a:pt x="8" y="153"/>
                </a:lnTo>
                <a:close/>
              </a:path>
            </a:pathLst>
          </a:custGeom>
          <a:solidFill>
            <a:srgbClr val="1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38"/>
          <p:cNvSpPr/>
          <p:nvPr/>
        </p:nvSpPr>
        <p:spPr>
          <a:xfrm flipH="1">
            <a:off x="2182680" y="4651200"/>
            <a:ext cx="804960" cy="2144880"/>
          </a:xfrm>
          <a:custGeom>
            <a:avLst/>
            <a:gdLst>
              <a:gd name="textAreaLeft" fmla="*/ 360 w 804960"/>
              <a:gd name="textAreaRight" fmla="*/ 805680 w 804960"/>
              <a:gd name="textAreaTop" fmla="*/ 0 h 2144880"/>
              <a:gd name="textAreaBottom" fmla="*/ 2145240 h 2144880"/>
            </a:gdLst>
            <a:ahLst/>
            <a:rect l="textAreaLeft" t="textAreaTop" r="textAreaRight" b="textAreaBottom"/>
            <a:pathLst>
              <a:path w="443" h="1351">
                <a:moveTo>
                  <a:pt x="1" y="386"/>
                </a:moveTo>
                <a:lnTo>
                  <a:pt x="6" y="434"/>
                </a:lnTo>
                <a:lnTo>
                  <a:pt x="13" y="482"/>
                </a:lnTo>
                <a:lnTo>
                  <a:pt x="21" y="530"/>
                </a:lnTo>
                <a:lnTo>
                  <a:pt x="30" y="576"/>
                </a:lnTo>
                <a:lnTo>
                  <a:pt x="41" y="623"/>
                </a:lnTo>
                <a:lnTo>
                  <a:pt x="52" y="669"/>
                </a:lnTo>
                <a:lnTo>
                  <a:pt x="65" y="714"/>
                </a:lnTo>
                <a:lnTo>
                  <a:pt x="80" y="758"/>
                </a:lnTo>
                <a:lnTo>
                  <a:pt x="95" y="801"/>
                </a:lnTo>
                <a:lnTo>
                  <a:pt x="113" y="845"/>
                </a:lnTo>
                <a:lnTo>
                  <a:pt x="130" y="886"/>
                </a:lnTo>
                <a:lnTo>
                  <a:pt x="149" y="926"/>
                </a:lnTo>
                <a:lnTo>
                  <a:pt x="168" y="966"/>
                </a:lnTo>
                <a:lnTo>
                  <a:pt x="189" y="1006"/>
                </a:lnTo>
                <a:lnTo>
                  <a:pt x="210" y="1044"/>
                </a:lnTo>
                <a:lnTo>
                  <a:pt x="232" y="1081"/>
                </a:lnTo>
                <a:lnTo>
                  <a:pt x="255" y="1118"/>
                </a:lnTo>
                <a:lnTo>
                  <a:pt x="278" y="1153"/>
                </a:lnTo>
                <a:lnTo>
                  <a:pt x="302" y="1188"/>
                </a:lnTo>
                <a:lnTo>
                  <a:pt x="327" y="1221"/>
                </a:lnTo>
                <a:lnTo>
                  <a:pt x="353" y="1255"/>
                </a:lnTo>
                <a:lnTo>
                  <a:pt x="378" y="1287"/>
                </a:lnTo>
                <a:lnTo>
                  <a:pt x="405" y="1319"/>
                </a:lnTo>
                <a:lnTo>
                  <a:pt x="432" y="1349"/>
                </a:lnTo>
                <a:lnTo>
                  <a:pt x="437" y="1351"/>
                </a:lnTo>
                <a:lnTo>
                  <a:pt x="440" y="1346"/>
                </a:lnTo>
                <a:lnTo>
                  <a:pt x="443" y="1341"/>
                </a:lnTo>
                <a:lnTo>
                  <a:pt x="440" y="1335"/>
                </a:lnTo>
                <a:lnTo>
                  <a:pt x="352" y="1212"/>
                </a:lnTo>
                <a:lnTo>
                  <a:pt x="276" y="1091"/>
                </a:lnTo>
                <a:lnTo>
                  <a:pt x="212" y="969"/>
                </a:lnTo>
                <a:lnTo>
                  <a:pt x="159" y="851"/>
                </a:lnTo>
                <a:lnTo>
                  <a:pt x="118" y="736"/>
                </a:lnTo>
                <a:lnTo>
                  <a:pt x="84" y="626"/>
                </a:lnTo>
                <a:lnTo>
                  <a:pt x="58" y="520"/>
                </a:lnTo>
                <a:lnTo>
                  <a:pt x="39" y="423"/>
                </a:lnTo>
                <a:lnTo>
                  <a:pt x="28" y="332"/>
                </a:lnTo>
                <a:lnTo>
                  <a:pt x="20" y="251"/>
                </a:lnTo>
                <a:lnTo>
                  <a:pt x="16" y="179"/>
                </a:lnTo>
                <a:lnTo>
                  <a:pt x="16" y="116"/>
                </a:lnTo>
                <a:lnTo>
                  <a:pt x="17" y="67"/>
                </a:lnTo>
                <a:lnTo>
                  <a:pt x="19" y="30"/>
                </a:lnTo>
                <a:lnTo>
                  <a:pt x="21" y="8"/>
                </a:lnTo>
                <a:lnTo>
                  <a:pt x="22" y="0"/>
                </a:lnTo>
                <a:lnTo>
                  <a:pt x="17" y="43"/>
                </a:lnTo>
                <a:lnTo>
                  <a:pt x="7" y="145"/>
                </a:lnTo>
                <a:lnTo>
                  <a:pt x="0" y="271"/>
                </a:lnTo>
                <a:lnTo>
                  <a:pt x="1" y="3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39"/>
          <p:cNvSpPr/>
          <p:nvPr/>
        </p:nvSpPr>
        <p:spPr>
          <a:xfrm flipH="1">
            <a:off x="1593720" y="4309920"/>
            <a:ext cx="984240" cy="1527480"/>
          </a:xfrm>
          <a:custGeom>
            <a:avLst/>
            <a:gdLst>
              <a:gd name="textAreaLeft" fmla="*/ 360 w 984240"/>
              <a:gd name="textAreaRight" fmla="*/ 984960 w 984240"/>
              <a:gd name="textAreaTop" fmla="*/ 0 h 1527480"/>
              <a:gd name="textAreaBottom" fmla="*/ 1527840 h 1527480"/>
            </a:gdLst>
            <a:ahLst/>
            <a:rect l="textAreaLeft" t="textAreaTop" r="textAreaRight" b="textAreaBottom"/>
            <a:pathLst>
              <a:path w="542" h="962">
                <a:moveTo>
                  <a:pt x="234" y="168"/>
                </a:moveTo>
                <a:lnTo>
                  <a:pt x="247" y="181"/>
                </a:lnTo>
                <a:lnTo>
                  <a:pt x="261" y="192"/>
                </a:lnTo>
                <a:lnTo>
                  <a:pt x="274" y="205"/>
                </a:lnTo>
                <a:lnTo>
                  <a:pt x="287" y="218"/>
                </a:lnTo>
                <a:lnTo>
                  <a:pt x="299" y="230"/>
                </a:lnTo>
                <a:lnTo>
                  <a:pt x="312" y="243"/>
                </a:lnTo>
                <a:lnTo>
                  <a:pt x="325" y="258"/>
                </a:lnTo>
                <a:lnTo>
                  <a:pt x="338" y="270"/>
                </a:lnTo>
                <a:lnTo>
                  <a:pt x="351" y="285"/>
                </a:lnTo>
                <a:lnTo>
                  <a:pt x="362" y="299"/>
                </a:lnTo>
                <a:lnTo>
                  <a:pt x="374" y="313"/>
                </a:lnTo>
                <a:lnTo>
                  <a:pt x="387" y="328"/>
                </a:lnTo>
                <a:lnTo>
                  <a:pt x="397" y="344"/>
                </a:lnTo>
                <a:lnTo>
                  <a:pt x="409" y="358"/>
                </a:lnTo>
                <a:lnTo>
                  <a:pt x="421" y="374"/>
                </a:lnTo>
                <a:lnTo>
                  <a:pt x="431" y="390"/>
                </a:lnTo>
                <a:lnTo>
                  <a:pt x="450" y="422"/>
                </a:lnTo>
                <a:lnTo>
                  <a:pt x="468" y="454"/>
                </a:lnTo>
                <a:lnTo>
                  <a:pt x="484" y="491"/>
                </a:lnTo>
                <a:lnTo>
                  <a:pt x="497" y="527"/>
                </a:lnTo>
                <a:lnTo>
                  <a:pt x="508" y="566"/>
                </a:lnTo>
                <a:lnTo>
                  <a:pt x="514" y="606"/>
                </a:lnTo>
                <a:lnTo>
                  <a:pt x="515" y="646"/>
                </a:lnTo>
                <a:lnTo>
                  <a:pt x="511" y="687"/>
                </a:lnTo>
                <a:lnTo>
                  <a:pt x="503" y="724"/>
                </a:lnTo>
                <a:lnTo>
                  <a:pt x="493" y="757"/>
                </a:lnTo>
                <a:lnTo>
                  <a:pt x="480" y="791"/>
                </a:lnTo>
                <a:lnTo>
                  <a:pt x="466" y="823"/>
                </a:lnTo>
                <a:lnTo>
                  <a:pt x="451" y="855"/>
                </a:lnTo>
                <a:lnTo>
                  <a:pt x="437" y="887"/>
                </a:lnTo>
                <a:lnTo>
                  <a:pt x="424" y="919"/>
                </a:lnTo>
                <a:lnTo>
                  <a:pt x="414" y="954"/>
                </a:lnTo>
                <a:lnTo>
                  <a:pt x="414" y="959"/>
                </a:lnTo>
                <a:lnTo>
                  <a:pt x="417" y="962"/>
                </a:lnTo>
                <a:lnTo>
                  <a:pt x="421" y="960"/>
                </a:lnTo>
                <a:lnTo>
                  <a:pt x="424" y="957"/>
                </a:lnTo>
                <a:lnTo>
                  <a:pt x="438" y="922"/>
                </a:lnTo>
                <a:lnTo>
                  <a:pt x="454" y="888"/>
                </a:lnTo>
                <a:lnTo>
                  <a:pt x="472" y="856"/>
                </a:lnTo>
                <a:lnTo>
                  <a:pt x="488" y="823"/>
                </a:lnTo>
                <a:lnTo>
                  <a:pt x="504" y="791"/>
                </a:lnTo>
                <a:lnTo>
                  <a:pt x="518" y="756"/>
                </a:lnTo>
                <a:lnTo>
                  <a:pt x="530" y="719"/>
                </a:lnTo>
                <a:lnTo>
                  <a:pt x="538" y="681"/>
                </a:lnTo>
                <a:lnTo>
                  <a:pt x="542" y="641"/>
                </a:lnTo>
                <a:lnTo>
                  <a:pt x="539" y="602"/>
                </a:lnTo>
                <a:lnTo>
                  <a:pt x="534" y="564"/>
                </a:lnTo>
                <a:lnTo>
                  <a:pt x="524" y="527"/>
                </a:lnTo>
                <a:lnTo>
                  <a:pt x="511" y="492"/>
                </a:lnTo>
                <a:lnTo>
                  <a:pt x="497" y="459"/>
                </a:lnTo>
                <a:lnTo>
                  <a:pt x="480" y="428"/>
                </a:lnTo>
                <a:lnTo>
                  <a:pt x="463" y="398"/>
                </a:lnTo>
                <a:lnTo>
                  <a:pt x="452" y="380"/>
                </a:lnTo>
                <a:lnTo>
                  <a:pt x="440" y="365"/>
                </a:lnTo>
                <a:lnTo>
                  <a:pt x="428" y="349"/>
                </a:lnTo>
                <a:lnTo>
                  <a:pt x="416" y="334"/>
                </a:lnTo>
                <a:lnTo>
                  <a:pt x="402" y="320"/>
                </a:lnTo>
                <a:lnTo>
                  <a:pt x="389" y="305"/>
                </a:lnTo>
                <a:lnTo>
                  <a:pt x="376" y="293"/>
                </a:lnTo>
                <a:lnTo>
                  <a:pt x="362" y="278"/>
                </a:lnTo>
                <a:lnTo>
                  <a:pt x="348" y="266"/>
                </a:lnTo>
                <a:lnTo>
                  <a:pt x="334" y="253"/>
                </a:lnTo>
                <a:lnTo>
                  <a:pt x="320" y="240"/>
                </a:lnTo>
                <a:lnTo>
                  <a:pt x="308" y="226"/>
                </a:lnTo>
                <a:lnTo>
                  <a:pt x="294" y="213"/>
                </a:lnTo>
                <a:lnTo>
                  <a:pt x="280" y="200"/>
                </a:lnTo>
                <a:lnTo>
                  <a:pt x="267" y="186"/>
                </a:lnTo>
                <a:lnTo>
                  <a:pt x="254" y="171"/>
                </a:lnTo>
                <a:lnTo>
                  <a:pt x="233" y="149"/>
                </a:lnTo>
                <a:lnTo>
                  <a:pt x="212" y="128"/>
                </a:lnTo>
                <a:lnTo>
                  <a:pt x="191" y="109"/>
                </a:lnTo>
                <a:lnTo>
                  <a:pt x="169" y="91"/>
                </a:lnTo>
                <a:lnTo>
                  <a:pt x="148" y="75"/>
                </a:lnTo>
                <a:lnTo>
                  <a:pt x="127" y="61"/>
                </a:lnTo>
                <a:lnTo>
                  <a:pt x="106" y="50"/>
                </a:lnTo>
                <a:lnTo>
                  <a:pt x="87" y="39"/>
                </a:lnTo>
                <a:lnTo>
                  <a:pt x="69" y="29"/>
                </a:lnTo>
                <a:lnTo>
                  <a:pt x="53" y="21"/>
                </a:lnTo>
                <a:lnTo>
                  <a:pt x="37" y="15"/>
                </a:lnTo>
                <a:lnTo>
                  <a:pt x="25" y="10"/>
                </a:lnTo>
                <a:lnTo>
                  <a:pt x="14" y="5"/>
                </a:lnTo>
                <a:lnTo>
                  <a:pt x="7" y="2"/>
                </a:lnTo>
                <a:lnTo>
                  <a:pt x="1" y="0"/>
                </a:lnTo>
                <a:lnTo>
                  <a:pt x="0" y="0"/>
                </a:lnTo>
                <a:lnTo>
                  <a:pt x="2" y="2"/>
                </a:lnTo>
                <a:lnTo>
                  <a:pt x="7" y="5"/>
                </a:lnTo>
                <a:lnTo>
                  <a:pt x="15" y="10"/>
                </a:lnTo>
                <a:lnTo>
                  <a:pt x="27" y="18"/>
                </a:lnTo>
                <a:lnTo>
                  <a:pt x="40" y="26"/>
                </a:lnTo>
                <a:lnTo>
                  <a:pt x="55" y="36"/>
                </a:lnTo>
                <a:lnTo>
                  <a:pt x="72" y="47"/>
                </a:lnTo>
                <a:lnTo>
                  <a:pt x="90" y="60"/>
                </a:lnTo>
                <a:lnTo>
                  <a:pt x="108" y="72"/>
                </a:lnTo>
                <a:lnTo>
                  <a:pt x="128" y="87"/>
                </a:lnTo>
                <a:lnTo>
                  <a:pt x="148" y="99"/>
                </a:lnTo>
                <a:lnTo>
                  <a:pt x="167" y="114"/>
                </a:lnTo>
                <a:lnTo>
                  <a:pt x="185" y="128"/>
                </a:lnTo>
                <a:lnTo>
                  <a:pt x="204" y="143"/>
                </a:lnTo>
                <a:lnTo>
                  <a:pt x="220" y="155"/>
                </a:lnTo>
                <a:lnTo>
                  <a:pt x="234" y="1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40"/>
          <p:cNvSpPr/>
          <p:nvPr/>
        </p:nvSpPr>
        <p:spPr>
          <a:xfrm flipH="1" rot="21313800">
            <a:off x="831240" y="4438800"/>
            <a:ext cx="555480" cy="1841760"/>
          </a:xfrm>
          <a:custGeom>
            <a:avLst/>
            <a:gdLst>
              <a:gd name="textAreaLeft" fmla="*/ -360 w 555480"/>
              <a:gd name="textAreaRight" fmla="*/ 555480 w 555480"/>
              <a:gd name="textAreaTop" fmla="*/ 0 h 1841760"/>
              <a:gd name="textAreaBottom" fmla="*/ 1842120 h 1841760"/>
            </a:gdLst>
            <a:ahLst/>
            <a:rect l="textAreaLeft" t="textAreaTop" r="textAreaRight" b="textAreaBottom"/>
            <a:pathLst>
              <a:path w="306" h="873">
                <a:moveTo>
                  <a:pt x="0" y="0"/>
                </a:moveTo>
                <a:lnTo>
                  <a:pt x="14" y="24"/>
                </a:lnTo>
                <a:lnTo>
                  <a:pt x="28" y="48"/>
                </a:lnTo>
                <a:lnTo>
                  <a:pt x="43" y="70"/>
                </a:lnTo>
                <a:lnTo>
                  <a:pt x="57" y="94"/>
                </a:lnTo>
                <a:lnTo>
                  <a:pt x="71" y="118"/>
                </a:lnTo>
                <a:lnTo>
                  <a:pt x="85" y="140"/>
                </a:lnTo>
                <a:lnTo>
                  <a:pt x="99" y="164"/>
                </a:lnTo>
                <a:lnTo>
                  <a:pt x="112" y="188"/>
                </a:lnTo>
                <a:lnTo>
                  <a:pt x="125" y="214"/>
                </a:lnTo>
                <a:lnTo>
                  <a:pt x="137" y="238"/>
                </a:lnTo>
                <a:lnTo>
                  <a:pt x="150" y="263"/>
                </a:lnTo>
                <a:lnTo>
                  <a:pt x="162" y="289"/>
                </a:lnTo>
                <a:lnTo>
                  <a:pt x="173" y="316"/>
                </a:lnTo>
                <a:lnTo>
                  <a:pt x="184" y="341"/>
                </a:lnTo>
                <a:lnTo>
                  <a:pt x="194" y="369"/>
                </a:lnTo>
                <a:lnTo>
                  <a:pt x="204" y="396"/>
                </a:lnTo>
                <a:lnTo>
                  <a:pt x="224" y="460"/>
                </a:lnTo>
                <a:lnTo>
                  <a:pt x="242" y="535"/>
                </a:lnTo>
                <a:lnTo>
                  <a:pt x="260" y="613"/>
                </a:lnTo>
                <a:lnTo>
                  <a:pt x="275" y="691"/>
                </a:lnTo>
                <a:lnTo>
                  <a:pt x="288" y="763"/>
                </a:lnTo>
                <a:lnTo>
                  <a:pt x="298" y="820"/>
                </a:lnTo>
                <a:lnTo>
                  <a:pt x="304" y="860"/>
                </a:lnTo>
                <a:lnTo>
                  <a:pt x="306" y="873"/>
                </a:lnTo>
                <a:lnTo>
                  <a:pt x="302" y="811"/>
                </a:lnTo>
                <a:lnTo>
                  <a:pt x="295" y="750"/>
                </a:lnTo>
                <a:lnTo>
                  <a:pt x="286" y="688"/>
                </a:lnTo>
                <a:lnTo>
                  <a:pt x="276" y="629"/>
                </a:lnTo>
                <a:lnTo>
                  <a:pt x="264" y="568"/>
                </a:lnTo>
                <a:lnTo>
                  <a:pt x="251" y="509"/>
                </a:lnTo>
                <a:lnTo>
                  <a:pt x="236" y="452"/>
                </a:lnTo>
                <a:lnTo>
                  <a:pt x="219" y="394"/>
                </a:lnTo>
                <a:lnTo>
                  <a:pt x="210" y="365"/>
                </a:lnTo>
                <a:lnTo>
                  <a:pt x="199" y="337"/>
                </a:lnTo>
                <a:lnTo>
                  <a:pt x="189" y="308"/>
                </a:lnTo>
                <a:lnTo>
                  <a:pt x="177" y="281"/>
                </a:lnTo>
                <a:lnTo>
                  <a:pt x="164" y="254"/>
                </a:lnTo>
                <a:lnTo>
                  <a:pt x="151" y="226"/>
                </a:lnTo>
                <a:lnTo>
                  <a:pt x="138" y="201"/>
                </a:lnTo>
                <a:lnTo>
                  <a:pt x="125" y="175"/>
                </a:lnTo>
                <a:lnTo>
                  <a:pt x="111" y="151"/>
                </a:lnTo>
                <a:lnTo>
                  <a:pt x="95" y="129"/>
                </a:lnTo>
                <a:lnTo>
                  <a:pt x="80" y="107"/>
                </a:lnTo>
                <a:lnTo>
                  <a:pt x="65" y="84"/>
                </a:lnTo>
                <a:lnTo>
                  <a:pt x="49" y="64"/>
                </a:lnTo>
                <a:lnTo>
                  <a:pt x="32" y="41"/>
                </a:lnTo>
                <a:lnTo>
                  <a:pt x="17" y="2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41"/>
          <p:cNvSpPr/>
          <p:nvPr/>
        </p:nvSpPr>
        <p:spPr>
          <a:xfrm flipH="1">
            <a:off x="595440" y="5972040"/>
            <a:ext cx="1915920" cy="559080"/>
          </a:xfrm>
          <a:custGeom>
            <a:avLst/>
            <a:gdLst>
              <a:gd name="textAreaLeft" fmla="*/ 360 w 1915920"/>
              <a:gd name="textAreaRight" fmla="*/ 1916640 w 1915920"/>
              <a:gd name="textAreaTop" fmla="*/ 0 h 559080"/>
              <a:gd name="textAreaBottom" fmla="*/ 559440 h 559080"/>
            </a:gdLst>
            <a:ahLst/>
            <a:rect l="textAreaLeft" t="textAreaTop" r="textAreaRight" b="textAreaBottom"/>
            <a:pathLst>
              <a:path w="699" h="352">
                <a:moveTo>
                  <a:pt x="69" y="345"/>
                </a:moveTo>
                <a:lnTo>
                  <a:pt x="73" y="323"/>
                </a:lnTo>
                <a:lnTo>
                  <a:pt x="75" y="285"/>
                </a:lnTo>
                <a:lnTo>
                  <a:pt x="75" y="243"/>
                </a:lnTo>
                <a:lnTo>
                  <a:pt x="75" y="213"/>
                </a:lnTo>
                <a:lnTo>
                  <a:pt x="76" y="197"/>
                </a:lnTo>
                <a:lnTo>
                  <a:pt x="77" y="178"/>
                </a:lnTo>
                <a:lnTo>
                  <a:pt x="82" y="155"/>
                </a:lnTo>
                <a:lnTo>
                  <a:pt x="88" y="130"/>
                </a:lnTo>
                <a:lnTo>
                  <a:pt x="97" y="107"/>
                </a:lnTo>
                <a:lnTo>
                  <a:pt x="111" y="87"/>
                </a:lnTo>
                <a:lnTo>
                  <a:pt x="129" y="69"/>
                </a:lnTo>
                <a:lnTo>
                  <a:pt x="152" y="58"/>
                </a:lnTo>
                <a:lnTo>
                  <a:pt x="171" y="53"/>
                </a:lnTo>
                <a:lnTo>
                  <a:pt x="189" y="51"/>
                </a:lnTo>
                <a:lnTo>
                  <a:pt x="208" y="50"/>
                </a:lnTo>
                <a:lnTo>
                  <a:pt x="226" y="51"/>
                </a:lnTo>
                <a:lnTo>
                  <a:pt x="244" y="55"/>
                </a:lnTo>
                <a:lnTo>
                  <a:pt x="263" y="59"/>
                </a:lnTo>
                <a:lnTo>
                  <a:pt x="279" y="66"/>
                </a:lnTo>
                <a:lnTo>
                  <a:pt x="296" y="74"/>
                </a:lnTo>
                <a:lnTo>
                  <a:pt x="313" y="83"/>
                </a:lnTo>
                <a:lnTo>
                  <a:pt x="329" y="95"/>
                </a:lnTo>
                <a:lnTo>
                  <a:pt x="344" y="106"/>
                </a:lnTo>
                <a:lnTo>
                  <a:pt x="360" y="118"/>
                </a:lnTo>
                <a:lnTo>
                  <a:pt x="376" y="131"/>
                </a:lnTo>
                <a:lnTo>
                  <a:pt x="391" y="144"/>
                </a:lnTo>
                <a:lnTo>
                  <a:pt x="406" y="157"/>
                </a:lnTo>
                <a:lnTo>
                  <a:pt x="421" y="170"/>
                </a:lnTo>
                <a:lnTo>
                  <a:pt x="436" y="182"/>
                </a:lnTo>
                <a:lnTo>
                  <a:pt x="452" y="192"/>
                </a:lnTo>
                <a:lnTo>
                  <a:pt x="469" y="203"/>
                </a:lnTo>
                <a:lnTo>
                  <a:pt x="485" y="211"/>
                </a:lnTo>
                <a:lnTo>
                  <a:pt x="501" y="219"/>
                </a:lnTo>
                <a:lnTo>
                  <a:pt x="519" y="227"/>
                </a:lnTo>
                <a:lnTo>
                  <a:pt x="536" y="233"/>
                </a:lnTo>
                <a:lnTo>
                  <a:pt x="553" y="238"/>
                </a:lnTo>
                <a:lnTo>
                  <a:pt x="570" y="243"/>
                </a:lnTo>
                <a:lnTo>
                  <a:pt x="588" y="246"/>
                </a:lnTo>
                <a:lnTo>
                  <a:pt x="605" y="251"/>
                </a:lnTo>
                <a:lnTo>
                  <a:pt x="624" y="253"/>
                </a:lnTo>
                <a:lnTo>
                  <a:pt x="641" y="256"/>
                </a:lnTo>
                <a:lnTo>
                  <a:pt x="659" y="257"/>
                </a:lnTo>
                <a:lnTo>
                  <a:pt x="677" y="259"/>
                </a:lnTo>
                <a:lnTo>
                  <a:pt x="695" y="259"/>
                </a:lnTo>
                <a:lnTo>
                  <a:pt x="697" y="257"/>
                </a:lnTo>
                <a:lnTo>
                  <a:pt x="699" y="254"/>
                </a:lnTo>
                <a:lnTo>
                  <a:pt x="699" y="251"/>
                </a:lnTo>
                <a:lnTo>
                  <a:pt x="697" y="248"/>
                </a:lnTo>
                <a:lnTo>
                  <a:pt x="680" y="245"/>
                </a:lnTo>
                <a:lnTo>
                  <a:pt x="662" y="241"/>
                </a:lnTo>
                <a:lnTo>
                  <a:pt x="645" y="238"/>
                </a:lnTo>
                <a:lnTo>
                  <a:pt x="627" y="235"/>
                </a:lnTo>
                <a:lnTo>
                  <a:pt x="610" y="230"/>
                </a:lnTo>
                <a:lnTo>
                  <a:pt x="592" y="225"/>
                </a:lnTo>
                <a:lnTo>
                  <a:pt x="576" y="219"/>
                </a:lnTo>
                <a:lnTo>
                  <a:pt x="560" y="213"/>
                </a:lnTo>
                <a:lnTo>
                  <a:pt x="542" y="206"/>
                </a:lnTo>
                <a:lnTo>
                  <a:pt x="527" y="198"/>
                </a:lnTo>
                <a:lnTo>
                  <a:pt x="511" y="189"/>
                </a:lnTo>
                <a:lnTo>
                  <a:pt x="494" y="181"/>
                </a:lnTo>
                <a:lnTo>
                  <a:pt x="479" y="170"/>
                </a:lnTo>
                <a:lnTo>
                  <a:pt x="463" y="158"/>
                </a:lnTo>
                <a:lnTo>
                  <a:pt x="448" y="146"/>
                </a:lnTo>
                <a:lnTo>
                  <a:pt x="433" y="133"/>
                </a:lnTo>
                <a:lnTo>
                  <a:pt x="419" y="120"/>
                </a:lnTo>
                <a:lnTo>
                  <a:pt x="406" y="109"/>
                </a:lnTo>
                <a:lnTo>
                  <a:pt x="392" y="96"/>
                </a:lnTo>
                <a:lnTo>
                  <a:pt x="378" y="85"/>
                </a:lnTo>
                <a:lnTo>
                  <a:pt x="364" y="72"/>
                </a:lnTo>
                <a:lnTo>
                  <a:pt x="350" y="61"/>
                </a:lnTo>
                <a:lnTo>
                  <a:pt x="336" y="50"/>
                </a:lnTo>
                <a:lnTo>
                  <a:pt x="322" y="40"/>
                </a:lnTo>
                <a:lnTo>
                  <a:pt x="307" y="31"/>
                </a:lnTo>
                <a:lnTo>
                  <a:pt x="293" y="23"/>
                </a:lnTo>
                <a:lnTo>
                  <a:pt x="278" y="15"/>
                </a:lnTo>
                <a:lnTo>
                  <a:pt x="261" y="10"/>
                </a:lnTo>
                <a:lnTo>
                  <a:pt x="246" y="5"/>
                </a:lnTo>
                <a:lnTo>
                  <a:pt x="230" y="2"/>
                </a:lnTo>
                <a:lnTo>
                  <a:pt x="214" y="0"/>
                </a:lnTo>
                <a:lnTo>
                  <a:pt x="196" y="0"/>
                </a:lnTo>
                <a:lnTo>
                  <a:pt x="182" y="2"/>
                </a:lnTo>
                <a:lnTo>
                  <a:pt x="168" y="5"/>
                </a:lnTo>
                <a:lnTo>
                  <a:pt x="155" y="11"/>
                </a:lnTo>
                <a:lnTo>
                  <a:pt x="143" y="18"/>
                </a:lnTo>
                <a:lnTo>
                  <a:pt x="130" y="27"/>
                </a:lnTo>
                <a:lnTo>
                  <a:pt x="118" y="37"/>
                </a:lnTo>
                <a:lnTo>
                  <a:pt x="106" y="48"/>
                </a:lnTo>
                <a:lnTo>
                  <a:pt x="96" y="61"/>
                </a:lnTo>
                <a:lnTo>
                  <a:pt x="87" y="75"/>
                </a:lnTo>
                <a:lnTo>
                  <a:pt x="79" y="90"/>
                </a:lnTo>
                <a:lnTo>
                  <a:pt x="73" y="106"/>
                </a:lnTo>
                <a:lnTo>
                  <a:pt x="68" y="123"/>
                </a:lnTo>
                <a:lnTo>
                  <a:pt x="65" y="141"/>
                </a:lnTo>
                <a:lnTo>
                  <a:pt x="63" y="158"/>
                </a:lnTo>
                <a:lnTo>
                  <a:pt x="62" y="178"/>
                </a:lnTo>
                <a:lnTo>
                  <a:pt x="62" y="197"/>
                </a:lnTo>
                <a:lnTo>
                  <a:pt x="65" y="229"/>
                </a:lnTo>
                <a:lnTo>
                  <a:pt x="67" y="277"/>
                </a:lnTo>
                <a:lnTo>
                  <a:pt x="63" y="315"/>
                </a:lnTo>
                <a:lnTo>
                  <a:pt x="47" y="318"/>
                </a:lnTo>
                <a:lnTo>
                  <a:pt x="40" y="312"/>
                </a:lnTo>
                <a:lnTo>
                  <a:pt x="32" y="302"/>
                </a:lnTo>
                <a:lnTo>
                  <a:pt x="24" y="294"/>
                </a:lnTo>
                <a:lnTo>
                  <a:pt x="17" y="285"/>
                </a:lnTo>
                <a:lnTo>
                  <a:pt x="10" y="275"/>
                </a:lnTo>
                <a:lnTo>
                  <a:pt x="5" y="269"/>
                </a:lnTo>
                <a:lnTo>
                  <a:pt x="2" y="264"/>
                </a:lnTo>
                <a:lnTo>
                  <a:pt x="0" y="262"/>
                </a:lnTo>
                <a:lnTo>
                  <a:pt x="3" y="267"/>
                </a:lnTo>
                <a:lnTo>
                  <a:pt x="9" y="280"/>
                </a:lnTo>
                <a:lnTo>
                  <a:pt x="17" y="299"/>
                </a:lnTo>
                <a:lnTo>
                  <a:pt x="26" y="318"/>
                </a:lnTo>
                <a:lnTo>
                  <a:pt x="38" y="336"/>
                </a:lnTo>
                <a:lnTo>
                  <a:pt x="49" y="348"/>
                </a:lnTo>
                <a:lnTo>
                  <a:pt x="60" y="352"/>
                </a:lnTo>
                <a:lnTo>
                  <a:pt x="69" y="3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42"/>
          <p:cNvSpPr/>
          <p:nvPr/>
        </p:nvSpPr>
        <p:spPr>
          <a:xfrm flipH="1">
            <a:off x="1186560" y="3718080"/>
            <a:ext cx="492120" cy="574560"/>
          </a:xfrm>
          <a:custGeom>
            <a:avLst/>
            <a:gdLst>
              <a:gd name="textAreaLeft" fmla="*/ -360 w 492120"/>
              <a:gd name="textAreaRight" fmla="*/ 492120 w 4921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216" h="359">
                <a:moveTo>
                  <a:pt x="59" y="220"/>
                </a:moveTo>
                <a:lnTo>
                  <a:pt x="66" y="233"/>
                </a:lnTo>
                <a:lnTo>
                  <a:pt x="74" y="246"/>
                </a:lnTo>
                <a:lnTo>
                  <a:pt x="83" y="257"/>
                </a:lnTo>
                <a:lnTo>
                  <a:pt x="92" y="270"/>
                </a:lnTo>
                <a:lnTo>
                  <a:pt x="101" y="281"/>
                </a:lnTo>
                <a:lnTo>
                  <a:pt x="110" y="292"/>
                </a:lnTo>
                <a:lnTo>
                  <a:pt x="120" y="302"/>
                </a:lnTo>
                <a:lnTo>
                  <a:pt x="129" y="311"/>
                </a:lnTo>
                <a:lnTo>
                  <a:pt x="138" y="319"/>
                </a:lnTo>
                <a:lnTo>
                  <a:pt x="149" y="327"/>
                </a:lnTo>
                <a:lnTo>
                  <a:pt x="159" y="334"/>
                </a:lnTo>
                <a:lnTo>
                  <a:pt x="170" y="340"/>
                </a:lnTo>
                <a:lnTo>
                  <a:pt x="180" y="345"/>
                </a:lnTo>
                <a:lnTo>
                  <a:pt x="192" y="350"/>
                </a:lnTo>
                <a:lnTo>
                  <a:pt x="202" y="354"/>
                </a:lnTo>
                <a:lnTo>
                  <a:pt x="213" y="359"/>
                </a:lnTo>
                <a:lnTo>
                  <a:pt x="215" y="359"/>
                </a:lnTo>
                <a:lnTo>
                  <a:pt x="216" y="356"/>
                </a:lnTo>
                <a:lnTo>
                  <a:pt x="216" y="354"/>
                </a:lnTo>
                <a:lnTo>
                  <a:pt x="215" y="353"/>
                </a:lnTo>
                <a:lnTo>
                  <a:pt x="207" y="348"/>
                </a:lnTo>
                <a:lnTo>
                  <a:pt x="199" y="343"/>
                </a:lnTo>
                <a:lnTo>
                  <a:pt x="191" y="338"/>
                </a:lnTo>
                <a:lnTo>
                  <a:pt x="184" y="334"/>
                </a:lnTo>
                <a:lnTo>
                  <a:pt x="176" y="329"/>
                </a:lnTo>
                <a:lnTo>
                  <a:pt x="168" y="324"/>
                </a:lnTo>
                <a:lnTo>
                  <a:pt x="159" y="319"/>
                </a:lnTo>
                <a:lnTo>
                  <a:pt x="151" y="314"/>
                </a:lnTo>
                <a:lnTo>
                  <a:pt x="142" y="307"/>
                </a:lnTo>
                <a:lnTo>
                  <a:pt x="133" y="299"/>
                </a:lnTo>
                <a:lnTo>
                  <a:pt x="123" y="289"/>
                </a:lnTo>
                <a:lnTo>
                  <a:pt x="115" y="278"/>
                </a:lnTo>
                <a:lnTo>
                  <a:pt x="107" y="268"/>
                </a:lnTo>
                <a:lnTo>
                  <a:pt x="99" y="257"/>
                </a:lnTo>
                <a:lnTo>
                  <a:pt x="91" y="246"/>
                </a:lnTo>
                <a:lnTo>
                  <a:pt x="83" y="235"/>
                </a:lnTo>
                <a:lnTo>
                  <a:pt x="67" y="208"/>
                </a:lnTo>
                <a:lnTo>
                  <a:pt x="52" y="174"/>
                </a:lnTo>
                <a:lnTo>
                  <a:pt x="38" y="136"/>
                </a:lnTo>
                <a:lnTo>
                  <a:pt x="25" y="96"/>
                </a:lnTo>
                <a:lnTo>
                  <a:pt x="15" y="59"/>
                </a:lnTo>
                <a:lnTo>
                  <a:pt x="7" y="29"/>
                </a:lnTo>
                <a:lnTo>
                  <a:pt x="2" y="8"/>
                </a:lnTo>
                <a:lnTo>
                  <a:pt x="0" y="0"/>
                </a:lnTo>
                <a:lnTo>
                  <a:pt x="1" y="6"/>
                </a:lnTo>
                <a:lnTo>
                  <a:pt x="4" y="25"/>
                </a:lnTo>
                <a:lnTo>
                  <a:pt x="9" y="54"/>
                </a:lnTo>
                <a:lnTo>
                  <a:pt x="17" y="88"/>
                </a:lnTo>
                <a:lnTo>
                  <a:pt x="25" y="124"/>
                </a:lnTo>
                <a:lnTo>
                  <a:pt x="36" y="161"/>
                </a:lnTo>
                <a:lnTo>
                  <a:pt x="46" y="193"/>
                </a:lnTo>
                <a:lnTo>
                  <a:pt x="59" y="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43"/>
          <p:cNvSpPr/>
          <p:nvPr/>
        </p:nvSpPr>
        <p:spPr>
          <a:xfrm flipH="1">
            <a:off x="1095480" y="4368960"/>
            <a:ext cx="41040" cy="395280"/>
          </a:xfrm>
          <a:custGeom>
            <a:avLst/>
            <a:gdLst>
              <a:gd name="textAreaLeft" fmla="*/ 360 w 41040"/>
              <a:gd name="textAreaRight" fmla="*/ 41760 w 4104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22" h="249">
                <a:moveTo>
                  <a:pt x="1" y="245"/>
                </a:moveTo>
                <a:lnTo>
                  <a:pt x="0" y="248"/>
                </a:lnTo>
                <a:lnTo>
                  <a:pt x="1" y="249"/>
                </a:lnTo>
                <a:lnTo>
                  <a:pt x="4" y="249"/>
                </a:lnTo>
                <a:lnTo>
                  <a:pt x="5" y="248"/>
                </a:lnTo>
                <a:lnTo>
                  <a:pt x="16" y="216"/>
                </a:lnTo>
                <a:lnTo>
                  <a:pt x="21" y="177"/>
                </a:lnTo>
                <a:lnTo>
                  <a:pt x="22" y="138"/>
                </a:lnTo>
                <a:lnTo>
                  <a:pt x="20" y="96"/>
                </a:lnTo>
                <a:lnTo>
                  <a:pt x="16" y="59"/>
                </a:lnTo>
                <a:lnTo>
                  <a:pt x="12" y="29"/>
                </a:lnTo>
                <a:lnTo>
                  <a:pt x="8" y="8"/>
                </a:lnTo>
                <a:lnTo>
                  <a:pt x="7" y="0"/>
                </a:lnTo>
                <a:lnTo>
                  <a:pt x="11" y="27"/>
                </a:lnTo>
                <a:lnTo>
                  <a:pt x="15" y="94"/>
                </a:lnTo>
                <a:lnTo>
                  <a:pt x="14" y="176"/>
                </a:lnTo>
                <a:lnTo>
                  <a:pt x="1" y="2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44"/>
          <p:cNvSpPr/>
          <p:nvPr/>
        </p:nvSpPr>
        <p:spPr>
          <a:xfrm flipH="1">
            <a:off x="1500120" y="3913200"/>
            <a:ext cx="230400" cy="968400"/>
          </a:xfrm>
          <a:custGeom>
            <a:avLst/>
            <a:gdLst>
              <a:gd name="textAreaLeft" fmla="*/ 360 w 230400"/>
              <a:gd name="textAreaRight" fmla="*/ 231120 w 23040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27" h="610">
                <a:moveTo>
                  <a:pt x="0" y="154"/>
                </a:moveTo>
                <a:lnTo>
                  <a:pt x="2" y="196"/>
                </a:lnTo>
                <a:lnTo>
                  <a:pt x="3" y="239"/>
                </a:lnTo>
                <a:lnTo>
                  <a:pt x="6" y="282"/>
                </a:lnTo>
                <a:lnTo>
                  <a:pt x="10" y="324"/>
                </a:lnTo>
                <a:lnTo>
                  <a:pt x="16" y="364"/>
                </a:lnTo>
                <a:lnTo>
                  <a:pt x="24" y="404"/>
                </a:lnTo>
                <a:lnTo>
                  <a:pt x="35" y="440"/>
                </a:lnTo>
                <a:lnTo>
                  <a:pt x="48" y="477"/>
                </a:lnTo>
                <a:lnTo>
                  <a:pt x="62" y="512"/>
                </a:lnTo>
                <a:lnTo>
                  <a:pt x="78" y="546"/>
                </a:lnTo>
                <a:lnTo>
                  <a:pt x="96" y="578"/>
                </a:lnTo>
                <a:lnTo>
                  <a:pt x="116" y="608"/>
                </a:lnTo>
                <a:lnTo>
                  <a:pt x="121" y="610"/>
                </a:lnTo>
                <a:lnTo>
                  <a:pt x="124" y="606"/>
                </a:lnTo>
                <a:lnTo>
                  <a:pt x="127" y="600"/>
                </a:lnTo>
                <a:lnTo>
                  <a:pt x="127" y="594"/>
                </a:lnTo>
                <a:lnTo>
                  <a:pt x="112" y="563"/>
                </a:lnTo>
                <a:lnTo>
                  <a:pt x="96" y="530"/>
                </a:lnTo>
                <a:lnTo>
                  <a:pt x="82" y="498"/>
                </a:lnTo>
                <a:lnTo>
                  <a:pt x="70" y="464"/>
                </a:lnTo>
                <a:lnTo>
                  <a:pt x="58" y="429"/>
                </a:lnTo>
                <a:lnTo>
                  <a:pt x="48" y="394"/>
                </a:lnTo>
                <a:lnTo>
                  <a:pt x="38" y="359"/>
                </a:lnTo>
                <a:lnTo>
                  <a:pt x="31" y="322"/>
                </a:lnTo>
                <a:lnTo>
                  <a:pt x="24" y="285"/>
                </a:lnTo>
                <a:lnTo>
                  <a:pt x="20" y="247"/>
                </a:lnTo>
                <a:lnTo>
                  <a:pt x="15" y="209"/>
                </a:lnTo>
                <a:lnTo>
                  <a:pt x="11" y="170"/>
                </a:lnTo>
                <a:lnTo>
                  <a:pt x="8" y="119"/>
                </a:lnTo>
                <a:lnTo>
                  <a:pt x="6" y="63"/>
                </a:lnTo>
                <a:lnTo>
                  <a:pt x="4" y="19"/>
                </a:lnTo>
                <a:lnTo>
                  <a:pt x="4" y="0"/>
                </a:lnTo>
                <a:lnTo>
                  <a:pt x="3" y="17"/>
                </a:lnTo>
                <a:lnTo>
                  <a:pt x="1" y="57"/>
                </a:lnTo>
                <a:lnTo>
                  <a:pt x="0" y="108"/>
                </a:lnTo>
                <a:lnTo>
                  <a:pt x="0" y="1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45"/>
          <p:cNvSpPr/>
          <p:nvPr/>
        </p:nvSpPr>
        <p:spPr>
          <a:xfrm flipH="1">
            <a:off x="1164600" y="4843440"/>
            <a:ext cx="417240" cy="30240"/>
          </a:xfrm>
          <a:custGeom>
            <a:avLst/>
            <a:gdLst>
              <a:gd name="textAreaLeft" fmla="*/ -360 w 417240"/>
              <a:gd name="textAreaRight" fmla="*/ 417240 w 4172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30" h="19">
                <a:moveTo>
                  <a:pt x="109" y="8"/>
                </a:moveTo>
                <a:lnTo>
                  <a:pt x="124" y="8"/>
                </a:lnTo>
                <a:lnTo>
                  <a:pt x="139" y="9"/>
                </a:lnTo>
                <a:lnTo>
                  <a:pt x="154" y="9"/>
                </a:lnTo>
                <a:lnTo>
                  <a:pt x="168" y="11"/>
                </a:lnTo>
                <a:lnTo>
                  <a:pt x="183" y="12"/>
                </a:lnTo>
                <a:lnTo>
                  <a:pt x="198" y="14"/>
                </a:lnTo>
                <a:lnTo>
                  <a:pt x="214" y="16"/>
                </a:lnTo>
                <a:lnTo>
                  <a:pt x="228" y="19"/>
                </a:lnTo>
                <a:lnTo>
                  <a:pt x="229" y="19"/>
                </a:lnTo>
                <a:lnTo>
                  <a:pt x="230" y="16"/>
                </a:lnTo>
                <a:lnTo>
                  <a:pt x="230" y="14"/>
                </a:lnTo>
                <a:lnTo>
                  <a:pt x="229" y="12"/>
                </a:lnTo>
                <a:lnTo>
                  <a:pt x="214" y="9"/>
                </a:lnTo>
                <a:lnTo>
                  <a:pt x="197" y="6"/>
                </a:lnTo>
                <a:lnTo>
                  <a:pt x="182" y="3"/>
                </a:lnTo>
                <a:lnTo>
                  <a:pt x="166" y="1"/>
                </a:lnTo>
                <a:lnTo>
                  <a:pt x="151" y="1"/>
                </a:lnTo>
                <a:lnTo>
                  <a:pt x="134" y="0"/>
                </a:lnTo>
                <a:lnTo>
                  <a:pt x="119" y="0"/>
                </a:lnTo>
                <a:lnTo>
                  <a:pt x="103" y="0"/>
                </a:lnTo>
                <a:lnTo>
                  <a:pt x="89" y="0"/>
                </a:lnTo>
                <a:lnTo>
                  <a:pt x="73" y="3"/>
                </a:lnTo>
                <a:lnTo>
                  <a:pt x="55" y="4"/>
                </a:lnTo>
                <a:lnTo>
                  <a:pt x="39" y="8"/>
                </a:lnTo>
                <a:lnTo>
                  <a:pt x="24" y="11"/>
                </a:lnTo>
                <a:lnTo>
                  <a:pt x="12" y="12"/>
                </a:lnTo>
                <a:lnTo>
                  <a:pt x="4" y="16"/>
                </a:lnTo>
                <a:lnTo>
                  <a:pt x="0" y="16"/>
                </a:lnTo>
                <a:lnTo>
                  <a:pt x="4" y="16"/>
                </a:lnTo>
                <a:lnTo>
                  <a:pt x="12" y="14"/>
                </a:lnTo>
                <a:lnTo>
                  <a:pt x="26" y="12"/>
                </a:lnTo>
                <a:lnTo>
                  <a:pt x="41" y="11"/>
                </a:lnTo>
                <a:lnTo>
                  <a:pt x="59" y="11"/>
                </a:lnTo>
                <a:lnTo>
                  <a:pt x="77" y="9"/>
                </a:lnTo>
                <a:lnTo>
                  <a:pt x="94" y="8"/>
                </a:lnTo>
                <a:lnTo>
                  <a:pt x="109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46"/>
          <p:cNvSpPr/>
          <p:nvPr/>
        </p:nvSpPr>
        <p:spPr>
          <a:xfrm flipH="1">
            <a:off x="1142280" y="4826160"/>
            <a:ext cx="166680" cy="314280"/>
          </a:xfrm>
          <a:custGeom>
            <a:avLst/>
            <a:gdLst>
              <a:gd name="textAreaLeft" fmla="*/ -360 w 166680"/>
              <a:gd name="textAreaRight" fmla="*/ 166680 w 16668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92" h="198">
                <a:moveTo>
                  <a:pt x="41" y="91"/>
                </a:moveTo>
                <a:lnTo>
                  <a:pt x="35" y="104"/>
                </a:lnTo>
                <a:lnTo>
                  <a:pt x="30" y="117"/>
                </a:lnTo>
                <a:lnTo>
                  <a:pt x="24" y="130"/>
                </a:lnTo>
                <a:lnTo>
                  <a:pt x="19" y="142"/>
                </a:lnTo>
                <a:lnTo>
                  <a:pt x="13" y="155"/>
                </a:lnTo>
                <a:lnTo>
                  <a:pt x="9" y="168"/>
                </a:lnTo>
                <a:lnTo>
                  <a:pt x="4" y="181"/>
                </a:lnTo>
                <a:lnTo>
                  <a:pt x="0" y="195"/>
                </a:lnTo>
                <a:lnTo>
                  <a:pt x="0" y="198"/>
                </a:lnTo>
                <a:lnTo>
                  <a:pt x="2" y="198"/>
                </a:lnTo>
                <a:lnTo>
                  <a:pt x="4" y="198"/>
                </a:lnTo>
                <a:lnTo>
                  <a:pt x="6" y="197"/>
                </a:lnTo>
                <a:lnTo>
                  <a:pt x="11" y="184"/>
                </a:lnTo>
                <a:lnTo>
                  <a:pt x="16" y="171"/>
                </a:lnTo>
                <a:lnTo>
                  <a:pt x="21" y="158"/>
                </a:lnTo>
                <a:lnTo>
                  <a:pt x="26" y="146"/>
                </a:lnTo>
                <a:lnTo>
                  <a:pt x="32" y="133"/>
                </a:lnTo>
                <a:lnTo>
                  <a:pt x="38" y="122"/>
                </a:lnTo>
                <a:lnTo>
                  <a:pt x="44" y="109"/>
                </a:lnTo>
                <a:lnTo>
                  <a:pt x="49" y="96"/>
                </a:lnTo>
                <a:lnTo>
                  <a:pt x="56" y="80"/>
                </a:lnTo>
                <a:lnTo>
                  <a:pt x="62" y="66"/>
                </a:lnTo>
                <a:lnTo>
                  <a:pt x="68" y="53"/>
                </a:lnTo>
                <a:lnTo>
                  <a:pt x="75" y="40"/>
                </a:lnTo>
                <a:lnTo>
                  <a:pt x="81" y="29"/>
                </a:lnTo>
                <a:lnTo>
                  <a:pt x="87" y="15"/>
                </a:lnTo>
                <a:lnTo>
                  <a:pt x="91" y="5"/>
                </a:lnTo>
                <a:lnTo>
                  <a:pt x="92" y="0"/>
                </a:lnTo>
                <a:lnTo>
                  <a:pt x="91" y="3"/>
                </a:lnTo>
                <a:lnTo>
                  <a:pt x="87" y="10"/>
                </a:lnTo>
                <a:lnTo>
                  <a:pt x="81" y="21"/>
                </a:lnTo>
                <a:lnTo>
                  <a:pt x="73" y="34"/>
                </a:lnTo>
                <a:lnTo>
                  <a:pt x="65" y="48"/>
                </a:lnTo>
                <a:lnTo>
                  <a:pt x="56" y="64"/>
                </a:lnTo>
                <a:lnTo>
                  <a:pt x="48" y="78"/>
                </a:lnTo>
                <a:lnTo>
                  <a:pt x="41" y="91"/>
                </a:lnTo>
                <a:close/>
              </a:path>
            </a:pathLst>
          </a:custGeom>
          <a:solidFill>
            <a:srgbClr val="1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47"/>
          <p:cNvSpPr/>
          <p:nvPr/>
        </p:nvSpPr>
        <p:spPr>
          <a:xfrm flipH="1">
            <a:off x="874800" y="5145120"/>
            <a:ext cx="528480" cy="1155600"/>
          </a:xfrm>
          <a:custGeom>
            <a:avLst/>
            <a:gdLst>
              <a:gd name="textAreaLeft" fmla="*/ 360 w 528480"/>
              <a:gd name="textAreaRight" fmla="*/ 529200 w 5284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258" h="651">
                <a:moveTo>
                  <a:pt x="0" y="0"/>
                </a:moveTo>
                <a:lnTo>
                  <a:pt x="28" y="27"/>
                </a:lnTo>
                <a:lnTo>
                  <a:pt x="55" y="56"/>
                </a:lnTo>
                <a:lnTo>
                  <a:pt x="80" y="88"/>
                </a:lnTo>
                <a:lnTo>
                  <a:pt x="103" y="121"/>
                </a:lnTo>
                <a:lnTo>
                  <a:pt x="124" y="158"/>
                </a:lnTo>
                <a:lnTo>
                  <a:pt x="143" y="196"/>
                </a:lnTo>
                <a:lnTo>
                  <a:pt x="160" y="238"/>
                </a:lnTo>
                <a:lnTo>
                  <a:pt x="175" y="279"/>
                </a:lnTo>
                <a:lnTo>
                  <a:pt x="188" y="322"/>
                </a:lnTo>
                <a:lnTo>
                  <a:pt x="200" y="367"/>
                </a:lnTo>
                <a:lnTo>
                  <a:pt x="209" y="413"/>
                </a:lnTo>
                <a:lnTo>
                  <a:pt x="218" y="460"/>
                </a:lnTo>
                <a:lnTo>
                  <a:pt x="225" y="506"/>
                </a:lnTo>
                <a:lnTo>
                  <a:pt x="232" y="552"/>
                </a:lnTo>
                <a:lnTo>
                  <a:pt x="239" y="600"/>
                </a:lnTo>
                <a:lnTo>
                  <a:pt x="245" y="647"/>
                </a:lnTo>
                <a:lnTo>
                  <a:pt x="247" y="651"/>
                </a:lnTo>
                <a:lnTo>
                  <a:pt x="252" y="650"/>
                </a:lnTo>
                <a:lnTo>
                  <a:pt x="256" y="647"/>
                </a:lnTo>
                <a:lnTo>
                  <a:pt x="258" y="640"/>
                </a:lnTo>
                <a:lnTo>
                  <a:pt x="256" y="591"/>
                </a:lnTo>
                <a:lnTo>
                  <a:pt x="252" y="541"/>
                </a:lnTo>
                <a:lnTo>
                  <a:pt x="249" y="492"/>
                </a:lnTo>
                <a:lnTo>
                  <a:pt x="243" y="442"/>
                </a:lnTo>
                <a:lnTo>
                  <a:pt x="235" y="394"/>
                </a:lnTo>
                <a:lnTo>
                  <a:pt x="225" y="346"/>
                </a:lnTo>
                <a:lnTo>
                  <a:pt x="215" y="298"/>
                </a:lnTo>
                <a:lnTo>
                  <a:pt x="201" y="252"/>
                </a:lnTo>
                <a:lnTo>
                  <a:pt x="193" y="230"/>
                </a:lnTo>
                <a:lnTo>
                  <a:pt x="185" y="209"/>
                </a:lnTo>
                <a:lnTo>
                  <a:pt x="175" y="188"/>
                </a:lnTo>
                <a:lnTo>
                  <a:pt x="165" y="168"/>
                </a:lnTo>
                <a:lnTo>
                  <a:pt x="154" y="150"/>
                </a:lnTo>
                <a:lnTo>
                  <a:pt x="144" y="132"/>
                </a:lnTo>
                <a:lnTo>
                  <a:pt x="131" y="115"/>
                </a:lnTo>
                <a:lnTo>
                  <a:pt x="119" y="99"/>
                </a:lnTo>
                <a:lnTo>
                  <a:pt x="107" y="83"/>
                </a:lnTo>
                <a:lnTo>
                  <a:pt x="93" y="69"/>
                </a:lnTo>
                <a:lnTo>
                  <a:pt x="79" y="56"/>
                </a:lnTo>
                <a:lnTo>
                  <a:pt x="63" y="43"/>
                </a:lnTo>
                <a:lnTo>
                  <a:pt x="48" y="30"/>
                </a:lnTo>
                <a:lnTo>
                  <a:pt x="33" y="19"/>
                </a:lnTo>
                <a:lnTo>
                  <a:pt x="17" y="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48"/>
          <p:cNvSpPr/>
          <p:nvPr/>
        </p:nvSpPr>
        <p:spPr>
          <a:xfrm flipH="1">
            <a:off x="746280" y="4299120"/>
            <a:ext cx="279360" cy="1363320"/>
          </a:xfrm>
          <a:custGeom>
            <a:avLst/>
            <a:gdLst>
              <a:gd name="textAreaLeft" fmla="*/ 360 w 279360"/>
              <a:gd name="textAreaRight" fmla="*/ 280080 w 279360"/>
              <a:gd name="textAreaTop" fmla="*/ 0 h 1363320"/>
              <a:gd name="textAreaBottom" fmla="*/ 1363320 h 1363320"/>
            </a:gdLst>
            <a:ahLst/>
            <a:rect l="textAreaLeft" t="textAreaTop" r="textAreaRight" b="textAreaBottom"/>
            <a:pathLst>
              <a:path w="154" h="859">
                <a:moveTo>
                  <a:pt x="60" y="196"/>
                </a:moveTo>
                <a:lnTo>
                  <a:pt x="67" y="222"/>
                </a:lnTo>
                <a:lnTo>
                  <a:pt x="72" y="249"/>
                </a:lnTo>
                <a:lnTo>
                  <a:pt x="77" y="274"/>
                </a:lnTo>
                <a:lnTo>
                  <a:pt x="82" y="301"/>
                </a:lnTo>
                <a:lnTo>
                  <a:pt x="86" y="327"/>
                </a:lnTo>
                <a:lnTo>
                  <a:pt x="90" y="354"/>
                </a:lnTo>
                <a:lnTo>
                  <a:pt x="93" y="381"/>
                </a:lnTo>
                <a:lnTo>
                  <a:pt x="97" y="408"/>
                </a:lnTo>
                <a:lnTo>
                  <a:pt x="106" y="517"/>
                </a:lnTo>
                <a:lnTo>
                  <a:pt x="111" y="627"/>
                </a:lnTo>
                <a:lnTo>
                  <a:pt x="113" y="737"/>
                </a:lnTo>
                <a:lnTo>
                  <a:pt x="116" y="848"/>
                </a:lnTo>
                <a:lnTo>
                  <a:pt x="119" y="857"/>
                </a:lnTo>
                <a:lnTo>
                  <a:pt x="125" y="859"/>
                </a:lnTo>
                <a:lnTo>
                  <a:pt x="132" y="854"/>
                </a:lnTo>
                <a:lnTo>
                  <a:pt x="135" y="846"/>
                </a:lnTo>
                <a:lnTo>
                  <a:pt x="149" y="734"/>
                </a:lnTo>
                <a:lnTo>
                  <a:pt x="154" y="621"/>
                </a:lnTo>
                <a:lnTo>
                  <a:pt x="148" y="507"/>
                </a:lnTo>
                <a:lnTo>
                  <a:pt x="133" y="397"/>
                </a:lnTo>
                <a:lnTo>
                  <a:pt x="128" y="370"/>
                </a:lnTo>
                <a:lnTo>
                  <a:pt x="123" y="345"/>
                </a:lnTo>
                <a:lnTo>
                  <a:pt x="117" y="319"/>
                </a:lnTo>
                <a:lnTo>
                  <a:pt x="111" y="293"/>
                </a:lnTo>
                <a:lnTo>
                  <a:pt x="103" y="268"/>
                </a:lnTo>
                <a:lnTo>
                  <a:pt x="96" y="242"/>
                </a:lnTo>
                <a:lnTo>
                  <a:pt x="88" y="218"/>
                </a:lnTo>
                <a:lnTo>
                  <a:pt x="78" y="194"/>
                </a:lnTo>
                <a:lnTo>
                  <a:pt x="74" y="182"/>
                </a:lnTo>
                <a:lnTo>
                  <a:pt x="68" y="169"/>
                </a:lnTo>
                <a:lnTo>
                  <a:pt x="63" y="156"/>
                </a:lnTo>
                <a:lnTo>
                  <a:pt x="57" y="143"/>
                </a:lnTo>
                <a:lnTo>
                  <a:pt x="52" y="131"/>
                </a:lnTo>
                <a:lnTo>
                  <a:pt x="47" y="119"/>
                </a:lnTo>
                <a:lnTo>
                  <a:pt x="41" y="107"/>
                </a:lnTo>
                <a:lnTo>
                  <a:pt x="36" y="94"/>
                </a:lnTo>
                <a:lnTo>
                  <a:pt x="32" y="81"/>
                </a:lnTo>
                <a:lnTo>
                  <a:pt x="26" y="65"/>
                </a:lnTo>
                <a:lnTo>
                  <a:pt x="20" y="51"/>
                </a:lnTo>
                <a:lnTo>
                  <a:pt x="14" y="35"/>
                </a:lnTo>
                <a:lnTo>
                  <a:pt x="8" y="20"/>
                </a:lnTo>
                <a:lnTo>
                  <a:pt x="4" y="9"/>
                </a:lnTo>
                <a:lnTo>
                  <a:pt x="1" y="3"/>
                </a:lnTo>
                <a:lnTo>
                  <a:pt x="0" y="0"/>
                </a:lnTo>
                <a:lnTo>
                  <a:pt x="3" y="6"/>
                </a:lnTo>
                <a:lnTo>
                  <a:pt x="7" y="20"/>
                </a:lnTo>
                <a:lnTo>
                  <a:pt x="14" y="44"/>
                </a:lnTo>
                <a:lnTo>
                  <a:pt x="24" y="73"/>
                </a:lnTo>
                <a:lnTo>
                  <a:pt x="33" y="105"/>
                </a:lnTo>
                <a:lnTo>
                  <a:pt x="42" y="137"/>
                </a:lnTo>
                <a:lnTo>
                  <a:pt x="52" y="169"/>
                </a:lnTo>
                <a:lnTo>
                  <a:pt x="60" y="1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49"/>
          <p:cNvSpPr/>
          <p:nvPr/>
        </p:nvSpPr>
        <p:spPr>
          <a:xfrm flipH="1">
            <a:off x="320040" y="6408720"/>
            <a:ext cx="284040" cy="503280"/>
          </a:xfrm>
          <a:custGeom>
            <a:avLst/>
            <a:gdLst>
              <a:gd name="textAreaLeft" fmla="*/ -360 w 284040"/>
              <a:gd name="textAreaRight" fmla="*/ 284040 w 2840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56" h="317">
                <a:moveTo>
                  <a:pt x="37" y="119"/>
                </a:moveTo>
                <a:lnTo>
                  <a:pt x="31" y="131"/>
                </a:lnTo>
                <a:lnTo>
                  <a:pt x="25" y="143"/>
                </a:lnTo>
                <a:lnTo>
                  <a:pt x="20" y="155"/>
                </a:lnTo>
                <a:lnTo>
                  <a:pt x="15" y="167"/>
                </a:lnTo>
                <a:lnTo>
                  <a:pt x="10" y="180"/>
                </a:lnTo>
                <a:lnTo>
                  <a:pt x="7" y="193"/>
                </a:lnTo>
                <a:lnTo>
                  <a:pt x="3" y="206"/>
                </a:lnTo>
                <a:lnTo>
                  <a:pt x="1" y="218"/>
                </a:lnTo>
                <a:lnTo>
                  <a:pt x="0" y="244"/>
                </a:lnTo>
                <a:lnTo>
                  <a:pt x="2" y="270"/>
                </a:lnTo>
                <a:lnTo>
                  <a:pt x="8" y="293"/>
                </a:lnTo>
                <a:lnTo>
                  <a:pt x="15" y="316"/>
                </a:lnTo>
                <a:lnTo>
                  <a:pt x="16" y="317"/>
                </a:lnTo>
                <a:lnTo>
                  <a:pt x="18" y="317"/>
                </a:lnTo>
                <a:lnTo>
                  <a:pt x="21" y="314"/>
                </a:lnTo>
                <a:lnTo>
                  <a:pt x="21" y="311"/>
                </a:lnTo>
                <a:lnTo>
                  <a:pt x="16" y="284"/>
                </a:lnTo>
                <a:lnTo>
                  <a:pt x="14" y="260"/>
                </a:lnTo>
                <a:lnTo>
                  <a:pt x="14" y="234"/>
                </a:lnTo>
                <a:lnTo>
                  <a:pt x="17" y="210"/>
                </a:lnTo>
                <a:lnTo>
                  <a:pt x="22" y="188"/>
                </a:lnTo>
                <a:lnTo>
                  <a:pt x="29" y="166"/>
                </a:lnTo>
                <a:lnTo>
                  <a:pt x="38" y="143"/>
                </a:lnTo>
                <a:lnTo>
                  <a:pt x="49" y="121"/>
                </a:lnTo>
                <a:lnTo>
                  <a:pt x="60" y="102"/>
                </a:lnTo>
                <a:lnTo>
                  <a:pt x="75" y="81"/>
                </a:lnTo>
                <a:lnTo>
                  <a:pt x="93" y="62"/>
                </a:lnTo>
                <a:lnTo>
                  <a:pt x="112" y="43"/>
                </a:lnTo>
                <a:lnTo>
                  <a:pt x="129" y="25"/>
                </a:lnTo>
                <a:lnTo>
                  <a:pt x="143" y="12"/>
                </a:lnTo>
                <a:lnTo>
                  <a:pt x="152" y="3"/>
                </a:lnTo>
                <a:lnTo>
                  <a:pt x="156" y="0"/>
                </a:lnTo>
                <a:lnTo>
                  <a:pt x="152" y="3"/>
                </a:lnTo>
                <a:lnTo>
                  <a:pt x="141" y="12"/>
                </a:lnTo>
                <a:lnTo>
                  <a:pt x="126" y="25"/>
                </a:lnTo>
                <a:lnTo>
                  <a:pt x="107" y="43"/>
                </a:lnTo>
                <a:lnTo>
                  <a:pt x="86" y="62"/>
                </a:lnTo>
                <a:lnTo>
                  <a:pt x="67" y="81"/>
                </a:lnTo>
                <a:lnTo>
                  <a:pt x="50" y="100"/>
                </a:lnTo>
                <a:lnTo>
                  <a:pt x="37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50"/>
          <p:cNvSpPr/>
          <p:nvPr/>
        </p:nvSpPr>
        <p:spPr>
          <a:xfrm flipH="1">
            <a:off x="235080" y="6488280"/>
            <a:ext cx="225360" cy="534960"/>
          </a:xfrm>
          <a:custGeom>
            <a:avLst/>
            <a:gdLst>
              <a:gd name="textAreaLeft" fmla="*/ 360 w 225360"/>
              <a:gd name="textAreaRight" fmla="*/ 226080 w 22536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24" h="337">
                <a:moveTo>
                  <a:pt x="28" y="144"/>
                </a:moveTo>
                <a:lnTo>
                  <a:pt x="18" y="168"/>
                </a:lnTo>
                <a:lnTo>
                  <a:pt x="11" y="192"/>
                </a:lnTo>
                <a:lnTo>
                  <a:pt x="6" y="217"/>
                </a:lnTo>
                <a:lnTo>
                  <a:pt x="1" y="243"/>
                </a:lnTo>
                <a:lnTo>
                  <a:pt x="0" y="265"/>
                </a:lnTo>
                <a:lnTo>
                  <a:pt x="2" y="289"/>
                </a:lnTo>
                <a:lnTo>
                  <a:pt x="6" y="311"/>
                </a:lnTo>
                <a:lnTo>
                  <a:pt x="9" y="334"/>
                </a:lnTo>
                <a:lnTo>
                  <a:pt x="10" y="337"/>
                </a:lnTo>
                <a:lnTo>
                  <a:pt x="13" y="335"/>
                </a:lnTo>
                <a:lnTo>
                  <a:pt x="15" y="332"/>
                </a:lnTo>
                <a:lnTo>
                  <a:pt x="16" y="329"/>
                </a:lnTo>
                <a:lnTo>
                  <a:pt x="13" y="279"/>
                </a:lnTo>
                <a:lnTo>
                  <a:pt x="16" y="232"/>
                </a:lnTo>
                <a:lnTo>
                  <a:pt x="24" y="187"/>
                </a:lnTo>
                <a:lnTo>
                  <a:pt x="39" y="141"/>
                </a:lnTo>
                <a:lnTo>
                  <a:pt x="50" y="118"/>
                </a:lnTo>
                <a:lnTo>
                  <a:pt x="61" y="94"/>
                </a:lnTo>
                <a:lnTo>
                  <a:pt x="75" y="72"/>
                </a:lnTo>
                <a:lnTo>
                  <a:pt x="91" y="50"/>
                </a:lnTo>
                <a:lnTo>
                  <a:pt x="103" y="30"/>
                </a:lnTo>
                <a:lnTo>
                  <a:pt x="114" y="14"/>
                </a:lnTo>
                <a:lnTo>
                  <a:pt x="122" y="3"/>
                </a:lnTo>
                <a:lnTo>
                  <a:pt x="124" y="0"/>
                </a:lnTo>
                <a:lnTo>
                  <a:pt x="121" y="3"/>
                </a:lnTo>
                <a:lnTo>
                  <a:pt x="113" y="14"/>
                </a:lnTo>
                <a:lnTo>
                  <a:pt x="101" y="30"/>
                </a:lnTo>
                <a:lnTo>
                  <a:pt x="86" y="50"/>
                </a:lnTo>
                <a:lnTo>
                  <a:pt x="70" y="73"/>
                </a:lnTo>
                <a:lnTo>
                  <a:pt x="53" y="97"/>
                </a:lnTo>
                <a:lnTo>
                  <a:pt x="39" y="121"/>
                </a:lnTo>
                <a:lnTo>
                  <a:pt x="28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54"/>
          <p:cNvSpPr/>
          <p:nvPr/>
        </p:nvSpPr>
        <p:spPr>
          <a:xfrm flipH="1">
            <a:off x="1685880" y="3552840"/>
            <a:ext cx="1076400" cy="1093680"/>
          </a:xfrm>
          <a:custGeom>
            <a:avLst/>
            <a:gdLst>
              <a:gd name="textAreaLeft" fmla="*/ 360 w 1076400"/>
              <a:gd name="textAreaRight" fmla="*/ 1077120 w 1076400"/>
              <a:gd name="textAreaTop" fmla="*/ 0 h 1093680"/>
              <a:gd name="textAreaBottom" fmla="*/ 1094040 h 1093680"/>
            </a:gdLst>
            <a:ahLst/>
            <a:rect l="textAreaLeft" t="textAreaTop" r="textAreaRight" b="textAreaBottom"/>
            <a:pathLst>
              <a:path w="593" h="689">
                <a:moveTo>
                  <a:pt x="593" y="0"/>
                </a:moveTo>
                <a:lnTo>
                  <a:pt x="588" y="37"/>
                </a:lnTo>
                <a:lnTo>
                  <a:pt x="581" y="71"/>
                </a:lnTo>
                <a:lnTo>
                  <a:pt x="571" y="104"/>
                </a:lnTo>
                <a:lnTo>
                  <a:pt x="559" y="134"/>
                </a:lnTo>
                <a:lnTo>
                  <a:pt x="545" y="163"/>
                </a:lnTo>
                <a:lnTo>
                  <a:pt x="530" y="189"/>
                </a:lnTo>
                <a:lnTo>
                  <a:pt x="512" y="214"/>
                </a:lnTo>
                <a:lnTo>
                  <a:pt x="494" y="238"/>
                </a:lnTo>
                <a:lnTo>
                  <a:pt x="474" y="261"/>
                </a:lnTo>
                <a:lnTo>
                  <a:pt x="453" y="281"/>
                </a:lnTo>
                <a:lnTo>
                  <a:pt x="431" y="300"/>
                </a:lnTo>
                <a:lnTo>
                  <a:pt x="409" y="318"/>
                </a:lnTo>
                <a:lnTo>
                  <a:pt x="385" y="336"/>
                </a:lnTo>
                <a:lnTo>
                  <a:pt x="362" y="352"/>
                </a:lnTo>
                <a:lnTo>
                  <a:pt x="339" y="368"/>
                </a:lnTo>
                <a:lnTo>
                  <a:pt x="315" y="382"/>
                </a:lnTo>
                <a:lnTo>
                  <a:pt x="293" y="396"/>
                </a:lnTo>
                <a:lnTo>
                  <a:pt x="271" y="411"/>
                </a:lnTo>
                <a:lnTo>
                  <a:pt x="250" y="425"/>
                </a:lnTo>
                <a:lnTo>
                  <a:pt x="228" y="439"/>
                </a:lnTo>
                <a:lnTo>
                  <a:pt x="207" y="455"/>
                </a:lnTo>
                <a:lnTo>
                  <a:pt x="186" y="471"/>
                </a:lnTo>
                <a:lnTo>
                  <a:pt x="165" y="487"/>
                </a:lnTo>
                <a:lnTo>
                  <a:pt x="144" y="505"/>
                </a:lnTo>
                <a:lnTo>
                  <a:pt x="124" y="522"/>
                </a:lnTo>
                <a:lnTo>
                  <a:pt x="105" y="542"/>
                </a:lnTo>
                <a:lnTo>
                  <a:pt x="85" y="561"/>
                </a:lnTo>
                <a:lnTo>
                  <a:pt x="66" y="582"/>
                </a:lnTo>
                <a:lnTo>
                  <a:pt x="48" y="604"/>
                </a:lnTo>
                <a:lnTo>
                  <a:pt x="31" y="626"/>
                </a:lnTo>
                <a:lnTo>
                  <a:pt x="15" y="652"/>
                </a:lnTo>
                <a:lnTo>
                  <a:pt x="1" y="677"/>
                </a:lnTo>
                <a:lnTo>
                  <a:pt x="0" y="684"/>
                </a:lnTo>
                <a:lnTo>
                  <a:pt x="2" y="687"/>
                </a:lnTo>
                <a:lnTo>
                  <a:pt x="6" y="689"/>
                </a:lnTo>
                <a:lnTo>
                  <a:pt x="9" y="687"/>
                </a:lnTo>
                <a:lnTo>
                  <a:pt x="29" y="663"/>
                </a:lnTo>
                <a:lnTo>
                  <a:pt x="50" y="639"/>
                </a:lnTo>
                <a:lnTo>
                  <a:pt x="71" y="617"/>
                </a:lnTo>
                <a:lnTo>
                  <a:pt x="92" y="594"/>
                </a:lnTo>
                <a:lnTo>
                  <a:pt x="113" y="572"/>
                </a:lnTo>
                <a:lnTo>
                  <a:pt x="135" y="551"/>
                </a:lnTo>
                <a:lnTo>
                  <a:pt x="157" y="532"/>
                </a:lnTo>
                <a:lnTo>
                  <a:pt x="179" y="511"/>
                </a:lnTo>
                <a:lnTo>
                  <a:pt x="191" y="502"/>
                </a:lnTo>
                <a:lnTo>
                  <a:pt x="202" y="492"/>
                </a:lnTo>
                <a:lnTo>
                  <a:pt x="214" y="483"/>
                </a:lnTo>
                <a:lnTo>
                  <a:pt x="227" y="475"/>
                </a:lnTo>
                <a:lnTo>
                  <a:pt x="239" y="465"/>
                </a:lnTo>
                <a:lnTo>
                  <a:pt x="250" y="457"/>
                </a:lnTo>
                <a:lnTo>
                  <a:pt x="263" y="449"/>
                </a:lnTo>
                <a:lnTo>
                  <a:pt x="275" y="441"/>
                </a:lnTo>
                <a:lnTo>
                  <a:pt x="288" y="433"/>
                </a:lnTo>
                <a:lnTo>
                  <a:pt x="299" y="425"/>
                </a:lnTo>
                <a:lnTo>
                  <a:pt x="311" y="417"/>
                </a:lnTo>
                <a:lnTo>
                  <a:pt x="324" y="407"/>
                </a:lnTo>
                <a:lnTo>
                  <a:pt x="335" y="399"/>
                </a:lnTo>
                <a:lnTo>
                  <a:pt x="348" y="392"/>
                </a:lnTo>
                <a:lnTo>
                  <a:pt x="360" y="384"/>
                </a:lnTo>
                <a:lnTo>
                  <a:pt x="371" y="374"/>
                </a:lnTo>
                <a:lnTo>
                  <a:pt x="391" y="358"/>
                </a:lnTo>
                <a:lnTo>
                  <a:pt x="411" y="342"/>
                </a:lnTo>
                <a:lnTo>
                  <a:pt x="431" y="324"/>
                </a:lnTo>
                <a:lnTo>
                  <a:pt x="449" y="307"/>
                </a:lnTo>
                <a:lnTo>
                  <a:pt x="468" y="288"/>
                </a:lnTo>
                <a:lnTo>
                  <a:pt x="486" y="267"/>
                </a:lnTo>
                <a:lnTo>
                  <a:pt x="503" y="246"/>
                </a:lnTo>
                <a:lnTo>
                  <a:pt x="518" y="224"/>
                </a:lnTo>
                <a:lnTo>
                  <a:pt x="533" y="200"/>
                </a:lnTo>
                <a:lnTo>
                  <a:pt x="546" y="176"/>
                </a:lnTo>
                <a:lnTo>
                  <a:pt x="558" y="150"/>
                </a:lnTo>
                <a:lnTo>
                  <a:pt x="568" y="123"/>
                </a:lnTo>
                <a:lnTo>
                  <a:pt x="578" y="94"/>
                </a:lnTo>
                <a:lnTo>
                  <a:pt x="585" y="64"/>
                </a:lnTo>
                <a:lnTo>
                  <a:pt x="589" y="34"/>
                </a:lnTo>
                <a:lnTo>
                  <a:pt x="593" y="0"/>
                </a:lnTo>
                <a:lnTo>
                  <a:pt x="593" y="0"/>
                </a:lnTo>
                <a:lnTo>
                  <a:pt x="593" y="0"/>
                </a:lnTo>
                <a:lnTo>
                  <a:pt x="593" y="0"/>
                </a:lnTo>
                <a:lnTo>
                  <a:pt x="593" y="0"/>
                </a:lnTo>
                <a:lnTo>
                  <a:pt x="59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59"/>
          <p:cNvSpPr/>
          <p:nvPr/>
        </p:nvSpPr>
        <p:spPr>
          <a:xfrm flipH="1" rot="1249800">
            <a:off x="1485000" y="3162240"/>
            <a:ext cx="215640" cy="311040"/>
          </a:xfrm>
          <a:custGeom>
            <a:avLst/>
            <a:gdLst>
              <a:gd name="textAreaLeft" fmla="*/ -360 w 215640"/>
              <a:gd name="textAreaRight" fmla="*/ 215640 w 21564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90" h="275">
                <a:moveTo>
                  <a:pt x="74" y="15"/>
                </a:moveTo>
                <a:lnTo>
                  <a:pt x="68" y="7"/>
                </a:lnTo>
                <a:lnTo>
                  <a:pt x="62" y="2"/>
                </a:lnTo>
                <a:lnTo>
                  <a:pt x="56" y="0"/>
                </a:lnTo>
                <a:lnTo>
                  <a:pt x="49" y="2"/>
                </a:lnTo>
                <a:lnTo>
                  <a:pt x="43" y="5"/>
                </a:lnTo>
                <a:lnTo>
                  <a:pt x="37" y="10"/>
                </a:lnTo>
                <a:lnTo>
                  <a:pt x="31" y="16"/>
                </a:lnTo>
                <a:lnTo>
                  <a:pt x="26" y="24"/>
                </a:lnTo>
                <a:lnTo>
                  <a:pt x="14" y="55"/>
                </a:lnTo>
                <a:lnTo>
                  <a:pt x="5" y="88"/>
                </a:lnTo>
                <a:lnTo>
                  <a:pt x="1" y="123"/>
                </a:lnTo>
                <a:lnTo>
                  <a:pt x="0" y="158"/>
                </a:lnTo>
                <a:lnTo>
                  <a:pt x="2" y="178"/>
                </a:lnTo>
                <a:lnTo>
                  <a:pt x="7" y="198"/>
                </a:lnTo>
                <a:lnTo>
                  <a:pt x="14" y="219"/>
                </a:lnTo>
                <a:lnTo>
                  <a:pt x="22" y="238"/>
                </a:lnTo>
                <a:lnTo>
                  <a:pt x="30" y="254"/>
                </a:lnTo>
                <a:lnTo>
                  <a:pt x="37" y="265"/>
                </a:lnTo>
                <a:lnTo>
                  <a:pt x="43" y="273"/>
                </a:lnTo>
                <a:lnTo>
                  <a:pt x="44" y="275"/>
                </a:lnTo>
                <a:lnTo>
                  <a:pt x="37" y="257"/>
                </a:lnTo>
                <a:lnTo>
                  <a:pt x="30" y="238"/>
                </a:lnTo>
                <a:lnTo>
                  <a:pt x="24" y="221"/>
                </a:lnTo>
                <a:lnTo>
                  <a:pt x="19" y="202"/>
                </a:lnTo>
                <a:lnTo>
                  <a:pt x="17" y="176"/>
                </a:lnTo>
                <a:lnTo>
                  <a:pt x="17" y="149"/>
                </a:lnTo>
                <a:lnTo>
                  <a:pt x="18" y="122"/>
                </a:lnTo>
                <a:lnTo>
                  <a:pt x="21" y="96"/>
                </a:lnTo>
                <a:lnTo>
                  <a:pt x="23" y="82"/>
                </a:lnTo>
                <a:lnTo>
                  <a:pt x="28" y="66"/>
                </a:lnTo>
                <a:lnTo>
                  <a:pt x="32" y="48"/>
                </a:lnTo>
                <a:lnTo>
                  <a:pt x="39" y="34"/>
                </a:lnTo>
                <a:lnTo>
                  <a:pt x="46" y="23"/>
                </a:lnTo>
                <a:lnTo>
                  <a:pt x="56" y="18"/>
                </a:lnTo>
                <a:lnTo>
                  <a:pt x="65" y="21"/>
                </a:lnTo>
                <a:lnTo>
                  <a:pt x="75" y="35"/>
                </a:lnTo>
                <a:lnTo>
                  <a:pt x="85" y="50"/>
                </a:lnTo>
                <a:lnTo>
                  <a:pt x="90" y="53"/>
                </a:lnTo>
                <a:lnTo>
                  <a:pt x="88" y="43"/>
                </a:lnTo>
                <a:lnTo>
                  <a:pt x="74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70"/>
          <p:cNvSpPr/>
          <p:nvPr/>
        </p:nvSpPr>
        <p:spPr>
          <a:xfrm flipH="1">
            <a:off x="-351000" y="4457880"/>
            <a:ext cx="517680" cy="849240"/>
          </a:xfrm>
          <a:custGeom>
            <a:avLst/>
            <a:gdLst>
              <a:gd name="textAreaLeft" fmla="*/ -360 w 517680"/>
              <a:gd name="textAreaRight" fmla="*/ 517680 w 51768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287" h="535">
                <a:moveTo>
                  <a:pt x="42" y="133"/>
                </a:moveTo>
                <a:lnTo>
                  <a:pt x="50" y="152"/>
                </a:lnTo>
                <a:lnTo>
                  <a:pt x="58" y="171"/>
                </a:lnTo>
                <a:lnTo>
                  <a:pt x="66" y="190"/>
                </a:lnTo>
                <a:lnTo>
                  <a:pt x="75" y="208"/>
                </a:lnTo>
                <a:lnTo>
                  <a:pt x="85" y="227"/>
                </a:lnTo>
                <a:lnTo>
                  <a:pt x="94" y="245"/>
                </a:lnTo>
                <a:lnTo>
                  <a:pt x="103" y="262"/>
                </a:lnTo>
                <a:lnTo>
                  <a:pt x="113" y="280"/>
                </a:lnTo>
                <a:lnTo>
                  <a:pt x="133" y="313"/>
                </a:lnTo>
                <a:lnTo>
                  <a:pt x="152" y="347"/>
                </a:lnTo>
                <a:lnTo>
                  <a:pt x="173" y="380"/>
                </a:lnTo>
                <a:lnTo>
                  <a:pt x="194" y="412"/>
                </a:lnTo>
                <a:lnTo>
                  <a:pt x="215" y="444"/>
                </a:lnTo>
                <a:lnTo>
                  <a:pt x="237" y="475"/>
                </a:lnTo>
                <a:lnTo>
                  <a:pt x="259" y="505"/>
                </a:lnTo>
                <a:lnTo>
                  <a:pt x="282" y="535"/>
                </a:lnTo>
                <a:lnTo>
                  <a:pt x="284" y="535"/>
                </a:lnTo>
                <a:lnTo>
                  <a:pt x="286" y="534"/>
                </a:lnTo>
                <a:lnTo>
                  <a:pt x="287" y="532"/>
                </a:lnTo>
                <a:lnTo>
                  <a:pt x="286" y="529"/>
                </a:lnTo>
                <a:lnTo>
                  <a:pt x="265" y="499"/>
                </a:lnTo>
                <a:lnTo>
                  <a:pt x="245" y="468"/>
                </a:lnTo>
                <a:lnTo>
                  <a:pt x="225" y="436"/>
                </a:lnTo>
                <a:lnTo>
                  <a:pt x="205" y="406"/>
                </a:lnTo>
                <a:lnTo>
                  <a:pt x="185" y="374"/>
                </a:lnTo>
                <a:lnTo>
                  <a:pt x="166" y="342"/>
                </a:lnTo>
                <a:lnTo>
                  <a:pt x="146" y="310"/>
                </a:lnTo>
                <a:lnTo>
                  <a:pt x="128" y="278"/>
                </a:lnTo>
                <a:lnTo>
                  <a:pt x="119" y="262"/>
                </a:lnTo>
                <a:lnTo>
                  <a:pt x="109" y="246"/>
                </a:lnTo>
                <a:lnTo>
                  <a:pt x="100" y="229"/>
                </a:lnTo>
                <a:lnTo>
                  <a:pt x="91" y="213"/>
                </a:lnTo>
                <a:lnTo>
                  <a:pt x="82" y="195"/>
                </a:lnTo>
                <a:lnTo>
                  <a:pt x="73" y="178"/>
                </a:lnTo>
                <a:lnTo>
                  <a:pt x="65" y="160"/>
                </a:lnTo>
                <a:lnTo>
                  <a:pt x="57" y="142"/>
                </a:lnTo>
                <a:lnTo>
                  <a:pt x="49" y="125"/>
                </a:lnTo>
                <a:lnTo>
                  <a:pt x="39" y="103"/>
                </a:lnTo>
                <a:lnTo>
                  <a:pt x="30" y="79"/>
                </a:lnTo>
                <a:lnTo>
                  <a:pt x="21" y="56"/>
                </a:lnTo>
                <a:lnTo>
                  <a:pt x="13" y="34"/>
                </a:lnTo>
                <a:lnTo>
                  <a:pt x="6" y="16"/>
                </a:lnTo>
                <a:lnTo>
                  <a:pt x="1" y="5"/>
                </a:lnTo>
                <a:lnTo>
                  <a:pt x="0" y="0"/>
                </a:lnTo>
                <a:lnTo>
                  <a:pt x="1" y="5"/>
                </a:lnTo>
                <a:lnTo>
                  <a:pt x="4" y="15"/>
                </a:lnTo>
                <a:lnTo>
                  <a:pt x="9" y="32"/>
                </a:lnTo>
                <a:lnTo>
                  <a:pt x="15" y="51"/>
                </a:lnTo>
                <a:lnTo>
                  <a:pt x="21" y="74"/>
                </a:lnTo>
                <a:lnTo>
                  <a:pt x="28" y="95"/>
                </a:lnTo>
                <a:lnTo>
                  <a:pt x="35" y="115"/>
                </a:lnTo>
                <a:lnTo>
                  <a:pt x="42" y="1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71"/>
          <p:cNvSpPr/>
          <p:nvPr/>
        </p:nvSpPr>
        <p:spPr>
          <a:xfrm flipH="1">
            <a:off x="252360" y="4859280"/>
            <a:ext cx="254160" cy="266760"/>
          </a:xfrm>
          <a:custGeom>
            <a:avLst/>
            <a:gdLst>
              <a:gd name="textAreaLeft" fmla="*/ 360 w 254160"/>
              <a:gd name="textAreaRight" fmla="*/ 254880 w 2541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40" h="168">
                <a:moveTo>
                  <a:pt x="60" y="83"/>
                </a:moveTo>
                <a:lnTo>
                  <a:pt x="70" y="93"/>
                </a:lnTo>
                <a:lnTo>
                  <a:pt x="79" y="104"/>
                </a:lnTo>
                <a:lnTo>
                  <a:pt x="88" y="114"/>
                </a:lnTo>
                <a:lnTo>
                  <a:pt x="99" y="125"/>
                </a:lnTo>
                <a:lnTo>
                  <a:pt x="109" y="136"/>
                </a:lnTo>
                <a:lnTo>
                  <a:pt x="119" y="147"/>
                </a:lnTo>
                <a:lnTo>
                  <a:pt x="129" y="157"/>
                </a:lnTo>
                <a:lnTo>
                  <a:pt x="139" y="168"/>
                </a:lnTo>
                <a:lnTo>
                  <a:pt x="140" y="165"/>
                </a:lnTo>
                <a:lnTo>
                  <a:pt x="140" y="158"/>
                </a:lnTo>
                <a:lnTo>
                  <a:pt x="140" y="153"/>
                </a:lnTo>
                <a:lnTo>
                  <a:pt x="140" y="150"/>
                </a:lnTo>
                <a:lnTo>
                  <a:pt x="121" y="129"/>
                </a:lnTo>
                <a:lnTo>
                  <a:pt x="99" y="106"/>
                </a:lnTo>
                <a:lnTo>
                  <a:pt x="76" y="80"/>
                </a:lnTo>
                <a:lnTo>
                  <a:pt x="53" y="56"/>
                </a:lnTo>
                <a:lnTo>
                  <a:pt x="33" y="34"/>
                </a:lnTo>
                <a:lnTo>
                  <a:pt x="15" y="16"/>
                </a:lnTo>
                <a:lnTo>
                  <a:pt x="5" y="5"/>
                </a:lnTo>
                <a:lnTo>
                  <a:pt x="0" y="0"/>
                </a:lnTo>
                <a:lnTo>
                  <a:pt x="1" y="3"/>
                </a:lnTo>
                <a:lnTo>
                  <a:pt x="6" y="10"/>
                </a:lnTo>
                <a:lnTo>
                  <a:pt x="13" y="19"/>
                </a:lnTo>
                <a:lnTo>
                  <a:pt x="22" y="32"/>
                </a:lnTo>
                <a:lnTo>
                  <a:pt x="31" y="46"/>
                </a:lnTo>
                <a:lnTo>
                  <a:pt x="42" y="59"/>
                </a:lnTo>
                <a:lnTo>
                  <a:pt x="51" y="72"/>
                </a:lnTo>
                <a:lnTo>
                  <a:pt x="60" y="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72"/>
          <p:cNvSpPr/>
          <p:nvPr/>
        </p:nvSpPr>
        <p:spPr>
          <a:xfrm flipH="1">
            <a:off x="255600" y="4983120"/>
            <a:ext cx="395280" cy="1046160"/>
          </a:xfrm>
          <a:custGeom>
            <a:avLst/>
            <a:gdLst>
              <a:gd name="textAreaLeft" fmla="*/ 360 w 395280"/>
              <a:gd name="textAreaRight" fmla="*/ 396000 w 3952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218" h="659">
                <a:moveTo>
                  <a:pt x="150" y="364"/>
                </a:moveTo>
                <a:lnTo>
                  <a:pt x="135" y="404"/>
                </a:lnTo>
                <a:lnTo>
                  <a:pt x="119" y="442"/>
                </a:lnTo>
                <a:lnTo>
                  <a:pt x="102" y="479"/>
                </a:lnTo>
                <a:lnTo>
                  <a:pt x="83" y="516"/>
                </a:lnTo>
                <a:lnTo>
                  <a:pt x="64" y="551"/>
                </a:lnTo>
                <a:lnTo>
                  <a:pt x="43" y="586"/>
                </a:lnTo>
                <a:lnTo>
                  <a:pt x="24" y="619"/>
                </a:lnTo>
                <a:lnTo>
                  <a:pt x="1" y="651"/>
                </a:lnTo>
                <a:lnTo>
                  <a:pt x="0" y="655"/>
                </a:lnTo>
                <a:lnTo>
                  <a:pt x="1" y="658"/>
                </a:lnTo>
                <a:lnTo>
                  <a:pt x="3" y="659"/>
                </a:lnTo>
                <a:lnTo>
                  <a:pt x="5" y="658"/>
                </a:lnTo>
                <a:lnTo>
                  <a:pt x="28" y="626"/>
                </a:lnTo>
                <a:lnTo>
                  <a:pt x="50" y="592"/>
                </a:lnTo>
                <a:lnTo>
                  <a:pt x="71" y="557"/>
                </a:lnTo>
                <a:lnTo>
                  <a:pt x="92" y="522"/>
                </a:lnTo>
                <a:lnTo>
                  <a:pt x="111" y="487"/>
                </a:lnTo>
                <a:lnTo>
                  <a:pt x="130" y="449"/>
                </a:lnTo>
                <a:lnTo>
                  <a:pt x="146" y="410"/>
                </a:lnTo>
                <a:lnTo>
                  <a:pt x="161" y="370"/>
                </a:lnTo>
                <a:lnTo>
                  <a:pt x="175" y="321"/>
                </a:lnTo>
                <a:lnTo>
                  <a:pt x="188" y="263"/>
                </a:lnTo>
                <a:lnTo>
                  <a:pt x="197" y="203"/>
                </a:lnTo>
                <a:lnTo>
                  <a:pt x="205" y="142"/>
                </a:lnTo>
                <a:lnTo>
                  <a:pt x="211" y="86"/>
                </a:lnTo>
                <a:lnTo>
                  <a:pt x="215" y="41"/>
                </a:lnTo>
                <a:lnTo>
                  <a:pt x="217" y="11"/>
                </a:lnTo>
                <a:lnTo>
                  <a:pt x="218" y="0"/>
                </a:lnTo>
                <a:lnTo>
                  <a:pt x="217" y="11"/>
                </a:lnTo>
                <a:lnTo>
                  <a:pt x="213" y="41"/>
                </a:lnTo>
                <a:lnTo>
                  <a:pt x="208" y="85"/>
                </a:lnTo>
                <a:lnTo>
                  <a:pt x="199" y="139"/>
                </a:lnTo>
                <a:lnTo>
                  <a:pt x="190" y="199"/>
                </a:lnTo>
                <a:lnTo>
                  <a:pt x="178" y="259"/>
                </a:lnTo>
                <a:lnTo>
                  <a:pt x="166" y="316"/>
                </a:lnTo>
                <a:lnTo>
                  <a:pt x="150" y="3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73"/>
          <p:cNvSpPr/>
          <p:nvPr/>
        </p:nvSpPr>
        <p:spPr>
          <a:xfrm flipH="1">
            <a:off x="26280" y="4446720"/>
            <a:ext cx="222120" cy="159696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1596960"/>
              <a:gd name="textAreaBottom" fmla="*/ 1597320 h 1596960"/>
            </a:gdLst>
            <a:ahLst/>
            <a:rect l="textAreaLeft" t="textAreaTop" r="textAreaRight" b="textAreaBottom"/>
            <a:pathLst>
              <a:path w="122" h="1006">
                <a:moveTo>
                  <a:pt x="40" y="0"/>
                </a:moveTo>
                <a:lnTo>
                  <a:pt x="45" y="28"/>
                </a:lnTo>
                <a:lnTo>
                  <a:pt x="51" y="57"/>
                </a:lnTo>
                <a:lnTo>
                  <a:pt x="57" y="84"/>
                </a:lnTo>
                <a:lnTo>
                  <a:pt x="64" y="111"/>
                </a:lnTo>
                <a:lnTo>
                  <a:pt x="71" y="140"/>
                </a:lnTo>
                <a:lnTo>
                  <a:pt x="77" y="167"/>
                </a:lnTo>
                <a:lnTo>
                  <a:pt x="82" y="196"/>
                </a:lnTo>
                <a:lnTo>
                  <a:pt x="87" y="225"/>
                </a:lnTo>
                <a:lnTo>
                  <a:pt x="95" y="292"/>
                </a:lnTo>
                <a:lnTo>
                  <a:pt x="101" y="361"/>
                </a:lnTo>
                <a:lnTo>
                  <a:pt x="104" y="431"/>
                </a:lnTo>
                <a:lnTo>
                  <a:pt x="104" y="501"/>
                </a:lnTo>
                <a:lnTo>
                  <a:pt x="101" y="567"/>
                </a:lnTo>
                <a:lnTo>
                  <a:pt x="95" y="630"/>
                </a:lnTo>
                <a:lnTo>
                  <a:pt x="86" y="694"/>
                </a:lnTo>
                <a:lnTo>
                  <a:pt x="74" y="757"/>
                </a:lnTo>
                <a:lnTo>
                  <a:pt x="59" y="817"/>
                </a:lnTo>
                <a:lnTo>
                  <a:pt x="42" y="878"/>
                </a:lnTo>
                <a:lnTo>
                  <a:pt x="22" y="937"/>
                </a:lnTo>
                <a:lnTo>
                  <a:pt x="1" y="996"/>
                </a:lnTo>
                <a:lnTo>
                  <a:pt x="0" y="1002"/>
                </a:lnTo>
                <a:lnTo>
                  <a:pt x="2" y="1006"/>
                </a:lnTo>
                <a:lnTo>
                  <a:pt x="7" y="1004"/>
                </a:lnTo>
                <a:lnTo>
                  <a:pt x="10" y="1001"/>
                </a:lnTo>
                <a:lnTo>
                  <a:pt x="22" y="972"/>
                </a:lnTo>
                <a:lnTo>
                  <a:pt x="33" y="945"/>
                </a:lnTo>
                <a:lnTo>
                  <a:pt x="45" y="916"/>
                </a:lnTo>
                <a:lnTo>
                  <a:pt x="56" y="886"/>
                </a:lnTo>
                <a:lnTo>
                  <a:pt x="66" y="857"/>
                </a:lnTo>
                <a:lnTo>
                  <a:pt x="75" y="827"/>
                </a:lnTo>
                <a:lnTo>
                  <a:pt x="85" y="796"/>
                </a:lnTo>
                <a:lnTo>
                  <a:pt x="93" y="766"/>
                </a:lnTo>
                <a:lnTo>
                  <a:pt x="107" y="702"/>
                </a:lnTo>
                <a:lnTo>
                  <a:pt x="115" y="638"/>
                </a:lnTo>
                <a:lnTo>
                  <a:pt x="121" y="573"/>
                </a:lnTo>
                <a:lnTo>
                  <a:pt x="122" y="506"/>
                </a:lnTo>
                <a:lnTo>
                  <a:pt x="121" y="439"/>
                </a:lnTo>
                <a:lnTo>
                  <a:pt x="116" y="372"/>
                </a:lnTo>
                <a:lnTo>
                  <a:pt x="109" y="306"/>
                </a:lnTo>
                <a:lnTo>
                  <a:pt x="100" y="241"/>
                </a:lnTo>
                <a:lnTo>
                  <a:pt x="94" y="210"/>
                </a:lnTo>
                <a:lnTo>
                  <a:pt x="87" y="180"/>
                </a:lnTo>
                <a:lnTo>
                  <a:pt x="79" y="150"/>
                </a:lnTo>
                <a:lnTo>
                  <a:pt x="71" y="119"/>
                </a:lnTo>
                <a:lnTo>
                  <a:pt x="63" y="91"/>
                </a:lnTo>
                <a:lnTo>
                  <a:pt x="56" y="60"/>
                </a:lnTo>
                <a:lnTo>
                  <a:pt x="47" y="3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40" y="0"/>
                </a:lnTo>
                <a:lnTo>
                  <a:pt x="40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85"/>
          <p:cNvSpPr/>
          <p:nvPr/>
        </p:nvSpPr>
        <p:spPr>
          <a:xfrm flipH="1">
            <a:off x="605880" y="6796080"/>
            <a:ext cx="1617480" cy="61920"/>
          </a:xfrm>
          <a:custGeom>
            <a:avLst/>
            <a:gdLst>
              <a:gd name="textAreaLeft" fmla="*/ -360 w 1617480"/>
              <a:gd name="textAreaRight" fmla="*/ 1617480 w 16174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570" h="67">
                <a:moveTo>
                  <a:pt x="0" y="4"/>
                </a:moveTo>
                <a:lnTo>
                  <a:pt x="5" y="4"/>
                </a:lnTo>
                <a:lnTo>
                  <a:pt x="17" y="7"/>
                </a:lnTo>
                <a:lnTo>
                  <a:pt x="35" y="10"/>
                </a:lnTo>
                <a:lnTo>
                  <a:pt x="60" y="13"/>
                </a:lnTo>
                <a:lnTo>
                  <a:pt x="90" y="18"/>
                </a:lnTo>
                <a:lnTo>
                  <a:pt x="125" y="23"/>
                </a:lnTo>
                <a:lnTo>
                  <a:pt x="164" y="26"/>
                </a:lnTo>
                <a:lnTo>
                  <a:pt x="204" y="29"/>
                </a:lnTo>
                <a:lnTo>
                  <a:pt x="247" y="32"/>
                </a:lnTo>
                <a:lnTo>
                  <a:pt x="292" y="34"/>
                </a:lnTo>
                <a:lnTo>
                  <a:pt x="337" y="34"/>
                </a:lnTo>
                <a:lnTo>
                  <a:pt x="381" y="32"/>
                </a:lnTo>
                <a:lnTo>
                  <a:pt x="425" y="29"/>
                </a:lnTo>
                <a:lnTo>
                  <a:pt x="465" y="23"/>
                </a:lnTo>
                <a:lnTo>
                  <a:pt x="504" y="13"/>
                </a:lnTo>
                <a:lnTo>
                  <a:pt x="539" y="2"/>
                </a:lnTo>
                <a:lnTo>
                  <a:pt x="541" y="2"/>
                </a:lnTo>
                <a:lnTo>
                  <a:pt x="547" y="0"/>
                </a:lnTo>
                <a:lnTo>
                  <a:pt x="555" y="0"/>
                </a:lnTo>
                <a:lnTo>
                  <a:pt x="562" y="0"/>
                </a:lnTo>
                <a:lnTo>
                  <a:pt x="568" y="2"/>
                </a:lnTo>
                <a:lnTo>
                  <a:pt x="570" y="7"/>
                </a:lnTo>
                <a:lnTo>
                  <a:pt x="567" y="15"/>
                </a:lnTo>
                <a:lnTo>
                  <a:pt x="556" y="28"/>
                </a:lnTo>
                <a:lnTo>
                  <a:pt x="547" y="34"/>
                </a:lnTo>
                <a:lnTo>
                  <a:pt x="535" y="42"/>
                </a:lnTo>
                <a:lnTo>
                  <a:pt x="519" y="48"/>
                </a:lnTo>
                <a:lnTo>
                  <a:pt x="500" y="53"/>
                </a:lnTo>
                <a:lnTo>
                  <a:pt x="478" y="58"/>
                </a:lnTo>
                <a:lnTo>
                  <a:pt x="451" y="63"/>
                </a:lnTo>
                <a:lnTo>
                  <a:pt x="422" y="66"/>
                </a:lnTo>
                <a:lnTo>
                  <a:pt x="390" y="67"/>
                </a:lnTo>
                <a:lnTo>
                  <a:pt x="353" y="67"/>
                </a:lnTo>
                <a:lnTo>
                  <a:pt x="314" y="64"/>
                </a:lnTo>
                <a:lnTo>
                  <a:pt x="271" y="61"/>
                </a:lnTo>
                <a:lnTo>
                  <a:pt x="224" y="55"/>
                </a:lnTo>
                <a:lnTo>
                  <a:pt x="173" y="47"/>
                </a:lnTo>
                <a:lnTo>
                  <a:pt x="119" y="36"/>
                </a:lnTo>
                <a:lnTo>
                  <a:pt x="62" y="21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89"/>
          <p:cNvSpPr/>
          <p:nvPr/>
        </p:nvSpPr>
        <p:spPr>
          <a:xfrm flipH="1">
            <a:off x="114480" y="4098960"/>
            <a:ext cx="838080" cy="4032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276" h="230">
                <a:moveTo>
                  <a:pt x="0" y="0"/>
                </a:moveTo>
                <a:lnTo>
                  <a:pt x="1" y="1"/>
                </a:lnTo>
                <a:lnTo>
                  <a:pt x="3" y="6"/>
                </a:lnTo>
                <a:lnTo>
                  <a:pt x="9" y="16"/>
                </a:lnTo>
                <a:lnTo>
                  <a:pt x="16" y="25"/>
                </a:lnTo>
                <a:lnTo>
                  <a:pt x="25" y="40"/>
                </a:lnTo>
                <a:lnTo>
                  <a:pt x="36" y="54"/>
                </a:lnTo>
                <a:lnTo>
                  <a:pt x="50" y="71"/>
                </a:lnTo>
                <a:lnTo>
                  <a:pt x="65" y="89"/>
                </a:lnTo>
                <a:lnTo>
                  <a:pt x="83" y="108"/>
                </a:lnTo>
                <a:lnTo>
                  <a:pt x="102" y="127"/>
                </a:lnTo>
                <a:lnTo>
                  <a:pt x="123" y="147"/>
                </a:lnTo>
                <a:lnTo>
                  <a:pt x="148" y="164"/>
                </a:lnTo>
                <a:lnTo>
                  <a:pt x="173" y="183"/>
                </a:lnTo>
                <a:lnTo>
                  <a:pt x="201" y="199"/>
                </a:lnTo>
                <a:lnTo>
                  <a:pt x="230" y="215"/>
                </a:lnTo>
                <a:lnTo>
                  <a:pt x="263" y="230"/>
                </a:lnTo>
                <a:lnTo>
                  <a:pt x="264" y="230"/>
                </a:lnTo>
                <a:lnTo>
                  <a:pt x="268" y="228"/>
                </a:lnTo>
                <a:lnTo>
                  <a:pt x="271" y="225"/>
                </a:lnTo>
                <a:lnTo>
                  <a:pt x="275" y="220"/>
                </a:lnTo>
                <a:lnTo>
                  <a:pt x="276" y="217"/>
                </a:lnTo>
                <a:lnTo>
                  <a:pt x="274" y="210"/>
                </a:lnTo>
                <a:lnTo>
                  <a:pt x="267" y="204"/>
                </a:lnTo>
                <a:lnTo>
                  <a:pt x="255" y="198"/>
                </a:lnTo>
                <a:lnTo>
                  <a:pt x="247" y="194"/>
                </a:lnTo>
                <a:lnTo>
                  <a:pt x="239" y="191"/>
                </a:lnTo>
                <a:lnTo>
                  <a:pt x="228" y="186"/>
                </a:lnTo>
                <a:lnTo>
                  <a:pt x="218" y="182"/>
                </a:lnTo>
                <a:lnTo>
                  <a:pt x="206" y="177"/>
                </a:lnTo>
                <a:lnTo>
                  <a:pt x="193" y="170"/>
                </a:lnTo>
                <a:lnTo>
                  <a:pt x="179" y="162"/>
                </a:lnTo>
                <a:lnTo>
                  <a:pt x="165" y="153"/>
                </a:lnTo>
                <a:lnTo>
                  <a:pt x="149" y="142"/>
                </a:lnTo>
                <a:lnTo>
                  <a:pt x="131" y="129"/>
                </a:lnTo>
                <a:lnTo>
                  <a:pt x="113" y="113"/>
                </a:lnTo>
                <a:lnTo>
                  <a:pt x="93" y="95"/>
                </a:lnTo>
                <a:lnTo>
                  <a:pt x="72" y="76"/>
                </a:lnTo>
                <a:lnTo>
                  <a:pt x="50" y="54"/>
                </a:lnTo>
                <a:lnTo>
                  <a:pt x="25" y="2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90"/>
          <p:cNvSpPr/>
          <p:nvPr/>
        </p:nvSpPr>
        <p:spPr>
          <a:xfrm flipH="1">
            <a:off x="546120" y="4235400"/>
            <a:ext cx="280800" cy="2016000"/>
          </a:xfrm>
          <a:custGeom>
            <a:avLst/>
            <a:gdLst>
              <a:gd name="textAreaLeft" fmla="*/ 360 w 280800"/>
              <a:gd name="textAreaRight" fmla="*/ 281520 w 28080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107" h="1182">
                <a:moveTo>
                  <a:pt x="4" y="8"/>
                </a:moveTo>
                <a:lnTo>
                  <a:pt x="7" y="16"/>
                </a:lnTo>
                <a:lnTo>
                  <a:pt x="13" y="37"/>
                </a:lnTo>
                <a:lnTo>
                  <a:pt x="21" y="70"/>
                </a:lnTo>
                <a:lnTo>
                  <a:pt x="31" y="116"/>
                </a:lnTo>
                <a:lnTo>
                  <a:pt x="43" y="172"/>
                </a:lnTo>
                <a:lnTo>
                  <a:pt x="55" y="238"/>
                </a:lnTo>
                <a:lnTo>
                  <a:pt x="66" y="313"/>
                </a:lnTo>
                <a:lnTo>
                  <a:pt x="75" y="394"/>
                </a:lnTo>
                <a:lnTo>
                  <a:pt x="82" y="482"/>
                </a:lnTo>
                <a:lnTo>
                  <a:pt x="87" y="576"/>
                </a:lnTo>
                <a:lnTo>
                  <a:pt x="87" y="674"/>
                </a:lnTo>
                <a:lnTo>
                  <a:pt x="84" y="773"/>
                </a:lnTo>
                <a:lnTo>
                  <a:pt x="73" y="875"/>
                </a:lnTo>
                <a:lnTo>
                  <a:pt x="56" y="979"/>
                </a:lnTo>
                <a:lnTo>
                  <a:pt x="32" y="1081"/>
                </a:lnTo>
                <a:lnTo>
                  <a:pt x="0" y="1182"/>
                </a:lnTo>
                <a:lnTo>
                  <a:pt x="2" y="1177"/>
                </a:lnTo>
                <a:lnTo>
                  <a:pt x="9" y="1161"/>
                </a:lnTo>
                <a:lnTo>
                  <a:pt x="20" y="1135"/>
                </a:lnTo>
                <a:lnTo>
                  <a:pt x="31" y="1102"/>
                </a:lnTo>
                <a:lnTo>
                  <a:pt x="45" y="1057"/>
                </a:lnTo>
                <a:lnTo>
                  <a:pt x="60" y="1004"/>
                </a:lnTo>
                <a:lnTo>
                  <a:pt x="74" y="942"/>
                </a:lnTo>
                <a:lnTo>
                  <a:pt x="87" y="873"/>
                </a:lnTo>
                <a:lnTo>
                  <a:pt x="98" y="795"/>
                </a:lnTo>
                <a:lnTo>
                  <a:pt x="105" y="709"/>
                </a:lnTo>
                <a:lnTo>
                  <a:pt x="107" y="616"/>
                </a:lnTo>
                <a:lnTo>
                  <a:pt x="106" y="517"/>
                </a:lnTo>
                <a:lnTo>
                  <a:pt x="98" y="410"/>
                </a:lnTo>
                <a:lnTo>
                  <a:pt x="82" y="297"/>
                </a:lnTo>
                <a:lnTo>
                  <a:pt x="59" y="177"/>
                </a:lnTo>
                <a:lnTo>
                  <a:pt x="28" y="53"/>
                </a:lnTo>
                <a:lnTo>
                  <a:pt x="27" y="40"/>
                </a:lnTo>
                <a:lnTo>
                  <a:pt x="22" y="16"/>
                </a:lnTo>
                <a:lnTo>
                  <a:pt x="14" y="0"/>
                </a:lnTo>
                <a:lnTo>
                  <a:pt x="4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1272"/>
          <p:cNvSpPr/>
          <p:nvPr/>
        </p:nvSpPr>
        <p:spPr>
          <a:xfrm>
            <a:off x="1593720" y="3203640"/>
            <a:ext cx="46080" cy="176040"/>
          </a:xfrm>
          <a:custGeom>
            <a:avLst/>
            <a:gdLst>
              <a:gd name="textAreaLeft" fmla="*/ 0 w 46080"/>
              <a:gd name="textAreaRight" fmla="*/ 46440 w 460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45244" h="176222">
                <a:moveTo>
                  <a:pt x="2382" y="14297"/>
                </a:moveTo>
                <a:cubicBezTo>
                  <a:pt x="3969" y="10328"/>
                  <a:pt x="4408" y="5675"/>
                  <a:pt x="7144" y="2391"/>
                </a:cubicBezTo>
                <a:cubicBezTo>
                  <a:pt x="11329" y="-2631"/>
                  <a:pt x="22788" y="1710"/>
                  <a:pt x="26194" y="2391"/>
                </a:cubicBezTo>
                <a:cubicBezTo>
                  <a:pt x="27782" y="4772"/>
                  <a:pt x="28722" y="7746"/>
                  <a:pt x="30957" y="9534"/>
                </a:cubicBezTo>
                <a:cubicBezTo>
                  <a:pt x="32917" y="11102"/>
                  <a:pt x="36325" y="10141"/>
                  <a:pt x="38100" y="11916"/>
                </a:cubicBezTo>
                <a:cubicBezTo>
                  <a:pt x="39875" y="13691"/>
                  <a:pt x="39359" y="16814"/>
                  <a:pt x="40482" y="19059"/>
                </a:cubicBezTo>
                <a:cubicBezTo>
                  <a:pt x="41762" y="21619"/>
                  <a:pt x="43657" y="23822"/>
                  <a:pt x="45244" y="26203"/>
                </a:cubicBezTo>
                <a:cubicBezTo>
                  <a:pt x="43657" y="32553"/>
                  <a:pt x="43060" y="39237"/>
                  <a:pt x="40482" y="45253"/>
                </a:cubicBezTo>
                <a:cubicBezTo>
                  <a:pt x="38227" y="50514"/>
                  <a:pt x="32768" y="54111"/>
                  <a:pt x="30957" y="59541"/>
                </a:cubicBezTo>
                <a:lnTo>
                  <a:pt x="28575" y="66684"/>
                </a:lnTo>
                <a:cubicBezTo>
                  <a:pt x="30297" y="77015"/>
                  <a:pt x="31121" y="82901"/>
                  <a:pt x="33338" y="92878"/>
                </a:cubicBezTo>
                <a:cubicBezTo>
                  <a:pt x="34048" y="96073"/>
                  <a:pt x="34925" y="99228"/>
                  <a:pt x="35719" y="102403"/>
                </a:cubicBezTo>
                <a:cubicBezTo>
                  <a:pt x="34132" y="116691"/>
                  <a:pt x="34143" y="131248"/>
                  <a:pt x="30957" y="145266"/>
                </a:cubicBezTo>
                <a:cubicBezTo>
                  <a:pt x="30077" y="149136"/>
                  <a:pt x="26120" y="151562"/>
                  <a:pt x="23813" y="154791"/>
                </a:cubicBezTo>
                <a:cubicBezTo>
                  <a:pt x="16597" y="164892"/>
                  <a:pt x="22296" y="159770"/>
                  <a:pt x="11907" y="166697"/>
                </a:cubicBezTo>
                <a:cubicBezTo>
                  <a:pt x="10319" y="169078"/>
                  <a:pt x="9379" y="172053"/>
                  <a:pt x="7144" y="173841"/>
                </a:cubicBezTo>
                <a:cubicBezTo>
                  <a:pt x="5184" y="175409"/>
                  <a:pt x="0" y="176222"/>
                  <a:pt x="0" y="17622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1273"/>
          <p:cNvSpPr/>
          <p:nvPr/>
        </p:nvSpPr>
        <p:spPr>
          <a:xfrm>
            <a:off x="1595520" y="3244680"/>
            <a:ext cx="20520" cy="73080"/>
          </a:xfrm>
          <a:custGeom>
            <a:avLst/>
            <a:gdLst>
              <a:gd name="textAreaLeft" fmla="*/ 0 w 20520"/>
              <a:gd name="textAreaRight" fmla="*/ 20880 w 205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9447" h="74455">
                <a:moveTo>
                  <a:pt x="0" y="19686"/>
                </a:moveTo>
                <a:cubicBezTo>
                  <a:pt x="13423" y="-1791"/>
                  <a:pt x="7752" y="-5594"/>
                  <a:pt x="16669" y="7780"/>
                </a:cubicBezTo>
                <a:cubicBezTo>
                  <a:pt x="11775" y="73843"/>
                  <a:pt x="31125" y="62459"/>
                  <a:pt x="7144" y="7445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290"/>
          <p:cNvSpPr/>
          <p:nvPr/>
        </p:nvSpPr>
        <p:spPr>
          <a:xfrm>
            <a:off x="747720" y="2543040"/>
            <a:ext cx="1114560" cy="1057320"/>
          </a:xfrm>
          <a:custGeom>
            <a:avLst/>
            <a:gdLst>
              <a:gd name="textAreaLeft" fmla="*/ 0 w 1114560"/>
              <a:gd name="textAreaRight" fmla="*/ 1114920 w 1114560"/>
              <a:gd name="textAreaTop" fmla="*/ 0 h 1057320"/>
              <a:gd name="textAreaBottom" fmla="*/ 1057680 h 1057320"/>
            </a:gdLst>
            <a:ahLst/>
            <a:rect l="textAreaLeft" t="textAreaTop" r="textAreaRight" b="textAreaBottom"/>
            <a:pathLst>
              <a:path w="1114425" h="1057275">
                <a:moveTo>
                  <a:pt x="0" y="171450"/>
                </a:moveTo>
                <a:cubicBezTo>
                  <a:pt x="3969" y="169069"/>
                  <a:pt x="8253" y="167148"/>
                  <a:pt x="11906" y="164306"/>
                </a:cubicBezTo>
                <a:cubicBezTo>
                  <a:pt x="15450" y="161549"/>
                  <a:pt x="17763" y="157370"/>
                  <a:pt x="21431" y="154781"/>
                </a:cubicBezTo>
                <a:cubicBezTo>
                  <a:pt x="31329" y="147794"/>
                  <a:pt x="42694" y="143000"/>
                  <a:pt x="52387" y="135731"/>
                </a:cubicBezTo>
                <a:cubicBezTo>
                  <a:pt x="55562" y="133350"/>
                  <a:pt x="58443" y="130515"/>
                  <a:pt x="61912" y="128588"/>
                </a:cubicBezTo>
                <a:cubicBezTo>
                  <a:pt x="65649" y="126512"/>
                  <a:pt x="69912" y="125561"/>
                  <a:pt x="73818" y="123825"/>
                </a:cubicBezTo>
                <a:cubicBezTo>
                  <a:pt x="77062" y="122383"/>
                  <a:pt x="80111" y="120532"/>
                  <a:pt x="83343" y="119063"/>
                </a:cubicBezTo>
                <a:cubicBezTo>
                  <a:pt x="88846" y="116562"/>
                  <a:pt x="94705" y="114814"/>
                  <a:pt x="100012" y="111919"/>
                </a:cubicBezTo>
                <a:cubicBezTo>
                  <a:pt x="131253" y="94878"/>
                  <a:pt x="74115" y="117243"/>
                  <a:pt x="130968" y="90488"/>
                </a:cubicBezTo>
                <a:cubicBezTo>
                  <a:pt x="136890" y="87701"/>
                  <a:pt x="143668" y="87313"/>
                  <a:pt x="150018" y="85725"/>
                </a:cubicBezTo>
                <a:cubicBezTo>
                  <a:pt x="156368" y="81756"/>
                  <a:pt x="162566" y="77534"/>
                  <a:pt x="169068" y="73819"/>
                </a:cubicBezTo>
                <a:cubicBezTo>
                  <a:pt x="176397" y="69631"/>
                  <a:pt x="198972" y="59365"/>
                  <a:pt x="204787" y="57150"/>
                </a:cubicBezTo>
                <a:cubicBezTo>
                  <a:pt x="214169" y="53576"/>
                  <a:pt x="224382" y="52115"/>
                  <a:pt x="233362" y="47625"/>
                </a:cubicBezTo>
                <a:cubicBezTo>
                  <a:pt x="236537" y="46038"/>
                  <a:pt x="239551" y="44076"/>
                  <a:pt x="242887" y="42863"/>
                </a:cubicBezTo>
                <a:cubicBezTo>
                  <a:pt x="249123" y="40596"/>
                  <a:pt x="261641" y="37579"/>
                  <a:pt x="269081" y="35719"/>
                </a:cubicBezTo>
                <a:cubicBezTo>
                  <a:pt x="272256" y="33338"/>
                  <a:pt x="274993" y="30217"/>
                  <a:pt x="278606" y="28575"/>
                </a:cubicBezTo>
                <a:cubicBezTo>
                  <a:pt x="288320" y="24160"/>
                  <a:pt x="297206" y="23925"/>
                  <a:pt x="307181" y="21431"/>
                </a:cubicBezTo>
                <a:cubicBezTo>
                  <a:pt x="309616" y="20822"/>
                  <a:pt x="311864" y="19542"/>
                  <a:pt x="314325" y="19050"/>
                </a:cubicBezTo>
                <a:cubicBezTo>
                  <a:pt x="319828" y="17949"/>
                  <a:pt x="325457" y="17592"/>
                  <a:pt x="330993" y="16669"/>
                </a:cubicBezTo>
                <a:cubicBezTo>
                  <a:pt x="334986" y="16004"/>
                  <a:pt x="338908" y="14953"/>
                  <a:pt x="342900" y="14288"/>
                </a:cubicBezTo>
                <a:cubicBezTo>
                  <a:pt x="348436" y="13365"/>
                  <a:pt x="354080" y="13082"/>
                  <a:pt x="359568" y="11906"/>
                </a:cubicBezTo>
                <a:cubicBezTo>
                  <a:pt x="365218" y="10695"/>
                  <a:pt x="370662" y="8664"/>
                  <a:pt x="376237" y="7144"/>
                </a:cubicBezTo>
                <a:cubicBezTo>
                  <a:pt x="379394" y="6283"/>
                  <a:pt x="382508" y="5112"/>
                  <a:pt x="385762" y="4763"/>
                </a:cubicBezTo>
                <a:cubicBezTo>
                  <a:pt x="404769" y="2726"/>
                  <a:pt x="442912" y="0"/>
                  <a:pt x="442912" y="0"/>
                </a:cubicBezTo>
                <a:cubicBezTo>
                  <a:pt x="480218" y="794"/>
                  <a:pt x="517549" y="828"/>
                  <a:pt x="554831" y="2381"/>
                </a:cubicBezTo>
                <a:cubicBezTo>
                  <a:pt x="574721" y="3210"/>
                  <a:pt x="594478" y="6182"/>
                  <a:pt x="614362" y="7144"/>
                </a:cubicBezTo>
                <a:cubicBezTo>
                  <a:pt x="643707" y="8564"/>
                  <a:pt x="673099" y="8731"/>
                  <a:pt x="702468" y="9525"/>
                </a:cubicBezTo>
                <a:cubicBezTo>
                  <a:pt x="707231" y="10319"/>
                  <a:pt x="711965" y="11307"/>
                  <a:pt x="716756" y="11906"/>
                </a:cubicBezTo>
                <a:cubicBezTo>
                  <a:pt x="724671" y="12896"/>
                  <a:pt x="732728" y="12818"/>
                  <a:pt x="740568" y="14288"/>
                </a:cubicBezTo>
                <a:cubicBezTo>
                  <a:pt x="745502" y="15213"/>
                  <a:pt x="749947" y="17998"/>
                  <a:pt x="754856" y="19050"/>
                </a:cubicBezTo>
                <a:cubicBezTo>
                  <a:pt x="761113" y="20391"/>
                  <a:pt x="767556" y="20637"/>
                  <a:pt x="773906" y="21431"/>
                </a:cubicBezTo>
                <a:cubicBezTo>
                  <a:pt x="778668" y="24606"/>
                  <a:pt x="783074" y="28396"/>
                  <a:pt x="788193" y="30956"/>
                </a:cubicBezTo>
                <a:cubicBezTo>
                  <a:pt x="800461" y="37090"/>
                  <a:pt x="798597" y="35667"/>
                  <a:pt x="812006" y="45244"/>
                </a:cubicBezTo>
                <a:cubicBezTo>
                  <a:pt x="818465" y="49857"/>
                  <a:pt x="824164" y="55593"/>
                  <a:pt x="831056" y="59531"/>
                </a:cubicBezTo>
                <a:cubicBezTo>
                  <a:pt x="836612" y="62706"/>
                  <a:pt x="842549" y="65292"/>
                  <a:pt x="847725" y="69056"/>
                </a:cubicBezTo>
                <a:cubicBezTo>
                  <a:pt x="868995" y="84525"/>
                  <a:pt x="845757" y="73114"/>
                  <a:pt x="866775" y="85725"/>
                </a:cubicBezTo>
                <a:cubicBezTo>
                  <a:pt x="871341" y="88465"/>
                  <a:pt x="876712" y="89798"/>
                  <a:pt x="881062" y="92869"/>
                </a:cubicBezTo>
                <a:cubicBezTo>
                  <a:pt x="890278" y="99375"/>
                  <a:pt x="898447" y="107253"/>
                  <a:pt x="907256" y="114300"/>
                </a:cubicBezTo>
                <a:cubicBezTo>
                  <a:pt x="910355" y="116779"/>
                  <a:pt x="913231" y="119669"/>
                  <a:pt x="916781" y="121444"/>
                </a:cubicBezTo>
                <a:lnTo>
                  <a:pt x="926306" y="126206"/>
                </a:lnTo>
                <a:lnTo>
                  <a:pt x="945356" y="145256"/>
                </a:lnTo>
                <a:cubicBezTo>
                  <a:pt x="948531" y="148431"/>
                  <a:pt x="951145" y="152290"/>
                  <a:pt x="954881" y="154781"/>
                </a:cubicBezTo>
                <a:lnTo>
                  <a:pt x="962025" y="159544"/>
                </a:lnTo>
                <a:lnTo>
                  <a:pt x="978693" y="180975"/>
                </a:lnTo>
                <a:cubicBezTo>
                  <a:pt x="981833" y="184971"/>
                  <a:pt x="985098" y="188869"/>
                  <a:pt x="988218" y="192881"/>
                </a:cubicBezTo>
                <a:cubicBezTo>
                  <a:pt x="990655" y="196014"/>
                  <a:pt x="993587" y="198856"/>
                  <a:pt x="995362" y="202406"/>
                </a:cubicBezTo>
                <a:cubicBezTo>
                  <a:pt x="1000378" y="212436"/>
                  <a:pt x="1003068" y="218256"/>
                  <a:pt x="1009650" y="228600"/>
                </a:cubicBezTo>
                <a:cubicBezTo>
                  <a:pt x="1011781" y="231948"/>
                  <a:pt x="1014824" y="234679"/>
                  <a:pt x="1016793" y="238125"/>
                </a:cubicBezTo>
                <a:cubicBezTo>
                  <a:pt x="1021196" y="245830"/>
                  <a:pt x="1024134" y="254328"/>
                  <a:pt x="1028700" y="261938"/>
                </a:cubicBezTo>
                <a:cubicBezTo>
                  <a:pt x="1031081" y="265907"/>
                  <a:pt x="1033886" y="269650"/>
                  <a:pt x="1035843" y="273844"/>
                </a:cubicBezTo>
                <a:cubicBezTo>
                  <a:pt x="1039458" y="281591"/>
                  <a:pt x="1042193" y="289719"/>
                  <a:pt x="1045368" y="297656"/>
                </a:cubicBezTo>
                <a:cubicBezTo>
                  <a:pt x="1046162" y="302419"/>
                  <a:pt x="1046296" y="307340"/>
                  <a:pt x="1047750" y="311944"/>
                </a:cubicBezTo>
                <a:cubicBezTo>
                  <a:pt x="1054857" y="334449"/>
                  <a:pt x="1057944" y="339476"/>
                  <a:pt x="1066800" y="357188"/>
                </a:cubicBezTo>
                <a:cubicBezTo>
                  <a:pt x="1075947" y="393782"/>
                  <a:pt x="1066673" y="357936"/>
                  <a:pt x="1078706" y="400050"/>
                </a:cubicBezTo>
                <a:cubicBezTo>
                  <a:pt x="1079605" y="403197"/>
                  <a:pt x="1079758" y="406584"/>
                  <a:pt x="1081087" y="409575"/>
                </a:cubicBezTo>
                <a:cubicBezTo>
                  <a:pt x="1082967" y="413804"/>
                  <a:pt x="1085850" y="417512"/>
                  <a:pt x="1088231" y="421481"/>
                </a:cubicBezTo>
                <a:cubicBezTo>
                  <a:pt x="1093094" y="450663"/>
                  <a:pt x="1086321" y="420202"/>
                  <a:pt x="1100137" y="452438"/>
                </a:cubicBezTo>
                <a:cubicBezTo>
                  <a:pt x="1103794" y="460969"/>
                  <a:pt x="1105321" y="471865"/>
                  <a:pt x="1107281" y="481013"/>
                </a:cubicBezTo>
                <a:cubicBezTo>
                  <a:pt x="1113818" y="511525"/>
                  <a:pt x="1110359" y="492344"/>
                  <a:pt x="1114425" y="516731"/>
                </a:cubicBezTo>
                <a:cubicBezTo>
                  <a:pt x="1112837" y="558006"/>
                  <a:pt x="1111102" y="599276"/>
                  <a:pt x="1109662" y="640556"/>
                </a:cubicBezTo>
                <a:cubicBezTo>
                  <a:pt x="1108721" y="667539"/>
                  <a:pt x="1108664" y="694555"/>
                  <a:pt x="1107281" y="721519"/>
                </a:cubicBezTo>
                <a:cubicBezTo>
                  <a:pt x="1106532" y="736126"/>
                  <a:pt x="1104668" y="730489"/>
                  <a:pt x="1100137" y="742950"/>
                </a:cubicBezTo>
                <a:cubicBezTo>
                  <a:pt x="1098162" y="748381"/>
                  <a:pt x="1096586" y="753969"/>
                  <a:pt x="1095375" y="759619"/>
                </a:cubicBezTo>
                <a:cubicBezTo>
                  <a:pt x="1094199" y="765107"/>
                  <a:pt x="1093916" y="770752"/>
                  <a:pt x="1092993" y="776288"/>
                </a:cubicBezTo>
                <a:cubicBezTo>
                  <a:pt x="1092328" y="780280"/>
                  <a:pt x="1091227" y="784194"/>
                  <a:pt x="1090612" y="788194"/>
                </a:cubicBezTo>
                <a:cubicBezTo>
                  <a:pt x="1089639" y="794519"/>
                  <a:pt x="1089283" y="800932"/>
                  <a:pt x="1088231" y="807244"/>
                </a:cubicBezTo>
                <a:cubicBezTo>
                  <a:pt x="1086858" y="815482"/>
                  <a:pt x="1083471" y="823109"/>
                  <a:pt x="1081087" y="831056"/>
                </a:cubicBezTo>
                <a:cubicBezTo>
                  <a:pt x="1080147" y="834191"/>
                  <a:pt x="1079500" y="837406"/>
                  <a:pt x="1078706" y="840581"/>
                </a:cubicBezTo>
                <a:cubicBezTo>
                  <a:pt x="1074505" y="878399"/>
                  <a:pt x="1077852" y="846063"/>
                  <a:pt x="1073943" y="892969"/>
                </a:cubicBezTo>
                <a:cubicBezTo>
                  <a:pt x="1073215" y="901706"/>
                  <a:pt x="1072092" y="910412"/>
                  <a:pt x="1071562" y="919163"/>
                </a:cubicBezTo>
                <a:cubicBezTo>
                  <a:pt x="1070505" y="936611"/>
                  <a:pt x="1070472" y="954117"/>
                  <a:pt x="1069181" y="971550"/>
                </a:cubicBezTo>
                <a:cubicBezTo>
                  <a:pt x="1068882" y="975586"/>
                  <a:pt x="1066912" y="979410"/>
                  <a:pt x="1066800" y="983456"/>
                </a:cubicBezTo>
                <a:cubicBezTo>
                  <a:pt x="1066117" y="1008053"/>
                  <a:pt x="1066800" y="1032669"/>
                  <a:pt x="1066800" y="105727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303"/>
          <p:cNvSpPr/>
          <p:nvPr/>
        </p:nvSpPr>
        <p:spPr>
          <a:xfrm>
            <a:off x="503280" y="2708280"/>
            <a:ext cx="258840" cy="1035000"/>
          </a:xfrm>
          <a:custGeom>
            <a:avLst/>
            <a:gdLst>
              <a:gd name="textAreaLeft" fmla="*/ 0 w 258840"/>
              <a:gd name="textAreaRight" fmla="*/ 259200 w 25884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258417" h="1035050">
                <a:moveTo>
                  <a:pt x="258417" y="0"/>
                </a:moveTo>
                <a:cubicBezTo>
                  <a:pt x="253125" y="4233"/>
                  <a:pt x="247537" y="8121"/>
                  <a:pt x="242542" y="12700"/>
                </a:cubicBezTo>
                <a:cubicBezTo>
                  <a:pt x="234819" y="19780"/>
                  <a:pt x="220317" y="34925"/>
                  <a:pt x="220317" y="34925"/>
                </a:cubicBezTo>
                <a:cubicBezTo>
                  <a:pt x="214323" y="52908"/>
                  <a:pt x="221386" y="36451"/>
                  <a:pt x="207617" y="53975"/>
                </a:cubicBezTo>
                <a:cubicBezTo>
                  <a:pt x="198724" y="65294"/>
                  <a:pt x="190730" y="77292"/>
                  <a:pt x="182217" y="88900"/>
                </a:cubicBezTo>
                <a:cubicBezTo>
                  <a:pt x="179088" y="93167"/>
                  <a:pt x="175415" y="97062"/>
                  <a:pt x="172692" y="101600"/>
                </a:cubicBezTo>
                <a:cubicBezTo>
                  <a:pt x="169517" y="106892"/>
                  <a:pt x="166754" y="112453"/>
                  <a:pt x="163167" y="117475"/>
                </a:cubicBezTo>
                <a:cubicBezTo>
                  <a:pt x="146696" y="140534"/>
                  <a:pt x="128503" y="158227"/>
                  <a:pt x="115542" y="184150"/>
                </a:cubicBezTo>
                <a:cubicBezTo>
                  <a:pt x="90286" y="234661"/>
                  <a:pt x="103665" y="215664"/>
                  <a:pt x="80617" y="244475"/>
                </a:cubicBezTo>
                <a:cubicBezTo>
                  <a:pt x="78338" y="253590"/>
                  <a:pt x="74957" y="268495"/>
                  <a:pt x="71092" y="276225"/>
                </a:cubicBezTo>
                <a:cubicBezTo>
                  <a:pt x="68975" y="280458"/>
                  <a:pt x="66359" y="284477"/>
                  <a:pt x="64742" y="288925"/>
                </a:cubicBezTo>
                <a:cubicBezTo>
                  <a:pt x="39563" y="358166"/>
                  <a:pt x="73913" y="269439"/>
                  <a:pt x="55217" y="330200"/>
                </a:cubicBezTo>
                <a:cubicBezTo>
                  <a:pt x="52847" y="337904"/>
                  <a:pt x="48403" y="344835"/>
                  <a:pt x="45692" y="352425"/>
                </a:cubicBezTo>
                <a:cubicBezTo>
                  <a:pt x="43101" y="359681"/>
                  <a:pt x="41640" y="367296"/>
                  <a:pt x="39342" y="374650"/>
                </a:cubicBezTo>
                <a:cubicBezTo>
                  <a:pt x="36347" y="384233"/>
                  <a:pt x="31786" y="393380"/>
                  <a:pt x="29817" y="403225"/>
                </a:cubicBezTo>
                <a:cubicBezTo>
                  <a:pt x="28759" y="408517"/>
                  <a:pt x="27529" y="413777"/>
                  <a:pt x="26642" y="419100"/>
                </a:cubicBezTo>
                <a:cubicBezTo>
                  <a:pt x="23592" y="437399"/>
                  <a:pt x="23806" y="442803"/>
                  <a:pt x="20292" y="460375"/>
                </a:cubicBezTo>
                <a:cubicBezTo>
                  <a:pt x="18299" y="470342"/>
                  <a:pt x="16968" y="473522"/>
                  <a:pt x="13942" y="482600"/>
                </a:cubicBezTo>
                <a:cubicBezTo>
                  <a:pt x="15000" y="524404"/>
                  <a:pt x="-5108" y="637117"/>
                  <a:pt x="1242" y="708025"/>
                </a:cubicBezTo>
                <a:cubicBezTo>
                  <a:pt x="6004" y="755650"/>
                  <a:pt x="37755" y="853546"/>
                  <a:pt x="52042" y="908050"/>
                </a:cubicBezTo>
                <a:cubicBezTo>
                  <a:pt x="66329" y="962554"/>
                  <a:pt x="79691" y="1008592"/>
                  <a:pt x="86967" y="103505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305"/>
          <p:cNvSpPr/>
          <p:nvPr/>
        </p:nvSpPr>
        <p:spPr>
          <a:xfrm>
            <a:off x="593640" y="3279600"/>
            <a:ext cx="123840" cy="460440"/>
          </a:xfrm>
          <a:custGeom>
            <a:avLst/>
            <a:gdLst>
              <a:gd name="textAreaLeft" fmla="*/ 0 w 123840"/>
              <a:gd name="textAreaRight" fmla="*/ 124200 w 1238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123825" h="460375">
                <a:moveTo>
                  <a:pt x="3175" y="460375"/>
                </a:moveTo>
                <a:cubicBezTo>
                  <a:pt x="2514" y="422672"/>
                  <a:pt x="0" y="312208"/>
                  <a:pt x="0" y="279400"/>
                </a:cubicBezTo>
                <a:cubicBezTo>
                  <a:pt x="0" y="246592"/>
                  <a:pt x="2117" y="268817"/>
                  <a:pt x="3175" y="263525"/>
                </a:cubicBezTo>
                <a:cubicBezTo>
                  <a:pt x="4233" y="250825"/>
                  <a:pt x="5373" y="238131"/>
                  <a:pt x="6350" y="225425"/>
                </a:cubicBezTo>
                <a:cubicBezTo>
                  <a:pt x="7489" y="210614"/>
                  <a:pt x="7970" y="195748"/>
                  <a:pt x="9525" y="180975"/>
                </a:cubicBezTo>
                <a:cubicBezTo>
                  <a:pt x="10568" y="171068"/>
                  <a:pt x="13807" y="162050"/>
                  <a:pt x="15875" y="152400"/>
                </a:cubicBezTo>
                <a:cubicBezTo>
                  <a:pt x="18136" y="141847"/>
                  <a:pt x="18812" y="130889"/>
                  <a:pt x="22225" y="120650"/>
                </a:cubicBezTo>
                <a:cubicBezTo>
                  <a:pt x="23283" y="117475"/>
                  <a:pt x="23903" y="114118"/>
                  <a:pt x="25400" y="111125"/>
                </a:cubicBezTo>
                <a:cubicBezTo>
                  <a:pt x="27107" y="107712"/>
                  <a:pt x="30043" y="105013"/>
                  <a:pt x="31750" y="101600"/>
                </a:cubicBezTo>
                <a:cubicBezTo>
                  <a:pt x="33247" y="98607"/>
                  <a:pt x="33428" y="95068"/>
                  <a:pt x="34925" y="92075"/>
                </a:cubicBezTo>
                <a:cubicBezTo>
                  <a:pt x="36632" y="88662"/>
                  <a:pt x="39568" y="85963"/>
                  <a:pt x="41275" y="82550"/>
                </a:cubicBezTo>
                <a:cubicBezTo>
                  <a:pt x="42772" y="79557"/>
                  <a:pt x="42825" y="75951"/>
                  <a:pt x="44450" y="73025"/>
                </a:cubicBezTo>
                <a:cubicBezTo>
                  <a:pt x="62132" y="41198"/>
                  <a:pt x="49367" y="63010"/>
                  <a:pt x="66675" y="47625"/>
                </a:cubicBezTo>
                <a:cubicBezTo>
                  <a:pt x="73387" y="41659"/>
                  <a:pt x="78253" y="33556"/>
                  <a:pt x="85725" y="28575"/>
                </a:cubicBezTo>
                <a:cubicBezTo>
                  <a:pt x="88900" y="26458"/>
                  <a:pt x="92319" y="24668"/>
                  <a:pt x="95250" y="22225"/>
                </a:cubicBezTo>
                <a:cubicBezTo>
                  <a:pt x="98699" y="19350"/>
                  <a:pt x="101231" y="15457"/>
                  <a:pt x="104775" y="12700"/>
                </a:cubicBezTo>
                <a:cubicBezTo>
                  <a:pt x="110799" y="8015"/>
                  <a:pt x="123825" y="0"/>
                  <a:pt x="12382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307"/>
          <p:cNvSpPr/>
          <p:nvPr/>
        </p:nvSpPr>
        <p:spPr>
          <a:xfrm>
            <a:off x="723960" y="3067200"/>
            <a:ext cx="228600" cy="403200"/>
          </a:xfrm>
          <a:custGeom>
            <a:avLst/>
            <a:gdLst>
              <a:gd name="textAreaLeft" fmla="*/ 0 w 228600"/>
              <a:gd name="textAreaRight" fmla="*/ 228960 w 22860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228600" h="403225">
                <a:moveTo>
                  <a:pt x="0" y="203200"/>
                </a:moveTo>
                <a:cubicBezTo>
                  <a:pt x="1058" y="242358"/>
                  <a:pt x="1870" y="281524"/>
                  <a:pt x="3175" y="320675"/>
                </a:cubicBezTo>
                <a:cubicBezTo>
                  <a:pt x="5635" y="394461"/>
                  <a:pt x="-1237" y="370940"/>
                  <a:pt x="9525" y="403225"/>
                </a:cubicBezTo>
                <a:cubicBezTo>
                  <a:pt x="22225" y="381000"/>
                  <a:pt x="58208" y="241829"/>
                  <a:pt x="79375" y="187325"/>
                </a:cubicBezTo>
                <a:cubicBezTo>
                  <a:pt x="100542" y="132821"/>
                  <a:pt x="122767" y="98425"/>
                  <a:pt x="136525" y="76200"/>
                </a:cubicBezTo>
                <a:cubicBezTo>
                  <a:pt x="150283" y="53975"/>
                  <a:pt x="153458" y="61383"/>
                  <a:pt x="161925" y="53975"/>
                </a:cubicBezTo>
                <a:cubicBezTo>
                  <a:pt x="170392" y="46567"/>
                  <a:pt x="165100" y="46567"/>
                  <a:pt x="187325" y="31750"/>
                </a:cubicBezTo>
                <a:lnTo>
                  <a:pt x="196850" y="25400"/>
                </a:lnTo>
                <a:cubicBezTo>
                  <a:pt x="198967" y="22225"/>
                  <a:pt x="200025" y="17992"/>
                  <a:pt x="203200" y="15875"/>
                </a:cubicBezTo>
                <a:cubicBezTo>
                  <a:pt x="206831" y="13454"/>
                  <a:pt x="211814" y="14232"/>
                  <a:pt x="215900" y="12700"/>
                </a:cubicBezTo>
                <a:cubicBezTo>
                  <a:pt x="220332" y="11038"/>
                  <a:pt x="226483" y="8467"/>
                  <a:pt x="228600" y="6350"/>
                </a:cubicBezTo>
                <a:lnTo>
                  <a:pt x="22860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1311"/>
          <p:cNvSpPr/>
          <p:nvPr/>
        </p:nvSpPr>
        <p:spPr>
          <a:xfrm rot="19849200">
            <a:off x="893880" y="3087360"/>
            <a:ext cx="126720" cy="200160"/>
          </a:xfrm>
          <a:custGeom>
            <a:avLst/>
            <a:gdLst>
              <a:gd name="textAreaLeft" fmla="*/ 0 w 126720"/>
              <a:gd name="textAreaRight" fmla="*/ 127080 w 1267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59416" h="200428">
                <a:moveTo>
                  <a:pt x="140366" y="0"/>
                </a:moveTo>
                <a:cubicBezTo>
                  <a:pt x="96781" y="26151"/>
                  <a:pt x="146215" y="-5255"/>
                  <a:pt x="114966" y="19050"/>
                </a:cubicBezTo>
                <a:cubicBezTo>
                  <a:pt x="108942" y="23735"/>
                  <a:pt x="102266" y="27517"/>
                  <a:pt x="95916" y="31750"/>
                </a:cubicBezTo>
                <a:lnTo>
                  <a:pt x="86391" y="38100"/>
                </a:lnTo>
                <a:cubicBezTo>
                  <a:pt x="78411" y="62041"/>
                  <a:pt x="90104" y="33459"/>
                  <a:pt x="73691" y="53975"/>
                </a:cubicBezTo>
                <a:cubicBezTo>
                  <a:pt x="56164" y="75883"/>
                  <a:pt x="88288" y="51652"/>
                  <a:pt x="60991" y="69850"/>
                </a:cubicBezTo>
                <a:cubicBezTo>
                  <a:pt x="52211" y="96190"/>
                  <a:pt x="66951" y="54756"/>
                  <a:pt x="45116" y="98425"/>
                </a:cubicBezTo>
                <a:cubicBezTo>
                  <a:pt x="42999" y="102658"/>
                  <a:pt x="40524" y="106731"/>
                  <a:pt x="38766" y="111125"/>
                </a:cubicBezTo>
                <a:cubicBezTo>
                  <a:pt x="36280" y="117340"/>
                  <a:pt x="37149" y="125442"/>
                  <a:pt x="32416" y="130175"/>
                </a:cubicBezTo>
                <a:lnTo>
                  <a:pt x="7016" y="177800"/>
                </a:lnTo>
                <a:cubicBezTo>
                  <a:pt x="5958" y="182033"/>
                  <a:pt x="5040" y="186304"/>
                  <a:pt x="3841" y="190500"/>
                </a:cubicBezTo>
                <a:cubicBezTo>
                  <a:pt x="2922" y="193718"/>
                  <a:pt x="-1701" y="202392"/>
                  <a:pt x="666" y="200025"/>
                </a:cubicBezTo>
                <a:cubicBezTo>
                  <a:pt x="6062" y="194629"/>
                  <a:pt x="-2509" y="192617"/>
                  <a:pt x="13366" y="180975"/>
                </a:cubicBezTo>
                <a:cubicBezTo>
                  <a:pt x="29241" y="169333"/>
                  <a:pt x="78983" y="140229"/>
                  <a:pt x="95916" y="130175"/>
                </a:cubicBezTo>
                <a:cubicBezTo>
                  <a:pt x="112849" y="120121"/>
                  <a:pt x="101821" y="125032"/>
                  <a:pt x="114966" y="120650"/>
                </a:cubicBezTo>
                <a:cubicBezTo>
                  <a:pt x="120258" y="116417"/>
                  <a:pt x="124917" y="111241"/>
                  <a:pt x="130841" y="107950"/>
                </a:cubicBezTo>
                <a:cubicBezTo>
                  <a:pt x="134655" y="105831"/>
                  <a:pt x="139345" y="105974"/>
                  <a:pt x="143541" y="104775"/>
                </a:cubicBezTo>
                <a:cubicBezTo>
                  <a:pt x="156996" y="100931"/>
                  <a:pt x="148504" y="101600"/>
                  <a:pt x="159416" y="10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1312"/>
          <p:cNvSpPr/>
          <p:nvPr/>
        </p:nvSpPr>
        <p:spPr>
          <a:xfrm>
            <a:off x="1012680" y="3054240"/>
            <a:ext cx="568440" cy="435240"/>
          </a:xfrm>
          <a:custGeom>
            <a:avLst/>
            <a:gdLst>
              <a:gd name="textAreaLeft" fmla="*/ 0 w 568440"/>
              <a:gd name="textAreaRight" fmla="*/ 568440 w 56844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568325" h="435805">
                <a:moveTo>
                  <a:pt x="0" y="107950"/>
                </a:moveTo>
                <a:cubicBezTo>
                  <a:pt x="1058" y="113242"/>
                  <a:pt x="1755" y="118619"/>
                  <a:pt x="3175" y="123825"/>
                </a:cubicBezTo>
                <a:cubicBezTo>
                  <a:pt x="4936" y="130283"/>
                  <a:pt x="9525" y="142875"/>
                  <a:pt x="9525" y="142875"/>
                </a:cubicBezTo>
                <a:lnTo>
                  <a:pt x="3175" y="307975"/>
                </a:lnTo>
                <a:lnTo>
                  <a:pt x="3175" y="307975"/>
                </a:lnTo>
                <a:cubicBezTo>
                  <a:pt x="6350" y="304800"/>
                  <a:pt x="9321" y="301407"/>
                  <a:pt x="12700" y="298450"/>
                </a:cubicBezTo>
                <a:cubicBezTo>
                  <a:pt x="17800" y="293988"/>
                  <a:pt x="23783" y="290542"/>
                  <a:pt x="28575" y="285750"/>
                </a:cubicBezTo>
                <a:cubicBezTo>
                  <a:pt x="31273" y="283052"/>
                  <a:pt x="32227" y="278923"/>
                  <a:pt x="34925" y="276225"/>
                </a:cubicBezTo>
                <a:cubicBezTo>
                  <a:pt x="37623" y="273527"/>
                  <a:pt x="41752" y="272573"/>
                  <a:pt x="44450" y="269875"/>
                </a:cubicBezTo>
                <a:cubicBezTo>
                  <a:pt x="49242" y="265083"/>
                  <a:pt x="52648" y="259065"/>
                  <a:pt x="57150" y="254000"/>
                </a:cubicBezTo>
                <a:cubicBezTo>
                  <a:pt x="78954" y="229470"/>
                  <a:pt x="60786" y="250441"/>
                  <a:pt x="79375" y="234950"/>
                </a:cubicBezTo>
                <a:cubicBezTo>
                  <a:pt x="82824" y="232075"/>
                  <a:pt x="85491" y="228347"/>
                  <a:pt x="88900" y="225425"/>
                </a:cubicBezTo>
                <a:cubicBezTo>
                  <a:pt x="92918" y="221981"/>
                  <a:pt x="97113" y="218705"/>
                  <a:pt x="101600" y="215900"/>
                </a:cubicBezTo>
                <a:cubicBezTo>
                  <a:pt x="108241" y="211750"/>
                  <a:pt x="117999" y="209026"/>
                  <a:pt x="123825" y="203200"/>
                </a:cubicBezTo>
                <a:cubicBezTo>
                  <a:pt x="127567" y="199458"/>
                  <a:pt x="129608" y="194242"/>
                  <a:pt x="133350" y="190500"/>
                </a:cubicBezTo>
                <a:cubicBezTo>
                  <a:pt x="137092" y="186758"/>
                  <a:pt x="142032" y="184419"/>
                  <a:pt x="146050" y="180975"/>
                </a:cubicBezTo>
                <a:cubicBezTo>
                  <a:pt x="149459" y="178053"/>
                  <a:pt x="152126" y="174325"/>
                  <a:pt x="155575" y="171450"/>
                </a:cubicBezTo>
                <a:cubicBezTo>
                  <a:pt x="164845" y="163725"/>
                  <a:pt x="175617" y="157758"/>
                  <a:pt x="184150" y="149225"/>
                </a:cubicBezTo>
                <a:cubicBezTo>
                  <a:pt x="187325" y="146050"/>
                  <a:pt x="190832" y="143175"/>
                  <a:pt x="193675" y="139700"/>
                </a:cubicBezTo>
                <a:cubicBezTo>
                  <a:pt x="206479" y="124051"/>
                  <a:pt x="209932" y="118489"/>
                  <a:pt x="219075" y="104775"/>
                </a:cubicBezTo>
                <a:cubicBezTo>
                  <a:pt x="220850" y="97676"/>
                  <a:pt x="225508" y="77663"/>
                  <a:pt x="228600" y="73025"/>
                </a:cubicBezTo>
                <a:lnTo>
                  <a:pt x="241300" y="53975"/>
                </a:lnTo>
                <a:cubicBezTo>
                  <a:pt x="239183" y="78317"/>
                  <a:pt x="237751" y="102728"/>
                  <a:pt x="234950" y="127000"/>
                </a:cubicBezTo>
                <a:cubicBezTo>
                  <a:pt x="234566" y="130325"/>
                  <a:pt x="233272" y="133532"/>
                  <a:pt x="231775" y="136525"/>
                </a:cubicBezTo>
                <a:cubicBezTo>
                  <a:pt x="230068" y="139938"/>
                  <a:pt x="227132" y="142637"/>
                  <a:pt x="225425" y="146050"/>
                </a:cubicBezTo>
                <a:cubicBezTo>
                  <a:pt x="223928" y="149043"/>
                  <a:pt x="223875" y="152649"/>
                  <a:pt x="222250" y="155575"/>
                </a:cubicBezTo>
                <a:cubicBezTo>
                  <a:pt x="218544" y="162246"/>
                  <a:pt x="213783" y="168275"/>
                  <a:pt x="209550" y="174625"/>
                </a:cubicBezTo>
                <a:lnTo>
                  <a:pt x="203200" y="184150"/>
                </a:lnTo>
                <a:lnTo>
                  <a:pt x="196850" y="193675"/>
                </a:lnTo>
                <a:cubicBezTo>
                  <a:pt x="194733" y="196850"/>
                  <a:pt x="188210" y="206253"/>
                  <a:pt x="190500" y="203200"/>
                </a:cubicBezTo>
                <a:cubicBezTo>
                  <a:pt x="193675" y="198967"/>
                  <a:pt x="196070" y="194016"/>
                  <a:pt x="200025" y="190500"/>
                </a:cubicBezTo>
                <a:cubicBezTo>
                  <a:pt x="205729" y="185430"/>
                  <a:pt x="212725" y="182033"/>
                  <a:pt x="219075" y="177800"/>
                </a:cubicBezTo>
                <a:cubicBezTo>
                  <a:pt x="222250" y="175683"/>
                  <a:pt x="225364" y="173472"/>
                  <a:pt x="228600" y="171450"/>
                </a:cubicBezTo>
                <a:cubicBezTo>
                  <a:pt x="233833" y="168179"/>
                  <a:pt x="239340" y="165348"/>
                  <a:pt x="244475" y="161925"/>
                </a:cubicBezTo>
                <a:lnTo>
                  <a:pt x="254000" y="155575"/>
                </a:lnTo>
                <a:cubicBezTo>
                  <a:pt x="256117" y="152400"/>
                  <a:pt x="257652" y="148748"/>
                  <a:pt x="260350" y="146050"/>
                </a:cubicBezTo>
                <a:cubicBezTo>
                  <a:pt x="269449" y="136951"/>
                  <a:pt x="269071" y="141690"/>
                  <a:pt x="279400" y="136525"/>
                </a:cubicBezTo>
                <a:cubicBezTo>
                  <a:pt x="284043" y="134204"/>
                  <a:pt x="298749" y="122807"/>
                  <a:pt x="301625" y="120650"/>
                </a:cubicBezTo>
                <a:cubicBezTo>
                  <a:pt x="302683" y="116417"/>
                  <a:pt x="302233" y="111479"/>
                  <a:pt x="304800" y="107950"/>
                </a:cubicBezTo>
                <a:cubicBezTo>
                  <a:pt x="316529" y="91823"/>
                  <a:pt x="323113" y="88333"/>
                  <a:pt x="336550" y="79375"/>
                </a:cubicBezTo>
                <a:cubicBezTo>
                  <a:pt x="337608" y="76200"/>
                  <a:pt x="337634" y="72463"/>
                  <a:pt x="339725" y="69850"/>
                </a:cubicBezTo>
                <a:cubicBezTo>
                  <a:pt x="342109" y="66870"/>
                  <a:pt x="346319" y="65943"/>
                  <a:pt x="349250" y="63500"/>
                </a:cubicBezTo>
                <a:cubicBezTo>
                  <a:pt x="352699" y="60625"/>
                  <a:pt x="355900" y="57424"/>
                  <a:pt x="358775" y="53975"/>
                </a:cubicBezTo>
                <a:cubicBezTo>
                  <a:pt x="363464" y="48348"/>
                  <a:pt x="368735" y="38144"/>
                  <a:pt x="371475" y="31750"/>
                </a:cubicBezTo>
                <a:cubicBezTo>
                  <a:pt x="372793" y="28674"/>
                  <a:pt x="373332" y="25301"/>
                  <a:pt x="374650" y="22225"/>
                </a:cubicBezTo>
                <a:cubicBezTo>
                  <a:pt x="386420" y="-5238"/>
                  <a:pt x="376729" y="22338"/>
                  <a:pt x="384175" y="0"/>
                </a:cubicBezTo>
                <a:cubicBezTo>
                  <a:pt x="393222" y="27141"/>
                  <a:pt x="388803" y="9450"/>
                  <a:pt x="381000" y="66675"/>
                </a:cubicBezTo>
                <a:cubicBezTo>
                  <a:pt x="380703" y="68854"/>
                  <a:pt x="376375" y="85795"/>
                  <a:pt x="374650" y="88900"/>
                </a:cubicBezTo>
                <a:cubicBezTo>
                  <a:pt x="367351" y="102038"/>
                  <a:pt x="360749" y="108997"/>
                  <a:pt x="352425" y="120650"/>
                </a:cubicBezTo>
                <a:cubicBezTo>
                  <a:pt x="350207" y="123755"/>
                  <a:pt x="347782" y="126762"/>
                  <a:pt x="346075" y="130175"/>
                </a:cubicBezTo>
                <a:cubicBezTo>
                  <a:pt x="341112" y="140101"/>
                  <a:pt x="344808" y="142490"/>
                  <a:pt x="336550" y="152400"/>
                </a:cubicBezTo>
                <a:cubicBezTo>
                  <a:pt x="334107" y="155331"/>
                  <a:pt x="330200" y="156633"/>
                  <a:pt x="327025" y="158750"/>
                </a:cubicBezTo>
                <a:cubicBezTo>
                  <a:pt x="319745" y="180589"/>
                  <a:pt x="330372" y="154734"/>
                  <a:pt x="311150" y="177800"/>
                </a:cubicBezTo>
                <a:cubicBezTo>
                  <a:pt x="309007" y="180371"/>
                  <a:pt x="310030" y="184683"/>
                  <a:pt x="307975" y="187325"/>
                </a:cubicBezTo>
                <a:cubicBezTo>
                  <a:pt x="302462" y="194414"/>
                  <a:pt x="280893" y="210391"/>
                  <a:pt x="288925" y="206375"/>
                </a:cubicBezTo>
                <a:cubicBezTo>
                  <a:pt x="323732" y="188972"/>
                  <a:pt x="281116" y="211953"/>
                  <a:pt x="311150" y="190500"/>
                </a:cubicBezTo>
                <a:cubicBezTo>
                  <a:pt x="315001" y="187749"/>
                  <a:pt x="319741" y="186498"/>
                  <a:pt x="323850" y="184150"/>
                </a:cubicBezTo>
                <a:cubicBezTo>
                  <a:pt x="334566" y="178027"/>
                  <a:pt x="345726" y="172505"/>
                  <a:pt x="355600" y="165100"/>
                </a:cubicBezTo>
                <a:cubicBezTo>
                  <a:pt x="386309" y="142068"/>
                  <a:pt x="353583" y="164521"/>
                  <a:pt x="377825" y="152400"/>
                </a:cubicBezTo>
                <a:cubicBezTo>
                  <a:pt x="387653" y="147486"/>
                  <a:pt x="389983" y="142278"/>
                  <a:pt x="400050" y="136525"/>
                </a:cubicBezTo>
                <a:cubicBezTo>
                  <a:pt x="402956" y="134865"/>
                  <a:pt x="406649" y="134975"/>
                  <a:pt x="409575" y="133350"/>
                </a:cubicBezTo>
                <a:cubicBezTo>
                  <a:pt x="416246" y="129644"/>
                  <a:pt x="422275" y="124883"/>
                  <a:pt x="428625" y="120650"/>
                </a:cubicBezTo>
                <a:cubicBezTo>
                  <a:pt x="436163" y="115624"/>
                  <a:pt x="443958" y="110682"/>
                  <a:pt x="450850" y="104775"/>
                </a:cubicBezTo>
                <a:cubicBezTo>
                  <a:pt x="454259" y="101853"/>
                  <a:pt x="456476" y="97478"/>
                  <a:pt x="460375" y="95250"/>
                </a:cubicBezTo>
                <a:cubicBezTo>
                  <a:pt x="464164" y="93085"/>
                  <a:pt x="468879" y="93274"/>
                  <a:pt x="473075" y="92075"/>
                </a:cubicBezTo>
                <a:cubicBezTo>
                  <a:pt x="476293" y="91156"/>
                  <a:pt x="479425" y="89958"/>
                  <a:pt x="482600" y="88900"/>
                </a:cubicBezTo>
                <a:lnTo>
                  <a:pt x="508000" y="63500"/>
                </a:lnTo>
                <a:lnTo>
                  <a:pt x="517525" y="53975"/>
                </a:lnTo>
                <a:cubicBezTo>
                  <a:pt x="519642" y="47625"/>
                  <a:pt x="526868" y="28938"/>
                  <a:pt x="523875" y="34925"/>
                </a:cubicBezTo>
                <a:cubicBezTo>
                  <a:pt x="521758" y="39158"/>
                  <a:pt x="519187" y="43193"/>
                  <a:pt x="517525" y="47625"/>
                </a:cubicBezTo>
                <a:cubicBezTo>
                  <a:pt x="515993" y="51711"/>
                  <a:pt x="515882" y="56239"/>
                  <a:pt x="514350" y="60325"/>
                </a:cubicBezTo>
                <a:cubicBezTo>
                  <a:pt x="512688" y="64757"/>
                  <a:pt x="509864" y="68675"/>
                  <a:pt x="508000" y="73025"/>
                </a:cubicBezTo>
                <a:cubicBezTo>
                  <a:pt x="506682" y="76101"/>
                  <a:pt x="506485" y="79644"/>
                  <a:pt x="504825" y="82550"/>
                </a:cubicBezTo>
                <a:cubicBezTo>
                  <a:pt x="502200" y="87144"/>
                  <a:pt x="498475" y="91017"/>
                  <a:pt x="495300" y="95250"/>
                </a:cubicBezTo>
                <a:cubicBezTo>
                  <a:pt x="489228" y="113466"/>
                  <a:pt x="496473" y="96463"/>
                  <a:pt x="482600" y="114300"/>
                </a:cubicBezTo>
                <a:cubicBezTo>
                  <a:pt x="477915" y="120324"/>
                  <a:pt x="474133" y="127000"/>
                  <a:pt x="469900" y="133350"/>
                </a:cubicBezTo>
                <a:cubicBezTo>
                  <a:pt x="467783" y="136525"/>
                  <a:pt x="464757" y="139255"/>
                  <a:pt x="463550" y="142875"/>
                </a:cubicBezTo>
                <a:cubicBezTo>
                  <a:pt x="457029" y="162439"/>
                  <a:pt x="464487" y="141560"/>
                  <a:pt x="454025" y="165100"/>
                </a:cubicBezTo>
                <a:cubicBezTo>
                  <a:pt x="451710" y="170308"/>
                  <a:pt x="451027" y="176366"/>
                  <a:pt x="447675" y="180975"/>
                </a:cubicBezTo>
                <a:cubicBezTo>
                  <a:pt x="442393" y="188238"/>
                  <a:pt x="434013" y="192841"/>
                  <a:pt x="428625" y="200025"/>
                </a:cubicBezTo>
                <a:cubicBezTo>
                  <a:pt x="425450" y="204258"/>
                  <a:pt x="422544" y="208707"/>
                  <a:pt x="419100" y="212725"/>
                </a:cubicBezTo>
                <a:cubicBezTo>
                  <a:pt x="411302" y="221822"/>
                  <a:pt x="398098" y="229576"/>
                  <a:pt x="425450" y="215900"/>
                </a:cubicBezTo>
                <a:cubicBezTo>
                  <a:pt x="430970" y="213140"/>
                  <a:pt x="436033" y="209550"/>
                  <a:pt x="441325" y="206375"/>
                </a:cubicBezTo>
                <a:cubicBezTo>
                  <a:pt x="442383" y="203200"/>
                  <a:pt x="442133" y="199217"/>
                  <a:pt x="444500" y="196850"/>
                </a:cubicBezTo>
                <a:cubicBezTo>
                  <a:pt x="446867" y="194483"/>
                  <a:pt x="451119" y="195335"/>
                  <a:pt x="454025" y="193675"/>
                </a:cubicBezTo>
                <a:cubicBezTo>
                  <a:pt x="458619" y="191050"/>
                  <a:pt x="462983" y="187892"/>
                  <a:pt x="466725" y="184150"/>
                </a:cubicBezTo>
                <a:cubicBezTo>
                  <a:pt x="469423" y="181452"/>
                  <a:pt x="470377" y="177323"/>
                  <a:pt x="473075" y="174625"/>
                </a:cubicBezTo>
                <a:cubicBezTo>
                  <a:pt x="477867" y="169833"/>
                  <a:pt x="483850" y="166387"/>
                  <a:pt x="488950" y="161925"/>
                </a:cubicBezTo>
                <a:cubicBezTo>
                  <a:pt x="503586" y="149119"/>
                  <a:pt x="492170" y="154502"/>
                  <a:pt x="508000" y="149225"/>
                </a:cubicBezTo>
                <a:cubicBezTo>
                  <a:pt x="528645" y="118258"/>
                  <a:pt x="496308" y="166382"/>
                  <a:pt x="523875" y="127000"/>
                </a:cubicBezTo>
                <a:cubicBezTo>
                  <a:pt x="528252" y="120748"/>
                  <a:pt x="536575" y="107950"/>
                  <a:pt x="536575" y="107950"/>
                </a:cubicBezTo>
                <a:cubicBezTo>
                  <a:pt x="537633" y="111125"/>
                  <a:pt x="540223" y="114162"/>
                  <a:pt x="539750" y="117475"/>
                </a:cubicBezTo>
                <a:cubicBezTo>
                  <a:pt x="538043" y="129421"/>
                  <a:pt x="533540" y="140797"/>
                  <a:pt x="530225" y="152400"/>
                </a:cubicBezTo>
                <a:cubicBezTo>
                  <a:pt x="529306" y="155618"/>
                  <a:pt x="528547" y="158932"/>
                  <a:pt x="527050" y="161925"/>
                </a:cubicBezTo>
                <a:cubicBezTo>
                  <a:pt x="525343" y="165338"/>
                  <a:pt x="522817" y="168275"/>
                  <a:pt x="520700" y="171450"/>
                </a:cubicBezTo>
                <a:cubicBezTo>
                  <a:pt x="518431" y="180525"/>
                  <a:pt x="516157" y="192054"/>
                  <a:pt x="511175" y="200025"/>
                </a:cubicBezTo>
                <a:cubicBezTo>
                  <a:pt x="508795" y="203833"/>
                  <a:pt x="504260" y="205896"/>
                  <a:pt x="501650" y="209550"/>
                </a:cubicBezTo>
                <a:cubicBezTo>
                  <a:pt x="498899" y="213401"/>
                  <a:pt x="497648" y="218141"/>
                  <a:pt x="495300" y="222250"/>
                </a:cubicBezTo>
                <a:cubicBezTo>
                  <a:pt x="493407" y="225563"/>
                  <a:pt x="490657" y="228362"/>
                  <a:pt x="488950" y="231775"/>
                </a:cubicBezTo>
                <a:cubicBezTo>
                  <a:pt x="475211" y="259254"/>
                  <a:pt x="501841" y="218172"/>
                  <a:pt x="476250" y="254000"/>
                </a:cubicBezTo>
                <a:cubicBezTo>
                  <a:pt x="474032" y="257105"/>
                  <a:pt x="466393" y="265028"/>
                  <a:pt x="469900" y="263525"/>
                </a:cubicBezTo>
                <a:cubicBezTo>
                  <a:pt x="480422" y="259016"/>
                  <a:pt x="488846" y="250665"/>
                  <a:pt x="498475" y="244475"/>
                </a:cubicBezTo>
                <a:cubicBezTo>
                  <a:pt x="511581" y="236050"/>
                  <a:pt x="515678" y="235375"/>
                  <a:pt x="527050" y="225425"/>
                </a:cubicBezTo>
                <a:cubicBezTo>
                  <a:pt x="531556" y="221483"/>
                  <a:pt x="535517" y="216958"/>
                  <a:pt x="539750" y="212725"/>
                </a:cubicBezTo>
                <a:cubicBezTo>
                  <a:pt x="537633" y="221192"/>
                  <a:pt x="536160" y="229846"/>
                  <a:pt x="533400" y="238125"/>
                </a:cubicBezTo>
                <a:cubicBezTo>
                  <a:pt x="532342" y="241300"/>
                  <a:pt x="531722" y="244657"/>
                  <a:pt x="530225" y="247650"/>
                </a:cubicBezTo>
                <a:cubicBezTo>
                  <a:pt x="528518" y="251063"/>
                  <a:pt x="525992" y="254000"/>
                  <a:pt x="523875" y="257175"/>
                </a:cubicBezTo>
                <a:cubicBezTo>
                  <a:pt x="523188" y="259924"/>
                  <a:pt x="519549" y="275857"/>
                  <a:pt x="517525" y="279400"/>
                </a:cubicBezTo>
                <a:cubicBezTo>
                  <a:pt x="514900" y="283994"/>
                  <a:pt x="511175" y="287867"/>
                  <a:pt x="508000" y="292100"/>
                </a:cubicBezTo>
                <a:cubicBezTo>
                  <a:pt x="500840" y="313579"/>
                  <a:pt x="510296" y="287508"/>
                  <a:pt x="495300" y="317500"/>
                </a:cubicBezTo>
                <a:cubicBezTo>
                  <a:pt x="493803" y="320493"/>
                  <a:pt x="494070" y="324302"/>
                  <a:pt x="492125" y="327025"/>
                </a:cubicBezTo>
                <a:cubicBezTo>
                  <a:pt x="488645" y="331897"/>
                  <a:pt x="483165" y="335050"/>
                  <a:pt x="479425" y="339725"/>
                </a:cubicBezTo>
                <a:cubicBezTo>
                  <a:pt x="474657" y="345684"/>
                  <a:pt x="464312" y="366015"/>
                  <a:pt x="466725" y="358775"/>
                </a:cubicBezTo>
                <a:cubicBezTo>
                  <a:pt x="467783" y="355600"/>
                  <a:pt x="468044" y="352035"/>
                  <a:pt x="469900" y="349250"/>
                </a:cubicBezTo>
                <a:cubicBezTo>
                  <a:pt x="478579" y="336231"/>
                  <a:pt x="479828" y="341888"/>
                  <a:pt x="492125" y="333375"/>
                </a:cubicBezTo>
                <a:cubicBezTo>
                  <a:pt x="520370" y="313821"/>
                  <a:pt x="515064" y="319605"/>
                  <a:pt x="527050" y="301625"/>
                </a:cubicBezTo>
                <a:cubicBezTo>
                  <a:pt x="538088" y="318183"/>
                  <a:pt x="534444" y="306953"/>
                  <a:pt x="523875" y="333375"/>
                </a:cubicBezTo>
                <a:cubicBezTo>
                  <a:pt x="522632" y="336482"/>
                  <a:pt x="522197" y="339907"/>
                  <a:pt x="520700" y="342900"/>
                </a:cubicBezTo>
                <a:cubicBezTo>
                  <a:pt x="518993" y="346313"/>
                  <a:pt x="516568" y="349320"/>
                  <a:pt x="514350" y="352425"/>
                </a:cubicBezTo>
                <a:cubicBezTo>
                  <a:pt x="507713" y="361717"/>
                  <a:pt x="496991" y="374443"/>
                  <a:pt x="492125" y="384175"/>
                </a:cubicBezTo>
                <a:cubicBezTo>
                  <a:pt x="490008" y="388408"/>
                  <a:pt x="488526" y="393024"/>
                  <a:pt x="485775" y="396875"/>
                </a:cubicBezTo>
                <a:cubicBezTo>
                  <a:pt x="483165" y="400529"/>
                  <a:pt x="478860" y="402746"/>
                  <a:pt x="476250" y="406400"/>
                </a:cubicBezTo>
                <a:cubicBezTo>
                  <a:pt x="463990" y="423565"/>
                  <a:pt x="477511" y="416563"/>
                  <a:pt x="460375" y="422275"/>
                </a:cubicBezTo>
                <a:cubicBezTo>
                  <a:pt x="458258" y="426508"/>
                  <a:pt x="454025" y="430242"/>
                  <a:pt x="454025" y="434975"/>
                </a:cubicBezTo>
                <a:cubicBezTo>
                  <a:pt x="454025" y="438791"/>
                  <a:pt x="457932" y="428381"/>
                  <a:pt x="460375" y="425450"/>
                </a:cubicBezTo>
                <a:cubicBezTo>
                  <a:pt x="463250" y="422001"/>
                  <a:pt x="466356" y="418682"/>
                  <a:pt x="469900" y="415925"/>
                </a:cubicBezTo>
                <a:cubicBezTo>
                  <a:pt x="475924" y="411240"/>
                  <a:pt x="488950" y="403225"/>
                  <a:pt x="488950" y="403225"/>
                </a:cubicBezTo>
                <a:cubicBezTo>
                  <a:pt x="490008" y="400050"/>
                  <a:pt x="489402" y="395645"/>
                  <a:pt x="492125" y="393700"/>
                </a:cubicBezTo>
                <a:cubicBezTo>
                  <a:pt x="497572" y="389809"/>
                  <a:pt x="498475" y="391054"/>
                  <a:pt x="511175" y="387350"/>
                </a:cubicBezTo>
                <a:cubicBezTo>
                  <a:pt x="523875" y="383646"/>
                  <a:pt x="552278" y="371475"/>
                  <a:pt x="568325" y="37147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1318"/>
          <p:cNvSpPr/>
          <p:nvPr/>
        </p:nvSpPr>
        <p:spPr>
          <a:xfrm>
            <a:off x="1816200" y="3416400"/>
            <a:ext cx="196920" cy="606240"/>
          </a:xfrm>
          <a:custGeom>
            <a:avLst/>
            <a:gdLst>
              <a:gd name="textAreaLeft" fmla="*/ 0 w 196920"/>
              <a:gd name="textAreaRight" fmla="*/ 197280 w 19692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196850" h="606430">
                <a:moveTo>
                  <a:pt x="0" y="0"/>
                </a:moveTo>
                <a:cubicBezTo>
                  <a:pt x="21982" y="109912"/>
                  <a:pt x="-2710" y="-18642"/>
                  <a:pt x="6350" y="298450"/>
                </a:cubicBezTo>
                <a:cubicBezTo>
                  <a:pt x="8243" y="364689"/>
                  <a:pt x="9378" y="329610"/>
                  <a:pt x="19050" y="368300"/>
                </a:cubicBezTo>
                <a:cubicBezTo>
                  <a:pt x="20067" y="372369"/>
                  <a:pt x="23123" y="385970"/>
                  <a:pt x="25400" y="390525"/>
                </a:cubicBezTo>
                <a:cubicBezTo>
                  <a:pt x="27107" y="393938"/>
                  <a:pt x="30043" y="396637"/>
                  <a:pt x="31750" y="400050"/>
                </a:cubicBezTo>
                <a:cubicBezTo>
                  <a:pt x="44888" y="426327"/>
                  <a:pt x="21455" y="389241"/>
                  <a:pt x="41275" y="422275"/>
                </a:cubicBezTo>
                <a:cubicBezTo>
                  <a:pt x="45202" y="428819"/>
                  <a:pt x="50562" y="434499"/>
                  <a:pt x="53975" y="441325"/>
                </a:cubicBezTo>
                <a:cubicBezTo>
                  <a:pt x="56092" y="445558"/>
                  <a:pt x="57574" y="450174"/>
                  <a:pt x="60325" y="454025"/>
                </a:cubicBezTo>
                <a:cubicBezTo>
                  <a:pt x="62935" y="457679"/>
                  <a:pt x="67156" y="459958"/>
                  <a:pt x="69850" y="463550"/>
                </a:cubicBezTo>
                <a:cubicBezTo>
                  <a:pt x="79369" y="476242"/>
                  <a:pt x="78488" y="479460"/>
                  <a:pt x="85725" y="492125"/>
                </a:cubicBezTo>
                <a:cubicBezTo>
                  <a:pt x="87618" y="495438"/>
                  <a:pt x="90368" y="498237"/>
                  <a:pt x="92075" y="501650"/>
                </a:cubicBezTo>
                <a:cubicBezTo>
                  <a:pt x="93572" y="504643"/>
                  <a:pt x="93453" y="508351"/>
                  <a:pt x="95250" y="511175"/>
                </a:cubicBezTo>
                <a:cubicBezTo>
                  <a:pt x="100932" y="520104"/>
                  <a:pt x="108429" y="527769"/>
                  <a:pt x="114300" y="536575"/>
                </a:cubicBezTo>
                <a:cubicBezTo>
                  <a:pt x="116417" y="539750"/>
                  <a:pt x="117778" y="543587"/>
                  <a:pt x="120650" y="546100"/>
                </a:cubicBezTo>
                <a:cubicBezTo>
                  <a:pt x="126393" y="551126"/>
                  <a:pt x="134304" y="553404"/>
                  <a:pt x="139700" y="558800"/>
                </a:cubicBezTo>
                <a:cubicBezTo>
                  <a:pt x="201449" y="620549"/>
                  <a:pt x="134281" y="555872"/>
                  <a:pt x="168275" y="584200"/>
                </a:cubicBezTo>
                <a:cubicBezTo>
                  <a:pt x="171724" y="587075"/>
                  <a:pt x="174421" y="590768"/>
                  <a:pt x="177800" y="593725"/>
                </a:cubicBezTo>
                <a:cubicBezTo>
                  <a:pt x="193070" y="607086"/>
                  <a:pt x="187122" y="606425"/>
                  <a:pt x="196850" y="60642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1319"/>
          <p:cNvSpPr/>
          <p:nvPr/>
        </p:nvSpPr>
        <p:spPr>
          <a:xfrm>
            <a:off x="1601640" y="3581280"/>
            <a:ext cx="384480" cy="441360"/>
          </a:xfrm>
          <a:custGeom>
            <a:avLst/>
            <a:gdLst>
              <a:gd name="textAreaLeft" fmla="*/ 0 w 384480"/>
              <a:gd name="textAreaRight" fmla="*/ 384840 w 38448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61257" h="362857">
                <a:moveTo>
                  <a:pt x="0" y="0"/>
                </a:moveTo>
                <a:cubicBezTo>
                  <a:pt x="38705" y="38705"/>
                  <a:pt x="98805" y="64186"/>
                  <a:pt x="116114" y="116114"/>
                </a:cubicBezTo>
                <a:cubicBezTo>
                  <a:pt x="120952" y="130628"/>
                  <a:pt x="126425" y="144946"/>
                  <a:pt x="130628" y="159657"/>
                </a:cubicBezTo>
                <a:cubicBezTo>
                  <a:pt x="136108" y="178837"/>
                  <a:pt x="137285" y="199379"/>
                  <a:pt x="145143" y="217714"/>
                </a:cubicBezTo>
                <a:cubicBezTo>
                  <a:pt x="164222" y="262231"/>
                  <a:pt x="186941" y="267873"/>
                  <a:pt x="217714" y="304800"/>
                </a:cubicBezTo>
                <a:cubicBezTo>
                  <a:pt x="299774" y="403272"/>
                  <a:pt x="215097" y="316697"/>
                  <a:pt x="261257" y="362857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580"/>
          <p:cNvSpPr/>
          <p:nvPr/>
        </p:nvSpPr>
        <p:spPr>
          <a:xfrm>
            <a:off x="3243240" y="1627200"/>
            <a:ext cx="1440" cy="5832360"/>
          </a:xfrm>
          <a:prstGeom prst="line">
            <a:avLst/>
          </a:prstGeom>
          <a:ln w="254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582"/>
          <p:cNvSpPr/>
          <p:nvPr/>
        </p:nvSpPr>
        <p:spPr>
          <a:xfrm>
            <a:off x="3995640" y="1639800"/>
            <a:ext cx="1800" cy="58309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583"/>
          <p:cNvSpPr/>
          <p:nvPr/>
        </p:nvSpPr>
        <p:spPr>
          <a:xfrm>
            <a:off x="4356000" y="1638360"/>
            <a:ext cx="0" cy="5830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584"/>
          <p:cNvSpPr/>
          <p:nvPr/>
        </p:nvSpPr>
        <p:spPr>
          <a:xfrm>
            <a:off x="3708360" y="1639800"/>
            <a:ext cx="0" cy="5996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586"/>
          <p:cNvSpPr/>
          <p:nvPr/>
        </p:nvSpPr>
        <p:spPr>
          <a:xfrm>
            <a:off x="-466560" y="1628640"/>
            <a:ext cx="1015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587"/>
          <p:cNvSpPr/>
          <p:nvPr/>
        </p:nvSpPr>
        <p:spPr>
          <a:xfrm>
            <a:off x="-314280" y="1052640"/>
            <a:ext cx="101505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588"/>
          <p:cNvSpPr/>
          <p:nvPr/>
        </p:nvSpPr>
        <p:spPr>
          <a:xfrm>
            <a:off x="3492360" y="1628640"/>
            <a:ext cx="0" cy="58327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330"/>
          <p:cNvSpPr/>
          <p:nvPr/>
        </p:nvSpPr>
        <p:spPr>
          <a:xfrm>
            <a:off x="1560600" y="0"/>
            <a:ext cx="0" cy="1623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594"/>
          <p:cNvSpPr/>
          <p:nvPr/>
        </p:nvSpPr>
        <p:spPr>
          <a:xfrm flipH="1">
            <a:off x="1553760" y="1628640"/>
            <a:ext cx="1505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99"/>
          <p:cNvSpPr/>
          <p:nvPr/>
        </p:nvSpPr>
        <p:spPr>
          <a:xfrm>
            <a:off x="5083200" y="2492280"/>
            <a:ext cx="12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00"/>
          <p:cNvSpPr/>
          <p:nvPr/>
        </p:nvSpPr>
        <p:spPr>
          <a:xfrm>
            <a:off x="6808320" y="2492280"/>
            <a:ext cx="1308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o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01"/>
          <p:cNvSpPr/>
          <p:nvPr/>
        </p:nvSpPr>
        <p:spPr>
          <a:xfrm>
            <a:off x="5084640" y="2984400"/>
            <a:ext cx="14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d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02"/>
          <p:cNvSpPr/>
          <p:nvPr/>
        </p:nvSpPr>
        <p:spPr>
          <a:xfrm>
            <a:off x="6680880" y="2997360"/>
            <a:ext cx="98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03"/>
          <p:cNvSpPr/>
          <p:nvPr/>
        </p:nvSpPr>
        <p:spPr>
          <a:xfrm>
            <a:off x="5079240" y="3476520"/>
            <a:ext cx="87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04"/>
          <p:cNvSpPr/>
          <p:nvPr/>
        </p:nvSpPr>
        <p:spPr>
          <a:xfrm>
            <a:off x="6680880" y="3517920"/>
            <a:ext cx="128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riv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05"/>
          <p:cNvSpPr/>
          <p:nvPr/>
        </p:nvSpPr>
        <p:spPr>
          <a:xfrm>
            <a:off x="5083200" y="3967200"/>
            <a:ext cx="113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mai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06"/>
          <p:cNvSpPr/>
          <p:nvPr/>
        </p:nvSpPr>
        <p:spPr>
          <a:xfrm>
            <a:off x="6289560" y="407664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ongory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07"/>
          <p:cNvSpPr/>
          <p:nvPr/>
        </p:nvSpPr>
        <p:spPr>
          <a:xfrm>
            <a:off x="5081040" y="4459320"/>
            <a:ext cx="79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Q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08"/>
          <p:cNvSpPr/>
          <p:nvPr/>
        </p:nvSpPr>
        <p:spPr>
          <a:xfrm>
            <a:off x="6315840" y="443700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2804677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3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8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800"/>
                            </p:stCondLst>
                            <p:childTnLst>
                              <p:par>
                                <p:cTn id="1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9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1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2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3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4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9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100"/>
                            </p:stCondLst>
                            <p:childTnLst>
                              <p:par>
                                <p:cTn id="1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200"/>
                            </p:stCondLst>
                            <p:childTnLst>
                              <p:par>
                                <p:cTn id="17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3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4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86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7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8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9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9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91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2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93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94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6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7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8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99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2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3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4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6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7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8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9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11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12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1700"/>
                            </p:stCondLst>
                            <p:childTnLst>
                              <p:par>
                                <p:cTn id="3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880">
                                      <p:cBhvr>
                                        <p:cTn id="3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2200"/>
                            </p:stCondLst>
                            <p:childTnLst>
                              <p:par>
                                <p:cTn id="30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08092E-006 L 1.00382 0.0007 E">
                                      <p:cBhvr>
                                        <p:cTn id="307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5400000">
                                      <p:cBhvr>
                                        <p:cTn id="3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2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4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6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8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62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2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64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66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2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68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2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2"/>
          <p:cNvSpPr/>
          <p:nvPr/>
        </p:nvSpPr>
        <p:spPr>
          <a:xfrm>
            <a:off x="4778280" y="3936960"/>
            <a:ext cx="414360" cy="428760"/>
          </a:xfrm>
          <a:prstGeom prst="rect">
            <a:avLst/>
          </a:prstGeom>
          <a:noFill/>
          <a:ln w="25560">
            <a:solidFill>
              <a:srgbClr val="ffffff">
                <a:alpha val="4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0" y="5300640"/>
            <a:ext cx="9144000" cy="1557360"/>
          </a:xfrm>
          <a:prstGeom prst="rect">
            <a:avLst/>
          </a:prstGeom>
          <a:solidFill>
            <a:srgbClr val="ffffff">
              <a:alpha val="16000"/>
            </a:srgbClr>
          </a:solidFill>
          <a:ln w="9360">
            <a:solidFill>
              <a:srgbClr val="ffffff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9"/>
          <p:cNvSpPr/>
          <p:nvPr/>
        </p:nvSpPr>
        <p:spPr>
          <a:xfrm>
            <a:off x="6732720" y="5300640"/>
            <a:ext cx="2447640" cy="155088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4282920" y="5300640"/>
            <a:ext cx="2449800" cy="155088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4"/>
          <p:cNvSpPr/>
          <p:nvPr/>
        </p:nvSpPr>
        <p:spPr>
          <a:xfrm>
            <a:off x="1403280" y="-601560"/>
            <a:ext cx="0" cy="745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6"/>
          <p:cNvSpPr/>
          <p:nvPr/>
        </p:nvSpPr>
        <p:spPr>
          <a:xfrm>
            <a:off x="-538200" y="874800"/>
            <a:ext cx="10152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9"/>
          <p:cNvSpPr/>
          <p:nvPr/>
        </p:nvSpPr>
        <p:spPr>
          <a:xfrm>
            <a:off x="-538200" y="1370160"/>
            <a:ext cx="10152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0"/>
          <p:cNvSpPr/>
          <p:nvPr/>
        </p:nvSpPr>
        <p:spPr>
          <a:xfrm>
            <a:off x="1835280" y="-744480"/>
            <a:ext cx="1440" cy="760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7"/>
          <p:cNvSpPr/>
          <p:nvPr/>
        </p:nvSpPr>
        <p:spPr>
          <a:xfrm>
            <a:off x="1835280" y="5300640"/>
            <a:ext cx="2449440" cy="155088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5"/>
          <p:cNvSpPr/>
          <p:nvPr/>
        </p:nvSpPr>
        <p:spPr>
          <a:xfrm>
            <a:off x="2585880" y="5894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个人资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9"/>
          <p:cNvSpPr/>
          <p:nvPr/>
        </p:nvSpPr>
        <p:spPr>
          <a:xfrm>
            <a:off x="4962600" y="5894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基本技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0"/>
          <p:cNvSpPr/>
          <p:nvPr/>
        </p:nvSpPr>
        <p:spPr>
          <a:xfrm>
            <a:off x="7338960" y="5894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求职趋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21"/>
          <p:cNvSpPr/>
          <p:nvPr/>
        </p:nvSpPr>
        <p:spPr>
          <a:xfrm>
            <a:off x="4282920" y="5300640"/>
            <a:ext cx="1800" cy="1557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23"/>
          <p:cNvSpPr/>
          <p:nvPr/>
        </p:nvSpPr>
        <p:spPr>
          <a:xfrm>
            <a:off x="6732720" y="530064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408720" y="1089000"/>
            <a:ext cx="2449440" cy="1550880"/>
            <a:chOff x="6408720" y="1089000"/>
            <a:chExt cx="2449440" cy="1550880"/>
          </a:xfrm>
        </p:grpSpPr>
        <p:sp>
          <p:nvSpPr>
            <p:cNvPr id="141" name="矩形 22"/>
            <p:cNvSpPr/>
            <p:nvPr/>
          </p:nvSpPr>
          <p:spPr>
            <a:xfrm>
              <a:off x="6408720" y="1089000"/>
              <a:ext cx="2449440" cy="1550880"/>
            </a:xfrm>
            <a:prstGeom prst="rect">
              <a:avLst/>
            </a:prstGeom>
            <a:solidFill>
              <a:srgbClr val="00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24"/>
            <p:cNvSpPr/>
            <p:nvPr/>
          </p:nvSpPr>
          <p:spPr>
            <a:xfrm>
              <a:off x="6845040" y="168264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椭圆 1"/>
          <p:cNvSpPr/>
          <p:nvPr/>
        </p:nvSpPr>
        <p:spPr>
          <a:xfrm>
            <a:off x="4282920" y="2133720"/>
            <a:ext cx="1363680" cy="1606320"/>
          </a:xfrm>
          <a:prstGeom prst="ellipse">
            <a:avLst/>
          </a:prstGeom>
          <a:noFill/>
          <a:ln w="25560">
            <a:solidFill>
              <a:srgbClr val="ffffff">
                <a:alpha val="4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5"/>
          <p:cNvSpPr/>
          <p:nvPr/>
        </p:nvSpPr>
        <p:spPr>
          <a:xfrm flipV="1">
            <a:off x="3968640" y="2918880"/>
            <a:ext cx="2438640" cy="1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25"/>
          <p:cNvSpPr/>
          <p:nvPr/>
        </p:nvSpPr>
        <p:spPr>
          <a:xfrm flipV="1">
            <a:off x="3573360" y="4090680"/>
            <a:ext cx="2438640" cy="1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6"/>
          <p:cNvSpPr/>
          <p:nvPr/>
        </p:nvSpPr>
        <p:spPr>
          <a:xfrm>
            <a:off x="7157160" y="2730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宇智波一族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30"/>
          <p:cNvSpPr/>
          <p:nvPr/>
        </p:nvSpPr>
        <p:spPr>
          <a:xfrm>
            <a:off x="6414120" y="38797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不是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1"/>
          <p:cNvSpPr/>
          <p:nvPr/>
        </p:nvSpPr>
        <p:spPr>
          <a:xfrm>
            <a:off x="3764160" y="2720880"/>
            <a:ext cx="284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Calibri"/>
                <a:ea typeface="宋体"/>
              </a:rPr>
              <a:t>技能会些什么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176720" y="1305000"/>
            <a:ext cx="1590120" cy="1557000"/>
            <a:chOff x="4176720" y="1305000"/>
            <a:chExt cx="1590120" cy="1557000"/>
          </a:xfrm>
        </p:grpSpPr>
        <p:sp>
          <p:nvSpPr>
            <p:cNvPr id="150" name="矩形 36"/>
            <p:cNvSpPr/>
            <p:nvPr/>
          </p:nvSpPr>
          <p:spPr>
            <a:xfrm>
              <a:off x="4176720" y="1437480"/>
              <a:ext cx="1367280" cy="1368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176720" y="1305000"/>
              <a:ext cx="1590120" cy="1557000"/>
              <a:chOff x="4176720" y="1305000"/>
              <a:chExt cx="1590120" cy="1557000"/>
            </a:xfrm>
          </p:grpSpPr>
          <p:sp>
            <p:nvSpPr>
              <p:cNvPr id="152" name="矩形 39"/>
              <p:cNvSpPr/>
              <p:nvPr/>
            </p:nvSpPr>
            <p:spPr>
              <a:xfrm>
                <a:off x="4395960" y="1305000"/>
                <a:ext cx="1370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000000"/>
                    </a:solidFill>
                    <a:latin typeface="Calibri"/>
                  </a:rPr>
                  <a:t>PS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矩形 6"/>
              <p:cNvSpPr/>
              <p:nvPr/>
            </p:nvSpPr>
            <p:spPr>
              <a:xfrm>
                <a:off x="4176720" y="1439280"/>
                <a:ext cx="1367280" cy="720000"/>
              </a:xfrm>
              <a:custGeom>
                <a:avLst/>
                <a:gdLst>
                  <a:gd name="textAreaLeft" fmla="*/ 0 w 1367280"/>
                  <a:gd name="textAreaRight" fmla="*/ 1367640 w 1367280"/>
                  <a:gd name="textAreaTop" fmla="*/ 0 h 720000"/>
                  <a:gd name="textAreaBottom" fmla="*/ 720360 h 720000"/>
                </a:gdLst>
                <a:ahLst/>
                <a:rect l="textAreaLeft" t="textAreaTop" r="textAreaRight" b="textAreaBottom"/>
                <a:pathLst>
                  <a:path w="1368152" h="720080">
                    <a:moveTo>
                      <a:pt x="0" y="0"/>
                    </a:moveTo>
                    <a:lnTo>
                      <a:pt x="1368152" y="0"/>
                    </a:lnTo>
                    <a:lnTo>
                      <a:pt x="1368152" y="720080"/>
                    </a:lnTo>
                    <a:cubicBezTo>
                      <a:pt x="508876" y="2530"/>
                      <a:pt x="456051" y="720080"/>
                      <a:pt x="0" y="72008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2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5580000" y="3573360"/>
            <a:ext cx="1368360" cy="1617840"/>
            <a:chOff x="5580000" y="3573360"/>
            <a:chExt cx="1368360" cy="1617840"/>
          </a:xfrm>
        </p:grpSpPr>
        <p:grpSp>
          <p:nvGrpSpPr>
            <p:cNvPr id="155" name=""/>
            <p:cNvGrpSpPr/>
            <p:nvPr/>
          </p:nvGrpSpPr>
          <p:grpSpPr>
            <a:xfrm>
              <a:off x="5580000" y="3573360"/>
              <a:ext cx="1368360" cy="1617840"/>
              <a:chOff x="5580000" y="3573360"/>
              <a:chExt cx="1368360" cy="1617840"/>
            </a:xfrm>
          </p:grpSpPr>
          <p:sp>
            <p:nvSpPr>
              <p:cNvPr id="156" name="矩形 44"/>
              <p:cNvSpPr/>
              <p:nvPr/>
            </p:nvSpPr>
            <p:spPr>
              <a:xfrm>
                <a:off x="5580000" y="3703320"/>
                <a:ext cx="1368360" cy="136872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矩形 45"/>
              <p:cNvSpPr/>
              <p:nvPr/>
            </p:nvSpPr>
            <p:spPr>
              <a:xfrm>
                <a:off x="5656320" y="3573360"/>
                <a:ext cx="1288800" cy="161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0" spc="-1" strike="noStrike">
                    <a:solidFill>
                      <a:srgbClr val="000000"/>
                    </a:solidFill>
                    <a:latin typeface="Calibri"/>
                  </a:rPr>
                  <a:t>AI</a:t>
                </a:r>
                <a:endParaRPr b="0" lang="en-US" sz="10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矩形 6"/>
            <p:cNvSpPr/>
            <p:nvPr/>
          </p:nvSpPr>
          <p:spPr>
            <a:xfrm>
              <a:off x="5580000" y="3703320"/>
              <a:ext cx="1368360" cy="72036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1368152" h="720080">
                  <a:moveTo>
                    <a:pt x="0" y="0"/>
                  </a:moveTo>
                  <a:lnTo>
                    <a:pt x="1368152" y="0"/>
                  </a:lnTo>
                  <a:lnTo>
                    <a:pt x="1368152" y="720080"/>
                  </a:lnTo>
                  <a:cubicBezTo>
                    <a:pt x="508876" y="2530"/>
                    <a:pt x="456051" y="720080"/>
                    <a:pt x="0" y="72008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020000" y="3645000"/>
            <a:ext cx="1417680" cy="1557000"/>
            <a:chOff x="7020000" y="3645000"/>
            <a:chExt cx="1417680" cy="1557000"/>
          </a:xfrm>
        </p:grpSpPr>
        <p:sp>
          <p:nvSpPr>
            <p:cNvPr id="160" name="矩形 47"/>
            <p:cNvSpPr/>
            <p:nvPr/>
          </p:nvSpPr>
          <p:spPr>
            <a:xfrm>
              <a:off x="7020000" y="3777480"/>
              <a:ext cx="1368360" cy="1368360"/>
            </a:xfrm>
            <a:prstGeom prst="rect">
              <a:avLst/>
            </a:prstGeom>
            <a:solidFill>
              <a:srgbClr val="b61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7020000" y="3645000"/>
              <a:ext cx="1417680" cy="1557000"/>
              <a:chOff x="7020000" y="3645000"/>
              <a:chExt cx="1417680" cy="1557000"/>
            </a:xfrm>
          </p:grpSpPr>
          <p:sp>
            <p:nvSpPr>
              <p:cNvPr id="162" name="矩形 49"/>
              <p:cNvSpPr/>
              <p:nvPr/>
            </p:nvSpPr>
            <p:spPr>
              <a:xfrm>
                <a:off x="7199280" y="3645000"/>
                <a:ext cx="12384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000000"/>
                    </a:solidFill>
                    <a:latin typeface="Calibri"/>
                  </a:rPr>
                  <a:t>ID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矩形 6"/>
              <p:cNvSpPr/>
              <p:nvPr/>
            </p:nvSpPr>
            <p:spPr>
              <a:xfrm>
                <a:off x="7020000" y="3779280"/>
                <a:ext cx="1368360" cy="72000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720000"/>
                  <a:gd name="textAreaBottom" fmla="*/ 720360 h 720000"/>
                </a:gdLst>
                <a:ahLst/>
                <a:rect l="textAreaLeft" t="textAreaTop" r="textAreaRight" b="textAreaBottom"/>
                <a:pathLst>
                  <a:path w="1368152" h="720080">
                    <a:moveTo>
                      <a:pt x="0" y="0"/>
                    </a:moveTo>
                    <a:lnTo>
                      <a:pt x="1368152" y="0"/>
                    </a:lnTo>
                    <a:lnTo>
                      <a:pt x="1368152" y="720080"/>
                    </a:lnTo>
                    <a:cubicBezTo>
                      <a:pt x="508876" y="2530"/>
                      <a:pt x="456051" y="720080"/>
                      <a:pt x="0" y="72008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2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6048000" y="1160640"/>
            <a:ext cx="1368720" cy="1617840"/>
            <a:chOff x="6048000" y="1160640"/>
            <a:chExt cx="1368720" cy="1617840"/>
          </a:xfrm>
        </p:grpSpPr>
        <p:grpSp>
          <p:nvGrpSpPr>
            <p:cNvPr id="165" name=""/>
            <p:cNvGrpSpPr/>
            <p:nvPr/>
          </p:nvGrpSpPr>
          <p:grpSpPr>
            <a:xfrm>
              <a:off x="6048000" y="1160640"/>
              <a:ext cx="1368720" cy="1617840"/>
              <a:chOff x="6048000" y="1160640"/>
              <a:chExt cx="1368720" cy="1617840"/>
            </a:xfrm>
          </p:grpSpPr>
          <p:sp>
            <p:nvSpPr>
              <p:cNvPr id="166" name="矩形 54"/>
              <p:cNvSpPr/>
              <p:nvPr/>
            </p:nvSpPr>
            <p:spPr>
              <a:xfrm>
                <a:off x="6048000" y="1290600"/>
                <a:ext cx="1368720" cy="136872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矩形 55"/>
              <p:cNvSpPr/>
              <p:nvPr/>
            </p:nvSpPr>
            <p:spPr>
              <a:xfrm>
                <a:off x="6124680" y="1160640"/>
                <a:ext cx="1288800" cy="161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0" spc="-1" strike="noStrike">
                    <a:solidFill>
                      <a:srgbClr val="000000"/>
                    </a:solidFill>
                    <a:latin typeface="Calibri"/>
                  </a:rPr>
                  <a:t>AI</a:t>
                </a:r>
                <a:endParaRPr b="0" lang="en-US" sz="10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矩形 6"/>
            <p:cNvSpPr/>
            <p:nvPr/>
          </p:nvSpPr>
          <p:spPr>
            <a:xfrm>
              <a:off x="6048000" y="1290600"/>
              <a:ext cx="1368720" cy="720360"/>
            </a:xfrm>
            <a:custGeom>
              <a:avLst/>
              <a:gdLst>
                <a:gd name="textAreaLeft" fmla="*/ 0 w 1368720"/>
                <a:gd name="textAreaRight" fmla="*/ 1369080 w 136872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1368152" h="720080">
                  <a:moveTo>
                    <a:pt x="0" y="0"/>
                  </a:moveTo>
                  <a:lnTo>
                    <a:pt x="1368152" y="0"/>
                  </a:lnTo>
                  <a:lnTo>
                    <a:pt x="1368152" y="720080"/>
                  </a:lnTo>
                  <a:cubicBezTo>
                    <a:pt x="508876" y="2530"/>
                    <a:pt x="456051" y="720080"/>
                    <a:pt x="0" y="72008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488360" y="1089000"/>
            <a:ext cx="1417680" cy="1557000"/>
            <a:chOff x="7488360" y="1089000"/>
            <a:chExt cx="1417680" cy="1557000"/>
          </a:xfrm>
        </p:grpSpPr>
        <p:sp>
          <p:nvSpPr>
            <p:cNvPr id="170" name="矩形 57"/>
            <p:cNvSpPr/>
            <p:nvPr/>
          </p:nvSpPr>
          <p:spPr>
            <a:xfrm>
              <a:off x="7488360" y="1221480"/>
              <a:ext cx="1368360" cy="1368720"/>
            </a:xfrm>
            <a:prstGeom prst="rect">
              <a:avLst/>
            </a:prstGeom>
            <a:solidFill>
              <a:srgbClr val="b61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7488360" y="1089000"/>
              <a:ext cx="1417680" cy="1557000"/>
              <a:chOff x="7488360" y="1089000"/>
              <a:chExt cx="1417680" cy="1557000"/>
            </a:xfrm>
          </p:grpSpPr>
          <p:sp>
            <p:nvSpPr>
              <p:cNvPr id="172" name="矩形 59"/>
              <p:cNvSpPr/>
              <p:nvPr/>
            </p:nvSpPr>
            <p:spPr>
              <a:xfrm>
                <a:off x="7667640" y="1089000"/>
                <a:ext cx="12384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000000"/>
                    </a:solidFill>
                    <a:latin typeface="Calibri"/>
                  </a:rPr>
                  <a:t>ID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矩形 6"/>
              <p:cNvSpPr/>
              <p:nvPr/>
            </p:nvSpPr>
            <p:spPr>
              <a:xfrm>
                <a:off x="7488360" y="1223280"/>
                <a:ext cx="1368360" cy="72036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720360"/>
                  <a:gd name="textAreaBottom" fmla="*/ 720720 h 720360"/>
                </a:gdLst>
                <a:ahLst/>
                <a:rect l="textAreaLeft" t="textAreaTop" r="textAreaRight" b="textAreaBottom"/>
                <a:pathLst>
                  <a:path w="1368152" h="720080">
                    <a:moveTo>
                      <a:pt x="0" y="0"/>
                    </a:moveTo>
                    <a:lnTo>
                      <a:pt x="1368152" y="0"/>
                    </a:lnTo>
                    <a:lnTo>
                      <a:pt x="1368152" y="720080"/>
                    </a:lnTo>
                    <a:cubicBezTo>
                      <a:pt x="508876" y="2530"/>
                      <a:pt x="456051" y="720080"/>
                      <a:pt x="0" y="72008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2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3743280" y="3645000"/>
            <a:ext cx="1590120" cy="1557000"/>
            <a:chOff x="3743280" y="3645000"/>
            <a:chExt cx="1590120" cy="1557000"/>
          </a:xfrm>
        </p:grpSpPr>
        <p:sp>
          <p:nvSpPr>
            <p:cNvPr id="175" name="矩形 62"/>
            <p:cNvSpPr/>
            <p:nvPr/>
          </p:nvSpPr>
          <p:spPr>
            <a:xfrm>
              <a:off x="3743280" y="3777480"/>
              <a:ext cx="1367280" cy="1368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743280" y="3645000"/>
              <a:ext cx="1590120" cy="1557000"/>
              <a:chOff x="3743280" y="3645000"/>
              <a:chExt cx="1590120" cy="1557000"/>
            </a:xfrm>
          </p:grpSpPr>
          <p:sp>
            <p:nvSpPr>
              <p:cNvPr id="177" name="矩形 64"/>
              <p:cNvSpPr/>
              <p:nvPr/>
            </p:nvSpPr>
            <p:spPr>
              <a:xfrm>
                <a:off x="3962520" y="3645000"/>
                <a:ext cx="1370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000000"/>
                    </a:solidFill>
                    <a:latin typeface="Calibri"/>
                  </a:rPr>
                  <a:t>PS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矩形 6"/>
              <p:cNvSpPr/>
              <p:nvPr/>
            </p:nvSpPr>
            <p:spPr>
              <a:xfrm>
                <a:off x="3743280" y="3777840"/>
                <a:ext cx="1367280" cy="720000"/>
              </a:xfrm>
              <a:custGeom>
                <a:avLst/>
                <a:gdLst>
                  <a:gd name="textAreaLeft" fmla="*/ 0 w 1367280"/>
                  <a:gd name="textAreaRight" fmla="*/ 1367640 w 1367280"/>
                  <a:gd name="textAreaTop" fmla="*/ 0 h 720000"/>
                  <a:gd name="textAreaBottom" fmla="*/ 720360 h 720000"/>
                </a:gdLst>
                <a:ahLst/>
                <a:rect l="textAreaLeft" t="textAreaTop" r="textAreaRight" b="textAreaBottom"/>
                <a:pathLst>
                  <a:path w="1368152" h="720080">
                    <a:moveTo>
                      <a:pt x="0" y="0"/>
                    </a:moveTo>
                    <a:lnTo>
                      <a:pt x="1368152" y="0"/>
                    </a:lnTo>
                    <a:lnTo>
                      <a:pt x="1368152" y="720080"/>
                    </a:lnTo>
                    <a:cubicBezTo>
                      <a:pt x="508876" y="2530"/>
                      <a:pt x="456051" y="720080"/>
                      <a:pt x="0" y="72008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2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4032360" y="0"/>
            <a:ext cx="2056680" cy="2227320"/>
            <a:chOff x="4032360" y="0"/>
            <a:chExt cx="2056680" cy="2227320"/>
          </a:xfrm>
        </p:grpSpPr>
        <p:sp>
          <p:nvSpPr>
            <p:cNvPr id="180" name="矩形 67"/>
            <p:cNvSpPr/>
            <p:nvPr/>
          </p:nvSpPr>
          <p:spPr>
            <a:xfrm>
              <a:off x="4032360" y="152280"/>
              <a:ext cx="1965960" cy="1966320"/>
            </a:xfrm>
            <a:prstGeom prst="rect">
              <a:avLst/>
            </a:prstGeom>
            <a:solidFill>
              <a:srgbClr val="b61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032360" y="0"/>
              <a:ext cx="2056680" cy="2227320"/>
              <a:chOff x="4032360" y="0"/>
              <a:chExt cx="2056680" cy="2227320"/>
            </a:xfrm>
          </p:grpSpPr>
          <p:sp>
            <p:nvSpPr>
              <p:cNvPr id="182" name="矩形 69"/>
              <p:cNvSpPr/>
              <p:nvPr/>
            </p:nvSpPr>
            <p:spPr>
              <a:xfrm>
                <a:off x="4366080" y="0"/>
                <a:ext cx="1722960" cy="22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0" spc="-1" strike="noStrike">
                    <a:solidFill>
                      <a:srgbClr val="000000"/>
                    </a:solidFill>
                    <a:latin typeface="Calibri"/>
                  </a:rPr>
                  <a:t>ID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矩形 6"/>
              <p:cNvSpPr/>
              <p:nvPr/>
            </p:nvSpPr>
            <p:spPr>
              <a:xfrm>
                <a:off x="4032360" y="150480"/>
                <a:ext cx="1965960" cy="1034640"/>
              </a:xfrm>
              <a:custGeom>
                <a:avLst/>
                <a:gdLst>
                  <a:gd name="textAreaLeft" fmla="*/ 0 w 1965960"/>
                  <a:gd name="textAreaRight" fmla="*/ 1966320 w 1965960"/>
                  <a:gd name="textAreaTop" fmla="*/ 0 h 1034640"/>
                  <a:gd name="textAreaBottom" fmla="*/ 1035000 h 1034640"/>
                </a:gdLst>
                <a:ahLst/>
                <a:rect l="textAreaLeft" t="textAreaTop" r="textAreaRight" b="textAreaBottom"/>
                <a:pathLst>
                  <a:path w="1368152" h="720080">
                    <a:moveTo>
                      <a:pt x="0" y="0"/>
                    </a:moveTo>
                    <a:lnTo>
                      <a:pt x="1368152" y="0"/>
                    </a:lnTo>
                    <a:lnTo>
                      <a:pt x="1368152" y="720080"/>
                    </a:lnTo>
                    <a:cubicBezTo>
                      <a:pt x="508876" y="2530"/>
                      <a:pt x="456051" y="720080"/>
                      <a:pt x="0" y="72008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2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-552960" y="0"/>
            <a:ext cx="2322360" cy="2379960"/>
            <a:chOff x="-552960" y="0"/>
            <a:chExt cx="2322360" cy="2379960"/>
          </a:xfrm>
        </p:grpSpPr>
        <p:sp>
          <p:nvSpPr>
            <p:cNvPr id="185" name="矩形 72"/>
            <p:cNvSpPr/>
            <p:nvPr/>
          </p:nvSpPr>
          <p:spPr>
            <a:xfrm>
              <a:off x="-552960" y="253080"/>
              <a:ext cx="1966320" cy="196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-552960" y="0"/>
              <a:ext cx="2322360" cy="2379960"/>
              <a:chOff x="-552960" y="0"/>
              <a:chExt cx="2322360" cy="2379960"/>
            </a:xfrm>
          </p:grpSpPr>
          <p:sp>
            <p:nvSpPr>
              <p:cNvPr id="187" name="矩形 74"/>
              <p:cNvSpPr/>
              <p:nvPr/>
            </p:nvSpPr>
            <p:spPr>
              <a:xfrm>
                <a:off x="-270720" y="0"/>
                <a:ext cx="2040120" cy="23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0" spc="-1" strike="noStrike">
                    <a:solidFill>
                      <a:srgbClr val="000000"/>
                    </a:solidFill>
                    <a:latin typeface="Calibri"/>
                  </a:rPr>
                  <a:t>PS</a:t>
                </a:r>
                <a:endParaRPr b="0" lang="en-US" sz="1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矩形 6"/>
              <p:cNvSpPr/>
              <p:nvPr/>
            </p:nvSpPr>
            <p:spPr>
              <a:xfrm>
                <a:off x="-552960" y="255600"/>
                <a:ext cx="1966320" cy="1034640"/>
              </a:xfrm>
              <a:custGeom>
                <a:avLst/>
                <a:gdLst>
                  <a:gd name="textAreaLeft" fmla="*/ 0 w 1966320"/>
                  <a:gd name="textAreaRight" fmla="*/ 1966320 w 1966320"/>
                  <a:gd name="textAreaTop" fmla="*/ 0 h 1034640"/>
                  <a:gd name="textAreaBottom" fmla="*/ 1035000 h 1034640"/>
                </a:gdLst>
                <a:ahLst/>
                <a:rect l="textAreaLeft" t="textAreaTop" r="textAreaRight" b="textAreaBottom"/>
                <a:pathLst>
                  <a:path w="1368152" h="720080">
                    <a:moveTo>
                      <a:pt x="0" y="0"/>
                    </a:moveTo>
                    <a:lnTo>
                      <a:pt x="1368152" y="0"/>
                    </a:lnTo>
                    <a:lnTo>
                      <a:pt x="1368152" y="720080"/>
                    </a:lnTo>
                    <a:cubicBezTo>
                      <a:pt x="508876" y="2530"/>
                      <a:pt x="456051" y="720080"/>
                      <a:pt x="0" y="72008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2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766520" y="-208080"/>
            <a:ext cx="2175480" cy="2837160"/>
            <a:chOff x="1766520" y="-208080"/>
            <a:chExt cx="2175480" cy="2837160"/>
          </a:xfrm>
        </p:grpSpPr>
        <p:grpSp>
          <p:nvGrpSpPr>
            <p:cNvPr id="190" name=""/>
            <p:cNvGrpSpPr/>
            <p:nvPr/>
          </p:nvGrpSpPr>
          <p:grpSpPr>
            <a:xfrm>
              <a:off x="1766520" y="-208080"/>
              <a:ext cx="2175480" cy="2837160"/>
              <a:chOff x="1766520" y="-208080"/>
              <a:chExt cx="2175480" cy="2837160"/>
            </a:xfrm>
          </p:grpSpPr>
          <p:sp>
            <p:nvSpPr>
              <p:cNvPr id="191" name="矩形 79"/>
              <p:cNvSpPr/>
              <p:nvPr/>
            </p:nvSpPr>
            <p:spPr>
              <a:xfrm>
                <a:off x="1819080" y="277200"/>
                <a:ext cx="1965960" cy="19659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矩形 80"/>
              <p:cNvSpPr/>
              <p:nvPr/>
            </p:nvSpPr>
            <p:spPr>
              <a:xfrm>
                <a:off x="1766520" y="-208080"/>
                <a:ext cx="2175480" cy="28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0" spc="-1" strike="noStrike">
                    <a:solidFill>
                      <a:srgbClr val="000000"/>
                    </a:solidFill>
                    <a:latin typeface="Calibri"/>
                  </a:rPr>
                  <a:t>AI</a:t>
                </a:r>
                <a:endParaRPr b="0" lang="en-US" sz="1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矩形 6"/>
            <p:cNvSpPr/>
            <p:nvPr/>
          </p:nvSpPr>
          <p:spPr>
            <a:xfrm>
              <a:off x="1819080" y="277200"/>
              <a:ext cx="1965960" cy="1034640"/>
            </a:xfrm>
            <a:custGeom>
              <a:avLst/>
              <a:gdLst>
                <a:gd name="textAreaLeft" fmla="*/ 0 w 1965960"/>
                <a:gd name="textAreaRight" fmla="*/ 1966320 w 1965960"/>
                <a:gd name="textAreaTop" fmla="*/ 0 h 1034640"/>
                <a:gd name="textAreaBottom" fmla="*/ 1035000 h 1034640"/>
              </a:gdLst>
              <a:ahLst/>
              <a:rect l="textAreaLeft" t="textAreaTop" r="textAreaRight" b="textAreaBottom"/>
              <a:pathLst>
                <a:path w="1368152" h="720080">
                  <a:moveTo>
                    <a:pt x="0" y="0"/>
                  </a:moveTo>
                  <a:lnTo>
                    <a:pt x="1368152" y="0"/>
                  </a:lnTo>
                  <a:lnTo>
                    <a:pt x="1368152" y="720080"/>
                  </a:lnTo>
                  <a:cubicBezTo>
                    <a:pt x="508876" y="2530"/>
                    <a:pt x="456051" y="720080"/>
                    <a:pt x="0" y="72008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"/>
                            </p:stCondLst>
                            <p:childTnLst>
                              <p:par>
                                <p:cTn id="36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100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300"/>
                            </p:stCondLst>
                            <p:childTnLst>
                              <p:par>
                                <p:cTn id="37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800"/>
                            </p:stCondLst>
                            <p:childTnLst>
                              <p:par>
                                <p:cTn id="37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7.40741E-007 L -0.18473 -0.00139 E">
                                      <p:cBhvr>
                                        <p:cTn id="379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07407E-006 L -0.17899 -0.00023 E">
                                      <p:cBhvr>
                                        <p:cTn id="381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8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3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8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8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800"/>
                            </p:stCondLst>
                            <p:childTnLst>
                              <p:par>
                                <p:cTn id="3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73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7600"/>
                            </p:stCondLst>
                            <p:childTnLst>
                              <p:par>
                                <p:cTn id="42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91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1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11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2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2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2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2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2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4700"/>
                            </p:stCondLst>
                            <p:childTnLst>
                              <p:par>
                                <p:cTn id="45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14"/>
          <p:cNvSpPr/>
          <p:nvPr/>
        </p:nvSpPr>
        <p:spPr>
          <a:xfrm>
            <a:off x="0" y="5300640"/>
            <a:ext cx="9144000" cy="1557360"/>
          </a:xfrm>
          <a:prstGeom prst="rect">
            <a:avLst/>
          </a:prstGeom>
          <a:solidFill>
            <a:srgbClr val="ffffff">
              <a:alpha val="16000"/>
            </a:srgbClr>
          </a:solidFill>
          <a:ln w="9360">
            <a:solidFill>
              <a:srgbClr val="ffffff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9"/>
          <p:cNvSpPr/>
          <p:nvPr/>
        </p:nvSpPr>
        <p:spPr>
          <a:xfrm>
            <a:off x="6732720" y="5300640"/>
            <a:ext cx="2447640" cy="155088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8"/>
          <p:cNvSpPr/>
          <p:nvPr/>
        </p:nvSpPr>
        <p:spPr>
          <a:xfrm>
            <a:off x="4282920" y="5300640"/>
            <a:ext cx="2449800" cy="155088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4"/>
          <p:cNvSpPr/>
          <p:nvPr/>
        </p:nvSpPr>
        <p:spPr>
          <a:xfrm>
            <a:off x="1403280" y="-601560"/>
            <a:ext cx="0" cy="745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6"/>
          <p:cNvSpPr/>
          <p:nvPr/>
        </p:nvSpPr>
        <p:spPr>
          <a:xfrm>
            <a:off x="-538200" y="874800"/>
            <a:ext cx="10152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9"/>
          <p:cNvSpPr/>
          <p:nvPr/>
        </p:nvSpPr>
        <p:spPr>
          <a:xfrm>
            <a:off x="-538200" y="1370160"/>
            <a:ext cx="10152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0"/>
          <p:cNvSpPr/>
          <p:nvPr/>
        </p:nvSpPr>
        <p:spPr>
          <a:xfrm>
            <a:off x="1835280" y="-744480"/>
            <a:ext cx="1440" cy="760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7"/>
          <p:cNvSpPr/>
          <p:nvPr/>
        </p:nvSpPr>
        <p:spPr>
          <a:xfrm>
            <a:off x="1835280" y="5300640"/>
            <a:ext cx="2449440" cy="155088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5"/>
          <p:cNvSpPr/>
          <p:nvPr/>
        </p:nvSpPr>
        <p:spPr>
          <a:xfrm>
            <a:off x="2585880" y="5894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个人资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4962600" y="5894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基本技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21"/>
          <p:cNvSpPr/>
          <p:nvPr/>
        </p:nvSpPr>
        <p:spPr>
          <a:xfrm>
            <a:off x="4282920" y="5300640"/>
            <a:ext cx="1800" cy="1557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23"/>
          <p:cNvSpPr/>
          <p:nvPr/>
        </p:nvSpPr>
        <p:spPr>
          <a:xfrm>
            <a:off x="6732720" y="530064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732720" y="5326200"/>
            <a:ext cx="2447640" cy="1550880"/>
            <a:chOff x="6732720" y="5326200"/>
            <a:chExt cx="2447640" cy="1550880"/>
          </a:xfrm>
        </p:grpSpPr>
        <p:sp>
          <p:nvSpPr>
            <p:cNvPr id="207" name="矩形 33"/>
            <p:cNvSpPr/>
            <p:nvPr/>
          </p:nvSpPr>
          <p:spPr>
            <a:xfrm>
              <a:off x="6732720" y="5326200"/>
              <a:ext cx="2447640" cy="1550880"/>
            </a:xfrm>
            <a:prstGeom prst="rect">
              <a:avLst/>
            </a:prstGeom>
            <a:solidFill>
              <a:srgbClr val="00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34"/>
            <p:cNvSpPr/>
            <p:nvPr/>
          </p:nvSpPr>
          <p:spPr>
            <a:xfrm>
              <a:off x="7482960" y="5895000"/>
              <a:ext cx="109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求职趋向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矩形 18"/>
          <p:cNvSpPr/>
          <p:nvPr/>
        </p:nvSpPr>
        <p:spPr>
          <a:xfrm>
            <a:off x="7477920" y="58863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求职趋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835280" y="1370160"/>
            <a:ext cx="1944720" cy="1272960"/>
            <a:chOff x="1835280" y="1370160"/>
            <a:chExt cx="1944720" cy="1272960"/>
          </a:xfrm>
        </p:grpSpPr>
        <p:sp>
          <p:nvSpPr>
            <p:cNvPr id="211" name="直接连接符 2"/>
            <p:cNvSpPr/>
            <p:nvPr/>
          </p:nvSpPr>
          <p:spPr>
            <a:xfrm>
              <a:off x="1835280" y="1370160"/>
              <a:ext cx="792360" cy="126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直接连接符 5"/>
            <p:cNvSpPr/>
            <p:nvPr/>
          </p:nvSpPr>
          <p:spPr>
            <a:xfrm>
              <a:off x="2622600" y="2643120"/>
              <a:ext cx="1157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矩形 26"/>
          <p:cNvSpPr/>
          <p:nvPr/>
        </p:nvSpPr>
        <p:spPr>
          <a:xfrm>
            <a:off x="4039560" y="2332080"/>
            <a:ext cx="178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制作交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835280" y="1400040"/>
            <a:ext cx="1944720" cy="2102040"/>
            <a:chOff x="1835280" y="1400040"/>
            <a:chExt cx="1944720" cy="2102040"/>
          </a:xfrm>
        </p:grpSpPr>
        <p:sp>
          <p:nvSpPr>
            <p:cNvPr id="215" name="直接连接符 31"/>
            <p:cNvSpPr/>
            <p:nvPr/>
          </p:nvSpPr>
          <p:spPr>
            <a:xfrm>
              <a:off x="1835280" y="1400040"/>
              <a:ext cx="792360" cy="209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接连接符 32"/>
            <p:cNvSpPr/>
            <p:nvPr/>
          </p:nvSpPr>
          <p:spPr>
            <a:xfrm>
              <a:off x="2622600" y="3502080"/>
              <a:ext cx="1157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矩形 36"/>
          <p:cNvSpPr/>
          <p:nvPr/>
        </p:nvSpPr>
        <p:spPr>
          <a:xfrm>
            <a:off x="4470120" y="3224160"/>
            <a:ext cx="303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工作时间：半夜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点以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35280" y="1413000"/>
            <a:ext cx="1944720" cy="3024000"/>
            <a:chOff x="1835280" y="1413000"/>
            <a:chExt cx="1944720" cy="3024000"/>
          </a:xfrm>
        </p:grpSpPr>
        <p:sp>
          <p:nvSpPr>
            <p:cNvPr id="219" name="直接连接符 39"/>
            <p:cNvSpPr/>
            <p:nvPr/>
          </p:nvSpPr>
          <p:spPr>
            <a:xfrm>
              <a:off x="1835280" y="1413000"/>
              <a:ext cx="792360" cy="300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40"/>
            <p:cNvSpPr/>
            <p:nvPr/>
          </p:nvSpPr>
          <p:spPr>
            <a:xfrm>
              <a:off x="2622600" y="4437000"/>
              <a:ext cx="1157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矩形 41"/>
          <p:cNvSpPr/>
          <p:nvPr/>
        </p:nvSpPr>
        <p:spPr>
          <a:xfrm>
            <a:off x="4325400" y="412416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工作地点：网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0287 L 1.11111E-006 -1.11111E-006 E">
                                      <p:cBhvr>
                                        <p:cTn id="468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1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7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8" dur="150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5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7000"/>
                            </p:stCondLst>
                            <p:childTnLst>
                              <p:par>
                                <p:cTn id="4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99DE-7A42-44CC-95BC-10732F398D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椭圆 1"/>
          <p:cNvSpPr/>
          <p:nvPr/>
        </p:nvSpPr>
        <p:spPr>
          <a:xfrm>
            <a:off x="2340000" y="1521000"/>
            <a:ext cx="3816360" cy="3816000"/>
          </a:xfrm>
          <a:prstGeom prst="ellipse">
            <a:avLst/>
          </a:prstGeom>
          <a:noFill/>
          <a:ln w="9360">
            <a:solidFill>
              <a:srgbClr val="ffff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2664000" y="1052640"/>
            <a:ext cx="1728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隶书"/>
                <a:ea typeface="隶书"/>
              </a:rPr>
              <a:t>完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04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53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