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248-2106-4B96-BD96-85FA56C9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7AB-01A4-480A-880A-E3C143C3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81A-5BAF-4B50-9DBF-6C34D42A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9B5-C5E0-4E3D-84A4-6E17F120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F8CC-B168-467D-8FF3-07AE00C8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349F-C793-41B6-AC34-79DADAA7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DE3F-B958-4E5E-95A3-53B9D167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3090-62A3-471D-B1CA-3D3C6009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28D4-E9A3-40C7-8D87-7F756DEF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CD9C-2103-4936-8E99-5DE951AE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0164-8D46-4AF7-B636-FAE9503F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B9A-C6CD-414F-BFB9-91CA6519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7D18-DBDE-489D-A0DF-2FA18EF6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D0E1-FC8D-4F4E-962B-48ADF79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C49D-2B28-438C-862E-776BB7C7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693D-115F-4FF0-ABF6-15D37363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6E47-01A6-402C-B9F1-2C8BE887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8D3-D49C-4786-A1F0-D1C04F14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B51-45D6-47C5-B4F1-559CC4DB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0FF-3C7B-4C1B-A5C8-34CA07A1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A2F-F1FB-41D8-81F3-8344D313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5B3-DFAC-4BD7-99E6-81820CF3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48C-BDB7-455A-9CD4-8054EC67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82A-7127-42CE-8E01-C1E0DBF5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533520" y="1009800"/>
            <a:ext cx="7238880" cy="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228600"/>
            <a:ext cx="838080" cy="819000"/>
          </a:xfrm>
          <a:prstGeom prst="rect">
            <a:avLst/>
          </a:prstGeom>
          <a:solidFill>
            <a:srgbClr val="194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734240" y="380880"/>
            <a:ext cx="990720" cy="91440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40480"/>
            <a:ext cx="2362320" cy="304920"/>
          </a:xfrm>
          <a:prstGeom prst="rect">
            <a:avLst/>
          </a:prstGeom>
          <a:solidFill>
            <a:srgbClr val="194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09080" y="657360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Arial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763F-36B5-493B-A83F-25E2321C01D9}" type="datetime">
              <a:rPr b="1" lang="ko-KR" sz="1200" spc="-1" strike="noStrike">
                <a:solidFill>
                  <a:srgbClr val="ffffff"/>
                </a:solidFill>
                <a:latin typeface="Arial"/>
                <a:ea typeface="Gulim"/>
              </a:rPr>
              <a:t>26年 7月 29日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573600"/>
            <a:ext cx="289584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573600"/>
            <a:ext cx="2133720" cy="22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B58A-CCB0-4636-8CD0-6C56B7C774FD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762012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257480" y="2971800"/>
            <a:ext cx="6629400" cy="838080"/>
            <a:chOff x="1257480" y="2971800"/>
            <a:chExt cx="6629400" cy="838080"/>
          </a:xfrm>
        </p:grpSpPr>
        <p:sp>
          <p:nvSpPr>
            <p:cNvPr id="48" name="Rectangle 3"/>
            <p:cNvSpPr/>
            <p:nvPr/>
          </p:nvSpPr>
          <p:spPr>
            <a:xfrm>
              <a:off x="1257480" y="3059280"/>
              <a:ext cx="6629400" cy="628560"/>
            </a:xfrm>
            <a:prstGeom prst="rect">
              <a:avLst/>
            </a:prstGeom>
            <a:noFill/>
            <a:ln w="381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1600560" y="2971800"/>
              <a:ext cx="5943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50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540480"/>
            <a:ext cx="2362320" cy="304920"/>
          </a:xfrm>
          <a:prstGeom prst="rect">
            <a:avLst/>
          </a:prstGeom>
          <a:solidFill>
            <a:srgbClr val="194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048120" y="22860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  <a:ea typeface="Gulim"/>
              </a:rPr>
              <a:t>Company </a:t>
            </a:r>
            <a:r>
              <a:rPr b="0" i="1" lang="en-US" sz="5400" spc="-1" strike="noStrike">
                <a:solidFill>
                  <a:srgbClr val="ffffff"/>
                </a:solidFill>
                <a:latin typeface="Arial Black"/>
                <a:ea typeface="Gulim"/>
              </a:rPr>
              <a:t>LOGO</a:t>
            </a:r>
            <a:endParaRPr b="0" lang="en-US" sz="5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76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Arial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D37D-80EA-41E2-8C65-E55448DFC91E}" type="datetime">
              <a:rPr b="1" lang="ko-KR" sz="1200" spc="-1" strike="noStrike">
                <a:solidFill>
                  <a:srgbClr val="ffffff"/>
                </a:solidFill>
                <a:latin typeface="Arial"/>
                <a:ea typeface="Gulim"/>
              </a:rPr>
              <a:t>26年 7月 29日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C751-5DE6-40B0-BB86-E72AB8693886}" type="slidenum">
              <a:rPr b="1" lang="ko-KR" sz="12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hyperlink" Target="http://www.51pptmoban.com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B004-BE95-4BF4-99F5-FCAD853EB47F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96" name="슬라이드 번호 개체 틀 4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90EE-BD97-45E8-B537-438F61E5573B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97" name="Picture 14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206208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Object 9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0"/>
          <p:cNvGraphicFramePr/>
          <p:nvPr/>
        </p:nvGraphicFramePr>
        <p:xfrm>
          <a:off x="7543800" y="990720"/>
          <a:ext cx="13716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990720"/>
                    <a:ext cx="1371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1"/>
          <p:cNvGraphicFramePr/>
          <p:nvPr/>
        </p:nvGraphicFramePr>
        <p:xfrm>
          <a:off x="0" y="6172200"/>
          <a:ext cx="914400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17220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5" descr=""/>
          <p:cNvPicPr/>
          <p:nvPr/>
        </p:nvPicPr>
        <p:blipFill>
          <a:blip r:embed="rId9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3"/>
          <p:cNvSpPr/>
          <p:nvPr/>
        </p:nvSpPr>
        <p:spPr>
          <a:xfrm>
            <a:off x="14479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휴먼둥근헤드라인"/>
                <a:ea typeface="휴먼둥근헤드라인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06" name=""/>
          <p:cNvSpPr/>
          <p:nvPr/>
        </p:nvSpPr>
        <p:spPr>
          <a:xfrm>
            <a:off x="2464560" y="9907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Eras Bold ITC"/>
              </a:rPr>
              <a:t>韩国古剑幻灯片打包免费下载</a:t>
            </a:r>
            <a:endParaRPr b="0" lang="en-US" sz="4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6172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5811-DC8F-4FFF-9FC0-A9642B3B0B9D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68" name="Line 3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74" name="Picture 11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75" name="Oval 115"/>
          <p:cNvSpPr/>
          <p:nvPr/>
        </p:nvSpPr>
        <p:spPr>
          <a:xfrm>
            <a:off x="4083120" y="2406600"/>
            <a:ext cx="3009960" cy="3081240"/>
          </a:xfrm>
          <a:prstGeom prst="ellipse">
            <a:avLst/>
          </a:prstGeom>
          <a:gradFill rotWithShape="0">
            <a:gsLst>
              <a:gs pos="0">
                <a:srgbClr val="19429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942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76" name="Group 116"/>
          <p:cNvGrpSpPr/>
          <p:nvPr/>
        </p:nvGrpSpPr>
        <p:grpSpPr>
          <a:xfrm>
            <a:off x="4821120" y="3176640"/>
            <a:ext cx="1533600" cy="1658880"/>
            <a:chOff x="4821120" y="3176640"/>
            <a:chExt cx="1533600" cy="1658880"/>
          </a:xfrm>
        </p:grpSpPr>
        <p:sp>
          <p:nvSpPr>
            <p:cNvPr id="277" name="Oval 117"/>
            <p:cNvSpPr/>
            <p:nvPr/>
          </p:nvSpPr>
          <p:spPr>
            <a:xfrm>
              <a:off x="4821120" y="3176640"/>
              <a:ext cx="1533600" cy="16588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78" name="Freeform 118"/>
            <p:cNvSpPr/>
            <p:nvPr/>
          </p:nvSpPr>
          <p:spPr>
            <a:xfrm>
              <a:off x="4996440" y="3204000"/>
              <a:ext cx="1182960" cy="62604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279" name="Text Box 119"/>
          <p:cNvSpPr/>
          <p:nvPr/>
        </p:nvSpPr>
        <p:spPr>
          <a:xfrm>
            <a:off x="5163480" y="3916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00"/>
                </a:solidFill>
                <a:latin typeface="BatangChe"/>
                <a:ea typeface="BatangChe"/>
              </a:rPr>
              <a:t>흥행확보전략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80" name="Group 121"/>
          <p:cNvGrpSpPr/>
          <p:nvPr/>
        </p:nvGrpSpPr>
        <p:grpSpPr>
          <a:xfrm>
            <a:off x="5275440" y="2111400"/>
            <a:ext cx="510840" cy="511200"/>
            <a:chOff x="5275440" y="2111400"/>
            <a:chExt cx="510840" cy="511200"/>
          </a:xfrm>
        </p:grpSpPr>
        <p:sp>
          <p:nvSpPr>
            <p:cNvPr id="281" name="Oval 122"/>
            <p:cNvSpPr/>
            <p:nvPr/>
          </p:nvSpPr>
          <p:spPr>
            <a:xfrm>
              <a:off x="5275440" y="2111400"/>
              <a:ext cx="510840" cy="511200"/>
            </a:xfrm>
            <a:prstGeom prst="ellipse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4141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82" name="Freeform 123"/>
            <p:cNvSpPr/>
            <p:nvPr/>
          </p:nvSpPr>
          <p:spPr>
            <a:xfrm>
              <a:off x="5333760" y="2119680"/>
              <a:ext cx="394200" cy="19296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283" name="Text Box 124"/>
          <p:cNvSpPr/>
          <p:nvPr/>
        </p:nvSpPr>
        <p:spPr>
          <a:xfrm>
            <a:off x="536652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tangChe"/>
                <a:ea typeface="BatangCh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84" name="Group 125"/>
          <p:cNvGrpSpPr/>
          <p:nvPr/>
        </p:nvGrpSpPr>
        <p:grpSpPr>
          <a:xfrm>
            <a:off x="4777920" y="4665960"/>
            <a:ext cx="276480" cy="257400"/>
            <a:chOff x="4777920" y="4665960"/>
            <a:chExt cx="276480" cy="257400"/>
          </a:xfrm>
        </p:grpSpPr>
        <p:sp>
          <p:nvSpPr>
            <p:cNvPr id="285" name="Oval 126"/>
            <p:cNvSpPr/>
            <p:nvPr/>
          </p:nvSpPr>
          <p:spPr>
            <a:xfrm rot="18226800">
              <a:off x="4797720" y="4801680"/>
              <a:ext cx="101160" cy="102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86" name="Oval 127"/>
            <p:cNvSpPr/>
            <p:nvPr/>
          </p:nvSpPr>
          <p:spPr>
            <a:xfrm rot="18226800">
              <a:off x="4933800" y="4683960"/>
              <a:ext cx="99720" cy="103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7777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287" name="Group 129"/>
          <p:cNvGrpSpPr/>
          <p:nvPr/>
        </p:nvGrpSpPr>
        <p:grpSpPr>
          <a:xfrm>
            <a:off x="4309920" y="4890960"/>
            <a:ext cx="511200" cy="533520"/>
            <a:chOff x="4309920" y="4890960"/>
            <a:chExt cx="511200" cy="533520"/>
          </a:xfrm>
        </p:grpSpPr>
        <p:sp>
          <p:nvSpPr>
            <p:cNvPr id="288" name="Oval 130"/>
            <p:cNvSpPr/>
            <p:nvPr/>
          </p:nvSpPr>
          <p:spPr>
            <a:xfrm>
              <a:off x="4309920" y="4890960"/>
              <a:ext cx="511200" cy="5335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2b2b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89" name="Freeform 131"/>
            <p:cNvSpPr/>
            <p:nvPr/>
          </p:nvSpPr>
          <p:spPr>
            <a:xfrm>
              <a:off x="4368240" y="4899600"/>
              <a:ext cx="394560" cy="201240"/>
            </a:xfrm>
            <a:custGeom>
              <a:avLst/>
              <a:gdLst>
                <a:gd name="textAreaLeft" fmla="*/ 0 w 394560"/>
                <a:gd name="textAreaRight" fmla="*/ 394920 w 3945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290" name="Text Box 132"/>
          <p:cNvSpPr/>
          <p:nvPr/>
        </p:nvSpPr>
        <p:spPr>
          <a:xfrm>
            <a:off x="4375800" y="495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tangChe"/>
                <a:ea typeface="BatangCh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91" name="Group 134"/>
          <p:cNvGrpSpPr/>
          <p:nvPr/>
        </p:nvGrpSpPr>
        <p:grpSpPr>
          <a:xfrm>
            <a:off x="6811920" y="3176640"/>
            <a:ext cx="507960" cy="539640"/>
            <a:chOff x="6811920" y="3176640"/>
            <a:chExt cx="507960" cy="539640"/>
          </a:xfrm>
        </p:grpSpPr>
        <p:sp>
          <p:nvSpPr>
            <p:cNvPr id="292" name="Oval 135"/>
            <p:cNvSpPr/>
            <p:nvPr/>
          </p:nvSpPr>
          <p:spPr>
            <a:xfrm>
              <a:off x="6811920" y="3176640"/>
              <a:ext cx="507960" cy="539640"/>
            </a:xfrm>
            <a:prstGeom prst="ellipse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e2e2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93" name="Freeform 136"/>
            <p:cNvSpPr/>
            <p:nvPr/>
          </p:nvSpPr>
          <p:spPr>
            <a:xfrm>
              <a:off x="6869880" y="3185280"/>
              <a:ext cx="392040" cy="2037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294" name="Text Box 137"/>
          <p:cNvSpPr/>
          <p:nvPr/>
        </p:nvSpPr>
        <p:spPr>
          <a:xfrm>
            <a:off x="6879240" y="3200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tangChe"/>
                <a:ea typeface="BatangCh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95" name="Group 139"/>
          <p:cNvGrpSpPr/>
          <p:nvPr/>
        </p:nvGrpSpPr>
        <p:grpSpPr>
          <a:xfrm>
            <a:off x="6370560" y="4896000"/>
            <a:ext cx="487440" cy="484200"/>
            <a:chOff x="6370560" y="4896000"/>
            <a:chExt cx="487440" cy="484200"/>
          </a:xfrm>
        </p:grpSpPr>
        <p:sp>
          <p:nvSpPr>
            <p:cNvPr id="296" name="Oval 140"/>
            <p:cNvSpPr/>
            <p:nvPr/>
          </p:nvSpPr>
          <p:spPr>
            <a:xfrm>
              <a:off x="6370560" y="4896000"/>
              <a:ext cx="487440" cy="4842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97" name="Freeform 141"/>
            <p:cNvSpPr/>
            <p:nvPr/>
          </p:nvSpPr>
          <p:spPr>
            <a:xfrm>
              <a:off x="6426000" y="4903920"/>
              <a:ext cx="376200" cy="18252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298" name="Text Box 142"/>
          <p:cNvSpPr/>
          <p:nvPr/>
        </p:nvSpPr>
        <p:spPr>
          <a:xfrm>
            <a:off x="643320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tangChe"/>
                <a:ea typeface="BatangCh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99" name="Group 144"/>
          <p:cNvGrpSpPr/>
          <p:nvPr/>
        </p:nvGrpSpPr>
        <p:grpSpPr>
          <a:xfrm>
            <a:off x="3886200" y="3176640"/>
            <a:ext cx="511200" cy="533520"/>
            <a:chOff x="3886200" y="3176640"/>
            <a:chExt cx="511200" cy="533520"/>
          </a:xfrm>
        </p:grpSpPr>
        <p:sp>
          <p:nvSpPr>
            <p:cNvPr id="300" name="Oval 145"/>
            <p:cNvSpPr/>
            <p:nvPr/>
          </p:nvSpPr>
          <p:spPr>
            <a:xfrm>
              <a:off x="3886200" y="3176640"/>
              <a:ext cx="511200" cy="533520"/>
            </a:xfrm>
            <a:prstGeom prst="ellipse">
              <a:avLst/>
            </a:prstGeom>
            <a:gradFill rotWithShape="0">
              <a:gsLst>
                <a:gs pos="0">
                  <a:srgbClr val="194293"/>
                </a:gs>
                <a:gs pos="100000">
                  <a:srgbClr val="0b1e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01" name="Freeform 146"/>
            <p:cNvSpPr/>
            <p:nvPr/>
          </p:nvSpPr>
          <p:spPr>
            <a:xfrm>
              <a:off x="3944520" y="3185280"/>
              <a:ext cx="394560" cy="201240"/>
            </a:xfrm>
            <a:custGeom>
              <a:avLst/>
              <a:gdLst>
                <a:gd name="textAreaLeft" fmla="*/ 0 w 394560"/>
                <a:gd name="textAreaRight" fmla="*/ 394920 w 3945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194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302" name="Text Box 147"/>
          <p:cNvSpPr/>
          <p:nvPr/>
        </p:nvSpPr>
        <p:spPr>
          <a:xfrm>
            <a:off x="3967920" y="318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tangChe"/>
                <a:ea typeface="BatangCh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03" name="Oval 148"/>
          <p:cNvSpPr/>
          <p:nvPr/>
        </p:nvSpPr>
        <p:spPr>
          <a:xfrm rot="18226800">
            <a:off x="6298200" y="4776120"/>
            <a:ext cx="101520" cy="1033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55555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04" name="Oval 149"/>
          <p:cNvSpPr/>
          <p:nvPr/>
        </p:nvSpPr>
        <p:spPr>
          <a:xfrm rot="18226800">
            <a:off x="6185520" y="4656960"/>
            <a:ext cx="101520" cy="1033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55555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305" name="Group 150"/>
          <p:cNvGrpSpPr/>
          <p:nvPr/>
        </p:nvGrpSpPr>
        <p:grpSpPr>
          <a:xfrm>
            <a:off x="4461120" y="3511800"/>
            <a:ext cx="312480" cy="200880"/>
            <a:chOff x="4461120" y="3511800"/>
            <a:chExt cx="312480" cy="200880"/>
          </a:xfrm>
        </p:grpSpPr>
        <p:sp>
          <p:nvSpPr>
            <p:cNvPr id="306" name="Oval 151"/>
            <p:cNvSpPr/>
            <p:nvPr/>
          </p:nvSpPr>
          <p:spPr>
            <a:xfrm rot="18226800">
              <a:off x="4482000" y="3529800"/>
              <a:ext cx="99720" cy="103680"/>
            </a:xfrm>
            <a:prstGeom prst="ellipse">
              <a:avLst/>
            </a:prstGeom>
            <a:gradFill rotWithShape="0">
              <a:gsLst>
                <a:gs pos="0">
                  <a:srgbClr val="194293"/>
                </a:gs>
                <a:gs pos="100000">
                  <a:srgbClr val="0e265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07" name="Oval 152"/>
            <p:cNvSpPr/>
            <p:nvPr/>
          </p:nvSpPr>
          <p:spPr>
            <a:xfrm rot="18226800">
              <a:off x="4651560" y="3588840"/>
              <a:ext cx="100800" cy="105120"/>
            </a:xfrm>
            <a:prstGeom prst="ellipse">
              <a:avLst/>
            </a:prstGeom>
            <a:gradFill rotWithShape="0">
              <a:gsLst>
                <a:gs pos="0">
                  <a:srgbClr val="194293"/>
                </a:gs>
                <a:gs pos="100000">
                  <a:srgbClr val="0c20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308" name="Group 153"/>
          <p:cNvGrpSpPr/>
          <p:nvPr/>
        </p:nvGrpSpPr>
        <p:grpSpPr>
          <a:xfrm>
            <a:off x="5482800" y="2718360"/>
            <a:ext cx="141840" cy="360000"/>
            <a:chOff x="5482800" y="2718360"/>
            <a:chExt cx="141840" cy="360000"/>
          </a:xfrm>
        </p:grpSpPr>
        <p:sp>
          <p:nvSpPr>
            <p:cNvPr id="309" name="Oval 154"/>
            <p:cNvSpPr/>
            <p:nvPr/>
          </p:nvSpPr>
          <p:spPr>
            <a:xfrm rot="18226800">
              <a:off x="5504040" y="2737440"/>
              <a:ext cx="100440" cy="101880"/>
            </a:xfrm>
            <a:prstGeom prst="ellipse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46465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10" name="Oval 155"/>
            <p:cNvSpPr/>
            <p:nvPr/>
          </p:nvSpPr>
          <p:spPr>
            <a:xfrm rot="18226800">
              <a:off x="5502600" y="2956320"/>
              <a:ext cx="101880" cy="102240"/>
            </a:xfrm>
            <a:prstGeom prst="ellipse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4a4a6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311" name="Oval 156"/>
          <p:cNvSpPr/>
          <p:nvPr/>
        </p:nvSpPr>
        <p:spPr>
          <a:xfrm rot="18226800">
            <a:off x="6596640" y="3553200"/>
            <a:ext cx="101880" cy="103320"/>
          </a:xfrm>
          <a:prstGeom prst="ellipse">
            <a:avLst/>
          </a:prstGeom>
          <a:gradFill rotWithShape="0">
            <a:gsLst>
              <a:gs pos="0">
                <a:srgbClr val="d8d8ec"/>
              </a:gs>
              <a:gs pos="100000">
                <a:srgbClr val="cccc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2" name="Oval 157"/>
          <p:cNvSpPr/>
          <p:nvPr/>
        </p:nvSpPr>
        <p:spPr>
          <a:xfrm rot="18226800">
            <a:off x="6412680" y="3650040"/>
            <a:ext cx="101880" cy="103320"/>
          </a:xfrm>
          <a:prstGeom prst="ellipse">
            <a:avLst/>
          </a:prstGeom>
          <a:gradFill rotWithShape="0">
            <a:gsLst>
              <a:gs pos="0">
                <a:srgbClr val="d8d8ec"/>
              </a:gs>
              <a:gs pos="100000">
                <a:srgbClr val="cccc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3" name="Text Box 158"/>
          <p:cNvSpPr/>
          <p:nvPr/>
        </p:nvSpPr>
        <p:spPr>
          <a:xfrm>
            <a:off x="2543040" y="3232080"/>
            <a:ext cx="141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해밀동호회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회원 유치 확정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4" name="Text Box 159"/>
          <p:cNvSpPr/>
          <p:nvPr/>
        </p:nvSpPr>
        <p:spPr>
          <a:xfrm>
            <a:off x="4724280" y="1463760"/>
            <a:ext cx="16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유럽</a:t>
            </a:r>
            <a:r>
              <a:rPr b="1" lang="ko-KR" sz="1400" spc="-1" strike="noStrike" u="sng">
                <a:solidFill>
                  <a:srgbClr val="000000"/>
                </a:solidFill>
                <a:uFillTx/>
                <a:latin typeface="BatangChe"/>
                <a:ea typeface="BatangChe"/>
              </a:rPr>
              <a:t>초연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최대한 부각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5" name="Text Box 160"/>
          <p:cNvSpPr/>
          <p:nvPr/>
        </p:nvSpPr>
        <p:spPr>
          <a:xfrm>
            <a:off x="7238880" y="30481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교육청과 연계해 학습적인 측면을 부각하여 과제물 등으로 유치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6" name="Text Box 161"/>
          <p:cNvSpPr/>
          <p:nvPr/>
        </p:nvSpPr>
        <p:spPr>
          <a:xfrm>
            <a:off x="2286000" y="480060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홍보 마케팅 스케줄에 따른 체계적인 홍보방안 마련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고구려사로써 애국심자극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7" name="Text Box 162"/>
          <p:cNvSpPr/>
          <p:nvPr/>
        </p:nvSpPr>
        <p:spPr>
          <a:xfrm>
            <a:off x="6858000" y="502920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한일문화교류재단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국내 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대 여행사 등과 연계해 외국인 관광객 유치 유리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8" name="AutoShape 166"/>
          <p:cNvSpPr/>
          <p:nvPr/>
        </p:nvSpPr>
        <p:spPr>
          <a:xfrm>
            <a:off x="2514600" y="1752480"/>
            <a:ext cx="1523880" cy="1447920"/>
          </a:xfrm>
          <a:prstGeom prst="downArrowCallout">
            <a:avLst>
              <a:gd name="adj1" fmla="val 26314"/>
              <a:gd name="adj2" fmla="val 26312"/>
              <a:gd name="adj3" fmla="val 16667"/>
              <a:gd name="adj4" fmla="val 66667"/>
            </a:avLst>
          </a:prstGeom>
          <a:solidFill>
            <a:srgbClr val="dbdbe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9" name="Text Box 167"/>
          <p:cNvSpPr/>
          <p:nvPr/>
        </p:nvSpPr>
        <p:spPr>
          <a:xfrm>
            <a:off x="2514600" y="184464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만 가족 회원을 보유하고 있으며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최고의 관중동원을 자랑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흥행확보전략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21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94EC-4A4E-4D13-A8EF-41A371FE4D53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23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E52B-A68B-4E93-8F95-18901E38B090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24" name="Line 3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30" name="Picture 11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29"/>
          <p:cNvGrpSpPr/>
          <p:nvPr/>
        </p:nvGrpSpPr>
        <p:grpSpPr>
          <a:xfrm>
            <a:off x="2514600" y="1905120"/>
            <a:ext cx="1987200" cy="4038120"/>
            <a:chOff x="2514600" y="1905120"/>
            <a:chExt cx="1987200" cy="4038120"/>
          </a:xfrm>
        </p:grpSpPr>
        <p:sp>
          <p:nvSpPr>
            <p:cNvPr id="332" name="AutoShape 30"/>
            <p:cNvSpPr/>
            <p:nvPr/>
          </p:nvSpPr>
          <p:spPr>
            <a:xfrm>
              <a:off x="2514600" y="2212920"/>
              <a:ext cx="1981440" cy="2859480"/>
            </a:xfrm>
            <a:custGeom>
              <a:avLst/>
              <a:gdLst>
                <a:gd name="textAreaLeft" fmla="*/ 101520 w 1981440"/>
                <a:gd name="textAreaRight" fmla="*/ 1879920 w 1981440"/>
                <a:gd name="textAreaTop" fmla="*/ 101520 h 2859480"/>
                <a:gd name="textAreaBottom" fmla="*/ 2757960 h 2859480"/>
              </a:gdLst>
              <a:ahLst/>
              <a:rect l="textAreaLeft" t="textAreaTop" r="textAreaRight" b="textAreaBottom"/>
              <a:pathLst>
                <a:path w="21600" h="31170">
                  <a:moveTo>
                    <a:pt x="3782" y="0"/>
                  </a:moveTo>
                  <a:arcTo wR="3782" hR="3782" stAng="16200000" swAng="-5400000"/>
                  <a:lnTo>
                    <a:pt x="0" y="27388"/>
                  </a:lnTo>
                  <a:arcTo wR="3782" hR="3782" stAng="10800000" swAng="-5400000"/>
                  <a:lnTo>
                    <a:pt x="17818" y="3117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33" name="AutoShape 31"/>
            <p:cNvSpPr/>
            <p:nvPr/>
          </p:nvSpPr>
          <p:spPr>
            <a:xfrm>
              <a:off x="2545200" y="2221200"/>
              <a:ext cx="1921680" cy="2805120"/>
            </a:xfrm>
            <a:custGeom>
              <a:avLst/>
              <a:gdLst>
                <a:gd name="textAreaLeft" fmla="*/ 93600 w 1921680"/>
                <a:gd name="textAreaRight" fmla="*/ 1828080 w 1921680"/>
                <a:gd name="textAreaTop" fmla="*/ 93600 h 2805120"/>
                <a:gd name="textAreaBottom" fmla="*/ 2711520 h 2805120"/>
              </a:gdLst>
              <a:ahLst/>
              <a:rect l="textAreaLeft" t="textAreaTop" r="textAreaRight" b="textAreaBottom"/>
              <a:pathLst>
                <a:path w="21600" h="31528">
                  <a:moveTo>
                    <a:pt x="3600" y="0"/>
                  </a:moveTo>
                  <a:arcTo wR="3600" hR="3600" stAng="16200000" swAng="-5400000"/>
                  <a:lnTo>
                    <a:pt x="0" y="27928"/>
                  </a:lnTo>
                  <a:arcTo wR="3600" hR="3600" stAng="10800000" swAng="-5400000"/>
                  <a:lnTo>
                    <a:pt x="18000" y="315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34" name="AutoShape 32"/>
            <p:cNvSpPr/>
            <p:nvPr/>
          </p:nvSpPr>
          <p:spPr>
            <a:xfrm>
              <a:off x="2561040" y="4286160"/>
              <a:ext cx="189576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35" name="AutoShape 33"/>
            <p:cNvSpPr/>
            <p:nvPr/>
          </p:nvSpPr>
          <p:spPr>
            <a:xfrm>
              <a:off x="2561040" y="2243160"/>
              <a:ext cx="1895760" cy="70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36" name="AutoShape 34"/>
            <p:cNvSpPr/>
            <p:nvPr/>
          </p:nvSpPr>
          <p:spPr>
            <a:xfrm>
              <a:off x="2520360" y="5072760"/>
              <a:ext cx="1981440" cy="870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37" name="AutoShape 35"/>
            <p:cNvSpPr/>
            <p:nvPr/>
          </p:nvSpPr>
          <p:spPr>
            <a:xfrm>
              <a:off x="2561040" y="5096520"/>
              <a:ext cx="1895760" cy="70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grpSp>
          <p:nvGrpSpPr>
            <p:cNvPr id="338" name="Group 36"/>
            <p:cNvGrpSpPr/>
            <p:nvPr/>
          </p:nvGrpSpPr>
          <p:grpSpPr>
            <a:xfrm>
              <a:off x="3196440" y="1905120"/>
              <a:ext cx="588600" cy="643320"/>
              <a:chOff x="3196440" y="1905120"/>
              <a:chExt cx="588600" cy="643320"/>
            </a:xfrm>
          </p:grpSpPr>
          <p:sp>
            <p:nvSpPr>
              <p:cNvPr id="339" name="Oval 37"/>
              <p:cNvSpPr/>
              <p:nvPr/>
            </p:nvSpPr>
            <p:spPr>
              <a:xfrm>
                <a:off x="3196440" y="1905120"/>
                <a:ext cx="588600" cy="643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40" name="Oval 38"/>
              <p:cNvSpPr/>
              <p:nvPr/>
            </p:nvSpPr>
            <p:spPr>
              <a:xfrm>
                <a:off x="3202560" y="1909800"/>
                <a:ext cx="56916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41" name="Oval 39"/>
              <p:cNvSpPr/>
              <p:nvPr/>
            </p:nvSpPr>
            <p:spPr>
              <a:xfrm>
                <a:off x="3209400" y="1913760"/>
                <a:ext cx="55584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42" name="Oval 40"/>
              <p:cNvSpPr/>
              <p:nvPr/>
            </p:nvSpPr>
            <p:spPr>
              <a:xfrm>
                <a:off x="3215520" y="1919520"/>
                <a:ext cx="528480" cy="56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43" name="Oval 41"/>
              <p:cNvSpPr/>
              <p:nvPr/>
            </p:nvSpPr>
            <p:spPr>
              <a:xfrm>
                <a:off x="3246480" y="1935000"/>
                <a:ext cx="469800" cy="46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</p:grpSp>
        <p:sp>
          <p:nvSpPr>
            <p:cNvPr id="344" name="Text Box 42"/>
            <p:cNvSpPr/>
            <p:nvPr/>
          </p:nvSpPr>
          <p:spPr>
            <a:xfrm>
              <a:off x="3196440" y="2125800"/>
              <a:ext cx="58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50</a:t>
              </a:r>
              <a:r>
                <a:rPr b="0" lang="ko-KR" sz="1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일전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45" name="Text Box 43"/>
            <p:cNvSpPr/>
            <p:nvPr/>
          </p:nvSpPr>
          <p:spPr>
            <a:xfrm>
              <a:off x="2584440" y="2667600"/>
              <a:ext cx="188424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버스측면광고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보도자료 배부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여행사 협약추진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346" name="Group 44"/>
          <p:cNvGrpSpPr/>
          <p:nvPr/>
        </p:nvGrpSpPr>
        <p:grpSpPr>
          <a:xfrm>
            <a:off x="4724280" y="1905120"/>
            <a:ext cx="1983960" cy="4038120"/>
            <a:chOff x="4724280" y="1905120"/>
            <a:chExt cx="1983960" cy="4038120"/>
          </a:xfrm>
        </p:grpSpPr>
        <p:sp>
          <p:nvSpPr>
            <p:cNvPr id="347" name="AutoShape 45"/>
            <p:cNvSpPr/>
            <p:nvPr/>
          </p:nvSpPr>
          <p:spPr>
            <a:xfrm>
              <a:off x="4724280" y="2212920"/>
              <a:ext cx="1981080" cy="2859480"/>
            </a:xfrm>
            <a:custGeom>
              <a:avLst/>
              <a:gdLst>
                <a:gd name="textAreaLeft" fmla="*/ 101520 w 1981080"/>
                <a:gd name="textAreaRight" fmla="*/ 1879560 w 1981080"/>
                <a:gd name="textAreaTop" fmla="*/ 101520 h 2859480"/>
                <a:gd name="textAreaBottom" fmla="*/ 2757960 h 2859480"/>
              </a:gdLst>
              <a:ahLst/>
              <a:rect l="textAreaLeft" t="textAreaTop" r="textAreaRight" b="textAreaBottom"/>
              <a:pathLst>
                <a:path w="21600" h="31176">
                  <a:moveTo>
                    <a:pt x="3782" y="0"/>
                  </a:moveTo>
                  <a:arcTo wR="3782" hR="3782" stAng="16200000" swAng="-5400000"/>
                  <a:lnTo>
                    <a:pt x="0" y="27394"/>
                  </a:lnTo>
                  <a:arcTo wR="3782" hR="3782" stAng="10800000" swAng="-5400000"/>
                  <a:lnTo>
                    <a:pt x="17818" y="3117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588d3d"/>
                </a:gs>
                <a:gs pos="100000">
                  <a:srgbClr val="66af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48" name="AutoShape 46"/>
            <p:cNvSpPr/>
            <p:nvPr/>
          </p:nvSpPr>
          <p:spPr>
            <a:xfrm>
              <a:off x="4754880" y="2221200"/>
              <a:ext cx="1921680" cy="2805120"/>
            </a:xfrm>
            <a:custGeom>
              <a:avLst/>
              <a:gdLst>
                <a:gd name="textAreaLeft" fmla="*/ 93600 w 1921680"/>
                <a:gd name="textAreaRight" fmla="*/ 1828080 w 1921680"/>
                <a:gd name="textAreaTop" fmla="*/ 93600 h 2805120"/>
                <a:gd name="textAreaBottom" fmla="*/ 2711520 h 2805120"/>
              </a:gdLst>
              <a:ahLst/>
              <a:rect l="textAreaLeft" t="textAreaTop" r="textAreaRight" b="textAreaBottom"/>
              <a:pathLst>
                <a:path w="21600" h="31528">
                  <a:moveTo>
                    <a:pt x="3600" y="0"/>
                  </a:moveTo>
                  <a:arcTo wR="3600" hR="3600" stAng="16200000" swAng="-5400000"/>
                  <a:lnTo>
                    <a:pt x="0" y="27928"/>
                  </a:lnTo>
                  <a:arcTo wR="3600" hR="3600" stAng="10800000" swAng="-5400000"/>
                  <a:lnTo>
                    <a:pt x="18000" y="315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49" name="AutoShape 47"/>
            <p:cNvSpPr/>
            <p:nvPr/>
          </p:nvSpPr>
          <p:spPr>
            <a:xfrm>
              <a:off x="4770720" y="4286160"/>
              <a:ext cx="18954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d844"/>
                </a:gs>
                <a:gs pos="100000">
                  <a:srgbClr val="c7e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0" name="AutoShape 48"/>
            <p:cNvSpPr/>
            <p:nvPr/>
          </p:nvSpPr>
          <p:spPr>
            <a:xfrm>
              <a:off x="4770720" y="2243160"/>
              <a:ext cx="1895400" cy="70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f2c1"/>
                </a:gs>
                <a:gs pos="100000">
                  <a:srgbClr val="99d8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1" name="Oval 49"/>
            <p:cNvSpPr/>
            <p:nvPr/>
          </p:nvSpPr>
          <p:spPr>
            <a:xfrm>
              <a:off x="5405760" y="1905120"/>
              <a:ext cx="588600" cy="6433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2" name="Oval 50"/>
            <p:cNvSpPr/>
            <p:nvPr/>
          </p:nvSpPr>
          <p:spPr>
            <a:xfrm>
              <a:off x="5411880" y="1909800"/>
              <a:ext cx="5695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3" name="Oval 51"/>
            <p:cNvSpPr/>
            <p:nvPr/>
          </p:nvSpPr>
          <p:spPr>
            <a:xfrm>
              <a:off x="5419080" y="1913040"/>
              <a:ext cx="556560" cy="6084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4" name="Oval 52"/>
            <p:cNvSpPr/>
            <p:nvPr/>
          </p:nvSpPr>
          <p:spPr>
            <a:xfrm>
              <a:off x="5424840" y="1919520"/>
              <a:ext cx="529200" cy="56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5" name="Oval 53"/>
            <p:cNvSpPr/>
            <p:nvPr/>
          </p:nvSpPr>
          <p:spPr>
            <a:xfrm>
              <a:off x="5456880" y="1935360"/>
              <a:ext cx="4694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6" name="Text Box 54"/>
            <p:cNvSpPr/>
            <p:nvPr/>
          </p:nvSpPr>
          <p:spPr>
            <a:xfrm>
              <a:off x="5469840" y="212580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한달전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7" name="Text Box 55"/>
            <p:cNvSpPr/>
            <p:nvPr/>
          </p:nvSpPr>
          <p:spPr>
            <a:xfrm>
              <a:off x="4794120" y="2667600"/>
              <a:ext cx="1883880" cy="23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-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충무로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,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대학로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전단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,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현수막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)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홍보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인터파크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,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티켓링크 협약 및 광고대행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본사의 협력사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,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후원사등에 공문발송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-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중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.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고등학교에 단체관람배포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8" name="AutoShape 56"/>
            <p:cNvSpPr/>
            <p:nvPr/>
          </p:nvSpPr>
          <p:spPr>
            <a:xfrm>
              <a:off x="4727160" y="5072760"/>
              <a:ext cx="1981080" cy="870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59" name="AutoShape 57"/>
            <p:cNvSpPr/>
            <p:nvPr/>
          </p:nvSpPr>
          <p:spPr>
            <a:xfrm>
              <a:off x="4767480" y="5096520"/>
              <a:ext cx="1895760" cy="70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360" name="Group 58"/>
          <p:cNvGrpSpPr/>
          <p:nvPr/>
        </p:nvGrpSpPr>
        <p:grpSpPr>
          <a:xfrm>
            <a:off x="6934320" y="1905120"/>
            <a:ext cx="1980720" cy="4038120"/>
            <a:chOff x="6934320" y="1905120"/>
            <a:chExt cx="1980720" cy="4038120"/>
          </a:xfrm>
        </p:grpSpPr>
        <p:sp>
          <p:nvSpPr>
            <p:cNvPr id="361" name="AutoShape 59"/>
            <p:cNvSpPr/>
            <p:nvPr/>
          </p:nvSpPr>
          <p:spPr>
            <a:xfrm>
              <a:off x="6940080" y="2212920"/>
              <a:ext cx="1974960" cy="2859480"/>
            </a:xfrm>
            <a:custGeom>
              <a:avLst/>
              <a:gdLst>
                <a:gd name="textAreaLeft" fmla="*/ 101160 w 1974960"/>
                <a:gd name="textAreaRight" fmla="*/ 1873800 w 1974960"/>
                <a:gd name="textAreaTop" fmla="*/ 101160 h 2859480"/>
                <a:gd name="textAreaBottom" fmla="*/ 2758320 h 2859480"/>
              </a:gdLst>
              <a:ahLst/>
              <a:rect l="textAreaLeft" t="textAreaTop" r="textAreaRight" b="textAreaBottom"/>
              <a:pathLst>
                <a:path w="21600" h="31272">
                  <a:moveTo>
                    <a:pt x="3782" y="0"/>
                  </a:moveTo>
                  <a:arcTo wR="3782" hR="3782" stAng="16200000" swAng="-5400000"/>
                  <a:lnTo>
                    <a:pt x="0" y="27490"/>
                  </a:lnTo>
                  <a:arcTo wR="3782" hR="3782" stAng="10800000" swAng="-5400000"/>
                  <a:lnTo>
                    <a:pt x="17818" y="3127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ab4e47"/>
                </a:gs>
                <a:gs pos="100000">
                  <a:srgbClr val="c1623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62" name="AutoShape 60"/>
            <p:cNvSpPr/>
            <p:nvPr/>
          </p:nvSpPr>
          <p:spPr>
            <a:xfrm>
              <a:off x="6970320" y="2221200"/>
              <a:ext cx="1915920" cy="2805120"/>
            </a:xfrm>
            <a:custGeom>
              <a:avLst/>
              <a:gdLst>
                <a:gd name="textAreaLeft" fmla="*/ 93240 w 1915920"/>
                <a:gd name="textAreaRight" fmla="*/ 1822680 w 1915920"/>
                <a:gd name="textAreaTop" fmla="*/ 93240 h 2805120"/>
                <a:gd name="textAreaBottom" fmla="*/ 2711880 h 2805120"/>
              </a:gdLst>
              <a:ahLst/>
              <a:rect l="textAreaLeft" t="textAreaTop" r="textAreaRight" b="textAreaBottom"/>
              <a:pathLst>
                <a:path w="21600" h="31623">
                  <a:moveTo>
                    <a:pt x="3600" y="0"/>
                  </a:moveTo>
                  <a:arcTo wR="3600" hR="3600" stAng="16200000" swAng="-5400000"/>
                  <a:lnTo>
                    <a:pt x="0" y="28023"/>
                  </a:lnTo>
                  <a:arcTo wR="3600" hR="3600" stAng="10800000" swAng="-5400000"/>
                  <a:lnTo>
                    <a:pt x="18000" y="316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8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63" name="AutoShape 61"/>
            <p:cNvSpPr/>
            <p:nvPr/>
          </p:nvSpPr>
          <p:spPr>
            <a:xfrm>
              <a:off x="6986520" y="4286160"/>
              <a:ext cx="188964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b65"/>
                </a:gs>
                <a:gs pos="100000">
                  <a:srgbClr val="f2bc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64" name="AutoShape 62"/>
            <p:cNvSpPr/>
            <p:nvPr/>
          </p:nvSpPr>
          <p:spPr>
            <a:xfrm>
              <a:off x="6986520" y="2243160"/>
              <a:ext cx="1889640" cy="70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d8cc"/>
                </a:gs>
                <a:gs pos="100000">
                  <a:srgbClr val="e98b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grpSp>
          <p:nvGrpSpPr>
            <p:cNvPr id="365" name="Group 63"/>
            <p:cNvGrpSpPr/>
            <p:nvPr/>
          </p:nvGrpSpPr>
          <p:grpSpPr>
            <a:xfrm>
              <a:off x="7619760" y="1905120"/>
              <a:ext cx="586800" cy="643320"/>
              <a:chOff x="7619760" y="1905120"/>
              <a:chExt cx="586800" cy="643320"/>
            </a:xfrm>
          </p:grpSpPr>
          <p:sp>
            <p:nvSpPr>
              <p:cNvPr id="366" name="Oval 64"/>
              <p:cNvSpPr/>
              <p:nvPr/>
            </p:nvSpPr>
            <p:spPr>
              <a:xfrm>
                <a:off x="7619760" y="1905120"/>
                <a:ext cx="586800" cy="643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67" name="Oval 65"/>
              <p:cNvSpPr/>
              <p:nvPr/>
            </p:nvSpPr>
            <p:spPr>
              <a:xfrm>
                <a:off x="7625880" y="1909800"/>
                <a:ext cx="56736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68" name="Oval 66"/>
              <p:cNvSpPr/>
              <p:nvPr/>
            </p:nvSpPr>
            <p:spPr>
              <a:xfrm>
                <a:off x="7632720" y="1913760"/>
                <a:ext cx="55440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69" name="Oval 67"/>
              <p:cNvSpPr/>
              <p:nvPr/>
            </p:nvSpPr>
            <p:spPr>
              <a:xfrm>
                <a:off x="7638840" y="1919520"/>
                <a:ext cx="527040" cy="56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  <p:sp>
            <p:nvSpPr>
              <p:cNvPr id="370" name="Oval 68"/>
              <p:cNvSpPr/>
              <p:nvPr/>
            </p:nvSpPr>
            <p:spPr>
              <a:xfrm>
                <a:off x="7669440" y="1935000"/>
                <a:ext cx="468360" cy="46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Eras Bold ITC"/>
                </a:endParaRPr>
              </a:p>
            </p:txBody>
          </p:sp>
        </p:grpSp>
        <p:sp>
          <p:nvSpPr>
            <p:cNvPr id="371" name="Text Box 69"/>
            <p:cNvSpPr/>
            <p:nvPr/>
          </p:nvSpPr>
          <p:spPr>
            <a:xfrm>
              <a:off x="7663680" y="2125800"/>
              <a:ext cx="49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1</a:t>
              </a:r>
              <a:r>
                <a:rPr b="0" lang="ko-KR" sz="12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주전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72" name="Text Box 70"/>
            <p:cNvSpPr/>
            <p:nvPr/>
          </p:nvSpPr>
          <p:spPr>
            <a:xfrm>
              <a:off x="7008120" y="2667600"/>
              <a:ext cx="1879200" cy="17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194293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곰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TV,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판도라</a:t>
              </a:r>
              <a:r>
                <a:rPr b="0" lang="en-US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TV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등 인터넷 채널 광고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194293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지상파 및 케이블 채널 광고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194293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 </a:t>
              </a:r>
              <a:r>
                <a:rPr b="0" lang="ko-KR" sz="1400" spc="-1" strike="noStrike">
                  <a:solidFill>
                    <a:srgbClr val="000000"/>
                  </a:solidFill>
                  <a:latin typeface="BatangChe"/>
                  <a:ea typeface="BatangChe"/>
                </a:rPr>
                <a:t>신문 등 보도자료 배부 및 전단광고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73" name="AutoShape 71"/>
            <p:cNvSpPr/>
            <p:nvPr/>
          </p:nvSpPr>
          <p:spPr>
            <a:xfrm>
              <a:off x="6934320" y="5072760"/>
              <a:ext cx="1974960" cy="870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374" name="AutoShape 72"/>
            <p:cNvSpPr/>
            <p:nvPr/>
          </p:nvSpPr>
          <p:spPr>
            <a:xfrm>
              <a:off x="6974640" y="5096520"/>
              <a:ext cx="1890000" cy="70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375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홍보마케팅 스케줄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76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96E0-58DF-435B-A12F-98BA76C4FD3B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78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68C2-79A9-456C-BA46-27E9A18AE2A9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79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85" name="Picture 15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386" name="AutoShape 17"/>
          <p:cNvGrpSpPr/>
          <p:nvPr/>
        </p:nvGrpSpPr>
        <p:grpSpPr>
          <a:xfrm>
            <a:off x="2511360" y="1901880"/>
            <a:ext cx="3591000" cy="3975120"/>
            <a:chOff x="2511360" y="1901880"/>
            <a:chExt cx="3591000" cy="3975120"/>
          </a:xfrm>
        </p:grpSpPr>
        <p:pic>
          <p:nvPicPr>
            <p:cNvPr id="387" name="AutoShape 17" descr=""/>
            <p:cNvPicPr/>
            <p:nvPr/>
          </p:nvPicPr>
          <p:blipFill>
            <a:blip r:embed="rId5"/>
            <a:stretch/>
          </p:blipFill>
          <p:spPr>
            <a:xfrm>
              <a:off x="2511360" y="1901880"/>
              <a:ext cx="3591000" cy="39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3038400" y="2486160"/>
              <a:ext cx="2533680" cy="28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389" name="Oval 19"/>
          <p:cNvSpPr/>
          <p:nvPr/>
        </p:nvSpPr>
        <p:spPr>
          <a:xfrm>
            <a:off x="2779560" y="2209680"/>
            <a:ext cx="2990880" cy="3306960"/>
          </a:xfrm>
          <a:prstGeom prst="ellipse">
            <a:avLst/>
          </a:prstGeom>
          <a:gradFill rotWithShape="0">
            <a:gsLst>
              <a:gs pos="0">
                <a:srgbClr val="41d592"/>
              </a:gs>
              <a:gs pos="100000">
                <a:srgbClr val="29875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0" name="AutoShape 20"/>
          <p:cNvSpPr/>
          <p:nvPr/>
        </p:nvSpPr>
        <p:spPr>
          <a:xfrm>
            <a:off x="4875120" y="2446200"/>
            <a:ext cx="3532320" cy="517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f"/>
              </a:gs>
              <a:gs pos="100000">
                <a:srgbClr val="ccffff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평일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80%,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주말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100%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관객유치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1" name="AutoShape 21"/>
          <p:cNvSpPr/>
          <p:nvPr/>
        </p:nvSpPr>
        <p:spPr>
          <a:xfrm>
            <a:off x="5162400" y="2998800"/>
            <a:ext cx="3533760" cy="514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Princess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낙랑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아시아를 노리다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2" name="AutoShape 22"/>
          <p:cNvSpPr/>
          <p:nvPr/>
        </p:nvSpPr>
        <p:spPr>
          <a:xfrm>
            <a:off x="5410080" y="3549600"/>
            <a:ext cx="3532320" cy="517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f"/>
              </a:gs>
              <a:gs pos="100000">
                <a:srgbClr val="ccffff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해밀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회원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만이상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대표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고문이사 취임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보다 안정적인 관객수 확보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3" name="AutoShape 23"/>
          <p:cNvSpPr/>
          <p:nvPr/>
        </p:nvSpPr>
        <p:spPr>
          <a:xfrm>
            <a:off x="5162400" y="4100400"/>
            <a:ext cx="3533760" cy="517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국내 유명 여행사 협력으로 일본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중국 등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관광객 유치 최소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4" name="AutoShape 24"/>
          <p:cNvSpPr/>
          <p:nvPr/>
        </p:nvSpPr>
        <p:spPr>
          <a:xfrm>
            <a:off x="4875120" y="4653000"/>
            <a:ext cx="3532320" cy="517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f"/>
              </a:gs>
              <a:gs pos="100000">
                <a:srgbClr val="ccffff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유럽 초연 성공배경으로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대학로 장기공연 시작 후 해외컨텐츠 수출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5" name="Text Box 25"/>
          <p:cNvSpPr/>
          <p:nvPr/>
        </p:nvSpPr>
        <p:spPr>
          <a:xfrm>
            <a:off x="3382200" y="3648240"/>
            <a:ext cx="140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BatangChe"/>
                <a:ea typeface="BatangChe"/>
              </a:rPr>
              <a:t>장기공연의 목적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장기공연 당위성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397" name="Picture 110" descr="로고1"/>
          <p:cNvPicPr/>
          <p:nvPr/>
        </p:nvPicPr>
        <p:blipFill>
          <a:blip r:embed="rId6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DCA6-C6B4-46EE-8FE8-D0B57C37B14E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99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C77E-49A4-4D74-9611-5C9BF735002E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00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06" name="Picture 15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1"/>
          <p:cNvSpPr/>
          <p:nvPr/>
        </p:nvSpPr>
        <p:spPr>
          <a:xfrm>
            <a:off x="2514600" y="10666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■ </a:t>
            </a:r>
            <a:r>
              <a:rPr b="0" lang="ko-KR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낙랑컨텐츠 성공이유의 당위성 및 사업성 요약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08" name="AutoShape 18"/>
          <p:cNvSpPr/>
          <p:nvPr/>
        </p:nvSpPr>
        <p:spPr>
          <a:xfrm rot="17973000">
            <a:off x="5882040" y="2921760"/>
            <a:ext cx="674640" cy="241200"/>
          </a:xfrm>
          <a:prstGeom prst="rightArrow">
            <a:avLst>
              <a:gd name="adj1" fmla="val 35167"/>
              <a:gd name="adj2" fmla="val 11326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09" name="AutoShape 19"/>
          <p:cNvSpPr/>
          <p:nvPr/>
        </p:nvSpPr>
        <p:spPr>
          <a:xfrm rot="3465600">
            <a:off x="5883120" y="4763880"/>
            <a:ext cx="673200" cy="241200"/>
          </a:xfrm>
          <a:prstGeom prst="rightArrow">
            <a:avLst>
              <a:gd name="adj1" fmla="val 35167"/>
              <a:gd name="adj2" fmla="val 113024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0" name="AutoShape 20"/>
          <p:cNvSpPr/>
          <p:nvPr/>
        </p:nvSpPr>
        <p:spPr>
          <a:xfrm rot="14368800">
            <a:off x="4867200" y="2987280"/>
            <a:ext cx="674640" cy="239760"/>
          </a:xfrm>
          <a:prstGeom prst="rightArrow">
            <a:avLst>
              <a:gd name="adj1" fmla="val 35167"/>
              <a:gd name="adj2" fmla="val 11394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1" name="AutoShape 21"/>
          <p:cNvSpPr/>
          <p:nvPr/>
        </p:nvSpPr>
        <p:spPr>
          <a:xfrm rot="7534800">
            <a:off x="4835160" y="4736880"/>
            <a:ext cx="675000" cy="239760"/>
          </a:xfrm>
          <a:prstGeom prst="rightArrow">
            <a:avLst>
              <a:gd name="adj1" fmla="val 35167"/>
              <a:gd name="adj2" fmla="val 114007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2" name="AutoShape 22"/>
          <p:cNvSpPr/>
          <p:nvPr/>
        </p:nvSpPr>
        <p:spPr>
          <a:xfrm>
            <a:off x="6372360" y="3879720"/>
            <a:ext cx="660240" cy="246240"/>
          </a:xfrm>
          <a:prstGeom prst="rightArrow">
            <a:avLst>
              <a:gd name="adj1" fmla="val 35167"/>
              <a:gd name="adj2" fmla="val 108579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3" name="AutoShape 23"/>
          <p:cNvSpPr/>
          <p:nvPr/>
        </p:nvSpPr>
        <p:spPr>
          <a:xfrm rot="10800000">
            <a:off x="4363920" y="3875040"/>
            <a:ext cx="720720" cy="246240"/>
          </a:xfrm>
          <a:prstGeom prst="rightArrow">
            <a:avLst>
              <a:gd name="adj1" fmla="val 35167"/>
              <a:gd name="adj2" fmla="val 11852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4" name="Oval 24"/>
          <p:cNvSpPr/>
          <p:nvPr/>
        </p:nvSpPr>
        <p:spPr>
          <a:xfrm>
            <a:off x="4152960" y="2374920"/>
            <a:ext cx="3117960" cy="318780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5" name="Oval 25"/>
          <p:cNvSpPr/>
          <p:nvPr/>
        </p:nvSpPr>
        <p:spPr>
          <a:xfrm>
            <a:off x="4699080" y="5148360"/>
            <a:ext cx="299880" cy="306360"/>
          </a:xfrm>
          <a:prstGeom prst="ellipse">
            <a:avLst/>
          </a:prstGeom>
          <a:gradFill rotWithShape="0">
            <a:gsLst>
              <a:gs pos="0">
                <a:srgbClr val="4dc9b1"/>
              </a:gs>
              <a:gs pos="100000">
                <a:srgbClr val="3892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6" name="Text Box 26"/>
          <p:cNvSpPr/>
          <p:nvPr/>
        </p:nvSpPr>
        <p:spPr>
          <a:xfrm>
            <a:off x="7063920" y="228600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유럽 초연 성공으로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국내 매니아층의 높은 관심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7" name="Text Box 27"/>
          <p:cNvSpPr/>
          <p:nvPr/>
        </p:nvSpPr>
        <p:spPr>
          <a:xfrm>
            <a:off x="2828520" y="228600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해외 유명 수상자들의 참여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→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높은 완성도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8" name="Text Box 28"/>
          <p:cNvSpPr/>
          <p:nvPr/>
        </p:nvSpPr>
        <p:spPr>
          <a:xfrm>
            <a:off x="7662960" y="3809880"/>
            <a:ext cx="109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우리 고유의 설화를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바탕으로 만들어짐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→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자긍심 고취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19" name="Text Box 29"/>
          <p:cNvSpPr/>
          <p:nvPr/>
        </p:nvSpPr>
        <p:spPr>
          <a:xfrm>
            <a:off x="7076520" y="5181480"/>
            <a:ext cx="142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의상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무대제작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배우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국제적 저명인사 적극참여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0" name="Text Box 30"/>
          <p:cNvSpPr/>
          <p:nvPr/>
        </p:nvSpPr>
        <p:spPr>
          <a:xfrm>
            <a:off x="2781720" y="35812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가장 한국적인 것이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가장 세계적인 것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1" name="Text Box 31"/>
          <p:cNvSpPr/>
          <p:nvPr/>
        </p:nvSpPr>
        <p:spPr>
          <a:xfrm>
            <a:off x="3071160" y="5227560"/>
            <a:ext cx="136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고구려사를 토대로 하여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해외 관람객 유치 또한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유리한 고지를 점유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2" name="Oval 32"/>
          <p:cNvSpPr/>
          <p:nvPr/>
        </p:nvSpPr>
        <p:spPr>
          <a:xfrm>
            <a:off x="6416640" y="5151600"/>
            <a:ext cx="300240" cy="306360"/>
          </a:xfrm>
          <a:prstGeom prst="ellipse">
            <a:avLst/>
          </a:prstGeom>
          <a:gradFill rotWithShape="0">
            <a:gsLst>
              <a:gs pos="0">
                <a:srgbClr val="cb90ec"/>
              </a:gs>
              <a:gs pos="100000">
                <a:srgbClr val="9368a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3" name="Oval 33"/>
          <p:cNvSpPr/>
          <p:nvPr/>
        </p:nvSpPr>
        <p:spPr>
          <a:xfrm>
            <a:off x="7115040" y="3854520"/>
            <a:ext cx="300240" cy="3063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100000">
                <a:srgbClr val="4a6f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4" name="Oval 34"/>
          <p:cNvSpPr/>
          <p:nvPr/>
        </p:nvSpPr>
        <p:spPr>
          <a:xfrm>
            <a:off x="6353280" y="2427120"/>
            <a:ext cx="299880" cy="30672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b96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5" name="Oval 35"/>
          <p:cNvSpPr/>
          <p:nvPr/>
        </p:nvSpPr>
        <p:spPr>
          <a:xfrm>
            <a:off x="4703760" y="2492280"/>
            <a:ext cx="299880" cy="306360"/>
          </a:xfrm>
          <a:prstGeom prst="ellipse">
            <a:avLst/>
          </a:prstGeom>
          <a:gradFill rotWithShape="0">
            <a:gsLst>
              <a:gs pos="0">
                <a:srgbClr val="edd947"/>
              </a:gs>
              <a:gs pos="100000">
                <a:srgbClr val="ac9d3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6" name="Oval 36"/>
          <p:cNvSpPr/>
          <p:nvPr/>
        </p:nvSpPr>
        <p:spPr>
          <a:xfrm>
            <a:off x="4005360" y="3854520"/>
            <a:ext cx="299880" cy="306360"/>
          </a:xfrm>
          <a:prstGeom prst="ellipse">
            <a:avLst/>
          </a:prstGeom>
          <a:gradFill rotWithShape="0">
            <a:gsLst>
              <a:gs pos="0">
                <a:srgbClr val="82b820"/>
              </a:gs>
              <a:gs pos="100000">
                <a:srgbClr val="5e85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7" name="Oval 38"/>
          <p:cNvSpPr/>
          <p:nvPr/>
        </p:nvSpPr>
        <p:spPr>
          <a:xfrm>
            <a:off x="4807080" y="3067200"/>
            <a:ext cx="1800000" cy="18381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93d4e9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8" name="Oval 39"/>
          <p:cNvSpPr/>
          <p:nvPr/>
        </p:nvSpPr>
        <p:spPr>
          <a:xfrm>
            <a:off x="4924440" y="3187800"/>
            <a:ext cx="1565280" cy="15969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50000">
                <a:srgbClr val="00536e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29" name="Oval 40"/>
          <p:cNvSpPr/>
          <p:nvPr/>
        </p:nvSpPr>
        <p:spPr>
          <a:xfrm>
            <a:off x="4925880" y="3189240"/>
            <a:ext cx="1565280" cy="1598760"/>
          </a:xfrm>
          <a:prstGeom prst="ellipse">
            <a:avLst/>
          </a:prstGeom>
          <a:gradFill rotWithShape="0">
            <a:gsLst>
              <a:gs pos="0">
                <a:srgbClr val="0099cc">
                  <a:alpha val="0"/>
                </a:srgbClr>
              </a:gs>
              <a:gs pos="100000">
                <a:srgbClr val="00618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30" name="Oval 41"/>
          <p:cNvSpPr/>
          <p:nvPr/>
        </p:nvSpPr>
        <p:spPr>
          <a:xfrm>
            <a:off x="5008680" y="3267000"/>
            <a:ext cx="1409760" cy="14382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431" name="Group 42"/>
          <p:cNvGrpSpPr/>
          <p:nvPr/>
        </p:nvGrpSpPr>
        <p:grpSpPr>
          <a:xfrm>
            <a:off x="5033880" y="3282840"/>
            <a:ext cx="1363680" cy="1392480"/>
            <a:chOff x="5033880" y="3282840"/>
            <a:chExt cx="1363680" cy="1392480"/>
          </a:xfrm>
        </p:grpSpPr>
        <p:sp>
          <p:nvSpPr>
            <p:cNvPr id="432" name="Oval 43"/>
            <p:cNvSpPr/>
            <p:nvPr/>
          </p:nvSpPr>
          <p:spPr>
            <a:xfrm>
              <a:off x="5033880" y="3282840"/>
              <a:ext cx="1363680" cy="1392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433" name="Oval 44"/>
            <p:cNvSpPr/>
            <p:nvPr/>
          </p:nvSpPr>
          <p:spPr>
            <a:xfrm>
              <a:off x="5051160" y="3290400"/>
              <a:ext cx="1330920" cy="1357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434" name="Oval 45"/>
            <p:cNvSpPr/>
            <p:nvPr/>
          </p:nvSpPr>
          <p:spPr>
            <a:xfrm>
              <a:off x="5065200" y="3303720"/>
              <a:ext cx="1265400" cy="1268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435" name="Oval 46"/>
            <p:cNvSpPr/>
            <p:nvPr/>
          </p:nvSpPr>
          <p:spPr>
            <a:xfrm>
              <a:off x="5139360" y="3339360"/>
              <a:ext cx="1125000" cy="102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436" name="Text Box 47"/>
          <p:cNvSpPr/>
          <p:nvPr/>
        </p:nvSpPr>
        <p:spPr>
          <a:xfrm>
            <a:off x="5085720" y="3728880"/>
            <a:ext cx="127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Princess 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낙랑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낙랑 컨텐츠 사업 당위성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38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8F31-C667-4B12-A858-EF227FF67101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40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5360-E2D6-407F-B175-9323C4FF0914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895480" y="32000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tangChe"/>
                <a:ea typeface="BatangChe"/>
              </a:rPr>
              <a:t>Financial Plan</a:t>
            </a:r>
            <a:endParaRPr b="0" i="1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444" name="Picture 11" descr="2"/>
          <p:cNvPicPr/>
          <p:nvPr/>
        </p:nvPicPr>
        <p:blipFill>
          <a:blip r:embed="rId2"/>
          <a:stretch/>
        </p:blipFill>
        <p:spPr>
          <a:xfrm>
            <a:off x="1219320" y="1371600"/>
            <a:ext cx="6476760" cy="40384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447" name="TextBox 16"/>
          <p:cNvSpPr/>
          <p:nvPr/>
        </p:nvSpPr>
        <p:spPr>
          <a:xfrm>
            <a:off x="266688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휴먼둥근헤드라인"/>
                <a:ea typeface="휴먼둥근헤드라인"/>
              </a:rPr>
              <a:t>Financial Plan</a:t>
            </a: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7F90-CBC9-4675-8E1B-2EC54495F6D3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49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DDB5-AE6C-4211-96A6-0D99FEC70542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50" name="Line 2"/>
          <p:cNvSpPr/>
          <p:nvPr/>
        </p:nvSpPr>
        <p:spPr>
          <a:xfrm>
            <a:off x="2286000" y="99072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logo"/>
          <p:cNvPicPr/>
          <p:nvPr/>
        </p:nvPicPr>
        <p:blipFill>
          <a:blip r:embed="rId3"/>
          <a:stretch/>
        </p:blipFill>
        <p:spPr>
          <a:xfrm>
            <a:off x="7772400" y="380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공문로고1"/>
          <p:cNvPicPr/>
          <p:nvPr/>
        </p:nvPicPr>
        <p:blipFill>
          <a:blip r:embed="rId4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56" name="Line 9"/>
          <p:cNvSpPr/>
          <p:nvPr/>
        </p:nvSpPr>
        <p:spPr>
          <a:xfrm>
            <a:off x="3276720" y="3505320"/>
            <a:ext cx="494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57" name="Line 10"/>
          <p:cNvSpPr/>
          <p:nvPr/>
        </p:nvSpPr>
        <p:spPr>
          <a:xfrm>
            <a:off x="3276720" y="3200400"/>
            <a:ext cx="0" cy="64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2819520" y="403848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투자시점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대학로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3048120" y="281952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6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억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334120" y="28195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2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억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7932600" y="27846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억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7010280" y="40384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국내 지방 공연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향후 추진계획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4724280" y="40384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예술의전당 공연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향후 추진계획</a:t>
            </a:r>
            <a:r>
              <a:rPr b="1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5638680" y="3200400"/>
            <a:ext cx="0" cy="64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8221680" y="3216240"/>
            <a:ext cx="0" cy="64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2666880" y="1752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94293"/>
                </a:solidFill>
                <a:latin typeface="BatangChe"/>
                <a:ea typeface="BatangChe"/>
              </a:rPr>
              <a:t>■ </a:t>
            </a:r>
            <a:r>
              <a:rPr b="0" lang="ko-KR" sz="1800" spc="-1" strike="noStrike">
                <a:solidFill>
                  <a:srgbClr val="194293"/>
                </a:solidFill>
                <a:latin typeface="BatangChe"/>
                <a:ea typeface="BatangChe"/>
              </a:rPr>
              <a:t>총 유치금액 </a:t>
            </a:r>
            <a:r>
              <a:rPr b="0" lang="en-US" sz="1800" spc="-1" strike="noStrike">
                <a:solidFill>
                  <a:srgbClr val="194293"/>
                </a:solidFill>
                <a:latin typeface="BatangChe"/>
                <a:ea typeface="BatangChe"/>
              </a:rPr>
              <a:t>: 6</a:t>
            </a:r>
            <a:r>
              <a:rPr b="0" lang="ko-KR" sz="1800" spc="-1" strike="noStrike">
                <a:solidFill>
                  <a:srgbClr val="194293"/>
                </a:solidFill>
                <a:latin typeface="BatangChe"/>
                <a:ea typeface="BatangChe"/>
              </a:rPr>
              <a:t>억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67" name="Picture 20" descr="2"/>
          <p:cNvPicPr/>
          <p:nvPr/>
        </p:nvPicPr>
        <p:blipFill>
          <a:blip r:embed="rId5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3"/>
          <p:cNvSpPr/>
          <p:nvPr/>
        </p:nvSpPr>
        <p:spPr>
          <a:xfrm>
            <a:off x="152280" y="30492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투자유치 진행계획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69" name="Picture 25" descr="로고1"/>
          <p:cNvPicPr/>
          <p:nvPr/>
        </p:nvPicPr>
        <p:blipFill>
          <a:blip r:embed="rId6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E9DE-8BA8-498D-A75F-0C4303985E3B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0" y="54864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72" name="Picture 7" descr="공문로고1"/>
          <p:cNvPicPr/>
          <p:nvPr/>
        </p:nvPicPr>
        <p:blipFill>
          <a:blip r:embed="rId1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473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4" name="Rectangle 28"/>
          <p:cNvSpPr/>
          <p:nvPr/>
        </p:nvSpPr>
        <p:spPr>
          <a:xfrm>
            <a:off x="2895480" y="4343400"/>
            <a:ext cx="5715000" cy="1905120"/>
          </a:xfrm>
          <a:prstGeom prst="rect">
            <a:avLst/>
          </a:prstGeom>
          <a:noFill/>
          <a:ln w="38160">
            <a:solidFill>
              <a:srgbClr val="e0e0e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5" name="AutoShape 36"/>
          <p:cNvSpPr/>
          <p:nvPr/>
        </p:nvSpPr>
        <p:spPr>
          <a:xfrm>
            <a:off x="2590920" y="403848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0554f"/>
              </a:gs>
              <a:gs pos="100000">
                <a:srgbClr val="8bb7a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BatangChe"/>
              </a:rPr>
              <a:t>투자유치조건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6" name="Rectangle 43"/>
          <p:cNvSpPr/>
          <p:nvPr/>
        </p:nvSpPr>
        <p:spPr>
          <a:xfrm>
            <a:off x="2895480" y="2133720"/>
            <a:ext cx="5715000" cy="1371600"/>
          </a:xfrm>
          <a:prstGeom prst="rect">
            <a:avLst/>
          </a:prstGeom>
          <a:noFill/>
          <a:ln w="38160">
            <a:solidFill>
              <a:srgbClr val="e0e0e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7" name="Rectangle 45"/>
          <p:cNvSpPr/>
          <p:nvPr/>
        </p:nvSpPr>
        <p:spPr>
          <a:xfrm>
            <a:off x="3048120" y="2362320"/>
            <a:ext cx="5562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투자사 원금 회수시 까지 투자사 선배당 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100%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실시 및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투자원금 우선변제 조건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투자사 투자원금 회수후 투자사와 제작사간 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50%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수익배당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8" name="AutoShape 35"/>
          <p:cNvSpPr/>
          <p:nvPr/>
        </p:nvSpPr>
        <p:spPr>
          <a:xfrm>
            <a:off x="2438280" y="1371600"/>
            <a:ext cx="20574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15138"/>
              </a:gs>
              <a:gs pos="100000">
                <a:srgbClr val="b0af7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  <a:ea typeface="BatangChe"/>
              </a:rPr>
              <a:t>투자조건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79" name="Text Box 47"/>
          <p:cNvSpPr/>
          <p:nvPr/>
        </p:nvSpPr>
        <p:spPr>
          <a:xfrm>
            <a:off x="3200400" y="4800600"/>
            <a:ext cx="32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SPC(</a:t>
            </a:r>
            <a:r>
              <a:rPr b="0" lang="ko-KR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특수목적법인</a:t>
            </a:r>
            <a:r>
              <a:rPr b="0" lang="en-US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)</a:t>
            </a:r>
            <a:r>
              <a:rPr b="0" lang="ko-KR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투자협력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 </a:t>
            </a:r>
            <a:r>
              <a:rPr b="0" lang="ko-KR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티켓링크 </a:t>
            </a:r>
            <a:r>
              <a:rPr b="0" lang="en-US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.</a:t>
            </a:r>
            <a:r>
              <a:rPr b="0" lang="ko-KR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인터파크 채권보증 </a:t>
            </a:r>
            <a:r>
              <a:rPr b="0" lang="en-US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(</a:t>
            </a:r>
            <a:r>
              <a:rPr b="0" lang="ko-KR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우선변재</a:t>
            </a:r>
            <a:r>
              <a:rPr b="0" lang="en-US" sz="1400" spc="-1" strike="noStrike">
                <a:solidFill>
                  <a:srgbClr val="000066"/>
                </a:solidFill>
                <a:latin typeface="BatangChe"/>
                <a:ea typeface="BatangChe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0" y="4572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집행사 회계관련 확인내용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81" name="Picture 20" descr="2"/>
          <p:cNvPicPr/>
          <p:nvPr/>
        </p:nvPicPr>
        <p:blipFill>
          <a:blip r:embed="rId2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"/>
          <p:cNvPicPr/>
          <p:nvPr/>
        </p:nvPicPr>
        <p:blipFill>
          <a:blip r:embed="rId3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"/>
          <p:cNvPicPr/>
          <p:nvPr/>
        </p:nvPicPr>
        <p:blipFill>
          <a:blip r:embed="rId4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2590920" y="1676520"/>
          <a:ext cx="5943600" cy="386388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</a:tblGrid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내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</a:tr>
              <a:tr h="274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컨첸츠 제작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대관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작품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BatangChe"/>
                          <a:ea typeface="BatangChe"/>
                        </a:rPr>
                        <a:t>※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7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출연료 및 스텝인건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H/W &amp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무대제작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무대제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의상제작빛 소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BatangChe"/>
                          <a:ea typeface="BatangChe"/>
                        </a:rPr>
                        <a:t>※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의상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4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복리후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복리후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6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인쇄제작 및 온라인매체 홍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온라인광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옥외광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5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매체광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경상운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운영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4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예비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&amp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인건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예비비 외 인건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486" name="슬라이드 번호 개체 틀 4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F7B6-63B3-483E-8F9C-6D738D278BA4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87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0" y="54864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89" name="Picture 7" descr="공문로고1"/>
          <p:cNvPicPr/>
          <p:nvPr/>
        </p:nvPicPr>
        <p:blipFill>
          <a:blip r:embed="rId1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0" descr="2"/>
          <p:cNvPicPr/>
          <p:nvPr/>
        </p:nvPicPr>
        <p:blipFill>
          <a:blip r:embed="rId2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" descr=""/>
          <p:cNvPicPr/>
          <p:nvPr/>
        </p:nvPicPr>
        <p:blipFill>
          <a:blip r:embed="rId3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/>
          <p:cNvPicPr/>
          <p:nvPr/>
        </p:nvPicPr>
        <p:blipFill>
          <a:blip r:embed="rId4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152280" y="380880"/>
            <a:ext cx="3810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대학로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(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세우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)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소요예산 개요 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94" name="TextBox 77"/>
          <p:cNvSpPr/>
          <p:nvPr/>
        </p:nvSpPr>
        <p:spPr>
          <a:xfrm>
            <a:off x="7696080" y="1430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위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678168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BatangChe"/>
                <a:ea typeface="BatangChe"/>
              </a:rPr>
              <a:t>※ </a:t>
            </a:r>
            <a:r>
              <a:rPr b="0" lang="ko-KR" sz="1200" spc="-1" strike="noStrike" u="sng">
                <a:solidFill>
                  <a:srgbClr val="ff0000"/>
                </a:solidFill>
                <a:uFillTx/>
                <a:latin typeface="BatangChe"/>
                <a:ea typeface="BatangChe"/>
              </a:rPr>
              <a:t>표는 자사선부담금액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96" name="Picture 2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D739-6EAC-4D57-837E-D4F7C48B772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5"/>
          <p:cNvSpPr/>
          <p:nvPr/>
        </p:nvSpPr>
        <p:spPr>
          <a:xfrm>
            <a:off x="0" y="4572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세우 월별 지출 내역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7543800" y="14479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위</a:t>
            </a:r>
            <a:r>
              <a:rPr b="0" lang="en-GB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</a:t>
            </a:r>
            <a:r>
              <a:rPr b="0" lang="en-GB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02" name="Picture 12" descr="로고1"/>
          <p:cNvPicPr/>
          <p:nvPr/>
        </p:nvPicPr>
        <p:blipFill>
          <a:blip r:embed="rId3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3" name=""/>
          <p:cNvGraphicFramePr/>
          <p:nvPr/>
        </p:nvGraphicFramePr>
        <p:xfrm>
          <a:off x="241200" y="1717560"/>
          <a:ext cx="8597880" cy="3639960"/>
        </p:xfrm>
        <a:graphic>
          <a:graphicData uri="http://schemas.openxmlformats.org/drawingml/2006/table">
            <a:tbl>
              <a:tblPr/>
              <a:tblGrid>
                <a:gridCol w="1297080"/>
                <a:gridCol w="652320"/>
                <a:gridCol w="600120"/>
                <a:gridCol w="579600"/>
                <a:gridCol w="514080"/>
                <a:gridCol w="514440"/>
                <a:gridCol w="573120"/>
                <a:gridCol w="514440"/>
                <a:gridCol w="552240"/>
                <a:gridCol w="514440"/>
                <a:gridCol w="514440"/>
                <a:gridCol w="552240"/>
                <a:gridCol w="594000"/>
                <a:gridCol w="625320"/>
              </a:tblGrid>
              <a:tr h="1731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내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금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4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5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6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7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9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0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1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2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664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대관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작품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7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출연료및스탭인건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6,6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무대제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의상제작및소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의상보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4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4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복리후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6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온라인광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옥외광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5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9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메체광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운영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4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예비비</a:t>
                      </a: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,</a:t>
                      </a: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인건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100,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8,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합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267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2060"/>
                          </a:solidFill>
                          <a:latin typeface="Dotum"/>
                          <a:ea typeface="휴먼모음T"/>
                        </a:rPr>
                        <a:t>38,3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2819520" y="2666880"/>
          <a:ext cx="5867280" cy="2819520"/>
        </p:xfrm>
        <a:graphic>
          <a:graphicData uri="http://schemas.openxmlformats.org/drawingml/2006/table">
            <a:tbl>
              <a:tblPr/>
              <a:tblGrid>
                <a:gridCol w="1173240"/>
                <a:gridCol w="1173240"/>
                <a:gridCol w="1174680"/>
                <a:gridCol w="1173240"/>
                <a:gridCol w="1172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점유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좌석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개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(14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개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,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89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646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,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70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38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,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51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116,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4,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32,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852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13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587,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,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94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323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505" name="슬라이드 번호 개체 틀 4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B8A7-8303-48DB-9408-CAFA62728779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06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0" y="54864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08" name="Picture 7" descr="공문로고1"/>
          <p:cNvPicPr/>
          <p:nvPr/>
        </p:nvPicPr>
        <p:blipFill>
          <a:blip r:embed="rId1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0" descr="2"/>
          <p:cNvPicPr/>
          <p:nvPr/>
        </p:nvPicPr>
        <p:blipFill>
          <a:blip r:embed="rId2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3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4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3"/>
          <p:cNvSpPr/>
          <p:nvPr/>
        </p:nvSpPr>
        <p:spPr>
          <a:xfrm>
            <a:off x="0" y="38088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대학로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(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세우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)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수익 개요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13" name="TextBox 63"/>
          <p:cNvSpPr/>
          <p:nvPr/>
        </p:nvSpPr>
        <p:spPr>
          <a:xfrm>
            <a:off x="7848720" y="23446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위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14" name="TextBox 64"/>
          <p:cNvSpPr/>
          <p:nvPr/>
        </p:nvSpPr>
        <p:spPr>
          <a:xfrm>
            <a:off x="2743200" y="23446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가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3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만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5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기준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15" name="Picture 67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5E53-BE25-42F2-AABD-F42F3E32F8E9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666880" y="2743200"/>
            <a:ext cx="6096240" cy="3429000"/>
          </a:xfrm>
          <a:prstGeom prst="rect">
            <a:avLst/>
          </a:prstGeom>
          <a:noFill/>
          <a:ln w="38160">
            <a:solidFill>
              <a:srgbClr val="e0e0e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10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1471-6CEA-4CDD-94F7-FAA5890936F4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11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17" name="Picture 15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1"/>
          <p:cNvSpPr/>
          <p:nvPr/>
        </p:nvSpPr>
        <p:spPr>
          <a:xfrm>
            <a:off x="2514600" y="106668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■</a:t>
            </a:r>
            <a:r>
              <a:rPr b="0" lang="en-US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‘</a:t>
            </a:r>
            <a:r>
              <a:rPr b="0" lang="en-US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Princess </a:t>
            </a:r>
            <a:r>
              <a:rPr b="0" lang="ko-KR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낙랑</a:t>
            </a:r>
            <a:r>
              <a:rPr b="0" lang="en-US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’</a:t>
            </a:r>
            <a:r>
              <a:rPr b="0" lang="ko-KR" sz="1600" spc="-1" strike="noStrike">
                <a:solidFill>
                  <a:srgbClr val="194293"/>
                </a:solidFill>
                <a:latin typeface="BatangChe"/>
                <a:ea typeface="BatangChe"/>
              </a:rPr>
              <a:t>원작의 개요 요약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895480" y="1676520"/>
            <a:ext cx="579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92e5"/>
                </a:solidFill>
                <a:latin typeface="BatangChe"/>
                <a:ea typeface="BatangChe"/>
              </a:rPr>
              <a:t>동북공정</a:t>
            </a:r>
            <a:r>
              <a:rPr b="0" lang="en-US" sz="1400" spc="-1" strike="noStrike">
                <a:solidFill>
                  <a:srgbClr val="6992e5"/>
                </a:solidFill>
                <a:latin typeface="BatangChe"/>
                <a:ea typeface="BatangChe"/>
              </a:rPr>
              <a:t>, </a:t>
            </a:r>
            <a:r>
              <a:rPr b="0" lang="ko-KR" sz="1400" spc="-1" strike="noStrike">
                <a:solidFill>
                  <a:srgbClr val="6992e5"/>
                </a:solidFill>
                <a:latin typeface="BatangChe"/>
                <a:ea typeface="BatangChe"/>
              </a:rPr>
              <a:t>고구려사를 중국역사라 주장하는 이들에 대한 애국심의 반로로 낙랑공주와 호동왕자 스토리를 소재로 뮤지컬 제작</a:t>
            </a:r>
            <a:r>
              <a:rPr b="0" lang="en-US" sz="1400" spc="-1" strike="noStrike">
                <a:solidFill>
                  <a:srgbClr val="6992e5"/>
                </a:solidFill>
                <a:latin typeface="BatangChe"/>
                <a:ea typeface="BatangCh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2438280" y="2438280"/>
            <a:ext cx="175284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74c5c"/>
              </a:gs>
              <a:gs pos="100000">
                <a:srgbClr val="99a4c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  <a:ea typeface="BatangChe"/>
              </a:rPr>
              <a:t>호동 설화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BatangCh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원작의 개요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2819520" y="3472560"/>
            <a:ext cx="5867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고구려 대무신왕의 왕자 호동과 낙랑국의 공주에 관한 설화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삼국사기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권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14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고구려 본기 대무신왕조에 나오는 기록으로 크게 두 부분으로 나뉨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  </a:t>
            </a:r>
            <a:r>
              <a:rPr b="0" lang="en-US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1. </a:t>
            </a:r>
            <a:r>
              <a:rPr b="0" lang="ko-KR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낙랑에 들어가 낙랑공주와 결혼을 하고 신기인 고각을 낙랑공주로 하여금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     </a:t>
            </a:r>
            <a:r>
              <a:rPr b="0" lang="ko-KR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부수게 하여 낙랑을 쳐서 이겼으나 공주는 죽고 말았다는 것</a:t>
            </a:r>
            <a:r>
              <a:rPr b="0" lang="en-US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  </a:t>
            </a:r>
            <a:r>
              <a:rPr b="0" lang="en-US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2.</a:t>
            </a:r>
            <a:r>
              <a:rPr b="0" lang="ko-KR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 </a:t>
            </a:r>
            <a:r>
              <a:rPr b="0" lang="ko-KR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원비가 호동을 시기하여 왕에게 참소하여 호동이 자살했다는 것</a:t>
            </a:r>
            <a:r>
              <a:rPr b="0" lang="en-US" sz="1200" spc="-1" strike="noStrike">
                <a:solidFill>
                  <a:srgbClr val="4d4d4d"/>
                </a:solidFill>
                <a:latin typeface="BatangChe"/>
                <a:ea typeface="BatangCh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본 설화는 극적인 구성으로 되어 있어 그것 자체가 훌륭한 문학 작품이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특히 낙랑으로 대표되는 한족과 고구려족 간의 갈등을 신화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전설에 나오는 신기 쟁탈의 화소의 원형에 넣어 형상화하였다는 것은 작품으로서도 빈틈없는 구성이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또한 호동의 비극적인 일생과 낙랑공주의 로맨스는 후대 문학 작품의 모티브가 되었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현대에서도 희곡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시나리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·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소설 등에서 이 설화를 소재로 한 작품이 많이 창작되고 있음은 앞에서 말한 사실을 충분히 대변해주고 있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23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2438280" y="2347920"/>
          <a:ext cx="6477120" cy="3595680"/>
        </p:xfrm>
        <a:graphic>
          <a:graphicData uri="http://schemas.openxmlformats.org/drawingml/2006/table">
            <a:tbl>
              <a:tblPr/>
              <a:tblGrid>
                <a:gridCol w="609480"/>
                <a:gridCol w="457200"/>
                <a:gridCol w="609840"/>
                <a:gridCol w="838080"/>
                <a:gridCol w="990720"/>
                <a:gridCol w="990360"/>
                <a:gridCol w="990720"/>
                <a:gridCol w="990720"/>
              </a:tblGrid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점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좌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개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수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(14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개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지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순수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투자자 총수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cae2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,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646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957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1,578,5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,6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70,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381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692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1,446,2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,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51,2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116,8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427,8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1,313,9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4,4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32,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852,2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163,2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1,181,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,7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13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587,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898,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1,049,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,1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94,5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323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34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917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2,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75,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058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69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784,7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,8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56,7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793,8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689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BatangChe"/>
                          <a:ea typeface="BatangChe"/>
                        </a:rPr>
                        <a:t>104,8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tangChe"/>
                          <a:ea typeface="BatangChe"/>
                        </a:rPr>
                        <a:t>652,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Eras Bol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517" name="슬라이드 번호 개체 틀 4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BD5E-FB89-4BF9-A80A-AC3640F4159E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18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0" y="54864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20" name="Picture 7" descr="공문로고1"/>
          <p:cNvPicPr/>
          <p:nvPr/>
        </p:nvPicPr>
        <p:blipFill>
          <a:blip r:embed="rId1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0" descr="2"/>
          <p:cNvPicPr/>
          <p:nvPr/>
        </p:nvPicPr>
        <p:blipFill>
          <a:blip r:embed="rId2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3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"/>
          <p:cNvPicPr/>
          <p:nvPr/>
        </p:nvPicPr>
        <p:blipFill>
          <a:blip r:embed="rId4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3"/>
          <p:cNvSpPr/>
          <p:nvPr/>
        </p:nvSpPr>
        <p:spPr>
          <a:xfrm>
            <a:off x="152280" y="3808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대학로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(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세우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) 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투자자 예측 수익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25" name="Text Box 207"/>
          <p:cNvSpPr/>
          <p:nvPr/>
        </p:nvSpPr>
        <p:spPr>
          <a:xfrm>
            <a:off x="2362320" y="59436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※ 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6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억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 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투자시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: 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원금 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+ 1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차공연 매출액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(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순수익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)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의 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50% 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제공 계약기준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. </a:t>
            </a:r>
            <a:r>
              <a:rPr b="0" lang="ko-KR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원금보장</a:t>
            </a:r>
            <a:r>
              <a:rPr b="0" lang="en-US" sz="1200" spc="-1" strike="noStrike">
                <a:solidFill>
                  <a:srgbClr val="ff0000"/>
                </a:solidFill>
                <a:latin typeface="BatangChe"/>
                <a:ea typeface="BatangCh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26" name="TextBox 106"/>
          <p:cNvSpPr/>
          <p:nvPr/>
        </p:nvSpPr>
        <p:spPr>
          <a:xfrm>
            <a:off x="8077320" y="203976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위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27" name="TextBox 64"/>
          <p:cNvSpPr/>
          <p:nvPr/>
        </p:nvSpPr>
        <p:spPr>
          <a:xfrm>
            <a:off x="2362320" y="205740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가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3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만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5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기준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28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BE3F-7C67-4BCD-BC4F-9BE6ABA4F80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2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0" y="4572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대학로</a:t>
            </a:r>
            <a:r>
              <a:rPr b="0" lang="en-GB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(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세우</a:t>
            </a:r>
            <a:r>
              <a:rPr b="0" lang="en-GB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)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손익 개요 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8153280" y="13716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위</a:t>
            </a:r>
            <a:r>
              <a:rPr b="0" lang="en-GB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</a:t>
            </a:r>
            <a:r>
              <a:rPr b="0" lang="en-GB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34" name="Group 7" descr=""/>
          <p:cNvPicPr/>
          <p:nvPr/>
        </p:nvPicPr>
        <p:blipFill>
          <a:blip r:embed="rId3"/>
          <a:stretch/>
        </p:blipFill>
        <p:spPr>
          <a:xfrm>
            <a:off x="139680" y="1609560"/>
            <a:ext cx="8845560" cy="2365560"/>
          </a:xfrm>
          <a:prstGeom prst="rect">
            <a:avLst/>
          </a:prstGeom>
          <a:ln w="0">
            <a:noFill/>
          </a:ln>
        </p:spPr>
      </p:pic>
      <p:pic>
        <p:nvPicPr>
          <p:cNvPr id="535" name="Group 107" descr=""/>
          <p:cNvPicPr/>
          <p:nvPr/>
        </p:nvPicPr>
        <p:blipFill>
          <a:blip r:embed="rId4"/>
          <a:stretch/>
        </p:blipFill>
        <p:spPr>
          <a:xfrm>
            <a:off x="139680" y="4029120"/>
            <a:ext cx="8864640" cy="23526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64"/>
          <p:cNvSpPr/>
          <p:nvPr/>
        </p:nvSpPr>
        <p:spPr>
          <a:xfrm>
            <a:off x="76320" y="137160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단가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:3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만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5</a:t>
            </a:r>
            <a:r>
              <a:rPr b="0" lang="ko-KR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천원기준</a:t>
            </a:r>
            <a:r>
              <a:rPr b="0" lang="en-US" sz="10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37" name="Picture 12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B5F6-B521-43E8-A81E-AC1246898D87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39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E7FC-0807-4F39-8F1A-300980DD8839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45" name="Picture 11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2"/>
          <p:cNvSpPr/>
          <p:nvPr/>
        </p:nvSpPr>
        <p:spPr>
          <a:xfrm>
            <a:off x="0" y="144792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atangChe"/>
                <a:ea typeface="BatangChe"/>
              </a:rPr>
              <a:t>  </a:t>
            </a:r>
            <a:r>
              <a:rPr b="0" lang="en-US" sz="800" spc="-1" strike="noStrike">
                <a:solidFill>
                  <a:srgbClr val="808080"/>
                </a:solidFill>
                <a:latin typeface="BatangChe"/>
                <a:ea typeface="BatangChe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547" name="Group 16"/>
          <p:cNvGrpSpPr/>
          <p:nvPr/>
        </p:nvGrpSpPr>
        <p:grpSpPr>
          <a:xfrm>
            <a:off x="2590920" y="1981080"/>
            <a:ext cx="879480" cy="749520"/>
            <a:chOff x="2590920" y="1981080"/>
            <a:chExt cx="879480" cy="749520"/>
          </a:xfrm>
        </p:grpSpPr>
        <p:sp>
          <p:nvSpPr>
            <p:cNvPr id="548" name="AutoShape 17"/>
            <p:cNvSpPr/>
            <p:nvPr/>
          </p:nvSpPr>
          <p:spPr>
            <a:xfrm>
              <a:off x="2598120" y="1993680"/>
              <a:ext cx="872280" cy="736920"/>
            </a:xfrm>
            <a:prstGeom prst="hexagon">
              <a:avLst>
                <a:gd name="adj" fmla="val 2959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49" name="AutoShape 18"/>
            <p:cNvSpPr/>
            <p:nvPr/>
          </p:nvSpPr>
          <p:spPr>
            <a:xfrm>
              <a:off x="2590920" y="1981080"/>
              <a:ext cx="871920" cy="736560"/>
            </a:xfrm>
            <a:prstGeom prst="hexagon">
              <a:avLst>
                <a:gd name="adj" fmla="val 295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50" name="AutoShape 19"/>
            <p:cNvSpPr/>
            <p:nvPr/>
          </p:nvSpPr>
          <p:spPr>
            <a:xfrm>
              <a:off x="2642040" y="2025360"/>
              <a:ext cx="766440" cy="648000"/>
            </a:xfrm>
            <a:prstGeom prst="hexagon">
              <a:avLst>
                <a:gd name="adj" fmla="val 29569"/>
                <a:gd name="vf" fmla="val 115470"/>
              </a:avLst>
            </a:prstGeom>
            <a:gradFill rotWithShape="0">
              <a:gsLst>
                <a:gs pos="0">
                  <a:srgbClr val="003299"/>
                </a:gs>
                <a:gs pos="100000">
                  <a:srgbClr val="3399ff"/>
                </a:gs>
              </a:gsLst>
              <a:lin ang="81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551" name="Line 20"/>
          <p:cNvSpPr/>
          <p:nvPr/>
        </p:nvSpPr>
        <p:spPr>
          <a:xfrm>
            <a:off x="3294000" y="2666880"/>
            <a:ext cx="5545080" cy="324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52" name="Text Box 22"/>
          <p:cNvSpPr/>
          <p:nvPr/>
        </p:nvSpPr>
        <p:spPr>
          <a:xfrm>
            <a:off x="2847600" y="209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553" name="Group 24"/>
          <p:cNvGrpSpPr/>
          <p:nvPr/>
        </p:nvGrpSpPr>
        <p:grpSpPr>
          <a:xfrm>
            <a:off x="2590920" y="3011400"/>
            <a:ext cx="879480" cy="749520"/>
            <a:chOff x="2590920" y="3011400"/>
            <a:chExt cx="879480" cy="749520"/>
          </a:xfrm>
        </p:grpSpPr>
        <p:sp>
          <p:nvSpPr>
            <p:cNvPr id="554" name="AutoShape 25"/>
            <p:cNvSpPr/>
            <p:nvPr/>
          </p:nvSpPr>
          <p:spPr>
            <a:xfrm>
              <a:off x="2598120" y="3024000"/>
              <a:ext cx="872280" cy="736920"/>
            </a:xfrm>
            <a:prstGeom prst="hexagon">
              <a:avLst>
                <a:gd name="adj" fmla="val 2959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55" name="AutoShape 26"/>
            <p:cNvSpPr/>
            <p:nvPr/>
          </p:nvSpPr>
          <p:spPr>
            <a:xfrm>
              <a:off x="2590920" y="3011400"/>
              <a:ext cx="871920" cy="736560"/>
            </a:xfrm>
            <a:prstGeom prst="hexagon">
              <a:avLst>
                <a:gd name="adj" fmla="val 295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56" name="AutoShape 27"/>
            <p:cNvSpPr/>
            <p:nvPr/>
          </p:nvSpPr>
          <p:spPr>
            <a:xfrm>
              <a:off x="2642040" y="3055680"/>
              <a:ext cx="766440" cy="648000"/>
            </a:xfrm>
            <a:prstGeom prst="hexagon">
              <a:avLst>
                <a:gd name="adj" fmla="val 29569"/>
                <a:gd name="vf" fmla="val 115470"/>
              </a:avLst>
            </a:prstGeom>
            <a:gradFill rotWithShape="0">
              <a:gsLst>
                <a:gs pos="0">
                  <a:srgbClr val="9966ff"/>
                </a:gs>
                <a:gs pos="100000">
                  <a:srgbClr val="472f76"/>
                </a:gs>
              </a:gsLst>
              <a:lin ang="81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557" name="Line 28"/>
          <p:cNvSpPr/>
          <p:nvPr/>
        </p:nvSpPr>
        <p:spPr>
          <a:xfrm>
            <a:off x="3294000" y="3699000"/>
            <a:ext cx="554508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58" name="Text Box 30"/>
          <p:cNvSpPr/>
          <p:nvPr/>
        </p:nvSpPr>
        <p:spPr>
          <a:xfrm>
            <a:off x="2847600" y="312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59" name="Line 33"/>
          <p:cNvSpPr/>
          <p:nvPr/>
        </p:nvSpPr>
        <p:spPr>
          <a:xfrm>
            <a:off x="3294000" y="4702320"/>
            <a:ext cx="554508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2847600" y="4125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561" name="Group 36"/>
          <p:cNvGrpSpPr/>
          <p:nvPr/>
        </p:nvGrpSpPr>
        <p:grpSpPr>
          <a:xfrm>
            <a:off x="2590920" y="4011480"/>
            <a:ext cx="879480" cy="749520"/>
            <a:chOff x="2590920" y="4011480"/>
            <a:chExt cx="879480" cy="749520"/>
          </a:xfrm>
        </p:grpSpPr>
        <p:sp>
          <p:nvSpPr>
            <p:cNvPr id="562" name="AutoShape 37"/>
            <p:cNvSpPr/>
            <p:nvPr/>
          </p:nvSpPr>
          <p:spPr>
            <a:xfrm>
              <a:off x="2598120" y="4024080"/>
              <a:ext cx="872280" cy="736920"/>
            </a:xfrm>
            <a:prstGeom prst="hexagon">
              <a:avLst>
                <a:gd name="adj" fmla="val 2959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63" name="AutoShape 38"/>
            <p:cNvSpPr/>
            <p:nvPr/>
          </p:nvSpPr>
          <p:spPr>
            <a:xfrm>
              <a:off x="2590920" y="4011480"/>
              <a:ext cx="871920" cy="736560"/>
            </a:xfrm>
            <a:prstGeom prst="hexagon">
              <a:avLst>
                <a:gd name="adj" fmla="val 295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64" name="AutoShape 39"/>
            <p:cNvSpPr/>
            <p:nvPr/>
          </p:nvSpPr>
          <p:spPr>
            <a:xfrm>
              <a:off x="2642040" y="4055760"/>
              <a:ext cx="766440" cy="648000"/>
            </a:xfrm>
            <a:prstGeom prst="hexagon">
              <a:avLst>
                <a:gd name="adj" fmla="val 29569"/>
                <a:gd name="vf" fmla="val 115470"/>
              </a:avLst>
            </a:prstGeom>
            <a:gradFill rotWithShape="0">
              <a:gsLst>
                <a:gs pos="0">
                  <a:srgbClr val="003299"/>
                </a:gs>
                <a:gs pos="100000">
                  <a:srgbClr val="3399ff"/>
                </a:gs>
              </a:gsLst>
              <a:lin ang="81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565" name="Text Box 40"/>
          <p:cNvSpPr/>
          <p:nvPr/>
        </p:nvSpPr>
        <p:spPr>
          <a:xfrm>
            <a:off x="2847600" y="4125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66" name="Line 42"/>
          <p:cNvSpPr/>
          <p:nvPr/>
        </p:nvSpPr>
        <p:spPr>
          <a:xfrm>
            <a:off x="3294000" y="5732640"/>
            <a:ext cx="554508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67" name="Text Box 44"/>
          <p:cNvSpPr/>
          <p:nvPr/>
        </p:nvSpPr>
        <p:spPr>
          <a:xfrm>
            <a:off x="2847600" y="515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568" name="Group 45"/>
          <p:cNvGrpSpPr/>
          <p:nvPr/>
        </p:nvGrpSpPr>
        <p:grpSpPr>
          <a:xfrm>
            <a:off x="2590920" y="5041800"/>
            <a:ext cx="879480" cy="749520"/>
            <a:chOff x="2590920" y="5041800"/>
            <a:chExt cx="879480" cy="749520"/>
          </a:xfrm>
        </p:grpSpPr>
        <p:sp>
          <p:nvSpPr>
            <p:cNvPr id="569" name="AutoShape 46"/>
            <p:cNvSpPr/>
            <p:nvPr/>
          </p:nvSpPr>
          <p:spPr>
            <a:xfrm>
              <a:off x="2598120" y="5054400"/>
              <a:ext cx="872280" cy="736920"/>
            </a:xfrm>
            <a:prstGeom prst="hexagon">
              <a:avLst>
                <a:gd name="adj" fmla="val 2959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70" name="AutoShape 47"/>
            <p:cNvSpPr/>
            <p:nvPr/>
          </p:nvSpPr>
          <p:spPr>
            <a:xfrm>
              <a:off x="2590920" y="5041800"/>
              <a:ext cx="871920" cy="736560"/>
            </a:xfrm>
            <a:prstGeom prst="hexagon">
              <a:avLst>
                <a:gd name="adj" fmla="val 295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571" name="AutoShape 48"/>
            <p:cNvSpPr/>
            <p:nvPr/>
          </p:nvSpPr>
          <p:spPr>
            <a:xfrm>
              <a:off x="2642040" y="5086080"/>
              <a:ext cx="766440" cy="648000"/>
            </a:xfrm>
            <a:prstGeom prst="hexagon">
              <a:avLst>
                <a:gd name="adj" fmla="val 29569"/>
                <a:gd name="vf" fmla="val 115470"/>
              </a:avLst>
            </a:prstGeom>
            <a:gradFill rotWithShape="0">
              <a:gsLst>
                <a:gs pos="0">
                  <a:srgbClr val="9966ff"/>
                </a:gs>
                <a:gs pos="100000">
                  <a:srgbClr val="472f76"/>
                </a:gs>
              </a:gsLst>
              <a:lin ang="8100000"/>
            </a:gra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572" name="Text Box 49"/>
          <p:cNvSpPr/>
          <p:nvPr/>
        </p:nvSpPr>
        <p:spPr>
          <a:xfrm>
            <a:off x="2847600" y="515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3" name="Rectangle 52"/>
          <p:cNvSpPr/>
          <p:nvPr/>
        </p:nvSpPr>
        <p:spPr>
          <a:xfrm>
            <a:off x="3124080" y="1981080"/>
            <a:ext cx="571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2000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년 시드니올림픽 개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·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폐막식 작곡가 마리안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부도시의 작곡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유럽의 그레미상이라 불리는 디아파송상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Soza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상 등을 수상한 야로슬라브 등의 세계 최정상급의 수상자들과 함께 제작한 </a:t>
            </a:r>
            <a:r>
              <a:rPr b="1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lt;Princess </a:t>
            </a:r>
            <a:r>
              <a:rPr b="1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낙랑</a:t>
            </a:r>
            <a:r>
              <a:rPr b="1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gt; .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124080" y="30178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무거울 수 있는 비극적 사랑이야기는 때로는 코믹하게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때로는 감동스럽게 그려진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뮤지컬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프린세스 낙랑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gt;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은 한국 공연 이후에도 지속적으로 세계 시장으로 진출을 한다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5" name="Rectangle 55"/>
          <p:cNvSpPr/>
          <p:nvPr/>
        </p:nvSpPr>
        <p:spPr>
          <a:xfrm>
            <a:off x="3879000" y="4191120"/>
            <a:ext cx="454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진화하는 한국 뮤지컬의 또 하나의 청신호로 다가오는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프린세스 낙랑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6" name="Rectangle 56"/>
          <p:cNvSpPr/>
          <p:nvPr/>
        </p:nvSpPr>
        <p:spPr>
          <a:xfrm>
            <a:off x="3505320" y="502920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우리의 설화가 세계적인 뮤지컬로 재탄생해 해외에서의 초연 후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한국을 거쳐 다시 해외시장으로 뻗어나가 새로운 문화 컨텐츠를 만들어 내는 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프린세스 낙랑</a:t>
            </a:r>
            <a:r>
              <a:rPr b="0" lang="en-US" sz="1200" spc="-1" strike="noStrike">
                <a:solidFill>
                  <a:srgbClr val="000000"/>
                </a:solidFill>
                <a:latin typeface="BatangChe"/>
                <a:ea typeface="BatangChe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기타 홍보내용 및 성공요인</a:t>
            </a:r>
            <a:r>
              <a:rPr b="0" lang="en-US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, </a:t>
            </a: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장점부각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78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66"/>
                </a:solidFill>
                <a:latin typeface="Arial Black"/>
              </a:rPr>
              <a:t>使用规范说明</a:t>
            </a:r>
            <a:endParaRPr b="0" i="1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e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Eras Bold ITC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8C6-8B3C-4E8F-822F-A4FA61EB76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8809-4B16-4966-BE18-52E646F96EF1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83" name="슬라이드 번호 개체 틀 4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5B36-50FF-438C-928F-C5E144A9B920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2062080" cy="30492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9" descr=""/>
          <p:cNvPicPr/>
          <p:nvPr/>
        </p:nvPicPr>
        <p:blipFill>
          <a:blip r:embed="rId3"/>
          <a:stretch/>
        </p:blipFill>
        <p:spPr>
          <a:xfrm>
            <a:off x="0" y="608652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586" name="Object 10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587" name="WordArt 11"/>
          <p:cNvSpPr txBox="1"/>
          <p:nvPr/>
        </p:nvSpPr>
        <p:spPr>
          <a:xfrm>
            <a:off x="1905120" y="2438280"/>
            <a:ext cx="55623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cc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80808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cc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080808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graphicFrame>
        <p:nvGraphicFramePr>
          <p:cNvPr id="588" name="Object 12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13"/>
          <p:cNvGraphicFramePr/>
          <p:nvPr/>
        </p:nvGraphicFramePr>
        <p:xfrm>
          <a:off x="7543800" y="990720"/>
          <a:ext cx="137160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990720"/>
                    <a:ext cx="1371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2" name="Picture 5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93" name="슬라이드 번호 개체 틀 4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ABD5-17EE-4823-B2E6-611767D77177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594" name="Picture 14" descr=""/>
          <p:cNvPicPr/>
          <p:nvPr/>
        </p:nvPicPr>
        <p:blipFill>
          <a:blip r:embed="rId10"/>
          <a:stretch/>
        </p:blipFill>
        <p:spPr>
          <a:xfrm>
            <a:off x="228600" y="6553080"/>
            <a:ext cx="206208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5" name="Object 17"/>
          <p:cNvGraphicFramePr/>
          <p:nvPr/>
        </p:nvGraphicFramePr>
        <p:xfrm>
          <a:off x="0" y="6172200"/>
          <a:ext cx="9144000" cy="68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6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617220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7" name="Picture 5" descr=""/>
          <p:cNvPicPr/>
          <p:nvPr/>
        </p:nvPicPr>
        <p:blipFill>
          <a:blip r:embed="rId1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98" name="TextBox 14"/>
          <p:cNvSpPr/>
          <p:nvPr/>
        </p:nvSpPr>
        <p:spPr>
          <a:xfrm>
            <a:off x="2800800" y="4876920"/>
            <a:ext cx="3353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e6"/>
                </a:solidFill>
                <a:uFillTx/>
                <a:latin typeface="Eras Bold ITC"/>
                <a:hlinkClick r:id="rId14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Eras Bold ITC"/>
              </a:rPr>
              <a:t>收集整理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BB3D-077D-4CCD-8213-C0DB504885DC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25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AD95-5220-45A0-B4FA-92CAFDC41841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26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32" name="Picture 29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0"/>
          <p:cNvSpPr/>
          <p:nvPr/>
        </p:nvSpPr>
        <p:spPr>
          <a:xfrm>
            <a:off x="2666880" y="137160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2743200" y="1447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제  목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5" name="Rectangle 52"/>
          <p:cNvSpPr/>
          <p:nvPr/>
        </p:nvSpPr>
        <p:spPr>
          <a:xfrm>
            <a:off x="2666880" y="198108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2666880" y="2057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기획 </a:t>
            </a:r>
            <a:r>
              <a:rPr b="0" lang="en-US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/ </a:t>
            </a: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제작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7" name="Rectangle 54"/>
          <p:cNvSpPr/>
          <p:nvPr/>
        </p:nvSpPr>
        <p:spPr>
          <a:xfrm>
            <a:off x="2666880" y="259092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8" name="Text Box 55"/>
          <p:cNvSpPr/>
          <p:nvPr/>
        </p:nvSpPr>
        <p:spPr>
          <a:xfrm>
            <a:off x="2743200" y="26668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장  르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39" name="Rectangle 56"/>
          <p:cNvSpPr/>
          <p:nvPr/>
        </p:nvSpPr>
        <p:spPr>
          <a:xfrm>
            <a:off x="2666880" y="320040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274320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주  제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1" name="Rectangle 58"/>
          <p:cNvSpPr/>
          <p:nvPr/>
        </p:nvSpPr>
        <p:spPr>
          <a:xfrm>
            <a:off x="2666880" y="380988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2" name="Text Box 59"/>
          <p:cNvSpPr/>
          <p:nvPr/>
        </p:nvSpPr>
        <p:spPr>
          <a:xfrm>
            <a:off x="2743200" y="3886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주요타겟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2666880" y="441972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4" name="Text Box 61"/>
          <p:cNvSpPr/>
          <p:nvPr/>
        </p:nvSpPr>
        <p:spPr>
          <a:xfrm>
            <a:off x="2743200" y="44956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공연일정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5" name="Rectangle 62"/>
          <p:cNvSpPr/>
          <p:nvPr/>
        </p:nvSpPr>
        <p:spPr>
          <a:xfrm>
            <a:off x="2666880" y="502920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6" name="Text Box 63"/>
          <p:cNvSpPr/>
          <p:nvPr/>
        </p:nvSpPr>
        <p:spPr>
          <a:xfrm>
            <a:off x="2743200" y="5105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제작기간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7" name="Rectangle 64"/>
          <p:cNvSpPr/>
          <p:nvPr/>
        </p:nvSpPr>
        <p:spPr>
          <a:xfrm>
            <a:off x="2666880" y="5638680"/>
            <a:ext cx="129564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8" name="Text Box 65"/>
          <p:cNvSpPr/>
          <p:nvPr/>
        </p:nvSpPr>
        <p:spPr>
          <a:xfrm>
            <a:off x="2743200" y="5715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BatangChe"/>
                <a:ea typeface="BatangChe"/>
              </a:rPr>
              <a:t>총 사업비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49" name="Text Box 66"/>
          <p:cNvSpPr/>
          <p:nvPr/>
        </p:nvSpPr>
        <p:spPr>
          <a:xfrm>
            <a:off x="4114800" y="14479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Princess 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낙랑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0" name="Text Box 67"/>
          <p:cNvSpPr/>
          <p:nvPr/>
        </p:nvSpPr>
        <p:spPr>
          <a:xfrm>
            <a:off x="4114800" y="20257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주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밸류피아 공연사업단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1" name="Text Box 68"/>
          <p:cNvSpPr/>
          <p:nvPr/>
        </p:nvSpPr>
        <p:spPr>
          <a:xfrm>
            <a:off x="4114800" y="2635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창작뮤지컬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4114800" y="32446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천년을 뛰어넘는 불멸의 로망스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4114800" y="38545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0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대 후반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~ 30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대 초반의 여성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4114800" y="44640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008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년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월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일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~ 2009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년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월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8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일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5" name="Text Box 72"/>
          <p:cNvSpPr/>
          <p:nvPr/>
        </p:nvSpPr>
        <p:spPr>
          <a:xfrm>
            <a:off x="4114800" y="50734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투자시점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~ 2008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년 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2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월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6" name="Text Box 73"/>
          <p:cNvSpPr/>
          <p:nvPr/>
        </p:nvSpPr>
        <p:spPr>
          <a:xfrm>
            <a:off x="4114800" y="568332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6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억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(50%) ~ 12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억</a:t>
            </a:r>
            <a:r>
              <a:rPr b="0" lang="en-US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(100%) </a:t>
            </a:r>
            <a:r>
              <a:rPr b="0" lang="ko-KR" sz="1600" spc="-1" strike="noStrike">
                <a:solidFill>
                  <a:srgbClr val="000000"/>
                </a:solidFill>
                <a:latin typeface="BatangChe"/>
                <a:ea typeface="BatangChe"/>
              </a:rPr>
              <a:t>예상</a:t>
            </a: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28600" y="4572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작품개요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58" name="Picture 38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2A14-C33E-449B-94FF-2E04B50E873D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6205680" y="2514240"/>
            <a:ext cx="880920" cy="7412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61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2868-8E79-4C4F-9AED-59BEFFF5271C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62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7105320" y="2971800"/>
            <a:ext cx="175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2007. 6.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국립중앙박물관 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달간 공연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3018600" y="2336760"/>
            <a:ext cx="1041120" cy="1111680"/>
            <a:chOff x="3018600" y="2336760"/>
            <a:chExt cx="1041120" cy="1111680"/>
          </a:xfrm>
        </p:grpSpPr>
        <p:sp>
          <p:nvSpPr>
            <p:cNvPr id="170" name="Rectangle 12"/>
            <p:cNvSpPr/>
            <p:nvPr/>
          </p:nvSpPr>
          <p:spPr>
            <a:xfrm rot="3418800">
              <a:off x="3089880" y="2563560"/>
              <a:ext cx="898200" cy="657720"/>
            </a:xfrm>
            <a:prstGeom prst="rect">
              <a:avLst/>
            </a:prstGeom>
            <a:gradFill rotWithShape="0">
              <a:gsLst>
                <a:gs pos="0">
                  <a:srgbClr val="194293"/>
                </a:gs>
                <a:gs pos="100000">
                  <a:srgbClr val="0c1f4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163680" y="27518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atangChe"/>
                  <a:ea typeface="BatangChe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172" name="Group 14"/>
          <p:cNvGrpSpPr/>
          <p:nvPr/>
        </p:nvGrpSpPr>
        <p:grpSpPr>
          <a:xfrm>
            <a:off x="3960000" y="4187880"/>
            <a:ext cx="1040040" cy="1111320"/>
            <a:chOff x="3960000" y="4187880"/>
            <a:chExt cx="1040040" cy="1111320"/>
          </a:xfrm>
        </p:grpSpPr>
        <p:sp>
          <p:nvSpPr>
            <p:cNvPr id="173" name="Rectangle 15"/>
            <p:cNvSpPr/>
            <p:nvPr/>
          </p:nvSpPr>
          <p:spPr>
            <a:xfrm rot="3418800">
              <a:off x="4030560" y="4415040"/>
              <a:ext cx="898560" cy="656640"/>
            </a:xfrm>
            <a:prstGeom prst="rect">
              <a:avLst/>
            </a:prstGeom>
            <a:gradFill rotWithShape="0">
              <a:gsLst>
                <a:gs pos="0">
                  <a:srgbClr val="9999cc"/>
                </a:gs>
                <a:gs pos="100000">
                  <a:srgbClr val="47475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174" name="Text Box 16"/>
            <p:cNvSpPr/>
            <p:nvPr/>
          </p:nvSpPr>
          <p:spPr>
            <a:xfrm>
              <a:off x="4102920" y="4602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atangChe"/>
                  <a:ea typeface="BatangChe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175" name="Group 17"/>
          <p:cNvGrpSpPr/>
          <p:nvPr/>
        </p:nvGrpSpPr>
        <p:grpSpPr>
          <a:xfrm>
            <a:off x="5316120" y="3066840"/>
            <a:ext cx="1039320" cy="1109880"/>
            <a:chOff x="5316120" y="3066840"/>
            <a:chExt cx="1039320" cy="1109880"/>
          </a:xfrm>
        </p:grpSpPr>
        <p:sp>
          <p:nvSpPr>
            <p:cNvPr id="176" name="Rectangle 18"/>
            <p:cNvSpPr/>
            <p:nvPr/>
          </p:nvSpPr>
          <p:spPr>
            <a:xfrm rot="3418800">
              <a:off x="5387040" y="3293280"/>
              <a:ext cx="897120" cy="65664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5e5e6a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177" name="Text Box 19"/>
            <p:cNvSpPr/>
            <p:nvPr/>
          </p:nvSpPr>
          <p:spPr>
            <a:xfrm>
              <a:off x="5458680" y="3483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atangChe"/>
                  <a:ea typeface="BatangChe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6852960" y="1646640"/>
            <a:ext cx="1039320" cy="1110600"/>
            <a:chOff x="6852960" y="1646640"/>
            <a:chExt cx="1039320" cy="1110600"/>
          </a:xfrm>
        </p:grpSpPr>
        <p:sp>
          <p:nvSpPr>
            <p:cNvPr id="179" name="Rectangle 21"/>
            <p:cNvSpPr/>
            <p:nvPr/>
          </p:nvSpPr>
          <p:spPr>
            <a:xfrm rot="3418800">
              <a:off x="6923160" y="1874160"/>
              <a:ext cx="898560" cy="655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180" name="Text Box 22"/>
            <p:cNvSpPr/>
            <p:nvPr/>
          </p:nvSpPr>
          <p:spPr>
            <a:xfrm>
              <a:off x="6994800" y="2062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atangChe"/>
                  <a:ea typeface="BatangChe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</p:grpSp>
      <p:sp>
        <p:nvSpPr>
          <p:cNvPr id="181" name="Line 23"/>
          <p:cNvSpPr/>
          <p:nvPr/>
        </p:nvSpPr>
        <p:spPr>
          <a:xfrm>
            <a:off x="3760920" y="3330720"/>
            <a:ext cx="498240" cy="10364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4808520" y="3847680"/>
            <a:ext cx="698400" cy="5936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3893040" y="5548320"/>
            <a:ext cx="25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2004. 3.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만화완성 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김나수작가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5441040" y="4511520"/>
            <a:ext cx="171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2006. 6.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작곡완성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2006. 10.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유럽초연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267156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2003. 6.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대본완성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86" name="Picture 29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낙랑 프로젝트 연혁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88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5C58-77F0-45ED-8ADC-FE8E4EB1A97F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90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CEE3-B78B-4C9F-8997-05EEAC00EE3C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91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197" name="Picture 11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4572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66"/>
                </a:solidFill>
                <a:latin typeface="BatangChe"/>
                <a:ea typeface="BatangChe"/>
              </a:rPr>
              <a:t>시놉시스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666880" y="2133720"/>
            <a:ext cx="609624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94293"/>
                </a:solidFill>
                <a:latin typeface="BatangChe"/>
                <a:ea typeface="BatangChe"/>
              </a:rPr>
              <a:t>synopsis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세상에서 가장 아름다운 꽃미남 호동왕자는 옥저로 여행을 떠나던 중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원수의 나라인 낙랑국의 왕 최 리를 만나서 낙랑국의 낙랑공주와 만나 사랑을 나누고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호동은 고구려로 돌아왔지만 고구려의 왕인 대무신왕의 반대로 결혼을 할 수 없자 낙랑공주와의 결혼을 위해 아버지의 말씀을 따르고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왕비는 전령을 시켜 편지를 낙랑공주에게 보내 고각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적의 침입을 알리는 북과 피리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을 없애달라는 음모를 꾸민다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공주는 사랑과 조국을 두고 갈등하다가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사랑을 선택하고 고각을 없앤다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마침내 낙랑국은 점령당하고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호동은 낙랑공주를 구하러 갔으나 화살에 맞은 낙랑공주를 멀리서 보고 만다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딸의 죽음을 알게 된 최 리는 호동을 죽이고 만다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두 사람은 하늘로 올라가며 천국에서 못다한 사랑을 이루고자 노래하며 사라진다</a:t>
            </a:r>
            <a:r>
              <a:rPr b="0" lang="en-US" sz="1400" spc="-1" strike="noStrike">
                <a:solidFill>
                  <a:srgbClr val="000000"/>
                </a:solidFill>
                <a:latin typeface="BatangChe"/>
                <a:ea typeface="BatangChe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00" name="Picture 110" descr="로고1"/>
          <p:cNvPicPr/>
          <p:nvPr/>
        </p:nvPicPr>
        <p:blipFill>
          <a:blip r:embed="rId5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B377-0B29-416B-A9C6-539E7832F778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02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2623-4D31-4063-866C-C2625CCF4821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03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09" name="Picture 15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1" descr=""/>
          <p:cNvPicPr/>
          <p:nvPr/>
        </p:nvPicPr>
        <p:blipFill>
          <a:blip r:embed="rId5"/>
          <a:stretch/>
        </p:blipFill>
        <p:spPr>
          <a:xfrm>
            <a:off x="2666880" y="1295280"/>
            <a:ext cx="6096240" cy="5105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2" descr=""/>
          <p:cNvPicPr/>
          <p:nvPr/>
        </p:nvPicPr>
        <p:blipFill>
          <a:blip r:embed="rId6"/>
          <a:stretch/>
        </p:blipFill>
        <p:spPr>
          <a:xfrm>
            <a:off x="7391520" y="1676520"/>
            <a:ext cx="10666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5"/>
          <p:cNvSpPr/>
          <p:nvPr/>
        </p:nvSpPr>
        <p:spPr>
          <a:xfrm>
            <a:off x="1101240" y="53352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프로젝트</a:t>
            </a:r>
            <a:r>
              <a:rPr b="0" lang="ko-KR" sz="1800" spc="-1" strike="noStrike">
                <a:solidFill>
                  <a:srgbClr val="000000"/>
                </a:solidFill>
                <a:latin typeface="BatangChe"/>
                <a:ea typeface="BatangChe"/>
              </a:rPr>
              <a:t> 총감독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13" name="Picture 110" descr="로고1"/>
          <p:cNvPicPr/>
          <p:nvPr/>
        </p:nvPicPr>
        <p:blipFill>
          <a:blip r:embed="rId7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9C74-513C-491C-8286-3B75B5868AEC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15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5239-44CE-4E7C-A4FF-B5E7E9A2B086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16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28600" y="12952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22" name="Picture 16" descr="2"/>
          <p:cNvPicPr/>
          <p:nvPr/>
        </p:nvPicPr>
        <p:blipFill>
          <a:blip r:embed="rId4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"/>
          <p:cNvPicPr/>
          <p:nvPr/>
        </p:nvPicPr>
        <p:blipFill>
          <a:blip r:embed="rId5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20"/>
          <p:cNvGrpSpPr/>
          <p:nvPr/>
        </p:nvGrpSpPr>
        <p:grpSpPr>
          <a:xfrm>
            <a:off x="2438280" y="1600200"/>
            <a:ext cx="6459480" cy="4419720"/>
            <a:chOff x="2438280" y="1600200"/>
            <a:chExt cx="6459480" cy="4419720"/>
          </a:xfrm>
        </p:grpSpPr>
        <p:sp>
          <p:nvSpPr>
            <p:cNvPr id="225" name="AutoShape 10"/>
            <p:cNvSpPr/>
            <p:nvPr/>
          </p:nvSpPr>
          <p:spPr>
            <a:xfrm>
              <a:off x="2438280" y="1600200"/>
              <a:ext cx="6454800" cy="2286000"/>
            </a:xfrm>
            <a:prstGeom prst="roundRect">
              <a:avLst>
                <a:gd name="adj" fmla="val 16667"/>
              </a:avLst>
            </a:prstGeom>
            <a:solidFill>
              <a:srgbClr val="cdffff">
                <a:alpha val="70000"/>
              </a:srgbClr>
            </a:solidFill>
            <a:ln w="5724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3886200" y="1752480"/>
              <a:ext cx="4921200" cy="19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예술총감독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(</a:t>
              </a: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대본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)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휴먼엑스포"/>
                </a:rPr>
                <a:t>–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 </a:t>
              </a: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김수범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오케스트라 비엔나 시립 콘서버토립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OF, SHUWAMIES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클래스에서 트럼펫   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수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BRUCKNER CONSERVATORY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트럼펫과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휘과 수석 졸업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DPROMA)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997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헝가리 사바리아 국립오케스트라와 한국 순회연주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울산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마산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광양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협연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헝가리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SOMMBERTAIL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바르독홀에서 초청연주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998~ 2001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체코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BUDWEISER PHILARMONY ORCHESTRA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수석지휘자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2002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BUDWIESER KAMMER ORCHESTRA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상임지휘자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2003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과천 필 하모니 오케스트라 연주 활동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2003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예술의 전당에서 베세토 오페라단의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‘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마술피리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지휘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2005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루마니아 국립오페라단 전원 초청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카르멘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토스카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라트라비아타 공연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pic>
          <p:nvPicPr>
            <p:cNvPr id="227" name="Picture 12" descr="production1-main02"/>
            <p:cNvPicPr/>
            <p:nvPr/>
          </p:nvPicPr>
          <p:blipFill>
            <a:blip r:embed="rId6"/>
            <a:stretch/>
          </p:blipFill>
          <p:spPr>
            <a:xfrm>
              <a:off x="2639880" y="1960560"/>
              <a:ext cx="11984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13"/>
            <p:cNvSpPr/>
            <p:nvPr/>
          </p:nvSpPr>
          <p:spPr>
            <a:xfrm>
              <a:off x="2438280" y="4191120"/>
              <a:ext cx="6459480" cy="1828800"/>
            </a:xfrm>
            <a:prstGeom prst="roundRect">
              <a:avLst>
                <a:gd name="adj" fmla="val 16667"/>
              </a:avLst>
            </a:prstGeom>
            <a:solidFill>
              <a:srgbClr val="b4b4e6">
                <a:alpha val="70000"/>
              </a:srgbClr>
            </a:solidFill>
            <a:ln w="5724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29" name="Rectangle 14"/>
            <p:cNvSpPr/>
            <p:nvPr/>
          </p:nvSpPr>
          <p:spPr>
            <a:xfrm>
              <a:off x="3886200" y="4343400"/>
              <a:ext cx="476712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연출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휴먼엑스포"/>
                </a:rPr>
                <a:t>–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 </a:t>
              </a: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이범로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한양대학교 음악대학 성악과 졸업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국립오페라단 아카데미 수료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Corsi internazionali di perfezionamento di Regia di Orbieto Istituto musicale Vittadini </a:t>
              </a: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수료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한양대학교 음악대학 출강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예울 음악무대 회원 </a:t>
              </a:r>
              <a:endParaRPr b="0" lang="en-US" sz="12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pic>
          <p:nvPicPr>
            <p:cNvPr id="230" name="Picture 15" descr="연출"/>
            <p:cNvPicPr/>
            <p:nvPr/>
          </p:nvPicPr>
          <p:blipFill>
            <a:blip r:embed="rId7"/>
            <a:stretch/>
          </p:blipFill>
          <p:spPr>
            <a:xfrm>
              <a:off x="2639880" y="4483080"/>
              <a:ext cx="1211400" cy="122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Box 20"/>
          <p:cNvSpPr/>
          <p:nvPr/>
        </p:nvSpPr>
        <p:spPr>
          <a:xfrm>
            <a:off x="987480" y="533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제작진 프로필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32" name="Picture 110" descr="로고1"/>
          <p:cNvPicPr/>
          <p:nvPr/>
        </p:nvPicPr>
        <p:blipFill>
          <a:blip r:embed="rId8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F4B8-37EE-443E-8F7B-8F4AC6DF1950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34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FACE-1009-43FC-B380-ADE177AD056B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35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2438280" y="1600200"/>
            <a:ext cx="6477120" cy="4322880"/>
            <a:chOff x="2438280" y="1600200"/>
            <a:chExt cx="6477120" cy="4322880"/>
          </a:xfrm>
        </p:grpSpPr>
        <p:sp>
          <p:nvSpPr>
            <p:cNvPr id="241" name="AutoShape 9"/>
            <p:cNvSpPr/>
            <p:nvPr/>
          </p:nvSpPr>
          <p:spPr>
            <a:xfrm>
              <a:off x="2438280" y="4267080"/>
              <a:ext cx="6454800" cy="1656000"/>
            </a:xfrm>
            <a:prstGeom prst="roundRect">
              <a:avLst>
                <a:gd name="adj" fmla="val 16667"/>
              </a:avLst>
            </a:prstGeom>
            <a:solidFill>
              <a:srgbClr val="ffc9e4">
                <a:alpha val="70000"/>
              </a:srgbClr>
            </a:solidFill>
            <a:ln w="5724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3902040" y="4510080"/>
              <a:ext cx="4722840" cy="11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의상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휴먼엑스포"/>
                </a:rPr>
                <a:t>–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 </a:t>
              </a: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그레타 리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982. 10 MBC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연속극 황진이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서궁마마 의상 디자인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989. 6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조선왕조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500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한중록 의상 디자인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997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년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BS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대하드라마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“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용의눈물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”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의상 제작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2006. 5 MBC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창사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45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주년 특별기획 드라마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“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주몽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”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의상제작지원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現 경희대학교 객원교수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한성대학교 겸임교수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통복식협회회장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pic>
          <p:nvPicPr>
            <p:cNvPr id="243" name="Picture 11" descr="옷"/>
            <p:cNvPicPr/>
            <p:nvPr/>
          </p:nvPicPr>
          <p:blipFill>
            <a:blip r:embed="rId4"/>
            <a:stretch/>
          </p:blipFill>
          <p:spPr>
            <a:xfrm>
              <a:off x="2639880" y="4483080"/>
              <a:ext cx="121140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AutoShape 12"/>
            <p:cNvSpPr/>
            <p:nvPr/>
          </p:nvSpPr>
          <p:spPr>
            <a:xfrm>
              <a:off x="2438280" y="1600200"/>
              <a:ext cx="6477120" cy="2303640"/>
            </a:xfrm>
            <a:prstGeom prst="roundRect">
              <a:avLst>
                <a:gd name="adj" fmla="val 16667"/>
              </a:avLst>
            </a:prstGeom>
            <a:solidFill>
              <a:srgbClr val="ebffb3">
                <a:alpha val="70000"/>
              </a:srgbClr>
            </a:solidFill>
            <a:ln w="5724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3886200" y="1816200"/>
              <a:ext cx="5029200" cy="19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음악감독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휴먼엑스포"/>
                </a:rPr>
                <a:t>–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 </a:t>
              </a: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남궁민영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단국대학교 음악대학 성악과 졸업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ITALIA CESEN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시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“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B.MADERN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”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국립음악원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DIPROMA(PROF.C.CHIRA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사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  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수석졸업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아카데미아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.I.D.M.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합창지휘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DIPROMA(PROF.A.ADMO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사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수석졸업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998.5.~2001.1. ITALIA B.ROMAGNA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시 초청 독창회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PROF.G.PERONY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반주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VERDI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서거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100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주년 추모 콘서트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2003.4.~ OPERA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‘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유관순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마적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쟌니스키키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등 다수 출연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現 인천선교문화합창단 상임지휘관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부평중앙교회지휘자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단국대학교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서울비젼예술신학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프레이즈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예일음악원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부천고등음악원출강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  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성악앙상블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MICI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단원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STUDIO DELL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RTE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운영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pic>
          <p:nvPicPr>
            <p:cNvPr id="246" name="Picture 14" descr="음악"/>
            <p:cNvPicPr/>
            <p:nvPr/>
          </p:nvPicPr>
          <p:blipFill>
            <a:blip r:embed="rId5"/>
            <a:stretch/>
          </p:blipFill>
          <p:spPr>
            <a:xfrm>
              <a:off x="2639880" y="1959120"/>
              <a:ext cx="1214280" cy="172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Picture 15" descr="2"/>
          <p:cNvPicPr/>
          <p:nvPr/>
        </p:nvPicPr>
        <p:blipFill>
          <a:blip r:embed="rId6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8"/>
          <p:cNvSpPr/>
          <p:nvPr/>
        </p:nvSpPr>
        <p:spPr>
          <a:xfrm>
            <a:off x="987480" y="533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제작진 프로필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49" name="Picture 110" descr="로고1"/>
          <p:cNvPicPr/>
          <p:nvPr/>
        </p:nvPicPr>
        <p:blipFill>
          <a:blip r:embed="rId7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1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FA9C-40D6-4EE4-A98D-9D2A2B4ABE99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51" name="슬라이드 번호 개체 틀 5"/>
          <p:cNvSpPr/>
          <p:nvPr/>
        </p:nvSpPr>
        <p:spPr>
          <a:xfrm>
            <a:off x="6553080" y="6573960"/>
            <a:ext cx="21337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250E-98B5-4EDF-AC31-A316E5867D41}" type="slidenum">
              <a:rPr b="0" lang="ko-KR" sz="1400" spc="-1" strike="noStrike">
                <a:solidFill>
                  <a:srgbClr val="ffffff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52" name="Line 2"/>
          <p:cNvSpPr/>
          <p:nvPr/>
        </p:nvSpPr>
        <p:spPr>
          <a:xfrm>
            <a:off x="2286000" y="1143000"/>
            <a:ext cx="0" cy="5257800"/>
          </a:xfrm>
          <a:prstGeom prst="line">
            <a:avLst/>
          </a:prstGeom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914400" cy="498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358128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공문로고1"/>
          <p:cNvPicPr/>
          <p:nvPr/>
        </p:nvPicPr>
        <p:blipFill>
          <a:blip r:embed="rId3"/>
          <a:stretch/>
        </p:blipFill>
        <p:spPr>
          <a:xfrm>
            <a:off x="152280" y="5029200"/>
            <a:ext cx="1981440" cy="358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8"/>
          <p:cNvSpPr/>
          <p:nvPr/>
        </p:nvSpPr>
        <p:spPr>
          <a:xfrm>
            <a:off x="0" y="5486400"/>
            <a:ext cx="22096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서울시 영등포구 여의도동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35-2 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백상빌딩 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1002</a:t>
            </a:r>
            <a:r>
              <a:rPr b="0" lang="ko-KR" sz="1200" spc="-1" strike="noStrike">
                <a:solidFill>
                  <a:srgbClr val="000000"/>
                </a:solidFill>
                <a:latin typeface="휴먼모음T"/>
              </a:rPr>
              <a:t>호 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Tel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4         </a:t>
            </a:r>
            <a:r>
              <a:rPr b="0" lang="en-US" sz="1200" spc="-1" strike="noStrike">
                <a:solidFill>
                  <a:srgbClr val="9999cc"/>
                </a:solidFill>
                <a:latin typeface="휴먼모음T"/>
              </a:rPr>
              <a:t>Fax.</a:t>
            </a:r>
            <a:r>
              <a:rPr b="0" lang="en-US" sz="1200" spc="-1" strike="noStrike">
                <a:solidFill>
                  <a:srgbClr val="000000"/>
                </a:solidFill>
                <a:latin typeface="휴먼모음T"/>
              </a:rPr>
              <a:t> 02-784-1443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grpSp>
        <p:nvGrpSpPr>
          <p:cNvPr id="257" name="Group 20"/>
          <p:cNvGrpSpPr/>
          <p:nvPr/>
        </p:nvGrpSpPr>
        <p:grpSpPr>
          <a:xfrm>
            <a:off x="2514600" y="1752480"/>
            <a:ext cx="6400800" cy="4103640"/>
            <a:chOff x="2514600" y="1752480"/>
            <a:chExt cx="6400800" cy="4103640"/>
          </a:xfrm>
        </p:grpSpPr>
        <p:sp>
          <p:nvSpPr>
            <p:cNvPr id="258" name="AutoShape 10"/>
            <p:cNvSpPr/>
            <p:nvPr/>
          </p:nvSpPr>
          <p:spPr>
            <a:xfrm>
              <a:off x="2514600" y="1752480"/>
              <a:ext cx="6334200" cy="1727280"/>
            </a:xfrm>
            <a:prstGeom prst="roundRect">
              <a:avLst>
                <a:gd name="adj" fmla="val 16667"/>
              </a:avLst>
            </a:prstGeom>
            <a:solidFill>
              <a:srgbClr val="ffffbd">
                <a:alpha val="70000"/>
              </a:srgbClr>
            </a:solidFill>
            <a:ln w="5724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>
              <a:off x="2514600" y="3913200"/>
              <a:ext cx="6334200" cy="1942920"/>
            </a:xfrm>
            <a:prstGeom prst="roundRect">
              <a:avLst>
                <a:gd name="adj" fmla="val 16667"/>
              </a:avLst>
            </a:prstGeom>
            <a:solidFill>
              <a:srgbClr val="ffdcb9">
                <a:alpha val="70000"/>
              </a:srgbClr>
            </a:solidFill>
            <a:ln w="5724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3967200" y="1968480"/>
              <a:ext cx="4633920" cy="10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해외팀예술감독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휴먼엑스포"/>
                </a:rPr>
                <a:t>–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Jaroslav Stranavsky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유럽과 미주지역에서 영화음악 및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TV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프로그램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BGM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작업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프랑스의 저명한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‘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디아파슨 디올상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’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4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회 수상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일본의 소매이사토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한국의 피아니스트 줄리어스김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미국의 존케이지</a:t>
              </a: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, 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r>
                <a:rPr b="0" lang="ko-KR" sz="1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호주의 마리안 부도스와 앨범작업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3967200" y="4128840"/>
              <a:ext cx="4948200" cy="14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작곡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휴먼엑스포"/>
                </a:rPr>
                <a:t>–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휴먼엑스포"/>
                  <a:ea typeface="휴먼엑스포"/>
                </a:rPr>
                <a:t>Marian Budos, Ivana Troselj</a:t>
              </a:r>
              <a:endParaRPr b="0" lang="en-US" sz="14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1987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년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, CZECHOSLOVAKIAN “PORITICAL SONG CONTEST”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대상 수상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유럽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호주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뉴질랜드에서 활동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내셔널 뮤직페스티발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(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호주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)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의 주요 인사로 소개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2000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시드니 올림픽 개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,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폐막식 작곡가로 활동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영화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,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드라마 배경음악 사용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1998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년 가장 실력있는 작곡가에게 주어지는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SOZA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상 수상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 </a:t>
              </a:r>
              <a:r>
                <a:rPr b="0" lang="ko-KR" sz="1000" spc="-1" strike="noStrike">
                  <a:solidFill>
                    <a:srgbClr val="000000"/>
                  </a:solidFill>
                  <a:latin typeface="Arial"/>
                  <a:ea typeface="휴먼엑스포"/>
                </a:rPr>
                <a:t>세계 팝 가수들의 작곡가로 활동</a:t>
              </a:r>
              <a:endParaRPr b="0" lang="en-US" sz="1000" spc="-1" strike="noStrike">
                <a:solidFill>
                  <a:srgbClr val="000000"/>
                </a:solidFill>
                <a:latin typeface="Eras Bold ITC"/>
              </a:endParaRPr>
            </a:p>
          </p:txBody>
        </p:sp>
        <p:pic>
          <p:nvPicPr>
            <p:cNvPr id="262" name="Picture 14" descr="ㄷ"/>
            <p:cNvPicPr/>
            <p:nvPr/>
          </p:nvPicPr>
          <p:blipFill>
            <a:blip r:embed="rId4"/>
            <a:stretch/>
          </p:blipFill>
          <p:spPr>
            <a:xfrm>
              <a:off x="2712960" y="1968480"/>
              <a:ext cx="118584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5" descr="작곡"/>
            <p:cNvPicPr/>
            <p:nvPr/>
          </p:nvPicPr>
          <p:blipFill>
            <a:blip r:embed="rId5"/>
            <a:stretch/>
          </p:blipFill>
          <p:spPr>
            <a:xfrm>
              <a:off x="2712960" y="4200480"/>
              <a:ext cx="1185840" cy="14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4" name="Picture 16" descr="2"/>
          <p:cNvPicPr/>
          <p:nvPr/>
        </p:nvPicPr>
        <p:blipFill>
          <a:blip r:embed="rId6"/>
          <a:stretch/>
        </p:blipFill>
        <p:spPr>
          <a:xfrm>
            <a:off x="152280" y="4876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8"/>
          <p:cNvSpPr/>
          <p:nvPr/>
        </p:nvSpPr>
        <p:spPr>
          <a:xfrm>
            <a:off x="1079640" y="5335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해외 제작진 프로필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266" name="Picture 110" descr="로고1"/>
          <p:cNvPicPr/>
          <p:nvPr/>
        </p:nvPicPr>
        <p:blipFill>
          <a:blip r:embed="rId7"/>
          <a:stretch/>
        </p:blipFill>
        <p:spPr>
          <a:xfrm>
            <a:off x="7696080" y="30492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20:30:29Z</dcterms:created>
  <dc:creator>www.eeppt.com</dc:creator>
  <dc:description>www.eeppt.com</dc:description>
  <dc:language>en-US</dc:language>
  <cp:lastModifiedBy>haobaopc04</cp:lastModifiedBy>
  <dcterms:modified xsi:type="dcterms:W3CDTF">2015-08-14T12:52:43Z</dcterms:modified>
  <cp:revision>209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