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0BF4F-9709-4736-8B9D-FBADAB076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81154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3718080"/>
            <a:ext cx="81154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22E80-3B53-4B2F-AFAA-C0EFA6CF6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8040" y="114300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371808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8040" y="371808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BD04E-BC69-4BC7-BB32-F32252370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26128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3600" y="1143000"/>
            <a:ext cx="26128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7520" y="1143000"/>
            <a:ext cx="26128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3718080"/>
            <a:ext cx="26128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3600" y="3718080"/>
            <a:ext cx="26128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7520" y="3718080"/>
            <a:ext cx="26128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9DAED-0F97-441D-BAD2-8FF8A9D60D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143000"/>
            <a:ext cx="81154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5153E-F161-4CB3-B65D-DF54C0D484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8115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82AD4-EE35-4431-8BF6-A84EF1449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3960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8040" y="1143000"/>
            <a:ext cx="3960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82771-793D-4977-BD3A-454548971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CAF5F-0B05-4BE5-98D1-187BDD194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13B58-8495-47AF-ABF8-861EE71BA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8040" y="1143000"/>
            <a:ext cx="3960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371808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DA2A3-BECA-433A-8BFE-74C2864EB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3960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8040" y="114300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8040" y="371808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918A7-678C-4FA8-B487-D949FEAA0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8040" y="114300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3718080"/>
            <a:ext cx="81154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58573-7575-4B73-92B5-AB3BAA10A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1" descr="EP151_L.jpg"/>
          <p:cNvPicPr/>
          <p:nvPr/>
        </p:nvPicPr>
        <p:blipFill>
          <a:blip r:embed="rId2"/>
          <a:srcRect l="0" t="0" r="0" b="12502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1" name="正方形/長方形 10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76a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428760" y="1000080"/>
            <a:ext cx="82864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9680" y="1143000"/>
            <a:ext cx="8115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572160" y="6357960"/>
            <a:ext cx="144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07192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5002-1833-4A96-BF55-D10C5B739DA6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正方形/長方形 8"/>
          <p:cNvSpPr/>
          <p:nvPr/>
        </p:nvSpPr>
        <p:spPr>
          <a:xfrm>
            <a:off x="-413640" y="6357960"/>
            <a:ext cx="48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NEW PROJECT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1"/>
          <p:cNvSpPr/>
          <p:nvPr/>
        </p:nvSpPr>
        <p:spPr>
          <a:xfrm>
            <a:off x="0" y="0"/>
            <a:ext cx="9144000" cy="600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2" descr="EP151_L.jpg"/>
          <p:cNvPicPr/>
          <p:nvPr/>
        </p:nvPicPr>
        <p:blipFill>
          <a:blip r:embed="rId1"/>
          <a:srcRect l="0" t="0" r="0" b="12502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46" name="正方形/長方形 3"/>
          <p:cNvSpPr/>
          <p:nvPr/>
        </p:nvSpPr>
        <p:spPr>
          <a:xfrm>
            <a:off x="0" y="600084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608120" y="1000080"/>
            <a:ext cx="59292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ＤＦ特太ゴシック体"/>
                <a:ea typeface="ＤＦ特太ゴシック体"/>
              </a:rPr>
              <a:t>メインタイトルを入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サブタイトル 2"/>
          <p:cNvSpPr/>
          <p:nvPr/>
        </p:nvSpPr>
        <p:spPr>
          <a:xfrm>
            <a:off x="2036880" y="1571760"/>
            <a:ext cx="5072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ＤＦ特太ゴシック体"/>
                <a:ea typeface="ＤＦ特太ゴシック体"/>
              </a:rPr>
              <a:t>サブタイトルを入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サブタイトル 2"/>
          <p:cNvSpPr/>
          <p:nvPr/>
        </p:nvSpPr>
        <p:spPr>
          <a:xfrm>
            <a:off x="0" y="6000840"/>
            <a:ext cx="9144000" cy="8571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cbf96"/>
                </a:solidFill>
                <a:latin typeface="Century Gothic"/>
              </a:rPr>
              <a:t>NEW PROJECT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サブタイトル 2"/>
          <p:cNvSpPr/>
          <p:nvPr/>
        </p:nvSpPr>
        <p:spPr>
          <a:xfrm>
            <a:off x="3322800" y="4929120"/>
            <a:ext cx="2500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527d55"/>
                </a:solidFill>
                <a:latin typeface="Calibri"/>
                <a:ea typeface="MS PGothic"/>
              </a:rPr>
              <a:t>提出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サブタイトル 2"/>
          <p:cNvSpPr/>
          <p:nvPr/>
        </p:nvSpPr>
        <p:spPr>
          <a:xfrm>
            <a:off x="3608280" y="5500800"/>
            <a:ext cx="1928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527d55"/>
                </a:solidFill>
                <a:latin typeface="Calibri"/>
                <a:ea typeface="MS PGothic"/>
              </a:rPr>
              <a:t>ロゴ・提出社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サブタイトル 2"/>
          <p:cNvSpPr/>
          <p:nvPr/>
        </p:nvSpPr>
        <p:spPr>
          <a:xfrm>
            <a:off x="3608280" y="428760"/>
            <a:ext cx="1928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alibri"/>
                <a:ea typeface="MS PGothic"/>
              </a:rPr>
              <a:t>提出先社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99680" y="1143000"/>
            <a:ext cx="8115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b5353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9C019-E55F-4E94-AE64-EB55B72050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6:54:00Z</dcterms:created>
  <dc:creator>www.eeppt.com</dc:creator>
  <dc:description>www.eeppt.com</dc:description>
  <dc:language>en-US</dc:language>
  <cp:lastModifiedBy>杨光</cp:lastModifiedBy>
  <dcterms:modified xsi:type="dcterms:W3CDTF">2015-08-14T12:52:42Z</dcterms:modified>
  <cp:revision>18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