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D04-943D-4F89-9718-B52AA02E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781-1A1D-46A6-9C18-5AD4505B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7B3-5468-4601-BADD-9B16DC0F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0E4-FD92-4C53-99BC-12EF837E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0BED-3C0F-43D8-AD6F-33564A3C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D0D5-207F-4605-BEF0-03215DFD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581-2109-4D48-A6BA-9E04E55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7DF3-2E6A-430E-9AAE-8142F94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2BAF-3467-40EA-BD92-12E411BE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3739-8F7B-42D5-ADA9-3C381853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47A-6CA9-4EC1-AC38-A50B874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A68-41F4-4E03-B688-237F804B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488C-A130-4024-93E5-8327072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F3A6-8F21-4358-A39A-5FBCD79B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9D2B-33D4-4B68-A367-0009741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15A1-B76B-4A86-A26D-1A81277A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ADE2-AD8D-4374-9AA4-E05BEFE7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89F-7BFA-482F-9774-E23AE236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538-D0C5-43EF-A6B8-5FC03480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FF8-6C1F-40B4-A0CA-F438C1B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799-5578-40E6-8B52-5FB797B4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07E-42E6-43E6-A4A9-4190846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8E5-4BCF-4DED-B3D8-CBE0EA4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60C-94E3-4EF6-AB50-EC6D84A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09A-A670-4134-8D3B-0FE66D0AA6B4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A31-4C25-4584-BAB9-28FDBBFE26B0}" type="slidenum">
              <a:rPr b="0" lang="ja-JP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4360" y="401760"/>
            <a:ext cx="464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教 師 簡 歷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4560" y="156024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姓名：黃勝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學歷：武陵高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東吳大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台中師院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90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級師資班畢業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獲獎：第四十四屆中小學科展桃園市展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生活與應用科學組第三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桃園縣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95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學年度教師創意教學獎優等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教學年資：六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8360" y="44280"/>
            <a:ext cx="50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活泼背景个人简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cc17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7E7-675D-480D-B59A-F82A3175E6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16000" y="2997360"/>
            <a:ext cx="331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7cc17"/>
                </a:solidFill>
                <a:latin typeface="Arial"/>
                <a:ea typeface="DFKai-SB"/>
              </a:rPr>
              <a:t>謝謝聆聽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理念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前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PMingLiU"/>
              </a:rPr>
              <a:t>--2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世紀，我們究竟能給孩子甚麼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主動學習、吸收新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鍛鍊良好體魄、奠定學習基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獨立、自主、挑戰新世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策略〈一〉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640" y="1552320"/>
            <a:ext cx="8136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主動學習、吸收新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PMingLiU"/>
              </a:rPr>
              <a:t>同儕協助與激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小老師制度，協助落後同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個人與小組表現並重，激勵同儕相互打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PMingLiU"/>
              </a:rPr>
              <a:t>獎懲制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以獎勵為主，正向鼓勵：集點換禮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以懲罰為輔，消極抑制：勞動服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PMingLiU"/>
              </a:rPr>
              <a:t>多元學習活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教室布置加入相關課程小活動，提供有獎徵答，贈送獎勵點數：數學動動腦、語文遊樂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部分活動以學生擔任講授者，促其主動學習：體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參訪活動：英語村、戶外教學〈故宮、天文館等，未定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每人有自由使用教室電腦時間，加廣新知吸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策略〈二〉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126684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鍛鍊良好體魄、奠定學習基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良好飲食習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禁止攜帶零食到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三餐定時、定量，早餐不到校，午餐吃光光運動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餐後刷牙不怕痛，周二漱口水活動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望遠凝視，遠離近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充足體能活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教育部要求每週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21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體能活動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每週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節體育課計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8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，第二節健康操時間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計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，加計週四晨間體適能小活動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4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，加計週六、週日體能小作業，充足活動身心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心理衛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聯合慶生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期末同樂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說笑話比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策略〈三〉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03736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獨立、自主、挑戰新世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我們一家都是長，培養負責，獨立處理事務能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推行每日一家事運動，促其主動協助家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鼔勵同學生參與校內外學藝競賽，只要有意願，每位學生都有挑戰自我的機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鼓勵其自我表達，班上小事由學生決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避免自主變成自我、獨立變成獨行，週二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晨間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安排一節品德教育，增進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EQ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促其欣賞自己之餘同時也能欣賞別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7cc17"/>
                </a:solidFill>
                <a:latin typeface="Arial"/>
                <a:ea typeface="DFKai-SB"/>
              </a:rPr>
              <a:t>成績計算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06640" y="1341360"/>
            <a:ext cx="8037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PMingLiU"/>
              </a:rPr>
              <a:t>學期總成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日常成績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品德成績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以生活常規為主，如晨間檢查、健康操等計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其它成績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服務工作等計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學科總成績加權計算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70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期中、期末考成績加計授課節數計算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4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平時作業繳交、上課表現等計分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另外期中、期末考獎狀發放以期中、期末考分數直接加總排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畢業總成績以五、六年級四個學期總成績平均為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實務結合學校願景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0373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主動學習、吸收新知            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  <a:ea typeface="PMingLiU"/>
              </a:rPr>
              <a:t>勤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鍛鍊良好體魄、奠定學習基礎           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  <a:ea typeface="PMingLiU"/>
              </a:rPr>
              <a:t>活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獨立、自主、挑戰新世紀            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  <a:ea typeface="PMingLiU"/>
              </a:rPr>
              <a:t>自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適應快速變遷環境的西門兒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140976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69120" y="242568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4520" y="350208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140360" y="429264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本學期重要行事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0/6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六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運動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1/8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四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1/9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五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期中定期考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學生專題研究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----12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月報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會長盃音樂競賽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合唱比賽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12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英語體驗活動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快樂國小英語村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12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1/8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1/9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三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)-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期末定期考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/18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五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結業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/19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六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寒假開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638172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請家長協助事項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03736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每天在孩子的班級聯絡簿上簽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課業方面，視自己孩子的學習狀況，殷殷叮嚀或偶爾抽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體育服如有洗滌未乾情形，請讓貴子弟攜帶一件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T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恤到校更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課業之餘，盡量讓孩子參與分擔家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有任何問題請直接和老師溝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3:12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