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4A7-9343-4ACD-812A-2A8FE328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EEF-3656-4945-B5C2-9AB6BF1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58C-2557-4008-85C5-C66D555B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EB0-9062-422D-ADE7-4EC00762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234-5A5B-4E07-8E01-0728E75A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53E-68FA-453F-BE97-5A4A7BC3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2C4-94F1-4179-8868-AC59C29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036-D5B1-4A1C-8E36-8BD84C3D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F24-F13B-43BE-AEAB-06EFB31E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EFE-9AE8-43A5-80BF-E777731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A8C-88DF-4AD2-8663-E7E9E2E0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27F-7AE8-480C-AAC8-F506958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3"/>
          <a:stretch/>
        </p:blipFill>
        <p:spPr>
          <a:xfrm>
            <a:off x="6638760" y="4941720"/>
            <a:ext cx="2505240" cy="1916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65520"/>
            <a:ext cx="28958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6552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63BA-8453-41F3-8FC8-C97B10595698}" type="slidenum">
              <a:rPr b="0" lang="en-US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8"/>
          <p:cNvGrpSpPr/>
          <p:nvPr/>
        </p:nvGrpSpPr>
        <p:grpSpPr>
          <a:xfrm>
            <a:off x="0" y="22320"/>
            <a:ext cx="9144000" cy="6848280"/>
            <a:chOff x="0" y="22320"/>
            <a:chExt cx="9144000" cy="6848280"/>
          </a:xfrm>
        </p:grpSpPr>
        <p:grpSp>
          <p:nvGrpSpPr>
            <p:cNvPr id="43" name="组合 9"/>
            <p:cNvGrpSpPr/>
            <p:nvPr/>
          </p:nvGrpSpPr>
          <p:grpSpPr>
            <a:xfrm>
              <a:off x="0" y="169200"/>
              <a:ext cx="9144000" cy="6701400"/>
              <a:chOff x="0" y="169200"/>
              <a:chExt cx="9144000" cy="6701400"/>
            </a:xfrm>
          </p:grpSpPr>
          <p:grpSp>
            <p:nvGrpSpPr>
              <p:cNvPr id="44" name="组合 3"/>
              <p:cNvGrpSpPr/>
              <p:nvPr/>
            </p:nvGrpSpPr>
            <p:grpSpPr>
              <a:xfrm>
                <a:off x="0" y="442440"/>
                <a:ext cx="9144000" cy="6428160"/>
                <a:chOff x="0" y="442440"/>
                <a:chExt cx="9144000" cy="6428160"/>
              </a:xfrm>
            </p:grpSpPr>
            <p:pic>
              <p:nvPicPr>
                <p:cNvPr id="45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442440"/>
                  <a:ext cx="9144000" cy="642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矩形 17"/>
                <p:cNvSpPr/>
                <p:nvPr/>
              </p:nvSpPr>
              <p:spPr>
                <a:xfrm>
                  <a:off x="611280" y="3032280"/>
                  <a:ext cx="3275640" cy="2818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" name="矩形 14"/>
              <p:cNvSpPr/>
              <p:nvPr/>
            </p:nvSpPr>
            <p:spPr>
              <a:xfrm>
                <a:off x="3887280" y="169200"/>
                <a:ext cx="4428000" cy="19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矩形 15"/>
              <p:cNvSpPr/>
              <p:nvPr/>
            </p:nvSpPr>
            <p:spPr>
              <a:xfrm>
                <a:off x="4140000" y="895320"/>
                <a:ext cx="2376000" cy="19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矩形 10"/>
            <p:cNvSpPr/>
            <p:nvPr/>
          </p:nvSpPr>
          <p:spPr>
            <a:xfrm>
              <a:off x="0" y="3502800"/>
              <a:ext cx="4428000" cy="28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TextBox 10" descr=""/>
            <p:cNvPicPr/>
            <p:nvPr/>
          </p:nvPicPr>
          <p:blipFill>
            <a:blip r:embed="rId3"/>
            <a:stretch/>
          </p:blipFill>
          <p:spPr>
            <a:xfrm>
              <a:off x="597240" y="3177720"/>
              <a:ext cx="3590640" cy="27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TextBox 11" descr=""/>
            <p:cNvPicPr/>
            <p:nvPr/>
          </p:nvPicPr>
          <p:blipFill>
            <a:blip r:embed="rId4"/>
            <a:stretch/>
          </p:blipFill>
          <p:spPr>
            <a:xfrm>
              <a:off x="3913560" y="22320"/>
              <a:ext cx="4279320" cy="280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矩形 17"/>
          <p:cNvGrpSpPr/>
          <p:nvPr/>
        </p:nvGrpSpPr>
        <p:grpSpPr>
          <a:xfrm>
            <a:off x="0" y="4243320"/>
            <a:ext cx="9144000" cy="2065320"/>
            <a:chOff x="0" y="4243320"/>
            <a:chExt cx="9144000" cy="2065320"/>
          </a:xfrm>
        </p:grpSpPr>
        <p:pic>
          <p:nvPicPr>
            <p:cNvPr id="53" name="矩形 17" descr=""/>
            <p:cNvPicPr/>
            <p:nvPr/>
          </p:nvPicPr>
          <p:blipFill>
            <a:blip r:embed="rId5"/>
            <a:stretch/>
          </p:blipFill>
          <p:spPr>
            <a:xfrm>
              <a:off x="0" y="4243320"/>
              <a:ext cx="914400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0" y="4243320"/>
              <a:ext cx="9144000" cy="20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5760" y="4762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红色年终报告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新增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雅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</p:txBody>
      </p:sp>
      <p:pic>
        <p:nvPicPr>
          <p:cNvPr id="97" name="Picture 10" descr="2810"/>
          <p:cNvPicPr/>
          <p:nvPr/>
        </p:nvPicPr>
        <p:blipFill>
          <a:blip r:embed="rId6"/>
          <a:srcRect l="18369" t="85554" r="17396" b="-4530"/>
          <a:stretch/>
        </p:blipFill>
        <p:spPr>
          <a:xfrm>
            <a:off x="7093080" y="917640"/>
            <a:ext cx="2050920" cy="350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126828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JhengHe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Microsoft JhengHe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JhengHei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Microsoft JhengHe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9C7-47EE-4519-AF58-23DDBA590A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rcRect l="0" t="0" r="2006" b="26319"/>
          <a:stretch/>
        </p:blipFill>
        <p:spPr>
          <a:xfrm>
            <a:off x="2268360" y="2703600"/>
            <a:ext cx="687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08:59:17Z</dcterms:created>
  <dc:creator/>
  <dc:description/>
  <dc:language>en-US</dc:language>
  <cp:lastModifiedBy/>
  <dcterms:modified xsi:type="dcterms:W3CDTF">2015-08-14T12:52:33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