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D76-B122-4CFE-8B43-CC724F0C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DF8-DE43-4A6A-AAB4-759BD18B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D43-79B7-4590-B544-9DD6F462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E66-EE81-459E-B0A2-5E762F0E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01A-BC34-4B6B-AD38-35058F0E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6CC-7638-4EEF-ADD9-D7EF0116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E54-7FD4-4A4A-8AC0-535CCC86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A3D-3744-4382-AA76-CFB1BC89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6D6-C85D-49EA-9978-AC13E688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1F1-F9B7-4896-A73B-F63CA31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9A3-A172-40CD-AFBC-1F1B074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AC4-B976-4CE2-8D4C-CD4003BF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DA61-CEAD-4A24-A516-E354CC1D65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4054-731E-4A8C-8EB0-22AE1BBF67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E:\A;\ppt材料\ppt素材\图片+封面\00f341161f11f0364a90a7b8.jpg"/>
          <p:cNvPicPr/>
          <p:nvPr/>
        </p:nvPicPr>
        <p:blipFill>
          <a:blip r:embed="rId2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A;\ppt材料\ppt素材\图片+封面\00f341161f11f0364a90a7b8.jpg"/>
          <p:cNvPicPr/>
          <p:nvPr/>
        </p:nvPicPr>
        <p:blipFill>
          <a:blip r:embed="rId1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A;\ppt材料\ppt素材\图片+封面\00f341161f11f0364a90a7b8.jpg"/>
          <p:cNvPicPr/>
          <p:nvPr/>
        </p:nvPicPr>
        <p:blipFill>
          <a:blip r:embed="rId3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E:\A;\ppt材料\ppt本人原创\菜鸟微竞赛2\剪纸\6955351_160407047332_2.jpg"/>
          <p:cNvPicPr/>
          <p:nvPr/>
        </p:nvPicPr>
        <p:blipFill>
          <a:blip r:embed="rId4"/>
          <a:srcRect l="1892" t="1764" r="1038" b="1920"/>
          <a:stretch/>
        </p:blipFill>
        <p:spPr>
          <a:xfrm>
            <a:off x="654120" y="1266840"/>
            <a:ext cx="2458800" cy="243828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8"/>
          <p:cNvSpPr/>
          <p:nvPr/>
        </p:nvSpPr>
        <p:spPr>
          <a:xfrm>
            <a:off x="3305160" y="2394000"/>
            <a:ext cx="4722840" cy="14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3232080" y="189396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01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POWERPOINT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083280" y="23781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70000" y="4842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红色喜庆节日汇报婚庆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1192320" y="1384200"/>
            <a:ext cx="696600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一、蛇年大吉</a:t>
            </a: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1192320" y="3759120"/>
            <a:ext cx="6966000" cy="43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五、吉祥如意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1192320" y="1952640"/>
            <a:ext cx="696600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二、恭喜发财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1192320" y="2536920"/>
            <a:ext cx="6966000" cy="42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三、万事如意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1192320" y="3119400"/>
            <a:ext cx="6966000" cy="43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四、阖家欢乐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8"/>
          <p:cNvSpPr/>
          <p:nvPr/>
        </p:nvSpPr>
        <p:spPr>
          <a:xfrm rot="21375600">
            <a:off x="-555120" y="4309560"/>
            <a:ext cx="9769320" cy="695520"/>
          </a:xfrm>
          <a:prstGeom prst="pie">
            <a:avLst/>
          </a:prstGeom>
          <a:solidFill>
            <a:srgbClr val="ff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9"/>
          <p:cNvSpPr/>
          <p:nvPr/>
        </p:nvSpPr>
        <p:spPr>
          <a:xfrm>
            <a:off x="-587520" y="4462560"/>
            <a:ext cx="9767880" cy="695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3906720" y="61272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行楷"/>
                <a:ea typeface="华文行楷"/>
              </a:rPr>
              <a:t>新年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237-527E-44C5-AF9A-FEB7F9E8E3A4}" type="slidenum">
              <a:t>2</a:t>
            </a:fld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900"/>
                            </p:stCondLst>
                            <p:childTnLst>
                              <p:par>
                                <p:cTn id="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300"/>
                            </p:stCondLst>
                            <p:childTnLst>
                              <p:par>
                                <p:cTn id="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700"/>
                            </p:stCondLst>
                            <p:childTnLst>
                              <p:par>
                                <p:cTn id="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100"/>
                            </p:stCondLst>
                            <p:childTnLst>
                              <p:par>
                                <p:cTn id="7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sp>
        <p:nvSpPr>
          <p:cNvPr id="61" name="矩形 3"/>
          <p:cNvSpPr/>
          <p:nvPr/>
        </p:nvSpPr>
        <p:spPr>
          <a:xfrm>
            <a:off x="885960" y="1457280"/>
            <a:ext cx="1804680" cy="2592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2735280" y="1457280"/>
            <a:ext cx="1843200" cy="25923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6492960" y="1457280"/>
            <a:ext cx="1805040" cy="2592360"/>
          </a:xfrm>
          <a:prstGeom prst="rect">
            <a:avLst/>
          </a:prstGeom>
          <a:solidFill>
            <a:srgbClr val="d70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4610160" y="1457280"/>
            <a:ext cx="1843200" cy="259236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9"/>
          <p:cNvSpPr/>
          <p:nvPr/>
        </p:nvSpPr>
        <p:spPr>
          <a:xfrm>
            <a:off x="885960" y="1380960"/>
            <a:ext cx="74120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1"/>
          <p:cNvSpPr/>
          <p:nvPr/>
        </p:nvSpPr>
        <p:spPr>
          <a:xfrm>
            <a:off x="905040" y="4146480"/>
            <a:ext cx="74120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"/>
                            </p:stCondLst>
                            <p:childTnLst>
                              <p:par>
                                <p:cTn id="1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50"/>
                            </p:stCondLst>
                            <p:childTnLst>
                              <p:par>
                                <p:cTn id="1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3"/>
          <p:cNvGrpSpPr/>
          <p:nvPr/>
        </p:nvGrpSpPr>
        <p:grpSpPr>
          <a:xfrm>
            <a:off x="2536920" y="758880"/>
            <a:ext cx="5607000" cy="1843200"/>
            <a:chOff x="2536920" y="758880"/>
            <a:chExt cx="5607000" cy="1843200"/>
          </a:xfrm>
        </p:grpSpPr>
        <p:sp>
          <p:nvSpPr>
            <p:cNvPr id="69" name="矩形 4"/>
            <p:cNvSpPr/>
            <p:nvPr/>
          </p:nvSpPr>
          <p:spPr>
            <a:xfrm>
              <a:off x="2536920" y="759240"/>
              <a:ext cx="2880360" cy="184284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2" descr="E:\A;\ppt材料\ppt本人原创\win8界面ppt\1196293278-2382314.jpg"/>
            <p:cNvPicPr/>
            <p:nvPr/>
          </p:nvPicPr>
          <p:blipFill>
            <a:blip r:embed="rId2"/>
            <a:stretch/>
          </p:blipFill>
          <p:spPr>
            <a:xfrm>
              <a:off x="5280120" y="758880"/>
              <a:ext cx="2863800" cy="18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5"/>
          <p:cNvGrpSpPr/>
          <p:nvPr/>
        </p:nvGrpSpPr>
        <p:grpSpPr>
          <a:xfrm>
            <a:off x="2536920" y="2717640"/>
            <a:ext cx="5607000" cy="1766880"/>
            <a:chOff x="2536920" y="2717640"/>
            <a:chExt cx="5607000" cy="1766880"/>
          </a:xfrm>
        </p:grpSpPr>
        <p:sp>
          <p:nvSpPr>
            <p:cNvPr id="72" name="矩形 6"/>
            <p:cNvSpPr/>
            <p:nvPr/>
          </p:nvSpPr>
          <p:spPr>
            <a:xfrm>
              <a:off x="2536920" y="2729160"/>
              <a:ext cx="2880360" cy="1755360"/>
            </a:xfrm>
            <a:prstGeom prst="rect">
              <a:avLst/>
            </a:prstGeom>
            <a:solidFill>
              <a:srgbClr val="d70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3" descr="E:\A;\ppt材料\ppt本人原创\win8界面ppt\9928bb4c32f0a20a874dcd215acfffcf.jpg"/>
            <p:cNvPicPr/>
            <p:nvPr/>
          </p:nvPicPr>
          <p:blipFill>
            <a:blip r:embed="rId3"/>
            <a:srcRect l="6652" t="12174" r="28165" b="14161"/>
            <a:stretch/>
          </p:blipFill>
          <p:spPr>
            <a:xfrm>
              <a:off x="5280120" y="2717640"/>
              <a:ext cx="2863800" cy="17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直接连接符 9"/>
          <p:cNvSpPr/>
          <p:nvPr/>
        </p:nvSpPr>
        <p:spPr>
          <a:xfrm>
            <a:off x="2536920" y="668160"/>
            <a:ext cx="5607000" cy="180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1"/>
          <p:cNvSpPr/>
          <p:nvPr/>
        </p:nvSpPr>
        <p:spPr>
          <a:xfrm>
            <a:off x="2536920" y="2665440"/>
            <a:ext cx="5607000" cy="14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4"/>
          <p:cNvSpPr/>
          <p:nvPr/>
        </p:nvSpPr>
        <p:spPr>
          <a:xfrm>
            <a:off x="2536920" y="4548240"/>
            <a:ext cx="560700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114560" y="17654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华文行楷"/>
                <a:ea typeface="华文行楷"/>
              </a:rPr>
              <a:t>图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96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"/>
          <p:cNvSpPr/>
          <p:nvPr/>
        </p:nvSpPr>
        <p:spPr>
          <a:xfrm>
            <a:off x="3649680" y="758880"/>
            <a:ext cx="3417840" cy="5382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2728800" y="1701720"/>
            <a:ext cx="3490920" cy="5382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885960" y="3494160"/>
            <a:ext cx="3417840" cy="538200"/>
          </a:xfrm>
          <a:prstGeom prst="rect">
            <a:avLst/>
          </a:prstGeom>
          <a:solidFill>
            <a:srgbClr val="d70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1854360" y="2610000"/>
            <a:ext cx="3489120" cy="5378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2"/>
          <p:cNvGrpSpPr/>
          <p:nvPr/>
        </p:nvGrpSpPr>
        <p:grpSpPr>
          <a:xfrm>
            <a:off x="692280" y="689040"/>
            <a:ext cx="7897680" cy="3906720"/>
            <a:chOff x="692280" y="689040"/>
            <a:chExt cx="7897680" cy="3906720"/>
          </a:xfrm>
        </p:grpSpPr>
        <p:sp>
          <p:nvSpPr>
            <p:cNvPr id="84" name="直接连接符 9"/>
            <p:cNvSpPr/>
            <p:nvPr/>
          </p:nvSpPr>
          <p:spPr>
            <a:xfrm flipH="1">
              <a:off x="692280" y="4595760"/>
              <a:ext cx="78976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10"/>
            <p:cNvSpPr/>
            <p:nvPr/>
          </p:nvSpPr>
          <p:spPr>
            <a:xfrm flipV="1">
              <a:off x="8589960" y="689040"/>
              <a:ext cx="0" cy="39067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A;\ppt材料\ppt素材\图片+封面\00f341161f11f0364a90a7b8.jpg"/>
          <p:cNvPicPr/>
          <p:nvPr/>
        </p:nvPicPr>
        <p:blipFill>
          <a:blip r:embed="rId1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16"/>
          <p:cNvGrpSpPr/>
          <p:nvPr/>
        </p:nvGrpSpPr>
        <p:grpSpPr>
          <a:xfrm>
            <a:off x="1228680" y="641520"/>
            <a:ext cx="6835680" cy="922320"/>
            <a:chOff x="1228680" y="641520"/>
            <a:chExt cx="6835680" cy="922320"/>
          </a:xfrm>
        </p:grpSpPr>
        <p:sp>
          <p:nvSpPr>
            <p:cNvPr id="89" name="圆角矩形 5"/>
            <p:cNvSpPr/>
            <p:nvPr/>
          </p:nvSpPr>
          <p:spPr>
            <a:xfrm>
              <a:off x="1441800" y="641520"/>
              <a:ext cx="662256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"/>
            <p:cNvSpPr/>
            <p:nvPr/>
          </p:nvSpPr>
          <p:spPr>
            <a:xfrm>
              <a:off x="1228680" y="871200"/>
              <a:ext cx="383760" cy="4143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5"/>
          <p:cNvGrpSpPr/>
          <p:nvPr/>
        </p:nvGrpSpPr>
        <p:grpSpPr>
          <a:xfrm>
            <a:off x="1228680" y="1604880"/>
            <a:ext cx="6835680" cy="922320"/>
            <a:chOff x="1228680" y="1604880"/>
            <a:chExt cx="6835680" cy="922320"/>
          </a:xfrm>
        </p:grpSpPr>
        <p:sp>
          <p:nvSpPr>
            <p:cNvPr id="92" name="圆角矩形 6"/>
            <p:cNvSpPr/>
            <p:nvPr/>
          </p:nvSpPr>
          <p:spPr>
            <a:xfrm>
              <a:off x="1459440" y="1604880"/>
              <a:ext cx="660492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2"/>
            <p:cNvSpPr/>
            <p:nvPr/>
          </p:nvSpPr>
          <p:spPr>
            <a:xfrm>
              <a:off x="1228680" y="1827000"/>
              <a:ext cx="392040" cy="41436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3"/>
          <p:cNvGrpSpPr/>
          <p:nvPr/>
        </p:nvGrpSpPr>
        <p:grpSpPr>
          <a:xfrm>
            <a:off x="1228680" y="3549600"/>
            <a:ext cx="6835680" cy="920880"/>
            <a:chOff x="1228680" y="3549600"/>
            <a:chExt cx="6835680" cy="920880"/>
          </a:xfrm>
        </p:grpSpPr>
        <p:sp>
          <p:nvSpPr>
            <p:cNvPr id="95" name="圆角矩形 8"/>
            <p:cNvSpPr/>
            <p:nvPr/>
          </p:nvSpPr>
          <p:spPr>
            <a:xfrm>
              <a:off x="1459440" y="3549600"/>
              <a:ext cx="6604920" cy="92088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3"/>
            <p:cNvSpPr/>
            <p:nvPr/>
          </p:nvSpPr>
          <p:spPr>
            <a:xfrm>
              <a:off x="1228680" y="3768840"/>
              <a:ext cx="383760" cy="414000"/>
            </a:xfrm>
            <a:prstGeom prst="rect">
              <a:avLst/>
            </a:prstGeom>
            <a:solidFill>
              <a:srgbClr val="d70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4"/>
          <p:cNvGrpSpPr/>
          <p:nvPr/>
        </p:nvGrpSpPr>
        <p:grpSpPr>
          <a:xfrm>
            <a:off x="1228680" y="2576520"/>
            <a:ext cx="6835680" cy="922320"/>
            <a:chOff x="1228680" y="2576520"/>
            <a:chExt cx="6835680" cy="922320"/>
          </a:xfrm>
        </p:grpSpPr>
        <p:sp>
          <p:nvSpPr>
            <p:cNvPr id="98" name="圆角矩形 7"/>
            <p:cNvSpPr/>
            <p:nvPr/>
          </p:nvSpPr>
          <p:spPr>
            <a:xfrm>
              <a:off x="1459440" y="2576520"/>
              <a:ext cx="660492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4"/>
            <p:cNvSpPr/>
            <p:nvPr/>
          </p:nvSpPr>
          <p:spPr>
            <a:xfrm>
              <a:off x="1228680" y="2796120"/>
              <a:ext cx="392040" cy="41436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E:\A;\ppt材料\ppt素材\图片+封面\00f341161f11f0364a90a7b8.jpg"/>
          <p:cNvPicPr/>
          <p:nvPr/>
        </p:nvPicPr>
        <p:blipFill>
          <a:blip r:embed="rId1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5D0-50D0-45AD-A256-37FBE7514E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 rot="1632000">
            <a:off x="2282760" y="983880"/>
            <a:ext cx="424080" cy="31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7428E-006 L 0.46771 4.67428E-006 E">
                                      <p:cBhvr>
                                        <p:cTn id="20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4:48:00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6:07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