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31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442040"/>
            <a:ext cx="731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35697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133720"/>
            <a:ext cx="35697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442040"/>
            <a:ext cx="35697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442040"/>
            <a:ext cx="35697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13372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13372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44204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44204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44204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1337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35697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133720"/>
            <a:ext cx="35697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76520" y="1519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35697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133720"/>
            <a:ext cx="35697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442040"/>
            <a:ext cx="35697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1337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35697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133720"/>
            <a:ext cx="35697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442040"/>
            <a:ext cx="35697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35697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133720"/>
            <a:ext cx="35697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442040"/>
            <a:ext cx="731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31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442040"/>
            <a:ext cx="731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35697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133720"/>
            <a:ext cx="35697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442040"/>
            <a:ext cx="35697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442040"/>
            <a:ext cx="35697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13372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13372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44204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44204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44204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35697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133720"/>
            <a:ext cx="35697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676520" y="1519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35697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133720"/>
            <a:ext cx="35697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442040"/>
            <a:ext cx="35697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35697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133720"/>
            <a:ext cx="35697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442040"/>
            <a:ext cx="35697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35697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133720"/>
            <a:ext cx="35697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442040"/>
            <a:ext cx="7315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1337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1337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457200"/>
            <a:ext cx="8578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icrosoft Sans Serif"/>
                <a:ea typeface="宋体"/>
              </a:rPr>
              <a:t>黄色炫彩</a:t>
            </a:r>
            <a:r>
              <a:rPr b="0" lang="en-US" sz="3600" spc="-1" strike="noStrike">
                <a:solidFill>
                  <a:srgbClr val="000000"/>
                </a:solidFill>
                <a:latin typeface="Microsoft Sans Serif"/>
                <a:ea typeface="宋体"/>
              </a:rPr>
              <a:t>年会会议</a:t>
            </a:r>
            <a:r>
              <a:rPr b="0" lang="en-US" sz="3600" spc="-1" strike="noStrike">
                <a:solidFill>
                  <a:srgbClr val="000000"/>
                </a:solidFill>
                <a:latin typeface="Microsoft Sans Serif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Microsoft Sans Serif"/>
                <a:ea typeface="宋体"/>
              </a:rPr>
              <a:t>模板打包下载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990720" y="21337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"/>
          <p:cNvSpPr/>
          <p:nvPr/>
        </p:nvSpPr>
        <p:spPr>
          <a:xfrm>
            <a:off x="3060720" y="1123920"/>
            <a:ext cx="56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ffb11d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Microsoft Sans Serif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特别说明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b11d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21337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520" y="127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2:47:2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52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