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F41-EAB1-4B17-B85F-4B4AE0AB2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E797-2A4D-4252-9429-E3F60346F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391E-FE73-41F4-87F0-4DE6B25F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A616-E2E0-4770-B957-6EEC60C9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89A67-3C09-4F34-9CE1-EA605C82B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9BA9-FA2F-402E-9701-525BB0A8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F3A8-2534-4FD2-9EDA-492D43D2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F32A-DB1E-4608-8AFB-953C1EB2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A74E-BBA6-4E4C-B63C-8B102BBA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C179-353C-4448-9F0C-18DB93A2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4760-FBFB-4852-B1BC-B61C2ED4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FDF-1FCB-4ADA-BE83-1BB261374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DFE8-5DF0-45FE-A657-2537B819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BD84-B889-4FE4-8910-DBE3ADCD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B4561-DAF4-42B0-9A2A-3599C63E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B68B6-3B14-4987-9D7D-1B366DA0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A200-A2E1-43CE-9609-83B12B963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2F68E-9C23-452D-AB65-2105971F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5C5E2-F211-498C-A1E7-DDCDAF21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A8314-9A6C-4F41-9F73-CC1D40F7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315EB-B636-46E1-804A-1CCCE6ED4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55440F-FF08-4CC7-857D-078DAD62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09D-D9DA-4FCD-A9E9-EFD9BA44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C1735-6A95-4BDB-AD23-0C0CFFAA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E9AA2-160D-495D-A883-BCA074D8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90D6E-7E87-43E2-B2B7-64AEE41E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90935-EE23-4930-89E5-181C60EB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660C5-2C49-47F7-B9B1-F74D1FD8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BCC03-4104-4736-8BF1-3F604507B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81F8F-0C48-45F1-9343-0FA4E012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8CA1-DE77-4169-B4B9-C3B4998E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91F1-D6FF-43DA-9849-9DF02FAF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2916-F850-4DDA-AA68-6C530C3A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B608-20AB-449A-AEA4-C3B70923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989C-C0CA-4D1E-88EF-634B3B7E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87FF-0EC8-47C4-8392-B536FC69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CC4A-0210-437C-B579-66B4BF14CC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" name="图片 7" descr=""/>
          <p:cNvPicPr/>
          <p:nvPr/>
        </p:nvPicPr>
        <p:blipFill>
          <a:blip r:embed="rId2"/>
          <a:stretch/>
        </p:blipFill>
        <p:spPr>
          <a:xfrm>
            <a:off x="0" y="144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9" descr=""/>
          <p:cNvPicPr/>
          <p:nvPr/>
        </p:nvPicPr>
        <p:blipFill>
          <a:blip r:embed="rId2"/>
          <a:stretch/>
        </p:blipFill>
        <p:spPr>
          <a:xfrm>
            <a:off x="0" y="1440"/>
            <a:ext cx="914724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DCF1-5196-4D18-8BEC-E16240884E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E2BA-BD2A-4370-9269-BD9E00DFC2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图片 7" descr=""/>
          <p:cNvPicPr/>
          <p:nvPr/>
        </p:nvPicPr>
        <p:blipFill>
          <a:blip r:embed="rId2"/>
          <a:stretch/>
        </p:blipFill>
        <p:spPr>
          <a:xfrm>
            <a:off x="0" y="1440"/>
            <a:ext cx="914724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1627200" y="1703520"/>
            <a:ext cx="5889600" cy="3456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98989"/>
                </a:solidFill>
                <a:latin typeface="Calibri"/>
              </a:rPr>
              <a:t>黄色炫彩</a:t>
            </a: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898989"/>
                </a:solidFill>
                <a:latin typeface="Calibri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C:\Users\ChangChun\Desktop\ppt01.png"/>
          <p:cNvPicPr/>
          <p:nvPr/>
        </p:nvPicPr>
        <p:blipFill>
          <a:blip r:embed="rId1"/>
          <a:stretch/>
        </p:blipFill>
        <p:spPr>
          <a:xfrm>
            <a:off x="1030320" y="2206800"/>
            <a:ext cx="7023240" cy="1901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92160" y="6448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22160" y="3057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22160" y="15570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7842240" y="36360"/>
            <a:ext cx="12794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7842240" y="36360"/>
            <a:ext cx="1279440" cy="944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D113-5C7F-4470-830E-251EC11118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8T10:19:21Z</dcterms:created>
  <dc:creator>幻灯片之家：www.eeppt.com</dc:creator>
  <dc:description>幻灯片之家：www.eeppt.com</dc:description>
  <cp:keywords>幻灯片之家：www.eeppt.com</cp:keywords>
  <dc:language>en-US</dc:language>
  <cp:lastModifiedBy>雨林木风</cp:lastModifiedBy>
  <dcterms:modified xsi:type="dcterms:W3CDTF">2015-08-12T14:36:32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NXTAG2">
    <vt:lpwstr>0008007a10000000000001024100</vt:lpwstr>
  </property>
</Properties>
</file>