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himes.wav" TargetMode="External"/><Relationship Id="rId2" Type="http://schemas.microsoft.com/office/2007/relationships/media" Target="file:///tmp/home/.config/libreoffice/4/user/gallery/chimes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546"/>
          <p:cNvSpPr/>
          <p:nvPr/>
        </p:nvSpPr>
        <p:spPr>
          <a:xfrm rot="3071400">
            <a:off x="226080" y="3308760"/>
            <a:ext cx="841320" cy="792000"/>
          </a:xfrm>
          <a:custGeom>
            <a:avLst/>
            <a:gdLst>
              <a:gd name="textAreaLeft" fmla="*/ 289440 w 841320"/>
              <a:gd name="textAreaRight" fmla="*/ 551880 w 841320"/>
              <a:gd name="textAreaTop" fmla="*/ 272520 h 792000"/>
              <a:gd name="textAreaBottom" fmla="*/ 51948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AutoShape 549"/>
          <p:cNvSpPr/>
          <p:nvPr/>
        </p:nvSpPr>
        <p:spPr>
          <a:xfrm flipH="1" rot="3072000">
            <a:off x="7702560" y="3078000"/>
            <a:ext cx="1163520" cy="1204920"/>
          </a:xfrm>
          <a:custGeom>
            <a:avLst/>
            <a:gdLst>
              <a:gd name="textAreaLeft" fmla="*/ 536400 w 1163520"/>
              <a:gd name="textAreaRight" fmla="*/ 627120 w 1163520"/>
              <a:gd name="textAreaTop" fmla="*/ 555480 h 1204920"/>
              <a:gd name="textAreaBottom" fmla="*/ 649440 h 12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AutoShape 550"/>
          <p:cNvSpPr/>
          <p:nvPr/>
        </p:nvSpPr>
        <p:spPr>
          <a:xfrm flipV="1" rot="381000">
            <a:off x="7812000" y="3284640"/>
            <a:ext cx="936720" cy="815760"/>
          </a:xfrm>
          <a:custGeom>
            <a:avLst/>
            <a:gdLst>
              <a:gd name="textAreaLeft" fmla="*/ 432360 w 936720"/>
              <a:gd name="textAreaRight" fmla="*/ 504360 w 936720"/>
              <a:gd name="textAreaTop" fmla="*/ 376560 h 815760"/>
              <a:gd name="textAreaBottom" fmla="*/ 439200 h 815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674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4360" y="646200"/>
            <a:ext cx="44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51pptmoban.com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8840" y="2743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会议开幕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77778E-007 -1.11111E-006 L 0.82309 0.00162 E">
                                      <p:cBhvr>
                                        <p:cTn id="11" dur="3000" fill="hold"/>
                                        <p:tgtEl>
                                          <p:spTgt spid="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599520">
                                      <p:cBhvr>
                                        <p:cTn id="13" dur="5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53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3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30" dur="20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799520">
                                      <p:cBhvr>
                                        <p:cTn id="32" dur="2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53">
                                  <p:stCondLst>
                                    <p:cond delay="3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3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3000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3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33"/>
          <p:cNvSpPr txBox="1"/>
          <p:nvPr/>
        </p:nvSpPr>
        <p:spPr>
          <a:xfrm>
            <a:off x="1114560" y="2276640"/>
            <a:ext cx="6913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181818"/>
                    </a:gs>
                  </a:gsLst>
                  <a:lin ang="5400000"/>
                </a:gradFill>
                <a:latin typeface="黑体"/>
              </a:rPr>
              <a:t>--</a:t>
            </a: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181818"/>
                    </a:gs>
                  </a:gsLst>
                  <a:lin ang="5400000"/>
                </a:gradFill>
                <a:latin typeface="黑体"/>
              </a:rPr>
              <a:t>此处可以加名称</a:t>
            </a: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181818"/>
                    </a:gs>
                  </a:gsLst>
                  <a:lin ang="5400000"/>
                </a:gradFill>
                <a:latin typeface="黑体"/>
              </a:rPr>
              <a:t>--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ff"/>
                  </a:gs>
                  <a:gs pos="100000">
                    <a:srgbClr val="181818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6858000"/>
            <a:ext cx="873000" cy="6494760"/>
          </a:xfrm>
          <a:prstGeom prst="rect">
            <a:avLst/>
          </a:pr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方正综艺繁体"/>
                <a:ea typeface="方正综艺繁体"/>
              </a:rPr>
              <a:t>此处加想放的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028000" y="8629560"/>
            <a:ext cx="1044720" cy="866160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方正琥珀繁体"/>
              </a:rPr>
              <a:t>此处加想放的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3293720"/>
            <a:ext cx="1046160" cy="1739880"/>
          </a:xfrm>
          <a:prstGeom prst="rect">
            <a:avLst/>
          </a:prstGeom>
          <a:solidFill>
            <a:srgbClr val="0000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仿宋"/>
              </a:rPr>
              <a:t>此处加想放的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940360" y="7532640"/>
            <a:ext cx="1044720" cy="7885440"/>
          </a:xfrm>
          <a:prstGeom prst="rect">
            <a:avLst/>
          </a:prstGeom>
          <a:solidFill>
            <a:srgbClr val="000000">
              <a:alpha val="2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方正大标宋繁体"/>
              </a:rPr>
              <a:t>此处加想放的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11280" y="12069720"/>
            <a:ext cx="1044720" cy="3458880"/>
          </a:xfrm>
          <a:prstGeom prst="rect">
            <a:avLst/>
          </a:pr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流行体简体"/>
              </a:rPr>
              <a:t>此处加想放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99080" y="10845720"/>
            <a:ext cx="647640" cy="5287320"/>
          </a:xfrm>
          <a:prstGeom prst="rect">
            <a:avLst/>
          </a:prstGeom>
          <a:solidFill>
            <a:srgbClr val="000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粗倩简体"/>
              </a:rPr>
              <a:t>此处加想放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10917360"/>
            <a:ext cx="648000" cy="8661600"/>
          </a:xfrm>
          <a:prstGeom prst="rect">
            <a:avLst/>
          </a:prstGeom>
          <a:solidFill>
            <a:srgbClr val="0000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方正启体繁体"/>
              </a:rPr>
              <a:t>此处加想放的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11493360"/>
            <a:ext cx="648000" cy="5287320"/>
          </a:xfrm>
          <a:prstGeom prst="rect">
            <a:avLst/>
          </a:prstGeom>
          <a:solidFill>
            <a:srgbClr val="0000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方正黄草简体"/>
              </a:rPr>
              <a:t>此处加想放的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flowChartAlternateProcess">
            <a:avLst/>
          </a:prstGeom>
          <a:solidFill>
            <a:srgbClr val="ff0000">
              <a:alpha val="83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50002" t="7567" r="0" b="8368"/>
          <a:stretch/>
        </p:blipFill>
        <p:spPr>
          <a:xfrm>
            <a:off x="9144000" y="0"/>
            <a:ext cx="4572000" cy="6872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0" t="7567" r="50383" b="8368"/>
          <a:stretch/>
        </p:blipFill>
        <p:spPr>
          <a:xfrm>
            <a:off x="-4689360" y="0"/>
            <a:ext cx="468936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-66600" y="0"/>
            <a:ext cx="9210600" cy="6851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91440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04722 4.07407E-006 L -0.0493 -2.38102 E">
                                      <p:cBhvr>
                                        <p:cTn id="59" dur="5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13576 3.7037E-006 L -0.13785 -2.38102 E">
                                      <p:cBhvr>
                                        <p:cTn id="6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01563 -2.22222E-006 L -0.01771 -2.38102 E">
                                      <p:cBhvr>
                                        <p:cTn id="63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10226 4.07407E-006 L -0.10434 -2.38102 E">
                                      <p:cBhvr>
                                        <p:cTn id="65" dur="5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03525 1.11111E-006 L -0.03733 -2.38102 E">
                                      <p:cBhvr>
                                        <p:cTn id="67" dur="3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04723 4.07407E-006 L -0.04931 -2.38102 E">
                                      <p:cBhvr>
                                        <p:cTn id="69" dur="5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09062 -2.59259E-006 L -0.09271 -2.38102 E">
                                      <p:cBhvr>
                                        <p:cTn id="71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0.01771 -3.7037E-007 L -0.01979 -2.38102 E">
                                      <p:cBhvr>
                                        <p:cTn id="73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59445 L 5.55556E-007 -2.67107 E">
                                      <p:cBhvr>
                                        <p:cTn id="8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5" descr="FM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1" descr="04.png"/>
          <p:cNvPicPr/>
          <p:nvPr/>
        </p:nvPicPr>
        <p:blipFill>
          <a:blip r:embed="rId2"/>
          <a:stretch/>
        </p:blipFill>
        <p:spPr>
          <a:xfrm>
            <a:off x="0" y="3205080"/>
            <a:ext cx="9144000" cy="3141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6" descr="12.png"/>
          <p:cNvPicPr/>
          <p:nvPr/>
        </p:nvPicPr>
        <p:blipFill>
          <a:blip r:embed="rId3"/>
          <a:stretch/>
        </p:blipFill>
        <p:spPr>
          <a:xfrm>
            <a:off x="0" y="3478320"/>
            <a:ext cx="7812000" cy="960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5" descr="07.png"/>
          <p:cNvPicPr/>
          <p:nvPr/>
        </p:nvPicPr>
        <p:blipFill>
          <a:blip r:embed="rId4"/>
          <a:stretch/>
        </p:blipFill>
        <p:spPr>
          <a:xfrm>
            <a:off x="690480" y="1111320"/>
            <a:ext cx="7761240" cy="3327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1" descr="07.png"/>
          <p:cNvPicPr/>
          <p:nvPr/>
        </p:nvPicPr>
        <p:blipFill>
          <a:blip r:embed="rId5"/>
          <a:stretch/>
        </p:blipFill>
        <p:spPr>
          <a:xfrm>
            <a:off x="843120" y="1044720"/>
            <a:ext cx="7761240" cy="33271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07.png"/>
          <p:cNvPicPr/>
          <p:nvPr/>
        </p:nvPicPr>
        <p:blipFill>
          <a:blip r:embed="rId6"/>
          <a:stretch/>
        </p:blipFill>
        <p:spPr>
          <a:xfrm>
            <a:off x="690480" y="2284560"/>
            <a:ext cx="7761240" cy="33271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1" descr="04.png"/>
          <p:cNvPicPr/>
          <p:nvPr/>
        </p:nvPicPr>
        <p:blipFill>
          <a:blip r:embed="rId7"/>
          <a:stretch/>
        </p:blipFill>
        <p:spPr>
          <a:xfrm>
            <a:off x="0" y="0"/>
            <a:ext cx="9144000" cy="27082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73080" y="2700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643280" y="2700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39640" y="2349360"/>
            <a:ext cx="820908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华文琥珀"/>
              </a:rPr>
              <a:t>xxxxxxxxxxxxxxxxxxxxxxx</a:t>
            </a: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华文琥珀"/>
              </a:rPr>
              <a:t>会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华文琥珀"/>
              <a:ea typeface="华文琥珀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0"/>
          <a:srcRect l="0" t="7567" r="50383" b="8368"/>
          <a:stretch/>
        </p:blipFill>
        <p:spPr>
          <a:xfrm>
            <a:off x="0" y="0"/>
            <a:ext cx="4560840" cy="687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-69840" y="-619200"/>
            <a:ext cx="9213840" cy="817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7" presetSubtype="8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7" presetSubtype="2">
                                  <p:stCondLst>
                                    <p:cond delay="8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9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8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4T11:15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0:4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