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5D0A-65BF-40D5-A66B-5E992E387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600" y="1522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0a6ee"/>
              </a:solidFill>
              <a:latin typeface="-윤고딕140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129492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dd7f3"/>
              </a:solidFill>
              <a:latin typeface="-윤고딕140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71600" y="380232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dd7f3"/>
              </a:solidFill>
              <a:latin typeface="-윤고딕1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8D31-413B-4ED4-93F4-C4B6B5903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600" y="1522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0a6ee"/>
              </a:solidFill>
              <a:latin typeface="-윤고딕140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129492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dd7f3"/>
              </a:solidFill>
              <a:latin typeface="-윤고딕140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20280" y="129492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dd7f3"/>
              </a:solidFill>
              <a:latin typeface="-윤고딕140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380232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dd7f3"/>
              </a:solidFill>
              <a:latin typeface="-윤고딕140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20280" y="380232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dd7f3"/>
              </a:solidFill>
              <a:latin typeface="-윤고딕1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5C09-6321-4B5F-B0C1-05C0E9A21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600" y="1522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0a6ee"/>
              </a:solidFill>
              <a:latin typeface="-윤고딕140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129492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dd7f3"/>
              </a:solidFill>
              <a:latin typeface="-윤고딕140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44800" y="129492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dd7f3"/>
              </a:solidFill>
              <a:latin typeface="-윤고딕140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8000" y="129492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dd7f3"/>
              </a:solidFill>
              <a:latin typeface="-윤고딕140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71600" y="380232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dd7f3"/>
              </a:solidFill>
              <a:latin typeface="-윤고딕140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44800" y="380232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dd7f3"/>
              </a:solidFill>
              <a:latin typeface="-윤고딕140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8000" y="380232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dd7f3"/>
              </a:solidFill>
              <a:latin typeface="-윤고딕1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302A-E0E4-4816-B3B6-A05EB1A04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8B7EB-B9DC-4BA0-81E1-B867C73D5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1522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0a6ee"/>
              </a:solidFill>
              <a:latin typeface="-윤고딕140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129492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a0f5"/>
              </a:solidFill>
              <a:latin typeface="-윤고딕1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6181C-BB6D-49CA-A635-6F269F185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600" y="1522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0a6ee"/>
              </a:solidFill>
              <a:latin typeface="-윤고딕140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129492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dd7f3"/>
              </a:solidFill>
              <a:latin typeface="-윤고딕1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2BF89-8917-4176-8301-ECEDBF326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600" y="1522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0a6ee"/>
              </a:solidFill>
              <a:latin typeface="-윤고딕140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129492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dd7f3"/>
              </a:solidFill>
              <a:latin typeface="-윤고딕140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20280" y="129492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dd7f3"/>
              </a:solidFill>
              <a:latin typeface="-윤고딕1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670ED-8F31-4E83-91EF-9156EEBEE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600" y="1522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0a6ee"/>
              </a:solidFill>
              <a:latin typeface="-윤고딕1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04352-CD23-4D41-B6FA-87731BD52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71600" y="152280"/>
            <a:ext cx="73152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a0f5"/>
              </a:solidFill>
              <a:latin typeface="-윤고딕1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8B1C3-B553-46A0-8825-71148FD59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600" y="1522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0a6ee"/>
              </a:solidFill>
              <a:latin typeface="-윤고딕140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129492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dd7f3"/>
              </a:solidFill>
              <a:latin typeface="-윤고딕140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20280" y="129492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dd7f3"/>
              </a:solidFill>
              <a:latin typeface="-윤고딕140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380232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dd7f3"/>
              </a:solidFill>
              <a:latin typeface="-윤고딕1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E8033-AEAC-4A5D-998A-3E19A6A65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600" y="1522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0a6ee"/>
              </a:solidFill>
              <a:latin typeface="-윤고딕140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71600" y="129492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a0f5"/>
              </a:solidFill>
              <a:latin typeface="-윤고딕1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6E07-E039-456C-8804-41B1D0333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600" y="1522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0a6ee"/>
              </a:solidFill>
              <a:latin typeface="-윤고딕140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129492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dd7f3"/>
              </a:solidFill>
              <a:latin typeface="-윤고딕140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20280" y="129492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dd7f3"/>
              </a:solidFill>
              <a:latin typeface="-윤고딕140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20280" y="380232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dd7f3"/>
              </a:solidFill>
              <a:latin typeface="-윤고딕1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02CE1-2E8C-4F7E-B275-BE6ABB689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1522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0a6ee"/>
              </a:solidFill>
              <a:latin typeface="-윤고딕140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129492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dd7f3"/>
              </a:solidFill>
              <a:latin typeface="-윤고딕140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20280" y="129492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dd7f3"/>
              </a:solidFill>
              <a:latin typeface="-윤고딕140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380232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dd7f3"/>
              </a:solidFill>
              <a:latin typeface="-윤고딕1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1CD86-D0EA-45F0-AB8E-16160BDBF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600" y="1522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0a6ee"/>
              </a:solidFill>
              <a:latin typeface="-윤고딕140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129492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dd7f3"/>
              </a:solidFill>
              <a:latin typeface="-윤고딕140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380232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dd7f3"/>
              </a:solidFill>
              <a:latin typeface="-윤고딕1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FA4E4-0C71-4303-A875-1D187BE3C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600" y="1522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0a6ee"/>
              </a:solidFill>
              <a:latin typeface="-윤고딕140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129492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dd7f3"/>
              </a:solidFill>
              <a:latin typeface="-윤고딕140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20280" y="129492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dd7f3"/>
              </a:solidFill>
              <a:latin typeface="-윤고딕140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380232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dd7f3"/>
              </a:solidFill>
              <a:latin typeface="-윤고딕140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20280" y="380232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dd7f3"/>
              </a:solidFill>
              <a:latin typeface="-윤고딕1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3D728-A8F0-4B62-AEEE-7724E4C9E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600" y="1522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0a6ee"/>
              </a:solidFill>
              <a:latin typeface="-윤고딕140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129492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dd7f3"/>
              </a:solidFill>
              <a:latin typeface="-윤고딕140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844800" y="129492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dd7f3"/>
              </a:solidFill>
              <a:latin typeface="-윤고딕140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18000" y="129492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dd7f3"/>
              </a:solidFill>
              <a:latin typeface="-윤고딕140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380232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dd7f3"/>
              </a:solidFill>
              <a:latin typeface="-윤고딕140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844800" y="380232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dd7f3"/>
              </a:solidFill>
              <a:latin typeface="-윤고딕140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18000" y="380232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dd7f3"/>
              </a:solidFill>
              <a:latin typeface="-윤고딕1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1DD77-59F1-4312-A84A-D78F7BE55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600" y="1522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0a6ee"/>
              </a:solidFill>
              <a:latin typeface="-윤고딕140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129492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dd7f3"/>
              </a:solidFill>
              <a:latin typeface="-윤고딕1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C00C-9B87-4C4F-8767-EE4CEFC8F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600" y="1522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0a6ee"/>
              </a:solidFill>
              <a:latin typeface="-윤고딕140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129492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dd7f3"/>
              </a:solidFill>
              <a:latin typeface="-윤고딕140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20280" y="129492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dd7f3"/>
              </a:solidFill>
              <a:latin typeface="-윤고딕1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C5DD-72D4-49E8-A16C-84FB380E8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600" y="1522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0a6ee"/>
              </a:solidFill>
              <a:latin typeface="-윤고딕1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75A5-A4A1-4C91-9BA1-8DC322A85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71600" y="152280"/>
            <a:ext cx="73152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a0f5"/>
              </a:solidFill>
              <a:latin typeface="-윤고딕1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14D2-8EF3-40E1-B9F7-7028B2FFD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600" y="1522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0a6ee"/>
              </a:solidFill>
              <a:latin typeface="-윤고딕140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129492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dd7f3"/>
              </a:solidFill>
              <a:latin typeface="-윤고딕140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20280" y="129492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dd7f3"/>
              </a:solidFill>
              <a:latin typeface="-윤고딕140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71600" y="380232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dd7f3"/>
              </a:solidFill>
              <a:latin typeface="-윤고딕1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387D-7B0C-4856-9CF0-A349B243C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600" y="1522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0a6ee"/>
              </a:solidFill>
              <a:latin typeface="-윤고딕140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129492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dd7f3"/>
              </a:solidFill>
              <a:latin typeface="-윤고딕140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20280" y="129492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dd7f3"/>
              </a:solidFill>
              <a:latin typeface="-윤고딕140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20280" y="380232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dd7f3"/>
              </a:solidFill>
              <a:latin typeface="-윤고딕1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FD36-D329-464B-A7EB-23F06292A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600" y="1522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0a6ee"/>
              </a:solidFill>
              <a:latin typeface="-윤고딕140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129492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dd7f3"/>
              </a:solidFill>
              <a:latin typeface="-윤고딕140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20280" y="129492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dd7f3"/>
              </a:solidFill>
              <a:latin typeface="-윤고딕140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600" y="380232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dd7f3"/>
              </a:solidFill>
              <a:latin typeface="-윤고딕1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1EB2-CB67-46EB-A57D-AD423611E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600" y="1522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0a6ee"/>
                </a:solidFill>
                <a:latin typeface="-윤고딕140"/>
              </a:rPr>
              <a:t>Click to edit the title text format</a:t>
            </a:r>
            <a:endParaRPr b="0" lang="en-US" sz="3000" spc="-1" strike="noStrike">
              <a:solidFill>
                <a:srgbClr val="a0a6ee"/>
              </a:solidFill>
              <a:latin typeface="-윤고딕140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371600" y="129492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dd7f3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dd7f3"/>
                </a:solidFill>
                <a:latin typeface="-윤고딕140"/>
              </a:rPr>
              <a:t>Click to edit the outline text format</a:t>
            </a:r>
            <a:endParaRPr b="0" lang="en-US" sz="2000" spc="-1" strike="noStrike">
              <a:solidFill>
                <a:srgbClr val="bdd7f3"/>
              </a:solidFill>
              <a:latin typeface="-윤고딕140"/>
            </a:endParaRPr>
          </a:p>
          <a:p>
            <a:pPr lvl="1" marL="743040" indent="-285840">
              <a:spcBef>
                <a:spcPts val="499"/>
              </a:spcBef>
              <a:buClr>
                <a:srgbClr val="bdd7f3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dd7f3"/>
                </a:solidFill>
                <a:latin typeface="-윤고딕140"/>
              </a:rPr>
              <a:t>Second Outline Level</a:t>
            </a:r>
            <a:endParaRPr b="0" lang="en-US" sz="2000" spc="-1" strike="noStrike">
              <a:solidFill>
                <a:srgbClr val="bdd7f3"/>
              </a:solidFill>
              <a:latin typeface="-윤고딕140"/>
            </a:endParaRPr>
          </a:p>
          <a:p>
            <a:pPr lvl="2" marL="1143000" indent="-228600">
              <a:spcBef>
                <a:spcPts val="499"/>
              </a:spcBef>
              <a:buClr>
                <a:srgbClr val="bdd7f3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dd7f3"/>
                </a:solidFill>
                <a:latin typeface="-윤고딕140"/>
              </a:rPr>
              <a:t>Third Outline Level</a:t>
            </a:r>
            <a:endParaRPr b="0" lang="en-US" sz="2000" spc="-1" strike="noStrike">
              <a:solidFill>
                <a:srgbClr val="bdd7f3"/>
              </a:solidFill>
              <a:latin typeface="-윤고딕140"/>
            </a:endParaRPr>
          </a:p>
          <a:p>
            <a:pPr lvl="3" marL="1600200" indent="-228600">
              <a:spcBef>
                <a:spcPts val="499"/>
              </a:spcBef>
              <a:buClr>
                <a:srgbClr val="bdd7f3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dd7f3"/>
                </a:solidFill>
                <a:latin typeface="-윤고딕140"/>
              </a:rPr>
              <a:t>Fourth Outline Level</a:t>
            </a:r>
            <a:endParaRPr b="0" lang="en-US" sz="2000" spc="-1" strike="noStrike">
              <a:solidFill>
                <a:srgbClr val="bdd7f3"/>
              </a:solidFill>
              <a:latin typeface="-윤고딕140"/>
            </a:endParaRPr>
          </a:p>
          <a:p>
            <a:pPr lvl="4" marL="2057400" indent="-228600">
              <a:spcBef>
                <a:spcPts val="499"/>
              </a:spcBef>
              <a:buClr>
                <a:srgbClr val="bdd7f3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dd7f3"/>
                </a:solidFill>
                <a:latin typeface="-윤고딕140"/>
              </a:rPr>
              <a:t>Fifth Outline Level</a:t>
            </a:r>
            <a:endParaRPr b="0" lang="en-US" sz="2000" spc="-1" strike="noStrike">
              <a:solidFill>
                <a:srgbClr val="bdd7f3"/>
              </a:solidFill>
              <a:latin typeface="-윤고딕140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dd7f3"/>
                </a:solidFill>
                <a:latin typeface="-윤고딕140"/>
              </a:rPr>
              <a:t>Sixth Outline Level</a:t>
            </a:r>
            <a:endParaRPr b="0" lang="en-US" sz="2000" spc="-1" strike="noStrike">
              <a:solidFill>
                <a:srgbClr val="bdd7f3"/>
              </a:solidFill>
              <a:latin typeface="-윤고딕140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dd7f3"/>
                </a:solidFill>
                <a:latin typeface="-윤고딕140"/>
              </a:rPr>
              <a:t>Seventh Outline Level</a:t>
            </a:r>
            <a:endParaRPr b="0" lang="en-US" sz="2000" spc="-1" strike="noStrike">
              <a:solidFill>
                <a:srgbClr val="bdd7f3"/>
              </a:solidFill>
              <a:latin typeface="-윤고딕140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dd7f3"/>
                </a:solidFill>
                <a:latin typeface="-윤고딕140"/>
                <a:ea typeface="-윤고딕140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dd7f3"/>
                </a:solidFill>
                <a:latin typeface="-윤고딕140"/>
                <a:ea typeface="-윤고딕140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dd7f3"/>
                </a:solidFill>
                <a:latin typeface="-윤고딕140"/>
                <a:ea typeface="-윤고딕140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dd7f3"/>
                </a:solidFill>
                <a:latin typeface="-윤고딕140"/>
                <a:ea typeface="-윤고딕140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dd7f3"/>
                </a:solidFill>
                <a:latin typeface="-윤고딕140"/>
                <a:ea typeface="-윤고딕1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719D5-9208-4E3A-8E22-68629122622D}" type="slidenum">
              <a:rPr b="0" lang="en-US" sz="1400" spc="-1" strike="noStrike">
                <a:solidFill>
                  <a:srgbClr val="bdd7f3"/>
                </a:solidFill>
                <a:latin typeface="-윤고딕140"/>
                <a:ea typeface="-윤고딕1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19160" y="55440"/>
            <a:ext cx="1217520" cy="123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a0f5"/>
                </a:solidFill>
                <a:latin typeface="-윤고딕140"/>
                <a:ea typeface="-윤고딕140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a0f5"/>
                </a:solidFill>
                <a:latin typeface="-윤고딕140"/>
                <a:ea typeface="-윤고딕140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a0f5"/>
                </a:solidFill>
                <a:latin typeface="-윤고딕140"/>
                <a:ea typeface="-윤고딕140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a0f5"/>
                </a:solidFill>
                <a:latin typeface="-윤고딕140"/>
                <a:ea typeface="-윤고딕140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a0f5"/>
                </a:solidFill>
                <a:latin typeface="-윤고딕140"/>
                <a:ea typeface="-윤고딕1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F33AF-B8AF-4E33-B120-D4BD7EA8D534}" type="slidenum">
              <a:rPr b="0" lang="en-US" sz="1400" spc="-1" strike="noStrike">
                <a:solidFill>
                  <a:srgbClr val="99a0f5"/>
                </a:solidFill>
                <a:latin typeface="-윤고딕140"/>
                <a:ea typeface="-윤고딕1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685800" y="2971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bdd7f3"/>
                </a:solidFill>
                <a:latin typeface="-윤고딕140"/>
              </a:rPr>
              <a:t>Click to edit the title text format</a:t>
            </a:r>
            <a:endParaRPr b="0" lang="en-US" sz="4500" spc="-1" strike="noStrike">
              <a:solidFill>
                <a:srgbClr val="bdd7f3"/>
              </a:solidFill>
              <a:latin typeface="-윤고딕140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363840" y="1484280"/>
            <a:ext cx="1787760" cy="18050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a0f5"/>
                </a:solidFill>
                <a:latin typeface="-윤고딕140"/>
              </a:rPr>
              <a:t>Click to edit the outline text format</a:t>
            </a:r>
            <a:endParaRPr b="0" lang="en-US" sz="2800" spc="-1" strike="noStrike">
              <a:solidFill>
                <a:srgbClr val="99a0f5"/>
              </a:solidFill>
              <a:latin typeface="-윤고딕140"/>
            </a:endParaRPr>
          </a:p>
          <a:p>
            <a:pPr lvl="1" marL="457200" indent="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bdd7f3"/>
                </a:solidFill>
                <a:latin typeface="-윤고딕140"/>
              </a:rPr>
              <a:t>Second Outline Level</a:t>
            </a:r>
            <a:endParaRPr b="0" lang="en-US" sz="1700" spc="-1" strike="noStrike">
              <a:solidFill>
                <a:srgbClr val="bdd7f3"/>
              </a:solidFill>
              <a:latin typeface="-윤고딕140"/>
            </a:endParaRPr>
          </a:p>
          <a:p>
            <a:pPr lvl="2" marL="914400" algn="ctr">
              <a:spcBef>
                <a:spcPts val="451"/>
              </a:spcBef>
              <a:buClr>
                <a:srgbClr val="bdd7f3"/>
              </a:buClr>
              <a:buFont typeface="-윤고딕140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dd7f3"/>
                </a:solidFill>
                <a:latin typeface="-윤고딕140"/>
              </a:rPr>
              <a:t>Third Outline Level</a:t>
            </a:r>
            <a:endParaRPr b="0" lang="en-US" sz="1800" spc="-1" strike="noStrike">
              <a:solidFill>
                <a:srgbClr val="bdd7f3"/>
              </a:solidFill>
              <a:latin typeface="-윤고딕140"/>
            </a:endParaRPr>
          </a:p>
          <a:p>
            <a:pPr lvl="3" marL="1371600" algn="ctr">
              <a:spcBef>
                <a:spcPts val="400"/>
              </a:spcBef>
              <a:buClr>
                <a:srgbClr val="bdd7f3"/>
              </a:buClr>
              <a:buFont typeface="-윤고딕140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dd7f3"/>
                </a:solidFill>
                <a:latin typeface="-윤고딕140"/>
              </a:rPr>
              <a:t>Fourth Outline Level</a:t>
            </a:r>
            <a:endParaRPr b="0" lang="en-US" sz="1600" spc="-1" strike="noStrike">
              <a:solidFill>
                <a:srgbClr val="bdd7f3"/>
              </a:solidFill>
              <a:latin typeface="-윤고딕140"/>
            </a:endParaRPr>
          </a:p>
          <a:p>
            <a:pPr lvl="4" marL="1828800" algn="ctr">
              <a:spcBef>
                <a:spcPts val="349"/>
              </a:spcBef>
              <a:buClr>
                <a:srgbClr val="bdd7f3"/>
              </a:buClr>
              <a:buFont typeface="-윤고딕140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dd7f3"/>
                </a:solidFill>
                <a:latin typeface="-윤고딕140"/>
              </a:rPr>
              <a:t>Fifth Outline Level</a:t>
            </a:r>
            <a:endParaRPr b="0" lang="en-US" sz="1400" spc="-1" strike="noStrike">
              <a:solidFill>
                <a:srgbClr val="bdd7f3"/>
              </a:solidFill>
              <a:latin typeface="-윤고딕140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dd7f3"/>
                </a:solidFill>
                <a:latin typeface="-윤고딕140"/>
              </a:rPr>
              <a:t>Sixth Outline Level</a:t>
            </a:r>
            <a:endParaRPr b="0" lang="en-US" sz="1400" spc="-1" strike="noStrike">
              <a:solidFill>
                <a:srgbClr val="bdd7f3"/>
              </a:solidFill>
              <a:latin typeface="-윤고딕140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dd7f3"/>
                </a:solidFill>
                <a:latin typeface="-윤고딕140"/>
              </a:rPr>
              <a:t>Seventh Outline Level</a:t>
            </a:r>
            <a:endParaRPr b="0" lang="en-US" sz="1400" spc="-1" strike="noStrike">
              <a:solidFill>
                <a:srgbClr val="bdd7f3"/>
              </a:solidFill>
              <a:latin typeface="-윤고딕140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971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bdd7f3"/>
                </a:solidFill>
                <a:latin typeface="-윤고딕140"/>
              </a:rPr>
              <a:t>会议</a:t>
            </a:r>
            <a:r>
              <a:rPr b="0" lang="ko-KR" sz="4000" spc="-1" strike="noStrike">
                <a:solidFill>
                  <a:srgbClr val="bdd7f3"/>
                </a:solidFill>
                <a:latin typeface="-윤고딕140"/>
              </a:rPr>
              <a:t>PPT</a:t>
            </a:r>
            <a:r>
              <a:rPr b="0" lang="ko-KR" sz="4000" spc="-1" strike="noStrike">
                <a:solidFill>
                  <a:srgbClr val="bdd7f3"/>
                </a:solidFill>
                <a:latin typeface="-윤고딕140"/>
              </a:rPr>
              <a:t>背景</a:t>
            </a:r>
            <a:r>
              <a:rPr b="0" lang="zh-CN" sz="4000" spc="-1" strike="noStrike">
                <a:solidFill>
                  <a:srgbClr val="bdd7f3"/>
                </a:solidFill>
                <a:latin typeface="-윤고딕140"/>
                <a:ea typeface="宋体"/>
              </a:rPr>
              <a:t>免费打包下载</a:t>
            </a:r>
            <a:endParaRPr b="0" lang="en-US" sz="4000" spc="-1" strike="noStrike">
              <a:solidFill>
                <a:srgbClr val="bdd7f3"/>
              </a:solidFill>
              <a:latin typeface="-윤고딕140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209680" y="3962520"/>
            <a:ext cx="4724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a0f5"/>
              </a:solidFill>
              <a:latin typeface="-윤고딕140"/>
            </a:endParaRPr>
          </a:p>
        </p:txBody>
      </p:sp>
      <p:sp>
        <p:nvSpPr>
          <p:cNvPr id="88" name=""/>
          <p:cNvSpPr/>
          <p:nvPr/>
        </p:nvSpPr>
        <p:spPr>
          <a:xfrm>
            <a:off x="27000" y="6489720"/>
            <a:ext cx="508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a0a6ee"/>
                </a:solidFill>
                <a:latin typeface="-윤고딕140"/>
              </a:rPr>
              <a:t>使用规范说明</a:t>
            </a:r>
            <a:endParaRPr b="0" lang="en-US" sz="3000" spc="-1" strike="noStrike">
              <a:solidFill>
                <a:srgbClr val="a0a6ee"/>
              </a:solidFill>
              <a:latin typeface="-윤고딕140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-윤고딕140"/>
              </a:rPr>
              <a:t>站点介绍</a:t>
            </a:r>
            <a:r>
              <a:rPr b="1" lang="ko-KR" sz="1400" spc="-1" strike="noStrike">
                <a:solidFill>
                  <a:srgbClr val="ededed"/>
                </a:solidFill>
                <a:latin typeface="-윤고딕140"/>
              </a:rPr>
              <a:t>：</a:t>
            </a:r>
            <a:endParaRPr b="0" lang="en-US" sz="1400" spc="-1" strike="noStrike">
              <a:solidFill>
                <a:srgbClr val="bdd7f3"/>
              </a:solidFill>
              <a:latin typeface="-윤고딕140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bdd7f3"/>
              </a:solidFill>
              <a:latin typeface="-윤고딕140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ededed"/>
                </a:solidFill>
                <a:latin typeface="-윤고딕140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-윤고딕140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-윤고딕140"/>
              </a:rPr>
              <a:t>www.eeppt.com</a:t>
            </a:r>
            <a:r>
              <a:rPr b="1" lang="ko-KR" sz="1400" spc="-1" strike="noStrike">
                <a:solidFill>
                  <a:srgbClr val="ededed"/>
                </a:solidFill>
                <a:latin typeface="-윤고딕140"/>
              </a:rPr>
              <a:t>为您提供免费</a:t>
            </a:r>
            <a:r>
              <a:rPr b="1" lang="ko-KR" sz="1400" spc="-1" strike="noStrike">
                <a:solidFill>
                  <a:srgbClr val="ededed"/>
                </a:solidFill>
                <a:latin typeface="-윤고딕140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-윤고딕140"/>
              </a:rPr>
              <a:t>模板下载，有好看的</a:t>
            </a:r>
            <a:r>
              <a:rPr b="1" lang="ko-KR" sz="1400" spc="-1" strike="noStrike">
                <a:solidFill>
                  <a:srgbClr val="ededed"/>
                </a:solidFill>
                <a:latin typeface="-윤고딕140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-윤고딕140"/>
              </a:rPr>
              <a:t>模板，</a:t>
            </a:r>
            <a:r>
              <a:rPr b="1" lang="ko-KR" sz="1400" spc="-1" strike="noStrike">
                <a:solidFill>
                  <a:srgbClr val="ededed"/>
                </a:solidFill>
                <a:latin typeface="-윤고딕140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-윤고딕140"/>
              </a:rPr>
              <a:t>背景图片，</a:t>
            </a:r>
            <a:r>
              <a:rPr b="1" lang="ko-KR" sz="1400" spc="-1" strike="noStrike">
                <a:solidFill>
                  <a:srgbClr val="ededed"/>
                </a:solidFill>
                <a:latin typeface="-윤고딕140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-윤고딕140"/>
              </a:rPr>
              <a:t>素材，</a:t>
            </a:r>
            <a:r>
              <a:rPr b="1" lang="ko-KR" sz="1400" spc="-1" strike="noStrike">
                <a:solidFill>
                  <a:srgbClr val="ededed"/>
                </a:solidFill>
                <a:latin typeface="-윤고딕140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-윤고딕140"/>
              </a:rPr>
              <a:t>图表，动态</a:t>
            </a:r>
            <a:r>
              <a:rPr b="1" lang="ko-KR" sz="1400" spc="-1" strike="noStrike">
                <a:solidFill>
                  <a:srgbClr val="ededed"/>
                </a:solidFill>
                <a:latin typeface="-윤고딕140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-윤고딕140"/>
              </a:rPr>
              <a:t>模板大全，幻灯片模板，</a:t>
            </a:r>
            <a:r>
              <a:rPr b="1" lang="ko-KR" sz="1400" spc="-1" strike="noStrike">
                <a:solidFill>
                  <a:srgbClr val="ededed"/>
                </a:solidFill>
                <a:latin typeface="-윤고딕140"/>
              </a:rPr>
              <a:t>Powe</a:t>
            </a:r>
            <a:r>
              <a:rPr b="1" lang="ko-KR" sz="1400" spc="-1" strike="noStrike">
                <a:solidFill>
                  <a:srgbClr val="e8eff7"/>
                </a:solidFill>
                <a:latin typeface="-윤고딕140"/>
              </a:rPr>
              <a:t>rPoint</a:t>
            </a:r>
            <a:r>
              <a:rPr b="1" lang="ko-KR" sz="1400" spc="-1" strike="noStrike">
                <a:solidFill>
                  <a:srgbClr val="e8eff7"/>
                </a:solidFill>
                <a:latin typeface="-윤고딕140"/>
              </a:rPr>
              <a:t>模板等各类</a:t>
            </a:r>
            <a:r>
              <a:rPr b="1" lang="ko-KR" sz="1400" spc="-1" strike="noStrike">
                <a:solidFill>
                  <a:srgbClr val="e8eff7"/>
                </a:solidFill>
                <a:latin typeface="-윤고딕140"/>
              </a:rPr>
              <a:t>ppt</a:t>
            </a:r>
            <a:r>
              <a:rPr b="1" lang="ko-KR" sz="1400" spc="-1" strike="noStrike">
                <a:solidFill>
                  <a:srgbClr val="e8eff7"/>
                </a:solidFill>
                <a:latin typeface="-윤고딕140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-윤고딕140"/>
              </a:rPr>
              <a:t>助</a:t>
            </a:r>
            <a:r>
              <a:rPr b="1" lang="ko-KR" sz="1400" spc="-1" strike="noStrike">
                <a:solidFill>
                  <a:srgbClr val="e8eff7"/>
                </a:solidFill>
                <a:latin typeface="-윤고딕140"/>
              </a:rPr>
              <a:t>您轻松制作出精美</a:t>
            </a:r>
            <a:r>
              <a:rPr b="1" lang="ko-KR" sz="1400" spc="-1" strike="noStrike">
                <a:solidFill>
                  <a:srgbClr val="e8eff7"/>
                </a:solidFill>
                <a:latin typeface="-윤고딕140"/>
              </a:rPr>
              <a:t>PPT</a:t>
            </a:r>
            <a:r>
              <a:rPr b="1" lang="ko-KR" sz="1400" spc="-1" strike="noStrike">
                <a:solidFill>
                  <a:srgbClr val="e8eff7"/>
                </a:solidFill>
                <a:latin typeface="-윤고딕140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bdd7f3"/>
              </a:solidFill>
              <a:latin typeface="-윤고딕140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bdd7f3"/>
              </a:solidFill>
              <a:latin typeface="-윤고딕140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bdd7f3"/>
              </a:solidFill>
              <a:latin typeface="-윤고딕140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ededed"/>
                </a:solidFill>
                <a:latin typeface="-윤고딕140"/>
              </a:rPr>
              <a:t>特别说明：</a:t>
            </a:r>
            <a:endParaRPr b="0" lang="en-US" sz="1400" spc="-1" strike="noStrike">
              <a:solidFill>
                <a:srgbClr val="bdd7f3"/>
              </a:solidFill>
              <a:latin typeface="-윤고딕140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bdd7f3"/>
              </a:solidFill>
              <a:latin typeface="-윤고딕140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-윤고딕140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-윤고딕140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-윤고딕140"/>
              </a:rPr>
              <a:t>模板收集于网络，</a:t>
            </a:r>
            <a:r>
              <a:rPr b="1" lang="ko-KR" sz="1400" spc="-1" strike="noStrike">
                <a:solidFill>
                  <a:srgbClr val="ededed"/>
                </a:solidFill>
                <a:latin typeface="-윤고딕140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bdd7f3"/>
              </a:solidFill>
              <a:latin typeface="-윤고딕140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bdd7f3"/>
              </a:solidFill>
              <a:latin typeface="-윤고딕140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bdd7f3"/>
              </a:solidFill>
              <a:latin typeface="-윤고딕140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bdd7f3"/>
              </a:solidFill>
              <a:latin typeface="-윤고딕140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-윤고딕140"/>
              </a:rPr>
              <a:t>栏目推荐</a:t>
            </a:r>
            <a:r>
              <a:rPr b="1" lang="ko-KR" sz="1400" spc="-1" strike="noStrike">
                <a:solidFill>
                  <a:srgbClr val="ededed"/>
                </a:solidFill>
                <a:latin typeface="-윤고딕140"/>
              </a:rPr>
              <a:t>：</a:t>
            </a:r>
            <a:endParaRPr b="0" lang="en-US" sz="1400" spc="-1" strike="noStrike">
              <a:solidFill>
                <a:srgbClr val="bdd7f3"/>
              </a:solidFill>
              <a:latin typeface="-윤고딕140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ko-KR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bdd7f3"/>
              </a:solidFill>
              <a:latin typeface="-윤고딕140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ko-KR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bdd7f3"/>
              </a:solidFill>
              <a:latin typeface="-윤고딕140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ko-KR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bdd7f3"/>
              </a:solidFill>
              <a:latin typeface="-윤고딕140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ko-KR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bdd7f3"/>
              </a:solidFill>
              <a:latin typeface="-윤고딕140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ko-KR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bdd7f3"/>
              </a:solidFill>
              <a:latin typeface="-윤고딕140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ko-KR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bdd7f3"/>
              </a:solidFill>
              <a:latin typeface="-윤고딕140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bdd7f3"/>
              </a:solidFill>
              <a:latin typeface="-윤고딕140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bdd7f3"/>
              </a:solidFill>
              <a:latin typeface="-윤고딕140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bdd7f3"/>
              </a:solidFill>
              <a:latin typeface="-윤고딕140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bdd7f3"/>
              </a:solidFill>
              <a:latin typeface="-윤고딕140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bdd7f3"/>
              </a:solidFill>
              <a:latin typeface="-윤고딕140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bdd7f3"/>
              </a:solidFill>
              <a:latin typeface="-윤고딕140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bdd7f3"/>
              </a:solidFill>
              <a:latin typeface="-윤고딕140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bdd7f3"/>
              </a:solidFill>
              <a:latin typeface="-윤고딕140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bdd7f3"/>
              </a:solidFill>
              <a:latin typeface="-윤고딕140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bdd7f3"/>
              </a:solidFill>
              <a:latin typeface="-윤고딕140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bdd7f3"/>
              </a:solidFill>
              <a:latin typeface="-윤고딕140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Gulim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9749-442E-4D11-BA0B-A21178AE46F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1522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0a6ee"/>
              </a:solidFill>
              <a:latin typeface="-윤고딕140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129492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dd7f3"/>
              </a:solidFill>
              <a:latin typeface="-윤고딕140"/>
            </a:endParaRPr>
          </a:p>
        </p:txBody>
      </p:sp>
      <p:sp>
        <p:nvSpPr>
          <p:cNvPr id="94" name=""/>
          <p:cNvSpPr/>
          <p:nvPr/>
        </p:nvSpPr>
        <p:spPr>
          <a:xfrm>
            <a:off x="755640" y="2133720"/>
            <a:ext cx="7151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ulim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Gulim"/>
              </a:rPr>
              <a:t>模板下载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Gulim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23:57:34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8-14T12:50:46Z</dcterms:modified>
  <cp:revision>1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