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CA1A-7DC6-47AE-9C70-436821917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9601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9601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001B-8BE8-4602-B687-9F1016D6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15040" y="182844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15040" y="409716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7684-A754-4473-B573-3BF90BAAA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091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41400" y="1828440"/>
            <a:ext cx="3091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787880" y="1828440"/>
            <a:ext cx="3091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3091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541400" y="4097160"/>
            <a:ext cx="3091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787880" y="4097160"/>
            <a:ext cx="3091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82C8-D646-48E1-BA7E-3FEC36348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9601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C8D1-7B2D-4946-9A19-5A171ED8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9601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63C4-CB4C-40E7-B4C7-FC2D65C3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4685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15040" y="1828440"/>
            <a:ext cx="4685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B619-B3EB-4E16-819E-252BE437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A760-AE23-421E-B9CD-7FBA7EED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5280" y="255600"/>
            <a:ext cx="96012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C469-B335-4435-889F-73620DB7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15040" y="1828440"/>
            <a:ext cx="4685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4331-0D69-4792-BCF6-16D27638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4685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15040" y="182844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15040" y="409716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538F-B3A9-4387-B138-C3D86C46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15040" y="182844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9601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BBBF-7883-448D-A5B2-70AD61F5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12192120" cy="13716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1371600"/>
            <a:ext cx="12192120" cy="82440"/>
          </a:xfrm>
          <a:prstGeom prst="rect">
            <a:avLst/>
          </a:prstGeom>
          <a:solidFill>
            <a:srgbClr val="ef7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0" y="1442880"/>
            <a:ext cx="12192120" cy="81000"/>
          </a:xfrm>
          <a:prstGeom prst="rect">
            <a:avLst/>
          </a:prstGeom>
          <a:solidFill>
            <a:srgbClr val="1eb8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9601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lvl="1" marL="320760" indent="59364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lvl="2" marL="595440" indent="31896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lvl="3" marL="870120" indent="4428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lvl="4" marL="1098720" indent="-18432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lvl="5" marL="1098720" indent="-18432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lvl="6" marL="1098720" indent="-18432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791480" y="6374880"/>
            <a:ext cx="14810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D4B8-758A-4761-9467-4468A7E84684}" type="datetime">
              <a:rPr b="0" lang="zh-CN" sz="1000" spc="-1" strike="noStrike">
                <a:solidFill>
                  <a:srgbClr val="595959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295280" y="6374880"/>
            <a:ext cx="62438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9524880" y="6374880"/>
            <a:ext cx="137160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977F-9564-4B05-BC23-3EBBD399C8DF}" type="slidenum">
              <a:rPr b="0" lang="zh-CN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6540480" y="0"/>
            <a:ext cx="5651640" cy="685800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5" name="Freeform 6"/>
          <p:cNvSpPr/>
          <p:nvPr/>
        </p:nvSpPr>
        <p:spPr>
          <a:xfrm>
            <a:off x="6256440" y="0"/>
            <a:ext cx="1671480" cy="6858000"/>
          </a:xfrm>
          <a:prstGeom prst="pie">
            <a:avLst/>
          </a:prstGeom>
          <a:solidFill>
            <a:srgbClr val="ef7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6062760" y="0"/>
            <a:ext cx="1528560" cy="6858000"/>
          </a:xfrm>
          <a:prstGeom prst="pie">
            <a:avLst/>
          </a:prstGeom>
          <a:solidFill>
            <a:srgbClr val="1eb8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200" y="1874520"/>
            <a:ext cx="656280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95959"/>
                </a:solidFill>
                <a:latin typeface="Book Antiqua"/>
              </a:rPr>
              <a:t>会议</a:t>
            </a:r>
            <a:r>
              <a:rPr b="0" lang="zh-CN" sz="4000" spc="-1" strike="noStrike">
                <a:solidFill>
                  <a:srgbClr val="595959"/>
                </a:solidFill>
                <a:latin typeface="Book Antiqua"/>
              </a:rPr>
              <a:t>PPT</a:t>
            </a:r>
            <a:r>
              <a:rPr b="0" lang="zh-CN" sz="4000" spc="-1" strike="noStrike">
                <a:solidFill>
                  <a:srgbClr val="595959"/>
                </a:solidFill>
                <a:latin typeface="Book Antiqua"/>
              </a:rPr>
              <a:t>模板</a:t>
            </a:r>
            <a:r>
              <a:rPr b="0" lang="zh-CN" sz="4000" spc="-1" strike="noStrike">
                <a:solidFill>
                  <a:srgbClr val="595959"/>
                </a:solidFill>
                <a:latin typeface="Book Antiqua"/>
                <a:ea typeface="宋体"/>
              </a:rPr>
              <a:t>免费打包下载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5280" y="4571640"/>
            <a:ext cx="5121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pic>
        <p:nvPicPr>
          <p:cNvPr id="49" name="Picture Placeholder 4" descr="City street with motion blur"/>
          <p:cNvPicPr/>
          <p:nvPr/>
        </p:nvPicPr>
        <p:blipFill>
          <a:blip r:embed="rId1"/>
          <a:stretch/>
        </p:blipFill>
        <p:spPr>
          <a:xfrm>
            <a:off x="6743880" y="0"/>
            <a:ext cx="544824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595959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727520" y="1828440"/>
            <a:ext cx="6127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294920" y="1828440"/>
            <a:ext cx="3017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723920" y="1828440"/>
            <a:ext cx="6172200" cy="4343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1294920" y="1828440"/>
            <a:ext cx="3017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Book Antiqua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站点介绍：</a:t>
            </a:r>
            <a:endParaRPr b="0" lang="en-US" sz="1400" spc="-1" strike="noStrike">
              <a:solidFill>
                <a:srgbClr val="595959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Book Antiqu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Book Antiqu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Book Antiqu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Book Antiqu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Book Antiqu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Book Antiqu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Book Antiqu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fc11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fc11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595959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95959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特别说明：</a:t>
            </a:r>
            <a:endParaRPr b="0" lang="en-US" sz="1400" spc="-1" strike="noStrike">
              <a:solidFill>
                <a:srgbClr val="595959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95959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595959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95959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95959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95959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栏目推荐：</a:t>
            </a:r>
            <a:endParaRPr b="0" lang="en-US" sz="1400" spc="-1" strike="noStrike">
              <a:solidFill>
                <a:srgbClr val="595959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fc11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efc11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595959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fc11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efc11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efc11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595959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fc11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efc11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595959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fc11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efc11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595959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fc11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efc11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595959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fc11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efc11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595959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fc11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efc11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595959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fc11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efc11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595959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fc11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efc11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595959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fc11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efc11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595959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fc11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efc11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595959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95959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95959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95959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95959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95959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D783-9708-4766-B96C-161E24D8A2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8"/>
          <p:cNvSpPr/>
          <p:nvPr/>
        </p:nvSpPr>
        <p:spPr>
          <a:xfrm>
            <a:off x="1295280" y="5257800"/>
            <a:ext cx="457200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324480" y="5257800"/>
            <a:ext cx="457200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1295280" y="5257800"/>
            <a:ext cx="4572000" cy="54000"/>
          </a:xfrm>
          <a:prstGeom prst="rect">
            <a:avLst/>
          </a:prstGeom>
          <a:solidFill>
            <a:srgbClr val="ef7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6324480" y="5257800"/>
            <a:ext cx="4572000" cy="54000"/>
          </a:xfrm>
          <a:prstGeom prst="rect">
            <a:avLst/>
          </a:prstGeom>
          <a:solidFill>
            <a:srgbClr val="ef7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371240" y="5334120"/>
            <a:ext cx="4419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01" name="Text Placeholder 3"/>
          <p:cNvSpPr/>
          <p:nvPr/>
        </p:nvSpPr>
        <p:spPr>
          <a:xfrm>
            <a:off x="6413400" y="5334120"/>
            <a:ext cx="441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295280" y="182844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03" name="Picture Placeholder 5"/>
          <p:cNvSpPr/>
          <p:nvPr/>
        </p:nvSpPr>
        <p:spPr>
          <a:xfrm>
            <a:off x="6324480" y="18288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432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itle and Content Layout with Lis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295280" y="1828440"/>
            <a:ext cx="9601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Add your first bullet point here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Add your second bullet point here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Add your third bullet point here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74F6-BAA8-42FC-AA1D-FA76FE003D62}" type="slidenum">
              <a:t>2</a:t>
            </a:fld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itle and Content Layout with Char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54" name="Content Placeholder 6" descr="Clustered Column"/>
          <p:cNvPicPr/>
          <p:nvPr/>
        </p:nvPicPr>
        <p:blipFill>
          <a:blip r:embed="rId1"/>
          <a:stretch/>
        </p:blipFill>
        <p:spPr>
          <a:xfrm>
            <a:off x="1295280" y="1828800"/>
            <a:ext cx="960120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wo Content Layout with Tabl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295280" y="1828440"/>
            <a:ext cx="9601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First bullet point here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Second bullet point here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Third bullet point here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324480" y="1828800"/>
          <a:ext cx="4572000" cy="229860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</a:tblGrid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959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eb8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  <a:ea typeface="Book Antiqua"/>
                        </a:rPr>
                        <a:t>Group A</a:t>
                      </a:r>
                      <a:endParaRPr b="0" lang="en-US" sz="1800" spc="-1" strike="noStrike">
                        <a:solidFill>
                          <a:srgbClr val="5959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eb8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  <a:ea typeface="Book Antiqua"/>
                        </a:rPr>
                        <a:t>Group B</a:t>
                      </a:r>
                      <a:endParaRPr b="0" lang="en-US" sz="1800" spc="-1" strike="noStrike">
                        <a:solidFill>
                          <a:srgbClr val="5959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eb8c1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Book Antiqua"/>
                          <a:ea typeface="Book Antiqua"/>
                        </a:rPr>
                        <a:t>Class 1</a:t>
                      </a:r>
                      <a:endParaRPr b="0" lang="en-US" sz="1800" spc="-1" strike="noStrike">
                        <a:solidFill>
                          <a:srgbClr val="5959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6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Book Antiqua"/>
                          <a:ea typeface="Book Antiqua"/>
                        </a:rPr>
                        <a:t>82</a:t>
                      </a:r>
                      <a:endParaRPr b="0" lang="en-US" sz="1800" spc="-1" strike="noStrike">
                        <a:solidFill>
                          <a:srgbClr val="5959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6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Book Antiqua"/>
                          <a:ea typeface="Book Antiqua"/>
                        </a:rPr>
                        <a:t>95</a:t>
                      </a:r>
                      <a:endParaRPr b="0" lang="en-US" sz="1800" spc="-1" strike="noStrike">
                        <a:solidFill>
                          <a:srgbClr val="5959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6e9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Book Antiqua"/>
                          <a:ea typeface="Book Antiqua"/>
                        </a:rPr>
                        <a:t>Class 2</a:t>
                      </a:r>
                      <a:endParaRPr b="0" lang="en-US" sz="1800" spc="-1" strike="noStrike">
                        <a:solidFill>
                          <a:srgbClr val="5959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Book Antiqua"/>
                          <a:ea typeface="Book Antiqua"/>
                        </a:rPr>
                        <a:t>76</a:t>
                      </a:r>
                      <a:endParaRPr b="0" lang="en-US" sz="1800" spc="-1" strike="noStrike">
                        <a:solidFill>
                          <a:srgbClr val="5959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Book Antiqua"/>
                          <a:ea typeface="Book Antiqua"/>
                        </a:rPr>
                        <a:t>88</a:t>
                      </a:r>
                      <a:endParaRPr b="0" lang="en-US" sz="1800" spc="-1" strike="noStrike">
                        <a:solidFill>
                          <a:srgbClr val="5959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Book Antiqua"/>
                          <a:ea typeface="Book Antiqua"/>
                        </a:rPr>
                        <a:t>Class 3</a:t>
                      </a:r>
                      <a:endParaRPr b="0" lang="en-US" sz="1800" spc="-1" strike="noStrike">
                        <a:solidFill>
                          <a:srgbClr val="5959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6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Book Antiqua"/>
                          <a:ea typeface="Book Antiqua"/>
                        </a:rPr>
                        <a:t>84</a:t>
                      </a:r>
                      <a:endParaRPr b="0" lang="en-US" sz="1800" spc="-1" strike="noStrike">
                        <a:solidFill>
                          <a:srgbClr val="5959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6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Book Antiqua"/>
                          <a:ea typeface="Book Antiqua"/>
                        </a:rPr>
                        <a:t>90</a:t>
                      </a:r>
                      <a:endParaRPr b="0" lang="en-US" sz="1800" spc="-1" strike="noStrike">
                        <a:solidFill>
                          <a:srgbClr val="5959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6e9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itle and Content Layout with SmartAr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295280" y="1828800"/>
            <a:ext cx="9601200" cy="4343400"/>
            <a:chOff x="1295280" y="1828800"/>
            <a:chExt cx="9601200" cy="4343400"/>
          </a:xfrm>
        </p:grpSpPr>
        <p:sp>
          <p:nvSpPr>
            <p:cNvPr id="60" name=""/>
            <p:cNvSpPr/>
            <p:nvPr/>
          </p:nvSpPr>
          <p:spPr>
            <a:xfrm>
              <a:off x="1295280" y="1828800"/>
              <a:ext cx="2594880" cy="4343400"/>
            </a:xfrm>
            <a:custGeom>
              <a:avLst/>
              <a:gdLst>
                <a:gd name="textAreaLeft" fmla="*/ 0 w 2594880"/>
                <a:gd name="textAreaRight" fmla="*/ 2595240 w 2594880"/>
                <a:gd name="textAreaTop" fmla="*/ 0 h 4343400"/>
                <a:gd name="textAreaBottom" fmla="*/ 4343400 h 43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281" y="0"/>
                  </a:lnTo>
                  <a:lnTo>
                    <a:pt x="21600" y="10800"/>
                  </a:lnTo>
                  <a:lnTo>
                    <a:pt x="17281" y="21600"/>
                  </a:lnTo>
                  <a:lnTo>
                    <a:pt x="0" y="21600"/>
                  </a:lnTo>
                  <a:lnTo>
                    <a:pt x="431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95959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14040" y="1828800"/>
              <a:ext cx="1557000" cy="43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2120" rIns="43920" tIns="43920" bIns="43920" anchor="ctr">
              <a:noAutofit/>
            </a:bodyPr>
            <a:p>
              <a:pPr algn="ctr">
                <a:lnSpc>
                  <a:spcPct val="90000"/>
                </a:lnSpc>
                <a:spcAft>
                  <a:spcPts val="1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Step 1 Title</a:t>
              </a:r>
              <a:endParaRPr b="0" lang="en-US" sz="3300" spc="-1" strike="noStrike">
                <a:solidFill>
                  <a:srgbClr val="595959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630600" y="1828800"/>
              <a:ext cx="2594880" cy="4343400"/>
            </a:xfrm>
            <a:custGeom>
              <a:avLst/>
              <a:gdLst>
                <a:gd name="textAreaLeft" fmla="*/ 0 w 2594880"/>
                <a:gd name="textAreaRight" fmla="*/ 2595240 w 2594880"/>
                <a:gd name="textAreaTop" fmla="*/ 0 h 4343400"/>
                <a:gd name="textAreaBottom" fmla="*/ 4343400 h 43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281" y="0"/>
                  </a:lnTo>
                  <a:lnTo>
                    <a:pt x="21600" y="10800"/>
                  </a:lnTo>
                  <a:lnTo>
                    <a:pt x="17281" y="21600"/>
                  </a:lnTo>
                  <a:lnTo>
                    <a:pt x="0" y="21600"/>
                  </a:lnTo>
                  <a:lnTo>
                    <a:pt x="431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95959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49720" y="1828800"/>
              <a:ext cx="1557000" cy="43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2120" rIns="43920" tIns="43920" bIns="43920" anchor="ctr">
              <a:noAutofit/>
            </a:bodyPr>
            <a:p>
              <a:pPr algn="ctr">
                <a:lnSpc>
                  <a:spcPct val="90000"/>
                </a:lnSpc>
                <a:spcAft>
                  <a:spcPts val="1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Step 2 Title</a:t>
              </a:r>
              <a:endParaRPr b="0" lang="en-US" sz="3300" spc="-1" strike="noStrike">
                <a:solidFill>
                  <a:srgbClr val="595959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66280" y="1828800"/>
              <a:ext cx="2594880" cy="4343400"/>
            </a:xfrm>
            <a:custGeom>
              <a:avLst/>
              <a:gdLst>
                <a:gd name="textAreaLeft" fmla="*/ 0 w 2594880"/>
                <a:gd name="textAreaRight" fmla="*/ 2595240 w 2594880"/>
                <a:gd name="textAreaTop" fmla="*/ 0 h 4343400"/>
                <a:gd name="textAreaBottom" fmla="*/ 4343400 h 43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281" y="0"/>
                  </a:lnTo>
                  <a:lnTo>
                    <a:pt x="21600" y="10800"/>
                  </a:lnTo>
                  <a:lnTo>
                    <a:pt x="17281" y="21600"/>
                  </a:lnTo>
                  <a:lnTo>
                    <a:pt x="0" y="21600"/>
                  </a:lnTo>
                  <a:lnTo>
                    <a:pt x="431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95959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85040" y="1828800"/>
              <a:ext cx="1557000" cy="43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2120" rIns="43920" tIns="43920" bIns="43920" anchor="ctr">
              <a:noAutofit/>
            </a:bodyPr>
            <a:p>
              <a:pPr algn="ctr">
                <a:lnSpc>
                  <a:spcPct val="90000"/>
                </a:lnSpc>
                <a:spcAft>
                  <a:spcPts val="1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Step 3 Title</a:t>
              </a:r>
              <a:endParaRPr b="0" lang="en-US" sz="3300" spc="-1" strike="noStrike">
                <a:solidFill>
                  <a:srgbClr val="595959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301600" y="1828800"/>
              <a:ext cx="2594880" cy="4343400"/>
            </a:xfrm>
            <a:custGeom>
              <a:avLst/>
              <a:gdLst>
                <a:gd name="textAreaLeft" fmla="*/ 0 w 2594880"/>
                <a:gd name="textAreaRight" fmla="*/ 2595240 w 2594880"/>
                <a:gd name="textAreaTop" fmla="*/ 0 h 4343400"/>
                <a:gd name="textAreaBottom" fmla="*/ 4343400 h 43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281" y="0"/>
                  </a:lnTo>
                  <a:lnTo>
                    <a:pt x="21600" y="10800"/>
                  </a:lnTo>
                  <a:lnTo>
                    <a:pt x="17281" y="21600"/>
                  </a:lnTo>
                  <a:lnTo>
                    <a:pt x="0" y="21600"/>
                  </a:lnTo>
                  <a:lnTo>
                    <a:pt x="431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95959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20720" y="1828800"/>
              <a:ext cx="1557000" cy="43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2120" rIns="43920" tIns="43920" bIns="43920" anchor="ctr">
              <a:noAutofit/>
            </a:bodyPr>
            <a:p>
              <a:pPr algn="ctr">
                <a:lnSpc>
                  <a:spcPct val="90000"/>
                </a:lnSpc>
                <a:spcAft>
                  <a:spcPts val="1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Step 4 Title</a:t>
              </a:r>
              <a:endParaRPr b="0" lang="en-US" sz="3300" spc="-1" strike="noStrike">
                <a:solidFill>
                  <a:srgbClr val="595959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reeform 11"/>
          <p:cNvSpPr/>
          <p:nvPr/>
        </p:nvSpPr>
        <p:spPr>
          <a:xfrm>
            <a:off x="8429760" y="0"/>
            <a:ext cx="3762360" cy="685800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9" name="Freeform 6"/>
          <p:cNvSpPr/>
          <p:nvPr/>
        </p:nvSpPr>
        <p:spPr>
          <a:xfrm>
            <a:off x="8145360" y="0"/>
            <a:ext cx="1671840" cy="6858000"/>
          </a:xfrm>
          <a:prstGeom prst="pie">
            <a:avLst/>
          </a:prstGeom>
          <a:solidFill>
            <a:srgbClr val="ef7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" name="Freeform 7"/>
          <p:cNvSpPr/>
          <p:nvPr/>
        </p:nvSpPr>
        <p:spPr>
          <a:xfrm>
            <a:off x="7950240" y="0"/>
            <a:ext cx="1528560" cy="6858000"/>
          </a:xfrm>
          <a:prstGeom prst="pie">
            <a:avLst/>
          </a:prstGeom>
          <a:solidFill>
            <a:srgbClr val="1eb8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1872720"/>
            <a:ext cx="640080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295280" y="45716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9621720" y="0"/>
            <a:ext cx="2570400" cy="685800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Freeform 6"/>
          <p:cNvSpPr/>
          <p:nvPr/>
        </p:nvSpPr>
        <p:spPr>
          <a:xfrm>
            <a:off x="9237600" y="0"/>
            <a:ext cx="1671840" cy="6858000"/>
          </a:xfrm>
          <a:prstGeom prst="pie">
            <a:avLst/>
          </a:prstGeom>
          <a:solidFill>
            <a:srgbClr val="ef7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Freeform 7"/>
          <p:cNvSpPr/>
          <p:nvPr/>
        </p:nvSpPr>
        <p:spPr>
          <a:xfrm>
            <a:off x="9174240" y="0"/>
            <a:ext cx="1460520" cy="6858000"/>
          </a:xfrm>
          <a:prstGeom prst="pie">
            <a:avLst/>
          </a:prstGeom>
          <a:solidFill>
            <a:srgbClr val="1eb8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6" name="Freeform 7"/>
          <p:cNvSpPr/>
          <p:nvPr/>
        </p:nvSpPr>
        <p:spPr>
          <a:xfrm>
            <a:off x="9174240" y="0"/>
            <a:ext cx="1460520" cy="6858000"/>
          </a:xfrm>
          <a:prstGeom prst="pie">
            <a:avLst/>
          </a:prstGeom>
          <a:solidFill>
            <a:srgbClr val="1eb8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4920" y="2914560"/>
            <a:ext cx="804708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4589280"/>
            <a:ext cx="804708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213372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efc119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5280" y="1828800"/>
            <a:ext cx="4572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295280" y="2704680"/>
            <a:ext cx="4572000" cy="34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324480" y="1828440"/>
            <a:ext cx="45720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324480" y="2704680"/>
            <a:ext cx="4572000" cy="34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213372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efc119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0T21:52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0:4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7C1D5F340F01F94FA2FD29A5E6DC872E</vt:lpwstr>
  </property>
  <property fmtid="{D5CDD505-2E9C-101B-9397-08002B2CF9AE}" pid="3" name="KSOProductBuildVer">
    <vt:lpwstr>2052-9.1.0.5132</vt:lpwstr>
  </property>
</Properties>
</file>