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6E0-A180-4243-884C-583C4652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3D3-CB84-4DF7-AA7F-B24210B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62A-E3BD-42FA-9830-CFE124EB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CCB-4672-4447-90C4-66CC7046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F36-C654-43F9-90B6-20795BD8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4C9D-F83F-427D-976D-6EA2061E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887E-8185-4F1D-BB9F-915FC1A2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CC58-8F97-448A-9161-EE5D6D5B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BD5-8A61-4686-9934-AA15DAF6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6D8D-F15C-4447-AC47-92D5EFB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F75-C823-421C-B225-D64EFCA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8CB-6A7F-4DE7-8ED2-0ECB6979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3CC7-684D-40C9-A365-4258C3F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6C29-8F0E-4EE7-ACD9-07187CB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C1CE-007E-4DF5-8D3D-480D4A30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6D3-9A88-471A-8729-9EC749E7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E859-66B8-4D23-B612-A9BF99F1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60A-C597-4A62-9C6C-0E5F07E4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2AC-907D-4DFF-9FAF-548D9533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271-A547-4050-AB60-A5D88B55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1BB-8091-4C48-BD90-B87BB4B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9FF-BBA2-495A-AC49-9046A41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818-4C01-4169-AB42-D160930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C48-7C3D-4266-BCB2-13485B64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7799-EF9E-4B7C-9879-493E884247E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6F4F-E141-402E-9E2F-EA8771EE3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H:\FOUNDESIGN\PPT\JPG\封面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2456640" y="134136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图片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951480" y="3429000"/>
            <a:ext cx="25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HAPPY OFF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1492920" y="3860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2.12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H:\FOUNDESIGN\PPT\JPG\过渡页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325600"/>
            <a:ext cx="9144000" cy="23760"/>
          </a:xfrm>
          <a:prstGeom prst="rect">
            <a:avLst/>
          </a:prstGeom>
          <a:ln w="0">
            <a:noFill/>
          </a:ln>
        </p:spPr>
      </p:pic>
      <p:sp>
        <p:nvSpPr>
          <p:cNvPr id="89" name="矩形 6"/>
          <p:cNvSpPr/>
          <p:nvPr/>
        </p:nvSpPr>
        <p:spPr>
          <a:xfrm>
            <a:off x="698760" y="25653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79236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早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018240" y="25462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3135600" y="3049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536760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5116320" y="2565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7491960" y="2565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767196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7140600" y="18900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OGRA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7102440" y="395280"/>
            <a:ext cx="1959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HAPPY OFF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H:\FOUNDESIGN\PPT\JPG\过渡页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2268360" y="0"/>
            <a:ext cx="230364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0" y="2325600"/>
            <a:ext cx="9144000" cy="23760"/>
          </a:xfrm>
          <a:prstGeom prst="rect">
            <a:avLst/>
          </a:prstGeom>
          <a:ln w="0">
            <a:noFill/>
          </a:ln>
        </p:spPr>
      </p:pic>
      <p:sp>
        <p:nvSpPr>
          <p:cNvPr id="102" name="椭圆 7"/>
          <p:cNvSpPr/>
          <p:nvPr/>
        </p:nvSpPr>
        <p:spPr>
          <a:xfrm>
            <a:off x="3348000" y="227664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2532240" y="11253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OGRA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2493720" y="1341360"/>
            <a:ext cx="1959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HAPPY OFF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2787840" y="1655640"/>
            <a:ext cx="136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  影  师  的  户  外  办  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698760" y="25653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79236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早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3018240" y="25462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35600" y="3049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36760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8"/>
          <p:cNvSpPr/>
          <p:nvPr/>
        </p:nvSpPr>
        <p:spPr>
          <a:xfrm>
            <a:off x="5116320" y="2565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0"/>
          <p:cNvSpPr/>
          <p:nvPr/>
        </p:nvSpPr>
        <p:spPr>
          <a:xfrm>
            <a:off x="7491960" y="2565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767196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16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:\FOUNDESIGN\PPT\JPG\内页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矩形 5"/>
          <p:cNvSpPr/>
          <p:nvPr/>
        </p:nvSpPr>
        <p:spPr>
          <a:xfrm>
            <a:off x="731880" y="11253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OGRA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93720" y="1341360"/>
            <a:ext cx="1959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HAPPY OFF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1275120" y="25653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136872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早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1182240" y="3727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湖畔发现搁浅的小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3924360" y="234936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一直相信，生命的本相，不在表层，而是在极深极深的内里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不常显露，是很难用语言文字去清楚形容的质素，我们只能偶尔透过直觉去 感知它的存在，像是从灵魂深处隐约传来的呼唤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是在无法预知的时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是从书页间的一个段落，或是在人生长路上的一处转折，那感动忽然来临，我们心中霎时充满了可能是伴随着刺痛的狂喜，也可能是一种神圣而又甘美得无法言传的战栗。恍如有种悲悯从高处对我们俯视，又恍如重逢那消逝已久的美好世界，那生命最初始的对一切美好事物似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:\FOUNDESIGN\PPT\JPG\THAN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矩形 5"/>
          <p:cNvSpPr/>
          <p:nvPr/>
        </p:nvSpPr>
        <p:spPr>
          <a:xfrm>
            <a:off x="2705400" y="2781360"/>
            <a:ext cx="38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4C4-8F88-407D-A996-439528CA49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H:\FOUNDESIGN\PPT\JPG\内页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4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