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20F-6ECD-46C1-A6CC-73B09E01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563-E031-4BDF-8F56-510CF737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2CA-FC2C-404D-B1AA-BFB666EE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474-AD56-4EFE-8979-E92689CB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0C51-FBB5-4C81-8BE5-812FFD8D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BDD8-BA96-4AAD-A303-FFC4764D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2B68-47D5-499C-BC37-B8DF5BF8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CE2E-9819-4F9A-94CA-DAD29056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8DA8-6EBF-402A-BD5E-E8FC12E5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5341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53A2-F9DA-4FD0-82CD-204BD32B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22CF-D68A-4CC1-A06C-36062ECE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B99-5505-4CD1-B305-21A9027A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FB1E-CDD5-4F16-8F75-11A4C180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B68D-56AB-4F96-A5B1-A266D9EF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3D23-AB7A-42A6-B101-0C3FE618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70C9-ECA6-4C05-B2F9-E7294278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A47E-DDE3-4FA4-8E48-42333EA0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CE7-CA26-47A5-8FAD-0586AF96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FABA-052E-43B6-B85A-E80ED21C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9B2-4047-4D37-963C-0F43C100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5341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BB8-303F-4AB9-B895-7821374A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2EF-BE10-45C5-90A9-F61847F3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DCB-FE4E-4012-8B73-705D8934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104-F491-4FE9-A579-55EF53BE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4A86-6059-4FB2-A689-C1A13928222C}" type="slidenum">
              <a:rPr b="0" lang="en-US" sz="10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agnifying_glass_contract_hg_clr" descr=""/>
          <p:cNvPicPr/>
          <p:nvPr/>
        </p:nvPicPr>
        <p:blipFill>
          <a:blip r:embed="rId3"/>
          <a:stretch/>
        </p:blipFill>
        <p:spPr>
          <a:xfrm>
            <a:off x="6248520" y="407664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2668-E4EC-412B-88B9-00200672BF5C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300000"/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300000"/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300000"/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简单英文简历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214-085A-4AF3-B885-7769235E6122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03:21:05Z</dcterms:created>
  <dc:creator>幻灯片之家：www.eeppt.com</dc:creator>
  <dc:description>幻灯片之家：www.eeppt.com</dc:description>
  <cp:keywords>幻灯片之家：www.eeppt.com</cp:keywords>
  <dc:language>en-US</dc:language>
  <cp:lastModifiedBy>lidan</cp:lastModifiedBy>
  <dcterms:modified xsi:type="dcterms:W3CDTF">2015-08-12T14:35:59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