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573-9BCB-4383-BDD3-D2194C05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5F1-88E8-4F19-89B7-B4F6106A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48E-6EFB-40E6-B4E6-FA12C69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1FC-E445-4148-BFE9-7616B7BC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FA3-C387-4E8E-912E-0CC31D02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EDD-BBFC-488E-93E9-26BD6F17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16B-72A8-4852-ABB3-43CF6425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087-0AC8-446B-976A-C4631AEF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5BA-9D78-4E6B-9AD3-62164A48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5BC-F4FC-4895-8AC3-1DE8E34F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01A-5913-4A43-A740-49313E53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680-6EEE-4CD5-9682-621CCD7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8723-C804-426A-AA10-EC6338A8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2,&#20010;&#20154;&#31616;&#21382;" TargetMode="External"/><Relationship Id="rId3" Type="http://schemas.openxmlformats.org/officeDocument/2006/relationships/hyperlink" Target="257,2,&#20010;&#20154;&#31616;&#21382;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1,&#24187;&#28783;&#29255; 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812000" cy="695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2000" y="1557360"/>
            <a:ext cx="266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个 人 简 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 e s u 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9500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765000"/>
            <a:ext cx="69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的个人求职简历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B9224-B7D1-4F46-AFB8-BE15FF210D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68D-39B0-4845-9A0B-C0C5B09346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5000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个人简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性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李历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人才类型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普通求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性别：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年龄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民族：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汉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文化程度：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大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身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体重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78cm 62kg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户籍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东省佛山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业学校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州大学继续教育学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家庭住址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广东省佛山市大沥镇黄歧街道教表东风新一村二巷横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邮编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2824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爱好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打篮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个人手机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757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3925421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婚姻状况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未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求职类型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均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工作年限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修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各种办公室软件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hop,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网页设计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SP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+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人从大专开始已经有做兼职，各方面发展得比较平均，有一定的工作能力跟应变能力，刻苦耐劳善于跟别人沟通，还有相当的销售能力能适应各个职位。更在工作的同时热爱学习跟运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自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人在学习阶段，一直有去做一些兼职，如必胜客，各名牌专卖店担任销售员，有一定的销售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能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语语种：英语                国语水平：良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英语水平：一般                    粤语水平：精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5:37:54Z</dcterms:created>
  <dc:creator>幻灯片之家：www.eeppt.com</dc:creator>
  <dc:description>幻灯片之家：www.eeppt.com</dc:description>
  <cp:keywords>幻灯片之家：www.eeppt.com</cp:keywords>
  <dc:language>en-US</dc:language>
  <cp:lastModifiedBy>未知用户</cp:lastModifiedBy>
  <dcterms:modified xsi:type="dcterms:W3CDTF">2015-08-12T14:36:0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