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551C-21F0-4142-8EC7-4DFF3114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4B4E-76DF-4D97-B2B7-1FDC7A74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AD7C-DE36-4845-B993-C760A730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57F9-EC76-4DF5-8C6B-1A69E4BD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19E-2237-47F0-93ED-6289B3CC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48E-91F7-4C3E-BD38-2161DCAC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B2FB-C6CE-487B-BB52-DE2A207D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3A8E-CBFC-4FC4-8989-F2F11B27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C1DD-A7FF-4B35-A375-269A8167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F15-4A65-44E6-9B26-33529524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6974-C63D-4F09-A29D-FCA40EB1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982-618B-4B82-ACBF-18C07A76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D:\SLIDEtoME\TP模板\新建文件夹 (2)\bg\bg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A1B1-B2CA-448D-875E-6661C347FFBF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4450-04EF-4CA0-BF4F-10D20D0B507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D:\SLIDEtoME\TP模板\新建文件夹 (2)\bg\bg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95280" y="256536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</a:rPr>
              <a:t>简洁工作总结报告</a:t>
            </a: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111111"/>
                </a:solidFill>
                <a:latin typeface="Arial"/>
              </a:rPr>
              <a:t>模板在线下载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1BC9-9A6A-4284-BF9F-474A387E9F4C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1111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68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69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B089-4F91-4CBD-BA44-777B19AACE7D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F39F-C5FB-47D1-89B4-D078436628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64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72" name="Freeform 65"/>
            <p:cNvSpPr/>
            <p:nvPr/>
          </p:nvSpPr>
          <p:spPr>
            <a:xfrm>
              <a:off x="676800" y="1631880"/>
              <a:ext cx="4841640" cy="186264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3" name="Freeform 66"/>
            <p:cNvSpPr/>
            <p:nvPr/>
          </p:nvSpPr>
          <p:spPr>
            <a:xfrm>
              <a:off x="4049640" y="2203920"/>
              <a:ext cx="558720" cy="570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4" name="Freeform 67"/>
            <p:cNvSpPr/>
            <p:nvPr/>
          </p:nvSpPr>
          <p:spPr>
            <a:xfrm>
              <a:off x="480960" y="2618280"/>
              <a:ext cx="1681200" cy="17629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5" name="Freeform 68"/>
            <p:cNvSpPr/>
            <p:nvPr/>
          </p:nvSpPr>
          <p:spPr>
            <a:xfrm>
              <a:off x="3627360" y="3769200"/>
              <a:ext cx="1011600" cy="6940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5547600" y="1708920"/>
              <a:ext cx="3273840" cy="31597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659520" y="2083320"/>
              <a:ext cx="299520" cy="2278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1951200" y="3810600"/>
              <a:ext cx="187200" cy="327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3203280" y="3378240"/>
              <a:ext cx="785160" cy="4096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3547440" y="3351600"/>
              <a:ext cx="416880" cy="3171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3957840" y="3463560"/>
              <a:ext cx="671400" cy="32760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3737880" y="3051720"/>
              <a:ext cx="238680" cy="34128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4404240" y="4481280"/>
              <a:ext cx="112320" cy="1011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4920480" y="4347360"/>
              <a:ext cx="318240" cy="31536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7583040" y="2955240"/>
              <a:ext cx="456480" cy="151920"/>
            </a:xfrm>
            <a:prstGeom prst="pi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6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0070c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D843-14BD-485D-A8DE-1CE6E7972906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2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7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1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5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1CA6-8902-420B-9FD1-41E9B9018B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D:\SLIDEtoME\TP模板\新建文件夹 (2)\bg\bg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353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95280" y="256536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BDEB-A425-45B3-8FAF-54FA586C5778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D512-0F48-4631-BBB1-56669F723F12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0070c0"/>
          </a:solidFill>
          <a:ln w="9360">
            <a:solidFill>
              <a:srgbClr val="0038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0058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91" name="内容占位符 6" descr=""/>
          <p:cNvPicPr/>
          <p:nvPr/>
        </p:nvPicPr>
        <p:blipFill>
          <a:blip r:embed="rId1"/>
          <a:stretch/>
        </p:blipFill>
        <p:spPr>
          <a:xfrm>
            <a:off x="3179880" y="3332160"/>
            <a:ext cx="5568840" cy="205272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3" name="直接连接符 150"/>
          <p:cNvSpPr/>
          <p:nvPr/>
        </p:nvSpPr>
        <p:spPr>
          <a:xfrm>
            <a:off x="395280" y="19447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:\SLIDEtoME\TP模板\新建文件夹 (2)\bg\bg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62F6-27C5-4FD1-93FF-3A22A3DCDBBC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390760"/>
            <a:ext cx="8353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35344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2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3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7570-9998-46FD-827D-995943E59349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4D4E-34CE-4D72-A1A8-8E00078FBEF4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95280" y="1339920"/>
            <a:ext cx="8353080" cy="4610160"/>
            <a:chOff x="395280" y="1339920"/>
            <a:chExt cx="8353080" cy="4610160"/>
          </a:xfrm>
        </p:grpSpPr>
        <p:sp>
          <p:nvSpPr>
            <p:cNvPr id="109" name=""/>
            <p:cNvSpPr/>
            <p:nvPr/>
          </p:nvSpPr>
          <p:spPr>
            <a:xfrm rot="5400000">
              <a:off x="5386320" y="-54000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4183200" y="235404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5280" y="248904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38480" y="250704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5386320" y="-15156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183200" y="274212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5280" y="287748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8480" y="289548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5386320" y="23652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4183200" y="313056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5280" y="326592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8480" y="328392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5386320" y="62496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4183200" y="351900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5280" y="365436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38480" y="367236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5386320" y="101340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4183200" y="390744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5280" y="404280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8480" y="406080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5386320" y="140184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ad3e8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4183200" y="429588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5280" y="443124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8480" y="444924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12720" y="98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06480" y="1339920"/>
            <a:ext cx="7332480" cy="4487760"/>
            <a:chOff x="906480" y="1339920"/>
            <a:chExt cx="7332480" cy="4487760"/>
          </a:xfrm>
        </p:grpSpPr>
        <p:sp>
          <p:nvSpPr>
            <p:cNvPr id="136" name=""/>
            <p:cNvSpPr/>
            <p:nvPr/>
          </p:nvSpPr>
          <p:spPr>
            <a:xfrm>
              <a:off x="90648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4500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65680" y="3156480"/>
              <a:ext cx="2149200" cy="267120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2671200"/>
                <a:gd name="textAreaBottom" fmla="*/ 2671560 h 26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0" y="4923"/>
                  </a:moveTo>
                  <a:arcTo wR="-10211" hR="-10211" stAng="-8691767" swAng="-14683745"/>
                  <a:lnTo>
                    <a:pt x="1409" y="16133"/>
                  </a:lnTo>
                  <a:arcTo wR="10800" hR="10800" stAng="9024489" swAng="14683745"/>
                  <a:lnTo>
                    <a:pt x="21840" y="18570"/>
                  </a:lnTo>
                  <a:lnTo>
                    <a:pt x="17668" y="19295"/>
                  </a:lnTo>
                  <a:lnTo>
                    <a:pt x="16942" y="151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792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880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376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82280" y="30772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86040" y="1339920"/>
              <a:ext cx="2408760" cy="29941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994120"/>
                <a:gd name="textAreaBottom" fmla="*/ 2994480 h 299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34" y="16620"/>
                  </a:moveTo>
                  <a:arcTo wR="-10274" hR="-10274" stAng="8729652" swAng="-6954142"/>
                  <a:lnTo>
                    <a:pt x="1409" y="5467"/>
                  </a:lnTo>
                  <a:arcTo wR="10800" hR="10800" stAng="-9024489" swAng="6954142"/>
                  <a:lnTo>
                    <a:pt x="21925" y="3152"/>
                  </a:lnTo>
                  <a:lnTo>
                    <a:pt x="21162" y="7273"/>
                  </a:lnTo>
                  <a:lnTo>
                    <a:pt x="17041" y="6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95200" y="213660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6440" y="216288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8104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3284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5372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5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58A1-E393-47A5-A0C1-8341785A1458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99F1-051C-4DA2-A544-DE7040DE34B7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E94B-9CF5-44ED-A137-832AB712751A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59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05440" cy="4753080"/>
          </a:xfrm>
          <a:prstGeom prst="rect">
            <a:avLst/>
          </a:prstGeom>
          <a:ln w="0">
            <a:noFill/>
          </a:ln>
        </p:spPr>
      </p:pic>
      <p:pic>
        <p:nvPicPr>
          <p:cNvPr id="160" name="内容占位符 6" descr=""/>
          <p:cNvPicPr/>
          <p:nvPr/>
        </p:nvPicPr>
        <p:blipFill>
          <a:blip r:embed="rId2"/>
          <a:stretch/>
        </p:blipFill>
        <p:spPr>
          <a:xfrm>
            <a:off x="4635360" y="1197000"/>
            <a:ext cx="4105440" cy="475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6720" y="8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63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4753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F831-FF78-4E3E-A0DF-436EC4DD42C4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0:55:00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5:59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