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339933">
                  <a:alpha val="75294"/>
                </a:srgbClr>
              </a:gs>
              <a:gs pos="100000">
                <a:srgbClr val="fefefe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0b678"/>
              </a:gs>
              <a:gs pos="100000">
                <a:srgbClr val="aa8a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0b678"/>
              </a:gs>
              <a:gs pos="100000">
                <a:srgbClr val="aa8a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676680" y="0"/>
            <a:ext cx="4208400" cy="833400"/>
          </a:xfrm>
          <a:prstGeom prst="rect">
            <a:avLst/>
          </a:prstGeom>
          <a:gradFill rotWithShape="0">
            <a:gsLst>
              <a:gs pos="0">
                <a:srgbClr val="e0b67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88320" y="0"/>
            <a:ext cx="426960" cy="835200"/>
          </a:xfrm>
          <a:custGeom>
            <a:avLst/>
            <a:gdLst>
              <a:gd name="textAreaLeft" fmla="*/ 0 w 426960"/>
              <a:gd name="textAreaRight" fmla="*/ 427320 w 4269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c9864"/>
              </a:gs>
              <a:gs pos="100000">
                <a:srgbClr val="e0b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20720" y="152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87640" y="422100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商务演示设计制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47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82240" y="342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封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920" y="128520"/>
            <a:ext cx="78962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90920" y="3441240"/>
            <a:ext cx="4541760" cy="4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14680" y="5313240"/>
            <a:ext cx="4518000" cy="12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14680" y="2576160"/>
            <a:ext cx="4446360" cy="28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614680" y="4376520"/>
            <a:ext cx="4518000" cy="3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05080" y="2082960"/>
            <a:ext cx="609480" cy="554040"/>
            <a:chOff x="2305080" y="2082960"/>
            <a:chExt cx="609480" cy="554040"/>
          </a:xfrm>
        </p:grpSpPr>
        <p:grpSp>
          <p:nvGrpSpPr>
            <p:cNvPr id="92" name=""/>
            <p:cNvGrpSpPr/>
            <p:nvPr/>
          </p:nvGrpSpPr>
          <p:grpSpPr>
            <a:xfrm>
              <a:off x="2305080" y="2082960"/>
              <a:ext cx="609480" cy="554040"/>
              <a:chOff x="2305080" y="2082960"/>
              <a:chExt cx="609480" cy="554040"/>
            </a:xfrm>
          </p:grpSpPr>
          <p:sp>
            <p:nvSpPr>
              <p:cNvPr id="93" name=""/>
              <p:cNvSpPr/>
              <p:nvPr/>
            </p:nvSpPr>
            <p:spPr>
              <a:xfrm>
                <a:off x="2305080" y="2082960"/>
                <a:ext cx="609480" cy="55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05080" y="2082960"/>
                <a:ext cx="609480" cy="5540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00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345040" y="2118960"/>
                <a:ext cx="529560" cy="481680"/>
              </a:xfrm>
              <a:prstGeom prst="ellipse">
                <a:avLst/>
              </a:prstGeom>
              <a:gradFill rotWithShape="0">
                <a:gsLst>
                  <a:gs pos="0">
                    <a:srgbClr val="526d00"/>
                  </a:gs>
                  <a:gs pos="50000">
                    <a:srgbClr val="99cc00"/>
                  </a:gs>
                  <a:gs pos="100000">
                    <a:srgbClr val="52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45400" y="2119680"/>
                <a:ext cx="529560" cy="48168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6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71320" y="2143080"/>
                <a:ext cx="477000" cy="433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378880" y="2149560"/>
                <a:ext cx="461520" cy="419760"/>
                <a:chOff x="2378880" y="2149560"/>
                <a:chExt cx="461520" cy="419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78880" y="2149560"/>
                  <a:ext cx="461520" cy="41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84640" y="2151720"/>
                  <a:ext cx="45036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89320" y="2155680"/>
                  <a:ext cx="428400" cy="38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414520" y="2166480"/>
                  <a:ext cx="380880" cy="31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2441520" y="2159640"/>
              <a:ext cx="3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98600" y="2884320"/>
            <a:ext cx="612720" cy="619200"/>
            <a:chOff x="2298600" y="2884320"/>
            <a:chExt cx="612720" cy="619200"/>
          </a:xfrm>
        </p:grpSpPr>
        <p:grpSp>
          <p:nvGrpSpPr>
            <p:cNvPr id="105" name=""/>
            <p:cNvGrpSpPr/>
            <p:nvPr/>
          </p:nvGrpSpPr>
          <p:grpSpPr>
            <a:xfrm>
              <a:off x="2298600" y="2884320"/>
              <a:ext cx="612720" cy="619200"/>
              <a:chOff x="2298600" y="2884320"/>
              <a:chExt cx="612720" cy="619200"/>
            </a:xfrm>
          </p:grpSpPr>
          <p:sp>
            <p:nvSpPr>
              <p:cNvPr id="106" name=""/>
              <p:cNvSpPr/>
              <p:nvPr/>
            </p:nvSpPr>
            <p:spPr>
              <a:xfrm>
                <a:off x="2298600" y="2884320"/>
                <a:ext cx="612720" cy="619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be0e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98600" y="2884320"/>
                <a:ext cx="612720" cy="6192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be0e3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8560" y="2924640"/>
                <a:ext cx="532080" cy="538560"/>
              </a:xfrm>
              <a:prstGeom prst="ellipse">
                <a:avLst/>
              </a:prstGeom>
              <a:gradFill rotWithShape="0">
                <a:gsLst>
                  <a:gs pos="0">
                    <a:srgbClr val="64787a"/>
                  </a:gs>
                  <a:gs pos="50000">
                    <a:srgbClr val="bbe0e3"/>
                  </a:gs>
                  <a:gs pos="100000">
                    <a:srgbClr val="6478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40360" y="2924640"/>
                <a:ext cx="532800" cy="5385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768d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64840" y="2951280"/>
                <a:ext cx="479880" cy="484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373120" y="2958840"/>
                <a:ext cx="463320" cy="469080"/>
                <a:chOff x="2373120" y="2958840"/>
                <a:chExt cx="463320" cy="469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3120" y="2958840"/>
                  <a:ext cx="463320" cy="46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8880" y="2961360"/>
                  <a:ext cx="452160" cy="45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383560" y="2965680"/>
                  <a:ext cx="430200" cy="42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8760" y="2977920"/>
                  <a:ext cx="382320" cy="34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2440800" y="2976840"/>
              <a:ext cx="3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05080" y="3870360"/>
            <a:ext cx="609480" cy="615960"/>
            <a:chOff x="2305080" y="3870360"/>
            <a:chExt cx="609480" cy="615960"/>
          </a:xfrm>
        </p:grpSpPr>
        <p:grpSp>
          <p:nvGrpSpPr>
            <p:cNvPr id="118" name=""/>
            <p:cNvGrpSpPr/>
            <p:nvPr/>
          </p:nvGrpSpPr>
          <p:grpSpPr>
            <a:xfrm>
              <a:off x="2305080" y="3870360"/>
              <a:ext cx="609480" cy="615960"/>
              <a:chOff x="2305080" y="3870360"/>
              <a:chExt cx="609480" cy="615960"/>
            </a:xfrm>
          </p:grpSpPr>
          <p:sp>
            <p:nvSpPr>
              <p:cNvPr id="119" name=""/>
              <p:cNvSpPr/>
              <p:nvPr/>
            </p:nvSpPr>
            <p:spPr>
              <a:xfrm>
                <a:off x="2305080" y="3870360"/>
                <a:ext cx="609480" cy="61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05080" y="3870360"/>
                <a:ext cx="609480" cy="615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99cc00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5040" y="3910320"/>
                <a:ext cx="529560" cy="535320"/>
              </a:xfrm>
              <a:prstGeom prst="ellipse">
                <a:avLst/>
              </a:prstGeom>
              <a:gradFill rotWithShape="0">
                <a:gsLst>
                  <a:gs pos="0">
                    <a:srgbClr val="526d00"/>
                  </a:gs>
                  <a:gs pos="50000">
                    <a:srgbClr val="99cc00"/>
                  </a:gs>
                  <a:gs pos="100000">
                    <a:srgbClr val="52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5400" y="3911400"/>
                <a:ext cx="529560" cy="53568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6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71320" y="3937320"/>
                <a:ext cx="477000" cy="48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2378880" y="3944160"/>
                <a:ext cx="461520" cy="466920"/>
                <a:chOff x="2378880" y="3944160"/>
                <a:chExt cx="461520" cy="466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378880" y="3944160"/>
                  <a:ext cx="46152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384640" y="3946680"/>
                  <a:ext cx="450360" cy="45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89320" y="3951000"/>
                  <a:ext cx="428400" cy="4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14520" y="3962880"/>
                  <a:ext cx="380880" cy="34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2441520" y="3974400"/>
              <a:ext cx="3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98600" y="4754520"/>
            <a:ext cx="612720" cy="619200"/>
            <a:chOff x="2298600" y="4754520"/>
            <a:chExt cx="612720" cy="619200"/>
          </a:xfrm>
        </p:grpSpPr>
        <p:grpSp>
          <p:nvGrpSpPr>
            <p:cNvPr id="131" name=""/>
            <p:cNvGrpSpPr/>
            <p:nvPr/>
          </p:nvGrpSpPr>
          <p:grpSpPr>
            <a:xfrm>
              <a:off x="2298600" y="4754520"/>
              <a:ext cx="612720" cy="619200"/>
              <a:chOff x="2298600" y="4754520"/>
              <a:chExt cx="612720" cy="619200"/>
            </a:xfrm>
          </p:grpSpPr>
          <p:sp>
            <p:nvSpPr>
              <p:cNvPr id="132" name=""/>
              <p:cNvSpPr/>
              <p:nvPr/>
            </p:nvSpPr>
            <p:spPr>
              <a:xfrm>
                <a:off x="2298600" y="4754520"/>
                <a:ext cx="612720" cy="619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be0e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98600" y="4754520"/>
                <a:ext cx="612720" cy="6192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be0e3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38560" y="4794840"/>
                <a:ext cx="532080" cy="538560"/>
              </a:xfrm>
              <a:prstGeom prst="ellipse">
                <a:avLst/>
              </a:prstGeom>
              <a:gradFill rotWithShape="0">
                <a:gsLst>
                  <a:gs pos="0">
                    <a:srgbClr val="64787a"/>
                  </a:gs>
                  <a:gs pos="50000">
                    <a:srgbClr val="bbe0e3"/>
                  </a:gs>
                  <a:gs pos="100000">
                    <a:srgbClr val="6478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40360" y="4794840"/>
                <a:ext cx="532800" cy="5385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768d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64840" y="4821480"/>
                <a:ext cx="479880" cy="484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373120" y="4829040"/>
                <a:ext cx="463320" cy="469080"/>
                <a:chOff x="2373120" y="4829040"/>
                <a:chExt cx="463320" cy="469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373120" y="4829040"/>
                  <a:ext cx="463320" cy="46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378880" y="4831560"/>
                  <a:ext cx="452160" cy="45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83560" y="4835880"/>
                  <a:ext cx="430200" cy="42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408760" y="4848120"/>
                  <a:ext cx="382320" cy="34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2440800" y="4859640"/>
              <a:ext cx="3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381400" y="2073240"/>
            <a:ext cx="441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84280" y="2909880"/>
            <a:ext cx="44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4842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115920"/>
            <a:ext cx="7896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093080" y="404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357720"/>
            <a:ext cx="72388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4:48:1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6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