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5040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7C8-FC25-4BCE-A442-3A32AF06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8E5A-89DA-4D86-ADDA-ADBFEFD9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D75-0614-4DAB-B7BB-BBED38E2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A36-48F7-4A06-8156-F0659005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7E6E-3F72-4FAB-BAED-2C16CC1B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F1BB-02D4-4820-B999-A7043321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E3BB-6ADD-4556-A4B4-51B1B4B3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23B2-257A-4D4D-BF6A-F11449D6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792F-4FA5-4750-8384-78FF4E37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7CE7-7645-4F4B-9BA1-D43D7C53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1078-F5AB-470B-9899-8B32F2FD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F89-992E-49A6-A2B6-CBFA5428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9117-A8F8-4698-8B5D-A20301DA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0AED-D5AC-458B-8D48-0C1CD7B3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1C15-3F63-49A8-8B93-015947B9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29FE-BC5D-419A-A743-7CD7E0D6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72A1-4BDF-45E7-87DA-106BA437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7BB-8694-47BC-9042-922C7035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4B7-A23A-4B7D-90A8-837C29AF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DA2-BC79-4376-8002-20E34BA6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25B-661D-4B24-9426-9A0B0D27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419-22AF-4DEB-B307-E79B2F44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21E-4B53-4CC5-B3FD-0CE054F1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150-9D7F-4B18-9A78-FB61CC92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CED6-8DF6-498D-8676-DADA1C788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591080"/>
            <a:ext cx="21337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591080"/>
            <a:ext cx="28958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591080"/>
            <a:ext cx="21337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AFF1-77AD-4B31-8C00-67E83E764F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39320"/>
            <a:ext cx="82072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933480"/>
            <a:ext cx="8928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244440"/>
            <a:ext cx="1388880" cy="2570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53D7-F925-49CD-87FD-3750D301EC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"/>
          <p:cNvGrpSpPr/>
          <p:nvPr/>
        </p:nvGrpSpPr>
        <p:grpSpPr>
          <a:xfrm>
            <a:off x="3048120" y="1049400"/>
            <a:ext cx="5333400" cy="1356480"/>
            <a:chOff x="3048120" y="1049400"/>
            <a:chExt cx="5333400" cy="1356480"/>
          </a:xfrm>
        </p:grpSpPr>
        <p:sp>
          <p:nvSpPr>
            <p:cNvPr id="86" name="TextBox 8"/>
            <p:cNvSpPr/>
            <p:nvPr/>
          </p:nvSpPr>
          <p:spPr>
            <a:xfrm>
              <a:off x="3048120" y="1049400"/>
              <a:ext cx="53334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 bite"/>
                  <a:ea typeface="华文隶书"/>
                </a:rPr>
                <a:t>原创作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0"/>
            <p:cNvSpPr/>
            <p:nvPr/>
          </p:nvSpPr>
          <p:spPr>
            <a:xfrm>
              <a:off x="4840200" y="1887480"/>
              <a:ext cx="26665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Line 8"/>
          <p:cNvSpPr/>
          <p:nvPr/>
        </p:nvSpPr>
        <p:spPr>
          <a:xfrm>
            <a:off x="5653080" y="2952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5869080" y="3168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6084720" y="338472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6588000" y="3600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6:46:3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2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