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CC91-EC60-41B5-90C1-3022CFB24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8859-5C0D-42AE-95DE-768A9DBA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BF7-C14F-4CEF-B60F-C4D67FAD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4F0F-BF21-44D8-98C6-6A1870238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9A6EE-EF27-406E-9FE0-4900920CD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EBAD0-BE6F-4608-92C2-00E988294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F58D2-7DCC-4C8C-8B6D-B043939B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9475-E5C1-47E1-81E4-43647263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7846E-FAC9-47E3-BC67-009AB7F6B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28448-AA60-402C-A74B-0D1F82DB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25B0-5680-462A-95C3-159038673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C71D0-5F0F-43F5-B87F-24535857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140A7-4945-4F63-AA52-69677891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75080-2180-44D2-A25C-88F246FDE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60744-5227-410F-BEE4-7F4BE135D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BB470-F720-450A-ABD4-4CB7E98B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4F56-5941-4A53-ABDE-98EC32A9C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E6846-417C-4CF5-B90C-38B32AB90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6F60-328A-40E1-9A5E-D3DA837A7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A6A1-9194-4C22-ADAD-45375CBC6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77E8-80B2-41F6-B824-72F370EB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2011-527F-4033-865D-21B46EA9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4C71-2ECF-4848-AFB4-3A6A7F7C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A78E-6A74-4D81-98D3-384B083D0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396E3-FFD1-4FED-BC36-EE7ECC9625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6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103640" y="6597720"/>
            <a:ext cx="51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http://www.zzone.cn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　  中国</a:t>
            </a:r>
            <a:r>
              <a:rPr b="1" lang="en-US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.</a:t>
            </a:r>
            <a:r>
              <a:rPr b="1" lang="zh-CN" sz="1400" spc="-1" strike="noStrike">
                <a:solidFill>
                  <a:srgbClr val="eeb00b"/>
                </a:solidFill>
                <a:latin typeface="楷体_GB2312"/>
                <a:ea typeface="楷体_GB2312"/>
              </a:rPr>
              <a:t>中学政治教学网崇尚互联共享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66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6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6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710A6-A5A3-4B4F-8EF6-2B5549B5E1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aeaea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3784B-D37A-43E6-B0EF-2AC94A701C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宋体"/>
              </a:rPr>
              <a:t>金融会议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ffcc66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aeaea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eaeaea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slow">
    <p:randomBa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08:17:3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42Z</dcterms:modified>
  <cp:revision>46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