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498-A92A-49F2-A667-252AC688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9B6-C349-472D-83A7-E72A6EDE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EA3-9F53-48FA-B9FF-F9D6C6F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62A-A932-4C27-B56D-9D237998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8D07-2A9D-4461-A1B1-2B2D7639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F346-C820-419C-B757-B34F8299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85E-B022-4672-BDF5-A1889283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042-2DFC-41C9-B913-61B4BA7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BD5F-5883-48EF-8A3D-515511D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4193-9BB5-4CE3-A99E-1C216A92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EFE-006B-40F1-AF25-E252C6CC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FAD-C2D2-410C-939E-AAD3A8E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FCAF-2635-45A1-93D3-A3D42B0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5CD5-98BB-4E09-92DA-F551FE1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740A-A318-4B8E-853D-E98CD20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2F03-94EA-485B-814B-8017C5A2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250D-7EB1-4865-ADEA-A1E63EE1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038-13D0-4D7B-90AE-60F045D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A3A-4C0C-4E0E-B54E-B2C9BDA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9A1-6CD2-452A-8231-8B62C533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2C8-27C8-455E-B799-BE1943E9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AC5-6D2C-4830-9767-004F537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FB9-0FCF-49CB-AB19-D6E0FC0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E55-85CA-41C4-A19D-F1E4AE5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857-6DF2-4856-85F8-AB4C449E519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36EA-83C1-4896-80BE-03EAE8EC42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65640"/>
            <a:ext cx="8299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金融专业论文答辩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637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652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ffffff"/>
              </a:gs>
              <a:gs pos="100000">
                <a:srgbClr val="90a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4e5b5f"/>
              </a:gs>
              <a:gs pos="100000">
                <a:srgbClr val="90a8b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ffffff"/>
              </a:gs>
              <a:gs pos="100000">
                <a:srgbClr val="3984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a3d5d"/>
              </a:gs>
              <a:gs pos="100000">
                <a:srgbClr val="3984c9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1f476d"/>
              </a:gs>
              <a:gs pos="100000">
                <a:srgbClr val="3984c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984c9">
                  <a:alpha val="0"/>
                </a:srgbClr>
              </a:gs>
              <a:gs pos="100000">
                <a:srgbClr val="2454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01" name="Rectangle 8"/>
            <p:cNvSpPr/>
            <p:nvPr/>
          </p:nvSpPr>
          <p:spPr>
            <a:xfrm rot="13770000">
              <a:off x="4912920" y="38815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67120" y="2126880"/>
              <a:ext cx="1701360" cy="1836720"/>
              <a:chOff x="3867120" y="2126880"/>
              <a:chExt cx="1701360" cy="1836720"/>
            </a:xfrm>
          </p:grpSpPr>
          <p:sp>
            <p:nvSpPr>
              <p:cNvPr id="304" name="Rectangle 11"/>
              <p:cNvSpPr/>
              <p:nvPr/>
            </p:nvSpPr>
            <p:spPr>
              <a:xfrm rot="18394200">
                <a:off x="5040360" y="233928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867120" y="2377080"/>
                <a:ext cx="1609560" cy="1586520"/>
                <a:chOff x="3867120" y="2377080"/>
                <a:chExt cx="1609560" cy="1586520"/>
              </a:xfrm>
            </p:grpSpPr>
            <p:sp>
              <p:nvSpPr>
                <p:cNvPr id="306" name="Oval 13"/>
                <p:cNvSpPr/>
                <p:nvPr/>
              </p:nvSpPr>
              <p:spPr>
                <a:xfrm>
                  <a:off x="3867120" y="237708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4"/>
                <p:cNvSpPr/>
                <p:nvPr/>
              </p:nvSpPr>
              <p:spPr>
                <a:xfrm>
                  <a:off x="4051080" y="2403360"/>
                  <a:ext cx="1241640" cy="59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15"/>
              <p:cNvSpPr/>
              <p:nvPr/>
            </p:nvSpPr>
            <p:spPr>
              <a:xfrm>
                <a:off x="3953880" y="3067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11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20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6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Text Box 25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21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4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7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3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6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9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1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3c2a"/>
              </a:gs>
              <a:gs pos="100000">
                <a:srgbClr val="6e815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652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70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7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Oval 14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1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2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5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0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5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Oval 26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Oval 27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Text Box 29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30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31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9" name="AutoShape 33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AutoShape 35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36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04" name="Oval 38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39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0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Oval 41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8" name="Oval 42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9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AutoShape 46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6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9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20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1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3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4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6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2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8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9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1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9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4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5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8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9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1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7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3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6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9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5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98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2" name="AutoShape 90"/>
            <p:cNvCxnSpPr>
              <a:stCxn id="498" idx="3"/>
              <a:endCxn id="499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3" name="AutoShape 91"/>
            <p:cNvCxnSpPr>
              <a:stCxn id="499" idx="3"/>
              <a:endCxn id="500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4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8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0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3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5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7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2ca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0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2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7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0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7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9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838080" y="2057400"/>
          <a:ext cx="746748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349280" y="1280880"/>
            <a:ext cx="6575400" cy="4665960"/>
            <a:chOff x="1349280" y="1280880"/>
            <a:chExt cx="6575400" cy="4665960"/>
          </a:xfrm>
        </p:grpSpPr>
        <p:sp>
          <p:nvSpPr>
            <p:cNvPr id="567" name="Oval 4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31313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7"/>
            <p:cNvSpPr/>
            <p:nvPr/>
          </p:nvSpPr>
          <p:spPr>
            <a:xfrm rot="20601600">
              <a:off x="4349520" y="19051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9eab92"/>
                </a:gs>
                <a:gs pos="100000">
                  <a:srgbClr val="6e815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23507a"/>
                </a:gs>
                <a:gs pos="100000">
                  <a:srgbClr val="3984c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Arc 9"/>
            <p:cNvSpPr/>
            <p:nvPr/>
          </p:nvSpPr>
          <p:spPr>
            <a:xfrm rot="20601600">
              <a:off x="2874600" y="1987560"/>
              <a:ext cx="3133800" cy="1417680"/>
            </a:xfrm>
            <a:prstGeom prst="pie">
              <a:avLst/>
            </a:prstGeom>
            <a:gradFill rotWithShape="0">
              <a:gsLst>
                <a:gs pos="0">
                  <a:srgbClr val="18343c"/>
                </a:gs>
                <a:gs pos="100000">
                  <a:srgbClr val="2e627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415f15"/>
                </a:gs>
                <a:gs pos="100000">
                  <a:srgbClr val="77ae26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Text Box 13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514400" y="2466720"/>
              <a:ext cx="3164400" cy="2769120"/>
              <a:chOff x="4514400" y="2466720"/>
              <a:chExt cx="3164400" cy="2769120"/>
            </a:xfrm>
          </p:grpSpPr>
          <p:sp>
            <p:nvSpPr>
              <p:cNvPr id="579" name="Freeform 16"/>
              <p:cNvSpPr/>
              <p:nvPr/>
            </p:nvSpPr>
            <p:spPr>
              <a:xfrm>
                <a:off x="5668920" y="34484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100000">
                    <a:srgbClr val="5866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Arc 17"/>
              <p:cNvSpPr/>
              <p:nvPr/>
            </p:nvSpPr>
            <p:spPr>
              <a:xfrm rot="20539200">
                <a:off x="4732200" y="28371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Freeform 18"/>
              <p:cNvSpPr/>
              <p:nvPr/>
            </p:nvSpPr>
            <p:spPr>
              <a:xfrm>
                <a:off x="4803480" y="39247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2" name="Text Box 19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3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Freeform 21"/>
            <p:cNvSpPr/>
            <p:nvPr/>
          </p:nvSpPr>
          <p:spPr>
            <a:xfrm>
              <a:off x="4648320" y="3990960"/>
              <a:ext cx="838080" cy="1108080"/>
            </a:xfrm>
            <a:prstGeom prst="pie">
              <a:avLst/>
            </a:pr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Oval 22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4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6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600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68360" y="1268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e815b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65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B0D-0A47-4591-A47A-5D46D4D53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d1d7cb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27" name="Oval 12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3f2c"/>
                  </a:gs>
                  <a:gs pos="100000">
                    <a:srgbClr val="6e81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Oval 13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bfc7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Oval 14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a3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ad4ec"/>
                </a:gs>
                <a:gs pos="100000">
                  <a:srgbClr val="3984c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48235"/>
                  </a:srgbClr>
                </a:gs>
                <a:gs pos="100000">
                  <a:srgbClr val="2d699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3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8" name="Freeform 4"/>
            <p:cNvSpPr/>
            <p:nvPr/>
          </p:nvSpPr>
          <p:spPr>
            <a:xfrm rot="20241600">
              <a:off x="1271160" y="2687040"/>
              <a:ext cx="6403680" cy="25477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8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0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1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2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13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14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6" name="AutoShape 22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7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3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ffffff"/>
                  </a:gs>
                  <a:gs pos="100000">
                    <a:srgbClr val="6e81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3c4631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2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8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2" name="Freeform 17"/>
            <p:cNvSpPr/>
            <p:nvPr/>
          </p:nvSpPr>
          <p:spPr>
            <a:xfrm>
              <a:off x="7833960" y="2286000"/>
              <a:ext cx="576000" cy="84600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073480" y="2286000"/>
              <a:ext cx="3342960" cy="54144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7254720" y="3117960"/>
              <a:ext cx="575640" cy="841320"/>
            </a:xfrm>
            <a:prstGeom prst="pie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243320" y="3117960"/>
              <a:ext cx="3593520" cy="539640"/>
            </a:xfrm>
            <a:prstGeom prst="pie">
              <a:avLst/>
            </a:pr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6673680" y="3949560"/>
              <a:ext cx="572760" cy="84456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6095880" y="4782960"/>
              <a:ext cx="577440" cy="846360"/>
            </a:xfrm>
            <a:prstGeom prst="pie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2592000" y="4788000"/>
              <a:ext cx="4081320" cy="539640"/>
            </a:xfrm>
            <a:prstGeom prst="pie">
              <a:avLst/>
            </a:pr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3184200" y="2440080"/>
              <a:ext cx="1838160" cy="272232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567e1c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505e42"/>
                </a:gs>
                <a:gs pos="100000">
                  <a:srgbClr val="6e81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3419280" y="3949560"/>
              <a:ext cx="3833280" cy="544680"/>
            </a:xfrm>
            <a:prstGeom prst="pie">
              <a:avLst/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687a80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296092"/>
                </a:gs>
                <a:gs pos="100000">
                  <a:srgbClr val="3984c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5073480" y="1219320"/>
            <a:ext cx="1467000" cy="1155600"/>
          </a:xfrm>
          <a:prstGeom prst="pie">
            <a:avLst/>
          </a:prstGeom>
          <a:gradFill rotWithShape="0">
            <a:gsLst>
              <a:gs pos="0">
                <a:srgbClr val="6e815b"/>
              </a:gs>
              <a:gs pos="100000">
                <a:srgbClr val="7b8c6a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2492280" y="1720800"/>
            <a:ext cx="1467000" cy="1157400"/>
          </a:xfrm>
          <a:prstGeom prst="pie">
            <a:avLst/>
          </a:prstGeom>
          <a:gradFill rotWithShape="0">
            <a:gsLst>
              <a:gs pos="0">
                <a:srgbClr val="90a8b0"/>
              </a:gs>
              <a:gs pos="100000">
                <a:srgbClr val="bfcdd1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50" name="AutoShape 16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AutoShape 18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AutoShape 19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54:25Z</dcterms:created>
  <dc:creator>幻灯片之家：www.eeppt.com</dc:creator>
  <dc:description>幻灯片之家：www.eeppt.com</dc:description>
  <cp:keywords>幻灯片之家：www.eeppt.com</cp:keywords>
  <dc:language>en-US</dc:language>
  <cp:lastModifiedBy>黄炜炜</cp:lastModifiedBy>
  <dcterms:modified xsi:type="dcterms:W3CDTF">2015-08-12T14:36:2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