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45AF-A799-4D3E-A5D4-5F9418E3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3520" y="317088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7A2-3176-4803-B662-6FCAF2D2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9624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E077-581A-4412-8163-C114EE17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5304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8256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2352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5304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18256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9D8-11FC-47B0-A5F3-A2764CF8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8F1F-5196-4D02-8C89-15133AC0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523520" y="2971800"/>
            <a:ext cx="5410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6569-1FA1-4940-A92D-1E273601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5410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4F2A-98D8-44BA-818E-95F164A6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1217-5CD6-483C-812A-C4B7C078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8065-2228-4BBB-9526-11B4C4DE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6172200" cy="57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DC39-0FC3-4B32-B08B-9B2FB417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5E9E-D6EC-4652-959D-F4D63A9C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23520" y="2971800"/>
            <a:ext cx="5410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F12-04A8-4D50-89F4-40B486E1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9624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120C-A86C-4BD4-AFCA-93291DA8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6495-37EF-4216-B62D-36B1CCF2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523520" y="317088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329B-21D8-4AFF-ABD4-8E2CCB48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9624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D3B5-E205-451B-8449-E11580DF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5304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8256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52352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5304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18256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B328-C600-4825-8673-B4A475A1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5410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8B6-48A2-45D3-BE9C-FA3488C0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4F6-1D99-478A-9356-F6765687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24C-A461-4662-9D7E-DE31360E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6172200" cy="57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720-EC2F-40B1-81BC-A4D2040B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DEB-73D3-4DC9-85B8-605AF68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29624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410-5872-4A0F-8413-977AAE5D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6F2-875B-47AD-B1EE-FB0814E0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7920" y="561960"/>
            <a:ext cx="7696080" cy="64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58720"/>
            <a:ext cx="1447920" cy="660600"/>
          </a:xfrm>
          <a:prstGeom prst="rect">
            <a:avLst/>
          </a:prstGeom>
          <a:solidFill>
            <a:srgbClr val="267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1094040" cy="1123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5400000">
            <a:off x="239040" y="1857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543960" y="1857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dddddd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848880" y="1857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ddddd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1153800" y="1857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dddddd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6728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72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1A45-5E28-43F4-BEB1-B79A81BB95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228600" y="685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971800"/>
            <a:ext cx="70866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2971800"/>
            <a:ext cx="2057400" cy="457200"/>
          </a:xfrm>
          <a:prstGeom prst="rect">
            <a:avLst/>
          </a:prstGeom>
          <a:solidFill>
            <a:srgbClr val="267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16308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46800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dddddd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77256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ddddd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107748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dddddd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3429000"/>
          <a:ext cx="423540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429000"/>
                    <a:ext cx="4235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086600" y="3429000"/>
          <a:ext cx="205740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86600" y="3429000"/>
                    <a:ext cx="2057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255920" y="3429000"/>
            <a:ext cx="2805120" cy="1830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429000"/>
            <a:ext cx="9144000" cy="1828800"/>
          </a:xfrm>
          <a:prstGeom prst="rect">
            <a:avLst/>
          </a:prstGeom>
          <a:solidFill>
            <a:srgbClr val="9fcad3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391520" y="1905120"/>
            <a:ext cx="1315800" cy="1352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EEAA-AA36-4C44-93BB-FAD8CEF3E14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14800" y="5562720"/>
            <a:ext cx="1079640" cy="635760"/>
            <a:chOff x="4114800" y="5562720"/>
            <a:chExt cx="1079640" cy="635760"/>
          </a:xfrm>
        </p:grpSpPr>
        <p:sp>
          <p:nvSpPr>
            <p:cNvPr id="66" name=""/>
            <p:cNvSpPr/>
            <p:nvPr/>
          </p:nvSpPr>
          <p:spPr>
            <a:xfrm>
              <a:off x="4114800" y="57387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4508640" y="526896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67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728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92980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计算机专业毕业论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1" lang="en-US" sz="4000" spc="-1" strike="noStrike">
              <a:solidFill>
                <a:srgbClr val="26728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23520" y="2971800"/>
            <a:ext cx="5410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55640" y="2279520"/>
            <a:ext cx="7632720" cy="3054240"/>
            <a:chOff x="755640" y="2279520"/>
            <a:chExt cx="7632720" cy="3054240"/>
          </a:xfrm>
        </p:grpSpPr>
        <p:sp>
          <p:nvSpPr>
            <p:cNvPr id="262" name=""/>
            <p:cNvSpPr/>
            <p:nvPr/>
          </p:nvSpPr>
          <p:spPr>
            <a:xfrm>
              <a:off x="2916360" y="3078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f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51640" y="3078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1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2764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1a5d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2764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1a5d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69120" y="242712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3c5878"/>
                </a:gs>
                <a:gs pos="50000">
                  <a:srgbClr val="71a5df"/>
                </a:gs>
                <a:gs pos="100000">
                  <a:srgbClr val="3c587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00800" y="2438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1a5df">
                    <a:alpha val="0"/>
                  </a:srgbClr>
                </a:gs>
                <a:gs pos="100000">
                  <a:srgbClr val="4768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70640" y="2520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5640" y="2279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1ca6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5640" y="2279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1ca6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6760" y="24206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16c38"/>
                </a:gs>
                <a:gs pos="50000">
                  <a:srgbClr val="f1ca69"/>
                </a:gs>
                <a:gs pos="100000">
                  <a:srgbClr val="816c3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98560" y="24238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f1ca69">
                    <a:alpha val="0"/>
                  </a:srgbClr>
                </a:gs>
                <a:gs pos="100000">
                  <a:srgbClr val="987f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90720" y="25146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1017720" y="2539800"/>
              <a:ext cx="1636560" cy="1636920"/>
              <a:chOff x="1017720" y="2539800"/>
              <a:chExt cx="1636560" cy="1636920"/>
            </a:xfrm>
          </p:grpSpPr>
          <p:sp>
            <p:nvSpPr>
              <p:cNvPr id="275" name=""/>
              <p:cNvSpPr/>
              <p:nvPr/>
            </p:nvSpPr>
            <p:spPr>
              <a:xfrm>
                <a:off x="1017720" y="2539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038600" y="25488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055520" y="2564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44440" y="2606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349236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fca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9236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495d61"/>
                </a:gs>
                <a:gs pos="100000">
                  <a:srgbClr val="9fcad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3840" y="2427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56c71"/>
                </a:gs>
                <a:gs pos="50000">
                  <a:srgbClr val="9fcad3"/>
                </a:gs>
                <a:gs pos="100000">
                  <a:srgbClr val="556c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35280" y="2430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fcad3">
                    <a:alpha val="0"/>
                  </a:srgbClr>
                </a:gs>
                <a:gs pos="100000">
                  <a:srgbClr val="647f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27440" y="2520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754440" y="2539800"/>
              <a:ext cx="1636560" cy="1636920"/>
              <a:chOff x="3754440" y="2539800"/>
              <a:chExt cx="1636560" cy="1636920"/>
            </a:xfrm>
          </p:grpSpPr>
          <p:sp>
            <p:nvSpPr>
              <p:cNvPr id="285" name=""/>
              <p:cNvSpPr/>
              <p:nvPr/>
            </p:nvSpPr>
            <p:spPr>
              <a:xfrm>
                <a:off x="3754440" y="2539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75320" y="25488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792240" y="2564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881160" y="2606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6500880" y="2539800"/>
              <a:ext cx="1636560" cy="1636920"/>
              <a:chOff x="6500880" y="2539800"/>
              <a:chExt cx="1636560" cy="1636920"/>
            </a:xfrm>
          </p:grpSpPr>
          <p:sp>
            <p:nvSpPr>
              <p:cNvPr id="290" name=""/>
              <p:cNvSpPr/>
              <p:nvPr/>
            </p:nvSpPr>
            <p:spPr>
              <a:xfrm>
                <a:off x="6500880" y="2539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521760" y="25488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38680" y="2564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27600" y="2606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4960" y="4817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38440" y="4817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91360" y="4817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52240" y="314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95440" y="314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38640" y="314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447920" y="1619280"/>
            <a:ext cx="7390800" cy="4476600"/>
            <a:chOff x="1447920" y="1619280"/>
            <a:chExt cx="7390800" cy="4476600"/>
          </a:xfrm>
        </p:grpSpPr>
        <p:sp>
          <p:nvSpPr>
            <p:cNvPr id="302" name="未知"/>
            <p:cNvSpPr/>
            <p:nvPr/>
          </p:nvSpPr>
          <p:spPr>
            <a:xfrm>
              <a:off x="1447920" y="2057400"/>
              <a:ext cx="594324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fcad3"/>
                </a:gs>
                <a:gs pos="100000">
                  <a:srgbClr val="26728a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71840" y="38098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876400">
              <a:off x="3620880" y="5048280"/>
              <a:ext cx="143784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52480" y="3828960"/>
              <a:ext cx="170460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73360" y="3838680"/>
              <a:ext cx="166464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90640" y="385452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82800" y="389880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7008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20826600">
              <a:off x="1777680" y="443844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1701720" y="3448080"/>
              <a:ext cx="1370880" cy="1441080"/>
              <a:chOff x="1701720" y="3448080"/>
              <a:chExt cx="1370880" cy="1441080"/>
            </a:xfrm>
          </p:grpSpPr>
          <p:sp>
            <p:nvSpPr>
              <p:cNvPr id="312" name=""/>
              <p:cNvSpPr/>
              <p:nvPr/>
            </p:nvSpPr>
            <p:spPr>
              <a:xfrm>
                <a:off x="1701720" y="3448080"/>
                <a:ext cx="137088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19720" y="3456360"/>
                <a:ext cx="133668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732680" y="34696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804320" y="3506400"/>
                <a:ext cx="113184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98216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1599840" y="2683080"/>
              <a:ext cx="91404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76160" y="2076480"/>
              <a:ext cx="102348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88760" y="2081160"/>
              <a:ext cx="99972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99920" y="209232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53920" y="211788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7308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66680" y="2152800"/>
              <a:ext cx="68544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89080" y="1619280"/>
              <a:ext cx="68220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98440" y="16225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04920" y="1628640"/>
              <a:ext cx="63288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41280" y="164772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59280" y="184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31" name=""/>
            <p:cNvSpPr/>
            <p:nvPr/>
          </p:nvSpPr>
          <p:spPr>
            <a:xfrm rot="17973000">
              <a:off x="4559760" y="2532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26728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3465600">
              <a:off x="4610520" y="46425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26728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4368800">
              <a:off x="3391200" y="25549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26728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7534800">
              <a:off x="3353040" y="46090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26728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26728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26728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2672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fe4e8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fe4e8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fe4e8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fe4e8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fe4e8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fe4e8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1a5d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1a5d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c5878"/>
                </a:gs>
                <a:gs pos="50000">
                  <a:srgbClr val="71a5df"/>
                </a:gs>
                <a:gs pos="100000">
                  <a:srgbClr val="3c587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71a5df">
                    <a:alpha val="0"/>
                  </a:srgbClr>
                </a:gs>
                <a:gs pos="100000">
                  <a:srgbClr val="4768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6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143000" y="2136600"/>
            <a:ext cx="2170080" cy="4035600"/>
            <a:chOff x="1143000" y="2136600"/>
            <a:chExt cx="2170080" cy="4035600"/>
          </a:xfrm>
        </p:grpSpPr>
        <p:sp>
          <p:nvSpPr>
            <p:cNvPr id="363" name=""/>
            <p:cNvSpPr/>
            <p:nvPr/>
          </p:nvSpPr>
          <p:spPr>
            <a:xfrm>
              <a:off x="11430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7648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937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4948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9376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1887480" y="2136600"/>
              <a:ext cx="642960" cy="642960"/>
              <a:chOff x="1887480" y="2136600"/>
              <a:chExt cx="642960" cy="642960"/>
            </a:xfrm>
          </p:grpSpPr>
          <p:sp>
            <p:nvSpPr>
              <p:cNvPr id="370" name=""/>
              <p:cNvSpPr/>
              <p:nvPr/>
            </p:nvSpPr>
            <p:spPr>
              <a:xfrm>
                <a:off x="188748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89396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01880" y="21452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90836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4220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20275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505320" y="2136600"/>
            <a:ext cx="2166840" cy="4035600"/>
            <a:chOff x="3505320" y="2136600"/>
            <a:chExt cx="2166840" cy="4035600"/>
          </a:xfrm>
        </p:grpSpPr>
        <p:sp>
          <p:nvSpPr>
            <p:cNvPr id="378" name=""/>
            <p:cNvSpPr/>
            <p:nvPr/>
          </p:nvSpPr>
          <p:spPr>
            <a:xfrm>
              <a:off x="350532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3880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5608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5608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4980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56280" y="21412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4200" y="21445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70320" y="21510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05600" y="21668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898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8164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085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52840" y="53258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861160" y="2136600"/>
            <a:ext cx="2170080" cy="4035600"/>
            <a:chOff x="5861160" y="2136600"/>
            <a:chExt cx="2170080" cy="4035600"/>
          </a:xfrm>
        </p:grpSpPr>
        <p:sp>
          <p:nvSpPr>
            <p:cNvPr id="392" name=""/>
            <p:cNvSpPr/>
            <p:nvPr/>
          </p:nvSpPr>
          <p:spPr>
            <a:xfrm>
              <a:off x="586764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0076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1840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1840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6612120" y="2136600"/>
              <a:ext cx="642960" cy="642960"/>
              <a:chOff x="6612120" y="2136600"/>
              <a:chExt cx="642960" cy="642960"/>
            </a:xfrm>
          </p:grpSpPr>
          <p:sp>
            <p:nvSpPr>
              <p:cNvPr id="397" name=""/>
              <p:cNvSpPr/>
              <p:nvPr/>
            </p:nvSpPr>
            <p:spPr>
              <a:xfrm>
                <a:off x="661212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1860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626520" y="21452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63300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66684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675216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436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611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05440" y="53258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0" y="1969920"/>
            <a:ext cx="9144000" cy="4366080"/>
            <a:chOff x="0" y="1969920"/>
            <a:chExt cx="9144000" cy="4366080"/>
          </a:xfrm>
        </p:grpSpPr>
        <p:sp>
          <p:nvSpPr>
            <p:cNvPr id="408" name=""/>
            <p:cNvSpPr/>
            <p:nvPr/>
          </p:nvSpPr>
          <p:spPr>
            <a:xfrm>
              <a:off x="0" y="32590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0" y="33112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396720" y="2662200"/>
              <a:ext cx="2183400" cy="3600720"/>
              <a:chOff x="396720" y="2662200"/>
              <a:chExt cx="2183400" cy="360072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872280" y="3579480"/>
                <a:ext cx="1707840" cy="2683440"/>
                <a:chOff x="872280" y="3579480"/>
                <a:chExt cx="1707840" cy="268344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872280" y="3758760"/>
                  <a:ext cx="1580040" cy="2504160"/>
                  <a:chOff x="872280" y="3758760"/>
                  <a:chExt cx="1580040" cy="2504160"/>
                </a:xfrm>
              </p:grpSpPr>
              <p:sp>
                <p:nvSpPr>
                  <p:cNvPr id="413" name="未知"/>
                  <p:cNvSpPr/>
                  <p:nvPr/>
                </p:nvSpPr>
                <p:spPr>
                  <a:xfrm rot="3876600">
                    <a:off x="408600" y="4731120"/>
                    <a:ext cx="250668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未知"/>
                  <p:cNvSpPr/>
                  <p:nvPr/>
                </p:nvSpPr>
                <p:spPr>
                  <a:xfrm rot="3876600">
                    <a:off x="1915560" y="5701320"/>
                    <a:ext cx="393840" cy="45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1368000" y="3579480"/>
                  <a:ext cx="1212120" cy="1921680"/>
                  <a:chOff x="1368000" y="3579480"/>
                  <a:chExt cx="1212120" cy="1921680"/>
                </a:xfrm>
              </p:grpSpPr>
              <p:sp>
                <p:nvSpPr>
                  <p:cNvPr id="416" name="未知"/>
                  <p:cNvSpPr/>
                  <p:nvPr/>
                </p:nvSpPr>
                <p:spPr>
                  <a:xfrm flipV="1" rot="3876600">
                    <a:off x="1011960" y="4325760"/>
                    <a:ext cx="1923480" cy="42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未知"/>
                  <p:cNvSpPr/>
                  <p:nvPr/>
                </p:nvSpPr>
                <p:spPr>
                  <a:xfrm flipV="1" rot="3876600">
                    <a:off x="2150640" y="5078160"/>
                    <a:ext cx="30204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396720" y="2662200"/>
                <a:ext cx="1443240" cy="1441440"/>
                <a:chOff x="396720" y="2662200"/>
                <a:chExt cx="1443240" cy="14414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96720" y="2662200"/>
                  <a:ext cx="144324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96720" y="2662200"/>
                  <a:ext cx="144324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92120" y="2755800"/>
                  <a:ext cx="125208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92120" y="2759040"/>
                  <a:ext cx="125208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54400" y="2819520"/>
                  <a:ext cx="112788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4" name=""/>
                <p:cNvGrpSpPr/>
                <p:nvPr/>
              </p:nvGrpSpPr>
              <p:grpSpPr>
                <a:xfrm>
                  <a:off x="571680" y="2836800"/>
                  <a:ext cx="1093320" cy="1093320"/>
                  <a:chOff x="571680" y="2836800"/>
                  <a:chExt cx="1093320" cy="109332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571680" y="2836800"/>
                    <a:ext cx="109332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85720" y="2842920"/>
                    <a:ext cx="106704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596880" y="2853360"/>
                    <a:ext cx="101484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56280" y="2881080"/>
                    <a:ext cx="90180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9" name=""/>
              <p:cNvSpPr/>
              <p:nvPr/>
            </p:nvSpPr>
            <p:spPr>
              <a:xfrm rot="3925800">
                <a:off x="899640" y="46087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3925800">
                <a:off x="1401120" y="4314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379600" y="2662200"/>
              <a:ext cx="2183400" cy="3600720"/>
              <a:chOff x="2379600" y="2662200"/>
              <a:chExt cx="2183400" cy="360072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2855160" y="3579480"/>
                <a:ext cx="1707840" cy="2683440"/>
                <a:chOff x="2855160" y="3579480"/>
                <a:chExt cx="1707840" cy="2683440"/>
              </a:xfrm>
            </p:grpSpPr>
            <p:grpSp>
              <p:nvGrpSpPr>
                <p:cNvPr id="433" name=""/>
                <p:cNvGrpSpPr/>
                <p:nvPr/>
              </p:nvGrpSpPr>
              <p:grpSpPr>
                <a:xfrm>
                  <a:off x="2855160" y="3758760"/>
                  <a:ext cx="1580040" cy="2504160"/>
                  <a:chOff x="2855160" y="3758760"/>
                  <a:chExt cx="1580040" cy="2504160"/>
                </a:xfrm>
              </p:grpSpPr>
              <p:sp>
                <p:nvSpPr>
                  <p:cNvPr id="434" name="未知"/>
                  <p:cNvSpPr/>
                  <p:nvPr/>
                </p:nvSpPr>
                <p:spPr>
                  <a:xfrm rot="3876600">
                    <a:off x="2391480" y="4731120"/>
                    <a:ext cx="250668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未知"/>
                  <p:cNvSpPr/>
                  <p:nvPr/>
                </p:nvSpPr>
                <p:spPr>
                  <a:xfrm rot="3876600">
                    <a:off x="3898440" y="5701320"/>
                    <a:ext cx="393840" cy="45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3350880" y="3579480"/>
                  <a:ext cx="1212120" cy="1921680"/>
                  <a:chOff x="3350880" y="3579480"/>
                  <a:chExt cx="1212120" cy="1921680"/>
                </a:xfrm>
              </p:grpSpPr>
              <p:sp>
                <p:nvSpPr>
                  <p:cNvPr id="437" name="未知"/>
                  <p:cNvSpPr/>
                  <p:nvPr/>
                </p:nvSpPr>
                <p:spPr>
                  <a:xfrm flipV="1" rot="3876600">
                    <a:off x="2994840" y="4325760"/>
                    <a:ext cx="1923480" cy="42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未知"/>
                  <p:cNvSpPr/>
                  <p:nvPr/>
                </p:nvSpPr>
                <p:spPr>
                  <a:xfrm flipV="1" rot="3876600">
                    <a:off x="4133520" y="5078160"/>
                    <a:ext cx="30204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2379600" y="2662200"/>
                <a:ext cx="1443240" cy="1441440"/>
                <a:chOff x="2379600" y="2662200"/>
                <a:chExt cx="1443240" cy="144144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2379600" y="2662200"/>
                  <a:ext cx="144324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379600" y="2662200"/>
                  <a:ext cx="144324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475000" y="2755800"/>
                  <a:ext cx="125208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475000" y="2759040"/>
                  <a:ext cx="125208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537280" y="2819520"/>
                  <a:ext cx="112788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5" name=""/>
                <p:cNvGrpSpPr/>
                <p:nvPr/>
              </p:nvGrpSpPr>
              <p:grpSpPr>
                <a:xfrm>
                  <a:off x="2554560" y="2836800"/>
                  <a:ext cx="1093320" cy="1093320"/>
                  <a:chOff x="2554560" y="2836800"/>
                  <a:chExt cx="1093320" cy="109332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2554560" y="2836800"/>
                    <a:ext cx="109332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568600" y="2842920"/>
                    <a:ext cx="106704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579760" y="2853360"/>
                    <a:ext cx="101484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639160" y="2881080"/>
                    <a:ext cx="90180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0" name=""/>
              <p:cNvSpPr/>
              <p:nvPr/>
            </p:nvSpPr>
            <p:spPr>
              <a:xfrm rot="3925800">
                <a:off x="2876040" y="46087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3925800">
                <a:off x="3377520" y="4314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427640" y="2662200"/>
              <a:ext cx="2182320" cy="3600720"/>
              <a:chOff x="4427640" y="2662200"/>
              <a:chExt cx="2182320" cy="360072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4903200" y="3579840"/>
                <a:ext cx="1706760" cy="2683080"/>
                <a:chOff x="4903200" y="3579840"/>
                <a:chExt cx="1706760" cy="268308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4903200" y="3758760"/>
                  <a:ext cx="1579680" cy="2504160"/>
                  <a:chOff x="4903200" y="3758760"/>
                  <a:chExt cx="1579680" cy="2504160"/>
                </a:xfrm>
              </p:grpSpPr>
              <p:sp>
                <p:nvSpPr>
                  <p:cNvPr id="455" name="未知"/>
                  <p:cNvSpPr/>
                  <p:nvPr/>
                </p:nvSpPr>
                <p:spPr>
                  <a:xfrm rot="3876600">
                    <a:off x="4439520" y="4731120"/>
                    <a:ext cx="2506680" cy="55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未知"/>
                  <p:cNvSpPr/>
                  <p:nvPr/>
                </p:nvSpPr>
                <p:spPr>
                  <a:xfrm rot="3876600">
                    <a:off x="5946120" y="5701320"/>
                    <a:ext cx="3938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5398200" y="3579840"/>
                  <a:ext cx="1211760" cy="1921320"/>
                  <a:chOff x="5398200" y="3579840"/>
                  <a:chExt cx="1211760" cy="1921320"/>
                </a:xfrm>
              </p:grpSpPr>
              <p:sp>
                <p:nvSpPr>
                  <p:cNvPr id="458" name="未知"/>
                  <p:cNvSpPr/>
                  <p:nvPr/>
                </p:nvSpPr>
                <p:spPr>
                  <a:xfrm flipV="1" rot="3876600">
                    <a:off x="5042160" y="4325760"/>
                    <a:ext cx="192348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未知"/>
                  <p:cNvSpPr/>
                  <p:nvPr/>
                </p:nvSpPr>
                <p:spPr>
                  <a:xfrm flipV="1" rot="3876600">
                    <a:off x="6180840" y="50781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4427640" y="2662200"/>
                <a:ext cx="1442880" cy="1441440"/>
                <a:chOff x="4427640" y="2662200"/>
                <a:chExt cx="1442880" cy="14414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427640" y="2662200"/>
                  <a:ext cx="144288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427640" y="2662200"/>
                  <a:ext cx="144288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523040" y="2755800"/>
                  <a:ext cx="125172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523040" y="2759040"/>
                  <a:ext cx="125172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584960" y="2819520"/>
                  <a:ext cx="112788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"/>
                <p:cNvGrpSpPr/>
                <p:nvPr/>
              </p:nvGrpSpPr>
              <p:grpSpPr>
                <a:xfrm>
                  <a:off x="4602600" y="2836800"/>
                  <a:ext cx="1092960" cy="1093320"/>
                  <a:chOff x="4602600" y="2836800"/>
                  <a:chExt cx="1092960" cy="109332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4602600" y="2836800"/>
                    <a:ext cx="109296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616640" y="2842920"/>
                    <a:ext cx="106668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4627800" y="2853360"/>
                    <a:ext cx="101448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687200" y="2881080"/>
                    <a:ext cx="90180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1" name=""/>
              <p:cNvSpPr/>
              <p:nvPr/>
            </p:nvSpPr>
            <p:spPr>
              <a:xfrm rot="3925800">
                <a:off x="4933440" y="46087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3925800">
                <a:off x="5434920" y="4314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442200" y="2503440"/>
              <a:ext cx="2400120" cy="3832560"/>
              <a:chOff x="6442200" y="2503440"/>
              <a:chExt cx="2400120" cy="383256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7135920" y="3653280"/>
                <a:ext cx="1706400" cy="2682720"/>
                <a:chOff x="7135920" y="3653280"/>
                <a:chExt cx="1706400" cy="2682720"/>
              </a:xfrm>
            </p:grpSpPr>
            <p:grpSp>
              <p:nvGrpSpPr>
                <p:cNvPr id="475" name=""/>
                <p:cNvGrpSpPr/>
                <p:nvPr/>
              </p:nvGrpSpPr>
              <p:grpSpPr>
                <a:xfrm>
                  <a:off x="7135920" y="3832200"/>
                  <a:ext cx="1578960" cy="2503800"/>
                  <a:chOff x="7135920" y="3832200"/>
                  <a:chExt cx="1578960" cy="2503800"/>
                </a:xfrm>
              </p:grpSpPr>
              <p:sp>
                <p:nvSpPr>
                  <p:cNvPr id="476" name="未知"/>
                  <p:cNvSpPr/>
                  <p:nvPr/>
                </p:nvSpPr>
                <p:spPr>
                  <a:xfrm rot="3876600">
                    <a:off x="6671880" y="4804560"/>
                    <a:ext cx="250632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未知"/>
                  <p:cNvSpPr/>
                  <p:nvPr/>
                </p:nvSpPr>
                <p:spPr>
                  <a:xfrm rot="3876600">
                    <a:off x="8178120" y="5774400"/>
                    <a:ext cx="3938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7630560" y="3653280"/>
                  <a:ext cx="1211760" cy="1920960"/>
                  <a:chOff x="7630560" y="3653280"/>
                  <a:chExt cx="1211760" cy="1920960"/>
                </a:xfrm>
              </p:grpSpPr>
              <p:sp>
                <p:nvSpPr>
                  <p:cNvPr id="479" name="未知"/>
                  <p:cNvSpPr/>
                  <p:nvPr/>
                </p:nvSpPr>
                <p:spPr>
                  <a:xfrm flipV="1" rot="3876600">
                    <a:off x="7274520" y="4399560"/>
                    <a:ext cx="192312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未知"/>
                  <p:cNvSpPr/>
                  <p:nvPr/>
                </p:nvSpPr>
                <p:spPr>
                  <a:xfrm flipV="1" rot="3876600">
                    <a:off x="8413200" y="51512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1" name=""/>
              <p:cNvSpPr/>
              <p:nvPr/>
            </p:nvSpPr>
            <p:spPr>
              <a:xfrm>
                <a:off x="6442200" y="2503440"/>
                <a:ext cx="1734120" cy="1729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442200" y="2503440"/>
                <a:ext cx="1734120" cy="17294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558120" y="2616120"/>
                <a:ext cx="1505160" cy="150192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559560" y="2619360"/>
                <a:ext cx="1505160" cy="15019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633000" y="2692440"/>
                <a:ext cx="1355400" cy="1350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" name=""/>
              <p:cNvGrpSpPr/>
              <p:nvPr/>
            </p:nvGrpSpPr>
            <p:grpSpPr>
              <a:xfrm>
                <a:off x="6653520" y="2712960"/>
                <a:ext cx="1314000" cy="1311120"/>
                <a:chOff x="6653520" y="2712960"/>
                <a:chExt cx="1314000" cy="131112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6653520" y="2712960"/>
                  <a:ext cx="1314000" cy="131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670080" y="2720160"/>
                  <a:ext cx="1282320" cy="127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83760" y="2732760"/>
                  <a:ext cx="1219320" cy="119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755040" y="2766240"/>
                  <a:ext cx="1083960" cy="9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 rot="3925800">
                <a:off x="7148160" y="4767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3925800">
                <a:off x="7649640" y="4474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777960" y="20127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68400" y="20127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49840" y="20127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95000" y="19699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7" name=""/>
            <p:cNvCxnSpPr>
              <a:stCxn id="493" idx="3"/>
              <a:endCxn id="494" idx="1"/>
            </p:cNvCxnSpPr>
            <p:nvPr/>
          </p:nvCxnSpPr>
          <p:spPr>
            <a:xfrm>
              <a:off x="1514160" y="219672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"/>
            <p:cNvCxnSpPr>
              <a:stCxn id="494" idx="3"/>
              <a:endCxn id="495" idx="1"/>
            </p:cNvCxnSpPr>
            <p:nvPr/>
          </p:nvCxnSpPr>
          <p:spPr>
            <a:xfrm>
              <a:off x="3504960" y="2196720"/>
              <a:ext cx="121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9" name=""/>
            <p:cNvCxnSpPr>
              <a:stCxn id="495" idx="3"/>
              <a:endCxn id="496" idx="1"/>
            </p:cNvCxnSpPr>
            <p:nvPr/>
          </p:nvCxnSpPr>
          <p:spPr>
            <a:xfrm>
              <a:off x="5486040" y="2197080"/>
              <a:ext cx="1220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0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1a5d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44c66"/>
              </a:gs>
              <a:gs pos="100000">
                <a:srgbClr val="71a5d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95d61"/>
              </a:gs>
              <a:gs pos="100000">
                <a:srgbClr val="9fcad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95d61"/>
              </a:gs>
              <a:gs pos="100000">
                <a:srgbClr val="9fca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4c66"/>
              </a:gs>
              <a:gs pos="100000">
                <a:srgbClr val="71a5d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118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559400" y="34290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4290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540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112040" y="1935000"/>
            <a:ext cx="6436800" cy="1387800"/>
            <a:chOff x="1112040" y="1935000"/>
            <a:chExt cx="6436800" cy="1387800"/>
          </a:xfrm>
        </p:grpSpPr>
        <p:sp>
          <p:nvSpPr>
            <p:cNvPr id="514" name=""/>
            <p:cNvSpPr/>
            <p:nvPr/>
          </p:nvSpPr>
          <p:spPr>
            <a:xfrm rot="3418800">
              <a:off x="1322640" y="21596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71a5df"/>
                </a:gs>
                <a:gs pos="100000">
                  <a:srgbClr val="344c6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2286360" y="2331720"/>
              <a:ext cx="932040" cy="131760"/>
              <a:chOff x="2286360" y="2331720"/>
              <a:chExt cx="932040" cy="131760"/>
            </a:xfrm>
          </p:grpSpPr>
          <p:sp>
            <p:nvSpPr>
              <p:cNvPr id="516" name=""/>
              <p:cNvSpPr/>
              <p:nvPr/>
            </p:nvSpPr>
            <p:spPr>
              <a:xfrm>
                <a:off x="228636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375640" y="23328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07728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5252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rot="3418800">
              <a:off x="3043800" y="2093760"/>
              <a:ext cx="924120" cy="1003680"/>
            </a:xfrm>
            <a:prstGeom prst="rect">
              <a:avLst/>
            </a:prstGeom>
            <a:solidFill>
              <a:srgbClr val="2672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4007520" y="2331720"/>
              <a:ext cx="932040" cy="131760"/>
              <a:chOff x="4007520" y="2331720"/>
              <a:chExt cx="932040" cy="131760"/>
            </a:xfrm>
          </p:grpSpPr>
          <p:sp>
            <p:nvSpPr>
              <p:cNvPr id="522" name=""/>
              <p:cNvSpPr/>
              <p:nvPr/>
            </p:nvSpPr>
            <p:spPr>
              <a:xfrm>
                <a:off x="400752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096800" y="23328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79844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7368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rot="3418800">
              <a:off x="4692600" y="20937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71a5df"/>
                </a:gs>
                <a:gs pos="100000">
                  <a:srgbClr val="344c6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728680" y="2331720"/>
              <a:ext cx="1218600" cy="131760"/>
              <a:chOff x="5728680" y="2331720"/>
              <a:chExt cx="1218600" cy="131760"/>
            </a:xfrm>
          </p:grpSpPr>
          <p:sp>
            <p:nvSpPr>
              <p:cNvPr id="528" name=""/>
              <p:cNvSpPr/>
              <p:nvPr/>
            </p:nvSpPr>
            <p:spPr>
              <a:xfrm>
                <a:off x="5728680" y="23317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45320" y="23328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762600" y="23338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861240" y="23749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rot="3418800">
              <a:off x="6413760" y="2093760"/>
              <a:ext cx="924120" cy="1004040"/>
            </a:xfrm>
            <a:prstGeom prst="rect">
              <a:avLst/>
            </a:prstGeom>
            <a:solidFill>
              <a:srgbClr val="2672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44252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950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7952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4804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490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0148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95396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068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685800" y="2286000"/>
          <a:ext cx="7620120" cy="35481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1ca69"/>
                        </a:gs>
                        <a:gs pos="100000">
                          <a:srgbClr val="f6e2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1ca69"/>
                        </a:gs>
                        <a:gs pos="100000">
                          <a:srgbClr val="f6e2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1ca69"/>
                        </a:gs>
                        <a:gs pos="100000">
                          <a:srgbClr val="f6e2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1ca69"/>
                        </a:gs>
                        <a:gs pos="100000">
                          <a:srgbClr val="f6e2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1ca69"/>
                        </a:gs>
                        <a:gs pos="100000">
                          <a:srgbClr val="f6e2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1ca69"/>
                        </a:gs>
                        <a:gs pos="100000">
                          <a:srgbClr val="f6e2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529560" y="1136520"/>
            <a:ext cx="7431480" cy="4917960"/>
            <a:chOff x="529560" y="1136520"/>
            <a:chExt cx="7431480" cy="4917960"/>
          </a:xfrm>
        </p:grpSpPr>
        <p:sp>
          <p:nvSpPr>
            <p:cNvPr id="545" name=""/>
            <p:cNvSpPr/>
            <p:nvPr/>
          </p:nvSpPr>
          <p:spPr>
            <a:xfrm>
              <a:off x="2187720" y="4389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1461960" y="227628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01600">
              <a:off x="1517400" y="211464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01600">
              <a:off x="1382760" y="2132640"/>
              <a:ext cx="5748840" cy="29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7" y="14960"/>
                  </a:moveTo>
                  <a:arcTo wR="10800" hR="10800" stAng="1359439" swAng="2520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7" y="14960"/>
                  </a:moveTo>
                  <a:arcTo wR="10800" hR="10800" stAng="1359439" swAng="2520569"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434960" y="2099880"/>
              <a:ext cx="569844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rot="20602200">
              <a:off x="1438200" y="211356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1440000" y="2112120"/>
              <a:ext cx="56826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rot="20602200">
              <a:off x="1423800" y="211896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 rot="20601600">
              <a:off x="4506840" y="3435480"/>
              <a:ext cx="1220760" cy="149868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 rot="20601600">
              <a:off x="4400280" y="3182760"/>
              <a:ext cx="2562120" cy="80964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529560" y="1433880"/>
              <a:ext cx="6918480" cy="4356720"/>
              <a:chOff x="529560" y="1433880"/>
              <a:chExt cx="6918480" cy="4356720"/>
            </a:xfrm>
          </p:grpSpPr>
          <p:sp>
            <p:nvSpPr>
              <p:cNvPr id="556" name=""/>
              <p:cNvSpPr/>
              <p:nvPr/>
            </p:nvSpPr>
            <p:spPr>
              <a:xfrm rot="20712600">
                <a:off x="782280" y="2205360"/>
                <a:ext cx="6412680" cy="281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未知"/>
              <p:cNvSpPr/>
              <p:nvPr/>
            </p:nvSpPr>
            <p:spPr>
              <a:xfrm rot="20712600">
                <a:off x="4186080" y="3403440"/>
                <a:ext cx="137736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2973"/>
                  </a:gs>
                  <a:gs pos="100000">
                    <a:srgbClr val="696097"/>
                  </a:gs>
                </a:gsLst>
                <a:lin ang="14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未知"/>
              <p:cNvSpPr/>
              <p:nvPr/>
            </p:nvSpPr>
            <p:spPr>
              <a:xfrm rot="20712600">
                <a:off x="5562000" y="3571560"/>
                <a:ext cx="1579320" cy="97956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1003680" y="1136520"/>
              <a:ext cx="6957360" cy="4863240"/>
              <a:chOff x="1003680" y="1136520"/>
              <a:chExt cx="6957360" cy="4863240"/>
            </a:xfrm>
          </p:grpSpPr>
          <p:sp>
            <p:nvSpPr>
              <p:cNvPr id="560" name="未知"/>
              <p:cNvSpPr/>
              <p:nvPr/>
            </p:nvSpPr>
            <p:spPr>
              <a:xfrm rot="20601600">
                <a:off x="6073560" y="3474720"/>
                <a:ext cx="1555560" cy="10922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b88a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0539200">
                <a:off x="1323720" y="2022480"/>
                <a:ext cx="6316920" cy="30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未知"/>
              <p:cNvSpPr/>
              <p:nvPr/>
            </p:nvSpPr>
            <p:spPr>
              <a:xfrm rot="20601600">
                <a:off x="4757760" y="3304800"/>
                <a:ext cx="1332000" cy="168912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dd3"/>
                  </a:gs>
                  <a:gs pos="100000">
                    <a:srgbClr val="5007a1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 rot="20601600">
              <a:off x="297972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601600">
              <a:off x="3056040" y="3063600"/>
              <a:ext cx="2624040" cy="109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16080" y="26496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15880" y="21924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87080" y="29545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8480" y="42498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10960" y="44784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92400" y="36403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914400" y="1676520"/>
            <a:ext cx="7391160" cy="4724280"/>
            <a:chOff x="914400" y="1676520"/>
            <a:chExt cx="7391160" cy="4724280"/>
          </a:xfrm>
        </p:grpSpPr>
        <p:sp>
          <p:nvSpPr>
            <p:cNvPr id="573" name=""/>
            <p:cNvSpPr/>
            <p:nvPr/>
          </p:nvSpPr>
          <p:spPr>
            <a:xfrm>
              <a:off x="1752480" y="243864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0f0f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86000" y="16765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74553"/>
                </a:gs>
                <a:gs pos="50000">
                  <a:srgbClr val="26728a"/>
                </a:gs>
                <a:gs pos="100000">
                  <a:srgbClr val="17455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03520" y="30481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728a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914400" y="4311720"/>
              <a:ext cx="1486080" cy="1989000"/>
              <a:chOff x="914400" y="4311720"/>
              <a:chExt cx="1486080" cy="198900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914400" y="4311720"/>
                <a:ext cx="1486080" cy="1514520"/>
                <a:chOff x="914400" y="4311720"/>
                <a:chExt cx="1486080" cy="1514520"/>
              </a:xfrm>
            </p:grpSpPr>
            <p:grpSp>
              <p:nvGrpSpPr>
                <p:cNvPr id="578" name=""/>
                <p:cNvGrpSpPr/>
                <p:nvPr/>
              </p:nvGrpSpPr>
              <p:grpSpPr>
                <a:xfrm>
                  <a:off x="914400" y="4311720"/>
                  <a:ext cx="1486080" cy="1514520"/>
                  <a:chOff x="914400" y="4311720"/>
                  <a:chExt cx="1486080" cy="151452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>
                    <a:off x="914400" y="43117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6060a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未知"/>
                  <p:cNvSpPr/>
                  <p:nvPr/>
                </p:nvSpPr>
                <p:spPr>
                  <a:xfrm>
                    <a:off x="1084320" y="43365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99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1" name=""/>
                <p:cNvSpPr/>
                <p:nvPr/>
              </p:nvSpPr>
              <p:spPr>
                <a:xfrm>
                  <a:off x="1072440" y="50828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1066680" y="59119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781680" y="4267440"/>
              <a:ext cx="1523880" cy="2066760"/>
              <a:chOff x="6781680" y="4267440"/>
              <a:chExt cx="1523880" cy="206676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6781680" y="4267440"/>
                <a:ext cx="1523880" cy="1531800"/>
                <a:chOff x="6781680" y="4267440"/>
                <a:chExt cx="1523880" cy="153180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6781680" y="4267440"/>
                  <a:ext cx="1523880" cy="1531800"/>
                  <a:chOff x="6781680" y="4267440"/>
                  <a:chExt cx="1523880" cy="153180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6781680" y="42674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1ca69"/>
                      </a:gs>
                      <a:gs pos="100000">
                        <a:srgbClr val="3a301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未知"/>
                  <p:cNvSpPr/>
                  <p:nvPr/>
                </p:nvSpPr>
                <p:spPr>
                  <a:xfrm>
                    <a:off x="6955920" y="42926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1ca6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" name=""/>
                <p:cNvSpPr/>
                <p:nvPr/>
              </p:nvSpPr>
              <p:spPr>
                <a:xfrm>
                  <a:off x="6924600" y="49813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6781680" y="58471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819520" y="4311720"/>
              <a:ext cx="1523880" cy="2089080"/>
              <a:chOff x="2819520" y="4311720"/>
              <a:chExt cx="1523880" cy="208908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2819520" y="4311720"/>
                <a:ext cx="1523880" cy="1521000"/>
                <a:chOff x="2819520" y="4311720"/>
                <a:chExt cx="1523880" cy="152100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2819520" y="43117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a5df"/>
                    </a:gs>
                    <a:gs pos="100000">
                      <a:srgbClr val="3954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未知"/>
                <p:cNvSpPr/>
                <p:nvPr/>
              </p:nvSpPr>
              <p:spPr>
                <a:xfrm>
                  <a:off x="2993760" y="43369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71a5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" name=""/>
              <p:cNvSpPr/>
              <p:nvPr/>
            </p:nvSpPr>
            <p:spPr>
              <a:xfrm>
                <a:off x="2895840" y="50418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19520" y="59119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4876920" y="4267440"/>
              <a:ext cx="1523880" cy="2089080"/>
              <a:chOff x="4876920" y="4267440"/>
              <a:chExt cx="1523880" cy="208908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4876920" y="4267440"/>
                <a:ext cx="1523880" cy="1521000"/>
                <a:chOff x="4876920" y="4267440"/>
                <a:chExt cx="1523880" cy="1521000"/>
              </a:xfrm>
            </p:grpSpPr>
            <p:grpSp>
              <p:nvGrpSpPr>
                <p:cNvPr id="598" name=""/>
                <p:cNvGrpSpPr/>
                <p:nvPr/>
              </p:nvGrpSpPr>
              <p:grpSpPr>
                <a:xfrm>
                  <a:off x="4876920" y="4267440"/>
                  <a:ext cx="1523880" cy="1521000"/>
                  <a:chOff x="4876920" y="4267440"/>
                  <a:chExt cx="1523880" cy="152100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>
                    <a:off x="4876920" y="42674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cad3"/>
                      </a:gs>
                      <a:gs pos="100000">
                        <a:srgbClr val="51676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未知"/>
                  <p:cNvSpPr/>
                  <p:nvPr/>
                </p:nvSpPr>
                <p:spPr>
                  <a:xfrm>
                    <a:off x="5051160" y="42926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9fcad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1" name=""/>
                <p:cNvSpPr/>
                <p:nvPr/>
              </p:nvSpPr>
              <p:spPr>
                <a:xfrm>
                  <a:off x="4953240" y="49975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" name=""/>
              <p:cNvSpPr/>
              <p:nvPr/>
            </p:nvSpPr>
            <p:spPr>
              <a:xfrm>
                <a:off x="4876920" y="58676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710720" y="4703400"/>
            <a:ext cx="5452200" cy="1089360"/>
            <a:chOff x="1710720" y="4703400"/>
            <a:chExt cx="5452200" cy="1089360"/>
          </a:xfrm>
        </p:grpSpPr>
        <p:grpSp>
          <p:nvGrpSpPr>
            <p:cNvPr id="111" name=""/>
            <p:cNvGrpSpPr/>
            <p:nvPr/>
          </p:nvGrpSpPr>
          <p:grpSpPr>
            <a:xfrm>
              <a:off x="1710720" y="4703400"/>
              <a:ext cx="5452200" cy="1089360"/>
              <a:chOff x="1710720" y="4703400"/>
              <a:chExt cx="5452200" cy="1089360"/>
            </a:xfrm>
          </p:grpSpPr>
          <p:sp>
            <p:nvSpPr>
              <p:cNvPr id="112" name=""/>
              <p:cNvSpPr/>
              <p:nvPr/>
            </p:nvSpPr>
            <p:spPr>
              <a:xfrm>
                <a:off x="2193840" y="4932000"/>
                <a:ext cx="4969080" cy="66816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f1ca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758000">
                <a:off x="1854360" y="4902120"/>
                <a:ext cx="896760" cy="7171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758000">
                <a:off x="1828800" y="4876920"/>
                <a:ext cx="896760" cy="717120"/>
              </a:xfrm>
              <a:prstGeom prst="ellipse">
                <a:avLst/>
              </a:prstGeom>
              <a:gradFill rotWithShape="0">
                <a:gsLst>
                  <a:gs pos="0">
                    <a:srgbClr val="f1ca69"/>
                  </a:gs>
                  <a:gs pos="100000">
                    <a:srgbClr val="6f5d3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30600" y="505116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58840" y="49320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1905120" y="4947840"/>
              <a:ext cx="379440" cy="38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1710720" y="3789000"/>
            <a:ext cx="5452200" cy="1089360"/>
            <a:chOff x="1710720" y="3789000"/>
            <a:chExt cx="5452200" cy="1089360"/>
          </a:xfrm>
        </p:grpSpPr>
        <p:sp>
          <p:nvSpPr>
            <p:cNvPr id="119" name=""/>
            <p:cNvSpPr/>
            <p:nvPr/>
          </p:nvSpPr>
          <p:spPr>
            <a:xfrm>
              <a:off x="2193840" y="4017600"/>
              <a:ext cx="4969080" cy="6681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758000">
              <a:off x="1854360" y="3987720"/>
              <a:ext cx="896760" cy="717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758000">
              <a:off x="1828800" y="3962520"/>
              <a:ext cx="896760" cy="71712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30600" y="413676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58840" y="401760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1905120" y="4019400"/>
              <a:ext cx="379440" cy="38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1710720" y="2874600"/>
            <a:ext cx="5452200" cy="1089360"/>
            <a:chOff x="1710720" y="2874600"/>
            <a:chExt cx="5452200" cy="1089360"/>
          </a:xfrm>
        </p:grpSpPr>
        <p:sp>
          <p:nvSpPr>
            <p:cNvPr id="126" name=""/>
            <p:cNvSpPr/>
            <p:nvPr/>
          </p:nvSpPr>
          <p:spPr>
            <a:xfrm>
              <a:off x="2193840" y="3103200"/>
              <a:ext cx="4969080" cy="6681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71a5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758000">
              <a:off x="1854360" y="3073320"/>
              <a:ext cx="896760" cy="717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758000">
              <a:off x="1828800" y="3048120"/>
              <a:ext cx="896760" cy="717120"/>
            </a:xfrm>
            <a:prstGeom prst="ellipse">
              <a:avLst/>
            </a:prstGeom>
            <a:gradFill rotWithShape="0">
              <a:gsLst>
                <a:gs pos="0">
                  <a:srgbClr val="71a5df"/>
                </a:gs>
                <a:gs pos="100000">
                  <a:srgbClr val="344c66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30600" y="322236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8840" y="310320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1905120" y="3119040"/>
              <a:ext cx="379440" cy="38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1702800" y="1960200"/>
            <a:ext cx="5460120" cy="1089360"/>
            <a:chOff x="1702800" y="1960200"/>
            <a:chExt cx="5460120" cy="1089360"/>
          </a:xfrm>
        </p:grpSpPr>
        <p:sp>
          <p:nvSpPr>
            <p:cNvPr id="133" name=""/>
            <p:cNvSpPr/>
            <p:nvPr/>
          </p:nvSpPr>
          <p:spPr>
            <a:xfrm rot="1758000">
              <a:off x="1846440" y="2158920"/>
              <a:ext cx="896760" cy="717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1702800" y="1960200"/>
              <a:ext cx="5460120" cy="1064160"/>
              <a:chOff x="1702800" y="1960200"/>
              <a:chExt cx="5460120" cy="1064160"/>
            </a:xfrm>
          </p:grpSpPr>
          <p:sp>
            <p:nvSpPr>
              <p:cNvPr id="135" name=""/>
              <p:cNvSpPr/>
              <p:nvPr/>
            </p:nvSpPr>
            <p:spPr>
              <a:xfrm>
                <a:off x="2193840" y="2188800"/>
                <a:ext cx="4969080" cy="66816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2672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758000">
                <a:off x="1820880" y="2133720"/>
                <a:ext cx="896760" cy="717120"/>
              </a:xfrm>
              <a:prstGeom prst="ellipse">
                <a:avLst/>
              </a:prstGeom>
              <a:gradFill rotWithShape="0">
                <a:gsLst>
                  <a:gs pos="0">
                    <a:srgbClr val="9fcad3"/>
                  </a:gs>
                  <a:gs pos="100000">
                    <a:srgbClr val="495d61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30600" y="230796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58840" y="21888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905120" y="2149200"/>
                <a:ext cx="379440" cy="385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1a5d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1DC-64C8-454D-9091-E70B78FC73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219320" y="30481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133720" y="20574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fcad3"/>
                    </a:gs>
                    <a:gs pos="100000">
                      <a:srgbClr val="26728a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fcad3"/>
                  </a:gs>
                  <a:gs pos="100000">
                    <a:srgbClr val="26728a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26728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50"/>
              </a:spcBef>
              <a:buClr>
                <a:srgbClr val="2672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6728a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71a5df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26728a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71a5df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26728a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71a5df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26728a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71a5df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26728a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3400" spc="-1" strike="noStrike">
                <a:solidFill>
                  <a:srgbClr val="26728a"/>
                </a:solidFill>
                <a:latin typeface="Arial"/>
                <a:ea typeface="宋体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26728a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715000"/>
            <a:ext cx="6324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tle Image :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multibits.co.kr - CD: Computer&amp;Communication (ImageSt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562720" y="3276720"/>
            <a:ext cx="2286000" cy="2666880"/>
            <a:chOff x="5562720" y="3276720"/>
            <a:chExt cx="2286000" cy="2666880"/>
          </a:xfrm>
        </p:grpSpPr>
        <p:sp>
          <p:nvSpPr>
            <p:cNvPr id="145" name=""/>
            <p:cNvSpPr/>
            <p:nvPr/>
          </p:nvSpPr>
          <p:spPr>
            <a:xfrm>
              <a:off x="556272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15000" y="3471840"/>
              <a:ext cx="2057400" cy="16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143000" y="3276720"/>
            <a:ext cx="2286000" cy="2666880"/>
            <a:chOff x="1143000" y="3276720"/>
            <a:chExt cx="2286000" cy="2666880"/>
          </a:xfrm>
        </p:grpSpPr>
        <p:sp>
          <p:nvSpPr>
            <p:cNvPr id="148" name=""/>
            <p:cNvSpPr/>
            <p:nvPr/>
          </p:nvSpPr>
          <p:spPr>
            <a:xfrm>
              <a:off x="114300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38400" y="34768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未知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edf0"/>
              </a:gs>
              <a:gs pos="100000">
                <a:srgbClr val="9fca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53" name=""/>
            <p:cNvGrpSpPr/>
            <p:nvPr/>
          </p:nvGrpSpPr>
          <p:grpSpPr>
            <a:xfrm>
              <a:off x="3048120" y="1552680"/>
              <a:ext cx="2998440" cy="1601280"/>
              <a:chOff x="3048120" y="1552680"/>
              <a:chExt cx="2998440" cy="160128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3048120" y="1695600"/>
                <a:ext cx="2998440" cy="1458360"/>
                <a:chOff x="3048120" y="1695600"/>
                <a:chExt cx="2998440" cy="1458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080880" y="17420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4f6c"/>
                    </a:gs>
                    <a:gs pos="100000">
                      <a:srgbClr val="71a5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048120" y="169560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a5df"/>
                    </a:gs>
                    <a:gs pos="100000">
                      <a:srgbClr val="bfd6e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89240" y="15526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9fcad3"/>
                  </a:gs>
                  <a:gs pos="100000">
                    <a:srgbClr val="495d6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24160" y="156060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cebee"/>
                  </a:gs>
                  <a:gs pos="100000">
                    <a:srgbClr val="9fcad3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51160" y="157320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9fcad3">
                      <a:alpha val="48235"/>
                    </a:srgbClr>
                  </a:gs>
                  <a:gs pos="100000">
                    <a:srgbClr val="7d9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382920" y="160020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9fcad3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882960" y="1752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56840" y="1403640"/>
            <a:ext cx="7750080" cy="5225400"/>
            <a:chOff x="456840" y="1403640"/>
            <a:chExt cx="7750080" cy="5225400"/>
          </a:xfrm>
        </p:grpSpPr>
        <p:sp>
          <p:nvSpPr>
            <p:cNvPr id="164" name="未知"/>
            <p:cNvSpPr/>
            <p:nvPr/>
          </p:nvSpPr>
          <p:spPr>
            <a:xfrm rot="20241600">
              <a:off x="1077840" y="261432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9f9f9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9880" y="17524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71a5df"/>
                </a:gs>
                <a:gs pos="100000">
                  <a:srgbClr val="2638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5280" y="32767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9fcad3"/>
                </a:gs>
                <a:gs pos="100000">
                  <a:srgbClr val="313f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78000" y="497376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636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52880" y="43434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692aa2"/>
                </a:gs>
                <a:gs pos="100000">
                  <a:srgbClr val="3c18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1680" y="198108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f1ca69"/>
                </a:gs>
                <a:gs pos="100000">
                  <a:srgbClr val="52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22520" y="37339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39640" y="2209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71480" y="2487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81560" y="4800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60600" y="54244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37386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73200" y="2039760"/>
              <a:ext cx="1793880" cy="16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"/>
            <p:cNvCxnSpPr/>
            <p:nvPr/>
          </p:nvCxnSpPr>
          <p:spPr>
            <a:xfrm flipH="1">
              <a:off x="456840" y="203940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8" name=""/>
            <p:cNvSpPr/>
            <p:nvPr/>
          </p:nvSpPr>
          <p:spPr>
            <a:xfrm>
              <a:off x="534600" y="16002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90720" y="1676520"/>
            <a:ext cx="7010280" cy="4343400"/>
            <a:chOff x="990720" y="1676520"/>
            <a:chExt cx="7010280" cy="4343400"/>
          </a:xfrm>
        </p:grpSpPr>
        <p:sp>
          <p:nvSpPr>
            <p:cNvPr id="181" name=""/>
            <p:cNvSpPr/>
            <p:nvPr/>
          </p:nvSpPr>
          <p:spPr>
            <a:xfrm>
              <a:off x="3657600" y="411480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d61"/>
                </a:gs>
                <a:gs pos="50000">
                  <a:srgbClr val="9fcad3"/>
                </a:gs>
                <a:gs pos="100000">
                  <a:srgbClr val="495d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57600" y="358164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d61"/>
                </a:gs>
                <a:gs pos="50000">
                  <a:srgbClr val="9fcad3"/>
                </a:gs>
                <a:gs pos="100000">
                  <a:srgbClr val="495d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7600" y="304812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d61"/>
                </a:gs>
                <a:gs pos="50000">
                  <a:srgbClr val="9fcad3"/>
                </a:gs>
                <a:gs pos="100000">
                  <a:srgbClr val="495d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99040" y="3278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99040" y="3811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99040" y="4345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1800" y="281952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0720" y="228600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7040" y="251460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200" y="228600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48520" y="251460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9640" y="281952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95840" y="167652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44c66"/>
                </a:gs>
                <a:gs pos="50000">
                  <a:srgbClr val="71a5df"/>
                </a:gs>
                <a:gs pos="100000">
                  <a:srgbClr val="344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24480" y="243864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74920" y="1909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71800" y="541044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74920" y="5643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02160" y="480060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1a5d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38080" y="2057400"/>
            <a:ext cx="7391520" cy="3581280"/>
            <a:chOff x="838080" y="2057400"/>
            <a:chExt cx="7391520" cy="3581280"/>
          </a:xfrm>
        </p:grpSpPr>
        <p:grpSp>
          <p:nvGrpSpPr>
            <p:cNvPr id="202" name=""/>
            <p:cNvGrpSpPr/>
            <p:nvPr/>
          </p:nvGrpSpPr>
          <p:grpSpPr>
            <a:xfrm>
              <a:off x="2894760" y="2057400"/>
              <a:ext cx="3197160" cy="2890800"/>
              <a:chOff x="2894760" y="2057400"/>
              <a:chExt cx="3197160" cy="2890800"/>
            </a:xfrm>
          </p:grpSpPr>
          <p:sp>
            <p:nvSpPr>
              <p:cNvPr id="203" name=""/>
              <p:cNvSpPr/>
              <p:nvPr/>
            </p:nvSpPr>
            <p:spPr>
              <a:xfrm flipH="1" rot="16200000">
                <a:off x="2812680" y="3169440"/>
                <a:ext cx="490680" cy="3272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9c6d0"/>
                  </a:gs>
                  <a:gs pos="100000">
                    <a:srgbClr val="26728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5400000">
                <a:off x="5682600" y="3115080"/>
                <a:ext cx="490680" cy="3272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9c6d0"/>
                  </a:gs>
                  <a:gs pos="100000">
                    <a:srgbClr val="26728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rot="10800000">
                <a:off x="4251240" y="462132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9c6d0"/>
                  </a:gs>
                  <a:gs pos="100000">
                    <a:srgbClr val="26728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22720" y="2057400"/>
                <a:ext cx="256752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68880" y="2201760"/>
                <a:ext cx="227340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02800" y="2336760"/>
                <a:ext cx="200628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71a5d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02800" y="2336760"/>
                <a:ext cx="200628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634920" y="2468520"/>
                <a:ext cx="1742400" cy="1743120"/>
              </a:xfrm>
              <a:prstGeom prst="ellipse">
                <a:avLst/>
              </a:prstGeom>
              <a:gradFill rotWithShape="0">
                <a:gsLst>
                  <a:gs pos="0">
                    <a:srgbClr val="3c5878"/>
                  </a:gs>
                  <a:gs pos="50000">
                    <a:srgbClr val="71a5df"/>
                  </a:gs>
                  <a:gs pos="100000">
                    <a:srgbClr val="3c58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634920" y="2468520"/>
                <a:ext cx="174240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838080" y="36576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f5d30"/>
                </a:gs>
                <a:gs pos="50000">
                  <a:srgbClr val="f1ca69"/>
                </a:gs>
                <a:gs pos="100000">
                  <a:srgbClr val="6f5d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31240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f5d30"/>
                </a:gs>
                <a:gs pos="50000">
                  <a:srgbClr val="f1ca69"/>
                </a:gs>
                <a:gs pos="100000">
                  <a:srgbClr val="6f5d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2590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f5d30"/>
                </a:gs>
                <a:gs pos="50000">
                  <a:srgbClr val="f1ca69"/>
                </a:gs>
                <a:gs pos="100000">
                  <a:srgbClr val="6f5d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24480" y="36576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d61"/>
                </a:gs>
                <a:gs pos="50000">
                  <a:srgbClr val="9fcad3"/>
                </a:gs>
                <a:gs pos="100000">
                  <a:srgbClr val="495d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24480" y="31240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d61"/>
                </a:gs>
                <a:gs pos="50000">
                  <a:srgbClr val="9fcad3"/>
                </a:gs>
                <a:gs pos="100000">
                  <a:srgbClr val="495d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24480" y="2590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d61"/>
                </a:gs>
                <a:gs pos="50000">
                  <a:srgbClr val="9fcad3"/>
                </a:gs>
                <a:gs pos="100000">
                  <a:srgbClr val="495d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12400" y="31240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57440" y="510552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fcad3"/>
                </a:gs>
                <a:gs pos="50000">
                  <a:srgbClr val="fbfcfc"/>
                </a:gs>
                <a:gs pos="100000">
                  <a:srgbClr val="9fcad3"/>
                </a:gs>
              </a:gsLst>
              <a:lin ang="10800000"/>
            </a:gradFill>
            <a:ln w="38160">
              <a:solidFill>
                <a:srgbClr val="2672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730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730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30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926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926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926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28" name="未知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82880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2438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fcad3"/>
              </a:gs>
              <a:gs pos="100000">
                <a:srgbClr val="495d6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3581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4724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33526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d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02:03:4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39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1c0c000000000001024140</vt:lpwstr>
  </property>
</Properties>
</file>