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F2F5-0E6F-4D8D-8A3C-7CB7CBFEC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3E0E-2BC5-4764-AC42-6CFA41C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0481-F408-4C44-A665-88D55BA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1D4D-A9BA-48CC-B8E1-9C7C9A22F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3078-156E-4952-A8AC-B19F0F86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78CB-CADE-42FC-8991-65EBD512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49D4-BB0B-4689-9F54-AD54CE77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1D92-7F2D-472A-9274-6BDAE59B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6CC8-EDF3-4913-9B29-22D02A3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00E6-0F35-42C5-BC80-0EBD198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6994-7D04-48A8-B340-A3A2AF67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932D-6AC6-4CBE-9196-E992883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3d69b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3d69b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EED9-6DB8-4D76-BE75-2B7381FA735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2985-2EF0-4CD5-9F8F-740284FE3F0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9bbb5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928800" y="3571920"/>
            <a:ext cx="45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9800" y="4237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840" y="835200"/>
            <a:ext cx="84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经济管理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532C-BE81-464C-BD9F-F33E56A1E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9bbb59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85560" y="3500280"/>
            <a:ext cx="45003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08-12T14:36:02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