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9E03-E203-4615-8D44-DFCBC0BE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E43-B198-4E60-B41D-8F2C66A7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D5F-4CB5-4DDB-A6E7-3A02A8F1D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489-B588-4847-ABA3-6806190D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3FF-614B-4657-95FB-BA967E8D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9FA-7378-4E62-BA73-17AAD190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76B-4AF2-4960-973D-A537105F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B68-E907-4630-8E1D-B84B08B2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576-04B7-41CF-BB54-2421EB12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BE2-E568-4F4E-AB24-EF25163C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290-7EEE-4214-92EB-85F76E14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78C-0771-497A-847C-52D0FB70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CADA-32B5-4D9E-88DE-A9D69EB995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68360" y="1052640"/>
            <a:ext cx="719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简约自我介绍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1285920" y="17146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企业商务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0004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6998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592668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1497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662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2571840" y="1714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783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2831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662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42120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5569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4976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6627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49266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8548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59112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1214280" y="3714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950640" y="1571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640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124-11C1-47B4-98D9-96A017F2F1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662760" y="785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997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5997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59979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28Z</dcterms:modified>
  <cp:revision>3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