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D67-9D74-41E4-A265-E17D6732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C0A-603B-4DAD-B3F6-29B30EF5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548-B706-440D-8E24-DDD55ABA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58C-917D-471D-8200-64AF8B04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0F0-E267-4DC1-A2E4-A5713E2A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E81-6E8F-42B5-8273-2E2465E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D1A-7364-4460-96C3-96B235F2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F3E-E11A-4D12-AA26-6376FD58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3C1-AAD7-43BA-8603-3C4E53E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E58-FC5F-4A23-A8A7-0050CD4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236-D20F-4065-BD8B-8BA7E07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459-BAEE-4F58-B13C-CDC54C78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6C8A2-E80D-4A03-A6E8-7A36EE3A7A5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B0640-1294-4FAB-BF9A-9260757B6C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3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4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4360" y="42242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24960" y="7905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快乐工作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3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4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3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6" descr=""/>
          <p:cNvPicPr/>
          <p:nvPr/>
        </p:nvPicPr>
        <p:blipFill>
          <a:blip r:embed="rId4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5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9" descr=""/>
            <p:cNvPicPr/>
            <p:nvPr/>
          </p:nvPicPr>
          <p:blipFill>
            <a:blip r:embed="rId4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1" name="图片 24" descr=""/>
            <p:cNvPicPr/>
            <p:nvPr/>
          </p:nvPicPr>
          <p:blipFill>
            <a:blip r:embed="rId5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图片 25" descr=""/>
            <p:cNvPicPr/>
            <p:nvPr/>
          </p:nvPicPr>
          <p:blipFill>
            <a:blip r:embed="rId6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7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4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13" descr=""/>
            <p:cNvPicPr/>
            <p:nvPr/>
          </p:nvPicPr>
          <p:blipFill>
            <a:blip r:embed="rId5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17400" y="884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4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39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图片 9" descr=""/>
            <p:cNvPicPr/>
            <p:nvPr/>
          </p:nvPicPr>
          <p:blipFill>
            <a:blip r:embed="rId5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49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0" name="图片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3" name="图片 22" descr=""/>
            <p:cNvPicPr/>
            <p:nvPr/>
          </p:nvPicPr>
          <p:blipFill>
            <a:blip r:embed="rId7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26A-3D1B-4D29-814B-89661F353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3" descr=""/>
          <p:cNvPicPr/>
          <p:nvPr/>
        </p:nvPicPr>
        <p:blipFill>
          <a:blip r:embed="rId2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" descr=""/>
          <p:cNvPicPr/>
          <p:nvPr/>
        </p:nvPicPr>
        <p:blipFill>
          <a:blip r:embed="rId3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  <a:ea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www.eeppt.com</dc:creator>
  <dc:description>www.eeppt.com</dc:description>
  <cp:keywords>www.eeppt.com</cp:keywords>
  <dc:language>en-US</dc:language>
  <cp:lastModifiedBy>雨林木风</cp:lastModifiedBy>
  <dcterms:modified xsi:type="dcterms:W3CDTF">2015-08-14T12:51:48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5132</vt:lpwstr>
  </property>
</Properties>
</file>