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8662-F5D0-4C40-9974-CE4E9B8B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D6A6-79FA-420D-92FE-2EE333C2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685D-2A11-4BC3-BBF2-F1F01E9C7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5F36-9A7D-4260-BF7F-209E661DE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6B82-40D2-4759-A7EA-DD80E2E2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6956-B8C4-4F1B-BF91-0B5ED53A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B54A-0C97-424C-9E4F-25BA4146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7C4A-1599-432C-B360-C532D1AA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BC6B-D441-4D4B-84FC-52963287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691A-737B-4A26-9609-8765AA19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B56C-39BD-4DC7-AA03-6103E8EE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0DAB-7794-499A-9652-BDBFB13D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626C-6DB5-4CF4-9319-9D5472CB8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27560" y="541008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我就是你在找的多面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60720" y="129528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卡通毛毛虫背景球职简历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F547-7918-4DE8-A814-D814948F39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09640" y="23875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2T13:42:22Z</dcterms:created>
  <dc:creator>幻灯片之家：www.eeppt.com</dc:creator>
  <dc:description>幻灯片之家：www.eeppt.com</dc:description>
  <cp:keywords>幻灯片之家：www.eeppt.com</cp:keywords>
  <dc:language>en-US</dc:language>
  <cp:lastModifiedBy>Lenovo User</cp:lastModifiedBy>
  <dcterms:modified xsi:type="dcterms:W3CDTF">2015-08-12T14:34:11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