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4D2-DD40-43EB-BF12-E1D6BF6E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CDD-0CD4-4421-97D0-2B5A8930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D49-F9C4-4800-9350-03B3A1E5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057-9BC0-46E6-9B77-8809C875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FEA-F339-4C2B-9949-681570AC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F368-E351-4696-AE73-D671FDE3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1B3D-0D06-464F-82D8-F25A4F4E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C9FC-8B77-40C8-87EE-ED02BB3F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82E9-DC31-437F-93F0-39E92D2E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C070-6C18-4A4C-B361-127C3B55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4397-46F9-4E23-B8EB-DD284DAE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F4D-E105-43CD-B09E-66EDD6B3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4681-DA5F-450C-A2FF-76C8270C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58DF-F9B8-4E21-8F72-5B5E92C7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8621-BEF0-4454-B7B2-ECBFBAB8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41A8-ECBE-46D9-AEA7-A77EDB65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B114-D021-4AAE-98FD-A4263B12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DE5-D153-4993-AC28-EA75E8FB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F3E-5CE3-4592-90DA-10F2C12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9F6-2F42-4408-B9E8-FC6B1664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E34-C2D1-492A-8091-A0B98F88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C1B-F6C9-42FB-8693-866591A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BF5-0B51-43CC-A7CD-79987D0C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C8E-FB06-473C-B48F-16FB108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8840"/>
            <a:chOff x="685800" y="117360"/>
            <a:chExt cx="8456760" cy="673884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680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240" cy="65160"/>
              <a:chOff x="4538520" y="6746760"/>
              <a:chExt cx="433224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00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48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680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60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1760"/>
              <a:ext cx="838044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40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9414-EBE3-4C23-BC94-0CDB89AB8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8840"/>
            <a:chOff x="0" y="117360"/>
            <a:chExt cx="9142560" cy="673884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688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40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20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6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40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600"/>
              <a:ext cx="66960" cy="6372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20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440"/>
              <a:ext cx="4332240" cy="65160"/>
              <a:chOff x="4538520" y="6670440"/>
              <a:chExt cx="4332240" cy="6516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44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000" y="667044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440"/>
                <a:ext cx="648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44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6800" y="667044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44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44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600" y="667044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600"/>
              <a:ext cx="66960" cy="6372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160"/>
                <a:ext cx="703440" cy="164016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138-3716-4D08-8CD7-5234D3563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204640"/>
            <a:ext cx="813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bcbcb"/>
                </a:solidFill>
                <a:latin typeface="Times New Roman"/>
              </a:rPr>
              <a:t>蓝色背景简洁求职简历幻灯片下载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26920" y="4652640"/>
            <a:ext cx="222732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所学专业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求职意向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基本信息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自我评价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20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教育背景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工作经验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91560" y="1015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求职陈述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00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FB6-1BB8-4F08-87A4-291433C12854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1360" y="31417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谢谢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>幻灯片之家：www.eeppt.com</dc:description>
  <cp:keywords>幻灯片之家：www.eeppt.com</cp:keywords>
  <dc:language>en-US</dc:language>
  <cp:lastModifiedBy>USER</cp:lastModifiedBy>
  <dcterms:modified xsi:type="dcterms:W3CDTF">2015-08-12T14:36:20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