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"/>
          <p:cNvSpPr/>
          <p:nvPr/>
        </p:nvSpPr>
        <p:spPr>
          <a:xfrm rot="5400000">
            <a:off x="5929200" y="29037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口令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RAPID7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文本框 7"/>
          <p:cNvSpPr/>
          <p:nvPr/>
        </p:nvSpPr>
        <p:spPr>
          <a:xfrm>
            <a:off x="8812080" y="580536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文本框 8"/>
          <p:cNvSpPr/>
          <p:nvPr/>
        </p:nvSpPr>
        <p:spPr>
          <a:xfrm>
            <a:off x="7268760" y="58053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文本框 12"/>
          <p:cNvSpPr/>
          <p:nvPr/>
        </p:nvSpPr>
        <p:spPr>
          <a:xfrm>
            <a:off x="10513800" y="58053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9" descr=""/>
          <p:cNvPicPr/>
          <p:nvPr/>
        </p:nvPicPr>
        <p:blipFill>
          <a:blip r:embed="rId2"/>
          <a:stretch/>
        </p:blipFill>
        <p:spPr>
          <a:xfrm>
            <a:off x="3506760" y="2244600"/>
            <a:ext cx="502776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任意多边形 16"/>
          <p:cNvSpPr/>
          <p:nvPr/>
        </p:nvSpPr>
        <p:spPr>
          <a:xfrm>
            <a:off x="625320" y="596880"/>
            <a:ext cx="18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20520" y="9810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色清爽年终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9"/>
          <p:cNvSpPr/>
          <p:nvPr/>
        </p:nvSpPr>
        <p:spPr>
          <a:xfrm rot="2700000">
            <a:off x="4506840" y="1341000"/>
            <a:ext cx="3021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0"/>
          <p:cNvSpPr/>
          <p:nvPr/>
        </p:nvSpPr>
        <p:spPr>
          <a:xfrm rot="2700000">
            <a:off x="6111000" y="3963240"/>
            <a:ext cx="302076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1"/>
          <p:cNvSpPr/>
          <p:nvPr/>
        </p:nvSpPr>
        <p:spPr>
          <a:xfrm rot="2700000">
            <a:off x="7110720" y="2958120"/>
            <a:ext cx="302112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2"/>
          <p:cNvSpPr/>
          <p:nvPr/>
        </p:nvSpPr>
        <p:spPr>
          <a:xfrm rot="2700000">
            <a:off x="3477960" y="2343240"/>
            <a:ext cx="30207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 rot="2700000">
            <a:off x="4460040" y="155592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 rot="2700000">
            <a:off x="3425760" y="2606760"/>
            <a:ext cx="29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 rot="2700000">
            <a:off x="6071400" y="429300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 rot="2700000">
            <a:off x="7095600" y="3288600"/>
            <a:ext cx="29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27"/>
          <p:cNvSpPr/>
          <p:nvPr/>
        </p:nvSpPr>
        <p:spPr>
          <a:xfrm flipV="1">
            <a:off x="2643120" y="0"/>
            <a:ext cx="7174080" cy="717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6"/>
          <p:cNvSpPr/>
          <p:nvPr/>
        </p:nvSpPr>
        <p:spPr>
          <a:xfrm rot="2700000">
            <a:off x="9039240" y="8694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7"/>
          <p:cNvSpPr/>
          <p:nvPr/>
        </p:nvSpPr>
        <p:spPr>
          <a:xfrm rot="2700000">
            <a:off x="8782560" y="118980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6"/>
          <p:cNvSpPr/>
          <p:nvPr/>
        </p:nvSpPr>
        <p:spPr>
          <a:xfrm rot="2700000">
            <a:off x="2480040" y="3351960"/>
            <a:ext cx="3021120" cy="70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 rot="2700000">
            <a:off x="2352960" y="360432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5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2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2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ntr" presetID="2" presetSubtype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ntr" presetID="2" presetSubtype="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" presetSubtype="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" presetSubtype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xit" presetID="2" presetSubtype="6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xit" presetID="2" presetSubtype="6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33"/>
          <p:cNvSpPr/>
          <p:nvPr/>
        </p:nvSpPr>
        <p:spPr>
          <a:xfrm>
            <a:off x="1614600" y="5445000"/>
            <a:ext cx="236520" cy="587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4"/>
          <p:cNvSpPr/>
          <p:nvPr/>
        </p:nvSpPr>
        <p:spPr>
          <a:xfrm>
            <a:off x="1644480" y="5445000"/>
            <a:ext cx="487440" cy="50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5"/>
          <p:cNvSpPr/>
          <p:nvPr/>
        </p:nvSpPr>
        <p:spPr>
          <a:xfrm>
            <a:off x="1844640" y="4476600"/>
            <a:ext cx="318960" cy="968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6"/>
          <p:cNvSpPr/>
          <p:nvPr/>
        </p:nvSpPr>
        <p:spPr>
          <a:xfrm>
            <a:off x="1828800" y="4275000"/>
            <a:ext cx="460440" cy="203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37"/>
          <p:cNvSpPr/>
          <p:nvPr/>
        </p:nvSpPr>
        <p:spPr>
          <a:xfrm>
            <a:off x="1440000" y="3835440"/>
            <a:ext cx="555480" cy="6285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38"/>
          <p:cNvSpPr/>
          <p:nvPr/>
        </p:nvSpPr>
        <p:spPr>
          <a:xfrm>
            <a:off x="1420920" y="4464000"/>
            <a:ext cx="252360" cy="2062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9"/>
          <p:cNvSpPr/>
          <p:nvPr/>
        </p:nvSpPr>
        <p:spPr>
          <a:xfrm>
            <a:off x="1673280" y="4587840"/>
            <a:ext cx="237960" cy="5796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1222200" y="5022720"/>
            <a:ext cx="687600" cy="168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1"/>
          <p:cNvSpPr/>
          <p:nvPr/>
        </p:nvSpPr>
        <p:spPr>
          <a:xfrm>
            <a:off x="1076400" y="4525920"/>
            <a:ext cx="169920" cy="5209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42"/>
          <p:cNvSpPr/>
          <p:nvPr/>
        </p:nvSpPr>
        <p:spPr>
          <a:xfrm>
            <a:off x="727200" y="4425840"/>
            <a:ext cx="355320" cy="173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3"/>
          <p:cNvSpPr/>
          <p:nvPr/>
        </p:nvSpPr>
        <p:spPr>
          <a:xfrm>
            <a:off x="603360" y="4592520"/>
            <a:ext cx="295200" cy="1400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4"/>
          <p:cNvSpPr/>
          <p:nvPr/>
        </p:nvSpPr>
        <p:spPr>
          <a:xfrm>
            <a:off x="1971720" y="3841920"/>
            <a:ext cx="339840" cy="4809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-720720" y="6021360"/>
            <a:ext cx="1382760" cy="360"/>
            <a:chOff x="-720720" y="6021360"/>
            <a:chExt cx="1382760" cy="360"/>
          </a:xfrm>
        </p:grpSpPr>
        <p:sp>
          <p:nvSpPr>
            <p:cNvPr id="290" name="Line 253"/>
            <p:cNvSpPr/>
            <p:nvPr/>
          </p:nvSpPr>
          <p:spPr>
            <a:xfrm>
              <a:off x="-720720" y="6021360"/>
              <a:ext cx="1382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-720720" y="6021360"/>
              <a:ext cx="1382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852560" y="6033960"/>
            <a:ext cx="10799640" cy="360"/>
            <a:chOff x="1852560" y="6033960"/>
            <a:chExt cx="10799640" cy="360"/>
          </a:xfrm>
        </p:grpSpPr>
        <p:sp>
          <p:nvSpPr>
            <p:cNvPr id="293" name="Line 253"/>
            <p:cNvSpPr/>
            <p:nvPr/>
          </p:nvSpPr>
          <p:spPr>
            <a:xfrm>
              <a:off x="1852560" y="6033960"/>
              <a:ext cx="10799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1852560" y="6033960"/>
              <a:ext cx="1079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文本框 22"/>
          <p:cNvSpPr/>
          <p:nvPr/>
        </p:nvSpPr>
        <p:spPr>
          <a:xfrm>
            <a:off x="4786200" y="2600280"/>
            <a:ext cx="2625840" cy="3988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它产品的嫁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4"/>
          <p:cNvSpPr/>
          <p:nvPr/>
        </p:nvSpPr>
        <p:spPr>
          <a:xfrm>
            <a:off x="7270920" y="3305160"/>
            <a:ext cx="1703160" cy="353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乡镇网店拓展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6"/>
          <p:cNvSpPr/>
          <p:nvPr/>
        </p:nvSpPr>
        <p:spPr>
          <a:xfrm>
            <a:off x="3279600" y="3289320"/>
            <a:ext cx="2148120" cy="36828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队伍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7"/>
          <p:cNvSpPr/>
          <p:nvPr/>
        </p:nvSpPr>
        <p:spPr>
          <a:xfrm>
            <a:off x="4962600" y="4149720"/>
            <a:ext cx="2016000" cy="383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队伍的建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8"/>
          <p:cNvSpPr/>
          <p:nvPr/>
        </p:nvSpPr>
        <p:spPr>
          <a:xfrm>
            <a:off x="3489480" y="1962000"/>
            <a:ext cx="1466640" cy="44424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区推广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29"/>
          <p:cNvSpPr/>
          <p:nvPr/>
        </p:nvSpPr>
        <p:spPr>
          <a:xfrm>
            <a:off x="9529920" y="2639880"/>
            <a:ext cx="1393560" cy="42912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店建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30"/>
          <p:cNvSpPr/>
          <p:nvPr/>
        </p:nvSpPr>
        <p:spPr>
          <a:xfrm>
            <a:off x="9204480" y="4029120"/>
            <a:ext cx="144288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广告投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224"/>
          <p:cNvSpPr/>
          <p:nvPr/>
        </p:nvSpPr>
        <p:spPr>
          <a:xfrm>
            <a:off x="6145200" y="1258920"/>
            <a:ext cx="511164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25"/>
          <p:cNvSpPr/>
          <p:nvPr/>
        </p:nvSpPr>
        <p:spPr>
          <a:xfrm rot="5400000">
            <a:off x="9484200" y="3024720"/>
            <a:ext cx="352908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26"/>
          <p:cNvSpPr/>
          <p:nvPr/>
        </p:nvSpPr>
        <p:spPr>
          <a:xfrm>
            <a:off x="2797200" y="4772160"/>
            <a:ext cx="84614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27"/>
          <p:cNvSpPr/>
          <p:nvPr/>
        </p:nvSpPr>
        <p:spPr>
          <a:xfrm rot="5400000">
            <a:off x="1031040" y="3022560"/>
            <a:ext cx="35290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28"/>
          <p:cNvSpPr/>
          <p:nvPr/>
        </p:nvSpPr>
        <p:spPr>
          <a:xfrm>
            <a:off x="2789280" y="1249200"/>
            <a:ext cx="71892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29"/>
          <p:cNvSpPr/>
          <p:nvPr/>
        </p:nvSpPr>
        <p:spPr>
          <a:xfrm>
            <a:off x="3794040" y="981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项目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263"/>
          <p:cNvGrpSpPr/>
          <p:nvPr/>
        </p:nvGrpSpPr>
        <p:grpSpPr>
          <a:xfrm>
            <a:off x="5526360" y="7499520"/>
            <a:ext cx="3189240" cy="646560"/>
            <a:chOff x="5526360" y="7499520"/>
            <a:chExt cx="3189240" cy="646560"/>
          </a:xfrm>
        </p:grpSpPr>
        <p:grpSp>
          <p:nvGrpSpPr>
            <p:cNvPr id="309" name="组合 264"/>
            <p:cNvGrpSpPr/>
            <p:nvPr/>
          </p:nvGrpSpPr>
          <p:grpSpPr>
            <a:xfrm>
              <a:off x="5526360" y="7499520"/>
              <a:ext cx="1603080" cy="337320"/>
              <a:chOff x="5526360" y="7499520"/>
              <a:chExt cx="1603080" cy="337320"/>
            </a:xfrm>
          </p:grpSpPr>
          <p:sp>
            <p:nvSpPr>
              <p:cNvPr id="310" name="矩形 8"/>
              <p:cNvSpPr/>
              <p:nvPr/>
            </p:nvSpPr>
            <p:spPr>
              <a:xfrm>
                <a:off x="5526360" y="7528320"/>
                <a:ext cx="1603080" cy="280440"/>
              </a:xfrm>
              <a:prstGeom prst="rect">
                <a:avLst/>
              </a:prstGeom>
              <a:solidFill>
                <a:srgbClr val="20d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文本框 25"/>
              <p:cNvSpPr/>
              <p:nvPr/>
            </p:nvSpPr>
            <p:spPr>
              <a:xfrm>
                <a:off x="5801760" y="749952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盈利空间保障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文本框 25"/>
            <p:cNvSpPr/>
            <p:nvPr/>
          </p:nvSpPr>
          <p:spPr>
            <a:xfrm>
              <a:off x="8435880" y="7808760"/>
              <a:ext cx="2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稳定的价格体系和独特的直线营销模式，保障您足够的利润空间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直接连接符 282"/>
          <p:cNvSpPr/>
          <p:nvPr/>
        </p:nvSpPr>
        <p:spPr>
          <a:xfrm flipV="1">
            <a:off x="2131920" y="3288960"/>
            <a:ext cx="179640" cy="5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4"/>
          <p:cNvSpPr/>
          <p:nvPr/>
        </p:nvSpPr>
        <p:spPr>
          <a:xfrm flipV="1">
            <a:off x="2290680" y="3790800"/>
            <a:ext cx="162000" cy="16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86"/>
          <p:cNvSpPr/>
          <p:nvPr/>
        </p:nvSpPr>
        <p:spPr>
          <a:xfrm flipV="1">
            <a:off x="2427120" y="4006800"/>
            <a:ext cx="835200" cy="138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25"/>
          <p:cNvSpPr/>
          <p:nvPr/>
        </p:nvSpPr>
        <p:spPr>
          <a:xfrm>
            <a:off x="7094520" y="1792440"/>
            <a:ext cx="2611440" cy="41400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区和广场推广活动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2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ntr" presetID="22" presetSubtype="4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2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dur="indefinite" nodeType="withEffect" fill="hold" presetClass="entr" presetID="22" presetSubtype="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2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4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22" presetSubtype="2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2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ntr" presetID="22" presetSubtype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2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ntr" presetID="10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10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ntr" presetID="10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13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2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2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828" dur="1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830" dur="200" fill="hold"/>
                                        <p:tgtEl>
                                          <p:spTgt spid="29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832" dur="1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834" dur="200" fill="hold"/>
                                        <p:tgtEl>
                                          <p:spTgt spid="29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2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2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841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843" dur="200" fill="hold"/>
                                        <p:tgtEl>
                                          <p:spTgt spid="29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845" dur="1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847" dur="200" fill="hold"/>
                                        <p:tgtEl>
                                          <p:spTgt spid="29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2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2" dur="2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854" dur="1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856" dur="200" fill="hold"/>
                                        <p:tgtEl>
                                          <p:spTgt spid="29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57" dur="indefinite" nodeType="withEffect" fill="hold" presetClass="emph" presetID="6">
                                  <p:stCondLst>
                                    <p:cond delay="3900"/>
                                  </p:stCondLst>
                                  <p:childTnLst>
                                    <p:animScale>
                                      <p:cBhvr>
                                        <p:cTn id="858" dur="100" fill="hold"/>
                                        <p:tgtEl>
                                          <p:spTgt spid="2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860" dur="200" fill="hold"/>
                                        <p:tgtEl>
                                          <p:spTgt spid="29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5" dur="2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mph" presetID="6">
                                  <p:stCondLst>
                                    <p:cond delay="3900"/>
                                  </p:stCondLst>
                                  <p:childTnLst>
                                    <p:animScale>
                                      <p:cBhvr>
                                        <p:cTn id="867" dur="1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869" dur="200" fill="hold"/>
                                        <p:tgtEl>
                                          <p:spTgt spid="31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871" dur="100" fill="hold"/>
                                        <p:tgtEl>
                                          <p:spTgt spid="3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873" dur="200" fill="hold"/>
                                        <p:tgtEl>
                                          <p:spTgt spid="31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2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8" dur="2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880" dur="1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882" dur="200" fill="hold"/>
                                        <p:tgtEl>
                                          <p:spTgt spid="30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884" dur="1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mph" presetID="6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886" dur="200" fill="hold"/>
                                        <p:tgtEl>
                                          <p:spTgt spid="30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2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2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1" dur="2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893" dur="1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94" dur="indefinite" nodeType="withEffect" fill="hold" presetClass="emph" presetID="6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895" dur="200" fill="hold"/>
                                        <p:tgtEl>
                                          <p:spTgt spid="29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897" dur="100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899" dur="200" fill="hold"/>
                                        <p:tgtEl>
                                          <p:spTgt spid="29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00" dur="indefinite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2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2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dur="indefinite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906" dur="1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908" dur="200" fill="hold"/>
                                        <p:tgtEl>
                                          <p:spTgt spid="30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910" dur="1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912" dur="200" fill="hold"/>
                                        <p:tgtEl>
                                          <p:spTgt spid="30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2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2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919" dur="1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921" dur="200" fill="hold"/>
                                        <p:tgtEl>
                                          <p:spTgt spid="29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mph" presetID="6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923" dur="1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24" dur="indefinite" nodeType="withEffect" fill="hold" presetClass="emph" presetID="6">
                                  <p:stCondLst>
                                    <p:cond delay="5500"/>
                                  </p:stCondLst>
                                  <p:childTnLst>
                                    <p:animScale>
                                      <p:cBhvr>
                                        <p:cTn id="925" dur="200" fill="hold"/>
                                        <p:tgtEl>
                                          <p:spTgt spid="29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ntr" presetID="22" presetSubtype="8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1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dur="indefinite" nodeType="withEffect" fill="hold" presetClass="entr" presetID="22" presetSubtype="8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4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dur="indefinite" nodeType="withEffect" fill="hold" presetClass="entr" presetID="22" presetSubtype="8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4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ntr" presetID="22" presetSubtype="1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ntr" presetID="2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exit" presetID="2" presetSubtype="9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5" dur="4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4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xit" presetID="2" presetSubtype="3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9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4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xit" presetID="2" presetSubtype="2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4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4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exit" presetID="2" presetSubtype="6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4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4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xit" presetID="2" presetSubtype="4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1" dur="4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4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dur="indefinite" nodeType="withEffect" fill="hold" presetClass="exit" presetID="2" presetSubtype="12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5" dur="4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4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xit" presetID="2" presetSubtype="12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9" dur="4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4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xit" presetID="2" presetSubtype="8">
                                  <p:stCondLst>
                                    <p:cond delay="7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3" dur="4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4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19"/>
          <p:cNvSpPr/>
          <p:nvPr/>
        </p:nvSpPr>
        <p:spPr>
          <a:xfrm rot="2700000">
            <a:off x="4496400" y="1340640"/>
            <a:ext cx="30207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20"/>
          <p:cNvSpPr/>
          <p:nvPr/>
        </p:nvSpPr>
        <p:spPr>
          <a:xfrm rot="2700000">
            <a:off x="6111000" y="3963240"/>
            <a:ext cx="302076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1"/>
          <p:cNvSpPr/>
          <p:nvPr/>
        </p:nvSpPr>
        <p:spPr>
          <a:xfrm rot="2700000">
            <a:off x="7110720" y="2958120"/>
            <a:ext cx="302112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2"/>
          <p:cNvSpPr/>
          <p:nvPr/>
        </p:nvSpPr>
        <p:spPr>
          <a:xfrm rot="2700000">
            <a:off x="3477960" y="2343240"/>
            <a:ext cx="30207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 rot="2700000">
            <a:off x="4449960" y="155484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7"/>
          <p:cNvSpPr/>
          <p:nvPr/>
        </p:nvSpPr>
        <p:spPr>
          <a:xfrm rot="2700000">
            <a:off x="3365640" y="262944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8"/>
          <p:cNvSpPr/>
          <p:nvPr/>
        </p:nvSpPr>
        <p:spPr>
          <a:xfrm rot="2700000">
            <a:off x="6071400" y="429300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 rot="2700000">
            <a:off x="7095600" y="3288600"/>
            <a:ext cx="29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27"/>
          <p:cNvSpPr/>
          <p:nvPr/>
        </p:nvSpPr>
        <p:spPr>
          <a:xfrm flipV="1">
            <a:off x="2643120" y="0"/>
            <a:ext cx="7174080" cy="717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6"/>
          <p:cNvSpPr/>
          <p:nvPr/>
        </p:nvSpPr>
        <p:spPr>
          <a:xfrm rot="2700000">
            <a:off x="9039240" y="8694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7"/>
          <p:cNvSpPr/>
          <p:nvPr/>
        </p:nvSpPr>
        <p:spPr>
          <a:xfrm rot="2700000">
            <a:off x="8782560" y="118980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8"/>
          <p:cNvSpPr/>
          <p:nvPr/>
        </p:nvSpPr>
        <p:spPr>
          <a:xfrm rot="2700000">
            <a:off x="2480040" y="3351960"/>
            <a:ext cx="3021120" cy="70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 rot="2700000">
            <a:off x="2352960" y="360432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5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2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dur="indefinite" nodeType="withEffect" fill="hold" presetClass="entr" presetID="2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ntr" presetID="2" presetSubtype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dur="indefinite" nodeType="withEffect" fill="hold" presetClass="entr" presetID="2" presetSubtype="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ntr" presetID="2" presetSubtype="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ntr" presetID="2" presetSubtype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xit" presetID="2" presetSubtype="6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6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xit" presetID="2" presetSubtype="6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3"/>
          <p:cNvSpPr/>
          <p:nvPr/>
        </p:nvSpPr>
        <p:spPr>
          <a:xfrm>
            <a:off x="-601200" y="226692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口令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RP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"/>
          <p:cNvSpPr/>
          <p:nvPr/>
        </p:nvSpPr>
        <p:spPr>
          <a:xfrm>
            <a:off x="2517840" y="430200"/>
            <a:ext cx="93614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8"/>
          <p:cNvGrpSpPr/>
          <p:nvPr/>
        </p:nvGrpSpPr>
        <p:grpSpPr>
          <a:xfrm>
            <a:off x="-20520" y="620640"/>
            <a:ext cx="2374920" cy="436680"/>
            <a:chOff x="-20520" y="620640"/>
            <a:chExt cx="2374920" cy="436680"/>
          </a:xfrm>
        </p:grpSpPr>
        <p:sp>
          <p:nvSpPr>
            <p:cNvPr id="333" name="五边形 4"/>
            <p:cNvSpPr/>
            <p:nvPr/>
          </p:nvSpPr>
          <p:spPr>
            <a:xfrm>
              <a:off x="-20520" y="620640"/>
              <a:ext cx="2303280" cy="43668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文本框 1"/>
            <p:cNvSpPr/>
            <p:nvPr/>
          </p:nvSpPr>
          <p:spPr>
            <a:xfrm>
              <a:off x="-20520" y="65412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24282"/>
                  </a:solidFill>
                  <a:latin typeface="微软雅黑"/>
                  <a:ea typeface="微软雅黑"/>
                </a:rPr>
                <a:t>填写你的台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7"/>
          <p:cNvGrpSpPr/>
          <p:nvPr/>
        </p:nvGrpSpPr>
        <p:grpSpPr>
          <a:xfrm>
            <a:off x="-57240" y="1422360"/>
            <a:ext cx="2374920" cy="436680"/>
            <a:chOff x="-57240" y="1422360"/>
            <a:chExt cx="2374920" cy="436680"/>
          </a:xfrm>
        </p:grpSpPr>
        <p:sp>
          <p:nvSpPr>
            <p:cNvPr id="336" name="五边形 38"/>
            <p:cNvSpPr/>
            <p:nvPr/>
          </p:nvSpPr>
          <p:spPr>
            <a:xfrm>
              <a:off x="-21240" y="1422360"/>
              <a:ext cx="2303280" cy="43668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35"/>
            <p:cNvSpPr/>
            <p:nvPr/>
          </p:nvSpPr>
          <p:spPr>
            <a:xfrm>
              <a:off x="-57240" y="145584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24282"/>
                  </a:solidFill>
                  <a:latin typeface="微软雅黑"/>
                  <a:ea typeface="微软雅黑"/>
                </a:rPr>
                <a:t>填写你的台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6"/>
          <p:cNvGrpSpPr/>
          <p:nvPr/>
        </p:nvGrpSpPr>
        <p:grpSpPr>
          <a:xfrm>
            <a:off x="-92160" y="2222640"/>
            <a:ext cx="2374920" cy="438120"/>
            <a:chOff x="-92160" y="2222640"/>
            <a:chExt cx="2374920" cy="438120"/>
          </a:xfrm>
        </p:grpSpPr>
        <p:sp>
          <p:nvSpPr>
            <p:cNvPr id="339" name="五边形 39"/>
            <p:cNvSpPr/>
            <p:nvPr/>
          </p:nvSpPr>
          <p:spPr>
            <a:xfrm>
              <a:off x="-21600" y="2222640"/>
              <a:ext cx="2303280" cy="43812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36"/>
            <p:cNvSpPr/>
            <p:nvPr/>
          </p:nvSpPr>
          <p:spPr>
            <a:xfrm>
              <a:off x="-92160" y="225612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24282"/>
                  </a:solidFill>
                  <a:latin typeface="微软雅黑"/>
                  <a:ea typeface="微软雅黑"/>
                </a:rPr>
                <a:t>填写你的台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文本框 9"/>
          <p:cNvSpPr/>
          <p:nvPr/>
        </p:nvSpPr>
        <p:spPr>
          <a:xfrm>
            <a:off x="1811160" y="2830680"/>
            <a:ext cx="492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祖题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图片 10" descr=""/>
          <p:cNvPicPr/>
          <p:nvPr/>
        </p:nvPicPr>
        <p:blipFill>
          <a:blip r:embed="rId2"/>
          <a:stretch/>
        </p:blipFill>
        <p:spPr>
          <a:xfrm>
            <a:off x="9753480" y="692280"/>
            <a:ext cx="1900440" cy="14414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1" descr=""/>
          <p:cNvPicPr/>
          <p:nvPr/>
        </p:nvPicPr>
        <p:blipFill>
          <a:blip r:embed="rId3"/>
          <a:stretch/>
        </p:blipFill>
        <p:spPr>
          <a:xfrm>
            <a:off x="7443720" y="692280"/>
            <a:ext cx="1911240" cy="14414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2" descr=""/>
          <p:cNvPicPr/>
          <p:nvPr/>
        </p:nvPicPr>
        <p:blipFill>
          <a:blip r:embed="rId4"/>
          <a:stretch/>
        </p:blipFill>
        <p:spPr>
          <a:xfrm>
            <a:off x="5145120" y="692280"/>
            <a:ext cx="1900080" cy="14414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3" descr=""/>
          <p:cNvPicPr/>
          <p:nvPr/>
        </p:nvPicPr>
        <p:blipFill>
          <a:blip r:embed="rId5"/>
          <a:stretch/>
        </p:blipFill>
        <p:spPr>
          <a:xfrm>
            <a:off x="2841480" y="692280"/>
            <a:ext cx="1898640" cy="144144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40" descr=""/>
          <p:cNvPicPr/>
          <p:nvPr/>
        </p:nvPicPr>
        <p:blipFill>
          <a:blip r:embed="rId6"/>
          <a:stretch/>
        </p:blipFill>
        <p:spPr>
          <a:xfrm>
            <a:off x="2854440" y="2322360"/>
            <a:ext cx="1888920" cy="1440000"/>
          </a:xfrm>
          <a:prstGeom prst="rect">
            <a:avLst/>
          </a:prstGeom>
          <a:ln w="0">
            <a:noFill/>
          </a:ln>
        </p:spPr>
      </p:pic>
      <p:pic>
        <p:nvPicPr>
          <p:cNvPr id="347" name="图片 41" descr=""/>
          <p:cNvPicPr/>
          <p:nvPr/>
        </p:nvPicPr>
        <p:blipFill>
          <a:blip r:embed="rId7"/>
          <a:stretch/>
        </p:blipFill>
        <p:spPr>
          <a:xfrm>
            <a:off x="9750600" y="2322360"/>
            <a:ext cx="1906560" cy="144000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42" descr=""/>
          <p:cNvPicPr/>
          <p:nvPr/>
        </p:nvPicPr>
        <p:blipFill>
          <a:blip r:embed="rId8"/>
          <a:stretch/>
        </p:blipFill>
        <p:spPr>
          <a:xfrm>
            <a:off x="7448400" y="2322360"/>
            <a:ext cx="1908360" cy="144000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43" descr=""/>
          <p:cNvPicPr/>
          <p:nvPr/>
        </p:nvPicPr>
        <p:blipFill>
          <a:blip r:embed="rId9"/>
          <a:stretch/>
        </p:blipFill>
        <p:spPr>
          <a:xfrm>
            <a:off x="5148360" y="2322360"/>
            <a:ext cx="1903320" cy="144000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45" descr=""/>
          <p:cNvPicPr/>
          <p:nvPr/>
        </p:nvPicPr>
        <p:blipFill>
          <a:blip r:embed="rId10"/>
          <a:stretch/>
        </p:blipFill>
        <p:spPr>
          <a:xfrm>
            <a:off x="2841480" y="3933720"/>
            <a:ext cx="1898640" cy="144000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46" descr=""/>
          <p:cNvPicPr/>
          <p:nvPr/>
        </p:nvPicPr>
        <p:blipFill>
          <a:blip r:embed="rId11"/>
          <a:stretch/>
        </p:blipFill>
        <p:spPr>
          <a:xfrm>
            <a:off x="9744120" y="393372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47" descr=""/>
          <p:cNvPicPr/>
          <p:nvPr/>
        </p:nvPicPr>
        <p:blipFill>
          <a:blip r:embed="rId12"/>
          <a:stretch/>
        </p:blipFill>
        <p:spPr>
          <a:xfrm>
            <a:off x="7443720" y="3933720"/>
            <a:ext cx="1911240" cy="144000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48" descr=""/>
          <p:cNvPicPr/>
          <p:nvPr/>
        </p:nvPicPr>
        <p:blipFill>
          <a:blip r:embed="rId13"/>
          <a:stretch/>
        </p:blipFill>
        <p:spPr>
          <a:xfrm>
            <a:off x="5143680" y="3933720"/>
            <a:ext cx="1903320" cy="14400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26" descr=""/>
          <p:cNvPicPr/>
          <p:nvPr/>
        </p:nvPicPr>
        <p:blipFill>
          <a:blip r:embed="rId14"/>
          <a:stretch/>
        </p:blipFill>
        <p:spPr>
          <a:xfrm>
            <a:off x="4227480" y="1341360"/>
            <a:ext cx="6389640" cy="2421000"/>
          </a:xfrm>
          <a:prstGeom prst="rect">
            <a:avLst/>
          </a:prstGeom>
          <a:ln w="0">
            <a:noFill/>
          </a:ln>
        </p:spPr>
      </p:pic>
      <p:sp>
        <p:nvSpPr>
          <p:cNvPr id="355" name="文本框 34"/>
          <p:cNvSpPr/>
          <p:nvPr/>
        </p:nvSpPr>
        <p:spPr>
          <a:xfrm>
            <a:off x="8331120" y="5715000"/>
            <a:ext cx="35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4282"/>
                </a:solidFill>
                <a:latin typeface="微软雅黑"/>
                <a:ea typeface="微软雅黑"/>
              </a:rPr>
              <a:t>放入你所要演示的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0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xit" presetID="9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xit" presetID="9">
                                  <p:stCondLst>
                                    <p:cond delay="5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dur="indefinite" nodeType="withEffect" fill="hold" presetClass="exit" presetID="9">
                                  <p:stCondLst>
                                    <p:cond delay="5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xit" presetID="9">
                                  <p:stCondLst>
                                    <p:cond delay="4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xit" presetID="9">
                                  <p:stCondLst>
                                    <p:cond delay="4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xit" presetID="9">
                                  <p:stCondLst>
                                    <p:cond delay="4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xit" presetID="9">
                                  <p:stCondLst>
                                    <p:cond delay="4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xit" presetID="9">
                                  <p:stCondLst>
                                    <p:cond delay="5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xit" presetID="9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dur="indefinite" nodeType="withEffect" fill="hold" presetClass="exit" presetID="9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xit" presetID="9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dur="indefinite" nodeType="withEffect" fill="hold" presetClass="exit" presetID="9">
                                  <p:stCondLst>
                                    <p:cond delay="5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5320" y="189000"/>
            <a:ext cx="109490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95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9720360" y="333360"/>
            <a:ext cx="18540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文本框 1"/>
          <p:cNvSpPr/>
          <p:nvPr/>
        </p:nvSpPr>
        <p:spPr>
          <a:xfrm>
            <a:off x="5072760" y="2349360"/>
            <a:ext cx="20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2"/>
          <p:cNvSpPr/>
          <p:nvPr/>
        </p:nvSpPr>
        <p:spPr>
          <a:xfrm>
            <a:off x="4370400" y="3500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3"/>
          <p:cNvSpPr/>
          <p:nvPr/>
        </p:nvSpPr>
        <p:spPr>
          <a:xfrm>
            <a:off x="3083760" y="2627280"/>
            <a:ext cx="1744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，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，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，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，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，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445200" y="1773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0"/>
          <p:cNvSpPr/>
          <p:nvPr/>
        </p:nvSpPr>
        <p:spPr>
          <a:xfrm>
            <a:off x="6388200" y="2060640"/>
            <a:ext cx="395928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1"/>
          <p:cNvSpPr/>
          <p:nvPr/>
        </p:nvSpPr>
        <p:spPr>
          <a:xfrm rot="5400000">
            <a:off x="8755560" y="3636000"/>
            <a:ext cx="3166920" cy="1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7"/>
          <p:cNvSpPr/>
          <p:nvPr/>
        </p:nvSpPr>
        <p:spPr>
          <a:xfrm>
            <a:off x="1884240" y="5203800"/>
            <a:ext cx="846144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8"/>
          <p:cNvSpPr/>
          <p:nvPr/>
        </p:nvSpPr>
        <p:spPr>
          <a:xfrm rot="5400000">
            <a:off x="275040" y="3634560"/>
            <a:ext cx="31687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9"/>
          <p:cNvSpPr/>
          <p:nvPr/>
        </p:nvSpPr>
        <p:spPr>
          <a:xfrm>
            <a:off x="1851120" y="2041560"/>
            <a:ext cx="718920" cy="1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30" descr=""/>
          <p:cNvPicPr/>
          <p:nvPr/>
        </p:nvPicPr>
        <p:blipFill>
          <a:blip r:embed="rId2"/>
          <a:stretch/>
        </p:blipFill>
        <p:spPr>
          <a:xfrm>
            <a:off x="8172360" y="3860640"/>
            <a:ext cx="1959120" cy="7430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rot="2700000">
            <a:off x="4463640" y="1370160"/>
            <a:ext cx="30225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rot="2700000">
            <a:off x="6087600" y="3992760"/>
            <a:ext cx="302256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rot="2700000">
            <a:off x="7088400" y="2988360"/>
            <a:ext cx="302112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 rot="2700000">
            <a:off x="3456000" y="2372760"/>
            <a:ext cx="3021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 rot="2700000">
            <a:off x="4419000" y="156960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 rot="2700000">
            <a:off x="3344760" y="2645640"/>
            <a:ext cx="29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 rot="2700000">
            <a:off x="6048720" y="4309200"/>
            <a:ext cx="29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 rot="2700000">
            <a:off x="7074360" y="3303360"/>
            <a:ext cx="29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27"/>
          <p:cNvSpPr/>
          <p:nvPr/>
        </p:nvSpPr>
        <p:spPr>
          <a:xfrm flipV="1">
            <a:off x="2643120" y="0"/>
            <a:ext cx="7174080" cy="717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6"/>
          <p:cNvSpPr/>
          <p:nvPr/>
        </p:nvSpPr>
        <p:spPr>
          <a:xfrm rot="2700000">
            <a:off x="9039240" y="8694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7"/>
          <p:cNvSpPr/>
          <p:nvPr/>
        </p:nvSpPr>
        <p:spPr>
          <a:xfrm rot="2700000">
            <a:off x="8782560" y="118980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 rot="2700000">
            <a:off x="2480040" y="3351960"/>
            <a:ext cx="3021120" cy="70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 rot="2700000">
            <a:off x="2353680" y="3589200"/>
            <a:ext cx="29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5.</a:t>
            </a:r>
            <a:r>
              <a:rPr b="1" lang="zh-CN" sz="18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2" presetSubtype="9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2" presetSubtype="9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2" presetSubtype="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2" presetSubtype="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2" presetSubtype="9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2" presetSubtype="9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13"/>
          <p:cNvGrpSpPr/>
          <p:nvPr/>
        </p:nvGrpSpPr>
        <p:grpSpPr>
          <a:xfrm>
            <a:off x="2720880" y="3575160"/>
            <a:ext cx="868320" cy="549000"/>
            <a:chOff x="2720880" y="3575160"/>
            <a:chExt cx="868320" cy="549000"/>
          </a:xfrm>
        </p:grpSpPr>
        <p:sp>
          <p:nvSpPr>
            <p:cNvPr id="68" name="矩形 14"/>
            <p:cNvSpPr/>
            <p:nvPr/>
          </p:nvSpPr>
          <p:spPr>
            <a:xfrm>
              <a:off x="2729880" y="3575160"/>
              <a:ext cx="856080" cy="5216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5"/>
            <p:cNvSpPr/>
            <p:nvPr/>
          </p:nvSpPr>
          <p:spPr>
            <a:xfrm>
              <a:off x="2720880" y="4077000"/>
              <a:ext cx="868320" cy="47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6"/>
          <p:cNvGrpSpPr/>
          <p:nvPr/>
        </p:nvGrpSpPr>
        <p:grpSpPr>
          <a:xfrm>
            <a:off x="2730600" y="2544840"/>
            <a:ext cx="855720" cy="571320"/>
            <a:chOff x="2730600" y="2544840"/>
            <a:chExt cx="855720" cy="571320"/>
          </a:xfrm>
        </p:grpSpPr>
        <p:sp>
          <p:nvSpPr>
            <p:cNvPr id="71" name="矩形 17"/>
            <p:cNvSpPr/>
            <p:nvPr/>
          </p:nvSpPr>
          <p:spPr>
            <a:xfrm>
              <a:off x="2739240" y="2544840"/>
              <a:ext cx="847080" cy="5436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8"/>
            <p:cNvSpPr/>
            <p:nvPr/>
          </p:nvSpPr>
          <p:spPr>
            <a:xfrm>
              <a:off x="2730600" y="3055680"/>
              <a:ext cx="838440" cy="60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30"/>
          <p:cNvGrpSpPr/>
          <p:nvPr/>
        </p:nvGrpSpPr>
        <p:grpSpPr>
          <a:xfrm>
            <a:off x="2725560" y="4535640"/>
            <a:ext cx="854280" cy="544320"/>
            <a:chOff x="2725560" y="4535640"/>
            <a:chExt cx="854280" cy="544320"/>
          </a:xfrm>
        </p:grpSpPr>
        <p:sp>
          <p:nvSpPr>
            <p:cNvPr id="74" name="矩形 31"/>
            <p:cNvSpPr/>
            <p:nvPr/>
          </p:nvSpPr>
          <p:spPr>
            <a:xfrm>
              <a:off x="2734560" y="4535640"/>
              <a:ext cx="842760" cy="502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2"/>
            <p:cNvSpPr/>
            <p:nvPr/>
          </p:nvSpPr>
          <p:spPr>
            <a:xfrm>
              <a:off x="2725560" y="5034240"/>
              <a:ext cx="854280" cy="45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矩形 33"/>
          <p:cNvSpPr/>
          <p:nvPr/>
        </p:nvSpPr>
        <p:spPr>
          <a:xfrm>
            <a:off x="3578400" y="2563920"/>
            <a:ext cx="590868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，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4"/>
          <p:cNvSpPr/>
          <p:nvPr/>
        </p:nvSpPr>
        <p:spPr>
          <a:xfrm>
            <a:off x="3575160" y="3573360"/>
            <a:ext cx="5908680" cy="55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，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5"/>
          <p:cNvSpPr/>
          <p:nvPr/>
        </p:nvSpPr>
        <p:spPr>
          <a:xfrm>
            <a:off x="3552840" y="4530600"/>
            <a:ext cx="5908680" cy="554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，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47"/>
          <p:cNvSpPr/>
          <p:nvPr/>
        </p:nvSpPr>
        <p:spPr>
          <a:xfrm>
            <a:off x="3710520" y="18255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8"/>
          <p:cNvSpPr/>
          <p:nvPr/>
        </p:nvSpPr>
        <p:spPr>
          <a:xfrm>
            <a:off x="6603840" y="2060640"/>
            <a:ext cx="395928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9"/>
          <p:cNvSpPr/>
          <p:nvPr/>
        </p:nvSpPr>
        <p:spPr>
          <a:xfrm rot="5400000">
            <a:off x="8845560" y="3762360"/>
            <a:ext cx="341928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0"/>
          <p:cNvSpPr/>
          <p:nvPr/>
        </p:nvSpPr>
        <p:spPr>
          <a:xfrm>
            <a:off x="2100240" y="5491080"/>
            <a:ext cx="846144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1"/>
          <p:cNvSpPr/>
          <p:nvPr/>
        </p:nvSpPr>
        <p:spPr>
          <a:xfrm rot="5400000">
            <a:off x="402120" y="3786840"/>
            <a:ext cx="341928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2"/>
          <p:cNvSpPr/>
          <p:nvPr/>
        </p:nvSpPr>
        <p:spPr>
          <a:xfrm>
            <a:off x="2100240" y="2089080"/>
            <a:ext cx="7207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6"/>
          <p:cNvSpPr/>
          <p:nvPr/>
        </p:nvSpPr>
        <p:spPr>
          <a:xfrm rot="5400000">
            <a:off x="8840880" y="3787920"/>
            <a:ext cx="3419280" cy="1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2" presetSubtype="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7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7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7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2" presetSubtype="8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75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7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75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"/>
          <p:cNvSpPr/>
          <p:nvPr/>
        </p:nvSpPr>
        <p:spPr>
          <a:xfrm>
            <a:off x="5914800" y="4941720"/>
            <a:ext cx="15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口令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YANJ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719760" y="6283440"/>
            <a:ext cx="385920" cy="314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0"/>
          <p:cNvSpPr/>
          <p:nvPr/>
        </p:nvSpPr>
        <p:spPr>
          <a:xfrm>
            <a:off x="6872400" y="5299200"/>
            <a:ext cx="1241280" cy="9334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4889520" y="4656240"/>
            <a:ext cx="1397160" cy="1444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2"/>
          <p:cNvSpPr/>
          <p:nvPr/>
        </p:nvSpPr>
        <p:spPr>
          <a:xfrm>
            <a:off x="6064200" y="5173560"/>
            <a:ext cx="1184400" cy="8654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4"/>
          <p:cNvSpPr/>
          <p:nvPr/>
        </p:nvSpPr>
        <p:spPr>
          <a:xfrm>
            <a:off x="8607600" y="5192640"/>
            <a:ext cx="247320" cy="604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7916760" y="4711680"/>
            <a:ext cx="655920" cy="835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6"/>
          <p:cNvSpPr/>
          <p:nvPr/>
        </p:nvSpPr>
        <p:spPr>
          <a:xfrm>
            <a:off x="5902200" y="4632480"/>
            <a:ext cx="960480" cy="823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7"/>
          <p:cNvSpPr/>
          <p:nvPr/>
        </p:nvSpPr>
        <p:spPr>
          <a:xfrm>
            <a:off x="6719760" y="4460760"/>
            <a:ext cx="852480" cy="989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"/>
          <p:cNvSpPr/>
          <p:nvPr/>
        </p:nvSpPr>
        <p:spPr>
          <a:xfrm>
            <a:off x="7496280" y="4405320"/>
            <a:ext cx="736560" cy="1031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9"/>
          <p:cNvSpPr/>
          <p:nvPr/>
        </p:nvSpPr>
        <p:spPr>
          <a:xfrm>
            <a:off x="4962600" y="3751200"/>
            <a:ext cx="1538280" cy="1481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0"/>
          <p:cNvSpPr/>
          <p:nvPr/>
        </p:nvSpPr>
        <p:spPr>
          <a:xfrm>
            <a:off x="2097000" y="3108240"/>
            <a:ext cx="3087720" cy="18511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1"/>
          <p:cNvSpPr/>
          <p:nvPr/>
        </p:nvSpPr>
        <p:spPr>
          <a:xfrm>
            <a:off x="8170920" y="4295880"/>
            <a:ext cx="576360" cy="558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6188040" y="4089240"/>
            <a:ext cx="731880" cy="7430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3"/>
          <p:cNvSpPr/>
          <p:nvPr/>
        </p:nvSpPr>
        <p:spPr>
          <a:xfrm>
            <a:off x="6649920" y="3924360"/>
            <a:ext cx="1193760" cy="722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4"/>
          <p:cNvSpPr/>
          <p:nvPr/>
        </p:nvSpPr>
        <p:spPr>
          <a:xfrm>
            <a:off x="7632720" y="3586320"/>
            <a:ext cx="736560" cy="890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5"/>
          <p:cNvSpPr/>
          <p:nvPr/>
        </p:nvSpPr>
        <p:spPr>
          <a:xfrm>
            <a:off x="7827840" y="3465360"/>
            <a:ext cx="862200" cy="8352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26"/>
          <p:cNvSpPr/>
          <p:nvPr/>
        </p:nvSpPr>
        <p:spPr>
          <a:xfrm>
            <a:off x="6939000" y="3322800"/>
            <a:ext cx="885960" cy="8395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7"/>
          <p:cNvSpPr/>
          <p:nvPr/>
        </p:nvSpPr>
        <p:spPr>
          <a:xfrm>
            <a:off x="6238800" y="2781360"/>
            <a:ext cx="776520" cy="1376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8"/>
          <p:cNvSpPr/>
          <p:nvPr/>
        </p:nvSpPr>
        <p:spPr>
          <a:xfrm>
            <a:off x="3841920" y="2759040"/>
            <a:ext cx="1957320" cy="1393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29"/>
          <p:cNvSpPr/>
          <p:nvPr/>
        </p:nvSpPr>
        <p:spPr>
          <a:xfrm>
            <a:off x="6888240" y="2568600"/>
            <a:ext cx="538200" cy="10605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0"/>
          <p:cNvSpPr/>
          <p:nvPr/>
        </p:nvSpPr>
        <p:spPr>
          <a:xfrm>
            <a:off x="7594560" y="2944800"/>
            <a:ext cx="1013040" cy="6634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1"/>
          <p:cNvSpPr/>
          <p:nvPr/>
        </p:nvSpPr>
        <p:spPr>
          <a:xfrm>
            <a:off x="6019920" y="2844720"/>
            <a:ext cx="438120" cy="6667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2"/>
          <p:cNvSpPr/>
          <p:nvPr/>
        </p:nvSpPr>
        <p:spPr>
          <a:xfrm>
            <a:off x="7318440" y="2157480"/>
            <a:ext cx="847800" cy="11905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3"/>
          <p:cNvSpPr/>
          <p:nvPr/>
        </p:nvSpPr>
        <p:spPr>
          <a:xfrm>
            <a:off x="1781280" y="925560"/>
            <a:ext cx="3133800" cy="23511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4"/>
          <p:cNvSpPr/>
          <p:nvPr/>
        </p:nvSpPr>
        <p:spPr>
          <a:xfrm>
            <a:off x="5099040" y="268200"/>
            <a:ext cx="3454560" cy="28972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5"/>
          <p:cNvSpPr/>
          <p:nvPr/>
        </p:nvSpPr>
        <p:spPr>
          <a:xfrm>
            <a:off x="7556400" y="2454120"/>
            <a:ext cx="366840" cy="409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6"/>
          <p:cNvSpPr/>
          <p:nvPr/>
        </p:nvSpPr>
        <p:spPr>
          <a:xfrm>
            <a:off x="8015400" y="1908000"/>
            <a:ext cx="930240" cy="860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7"/>
          <p:cNvSpPr/>
          <p:nvPr/>
        </p:nvSpPr>
        <p:spPr>
          <a:xfrm>
            <a:off x="8210520" y="1432080"/>
            <a:ext cx="1327320" cy="8236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8"/>
          <p:cNvSpPr/>
          <p:nvPr/>
        </p:nvSpPr>
        <p:spPr>
          <a:xfrm>
            <a:off x="7935840" y="193680"/>
            <a:ext cx="1763640" cy="1544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9"/>
          <p:cNvSpPr/>
          <p:nvPr/>
        </p:nvSpPr>
        <p:spPr>
          <a:xfrm>
            <a:off x="4398840" y="2163600"/>
            <a:ext cx="2232000" cy="186084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75"/>
          <p:cNvGrpSpPr/>
          <p:nvPr/>
        </p:nvGrpSpPr>
        <p:grpSpPr>
          <a:xfrm>
            <a:off x="3843360" y="1419120"/>
            <a:ext cx="5070600" cy="4943520"/>
            <a:chOff x="3843360" y="1419120"/>
            <a:chExt cx="5070600" cy="4943520"/>
          </a:xfrm>
        </p:grpSpPr>
        <p:sp>
          <p:nvSpPr>
            <p:cNvPr id="118" name="Freeform 61"/>
            <p:cNvSpPr/>
            <p:nvPr/>
          </p:nvSpPr>
          <p:spPr>
            <a:xfrm>
              <a:off x="7853400" y="2718360"/>
              <a:ext cx="66240" cy="64800"/>
            </a:xfrm>
            <a:prstGeom prst="pie">
              <a:avLst/>
            </a:prstGeom>
            <a:solidFill>
              <a:srgbClr val="004b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组合 74"/>
            <p:cNvGrpSpPr/>
            <p:nvPr/>
          </p:nvGrpSpPr>
          <p:grpSpPr>
            <a:xfrm>
              <a:off x="3843360" y="1419120"/>
              <a:ext cx="5070600" cy="4943520"/>
              <a:chOff x="3843360" y="1419120"/>
              <a:chExt cx="5070600" cy="4943520"/>
            </a:xfrm>
          </p:grpSpPr>
          <p:sp>
            <p:nvSpPr>
              <p:cNvPr id="120" name="Freeform 42"/>
              <p:cNvSpPr/>
              <p:nvPr/>
            </p:nvSpPr>
            <p:spPr>
              <a:xfrm>
                <a:off x="5950800" y="4353120"/>
                <a:ext cx="63000" cy="64800"/>
              </a:xfrm>
              <a:prstGeom prst="pi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73"/>
              <p:cNvGrpSpPr/>
              <p:nvPr/>
            </p:nvGrpSpPr>
            <p:grpSpPr>
              <a:xfrm>
                <a:off x="3843360" y="1419120"/>
                <a:ext cx="5070600" cy="4943520"/>
                <a:chOff x="3843360" y="1419120"/>
                <a:chExt cx="5070600" cy="4943520"/>
              </a:xfrm>
            </p:grpSpPr>
            <p:sp>
              <p:nvSpPr>
                <p:cNvPr id="122" name="Freeform 57"/>
                <p:cNvSpPr/>
                <p:nvPr/>
              </p:nvSpPr>
              <p:spPr>
                <a:xfrm>
                  <a:off x="7463880" y="2932560"/>
                  <a:ext cx="63000" cy="64800"/>
                </a:xfrm>
                <a:prstGeom prst="pi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8"/>
                <p:cNvSpPr/>
                <p:nvPr/>
              </p:nvSpPr>
              <p:spPr>
                <a:xfrm>
                  <a:off x="7875720" y="3183840"/>
                  <a:ext cx="63000" cy="64800"/>
                </a:xfrm>
                <a:prstGeom prst="pi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组合 67"/>
                <p:cNvGrpSpPr/>
                <p:nvPr/>
              </p:nvGrpSpPr>
              <p:grpSpPr>
                <a:xfrm>
                  <a:off x="3843360" y="1419120"/>
                  <a:ext cx="5070600" cy="4943520"/>
                  <a:chOff x="3843360" y="1419120"/>
                  <a:chExt cx="5070600" cy="4943520"/>
                </a:xfrm>
              </p:grpSpPr>
              <p:sp>
                <p:nvSpPr>
                  <p:cNvPr id="125" name="Freeform 71"/>
                  <p:cNvSpPr/>
                  <p:nvPr/>
                </p:nvSpPr>
                <p:spPr>
                  <a:xfrm>
                    <a:off x="7638120" y="2526120"/>
                    <a:ext cx="123120" cy="117720"/>
                  </a:xfrm>
                  <a:prstGeom prst="pie">
                    <a:avLst/>
                  </a:prstGeom>
                  <a:solidFill>
                    <a:srgbClr val="d517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" name="组合 11"/>
                  <p:cNvGrpSpPr/>
                  <p:nvPr/>
                </p:nvGrpSpPr>
                <p:grpSpPr>
                  <a:xfrm>
                    <a:off x="3843360" y="1419120"/>
                    <a:ext cx="5070600" cy="4943520"/>
                    <a:chOff x="3843360" y="1419120"/>
                    <a:chExt cx="5070600" cy="4943520"/>
                  </a:xfrm>
                </p:grpSpPr>
                <p:sp>
                  <p:nvSpPr>
                    <p:cNvPr id="127" name="Freeform 62"/>
                    <p:cNvSpPr/>
                    <p:nvPr/>
                  </p:nvSpPr>
                  <p:spPr>
                    <a:xfrm>
                      <a:off x="8600760" y="2129040"/>
                      <a:ext cx="66240" cy="61920"/>
                    </a:xfrm>
                    <a:prstGeom prst="pi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63"/>
                    <p:cNvSpPr/>
                    <p:nvPr/>
                  </p:nvSpPr>
                  <p:spPr>
                    <a:xfrm>
                      <a:off x="8765280" y="1753920"/>
                      <a:ext cx="63000" cy="64800"/>
                    </a:xfrm>
                    <a:prstGeom prst="pi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Freeform 64"/>
                    <p:cNvSpPr/>
                    <p:nvPr/>
                  </p:nvSpPr>
                  <p:spPr>
                    <a:xfrm>
                      <a:off x="8850960" y="1419120"/>
                      <a:ext cx="63000" cy="64800"/>
                    </a:xfrm>
                    <a:prstGeom prst="pie">
                      <a:avLst/>
                    </a:prstGeom>
                    <a:solidFill>
                      <a:srgbClr val="c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30" name="组合 7"/>
                    <p:cNvGrpSpPr/>
                    <p:nvPr/>
                  </p:nvGrpSpPr>
                  <p:grpSpPr>
                    <a:xfrm>
                      <a:off x="3843360" y="1809720"/>
                      <a:ext cx="5052960" cy="4552920"/>
                      <a:chOff x="3843360" y="1809720"/>
                      <a:chExt cx="5052960" cy="4552920"/>
                    </a:xfrm>
                  </p:grpSpPr>
                  <p:sp>
                    <p:nvSpPr>
                      <p:cNvPr id="131" name="Freeform 45"/>
                      <p:cNvSpPr/>
                      <p:nvPr/>
                    </p:nvSpPr>
                    <p:spPr>
                      <a:xfrm>
                        <a:off x="6689520" y="575496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Freeform 47"/>
                      <p:cNvSpPr/>
                      <p:nvPr/>
                    </p:nvSpPr>
                    <p:spPr>
                      <a:xfrm>
                        <a:off x="7382880" y="475632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Freeform 48"/>
                      <p:cNvSpPr/>
                      <p:nvPr/>
                    </p:nvSpPr>
                    <p:spPr>
                      <a:xfrm>
                        <a:off x="7544520" y="564012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Freeform 49"/>
                      <p:cNvSpPr/>
                      <p:nvPr/>
                    </p:nvSpPr>
                    <p:spPr>
                      <a:xfrm>
                        <a:off x="7876800" y="465372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Freeform 50"/>
                      <p:cNvSpPr/>
                      <p:nvPr/>
                    </p:nvSpPr>
                    <p:spPr>
                      <a:xfrm>
                        <a:off x="8447040" y="504756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Freeform 51"/>
                      <p:cNvSpPr/>
                      <p:nvPr/>
                    </p:nvSpPr>
                    <p:spPr>
                      <a:xfrm>
                        <a:off x="8463240" y="4358160"/>
                        <a:ext cx="66240" cy="6480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" name="Freeform 52"/>
                      <p:cNvSpPr/>
                      <p:nvPr/>
                    </p:nvSpPr>
                    <p:spPr>
                      <a:xfrm>
                        <a:off x="7999200" y="402408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Freeform 53"/>
                      <p:cNvSpPr/>
                      <p:nvPr/>
                    </p:nvSpPr>
                    <p:spPr>
                      <a:xfrm>
                        <a:off x="8281080" y="402408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Freeform 54"/>
                      <p:cNvSpPr/>
                      <p:nvPr/>
                    </p:nvSpPr>
                    <p:spPr>
                      <a:xfrm>
                        <a:off x="7375680" y="3586680"/>
                        <a:ext cx="63000" cy="6480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0" name="Freeform 66"/>
                      <p:cNvSpPr/>
                      <p:nvPr/>
                    </p:nvSpPr>
                    <p:spPr>
                      <a:xfrm>
                        <a:off x="6970320" y="630072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1" name="Freeform 67"/>
                      <p:cNvSpPr/>
                      <p:nvPr/>
                    </p:nvSpPr>
                    <p:spPr>
                      <a:xfrm>
                        <a:off x="7656120" y="5820120"/>
                        <a:ext cx="6624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Freeform 68"/>
                      <p:cNvSpPr/>
                      <p:nvPr/>
                    </p:nvSpPr>
                    <p:spPr>
                      <a:xfrm>
                        <a:off x="8833320" y="520884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" name="Freeform 70"/>
                      <p:cNvSpPr/>
                      <p:nvPr/>
                    </p:nvSpPr>
                    <p:spPr>
                      <a:xfrm>
                        <a:off x="7598520" y="4331160"/>
                        <a:ext cx="6624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4" name="Freeform 72"/>
                      <p:cNvSpPr/>
                      <p:nvPr/>
                    </p:nvSpPr>
                    <p:spPr>
                      <a:xfrm>
                        <a:off x="7446240" y="5854320"/>
                        <a:ext cx="66240" cy="6480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5" name="组合 4"/>
                      <p:cNvGrpSpPr/>
                      <p:nvPr/>
                    </p:nvGrpSpPr>
                    <p:grpSpPr>
                      <a:xfrm>
                        <a:off x="3843360" y="1809720"/>
                        <a:ext cx="3429000" cy="3619440"/>
                        <a:chOff x="3843360" y="1809720"/>
                        <a:chExt cx="3429000" cy="3619440"/>
                      </a:xfrm>
                    </p:grpSpPr>
                    <p:sp>
                      <p:nvSpPr>
                        <p:cNvPr id="146" name="Freeform 43"/>
                        <p:cNvSpPr/>
                        <p:nvPr/>
                      </p:nvSpPr>
                      <p:spPr>
                        <a:xfrm>
                          <a:off x="5736600" y="5367240"/>
                          <a:ext cx="6624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Freeform 46"/>
                        <p:cNvSpPr/>
                        <p:nvPr/>
                      </p:nvSpPr>
                      <p:spPr>
                        <a:xfrm>
                          <a:off x="6420600" y="5094360"/>
                          <a:ext cx="66240" cy="6480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Freeform 55"/>
                        <p:cNvSpPr/>
                        <p:nvPr/>
                      </p:nvSpPr>
                      <p:spPr>
                        <a:xfrm>
                          <a:off x="6702480" y="3704760"/>
                          <a:ext cx="6624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Freeform 56"/>
                        <p:cNvSpPr/>
                        <p:nvPr/>
                      </p:nvSpPr>
                      <p:spPr>
                        <a:xfrm>
                          <a:off x="7209360" y="3025440"/>
                          <a:ext cx="6300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Freeform 59"/>
                        <p:cNvSpPr/>
                        <p:nvPr/>
                      </p:nvSpPr>
                      <p:spPr>
                        <a:xfrm>
                          <a:off x="6294240" y="2923200"/>
                          <a:ext cx="6300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Freeform 60"/>
                        <p:cNvSpPr/>
                        <p:nvPr/>
                      </p:nvSpPr>
                      <p:spPr>
                        <a:xfrm>
                          <a:off x="7041240" y="2507400"/>
                          <a:ext cx="6300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2" name="组合 1"/>
                        <p:cNvGrpSpPr/>
                        <p:nvPr/>
                      </p:nvGrpSpPr>
                      <p:grpSpPr>
                        <a:xfrm>
                          <a:off x="3843360" y="1809720"/>
                          <a:ext cx="2187720" cy="2595960"/>
                          <a:chOff x="3843360" y="1809720"/>
                          <a:chExt cx="2187720" cy="2595960"/>
                        </a:xfrm>
                      </p:grpSpPr>
                      <p:sp>
                        <p:nvSpPr>
                          <p:cNvPr id="153" name="Freeform 40"/>
                          <p:cNvSpPr/>
                          <p:nvPr/>
                        </p:nvSpPr>
                        <p:spPr>
                          <a:xfrm>
                            <a:off x="3843360" y="1809720"/>
                            <a:ext cx="78840" cy="80640"/>
                          </a:xfrm>
                          <a:prstGeom prst="pie">
                            <a:avLst/>
                          </a:prstGeom>
                          <a:solidFill>
                            <a:srgbClr val="c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4200" bIns="342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4" name="Freeform 41"/>
                          <p:cNvSpPr/>
                          <p:nvPr/>
                        </p:nvSpPr>
                        <p:spPr>
                          <a:xfrm>
                            <a:off x="5626080" y="3298320"/>
                            <a:ext cx="78840" cy="80640"/>
                          </a:xfrm>
                          <a:prstGeom prst="pie">
                            <a:avLst/>
                          </a:prstGeom>
                          <a:solidFill>
                            <a:srgbClr val="c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4200" bIns="342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5" name="Freeform 44"/>
                          <p:cNvSpPr/>
                          <p:nvPr/>
                        </p:nvSpPr>
                        <p:spPr>
                          <a:xfrm>
                            <a:off x="3982680" y="4343760"/>
                            <a:ext cx="63000" cy="61920"/>
                          </a:xfrm>
                          <a:prstGeom prst="pie">
                            <a:avLst/>
                          </a:prstGeom>
                          <a:solidFill>
                            <a:srgbClr val="c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480" bIns="1548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56" name="Freeform 65"/>
                          <p:cNvSpPr/>
                          <p:nvPr/>
                        </p:nvSpPr>
                        <p:spPr>
                          <a:xfrm>
                            <a:off x="5949000" y="3428640"/>
                            <a:ext cx="82080" cy="80640"/>
                          </a:xfrm>
                          <a:prstGeom prst="pie">
                            <a:avLst/>
                          </a:prstGeom>
                          <a:solidFill>
                            <a:srgbClr val="c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4200" bIns="34200" anchor="t">
                            <a:no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7" name="Freeform 73"/>
                        <p:cNvSpPr/>
                        <p:nvPr/>
                      </p:nvSpPr>
                      <p:spPr>
                        <a:xfrm>
                          <a:off x="6370200" y="4501800"/>
                          <a:ext cx="63000" cy="61920"/>
                        </a:xfrm>
                        <a:prstGeom prst="pie">
                          <a:avLst/>
                        </a:prstGeom>
                        <a:solidFill>
                          <a:srgbClr val="c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480" bIns="15480" anchor="t">
                          <a:no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58" name="Freeform 53"/>
                      <p:cNvSpPr/>
                      <p:nvPr/>
                    </p:nvSpPr>
                    <p:spPr>
                      <a:xfrm>
                        <a:off x="8606520" y="4105800"/>
                        <a:ext cx="63000" cy="61920"/>
                      </a:xfrm>
                      <a:prstGeom prst="pie">
                        <a:avLst/>
                      </a:prstGeom>
                      <a:solidFill>
                        <a:srgbClr val="c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480" bIns="154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59" name="矩形 76"/>
          <p:cNvSpPr/>
          <p:nvPr/>
        </p:nvSpPr>
        <p:spPr>
          <a:xfrm>
            <a:off x="-654120" y="4791240"/>
            <a:ext cx="1324944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5"/>
          <p:cNvSpPr/>
          <p:nvPr/>
        </p:nvSpPr>
        <p:spPr>
          <a:xfrm>
            <a:off x="155520" y="4724280"/>
            <a:ext cx="121363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，填写你所需要的内容。填写你所需要的内容，填写你所需要的内容。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7"/>
          <p:cNvSpPr/>
          <p:nvPr/>
        </p:nvSpPr>
        <p:spPr>
          <a:xfrm>
            <a:off x="-668160" y="4653000"/>
            <a:ext cx="13247640" cy="36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8"/>
          <p:cNvSpPr/>
          <p:nvPr/>
        </p:nvSpPr>
        <p:spPr>
          <a:xfrm>
            <a:off x="-596880" y="5769000"/>
            <a:ext cx="13249080" cy="36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254" dur="1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256" dur="200" fill="hold"/>
                                        <p:tgtEl>
                                          <p:spTgt spid="11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258" dur="1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60" dur="200" fill="hold"/>
                                        <p:tgtEl>
                                          <p:spTgt spid="11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6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6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3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19"/>
          <p:cNvSpPr/>
          <p:nvPr/>
        </p:nvSpPr>
        <p:spPr>
          <a:xfrm rot="2700000">
            <a:off x="4487760" y="1345680"/>
            <a:ext cx="3021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0"/>
          <p:cNvSpPr/>
          <p:nvPr/>
        </p:nvSpPr>
        <p:spPr>
          <a:xfrm rot="2700000">
            <a:off x="6110640" y="3969360"/>
            <a:ext cx="302112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1"/>
          <p:cNvSpPr/>
          <p:nvPr/>
        </p:nvSpPr>
        <p:spPr>
          <a:xfrm rot="2700000">
            <a:off x="7110720" y="2964600"/>
            <a:ext cx="302112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2"/>
          <p:cNvSpPr/>
          <p:nvPr/>
        </p:nvSpPr>
        <p:spPr>
          <a:xfrm rot="2700000">
            <a:off x="3477960" y="2351160"/>
            <a:ext cx="302076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 rot="2700000">
            <a:off x="4440600" y="1562040"/>
            <a:ext cx="29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 rot="2700000">
            <a:off x="3365640" y="263736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 rot="2700000">
            <a:off x="6071040" y="4300200"/>
            <a:ext cx="29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 rot="2700000">
            <a:off x="7097040" y="3295800"/>
            <a:ext cx="29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27"/>
          <p:cNvSpPr/>
          <p:nvPr/>
        </p:nvSpPr>
        <p:spPr>
          <a:xfrm flipV="1">
            <a:off x="2643120" y="0"/>
            <a:ext cx="7174080" cy="717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 rot="2700000">
            <a:off x="9039240" y="8694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 rot="2700000">
            <a:off x="8782560" y="118980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 rot="2700000">
            <a:off x="2480040" y="3351960"/>
            <a:ext cx="3021120" cy="70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 rot="2700000">
            <a:off x="2352960" y="360432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5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" presetSubtype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" presetSubtype="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" presetSubtype="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" presetSubtype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xit" presetID="2" presetSubtype="6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2" presetSubtype="6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xit" presetID="2" presetSubtype="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2" presetSubtype="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2" presetSubtype="9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2" presetSubtype="9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4"/>
          <p:cNvSpPr/>
          <p:nvPr/>
        </p:nvSpPr>
        <p:spPr>
          <a:xfrm>
            <a:off x="5621400" y="1854360"/>
            <a:ext cx="43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。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223960" y="2280960"/>
            <a:ext cx="2160" cy="3600360"/>
            <a:chOff x="5223960" y="2280960"/>
            <a:chExt cx="2160" cy="3600360"/>
          </a:xfrm>
        </p:grpSpPr>
        <p:sp>
          <p:nvSpPr>
            <p:cNvPr id="179" name="Line 2"/>
            <p:cNvSpPr/>
            <p:nvPr/>
          </p:nvSpPr>
          <p:spPr>
            <a:xfrm flipV="1">
              <a:off x="5224320" y="2280960"/>
              <a:ext cx="1800" cy="360036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 rot="10800000">
              <a:off x="5223960" y="2280960"/>
              <a:ext cx="1800" cy="36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0" y="5270400"/>
            <a:ext cx="1384200" cy="3240"/>
            <a:chOff x="0" y="5270400"/>
            <a:chExt cx="1384200" cy="3240"/>
          </a:xfrm>
        </p:grpSpPr>
        <p:sp>
          <p:nvSpPr>
            <p:cNvPr id="182" name="Line 3"/>
            <p:cNvSpPr/>
            <p:nvPr/>
          </p:nvSpPr>
          <p:spPr>
            <a:xfrm>
              <a:off x="0" y="5270400"/>
              <a:ext cx="1384200" cy="324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0" y="5270400"/>
              <a:ext cx="138420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Freeform 4"/>
          <p:cNvSpPr/>
          <p:nvPr/>
        </p:nvSpPr>
        <p:spPr>
          <a:xfrm>
            <a:off x="1366920" y="3743280"/>
            <a:ext cx="201600" cy="170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374480" y="3706920"/>
            <a:ext cx="200160" cy="1584360"/>
            <a:chOff x="1374480" y="3706920"/>
            <a:chExt cx="200160" cy="1584360"/>
          </a:xfrm>
        </p:grpSpPr>
        <p:sp>
          <p:nvSpPr>
            <p:cNvPr id="186" name="Line 5"/>
            <p:cNvSpPr/>
            <p:nvPr/>
          </p:nvSpPr>
          <p:spPr>
            <a:xfrm flipH="1">
              <a:off x="1374480" y="3706920"/>
              <a:ext cx="199800" cy="158436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374840" y="3706920"/>
              <a:ext cx="19980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Freeform 6"/>
          <p:cNvSpPr/>
          <p:nvPr/>
        </p:nvSpPr>
        <p:spPr>
          <a:xfrm>
            <a:off x="2717640" y="3468600"/>
            <a:ext cx="7920" cy="2408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587680" y="3468600"/>
            <a:ext cx="7920" cy="2408400"/>
            <a:chOff x="2587680" y="3468600"/>
            <a:chExt cx="7920" cy="2408400"/>
          </a:xfrm>
        </p:grpSpPr>
        <p:sp>
          <p:nvSpPr>
            <p:cNvPr id="190" name="Line 7"/>
            <p:cNvSpPr/>
            <p:nvPr/>
          </p:nvSpPr>
          <p:spPr>
            <a:xfrm>
              <a:off x="2587680" y="3468600"/>
              <a:ext cx="7920" cy="240840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587680" y="3468600"/>
              <a:ext cx="7920" cy="240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74720" y="3890880"/>
            <a:ext cx="1440" cy="1800"/>
            <a:chOff x="774720" y="3890880"/>
            <a:chExt cx="1440" cy="1800"/>
          </a:xfrm>
        </p:grpSpPr>
        <p:sp>
          <p:nvSpPr>
            <p:cNvPr id="193" name="Line 22"/>
            <p:cNvSpPr/>
            <p:nvPr/>
          </p:nvSpPr>
          <p:spPr>
            <a:xfrm>
              <a:off x="774720" y="389088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774720" y="3890880"/>
              <a:ext cx="1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741840" y="1266840"/>
            <a:ext cx="1440" cy="1440"/>
            <a:chOff x="3741840" y="1266840"/>
            <a:chExt cx="1440" cy="1440"/>
          </a:xfrm>
        </p:grpSpPr>
        <p:sp>
          <p:nvSpPr>
            <p:cNvPr id="196" name="Line 23"/>
            <p:cNvSpPr/>
            <p:nvPr/>
          </p:nvSpPr>
          <p:spPr>
            <a:xfrm>
              <a:off x="3741840" y="1266840"/>
              <a:ext cx="1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3741840" y="126684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Freeform 24"/>
          <p:cNvSpPr/>
          <p:nvPr/>
        </p:nvSpPr>
        <p:spPr>
          <a:xfrm>
            <a:off x="606600" y="3703680"/>
            <a:ext cx="981000" cy="2649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5"/>
          <p:cNvSpPr/>
          <p:nvPr/>
        </p:nvSpPr>
        <p:spPr>
          <a:xfrm>
            <a:off x="1555920" y="3332160"/>
            <a:ext cx="1566720" cy="41292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6"/>
          <p:cNvSpPr/>
          <p:nvPr/>
        </p:nvSpPr>
        <p:spPr>
          <a:xfrm>
            <a:off x="712800" y="1314360"/>
            <a:ext cx="2541600" cy="112716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7"/>
          <p:cNvSpPr/>
          <p:nvPr/>
        </p:nvSpPr>
        <p:spPr>
          <a:xfrm>
            <a:off x="390600" y="2424240"/>
            <a:ext cx="325440" cy="158724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8"/>
          <p:cNvSpPr/>
          <p:nvPr/>
        </p:nvSpPr>
        <p:spPr>
          <a:xfrm>
            <a:off x="3125880" y="1322280"/>
            <a:ext cx="1307880" cy="2038320"/>
          </a:xfrm>
          <a:prstGeom prst="pie">
            <a:avLst/>
          </a:prstGeom>
          <a:solidFill>
            <a:srgbClr val="ffffff"/>
          </a:solidFill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581200" y="5873760"/>
            <a:ext cx="2658960" cy="6480"/>
            <a:chOff x="2581200" y="5873760"/>
            <a:chExt cx="2658960" cy="6480"/>
          </a:xfrm>
        </p:grpSpPr>
        <p:sp>
          <p:nvSpPr>
            <p:cNvPr id="204" name="Line 39"/>
            <p:cNvSpPr/>
            <p:nvPr/>
          </p:nvSpPr>
          <p:spPr>
            <a:xfrm>
              <a:off x="2581200" y="5873760"/>
              <a:ext cx="2658960" cy="6480"/>
            </a:xfrm>
            <a:prstGeom prst="line">
              <a:avLst/>
            </a:prstGeom>
            <a:ln w="33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2581200" y="5873760"/>
              <a:ext cx="265896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40"/>
          <p:cNvSpPr/>
          <p:nvPr/>
        </p:nvSpPr>
        <p:spPr>
          <a:xfrm>
            <a:off x="5621400" y="3897360"/>
            <a:ext cx="4078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。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1"/>
          <p:cNvSpPr/>
          <p:nvPr/>
        </p:nvSpPr>
        <p:spPr>
          <a:xfrm>
            <a:off x="5621400" y="4940280"/>
            <a:ext cx="5734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。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2"/>
          <p:cNvSpPr/>
          <p:nvPr/>
        </p:nvSpPr>
        <p:spPr>
          <a:xfrm>
            <a:off x="5621400" y="2744640"/>
            <a:ext cx="4365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填写你所需要的内容。填写你所需要的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24"/>
          <p:cNvSpPr/>
          <p:nvPr/>
        </p:nvSpPr>
        <p:spPr>
          <a:xfrm rot="20352000">
            <a:off x="623160" y="2186640"/>
            <a:ext cx="371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赚百万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是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1"/>
          <p:cNvSpPr/>
          <p:nvPr/>
        </p:nvSpPr>
        <p:spPr>
          <a:xfrm rot="2625000">
            <a:off x="5028840" y="1261800"/>
            <a:ext cx="411120" cy="40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4879800" y="1643040"/>
            <a:ext cx="695520" cy="698400"/>
          </a:xfrm>
          <a:prstGeom prst="ellipse">
            <a:avLst/>
          </a:prstGeom>
          <a:solidFill>
            <a:srgbClr val="4f81bd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五角星 17"/>
          <p:cNvSpPr/>
          <p:nvPr/>
        </p:nvSpPr>
        <p:spPr>
          <a:xfrm>
            <a:off x="5046840" y="1790640"/>
            <a:ext cx="387000" cy="38736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3"/>
          <p:cNvSpPr/>
          <p:nvPr/>
        </p:nvSpPr>
        <p:spPr>
          <a:xfrm>
            <a:off x="4878360" y="2673360"/>
            <a:ext cx="695520" cy="676440"/>
          </a:xfrm>
          <a:prstGeom prst="ellipse">
            <a:avLst/>
          </a:prstGeom>
          <a:solidFill>
            <a:srgbClr val="4f81bd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五角星 17"/>
          <p:cNvSpPr/>
          <p:nvPr/>
        </p:nvSpPr>
        <p:spPr>
          <a:xfrm>
            <a:off x="5045040" y="2841480"/>
            <a:ext cx="387360" cy="37476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6"/>
          <p:cNvSpPr/>
          <p:nvPr/>
        </p:nvSpPr>
        <p:spPr>
          <a:xfrm>
            <a:off x="4878360" y="3728880"/>
            <a:ext cx="695520" cy="698760"/>
          </a:xfrm>
          <a:prstGeom prst="ellipse">
            <a:avLst/>
          </a:prstGeom>
          <a:solidFill>
            <a:srgbClr val="4f81bd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五角星 17"/>
          <p:cNvSpPr/>
          <p:nvPr/>
        </p:nvSpPr>
        <p:spPr>
          <a:xfrm>
            <a:off x="5041800" y="3879720"/>
            <a:ext cx="385920" cy="38592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0"/>
          <p:cNvSpPr/>
          <p:nvPr/>
        </p:nvSpPr>
        <p:spPr>
          <a:xfrm>
            <a:off x="4878360" y="4807080"/>
            <a:ext cx="695520" cy="695160"/>
          </a:xfrm>
          <a:prstGeom prst="ellipse">
            <a:avLst/>
          </a:prstGeom>
          <a:solidFill>
            <a:srgbClr val="4f81bd"/>
          </a:solidFill>
          <a:ln w="33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五角星 17"/>
          <p:cNvSpPr/>
          <p:nvPr/>
        </p:nvSpPr>
        <p:spPr>
          <a:xfrm>
            <a:off x="5041800" y="4960800"/>
            <a:ext cx="385920" cy="387360"/>
          </a:xfrm>
          <a:prstGeom prst="star5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4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4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2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417" dur="1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419" dur="200" fill="hold"/>
                                        <p:tgtEl>
                                          <p:spTgt spid="21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421" dur="1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423" dur="200" fill="hold"/>
                                        <p:tgtEl>
                                          <p:spTgt spid="21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2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6">
                                  <p:stCondLst>
                                    <p:cond delay="3900"/>
                                  </p:stCondLst>
                                  <p:childTnLst>
                                    <p:animScale>
                                      <p:cBhvr>
                                        <p:cTn id="434" dur="1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36" dur="200" fill="hold"/>
                                        <p:tgtEl>
                                          <p:spTgt spid="21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438" dur="1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440" dur="200" fill="hold"/>
                                        <p:tgtEl>
                                          <p:spTgt spid="21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6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4" dur="6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2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mph" presetID="6">
                                  <p:stCondLst>
                                    <p:cond delay="4600"/>
                                  </p:stCondLst>
                                  <p:childTnLst>
                                    <p:animScale>
                                      <p:cBhvr>
                                        <p:cTn id="451" dur="1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mph" presetID="6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453" dur="200" fill="hold"/>
                                        <p:tgtEl>
                                          <p:spTgt spid="21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455" dur="100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457" dur="200" fill="hold"/>
                                        <p:tgtEl>
                                          <p:spTgt spid="21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1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7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7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10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6" dur="2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mph" presetID="6">
                                  <p:stCondLst>
                                    <p:cond delay="5300"/>
                                  </p:stCondLst>
                                  <p:childTnLst>
                                    <p:animScale>
                                      <p:cBhvr>
                                        <p:cTn id="468" dur="1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mph" presetID="6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470" dur="200" fill="hold"/>
                                        <p:tgtEl>
                                          <p:spTgt spid="21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mph" presetID="6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472" dur="1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mph" presetID="6">
                                  <p:stCondLst>
                                    <p:cond delay="5700"/>
                                  </p:stCondLst>
                                  <p:childTnLst>
                                    <p:animScale>
                                      <p:cBhvr>
                                        <p:cTn id="474" dur="200" fill="hold"/>
                                        <p:tgtEl>
                                          <p:spTgt spid="21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8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8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9"/>
          <p:cNvSpPr/>
          <p:nvPr/>
        </p:nvSpPr>
        <p:spPr>
          <a:xfrm rot="2700000">
            <a:off x="4495320" y="1332000"/>
            <a:ext cx="302256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0"/>
          <p:cNvSpPr/>
          <p:nvPr/>
        </p:nvSpPr>
        <p:spPr>
          <a:xfrm rot="2700000">
            <a:off x="6150960" y="3954600"/>
            <a:ext cx="3022560" cy="70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1"/>
          <p:cNvSpPr/>
          <p:nvPr/>
        </p:nvSpPr>
        <p:spPr>
          <a:xfrm rot="2700000">
            <a:off x="7161120" y="2949120"/>
            <a:ext cx="302112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2"/>
          <p:cNvSpPr/>
          <p:nvPr/>
        </p:nvSpPr>
        <p:spPr>
          <a:xfrm rot="2700000">
            <a:off x="3500640" y="2321640"/>
            <a:ext cx="30211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 rot="2700000">
            <a:off x="4410720" y="154620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7"/>
          <p:cNvSpPr/>
          <p:nvPr/>
        </p:nvSpPr>
        <p:spPr>
          <a:xfrm rot="2700000">
            <a:off x="3479760" y="2506680"/>
            <a:ext cx="29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 rot="2700000">
            <a:off x="6091200" y="4262760"/>
            <a:ext cx="29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9"/>
          <p:cNvSpPr/>
          <p:nvPr/>
        </p:nvSpPr>
        <p:spPr>
          <a:xfrm rot="2700000">
            <a:off x="7093080" y="3279960"/>
            <a:ext cx="29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7"/>
          <p:cNvSpPr/>
          <p:nvPr/>
        </p:nvSpPr>
        <p:spPr>
          <a:xfrm flipV="1">
            <a:off x="2643120" y="0"/>
            <a:ext cx="7174080" cy="717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6"/>
          <p:cNvSpPr/>
          <p:nvPr/>
        </p:nvSpPr>
        <p:spPr>
          <a:xfrm rot="2700000">
            <a:off x="9039240" y="869400"/>
            <a:ext cx="12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7"/>
          <p:cNvSpPr/>
          <p:nvPr/>
        </p:nvSpPr>
        <p:spPr>
          <a:xfrm rot="2700000">
            <a:off x="8782560" y="1189800"/>
            <a:ext cx="15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6"/>
          <p:cNvSpPr/>
          <p:nvPr/>
        </p:nvSpPr>
        <p:spPr>
          <a:xfrm rot="2700000">
            <a:off x="2520360" y="3313440"/>
            <a:ext cx="3021120" cy="70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 rot="2700000">
            <a:off x="2666880" y="3567240"/>
            <a:ext cx="29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5.</a:t>
            </a:r>
            <a:r>
              <a:rPr b="1" lang="zh-CN" sz="1600" spc="-1" strike="noStrike">
                <a:solidFill>
                  <a:srgbClr val="004b9d"/>
                </a:solidFill>
                <a:latin typeface="微软雅黑"/>
                <a:ea typeface="微软雅黑"/>
              </a:rPr>
              <a:t>填写你所需要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" presetSubtype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" presetSubtype="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" presetSubtype="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" presetSubtype="9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2" presetSubtype="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2" presetSubtype="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" presetSubtype="9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xit" presetID="2" presetSubtype="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xit" presetID="2" presetSubtype="9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xit" presetID="2" presetSubtype="12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" presetSubtype="9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xit" presetID="2" presetSubtype="9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4"/>
          <p:cNvSpPr/>
          <p:nvPr/>
        </p:nvSpPr>
        <p:spPr>
          <a:xfrm>
            <a:off x="4587840" y="9460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卓宝的品牌优势和政策优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31"/>
          <p:cNvGrpSpPr/>
          <p:nvPr/>
        </p:nvGrpSpPr>
        <p:grpSpPr>
          <a:xfrm>
            <a:off x="4734000" y="1623960"/>
            <a:ext cx="1603440" cy="337320"/>
            <a:chOff x="4734000" y="1623960"/>
            <a:chExt cx="1603440" cy="337320"/>
          </a:xfrm>
        </p:grpSpPr>
        <p:sp>
          <p:nvSpPr>
            <p:cNvPr id="234" name="矩形 8"/>
            <p:cNvSpPr/>
            <p:nvPr/>
          </p:nvSpPr>
          <p:spPr>
            <a:xfrm>
              <a:off x="4734000" y="1652760"/>
              <a:ext cx="1603440" cy="2804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25"/>
            <p:cNvSpPr/>
            <p:nvPr/>
          </p:nvSpPr>
          <p:spPr>
            <a:xfrm>
              <a:off x="5009760" y="162396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文本框 25"/>
          <p:cNvSpPr/>
          <p:nvPr/>
        </p:nvSpPr>
        <p:spPr>
          <a:xfrm>
            <a:off x="6823440" y="192096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32"/>
          <p:cNvGrpSpPr/>
          <p:nvPr/>
        </p:nvGrpSpPr>
        <p:grpSpPr>
          <a:xfrm>
            <a:off x="4734000" y="2347920"/>
            <a:ext cx="1603440" cy="337320"/>
            <a:chOff x="4734000" y="2347920"/>
            <a:chExt cx="1603440" cy="337320"/>
          </a:xfrm>
        </p:grpSpPr>
        <p:sp>
          <p:nvSpPr>
            <p:cNvPr id="238" name="矩形 8"/>
            <p:cNvSpPr/>
            <p:nvPr/>
          </p:nvSpPr>
          <p:spPr>
            <a:xfrm>
              <a:off x="4734000" y="2376720"/>
              <a:ext cx="1603440" cy="280440"/>
            </a:xfrm>
            <a:prstGeom prst="rect">
              <a:avLst/>
            </a:prstGeom>
            <a:solidFill>
              <a:srgbClr val="093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25"/>
            <p:cNvSpPr/>
            <p:nvPr/>
          </p:nvSpPr>
          <p:spPr>
            <a:xfrm>
              <a:off x="5009760" y="234792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文本框 25"/>
          <p:cNvSpPr/>
          <p:nvPr/>
        </p:nvSpPr>
        <p:spPr>
          <a:xfrm>
            <a:off x="6823440" y="265752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36"/>
          <p:cNvGrpSpPr/>
          <p:nvPr/>
        </p:nvGrpSpPr>
        <p:grpSpPr>
          <a:xfrm>
            <a:off x="4734000" y="3038400"/>
            <a:ext cx="1738080" cy="337320"/>
            <a:chOff x="4734000" y="3038400"/>
            <a:chExt cx="1738080" cy="337320"/>
          </a:xfrm>
        </p:grpSpPr>
        <p:sp>
          <p:nvSpPr>
            <p:cNvPr id="242" name="矩形 8"/>
            <p:cNvSpPr/>
            <p:nvPr/>
          </p:nvSpPr>
          <p:spPr>
            <a:xfrm>
              <a:off x="4735080" y="3071160"/>
              <a:ext cx="1703880" cy="287640"/>
            </a:xfrm>
            <a:prstGeom prst="rect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25"/>
            <p:cNvSpPr/>
            <p:nvPr/>
          </p:nvSpPr>
          <p:spPr>
            <a:xfrm>
              <a:off x="4734000" y="3038400"/>
              <a:ext cx="17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文本框 25"/>
          <p:cNvSpPr/>
          <p:nvPr/>
        </p:nvSpPr>
        <p:spPr>
          <a:xfrm>
            <a:off x="6823440" y="339408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40"/>
          <p:cNvGrpSpPr/>
          <p:nvPr/>
        </p:nvGrpSpPr>
        <p:grpSpPr>
          <a:xfrm>
            <a:off x="4734000" y="3822840"/>
            <a:ext cx="1603440" cy="337320"/>
            <a:chOff x="4734000" y="3822840"/>
            <a:chExt cx="1603440" cy="337320"/>
          </a:xfrm>
        </p:grpSpPr>
        <p:sp>
          <p:nvSpPr>
            <p:cNvPr id="246" name="矩形 8"/>
            <p:cNvSpPr/>
            <p:nvPr/>
          </p:nvSpPr>
          <p:spPr>
            <a:xfrm>
              <a:off x="4734000" y="3851640"/>
              <a:ext cx="1603440" cy="280440"/>
            </a:xfrm>
            <a:prstGeom prst="rect">
              <a:avLst/>
            </a:prstGeom>
            <a:solidFill>
              <a:srgbClr val="20d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25"/>
            <p:cNvSpPr/>
            <p:nvPr/>
          </p:nvSpPr>
          <p:spPr>
            <a:xfrm>
              <a:off x="5009760" y="382284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文本框 25"/>
          <p:cNvSpPr/>
          <p:nvPr/>
        </p:nvSpPr>
        <p:spPr>
          <a:xfrm>
            <a:off x="6823440" y="41306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44"/>
          <p:cNvGrpSpPr/>
          <p:nvPr/>
        </p:nvGrpSpPr>
        <p:grpSpPr>
          <a:xfrm>
            <a:off x="4734000" y="4559400"/>
            <a:ext cx="1603440" cy="337320"/>
            <a:chOff x="4734000" y="4559400"/>
            <a:chExt cx="1603440" cy="337320"/>
          </a:xfrm>
        </p:grpSpPr>
        <p:sp>
          <p:nvSpPr>
            <p:cNvPr id="250" name="矩形 8"/>
            <p:cNvSpPr/>
            <p:nvPr/>
          </p:nvSpPr>
          <p:spPr>
            <a:xfrm>
              <a:off x="4734000" y="4588200"/>
              <a:ext cx="1603440" cy="280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25"/>
            <p:cNvSpPr/>
            <p:nvPr/>
          </p:nvSpPr>
          <p:spPr>
            <a:xfrm>
              <a:off x="5009760" y="455940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文本框 25"/>
          <p:cNvSpPr/>
          <p:nvPr/>
        </p:nvSpPr>
        <p:spPr>
          <a:xfrm>
            <a:off x="6823440" y="486900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8"/>
          <p:cNvGrpSpPr/>
          <p:nvPr/>
        </p:nvGrpSpPr>
        <p:grpSpPr>
          <a:xfrm>
            <a:off x="4734000" y="5295960"/>
            <a:ext cx="1603440" cy="337320"/>
            <a:chOff x="4734000" y="5295960"/>
            <a:chExt cx="1603440" cy="337320"/>
          </a:xfrm>
        </p:grpSpPr>
        <p:sp>
          <p:nvSpPr>
            <p:cNvPr id="254" name="矩形 8"/>
            <p:cNvSpPr/>
            <p:nvPr/>
          </p:nvSpPr>
          <p:spPr>
            <a:xfrm>
              <a:off x="4734000" y="5324760"/>
              <a:ext cx="1603440" cy="28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25"/>
            <p:cNvSpPr/>
            <p:nvPr/>
          </p:nvSpPr>
          <p:spPr>
            <a:xfrm>
              <a:off x="5009760" y="5295960"/>
              <a:ext cx="103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填写需要的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文本框 25"/>
          <p:cNvSpPr/>
          <p:nvPr/>
        </p:nvSpPr>
        <p:spPr>
          <a:xfrm>
            <a:off x="6823440" y="560556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市场推广团队，为您整合优势媒介资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8"/>
          <p:cNvSpPr/>
          <p:nvPr/>
        </p:nvSpPr>
        <p:spPr>
          <a:xfrm>
            <a:off x="8475840" y="1190520"/>
            <a:ext cx="237636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59"/>
          <p:cNvSpPr/>
          <p:nvPr/>
        </p:nvSpPr>
        <p:spPr>
          <a:xfrm rot="5400000">
            <a:off x="8322120" y="3702600"/>
            <a:ext cx="5040360" cy="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60"/>
          <p:cNvSpPr/>
          <p:nvPr/>
        </p:nvSpPr>
        <p:spPr>
          <a:xfrm>
            <a:off x="4068720" y="6224760"/>
            <a:ext cx="678168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61"/>
          <p:cNvSpPr/>
          <p:nvPr/>
        </p:nvSpPr>
        <p:spPr>
          <a:xfrm rot="5400000">
            <a:off x="1556640" y="3716280"/>
            <a:ext cx="504036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62"/>
          <p:cNvSpPr/>
          <p:nvPr/>
        </p:nvSpPr>
        <p:spPr>
          <a:xfrm>
            <a:off x="4083120" y="1201680"/>
            <a:ext cx="53964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" descr=""/>
          <p:cNvPicPr/>
          <p:nvPr/>
        </p:nvPicPr>
        <p:blipFill>
          <a:blip r:embed="rId2"/>
          <a:stretch/>
        </p:blipFill>
        <p:spPr>
          <a:xfrm rot="16200000">
            <a:off x="-252000" y="2771640"/>
            <a:ext cx="5025960" cy="1904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" presetSubtype="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12" presetSubtype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2" presetSubtype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2" presetSubtype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22" presetSubtype="8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22" presetSubtype="1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2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22" presetSubtype="4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5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xit" presetID="2" presetSubtype="4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9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5T12:22:39Z</dcterms:created>
  <dc:creator>www.eeppt.com</dc:creator>
  <dc:description>www.eeppt.com</dc:description>
  <cp:keywords>www.eeppt.com</cp:keywords>
  <dc:language>en-US</dc:language>
  <cp:lastModifiedBy>a</cp:lastModifiedBy>
  <dcterms:modified xsi:type="dcterms:W3CDTF">2015-08-14T12:52:36Z</dcterms:modified>
  <cp:revision>12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