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39E9-A83A-4C56-8815-6A1285151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F669-3D6F-40BB-B1BC-7DA5CD1DC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EBB3-DCAC-4654-9046-53FDA7DFC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3CFE-BD16-490A-B3A5-1C04459C7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65EA-03A9-4316-9A06-DA8F2A1B9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9E7E-1CAE-4391-8008-4282D88AD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E6AE-5499-4731-8F3C-467E20047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1B11-B613-4E03-8477-1421CFFB5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ABEC-72E3-4E5E-9083-B3FA3A7CD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7EA0-6472-43E6-9B69-24E746698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02A4-C5EF-4A27-AF23-4F19F5AB3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5382-8CBC-4810-99BD-CF06FC0C8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FA23C-1826-4000-8FBB-180467BA297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60000" y="981000"/>
            <a:ext cx="7489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绿色藤蔓求职简历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705040" y="274680"/>
            <a:ext cx="631512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、个人简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05040" y="274680"/>
            <a:ext cx="631512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、教育背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5040" y="274680"/>
            <a:ext cx="631512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、获奖情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8" name=""/>
          <p:cNvSpPr/>
          <p:nvPr/>
        </p:nvSpPr>
        <p:spPr>
          <a:xfrm>
            <a:off x="755640" y="1341360"/>
            <a:ext cx="45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acf69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5040" y="274680"/>
            <a:ext cx="631512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、社会实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1" name=""/>
          <p:cNvSpPr/>
          <p:nvPr/>
        </p:nvSpPr>
        <p:spPr>
          <a:xfrm>
            <a:off x="755640" y="1341360"/>
            <a:ext cx="45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acf69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6acf6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6acf6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acf6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6acf6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acf6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6acf6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6acf6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acf6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6acf6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acf6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6acf6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acf6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6acf6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acf6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6acf6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acf6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6acf6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acf6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6acf6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acf6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6acf6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acf6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6acf6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acf6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6acf6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8F0D-DD3F-4F47-A8D7-402861A68DFC}" type="slidenum">
              <a:t>6</a:t>
            </a:fld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5040" y="274680"/>
            <a:ext cx="631512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、自我评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3T01:27:23Z</dcterms:created>
  <dc:creator>幻灯片之家：www.eeppt.com</dc:creator>
  <dc:description>幻灯片之家：www.eeppt.com</dc:description>
  <cp:keywords>幻灯片之家：www.eeppt.com</cp:keywords>
  <dc:language>en-US</dc:language>
  <cp:lastModifiedBy>news</cp:lastModifiedBy>
  <dcterms:modified xsi:type="dcterms:W3CDTF">2015-08-12T14:36:17Z</dcterms:modified>
  <cp:revision>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