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0A3-B953-4F03-B88B-E7FF71A2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F4D-149A-4139-B027-CD8C15C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F5B-5A42-4DC2-BAE9-26369ADF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F04-248F-4DE5-9327-1D230F67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FC2-1497-4002-9C41-7D55B453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869-E3F3-4117-A152-883B5586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3B5-C379-4379-ABE1-966E7B38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EDD-A86F-49EC-A69B-BF83792F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837-BF12-42EE-8DAF-B1A2C37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5A1-1144-434E-9F8A-E8B88EC3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FD5-1BE1-4DB2-BC66-779E7E2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C12-DFEB-4286-8E4D-D74AF75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bliue stripe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47EA-57F8-44BE-BDD2-4F8D3FE30ED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6" descr="down light.png"/>
          <p:cNvPicPr/>
          <p:nvPr/>
        </p:nvPicPr>
        <p:blipFill>
          <a:blip r:embed="rId4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ge</a:t>
            </a:r>
            <a:fld id="{800C96D5-96B1-4F64-8EDB-E2F98401AC64}" type="slidenum"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97000" y="4419720"/>
            <a:ext cx="1774800" cy="184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43000" y="1339920"/>
            <a:ext cx="7000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工作计划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550960" y="620640"/>
            <a:ext cx="4781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1880" y="1066680"/>
            <a:ext cx="2813040" cy="7920"/>
            <a:chOff x="461880" y="1066680"/>
            <a:chExt cx="2813040" cy="7920"/>
          </a:xfrm>
        </p:grpSpPr>
        <p:sp>
          <p:nvSpPr>
            <p:cNvPr id="49" name="Line 3"/>
            <p:cNvSpPr/>
            <p:nvPr/>
          </p:nvSpPr>
          <p:spPr>
            <a:xfrm flipH="1" flipV="1">
              <a:off x="461880" y="1066680"/>
              <a:ext cx="2813040" cy="792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 rot="10800000">
              <a:off x="461880" y="1066320"/>
              <a:ext cx="28130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890680" y="1066680"/>
            <a:ext cx="2813400" cy="7920"/>
            <a:chOff x="5890680" y="1066680"/>
            <a:chExt cx="2813400" cy="7920"/>
          </a:xfrm>
        </p:grpSpPr>
        <p:sp>
          <p:nvSpPr>
            <p:cNvPr id="52" name="Line 4"/>
            <p:cNvSpPr/>
            <p:nvPr/>
          </p:nvSpPr>
          <p:spPr>
            <a:xfrm flipH="1" flipV="1">
              <a:off x="5890680" y="1066680"/>
              <a:ext cx="2813400" cy="792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 rot="10800000">
              <a:off x="5890680" y="1066320"/>
              <a:ext cx="281340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"/>
          <p:cNvGrpSpPr/>
          <p:nvPr/>
        </p:nvGrpSpPr>
        <p:grpSpPr>
          <a:xfrm>
            <a:off x="1558800" y="2000160"/>
            <a:ext cx="2068200" cy="3043080"/>
            <a:chOff x="1558800" y="2000160"/>
            <a:chExt cx="2068200" cy="3043080"/>
          </a:xfrm>
        </p:grpSpPr>
        <p:sp>
          <p:nvSpPr>
            <p:cNvPr id="55" name="Rectangle 6"/>
            <p:cNvSpPr/>
            <p:nvPr/>
          </p:nvSpPr>
          <p:spPr>
            <a:xfrm>
              <a:off x="1558800" y="2000160"/>
              <a:ext cx="1798920" cy="2878200"/>
            </a:xfrm>
            <a:prstGeom prst="rect">
              <a:avLst/>
            </a:prstGeom>
            <a:solidFill>
              <a:srgbClr val="fa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629720" y="2214000"/>
              <a:ext cx="16196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2513880" y="2993040"/>
              <a:ext cx="1113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9" descr=""/>
            <p:cNvPicPr/>
            <p:nvPr/>
          </p:nvPicPr>
          <p:blipFill>
            <a:blip r:embed="rId2"/>
            <a:stretch/>
          </p:blipFill>
          <p:spPr>
            <a:xfrm>
              <a:off x="1629720" y="3856320"/>
              <a:ext cx="1141920" cy="11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0"/>
          <p:cNvGrpSpPr/>
          <p:nvPr/>
        </p:nvGrpSpPr>
        <p:grpSpPr>
          <a:xfrm>
            <a:off x="3929040" y="2027160"/>
            <a:ext cx="1800360" cy="3044880"/>
            <a:chOff x="3929040" y="2027160"/>
            <a:chExt cx="1800360" cy="3044880"/>
          </a:xfrm>
        </p:grpSpPr>
        <p:sp>
          <p:nvSpPr>
            <p:cNvPr id="60" name="Rectangle 11"/>
            <p:cNvSpPr/>
            <p:nvPr/>
          </p:nvSpPr>
          <p:spPr>
            <a:xfrm>
              <a:off x="3929040" y="2027160"/>
              <a:ext cx="1800360" cy="287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00320" y="2241360"/>
              <a:ext cx="16210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验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649760" y="3014640"/>
              <a:ext cx="10288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4" descr=""/>
            <p:cNvPicPr/>
            <p:nvPr/>
          </p:nvPicPr>
          <p:blipFill>
            <a:blip r:embed="rId3"/>
            <a:stretch/>
          </p:blipFill>
          <p:spPr>
            <a:xfrm>
              <a:off x="4392720" y="3884400"/>
              <a:ext cx="118728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5"/>
          <p:cNvGrpSpPr/>
          <p:nvPr/>
        </p:nvGrpSpPr>
        <p:grpSpPr>
          <a:xfrm>
            <a:off x="6202440" y="2000160"/>
            <a:ext cx="1798560" cy="3043080"/>
            <a:chOff x="6202440" y="2000160"/>
            <a:chExt cx="1798560" cy="3043080"/>
          </a:xfrm>
        </p:grpSpPr>
        <p:sp>
          <p:nvSpPr>
            <p:cNvPr id="65" name="Rectangle 16"/>
            <p:cNvSpPr/>
            <p:nvPr/>
          </p:nvSpPr>
          <p:spPr>
            <a:xfrm>
              <a:off x="6202440" y="2000160"/>
              <a:ext cx="1798560" cy="2878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6273360" y="2214000"/>
              <a:ext cx="16192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展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958440" y="3058200"/>
              <a:ext cx="10278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9" descr=""/>
            <p:cNvPicPr/>
            <p:nvPr/>
          </p:nvPicPr>
          <p:blipFill>
            <a:blip r:embed="rId4"/>
            <a:stretch/>
          </p:blipFill>
          <p:spPr>
            <a:xfrm>
              <a:off x="6630480" y="3856320"/>
              <a:ext cx="1053000" cy="11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8B2-1726-48AA-BE18-21B54CC63371}" type="slidenum">
              <a:t>2</a:t>
            </a:fld>
          </a:p>
        </p:txBody>
      </p:sp>
    </p:spTree>
  </p:cSld>
  <p:transition>
    <p:pull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858000" y="2619360"/>
            <a:ext cx="155880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929040" y="3013200"/>
            <a:ext cx="26463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640560" y="2484360"/>
            <a:ext cx="7920" cy="1944720"/>
            <a:chOff x="6640560" y="2484360"/>
            <a:chExt cx="7920" cy="1944720"/>
          </a:xfrm>
        </p:grpSpPr>
        <p:sp>
          <p:nvSpPr>
            <p:cNvPr id="72" name="Line 4"/>
            <p:cNvSpPr/>
            <p:nvPr/>
          </p:nvSpPr>
          <p:spPr>
            <a:xfrm flipH="1">
              <a:off x="6640560" y="2484360"/>
              <a:ext cx="7920" cy="1944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6640560" y="2484360"/>
              <a:ext cx="79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9AD-F7B7-44A3-9EE4-8864F807566C}" type="slidenum">
              <a:t>3</a:t>
            </a:fld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up light.png"/>
          <p:cNvPicPr/>
          <p:nvPr/>
        </p:nvPicPr>
        <p:blipFill>
          <a:blip r:embed="rId2"/>
          <a:stretch/>
        </p:blipFill>
        <p:spPr>
          <a:xfrm>
            <a:off x="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down light.png"/>
          <p:cNvPicPr/>
          <p:nvPr/>
        </p:nvPicPr>
        <p:blipFill>
          <a:blip r:embed="rId3"/>
          <a:stretch/>
        </p:blipFill>
        <p:spPr>
          <a:xfrm>
            <a:off x="0" y="6143760"/>
            <a:ext cx="9142560" cy="714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6643800" y="640728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g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9"/>
          <p:cNvGrpSpPr/>
          <p:nvPr/>
        </p:nvGrpSpPr>
        <p:grpSpPr>
          <a:xfrm>
            <a:off x="1428840" y="1000080"/>
            <a:ext cx="2855520" cy="2232000"/>
            <a:chOff x="1428840" y="1000080"/>
            <a:chExt cx="2855520" cy="2232000"/>
          </a:xfrm>
        </p:grpSpPr>
        <p:sp>
          <p:nvSpPr>
            <p:cNvPr id="79" name="Rectangle 40"/>
            <p:cNvSpPr/>
            <p:nvPr/>
          </p:nvSpPr>
          <p:spPr>
            <a:xfrm>
              <a:off x="1446120" y="1384200"/>
              <a:ext cx="2829600" cy="1847880"/>
            </a:xfrm>
            <a:prstGeom prst="rect">
              <a:avLst/>
            </a:prstGeom>
            <a:solidFill>
              <a:srgbClr val="fc3c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1"/>
            <p:cNvSpPr/>
            <p:nvPr/>
          </p:nvSpPr>
          <p:spPr>
            <a:xfrm>
              <a:off x="1428840" y="1000080"/>
              <a:ext cx="2855520" cy="457200"/>
            </a:xfrm>
            <a:prstGeom prst="rect">
              <a:avLst/>
            </a:prstGeom>
            <a:solidFill>
              <a:srgbClr val="fc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42"/>
            <p:cNvSpPr/>
            <p:nvPr/>
          </p:nvSpPr>
          <p:spPr>
            <a:xfrm>
              <a:off x="1476000" y="1033560"/>
              <a:ext cx="270540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1460160" y="1084320"/>
            <a:ext cx="3052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952560" y="1622520"/>
            <a:ext cx="331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员工资历较深（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驻厂公关能力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全售后服务体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效异常反馈机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5"/>
          <p:cNvGrpSpPr/>
          <p:nvPr/>
        </p:nvGrpSpPr>
        <p:grpSpPr>
          <a:xfrm>
            <a:off x="5005440" y="1000080"/>
            <a:ext cx="2852280" cy="2232000"/>
            <a:chOff x="5005440" y="1000080"/>
            <a:chExt cx="2852280" cy="2232000"/>
          </a:xfrm>
        </p:grpSpPr>
        <p:sp>
          <p:nvSpPr>
            <p:cNvPr id="85" name="Rectangle 46"/>
            <p:cNvSpPr/>
            <p:nvPr/>
          </p:nvSpPr>
          <p:spPr>
            <a:xfrm>
              <a:off x="5022720" y="1384200"/>
              <a:ext cx="2826360" cy="1847880"/>
            </a:xfrm>
            <a:prstGeom prst="rect">
              <a:avLst/>
            </a:prstGeom>
            <a:solidFill>
              <a:srgbClr val="ffc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47"/>
            <p:cNvSpPr/>
            <p:nvPr/>
          </p:nvSpPr>
          <p:spPr>
            <a:xfrm>
              <a:off x="5005440" y="1000080"/>
              <a:ext cx="285228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8"/>
            <p:cNvSpPr/>
            <p:nvPr/>
          </p:nvSpPr>
          <p:spPr>
            <a:xfrm>
              <a:off x="5052240" y="1033560"/>
              <a:ext cx="270216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50"/>
          <p:cNvSpPr/>
          <p:nvPr/>
        </p:nvSpPr>
        <p:spPr>
          <a:xfrm>
            <a:off x="5000760" y="1571760"/>
            <a:ext cx="3429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售后驻厂人力紧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部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llow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改善力度不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驻厂返厂次数太低，厂内信息了解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元化代工，新品送样时效需改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元化代工，专业知识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1"/>
          <p:cNvGrpSpPr/>
          <p:nvPr/>
        </p:nvGrpSpPr>
        <p:grpSpPr>
          <a:xfrm>
            <a:off x="5005440" y="3846600"/>
            <a:ext cx="2852280" cy="2232000"/>
            <a:chOff x="5005440" y="3846600"/>
            <a:chExt cx="2852280" cy="2232000"/>
          </a:xfrm>
        </p:grpSpPr>
        <p:sp>
          <p:nvSpPr>
            <p:cNvPr id="90" name="Rectangle 52"/>
            <p:cNvSpPr/>
            <p:nvPr/>
          </p:nvSpPr>
          <p:spPr>
            <a:xfrm>
              <a:off x="5022720" y="4230720"/>
              <a:ext cx="2826360" cy="184788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3"/>
            <p:cNvSpPr/>
            <p:nvPr/>
          </p:nvSpPr>
          <p:spPr>
            <a:xfrm>
              <a:off x="5005440" y="3846600"/>
              <a:ext cx="2852280" cy="457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4"/>
            <p:cNvSpPr/>
            <p:nvPr/>
          </p:nvSpPr>
          <p:spPr>
            <a:xfrm>
              <a:off x="5052240" y="3880080"/>
              <a:ext cx="270216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56"/>
          <p:cNvSpPr/>
          <p:nvPr/>
        </p:nvSpPr>
        <p:spPr>
          <a:xfrm>
            <a:off x="5000760" y="4541760"/>
            <a:ext cx="285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local CS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外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代工案售后服务不明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元化代工，客户要求复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7"/>
          <p:cNvGrpSpPr/>
          <p:nvPr/>
        </p:nvGrpSpPr>
        <p:grpSpPr>
          <a:xfrm>
            <a:off x="1428840" y="3879720"/>
            <a:ext cx="2855520" cy="2232000"/>
            <a:chOff x="1428840" y="3879720"/>
            <a:chExt cx="2855520" cy="2232000"/>
          </a:xfrm>
        </p:grpSpPr>
        <p:sp>
          <p:nvSpPr>
            <p:cNvPr id="95" name="Rectangle 58"/>
            <p:cNvSpPr/>
            <p:nvPr/>
          </p:nvSpPr>
          <p:spPr>
            <a:xfrm>
              <a:off x="1446120" y="4263840"/>
              <a:ext cx="2829600" cy="1847880"/>
            </a:xfrm>
            <a:prstGeom prst="rect">
              <a:avLst/>
            </a:prstGeom>
            <a:solidFill>
              <a:srgbClr val="0046f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9"/>
            <p:cNvSpPr/>
            <p:nvPr/>
          </p:nvSpPr>
          <p:spPr>
            <a:xfrm>
              <a:off x="1428840" y="3879720"/>
              <a:ext cx="2855520" cy="457200"/>
            </a:xfrm>
            <a:prstGeom prst="rect">
              <a:avLst/>
            </a:prstGeom>
            <a:solidFill>
              <a:srgbClr val="004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60"/>
            <p:cNvSpPr/>
            <p:nvPr/>
          </p:nvSpPr>
          <p:spPr>
            <a:xfrm>
              <a:off x="1476000" y="3913200"/>
              <a:ext cx="270540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62"/>
          <p:cNvSpPr/>
          <p:nvPr/>
        </p:nvSpPr>
        <p:spPr>
          <a:xfrm>
            <a:off x="1571760" y="443376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与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关系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.1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于订单保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客户信息获取，供高层决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3"/>
          <p:cNvGrpSpPr/>
          <p:nvPr/>
        </p:nvGrpSpPr>
        <p:grpSpPr>
          <a:xfrm>
            <a:off x="3643200" y="2714760"/>
            <a:ext cx="1582920" cy="1542960"/>
            <a:chOff x="3643200" y="2714760"/>
            <a:chExt cx="1582920" cy="1542960"/>
          </a:xfrm>
        </p:grpSpPr>
        <p:sp>
          <p:nvSpPr>
            <p:cNvPr id="100" name="Freeform 66"/>
            <p:cNvSpPr/>
            <p:nvPr/>
          </p:nvSpPr>
          <p:spPr>
            <a:xfrm>
              <a:off x="4431600" y="2859480"/>
              <a:ext cx="794520" cy="929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3800160" y="2714760"/>
              <a:ext cx="952920" cy="77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3643200" y="3178440"/>
              <a:ext cx="794520" cy="929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4118760" y="3606480"/>
              <a:ext cx="937080" cy="6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709"/>
          <p:cNvSpPr/>
          <p:nvPr/>
        </p:nvSpPr>
        <p:spPr>
          <a:xfrm>
            <a:off x="5786280" y="1072800"/>
            <a:ext cx="1285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Weakn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12"/>
          <p:cNvSpPr/>
          <p:nvPr/>
        </p:nvSpPr>
        <p:spPr>
          <a:xfrm>
            <a:off x="2143080" y="3930120"/>
            <a:ext cx="171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Opport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11"/>
          <p:cNvSpPr/>
          <p:nvPr/>
        </p:nvSpPr>
        <p:spPr>
          <a:xfrm>
            <a:off x="5857920" y="3930120"/>
            <a:ext cx="838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re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529240" y="0"/>
            <a:ext cx="3328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微软雅黑"/>
                <a:ea typeface="微软雅黑"/>
              </a:rPr>
              <a:t>SWOT</a:t>
            </a:r>
            <a:r>
              <a:rPr b="1" lang="zh-CN" sz="41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析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8A7-432F-4058-9064-59FF0AD65A9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071880" y="3013200"/>
            <a:ext cx="26463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783400" y="2484360"/>
            <a:ext cx="7920" cy="1944720"/>
            <a:chOff x="5783400" y="2484360"/>
            <a:chExt cx="7920" cy="1944720"/>
          </a:xfrm>
        </p:grpSpPr>
        <p:sp>
          <p:nvSpPr>
            <p:cNvPr id="110" name="Line 3"/>
            <p:cNvSpPr/>
            <p:nvPr/>
          </p:nvSpPr>
          <p:spPr>
            <a:xfrm flipH="1">
              <a:off x="5783400" y="2484360"/>
              <a:ext cx="7920" cy="1944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783400" y="2484360"/>
              <a:ext cx="79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072120" y="2595600"/>
            <a:ext cx="1621080" cy="1619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up light.png"/>
          <p:cNvPicPr/>
          <p:nvPr/>
        </p:nvPicPr>
        <p:blipFill>
          <a:blip r:embed="rId2"/>
          <a:stretch/>
        </p:blipFill>
        <p:spPr>
          <a:xfrm>
            <a:off x="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7" descr="down light.png"/>
          <p:cNvPicPr/>
          <p:nvPr/>
        </p:nvPicPr>
        <p:blipFill>
          <a:blip r:embed="rId3"/>
          <a:stretch/>
        </p:blipFill>
        <p:spPr>
          <a:xfrm>
            <a:off x="0" y="6143760"/>
            <a:ext cx="9142560" cy="714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6643800" y="640728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g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1428840" y="2143080"/>
            <a:ext cx="6572160" cy="3600360"/>
            <a:chOff x="1428840" y="2143080"/>
            <a:chExt cx="6572160" cy="3600360"/>
          </a:xfrm>
        </p:grpSpPr>
        <p:sp>
          <p:nvSpPr>
            <p:cNvPr id="117" name="Freeform 13"/>
            <p:cNvSpPr/>
            <p:nvPr/>
          </p:nvSpPr>
          <p:spPr>
            <a:xfrm>
              <a:off x="1876320" y="2143080"/>
              <a:ext cx="2695320" cy="360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 flipH="1">
              <a:off x="4571280" y="2143080"/>
              <a:ext cx="2695320" cy="360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5"/>
            <p:cNvSpPr/>
            <p:nvPr/>
          </p:nvSpPr>
          <p:spPr>
            <a:xfrm>
              <a:off x="1428840" y="2357280"/>
              <a:ext cx="657216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ts val="1599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使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ts val="1599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注市场动态，聆听客户心声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ts val="1599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协调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衡厂内外资源，实现公司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双赢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24"/>
          <p:cNvSpPr/>
          <p:nvPr/>
        </p:nvSpPr>
        <p:spPr>
          <a:xfrm flipV="1">
            <a:off x="1139760" y="3621600"/>
            <a:ext cx="6864480" cy="21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2"/>
          <p:cNvSpPr/>
          <p:nvPr/>
        </p:nvSpPr>
        <p:spPr>
          <a:xfrm flipV="1">
            <a:off x="1139760" y="3524760"/>
            <a:ext cx="6864480" cy="21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6"/>
          <p:cNvSpPr/>
          <p:nvPr/>
        </p:nvSpPr>
        <p:spPr>
          <a:xfrm>
            <a:off x="419040" y="3860640"/>
            <a:ext cx="2111400" cy="105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1"/>
          <p:cNvSpPr/>
          <p:nvPr/>
        </p:nvSpPr>
        <p:spPr>
          <a:xfrm>
            <a:off x="6467400" y="3860640"/>
            <a:ext cx="2111400" cy="105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3"/>
          <p:cNvSpPr/>
          <p:nvPr/>
        </p:nvSpPr>
        <p:spPr>
          <a:xfrm>
            <a:off x="3301920" y="4951440"/>
            <a:ext cx="2540160" cy="126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1"/>
          <p:cNvGrpSpPr/>
          <p:nvPr/>
        </p:nvGrpSpPr>
        <p:grpSpPr>
          <a:xfrm>
            <a:off x="1379520" y="928800"/>
            <a:ext cx="6550200" cy="1285920"/>
            <a:chOff x="1379520" y="928800"/>
            <a:chExt cx="6550200" cy="1285920"/>
          </a:xfrm>
        </p:grpSpPr>
        <p:sp>
          <p:nvSpPr>
            <p:cNvPr id="126" name="AutoShape 57"/>
            <p:cNvSpPr/>
            <p:nvPr/>
          </p:nvSpPr>
          <p:spPr>
            <a:xfrm>
              <a:off x="1379520" y="928800"/>
              <a:ext cx="6550200" cy="128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8"/>
            <p:cNvSpPr/>
            <p:nvPr/>
          </p:nvSpPr>
          <p:spPr>
            <a:xfrm>
              <a:off x="1500120" y="1000080"/>
              <a:ext cx="6286680" cy="11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客户提供优质、高效、便捷服务，塑造无忧售后形象，提高客户忠诚度，利于公司利益最大化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Oval 70"/>
          <p:cNvSpPr/>
          <p:nvPr/>
        </p:nvSpPr>
        <p:spPr>
          <a:xfrm flipV="1">
            <a:off x="3429000" y="4970520"/>
            <a:ext cx="2286000" cy="1138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694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微软雅黑"/>
                <a:ea typeface="微软雅黑"/>
              </a:rPr>
              <a:t>公司利益最大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1"/>
          <p:cNvSpPr/>
          <p:nvPr/>
        </p:nvSpPr>
        <p:spPr>
          <a:xfrm flipV="1">
            <a:off x="6500880" y="3928320"/>
            <a:ext cx="1920960" cy="95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微软雅黑"/>
                <a:ea typeface="微软雅黑"/>
              </a:rPr>
              <a:t>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2"/>
          <p:cNvSpPr/>
          <p:nvPr/>
        </p:nvSpPr>
        <p:spPr>
          <a:xfrm flipV="1">
            <a:off x="514440" y="3885480"/>
            <a:ext cx="1920960" cy="95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28d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微软雅黑"/>
                <a:ea typeface="微软雅黑"/>
              </a:rPr>
              <a:t>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3"/>
          <p:cNvSpPr/>
          <p:nvPr/>
        </p:nvSpPr>
        <p:spPr>
          <a:xfrm>
            <a:off x="2214720" y="2335320"/>
            <a:ext cx="5214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0" descr="02장_04-1"/>
          <p:cNvPicPr/>
          <p:nvPr/>
        </p:nvPicPr>
        <p:blipFill>
          <a:blip r:embed="rId4"/>
          <a:stretch/>
        </p:blipFill>
        <p:spPr>
          <a:xfrm>
            <a:off x="7391520" y="3600360"/>
            <a:ext cx="1038240" cy="125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28"/>
          <p:cNvPicPr/>
          <p:nvPr/>
        </p:nvPicPr>
        <p:blipFill>
          <a:blip r:embed="rId5"/>
          <a:stretch/>
        </p:blipFill>
        <p:spPr>
          <a:xfrm>
            <a:off x="3857760" y="4022640"/>
            <a:ext cx="1714320" cy="1549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21"/>
          <p:cNvPicPr/>
          <p:nvPr/>
        </p:nvPicPr>
        <p:blipFill>
          <a:blip r:embed="rId6"/>
          <a:stretch/>
        </p:blipFill>
        <p:spPr>
          <a:xfrm>
            <a:off x="285840" y="3071880"/>
            <a:ext cx="1430280" cy="1531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5529240" y="71280"/>
            <a:ext cx="3328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微软雅黑"/>
                <a:ea typeface="微软雅黑"/>
              </a:rPr>
              <a:t>工作使命与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BB1-3CC6-4CD7-983C-EC0F3432377A}" type="slidenum">
              <a:t>6</a:t>
            </a:fld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472-0C14-43CE-85EB-D20D5612840D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7" descr="THANK.png"/>
          <p:cNvPicPr/>
          <p:nvPr/>
        </p:nvPicPr>
        <p:blipFill>
          <a:blip r:embed="rId2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8" descr="THANK LIGHT.png"/>
          <p:cNvPicPr/>
          <p:nvPr/>
        </p:nvPicPr>
        <p:blipFill>
          <a:blip r:embed="rId3"/>
          <a:stretch/>
        </p:blipFill>
        <p:spPr>
          <a:xfrm>
            <a:off x="144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THANK BLUE.png"/>
          <p:cNvPicPr/>
          <p:nvPr/>
        </p:nvPicPr>
        <p:blipFill>
          <a:blip r:embed="rId4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6:47:00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8-14T12:51:31Z</dcterms:modified>
  <cp:revision>5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