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F04-2B4A-4DC8-A039-2B476089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53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9520" y="4430160"/>
            <a:ext cx="53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6224-1687-476F-91B4-5614BD9E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000" y="419112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9520" y="443016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000" y="443016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0F40-1617-452A-9560-259F64AA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171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13120" y="4191120"/>
            <a:ext cx="171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16360" y="4191120"/>
            <a:ext cx="171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9520" y="4430160"/>
            <a:ext cx="171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13120" y="4430160"/>
            <a:ext cx="171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416360" y="4430160"/>
            <a:ext cx="171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E18-5969-46C1-9F3D-AE12A5CF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005B-C1BB-4F18-BBCE-848CE1F1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9520" y="41911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9B5F-E90D-481B-AD4F-74370522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7E50-32BB-4AF3-A97C-7D3E3915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260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543000" y="4191120"/>
            <a:ext cx="260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3CB5-F793-46FA-B259-DF705C00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CB84-3E14-4833-B947-714F221F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9520" y="2952360"/>
            <a:ext cx="5334120" cy="43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B937-4498-4CA5-BD0A-DD58DF8A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543000" y="4191120"/>
            <a:ext cx="260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9520" y="443016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1D29-2F3B-4AF8-BD5F-4E12F4CA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9520" y="41911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A6F5-6E57-4801-AD47-E608E72B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260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43000" y="419112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43000" y="443016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B377-0533-414D-A6B7-320530F1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43000" y="419112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9520" y="4430160"/>
            <a:ext cx="53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93DD-9662-4DCE-AA8F-E95812A6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53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9520" y="4430160"/>
            <a:ext cx="53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28FD-A663-43FF-8D40-88653909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43000" y="419112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9520" y="443016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43000" y="443016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7258-8083-46DF-A1A2-E9B90A48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171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13120" y="4191120"/>
            <a:ext cx="171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416360" y="4191120"/>
            <a:ext cx="171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9520" y="4430160"/>
            <a:ext cx="171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613120" y="4430160"/>
            <a:ext cx="171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416360" y="4430160"/>
            <a:ext cx="171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B7FE-A78B-45D7-BA6C-259013CF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1D5-F4F5-44E9-BE9D-F3E4D697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260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000" y="4191120"/>
            <a:ext cx="260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A02A-D718-4143-9A74-56EA8DF4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2EEE-5546-48ED-883B-68AC0336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9520" y="2952360"/>
            <a:ext cx="5334120" cy="43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55BB-599D-438B-8048-57DAB26B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000" y="4191120"/>
            <a:ext cx="260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9520" y="443016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7CD-308C-4AC8-A375-EB52F16D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260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000" y="419112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000" y="443016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8827-BB34-4329-821F-BC9F2686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000" y="419112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9520" y="4430160"/>
            <a:ext cx="53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389B-8EFD-44D9-8503-C8772008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A637-76AE-47E6-966F-75549455E92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2E8C-8BB4-4E17-AF68-1A3F6421EB15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ITING   BUL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9520" y="41911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itle Goes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27080" y="9079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年底总结报告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Your Topic Goes Her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60360" y="620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B2E4-6144-4E0A-91A6-E289C453BE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ransitional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02:43:0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1:3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