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B75-215D-463F-B7E8-CA995D4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25E-55EF-41F7-BA08-19F47303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221-E5D5-461C-B3A1-75BABB4E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CC6-C5B0-4030-BA81-0A9F694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8F5-94B3-4229-A361-E5E8A3FC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B3F-5B2D-40C5-8AF7-1058694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B95-E6BF-437E-BA22-30E85CB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AA1-63F1-4CD9-84B7-EA4B95EF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815-9846-4D67-8583-9BD04C66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F81-2B21-4AA1-9685-7DAC4AEE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D52-DF69-44AA-AB75-871A9652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805-4C26-4063-96A3-AAD7111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B9E-F520-41E2-832B-30016D9FE29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5596-C135-413B-AAC5-D33852C7C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斜纹 14"/>
          <p:cNvSpPr/>
          <p:nvPr/>
        </p:nvSpPr>
        <p:spPr>
          <a:xfrm>
            <a:off x="-19080" y="0"/>
            <a:ext cx="840744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517120" y="1668600"/>
            <a:ext cx="44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US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IN 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58784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50600" y="268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终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C:\Documents and Settings\liqb\Local Settings\Temp\SoEasy\BD63F7D91932719E769974073795AF58.png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C:\Documents and Settings\liqb\Local Settings\Temporary Internet Files\Content.IE5\D4SS221Z\MC900333392[1].wmf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55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70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E80-98A1-469F-8A7D-4D5AFA4B8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C:\Documents and Settings\liqb\Local Settings\Temporary Internet Files\Content.IE5\D4SS221Z\MC900238655[1].wmf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388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C:\Documents and Settings\liqb\Local Settings\Temp\SoEasy\85B3C3B5027AABBE7E905D93302D157A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391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0AC-8E2F-4AC8-B1DA-8924AEAAC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6A8-11AA-4EC6-9CAD-9F81544199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7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13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576-FDDB-4E11-BC54-7F4389A61B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19A-57C6-42D1-A291-EAF376998A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斜纹 14"/>
          <p:cNvSpPr/>
          <p:nvPr/>
        </p:nvSpPr>
        <p:spPr>
          <a:xfrm flipV="1">
            <a:off x="0" y="-40320"/>
            <a:ext cx="8407440" cy="52369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1CE-C605-4761-A014-C0CF1BD328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liqb\Local Settings\Temporary Internet Files\Content.IE5\B0IFSO8W\MC900333392[1].wmf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1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18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2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23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3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27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4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31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E9D-6BDC-41A5-8985-FE914A80B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48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EDF-DC12-4D2D-B037-C6EC5910D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77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www.eeppt.com</dc:creator>
  <dc:description>www.eeppt.com</dc:description>
  <cp:keywords>www.eeppt.com</cp:keywords>
  <dc:language>en-US</dc:language>
  <cp:lastModifiedBy>ppt宝藏 www.pptbz.com提供漂亮ppt模板下载</cp:lastModifiedBy>
  <dcterms:modified xsi:type="dcterms:W3CDTF">2015-08-14T12:51:36Z</dcterms:modified>
  <cp:revision>1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